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E06F-9314-46E2-84B7-297E1D27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38AB-347C-41F7-A7C3-BE60AFFAB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M report on adverse drug events, NYS UTCOS stu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versy of numbers but certainly larg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tions as sub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f errors to adverse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es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be d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me fre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ing system-wid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 Pharmac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stigating working conditions, outpatient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home mess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Img"/>
          </p:nvPr>
        </p:nvSpPr>
        <p:spPr>
          <a:xfrm>
            <a:off x="1146240" y="689040"/>
            <a:ext cx="4565520" cy="3424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EA8B-85F4-4B4A-B80D-F87DE26B8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Err is Human…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itute of Medicine Report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imated 44,000 to 98,000 deaths annually from adverse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ver 1 million inju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versy about numbers, but regardless of precise figure, adverse events are common ***lows and highs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largely on two studies Harvard Medical Practice Study and Utah Colorado Study*** details of UT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ABD7-8DFC-44C5-886E-9302836E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D14-AE3E-4115-ACBF-2D6F07C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EAC-EC10-4174-9C9E-293A2BE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CC7-B317-4DDC-B128-1FB05E5C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D64-D310-4A92-8476-6EB56712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52A-ADFE-4A64-8AF3-8FE7CC77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C3C-39BA-4FBD-8561-4CFC9F9E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E8A-EDB3-4168-8D29-A7311F73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5A6-1F37-4BB1-8AB4-9B74E59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079-6026-4535-83A0-E66675B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E5EE-3E1C-4150-87C0-9B78E77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1F8-A8DE-4A48-A623-9291FF74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C653-F3C4-4CE7-8E61-C46F91F3C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ffects of Traditional 24-hour Work Shifts on Physician and Patient Safety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HRQ 2007 Annual Conference: Improving Healthcare, Improving Lives Working Conditions, Organizational Culture, and Health Care Quality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7, 2007</a:t>
            </a:r>
            <a:br>
              <a:rPr sz="1800"/>
            </a:b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858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. Landrigan, MD, MP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arch Director, Children’s Hospital Boston Inpatient Pediatrics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or, Sleep and Patient Safety Program, Brigham and Women’s 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 Professor of Pediatrics and Medicine, Harvard Medical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6178680"/>
            <a:ext cx="609480" cy="679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3087" t="5365" r="75763" b="19298"/>
          <a:stretch/>
        </p:blipFill>
        <p:spPr>
          <a:xfrm>
            <a:off x="0" y="6248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651880" y="6248520"/>
            <a:ext cx="49212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iminating 24-hour shifts……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hat about the risks of lost continuity of care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blems in Care Continuit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ght float admission patients had longer LOS and more tests order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fgren et al. J Gen Intern Med. 199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hour limits and presumed resulting discontinuities associated with increased hospital complications and test order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aine et al. JAMA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coverage associated with an increased risk of errors (OR 6.0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etersen et al., Ann. Int. Med 199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gnout errors an be improved substantially with structured sign out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etersen et al., Joint Comm J on QI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gnout Process : A survey of residents at BWH</a:t>
            </a:r>
            <a:br>
              <a:rPr sz="32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Carty M, Smith C, Schnipper JL, Harvard Education Day 2004, unpublished dat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7% said that sign-out occurred in a quiet place most of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% provided written and verbal sign-out on every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 55% of night-float residents said that when called about a patient, the relevant information could be found in the sign-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cation During Post-operative Patient Hand Off in the Pediatric Intensive Care Unit</a:t>
            </a:r>
            <a:br>
              <a:rPr sz="28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istry KP, Landrigan CP,  Goldmann DA, Bates DW</a:t>
            </a:r>
            <a:br>
              <a:rPr sz="2000"/>
            </a:b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itical Care Medicine 2005; 33: A12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819520"/>
          <a:ext cx="712476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712476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200400" y="3048120"/>
            <a:ext cx="763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3048120"/>
            <a:ext cx="7632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3505320"/>
            <a:ext cx="45720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733920"/>
            <a:ext cx="45720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3352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d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3581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-714600" y="42958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Transf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6400800"/>
            <a:ext cx="4572000" cy="398880"/>
          </a:xfrm>
          <a:prstGeom prst="rect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scommunication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o recording and analysis of 150 post-op sign-ou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0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sign-outs contained at least one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ath Forward – changing the 24-hour paradig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eld &amp; lab studies, across disciplines, show consistent performance decline after 12-16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’ working 24-30 hour shifts make 36% more serious errors, 5 times as many serious, diagnostic errors, have twice the odds of crashing their cars, and suffer 61% more percutaneous injuries post-c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at a level commensurate with a blood alcohol of 0.05-0.10%; drop in performance of 1.5 to 2 standard dev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eep deprivation impairs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gn-out systems need to be improved to minimize hand-off err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296280" cy="7108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143000"/>
            <a:ext cx="4495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uropean Working Time Dir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3 hours in a row maxim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48-56 hours per wee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257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4120" y="609480"/>
            <a:ext cx="35049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72 hours per week lim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6 hours in a r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n place f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20 year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vard Work Hours, Health, and Safety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Charles Czeisler, Steve Lockley, Laura Barger, and Najib Ay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er of Excellence in Patient Safety at BW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ecially Jeffrey Rothschild and David B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am and Women’s Hospital and Harvard Medical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and NIO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tient Saf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Err is Hu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e of Medicine Report, 19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d 44,000 to 98,000 deaths annually from adverse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able accumulation of information in past 3-4 years demonstrating the importance of working conditions and work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4605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vard Work Hours, Health, and Safety Study: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surve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objectively quantify the work schedules experienced by house staff, and determine if increased hours are associated with increased risk of house staff in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of a national sample of house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,417 person-years monthly survey data collected from 2,737 interns nationwide in 2002-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ly surv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hours, crashes, and inju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ion of work hours and motor vehicle cras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324480" y="6350040"/>
            <a:ext cx="2819520" cy="507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632448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Arial"/>
              </a:rPr>
              <a:t>Barger, L. K. et al. N Engl J Med 2005; 352:125-13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arvard Work Hours, Health, and Safety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2286000"/>
          <a:ext cx="3429000" cy="39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342900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 rot="16200000">
            <a:off x="2057400" y="2361600"/>
            <a:ext cx="75960" cy="990720"/>
          </a:xfrm>
          <a:custGeom>
            <a:avLst/>
            <a:gdLst>
              <a:gd name="textAreaLeft" fmla="*/ 0 w 75960"/>
              <a:gd name="textAreaRight" fmla="*/ 53280 w 7596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3623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: 2.3 (95% CI, 1.6-3.3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203880"/>
            <a:ext cx="32004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Barger LK et al. NEJM 2005;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352:125-13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191120" y="2286000"/>
          <a:ext cx="327636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286000"/>
                    <a:ext cx="3276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049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tor Vehicle Cras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ercutaneous Inju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: 1.6 (95%CI, 1.5-1.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5905440" y="232416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6181560"/>
            <a:ext cx="320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Ayas,  et al. JAMA 2006; 296:1055-1062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2438280"/>
            <a:ext cx="1447920" cy="143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shif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extended shif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2514600"/>
            <a:ext cx="152280" cy="2286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124080"/>
            <a:ext cx="15228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066680" y="3124080"/>
          <a:ext cx="690084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9008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0800000">
            <a:off x="1371240" y="2971800"/>
            <a:ext cx="6066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. of attentional failures from 11pm – 7am per Hour on Du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58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802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n Sleep and Patient Safety Stud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06668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ed Trial comparing interns’ alertness and performance on traditional “q3” schedule with 24-30 hour shifts (ACGME-complia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6 hr max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wice as man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EG-documented attentional failures at night on traditional sche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Lockley, S. W. et al. N Engl J Med 2004;351:1829-183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3276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.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4114800" y="3124080"/>
            <a:ext cx="228600" cy="990360"/>
          </a:xfrm>
          <a:custGeom>
            <a:avLst/>
            <a:gdLst>
              <a:gd name="textAreaLeft" fmla="*/ 0 w 228600"/>
              <a:gd name="textAreaRight" fmla="*/ 160560 w 22860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09600" y="1909800"/>
          <a:ext cx="8769240" cy="44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909800"/>
                    <a:ext cx="876924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4920" y="358920"/>
            <a:ext cx="88390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n Sleep and Pt Safety Study, Part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s made 36% more serious errors on traditional schedule, including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5 ti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many serious diagnostic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6477120"/>
            <a:ext cx="7439040" cy="2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500" spc="-1" strike="noStrike">
                <a:solidFill>
                  <a:srgbClr val="0000ff"/>
                </a:solidFill>
                <a:latin typeface="Arial"/>
              </a:rPr>
              <a:t>Landrigan, C. P. et al. N Engl J Med 2004;351:1838-184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4419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&lt;0.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3886200" y="30474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410080" y="44190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438280" y="2361600"/>
            <a:ext cx="114120" cy="571680"/>
          </a:xfrm>
          <a:custGeom>
            <a:avLst/>
            <a:gdLst>
              <a:gd name="textAreaLeft" fmla="*/ 0 w 114120"/>
              <a:gd name="textAreaRight" fmla="*/ 80280 w 114120"/>
              <a:gd name="textAreaTop" fmla="*/ 23760 h 571680"/>
              <a:gd name="textAreaBottom" fmla="*/ 547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0481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=0.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cc66"/>
                </a:solidFill>
                <a:latin typeface="Arial"/>
              </a:rPr>
              <a:t>Landrigan, C.P. et al. N Engl J Med 2004;351:1838-184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2120" y="2590560"/>
            <a:ext cx="3934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s per 1000 pt day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Are Current ACGME Work Hour Limits sufficient to solve the problem?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80 hours per week, averaged over 4 wee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&lt;</a:t>
            </a: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30 hours in a row, including time for hand-offs of care and educ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ffff"/>
                </a:solidFill>
                <a:latin typeface="Arial"/>
              </a:rPr>
              <a:t>1 day off in 7, averaged over 4 wee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rvard Work Hours, Health, and Safety Study, Part 3: Compliance with Duty Hour Standards </a:t>
            </a:r>
            <a:br>
              <a:rPr sz="20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3.6% of interns in violation of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5.4% of programs; 90.8% of hosp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4.0 % of all intern-months in viol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61.5% of inpatient intern-months in vi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6334200" cy="3341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553080" y="5943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2e2c4e"/>
                </a:solidFill>
                <a:latin typeface="Arial"/>
                <a:ea typeface="Arial"/>
              </a:rPr>
              <a:t>‡</a:t>
            </a:r>
            <a:r>
              <a:rPr b="0" lang="en-US" sz="1600" spc="-1" strike="noStrike">
                <a:solidFill>
                  <a:srgbClr val="2e2c4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e2c4e"/>
                </a:solidFill>
                <a:latin typeface="Arial"/>
              </a:rPr>
              <a:t>p&lt;0.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00800"/>
            <a:ext cx="7223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700" spc="-1" strike="noStrike">
                <a:solidFill>
                  <a:srgbClr val="ffff00"/>
                </a:solidFill>
                <a:latin typeface="Arial"/>
              </a:rPr>
              <a:t>Landrigan C.P., et al. JAMA 2006;296:1063-10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2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1:55:06Z</dcterms:created>
  <dc:creator>Kristine Torjesen</dc:creator>
  <dc:description/>
  <dc:language>en-US</dc:language>
  <cp:lastModifiedBy>Jeff Brady</cp:lastModifiedBy>
  <cp:lastPrinted>2001-10-17T19:11:34Z</cp:lastPrinted>
  <dcterms:modified xsi:type="dcterms:W3CDTF">2007-09-26T21:03:13Z</dcterms:modified>
  <cp:revision>192</cp:revision>
  <dc:subject/>
  <dc:title>Objective</dc:title>
</cp:coreProperties>
</file>