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62A1-DE93-415A-BDAD-D27F58DA4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162-43C5-4CBC-915C-CC6A3ED4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M report on adverse drug events, NYS UTCOS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versy of numbers but certainly larg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s sub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errors to advers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es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be d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me fre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system-wid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 Pharmac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working conditions, outpatient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home mess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F8F6-A158-4978-AAB6-BBE38BAB5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Err is Human…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Medicine Repor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imated 44,000 to 98,000 deaths annually from adverse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 1 million inju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versy about numbers, but regardless of precise figure, adverse events are common ***lows and highs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largely on two studies Harvard Medical Practice Study and Utah Colorado Study*** details of UT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02A-7354-4238-98DE-F6FBFCA3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8D9-68EB-413E-BBB6-7F8ABB3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226-3DA4-4C48-ABFC-07B99BE4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072-03D5-48F2-A9AC-C9F42F7D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235-3351-4787-BA49-9D2D3F38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5B9-9E48-4AE1-B564-7F87E34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085-071A-4BCA-AE83-AF27E1E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CAC-8F8F-4624-B36B-2772478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08C-B786-4C54-BDC0-5D47528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D6F-9B17-49EA-85F4-6896233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4AF-7481-46D1-A30A-1691315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5A9-1DE8-49CC-839A-ABE680B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D139-2E8F-4A0F-B59C-D631FF46A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ffects of Traditional 24-hour Work Shifts on Physician and Patient Safety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HRQ 2007 Annual Conference: Improving Healthcare, Improving Lives Working Conditions, Organizational Culture, and Health Care Qual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br>
              <a:rPr sz="18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. Landrigan, MD, M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Director, Children’s Hospital Boston Inpatient Pediatric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, Sleep and Patient Safety Program, Brigham and Women’s 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Professor of Pediatrics and Medicine, Harvard Medical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6178680"/>
            <a:ext cx="609480" cy="67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3087" t="5365" r="75763" b="19298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51880" y="6248520"/>
            <a:ext cx="4921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iminating 24-hour shifts……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hat about the risks of lost continuity of care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blems in Care Continu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float admission patients had longer LOS and more tests order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fgren et al. J Gen Intern Med. 199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hour limits and presumed resulting discontinuities associated with increased hospital complications and test order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ine et al. JAMA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coverage associated with an increased risk of errors (OR 6.0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tersen et al., Ann. Int. Med 19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out errors an be improved substantially with structured sign ou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etersen et al., Joint Comm J on QI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gnout Process : A survey of residents at BWH</a:t>
            </a:r>
            <a:br>
              <a:rPr sz="32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arty M, Smith C, Schnipper JL, Harvard Education Day 2004, unpublished 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said that sign-out occurred in a quiet place most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% provided written and verbal sign-out on every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 55% of night-float residents said that when called about a patient, the relevant information could be found in the sign-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During Post-operative Patient Hand Off in the Pediatric Intensive Care Unit</a:t>
            </a:r>
            <a:br>
              <a:rPr sz="28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istry KP, Landrigan CP,  Goldmann DA, Bates DW</a:t>
            </a:r>
            <a:br>
              <a:rPr sz="20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itical Care Medicine 2005; 33: A12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819520"/>
          <a:ext cx="71247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71247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200400" y="3048120"/>
            <a:ext cx="763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048120"/>
            <a:ext cx="7632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4572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733920"/>
            <a:ext cx="45720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352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714600" y="4295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Trans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6400800"/>
            <a:ext cx="4572000" cy="39888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scommunication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 recording and analysis of 150 post-op sign-o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sign-outs contained at least one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ath Forward – changing the 24-hour paradig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eld &amp; lab studies, across disciplines, show consistent performance decline after 12-16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’ working 24-30 hour shifts make 36% more serious errors, 5 times as many serious, diagnostic errors, have twice the odds of crashing their cars, and suffer 61% more percutaneous injuries post-c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at a level commensurate with a blood alcohol of 0.05-0.10%; drop in performance of 1.5 to 2 standard dev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deprivation impair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-out systems need to be improved to minimize hand-off err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296280" cy="710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43000"/>
            <a:ext cx="4495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uropean Working Time Dir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3 hours in a row max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48-56 hours per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25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4120" y="609480"/>
            <a:ext cx="3504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2 hours per week lim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6 hours in a r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 place f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20 year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vard Work Hours, Health, and Safety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Charles Czeisler, Steve Lockley, Laura Barger, and Najib Ay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Excellence in Patient Safety at B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Jeffrey Rothschild and David B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am and Women’s Hospital and Harvard Medical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d NI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Err is Hu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e of Medicine Report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44,000 to 98,000 deaths annually from advers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able accumulation of information in past 3-4 years demonstrating the importance of working conditions and work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460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vard Work Hours, Health, and Safety Study: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surve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objectively quantify the work schedules experienced by house staff, and determine if increased hours are associated with increased risk of house staff 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a national sample of house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,417 person-years monthly survey data collected from 2,737 interns nationwide in 2002-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hours, crashes, an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of work hours and motor vehicle cr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63500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632448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Arial"/>
              </a:rPr>
              <a:t>Barger, L. K. et al. N Engl J Med 2005; 352:125-13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rvard Work Hours, Health, and Safety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2286000"/>
          <a:ext cx="342900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34290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rot="16200000">
            <a:off x="2057400" y="236160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3623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: 2.3 (95% CI, 1.6-3.3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203880"/>
            <a:ext cx="320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Barger LK et al. NEJM 2005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352:125-13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91120" y="2286000"/>
          <a:ext cx="327636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286000"/>
                    <a:ext cx="3276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49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tor Vehicle Cras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cutaneous Inju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: 1.6 (95%CI, 1.5-1.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905440" y="232416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6181560"/>
            <a:ext cx="320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Ayas,  et al. JAMA 2006; 296:1055-1062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438280"/>
            <a:ext cx="1447920" cy="143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shif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extended shif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14600"/>
            <a:ext cx="15228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124080"/>
            <a:ext cx="1522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66680" y="3124080"/>
          <a:ext cx="69008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900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0800000">
            <a:off x="1371240" y="2971800"/>
            <a:ext cx="606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. of attentional failures from 11pm – 7am per Hour on Du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58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n Sleep and Patient Safety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06668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ed Trial comparing interns’ alertness and performance on traditional “q3” schedule with 24-30 hour shifts (ACGME-compli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6 hr max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wice as ma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EG-documented attentional failures at night on traditional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Lockley, S. W. et al. N Engl J Med 2004;351:1829-18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.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14800" y="3124080"/>
            <a:ext cx="228600" cy="990360"/>
          </a:xfrm>
          <a:custGeom>
            <a:avLst/>
            <a:gdLst>
              <a:gd name="textAreaLeft" fmla="*/ 0 w 228600"/>
              <a:gd name="textAreaRight" fmla="*/ 160560 w 22860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09600" y="1909800"/>
          <a:ext cx="876924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909800"/>
                    <a:ext cx="87692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4920" y="358920"/>
            <a:ext cx="883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n Sleep and Pt Safety Study, Part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s made 36% more serious errors on traditional schedule, includ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5 ti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many serious diagnostic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477120"/>
            <a:ext cx="7439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Landrigan, C. P. et al. N Engl J Med 2004;351:1838-184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419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3886200" y="30474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410080" y="44190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438280" y="23616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048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.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Landrigan, C.P. et al. N Engl J Med 2004;351:1838-184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2120" y="2590560"/>
            <a:ext cx="3934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s per 1000 pt day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Are Current ACGME Work Hour Limits sufficient to solve the problem?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80 hours per week, averaged over 4 wee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30 hours in a row, including time for hand-offs of care and educ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1 day off in 7, averaged over 4 wee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rvard Work Hours, Health, and Safety Study, Part 3: Compliance with Duty Hour Standards </a:t>
            </a:r>
            <a:br>
              <a:rPr sz="20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3.6% of interns in violation of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.4% of programs; 90.8% of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0 % of all intern-months in vio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1.5% of inpatient intern-months in vi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5943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2e2c4e"/>
                </a:solidFill>
                <a:latin typeface="Arial"/>
                <a:ea typeface="Arial"/>
              </a:rPr>
              <a:t>‡</a:t>
            </a:r>
            <a:r>
              <a:rPr b="0" lang="en-US" sz="1600" spc="-1" strike="noStrike">
                <a:solidFill>
                  <a:srgbClr val="2e2c4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2c4e"/>
                </a:solidFill>
                <a:latin typeface="Arial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Arial"/>
              </a:rPr>
              <a:t>Landrigan C.P., et al. JAMA 2006;296:1063-10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1:55:06Z</dcterms:created>
  <dc:creator>Kristine Torjesen</dc:creator>
  <dc:description/>
  <dc:language>en-US</dc:language>
  <cp:lastModifiedBy>Jeff Brady</cp:lastModifiedBy>
  <cp:lastPrinted>2001-10-17T19:11:34Z</cp:lastPrinted>
  <dcterms:modified xsi:type="dcterms:W3CDTF">2007-09-26T21:03:13Z</dcterms:modified>
  <cp:revision>192</cp:revision>
  <dc:subject/>
  <dc:title>Objective</dc:title>
</cp:coreProperties>
</file>