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12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23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30.wmf" ContentType="image/x-wmf"/>
  <Override PartName="/ppt/media/image35.wmf" ContentType="image/x-wmf"/>
  <Override PartName="/ppt/media/image5.wmf" ContentType="image/x-wmf"/>
  <Override PartName="/ppt/media/image3.jpeg" ContentType="image/jpeg"/>
  <Override PartName="/ppt/media/image28.wmf" ContentType="image/x-wmf"/>
  <Override PartName="/ppt/media/image21.wmf" ContentType="image/x-wmf"/>
  <Override PartName="/ppt/media/image6.jpeg" ContentType="image/jpeg"/>
  <Override PartName="/ppt/media/image31.wmf" ContentType="image/x-wmf"/>
  <Override PartName="/ppt/media/image34.wmf" ContentType="image/x-wmf"/>
  <Override PartName="/ppt/media/image10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1.jpeg" ContentType="image/jpeg"/>
  <Override PartName="/ppt/media/image14.jpeg" ContentType="image/jpeg"/>
  <Override PartName="/ppt/media/image16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media/image17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C02-B5D1-454A-B8C2-337FBAB8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B0D-32E4-412F-AB58-16D83536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882-F3FB-46A8-BE86-22A7D164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681-13A2-49A6-AD20-7B606042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8827-49D9-43B4-B04D-D28819E1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997E-2410-470F-865E-BC24676E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FC40-CC5C-407E-8073-5A9CAEA9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3EA6-1730-4C32-B8E8-D80FA0D3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F644-F40B-464B-93D6-B027D8EB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AC3-757E-41E1-9FB1-FD3A23CC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8603-81FB-4DEB-BCFF-DF212AB7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846-258A-4FA3-999F-021686DE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5F67-1496-4DD0-97B8-8E6FAA65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6A28-5735-40C0-A6BC-F1347FA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5092-B0CB-47BA-A343-140DD79D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D4C2-B4B0-4DF4-99D6-BB4E56BF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A12F-F79E-4FE9-8FB3-62B2B439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214-27A3-4A00-AD50-B2AE58BB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6BC-DEAE-44BD-8391-E067F769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AF0-F3A9-49EE-8F1A-AC1F3975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E62-96ED-4F53-AEB6-9C9E1826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62C-F87C-46ED-BD23-D566A356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1FA-AD36-45BD-A8CD-15F923B8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E664-3534-400D-B40D-73E73CF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22C5-CA57-4243-902B-21B8DD529A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173-7BBF-468A-AC40-8FDDF61727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4678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pact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ized Physician Order Entry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on Redesigning Work Processes to Improve Patient Safety and Quality</a:t>
            </a:r>
            <a:br>
              <a:rPr sz="20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RQ Conference, Bethesda MD, September 2007</a:t>
            </a:r>
            <a:br>
              <a:rPr sz="28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ss Koppel, Ph.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Clinical Epidemiology &amp; Bio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 of Medicine, &amp; Sociology Depart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Pennsylv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koppel@sas.upenn.ed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n Disaggregate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POE             Hospital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0" y="213372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86000" y="2362320"/>
            <a:ext cx="8380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514600" cy="186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105160" cy="34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 rot="3016800">
            <a:off x="4239360" y="3456360"/>
            <a:ext cx="1067040" cy="223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 rot="11744400">
            <a:off x="3657240" y="2971440"/>
            <a:ext cx="215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yb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ample: Order 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ample: Order 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re…..wel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tim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ample: Order se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f course,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y, many, many good exam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andwriting-fre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ways availabl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&amp; retrievabl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tc, etc, etc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1841400" cy="631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733920" y="2743200"/>
            <a:ext cx="17985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 some unhappy examples, to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fficulties Disaggrega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. Harrison, R. Koppel &amp; S. Bar-Lev. 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Unintended consequences of information technologies in health care – An interactive sociotechnical analysi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. </a:t>
            </a:r>
            <a:r>
              <a:rPr b="0" i="1" lang="en-US" sz="3100" spc="-1" strike="noStrike">
                <a:solidFill>
                  <a:srgbClr val="ffffff"/>
                </a:solidFill>
                <a:latin typeface="Arial"/>
              </a:rPr>
              <a:t>Journal of the American Medical Informatics Association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, Sept. 2007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POE Elimina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writ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x order travel time to pharm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1168200" cy="1752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20685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870120"/>
            <a:ext cx="815328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1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New HIT changes existing social syst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600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POE procedures changes communication between transport teams and emergency room in Children’s hospital (Han)*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or references, see Harrison et al., JAMIA paper or email u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31240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2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Technical &amp; physical infrastructures mediate HIT u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- Interaction of new HIT with existing technical and physical conditions affect HIT-in-u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4495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persistence (Campbell, 2006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arts on whe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562720" y="3700440"/>
            <a:ext cx="3200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 (3) </a:t>
            </a:r>
            <a:r>
              <a:rPr b="0" lang="en-US" sz="3900" spc="-1" strike="noStrike" u="sng">
                <a:solidFill>
                  <a:srgbClr val="ffffff"/>
                </a:solidFill>
                <a:uFillTx/>
                <a:latin typeface="Times New Roman"/>
              </a:rPr>
              <a:t>Social system mediates HIT use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--Interaction of new HIT with the social system affects HIT-in-use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971440"/>
            <a:ext cx="4000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of real-time entry, nurses document meds at end of shift (Koppel et al.; Bar-Lev and Harris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4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IT-in-use changes social system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– Interaction of new HIT with the social system affects HIT-in-use, which then further changes the social syste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3200400"/>
            <a:ext cx="4000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lth dosing erodes authority of infectious disease fellows (Larosa et al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4257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ive Sociotechn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ses (5)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IT-social system interactions engender HIT redesig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--Interaction of new HIT with the social system affects HIT-in-use, which then leads to changes in HIT proper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799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s resist fixed choice templates, forcing redesign to allow free-text entry for diagnoses (Bar-Lev and Harris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orm"/>
          <p:cNvSpPr/>
          <p:nvPr/>
        </p:nvSpPr>
        <p:spPr>
          <a:xfrm>
            <a:off x="380880" y="3429000"/>
            <a:ext cx="1809720" cy="2219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320" y="182880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POE Eliminat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brevia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cript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1178" t="30285" r="23530" b="-3482"/>
          <a:stretch/>
        </p:blipFill>
        <p:spPr>
          <a:xfrm>
            <a:off x="4800600" y="373392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15206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ldom This Clear or True…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PO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52320" y="1752120"/>
            <a:ext cx="48006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62520" y="1905120"/>
            <a:ext cx="4743360" cy="3612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 flipH="1">
            <a:off x="5105160" y="1523880"/>
            <a:ext cx="533160" cy="68580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1600200"/>
            <a:ext cx="533520" cy="23623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es, No, Sometim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y examples: CPOE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examples: CPOE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examples:   CPOE    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often:      CPOE         Workflo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952880" y="2437920"/>
            <a:ext cx="0" cy="38124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3048120"/>
            <a:ext cx="0" cy="3808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572000" y="44956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 discusse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mplementing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D Acceptance……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200400" cy="2273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343400" y="685800"/>
            <a:ext cx="16938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 discusse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ustomization….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w version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actions w/ Vendors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38680" y="4419720"/>
            <a:ext cx="2971800" cy="21114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210040" cy="1735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114800" y="3124080"/>
            <a:ext cx="1447920" cy="1292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876920" y="3200400"/>
            <a:ext cx="31161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POE improvements &amp; hospital workflows always emerg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 hospital with CPOE has been struck by a meteor.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666880" cy="26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198144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oss Kopp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iversity of Pennsylvan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koppel@sas.upenn.ed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 rot="5400000">
            <a:off x="6071400" y="1395720"/>
            <a:ext cx="2666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eliminate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ling zero problems       0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0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    0 ……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T. cost overru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thecary measure err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219320" cy="1185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19810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Facilitate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 of prescribing M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of C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on with Pt.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-5097" r="61555" b="523"/>
          <a:stretch/>
        </p:blipFill>
        <p:spPr>
          <a:xfrm>
            <a:off x="4648320" y="3124080"/>
            <a:ext cx="1218960" cy="129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1951200" cy="1299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V="1">
            <a:off x="4800600" y="2437920"/>
            <a:ext cx="114300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MOST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7543800" cy="50292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Facilitate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ing inside the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ing outside the b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360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POE facilitate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alysis of patient and Rx dat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28386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POE BENFITS!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CPOE Eliminates: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judg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nd-alike drug choice spelling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ewed efficacy cla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rot="20388600">
            <a:off x="4952880" y="4190760"/>
            <a:ext cx="1274760" cy="190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238880" y="2438280"/>
            <a:ext cx="1473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POE BENEFIT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ev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me reports of po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t between workflow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nd CPO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355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4:27:33Z</dcterms:created>
  <dc:creator>Ross Koppel</dc:creator>
  <dc:description/>
  <dc:language>en-US</dc:language>
  <cp:lastModifiedBy>USER</cp:lastModifiedBy>
  <dcterms:modified xsi:type="dcterms:W3CDTF">2007-09-26T18:20:48Z</dcterms:modified>
  <cp:revision>21</cp:revision>
  <dc:subject/>
  <dc:title>CPOE PANACEA</dc:title>
</cp:coreProperties>
</file>