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4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12.jpeg" ContentType="image/jpeg"/>
  <Override PartName="/ppt/media/image8.jpeg" ContentType="image/jpeg"/>
  <Override PartName="/ppt/media/image33.wmf" ContentType="image/x-wmf"/>
  <Override PartName="/ppt/media/image29.jpeg" ContentType="image/jpeg"/>
  <Override PartName="/ppt/media/image13.jpeg" ContentType="image/jpeg"/>
  <Override PartName="/ppt/media/image23.png" ContentType="image/png"/>
  <Override PartName="/ppt/media/image7.wmf" ContentType="image/x-wmf"/>
  <Override PartName="/ppt/media/image11.jpeg" ContentType="image/jpeg"/>
  <Override PartName="/ppt/media/image9.jpeg" ContentType="image/jpeg"/>
  <Override PartName="/ppt/media/image30.wmf" ContentType="image/x-wmf"/>
  <Override PartName="/ppt/media/image35.wmf" ContentType="image/x-wmf"/>
  <Override PartName="/ppt/media/image5.wmf" ContentType="image/x-wmf"/>
  <Override PartName="/ppt/media/image3.jpeg" ContentType="image/jpeg"/>
  <Override PartName="/ppt/media/image28.wmf" ContentType="image/x-wmf"/>
  <Override PartName="/ppt/media/image21.wmf" ContentType="image/x-wmf"/>
  <Override PartName="/ppt/media/image6.jpeg" ContentType="image/jpeg"/>
  <Override PartName="/ppt/media/image31.wmf" ContentType="image/x-wmf"/>
  <Override PartName="/ppt/media/image34.wmf" ContentType="image/x-wmf"/>
  <Override PartName="/ppt/media/image10.wmf" ContentType="image/x-wmf"/>
  <Override PartName="/ppt/media/image4.jpeg" ContentType="image/jpeg"/>
  <Override PartName="/ppt/media/image32.wmf" ContentType="image/x-wmf"/>
  <Override PartName="/ppt/media/image2.wmf" ContentType="image/x-wmf"/>
  <Override PartName="/ppt/media/image1.jpeg" ContentType="image/jpeg"/>
  <Override PartName="/ppt/media/image14.jpeg" ContentType="image/jpeg"/>
  <Override PartName="/ppt/media/image16.wmf" ContentType="image/x-wmf"/>
  <Override PartName="/ppt/media/image25.wmf" ContentType="image/x-wmf"/>
  <Override PartName="/ppt/media/image15.jpeg" ContentType="image/jpeg"/>
  <Override PartName="/ppt/media/image26.wmf" ContentType="image/x-wmf"/>
  <Override PartName="/ppt/media/image17.jpeg" ContentType="image/jpeg"/>
  <Override PartName="/ppt/media/image1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2081-EFA8-4799-AC44-A067CC128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2F66-75E2-4C6B-B233-3DC4A3D5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7C98-A979-4591-9295-F0D9F4AD2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AA82-285D-4AD9-8F57-ABA31B665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45018-4188-40EE-B973-363866602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6C3E7-4BC1-4AF6-8C70-4E99373D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148A-D741-4F91-8705-B1E156B9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EFAD-D9E0-4D18-8A9B-322B57A6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2670-945D-42B7-84C3-929DE821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AABF-2559-47CD-828E-06C5AEFB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B334-5B8C-4300-B298-92475C53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B5AA-D7CE-45B4-B602-2C4E9F07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BD20-AA31-4E58-9DBB-553A7E17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E360-4316-487D-818C-8ECE1D39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2378-10FB-48E9-B523-DCEA2C5A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7100C-BA89-4B00-ADF1-325996219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AC58-65E3-4F96-A001-D8813D31A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EF02-C95E-4395-AD0D-5BA16366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018A-58F8-44DB-81DD-2326C610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45F5-621F-47F8-A865-E31BA676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5366-C8EF-4DD4-AF7B-E7B14C62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DF46-22B8-42F5-B178-CF9537A1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C8D0-BEFD-484A-B151-18E493C2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301F-3D7C-487C-88DD-32988BE1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DA90-E10B-48DC-BDB6-4D0238B6EA1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6D73-2269-4734-8018-C80D6C5B57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image" Target="../media/image18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46784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mpact of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rized Physician Order Entry</a:t>
            </a:r>
            <a:br>
              <a:rPr sz="2800"/>
            </a:b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ssion on Redesigning Work Processes to Improve Patient Safety and Quality</a:t>
            </a:r>
            <a:br>
              <a:rPr sz="2000"/>
            </a:b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HRQ Conference, Bethesda MD, September 2007</a:t>
            </a:r>
            <a:br>
              <a:rPr sz="2800"/>
            </a:br>
            <a:r>
              <a:rPr b="0" lang="en-US" sz="5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ss Koppel, Ph.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nter for Clinical Epidemiology &amp; Biostatist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ool of Medicine, &amp; Sociology Depart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versity of Pennsylvan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koppel@sas.upenn.ed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n Disaggregate?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POE             Hospital Workflow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0" y="2133720"/>
            <a:ext cx="8380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286000" y="2362320"/>
            <a:ext cx="8380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334120" y="2362320"/>
            <a:ext cx="2514600" cy="18651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04920" y="2819520"/>
            <a:ext cx="5105160" cy="3400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 rot="3016800">
            <a:off x="4239360" y="3456360"/>
            <a:ext cx="1067040" cy="2230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 rot="11744400">
            <a:off x="3657240" y="2971440"/>
            <a:ext cx="21542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re…..wel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re…..wel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re…..wel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ayb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re…..wel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ample: Order se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362320" y="297180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re…..wel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ample: Order se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362320" y="297180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re…..wel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ometim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ample: Order se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f course,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y, many, many good examp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andwriting-fre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lways availabl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&amp; retrievable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tc, etc, etc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962520" y="1828800"/>
            <a:ext cx="1841400" cy="631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733920" y="2743200"/>
            <a:ext cx="179856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ut some unhappy examples, to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fficulties Disaggrega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. Harrison, R. Koppel &amp; S. Bar-Lev.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Unintended consequences of information technologies in health care – An interactive sociotechnical analysis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. </a:t>
            </a:r>
            <a:r>
              <a:rPr b="0" i="1" lang="en-US" sz="3100" spc="-1" strike="noStrike">
                <a:solidFill>
                  <a:srgbClr val="ffffff"/>
                </a:solidFill>
                <a:latin typeface="Arial"/>
              </a:rPr>
              <a:t>Journal of the American Medical Informatics Association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, Sept. 2007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POE BENEFI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320" y="1828800"/>
            <a:ext cx="7239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POE Eliminat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dwriting err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x order travel time to pharm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1168200" cy="1752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248520" y="3657600"/>
            <a:ext cx="206856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870120"/>
            <a:ext cx="815328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eractive Sociotechnical Syste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0106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ses (1)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New HIT changes existing social syste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5600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POE procedures changes communication between transport teams and emergency room in Children’s hospital (Han)*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For references, see Harrison et al., JAMIA paper or email us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791320" y="3048120"/>
            <a:ext cx="312408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eractive Sociotechnical Syste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6197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ses (2)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Technical &amp; physical infrastructures mediate HIT us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-- Interaction of new HIT with existing technical and physical conditions affect HIT-in-u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3352320"/>
            <a:ext cx="44956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per persistence (Campbell, 2006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 carts on whe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562720" y="3700440"/>
            <a:ext cx="320040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eractive Sociotechnical Syste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6197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26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ses  (3) </a:t>
            </a:r>
            <a:r>
              <a:rPr b="0" lang="en-US" sz="3900" spc="-1" strike="noStrike" u="sng">
                <a:solidFill>
                  <a:srgbClr val="ffffff"/>
                </a:solidFill>
                <a:uFillTx/>
                <a:latin typeface="Times New Roman"/>
              </a:rPr>
              <a:t>Social system mediates HIT use</a:t>
            </a:r>
            <a:r>
              <a:rPr b="0" lang="en-US" sz="3900" spc="-1" strike="noStrike">
                <a:solidFill>
                  <a:srgbClr val="ffffff"/>
                </a:solidFill>
                <a:latin typeface="Times New Roman"/>
              </a:rPr>
              <a:t> --Interaction of new HIT with the social system affects HIT-in-use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2971440"/>
            <a:ext cx="40003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ead of real-time entry, nurses document meds at end of shift (Koppel et al.; Bar-Lev and Harris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943600" y="3352680"/>
            <a:ext cx="19526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eractive Sociotechnical Syste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6197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25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ses (4)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HIT-in-use changes social system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– Interaction of new HIT with the social system affects HIT-in-use, which then further changes the social syste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3200400"/>
            <a:ext cx="40003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alth dosing erodes authority of infectious disease fellows (Larosa et al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419720" y="3124080"/>
            <a:ext cx="4257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eractive Sociotechnical Syste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6197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ses (5)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HIT-social system interactions engender HIT redesign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--Interaction of new HIT with the social system affects HIT-in-use, which then leads to changes in HIT properti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514600"/>
            <a:ext cx="7993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ians resist fixed choice templates, forcing redesign to allow free-text entry for diagnoses (Bar-Lev and Harris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Form"/>
          <p:cNvSpPr/>
          <p:nvPr/>
        </p:nvSpPr>
        <p:spPr>
          <a:xfrm>
            <a:off x="380880" y="3429000"/>
            <a:ext cx="1809720" cy="22194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POE BENEFI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66320" y="1828800"/>
            <a:ext cx="7239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POE Eliminates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breviation err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cription err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41178" t="30285" r="23530" b="-3482"/>
          <a:stretch/>
        </p:blipFill>
        <p:spPr>
          <a:xfrm>
            <a:off x="4800600" y="3733920"/>
            <a:ext cx="1371600" cy="1600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876920" y="2209680"/>
            <a:ext cx="152064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ldom This Clear or True…   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PO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spi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352320" y="1752120"/>
            <a:ext cx="4800600" cy="449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962520" y="1905120"/>
            <a:ext cx="4743360" cy="36129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 flipH="1">
            <a:off x="5105160" y="1523880"/>
            <a:ext cx="533160" cy="68580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781680" y="1600200"/>
            <a:ext cx="533520" cy="236232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clusion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Yes, No, Sometim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any examples: CPOE    Workflow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ome examples: CPOE    Workflow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ome examples:   CPOE        Workflow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ost often:      CPOE         Workflow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952880" y="2437920"/>
            <a:ext cx="0" cy="38124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3048120"/>
            <a:ext cx="0" cy="38088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4572000" y="44956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 discussed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mplementing……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D Acceptance……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495680" y="3733920"/>
            <a:ext cx="3200400" cy="22730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343400" y="685800"/>
            <a:ext cx="169380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 discussed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ustomization….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w versions……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actions w/ Vendors….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638680" y="4419720"/>
            <a:ext cx="2971800" cy="21114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495680" y="1371600"/>
            <a:ext cx="2210040" cy="1735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4114800" y="3124080"/>
            <a:ext cx="1447920" cy="12924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4876920" y="3200400"/>
            <a:ext cx="311616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POE improvements &amp; hospital workflows always emerging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 hospital with CPOE has been struck by a meteor.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828800" y="2971800"/>
            <a:ext cx="2666880" cy="2617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267080" y="4724280"/>
            <a:ext cx="1981440" cy="19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oss Kopp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niversity of Pennsylvani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koppel@sas.upenn.edu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 rot="5400000">
            <a:off x="6071400" y="1395720"/>
            <a:ext cx="266688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POE BENEFI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61760" y="18288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CPOE eliminates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ling zero problems       0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0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   0 ……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.T. cost overrun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othecary measure erro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867280" y="4572000"/>
            <a:ext cx="1219320" cy="1185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91120" y="3124080"/>
            <a:ext cx="198108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POE BENEFI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38098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CPOE Facilitates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 of prescribing M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ation of CD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ation with Pt. rec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-5097" r="61555" b="523"/>
          <a:stretch/>
        </p:blipFill>
        <p:spPr>
          <a:xfrm>
            <a:off x="4648320" y="3124080"/>
            <a:ext cx="1218960" cy="1295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486400" y="1905120"/>
            <a:ext cx="1951200" cy="12999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 flipV="1">
            <a:off x="4800600" y="2437920"/>
            <a:ext cx="1143000" cy="228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019920" y="4343400"/>
            <a:ext cx="14475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POE BENEFITS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MOST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761760" y="1828800"/>
            <a:ext cx="7543800" cy="50292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CPOE Facilitates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ing inside the bo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ing outside the bo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181480" y="27432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3600" y="54864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POE BENEFI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POE facilitates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nalysis of patient and Rx dat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952880" y="2286000"/>
            <a:ext cx="283860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POE BENFITS!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38098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CPOE Eliminates: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or judg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nd-alike drug choice spelling err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ewed efficacy clai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 rot="20388600">
            <a:off x="4952880" y="4190760"/>
            <a:ext cx="1274760" cy="1904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7238880" y="2438280"/>
            <a:ext cx="14734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POE BENEFITS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wever…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ome reports of poo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t between workflow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nd CPO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952880" y="1981080"/>
            <a:ext cx="3355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4:27:33Z</dcterms:created>
  <dc:creator>Ross Koppel</dc:creator>
  <dc:description/>
  <dc:language>en-US</dc:language>
  <cp:lastModifiedBy>USER</cp:lastModifiedBy>
  <dcterms:modified xsi:type="dcterms:W3CDTF">2007-09-26T18:20:48Z</dcterms:modified>
  <cp:revision>21</cp:revision>
  <dc:subject/>
  <dc:title>CPOE PANACEA</dc:title>
</cp:coreProperties>
</file>