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75D2-B4AA-494E-9547-91FAD32D00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2F82-F3A3-47BD-97DB-E6AE428D4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the lack of reliability of the medical record as an accurate source of medication history, many groups advocate computerized medication profiles and physician order entr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B14-54F3-4331-A2A6-E0306D16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A2D8-CD59-4E8F-9D35-DB9ABFB2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F64B-6CA4-4F26-BC87-52E32242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634-2AE7-4E93-906E-03B95CF2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870-F0C5-4A53-B163-88E558E3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1D5-4C0B-4599-A030-36965109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B6D-C01A-44F8-839D-12831E7C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A17-9EEC-4797-A03B-FE7D6D71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8AD8-B9A7-42E7-A0F4-52B83633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39C-C562-477A-BCB6-017C802C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FB0-663C-4989-A684-373EFCD9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FD4-9986-4E2E-81E2-66180CEC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47676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5812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fld id="{5CE0D17E-4874-46FD-968B-E0D143DF658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Medication Reconciliation:</a:t>
            </a:r>
            <a:br>
              <a:rPr sz="3600"/>
            </a:br>
            <a:r>
              <a:rPr b="1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The Inpatient Hospitalist Perspectiv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1920" y="2133720"/>
            <a:ext cx="8991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eter Kaboli, MD, 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owa City VAM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ISP (Center for Research in the Implementation of Innovative Strategies in Practi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ity of Iowa, Iowa City, 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HRQ-Washington, D.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ptember 27,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5360" y="5459400"/>
            <a:ext cx="1233720" cy="1235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38880" y="5410080"/>
            <a:ext cx="1676520" cy="122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C95F-1531-43BD-9C56-E9512020FA2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findings from our VA outpatient clinical pharmacist/physician intervention: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alth literac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as associated with medication knowledge, but NOT with taking meds correctly or ADEs at 6 and 12 month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atient pharmacist/physician evaluation can impro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dication appropriaten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ut hard to show improved clinical outcomes (ADEs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s are just as likely to NOT be taking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commended medic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 they are to be tak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tr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dications (polypharmacy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A276-D66E-4E29-99E3-66B1F81764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mplementing Med Reconciliation</a:t>
            </a:r>
            <a:br>
              <a:rPr sz="40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Kaboli,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et al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Clinical Pharmacists and Inpatient Medical Care: A Systematic Review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Arch Int Med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, 166, May 8, 2006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Pharmaci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1 RCTs of Admission and/or Discharge Med Reconcil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ventable A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 to input allergy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mi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dication knowled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dication appropriatenes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wouldn’t a clinical pharmacist help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fortunately not cheap or available 24-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EDD-86E9-4F39-BC40-5A4A9E5EF3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nical Pharmacist Intervention</a:t>
            </a:r>
            <a:br>
              <a:rPr sz="4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chnipper,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et al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ole of Pharmacist Counseling in Preventing ADEs After Hospitalizatio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Arch Int Med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, 166, Mar 13, 2006.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harge counseling with 3-5 day follow-up phone call (N=178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 day Preventable ADE rate 11% vs. 1%, but not all A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al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patients had discrepancies from pre-admit to dischar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d not improve medication adherence or ED/hospital re-admi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B29-92C8-443F-AF58-DD7C2DDA89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npatient Clinical Pharmacists: Roles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ful review of med lists, including contacting local pharmacy if necess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ing with team, especially in IC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recommendations to inpatient team at admit and/or dischar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sure patients get med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5 day follow-up phone ca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they “better” than physicians or nurs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DDD7-8749-4995-A446-876CD88AB5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 works for you?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nical pharmaci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spitali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id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r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rmacy stud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rmacy tech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CAF-7064-43AE-8A30-9F725513CA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ummary Keys for Succe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rmacist and Physician champ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onic or paper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 account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olvement of patient/fami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 literacy and social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harge counse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to primary care or SNF and outpatient pharma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llow-up phone c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BFD-2C4D-4E71-A41E-2400D45475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JCAHO Definition of Med Reconciliation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cess of comparing a patient's medication orders to all of the medications that the patient has been taking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reconciliation is done to avoid medication errors such as omissions, duplications, dosing errors, or drug interaction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should be done at every transition of care in which new medications are ordered or existing orders are rewritte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itions in care include changes in setting, service, practitioner or level of car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E040-916A-4552-8C38-25E26DD69E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 Med Reconciliation New?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olutely no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CAHO &amp; IOM put it into the spotligh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itions of care hav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een a problem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Rs help, but don’t fix problem (VA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gmented care is the norm, even as far back as 187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D5B-85C8-41CF-BD08-2512BAA00D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56080" y="242640"/>
            <a:ext cx="750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ethoven's Doctor Accidentally Poisoned Hi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thologist Clai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5440" y="1217880"/>
            <a:ext cx="3309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dnesday, August 29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AP"/>
          <p:cNvPicPr/>
          <p:nvPr/>
        </p:nvPicPr>
        <p:blipFill>
          <a:blip r:embed="rId1"/>
          <a:stretch/>
        </p:blipFill>
        <p:spPr>
          <a:xfrm>
            <a:off x="228600" y="1676520"/>
            <a:ext cx="1295280" cy="236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219320" cy="80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graphic"/>
          <p:cNvPicPr/>
          <p:nvPr/>
        </p:nvPicPr>
        <p:blipFill>
          <a:blip r:embed="rId3"/>
          <a:stretch/>
        </p:blipFill>
        <p:spPr>
          <a:xfrm>
            <a:off x="6172200" y="1600200"/>
            <a:ext cx="2514600" cy="2971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2374200"/>
            <a:ext cx="571500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27000" rIns="0" tIns="-270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IENNA, AUSTRI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—  DID SOMEONE KILL BEETHOVEN? A VIENNESE PATHOLOGIST CLAIMS THE COMPOSER'S PHYSICIAN DID — INADVERTENTLY OVERDOSING HIM WITH LEAD IN A CASE OF A CURE THAT WENT WRO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ER RESEARCHERS ARE NOT CONVINCED, BUT THERE IS NO CONTROVERSY ABOUT ONE FACT: THE MASTER HAD BEEN A VERY SICK MAN YEARS BEFORE HIS DEATH IN 182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2E0-5F3B-41A1-B175-4D1878BC12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re Computerized Med Lists Accurate?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93 older veterans o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med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rmacist “brown bag” int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 of 12.4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ly scheduled me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ge 5-4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0 Rx, 2.9 OTC, 1.5 vitamins/herb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boli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ssessing the Accuracy of Computerized Medication Histo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JM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2004;10;872-87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D585-1198-4689-8737-21BB7E461E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greement Defini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% of Patients with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erfect Agreem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etween the interview and compu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miss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meds not on computer profile, but being taken by the pati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miss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meds on the computer profile, bu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eing taken by the pati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28C-66E9-449C-AEE0-CD180B0B08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inding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3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patients ha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fe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gre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iss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3 medications per pat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% of all medications o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iss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3 medications per pat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.6% of all medications not being ta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% of Allergies and 64% of ADEs mi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possib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have 100% accuracy all the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E88-2B31-43EF-A4B1-D9A968EBA6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op 5 Omiss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1676520"/>
          <a:ext cx="7772400" cy="33526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Drug C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itamins              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spirin              10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ticoag/platelet 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ultivitamin        8.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I                        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cetaminophen  6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erbals              9.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lcium              5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rdiovascular   8.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itamin E           4.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1203480" y="52228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525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5257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% of omissions were prescription d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E76B-9717-422F-900B-7DA971FF29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op 5 Commiss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752480"/>
          <a:ext cx="7772400" cy="3105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Drug C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rdiovascular    1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spirin               5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rm/Topicals     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ocusate           3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I                        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uretics            3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spiratory        9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lbuterol            3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SAID/COX-II    7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ylenol               2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1143000" y="5257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% of commissions were prescription d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598-6930-4B98-AF74-ACE41E7D89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9T12:17:40Z</dcterms:created>
  <dc:creator>Paul Batalden</dc:creator>
  <dc:description/>
  <dc:language>en-US</dc:language>
  <cp:lastModifiedBy>kabolip</cp:lastModifiedBy>
  <cp:lastPrinted>1999-01-03T11:38:23Z</cp:lastPrinted>
  <dcterms:modified xsi:type="dcterms:W3CDTF">2007-09-27T17:50:39Z</dcterms:modified>
  <cp:revision>133</cp:revision>
  <dc:subject/>
  <dc:title>No Slide Title</dc:title>
</cp:coreProperties>
</file>