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73D9-5D21-4E19-A916-434A18B895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371B-2B23-415E-A87E-1DC8F02E8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the lack of reliability of the medical record as an accurate source of medication history, many groups advocate computerized medication profiles and physician order entr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9233-0C80-4ACD-A2B9-FC49DD21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FE4-0B8F-4E2C-B957-B6DCABDC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E75-DC7D-44CD-8297-E587F64C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ED1-BB20-4C00-840A-27A34483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2AB9-29ED-49D6-8737-7CFBE3FC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D513-8407-495C-8B91-F55E6F17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E4F-7159-4046-BE09-258512F7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6AE-058E-40AE-B410-B165C2CF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EAB-C92F-4070-B6C1-DA0A58B2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1A9-BCCB-431C-8562-CA505B5D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0A0-1DD7-4796-B7D4-57401CFA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1113-032E-4007-B156-D41FBA52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7676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581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fld id="{B9DE3357-36E7-4C3D-8FFE-CBDE2E862BF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Medication Reconciliation:</a:t>
            </a:r>
            <a:br>
              <a:rPr sz="3600"/>
            </a:br>
            <a:r>
              <a:rPr b="1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The Inpatient Hospitalist Perspectiv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920" y="2133720"/>
            <a:ext cx="8991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eter Kaboli, MD, 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owa City VAM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ISP (Center for Research in the Implementation of Innovative Strategies in Pract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ty of Iowa, Iowa City, 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HRQ-Washington, D.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tember 27,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5360" y="5459400"/>
            <a:ext cx="1233720" cy="1235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38880" y="5410080"/>
            <a:ext cx="1676520" cy="122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CEE-4E28-4853-B71D-D26357EC254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findings from our VA outpatient clinical pharmacist/physician intervention: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alth litera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as associated with medication knowledge, but NOT with taking meds correctly or ADEs at 6 and 12 month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patient pharmacist/physician evaluation can improv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dication appropriatene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but hard to show improved clinical outcomes (ADEs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s are just as likely to NOT be taking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commended medic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s they are to be tak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tr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dications (polypharmacy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D5E-B3E3-466D-81CA-373DECEB01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mplementing Med Reconciliation</a:t>
            </a:r>
            <a:br>
              <a:rPr sz="40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Kaboli,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et al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Clinical Pharmacists and Inpatient Medical Care: A Systematic Review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rch Int Med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, 166, May 8, 2006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Pharmaci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1 RCTs of Admission and/or Discharge Med Reconcil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entable A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to input allergy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cation knowled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cation appropriatene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wouldn’t a clinical pharmacist hel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fortunately not cheap or available 24-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66C-8DC9-4D27-A333-2987D84E44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inical Pharmacist Intervention</a:t>
            </a:r>
            <a:br>
              <a:rPr sz="4000"/>
            </a:b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chnipper,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et al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ole of Pharmacist Counseling in Preventing ADEs After Hospitalization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Arch Int Med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, 166, Mar 13, 2006.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harge counseling with 3-5 day follow-up phone call (N=178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day Preventable ADE rate 11% vs. 1%, but not all A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al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patients had discrepancies from pre-admit to dischar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d not improve medication adherence or ED/hospital re-admi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E0E-9B9A-426A-9123-2DDD5FFB93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Inpatient Clinical Pharmacists: Roles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ful review of med lists, including contacting local pharmacy if necess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ing with team, especially in IC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recommendations to inpatient team at admit and/or dischar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sure patients get med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5 day follow-up phone c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they “better” than physicians or nurs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061-DB4C-44B3-B26D-DE9844EDE6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hat works for you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nical pharmac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spitali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d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r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rmacy stud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rmacy tech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B0D9-BEAD-4EB1-8B70-37DC2A1A7D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ummary Keys for Succes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rmacist and Physician champ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ic or paper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account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olvement of patient/fami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literacy and social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harge counse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 to primary care or SNF and outpatient pharma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-up phone c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CDA-D835-417F-843E-E20F61D37F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JCAHO Definition of Med Reconciliation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 of comparing a patient's medication orders to all of the medications that the patient has been taking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reconciliation is done to avoid medication errors such as omissions, duplications, dosing errors, or drug interaction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should be done at every transition of care in which new medications are ordered or existing orders are rewritte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itions in care include changes in setting, service, practitioner or level of car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044-8C43-4A9A-9FC3-4B7F0822F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Is Med Reconciliation New?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utely no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CAHO &amp; IOM put it into the spotligh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itions of care 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wa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en a proble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Rs help, but don’t fix problem (VA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gmented care is the norm, even as far back as 187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454-5CF3-4358-BCC3-0BD4E63DB6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6080" y="242640"/>
            <a:ext cx="750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thoven's Doctor Accidentally Poisoned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ologist Clai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5440" y="1217880"/>
            <a:ext cx="3309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dnesday, August 29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AP"/>
          <p:cNvPicPr/>
          <p:nvPr/>
        </p:nvPicPr>
        <p:blipFill>
          <a:blip r:embed="rId1"/>
          <a:stretch/>
        </p:blipFill>
        <p:spPr>
          <a:xfrm>
            <a:off x="228600" y="1676520"/>
            <a:ext cx="1295280" cy="236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1219320" cy="80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graphic"/>
          <p:cNvPicPr/>
          <p:nvPr/>
        </p:nvPicPr>
        <p:blipFill>
          <a:blip r:embed="rId3"/>
          <a:stretch/>
        </p:blipFill>
        <p:spPr>
          <a:xfrm>
            <a:off x="6172200" y="160020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2374200"/>
            <a:ext cx="57150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27000" rIns="0" tIns="-270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IENNA, AUSTR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—  DID SOMEONE KILL BEETHOVEN? A VIENNESE PATHOLOGIST CLAIMS THE COMPOSER'S PHYSICIAN DID — INADVERTENTLY OVERDOSING HIM WITH LEAD IN A CASE OF A CURE THAT WENT WRO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RESEARCHERS ARE NOT CONVINCED, BUT THERE IS NO CONTROVERSY ABOUT ONE FACT: THE MASTER HAD BEEN A VERY SICK MAN YEARS BEFORE HIS DEATH IN 182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177-FC4B-42D5-9F9E-F4EE02129B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e Computerized Med Lists Accurate?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93 older veterans o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med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rmacist “brown bag” int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 of 12.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ly scheduled me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nge 5-4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0 Rx, 2.9 OTC, 1.5 vitamins/herb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boli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ssessing the Accuracy of Computerized Medication Histo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JM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2004;10;872-87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A01-3ADB-497A-AC86-B2B4EBC132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greement Definit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% of Patients with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erfect Agreem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the interview and compu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miss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meds not on computer profile, but being taken by the pati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issi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meds on the computer profile, bu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ing taken by the pati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C0B-E18F-4E45-871B-017BE6608C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inding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3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patients ha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f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gre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miss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 medications per pat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of all medications o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iss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3 medications per pat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6% of all medications not being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% of Allergies and 64% of ADEs miss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ossib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have 100% accuracy all the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BC2-7B38-4AE7-B884-3FA68B75A2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op 5 Omiss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676520"/>
          <a:ext cx="7772400" cy="3352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rug 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tamins              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pirin              10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ticoag/platelet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ultivitamin        8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I                       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cetaminophen  6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rbals              9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lcium              5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rdiovascular   8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tamin E           4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203480" y="52228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5257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% of omissions were prescription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5520-9AAD-468D-8D0F-682DC3F12A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op 5 Commission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752480"/>
          <a:ext cx="7772400" cy="3105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rug C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rdiovascular    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pirin               5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rm/Topicals     1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ocusate           3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I                       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uretics            3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spiratory        9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lbuterol            3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SAID/COX-II    7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ylenol               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11430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6% of commissions were prescription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C8C-2A9D-4D70-8A42-1E78577816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9T12:17:40Z</dcterms:created>
  <dc:creator>Paul Batalden</dc:creator>
  <dc:description/>
  <dc:language>en-US</dc:language>
  <cp:lastModifiedBy>kabolip</cp:lastModifiedBy>
  <cp:lastPrinted>1999-01-03T11:38:23Z</cp:lastPrinted>
  <dcterms:modified xsi:type="dcterms:W3CDTF">2007-09-27T17:50:39Z</dcterms:modified>
  <cp:revision>133</cp:revision>
  <dc:subject/>
  <dc:title>No Slide Title</dc:title>
</cp:coreProperties>
</file>