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583F-D436-4633-9CE5-2B426C88D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E820-179A-4C83-B892-5C250059D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98155-3C0D-429E-9F32-1F88E47E8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D91E-C23D-48B8-8D92-D28046C06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F1BA-42AF-4FBA-BEF1-7A37AC48D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18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63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18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63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1B35-EF4C-43C8-B375-8AF5F52B1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44C5-80B9-4E11-8489-125D2555B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9467-9FB1-44A5-AB50-FFDEB2E73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9F72-5429-4E6F-B385-C56C1F10C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30E0-41B6-4FA4-B692-FE1DC81C0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01D2F-8D59-43C3-9BA3-33223EFAF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6E7B-23B1-44CC-B618-3EC489A98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jnj.com/home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jnj.com/home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95280"/>
            <a:ext cx="822672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FAB1-093C-4CA4-89F6-98AA41AB97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Johnson &amp; Johns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6281640"/>
            <a:ext cx="1981440" cy="4032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52280" y="304920"/>
            <a:ext cx="76680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1295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Johnson &amp; Johns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6281640"/>
            <a:ext cx="1981440" cy="40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251460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766800" cy="838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3440" y="1142640"/>
            <a:ext cx="80802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mparative Effectiveness:            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 Manufacturer’s Perspectiv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HRQ 2007 Annual Con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tember 27,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648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ter Juhn, MD, M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ce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idence and Regulatory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hnson &amp; Johnson Corporate 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 Brunswick, N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32-524-64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it work?  Is it saf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ulatory Approv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evant for covered population (i.e. Medicare over 65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0" name=""/>
          <p:cNvSpPr/>
          <p:nvPr/>
        </p:nvSpPr>
        <p:spPr>
          <a:xfrm>
            <a:off x="99072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should it be used?  Who will most benef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ropriateness guide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ient selection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990720" y="38862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it compare?  Is it definitively bet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rlier generation of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in same class of techn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gor of comparative revi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Key Questions about Produ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3" name=""/>
          <p:cNvSpPr/>
          <p:nvPr/>
        </p:nvSpPr>
        <p:spPr>
          <a:xfrm>
            <a:off x="990720" y="5334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value?  Can the value be captu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it cost-effective?  Is it cost-sav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re an ROI?  When?  To Who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7703-96F1-4678-9240-33925EA37F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vidence Challeng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ailability of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s for evidence are increa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 gaps in the existing litera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mited generalizability of trials data to real-world pract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que challenges of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inguishing operator vs. product eff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 product life-cyc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asibility of R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lusions from the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onciling “average” population effects with individual eff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elf-life” of evid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actical use of evid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of evidence to real-world medical deci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r “accountability” for using evid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49C1-393D-4E71-AC80-2FFDD11929D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Promise of EB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erly developed and applied, evidence-based medicine ca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imulate the development of high quality information about treatments and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hance consistent and informed healthcare decision-making by physicians, patients, caregivers and pay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ort patient access to appropriate technolog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 establish the value of medicines, medical devices, diagnostics and other health servic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the basis for optimal use of health care resour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e a more quality-focused and cost-effective healthcare system that delivers superior patient out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C0C5-D5CE-4F8C-A39E-BD369A6648D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Perils of EB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for unintended con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ustifies coverage decisions based purely on cost without regard for overall effectiveness or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eezes the pace of innovation to the current generation of produ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riminates against new technolog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ads to prescriptive clinical protocols that do not allow for physician judgment and consideration of patient preferen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cuses too narrowly on clinical morbidity or mortality, ignoring a range of other important patient-reported outcomes (ease of use, compliance, functional statu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ges to coverage policies occur haphazardly without clear rationale, transparency or account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D7C0-C9AB-404B-92A5-F238D600D39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arative Effectivene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J&amp;J’s position on comparative effectivenes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 establish the value of treat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e a more quality-focused cost-effective health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 physicians and patients make better deci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 a way for manufacturers to differentiate produ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wever, it is not the “silver bullet” as it will not automatically solve our cost and quality challen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should information from CE research be us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uld inform medical decisions, not replace medical judgment with treatment formul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l need to reconcile “average” population effects and with impacts on individuals that reflect differences in side effects, intolerance, noncompliance, and quality of lif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AAF2-1BC1-4FAF-A413-34C62A8EB5A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/>
          </p:nvPr>
        </p:nvSpPr>
        <p:spPr>
          <a:xfrm>
            <a:off x="990360" y="16714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should it be linked to coverage decisions by payer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uld not serve the cost containment concerns of pay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ght be most useful in informing treatment options and assigning appropriate reimbursement premiu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should this information be communicat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widely with all stakeholders, particularly providers and pati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 the dangers of incomplete understanding of results, particularly when communicated in an overly simplistic m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knowledge that CE information can be incomplete, misleading, or misinterpre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should stakeholders be involv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te in framing the methods that will be used and prioritizing the key therapeutic are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mote transparency about the processes, findings, limitations, and appropriate uses of th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parative Effectivenes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AB5E-6E42-4BFA-B121-ECE1C11235D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ison of “what to what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rug to drug; drug to procedure; disease management to n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will success look like – information output vs. impact on care deliv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nical decision dilemmas vs. population econom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thesis of current evidence vs. initiating new comparative researc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itment to conduct adequately powered stu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ance from payment author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uine involvement with priority setting, methods review and communication approach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 Few Sugges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E40B-4871-48A9-9AB0-AE85C6000ACE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volving Environment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55720" y="2514600"/>
            <a:ext cx="10051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5720" y="3657600"/>
            <a:ext cx="10051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/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5720" y="4800600"/>
            <a:ext cx="100512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1295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9528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67652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92560" y="2514600"/>
            <a:ext cx="1600200" cy="2971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9160" indent="-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verage and Reimburs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idence  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Meas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urance Benefit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T – EMR, PHR, Data M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295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1348560" y="3848040"/>
            <a:ext cx="3429000" cy="304920"/>
          </a:xfrm>
          <a:prstGeom prst="triangle">
            <a:avLst>
              <a:gd name="adj" fmla="val 50000"/>
            </a:avLst>
          </a:prstGeom>
          <a:solidFill>
            <a:srgbClr val="1c1c1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68720" y="3657600"/>
            <a:ext cx="2117880" cy="685800"/>
          </a:xfrm>
          <a:prstGeom prst="rightArrow">
            <a:avLst>
              <a:gd name="adj1" fmla="val 53241"/>
              <a:gd name="adj2" fmla="val 31196"/>
            </a:avLst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7960" y="1981080"/>
            <a:ext cx="1422360" cy="1005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rative Effective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87960" y="3983040"/>
            <a:ext cx="142236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-fo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7960" y="4986360"/>
            <a:ext cx="142236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t-Risk De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7960" y="2979720"/>
            <a:ext cx="142236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verage with Evidence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3505320"/>
            <a:ext cx="1676160" cy="129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to and Paymen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and effective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1295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438280"/>
            <a:ext cx="13557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actice Var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124080"/>
            <a:ext cx="13557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ing 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09880"/>
            <a:ext cx="13557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ing De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4495680"/>
            <a:ext cx="13557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181480"/>
            <a:ext cx="1355760" cy="685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 Pres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061E-EBD6-4AF3-A465-D32EE1303FD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162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306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309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310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311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331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334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337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340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343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C62A0-9903-4225-9BB1-51D0517ACD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404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7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548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551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552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553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572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573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5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576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8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579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582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585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2135160"/>
            <a:ext cx="6019560" cy="2529360"/>
          </a:xfrm>
          <a:prstGeom prst="wedgeRoundRectCallout">
            <a:avLst>
              <a:gd name="adj1" fmla="val 39657"/>
              <a:gd name="adj2" fmla="val 67416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am I getting the best care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ven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ectful/compassio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usted information about cho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er out-of-pocket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67BB-E278-4148-AB75-6921713A8C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647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0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791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794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795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796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812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815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816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7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8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819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1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3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4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825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7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828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9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0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939960"/>
            <a:ext cx="6629400" cy="3134160"/>
          </a:xfrm>
          <a:prstGeom prst="wedgeRoundRectCallout">
            <a:avLst>
              <a:gd name="adj1" fmla="val -30347"/>
              <a:gd name="adj2" fmla="val 102129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vid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am I being rewarded for good work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ter 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er reimbur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reased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ce to innov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hanced re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D374-6468-4877-AA60-BDC42CC138D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890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3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1034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6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037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038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1039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1055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1057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058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1059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1062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3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4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1065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6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1068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1071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3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1075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1076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1077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9" name=""/>
          <p:cNvSpPr/>
          <p:nvPr/>
        </p:nvSpPr>
        <p:spPr>
          <a:xfrm>
            <a:off x="1295280" y="3962520"/>
            <a:ext cx="6858000" cy="2683800"/>
          </a:xfrm>
          <a:prstGeom prst="wedgeRoundRectCallout">
            <a:avLst>
              <a:gd name="adj1" fmla="val 9898"/>
              <a:gd name="adj2" fmla="val -97180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ploye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– “am I getting value for money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st car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unhappy beneficiaries/work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lthy productive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3903-8364-4131-9697-C524254B9F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2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1133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76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1277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1278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280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281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1282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1298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301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1302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3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4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1305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6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7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1308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9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0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1311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2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3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1314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6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7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1320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2" name=""/>
          <p:cNvSpPr/>
          <p:nvPr/>
        </p:nvSpPr>
        <p:spPr>
          <a:xfrm>
            <a:off x="838080" y="4191120"/>
            <a:ext cx="7010640" cy="2232720"/>
          </a:xfrm>
          <a:prstGeom prst="wedgeRoundRectCallout">
            <a:avLst>
              <a:gd name="adj1" fmla="val -10421"/>
              <a:gd name="adj2" fmla="val -79773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ye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– “am I only paying for effective care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er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dic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ter outcomes (influence on later co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279E-D39D-452B-8445-C911BC01824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1376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9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1520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1521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523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524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1525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1526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1541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2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544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1545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6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7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1548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9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0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1551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2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3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1554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5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6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1557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8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9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1561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1562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1563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"/>
          <p:cNvSpPr/>
          <p:nvPr/>
        </p:nvSpPr>
        <p:spPr>
          <a:xfrm>
            <a:off x="1144440" y="2874960"/>
            <a:ext cx="7769520" cy="2333520"/>
          </a:xfrm>
          <a:prstGeom prst="wedgeRoundRectCallout">
            <a:avLst>
              <a:gd name="adj1" fmla="val 31550"/>
              <a:gd name="adj2" fmla="val -78856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gulat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– “am I protecting the public health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fe and effective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wo types of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roving a drug later found to be danger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approving a useful drug in a timely fash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23DD-27BA-43CA-A904-F7FF471188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/>
          <p:nvPr/>
        </p:nvSpPr>
        <p:spPr>
          <a:xfrm>
            <a:off x="90360" y="909720"/>
            <a:ext cx="8982360" cy="52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140400" y="1171440"/>
            <a:ext cx="8921880" cy="5002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106200" y="910080"/>
            <a:ext cx="6777360" cy="372276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 rot="10800000">
            <a:off x="4589280" y="3763800"/>
            <a:ext cx="4484520" cy="240984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791120" y="5662440"/>
            <a:ext cx="1175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87640" y="5703840"/>
            <a:ext cx="1358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 rot="19860000">
            <a:off x="3129480" y="30556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 rot="19860000">
            <a:off x="4586760" y="221436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ffcc99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918320" y="1844640"/>
            <a:ext cx="101556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447000" y="2671920"/>
            <a:ext cx="689400" cy="31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yer</a:t>
            </a:r>
            <a:r>
              <a:rPr b="1" lang="en-US" sz="1600" spc="-1" strike="noStrike">
                <a:solidFill>
                  <a:srgbClr val="ffcf01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 rot="19860000">
            <a:off x="495720" y="2125440"/>
            <a:ext cx="1098720" cy="529560"/>
          </a:xfrm>
          <a:prstGeom prst="parallelogram">
            <a:avLst>
              <a:gd name="adj" fmla="val 62752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60400" y="1039680"/>
            <a:ext cx="15908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armaceut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534840" y="968400"/>
            <a:ext cx="194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 flipH="1" rot="19860000">
            <a:off x="1320480" y="167940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52280" y="1424160"/>
            <a:ext cx="16527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ed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833400" y="4678200"/>
            <a:ext cx="2414520" cy="122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833400" y="2971800"/>
            <a:ext cx="217440" cy="1724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V="1">
            <a:off x="3240000" y="5106600"/>
            <a:ext cx="3681360" cy="801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943440" y="3514680"/>
            <a:ext cx="2985840" cy="1593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936840" y="2638440"/>
            <a:ext cx="1729080" cy="2452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4000680" y="2669760"/>
            <a:ext cx="806400" cy="446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2154240" y="4633920"/>
            <a:ext cx="1001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51400" y="3930480"/>
            <a:ext cx="1001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68840" y="3246480"/>
            <a:ext cx="10018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T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479920" y="2797200"/>
            <a:ext cx="11620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utpat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800760" y="2278080"/>
            <a:ext cx="679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5484960" y="1601640"/>
            <a:ext cx="1271520" cy="704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750000" y="1606680"/>
            <a:ext cx="1920960" cy="10411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3979800" y="320184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2859120" y="2548080"/>
            <a:ext cx="4125960" cy="2293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871720" y="4838760"/>
            <a:ext cx="30024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941640" y="4245120"/>
            <a:ext cx="304920" cy="1569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338800" y="3471840"/>
            <a:ext cx="29520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200640" y="2990880"/>
            <a:ext cx="290520" cy="1476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986520" y="2556000"/>
            <a:ext cx="295200" cy="149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rot="19860000">
            <a:off x="2122200" y="218916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39680" y="1817640"/>
            <a:ext cx="7952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iote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725560" y="1792440"/>
            <a:ext cx="1430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or/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holesa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176040" y="1042920"/>
            <a:ext cx="2587680" cy="1424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1865160" y="2017800"/>
            <a:ext cx="2549520" cy="1403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765520" y="1031760"/>
            <a:ext cx="1643040" cy="946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00160" y="2505240"/>
            <a:ext cx="1668240" cy="895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895480" y="2867040"/>
            <a:ext cx="533520" cy="3110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139840" y="2136600"/>
            <a:ext cx="28116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V="1">
            <a:off x="1349280" y="2282400"/>
            <a:ext cx="1071720" cy="274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112840" y="3278160"/>
            <a:ext cx="1733760" cy="10177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V="1">
            <a:off x="3305160" y="2936880"/>
            <a:ext cx="4125960" cy="228456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 rot="19860000">
            <a:off x="3959640" y="429552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 rot="19860000">
            <a:off x="5323320" y="353988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 rot="19860000">
            <a:off x="2866680" y="491184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 rot="19860000">
            <a:off x="6221160" y="3033720"/>
            <a:ext cx="1098360" cy="530280"/>
          </a:xfrm>
          <a:prstGeom prst="parallelogram">
            <a:avLst>
              <a:gd name="adj" fmla="val 6264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 rot="19860000">
            <a:off x="7117200" y="250776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2355840" y="2192400"/>
            <a:ext cx="712800" cy="503280"/>
            <a:chOff x="2355840" y="2192400"/>
            <a:chExt cx="712800" cy="503280"/>
          </a:xfrm>
        </p:grpSpPr>
        <p:sp>
          <p:nvSpPr>
            <p:cNvPr id="1619" name=""/>
            <p:cNvSpPr/>
            <p:nvPr/>
          </p:nvSpPr>
          <p:spPr>
            <a:xfrm flipV="1">
              <a:off x="3031920" y="24498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847960" y="2428920"/>
              <a:ext cx="33120" cy="5256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9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9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879640" y="237996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78" y="0"/>
                  </a:moveTo>
                  <a:lnTo>
                    <a:pt x="0" y="41"/>
                  </a:lnTo>
                  <a:lnTo>
                    <a:pt x="0" y="63"/>
                  </a:lnTo>
                  <a:lnTo>
                    <a:pt x="78" y="21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2976480" y="242100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5"/>
                  </a:move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3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76480" y="2432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1"/>
                  </a:moveTo>
                  <a:lnTo>
                    <a:pt x="16" y="3"/>
                  </a:lnTo>
                  <a:lnTo>
                    <a:pt x="12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904840" y="2392560"/>
              <a:ext cx="155520" cy="85680"/>
            </a:xfrm>
            <a:custGeom>
              <a:avLst/>
              <a:gdLst/>
              <a:ahLst/>
              <a:rect l="l" t="t" r="r" b="b"/>
              <a:pathLst>
                <a:path w="98" h="54">
                  <a:moveTo>
                    <a:pt x="97" y="10"/>
                  </a:moveTo>
                  <a:lnTo>
                    <a:pt x="77" y="0"/>
                  </a:lnTo>
                  <a:lnTo>
                    <a:pt x="0" y="42"/>
                  </a:lnTo>
                  <a:lnTo>
                    <a:pt x="20" y="53"/>
                  </a:lnTo>
                  <a:lnTo>
                    <a:pt x="97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935080" y="2411640"/>
              <a:ext cx="125280" cy="100080"/>
            </a:xfrm>
            <a:custGeom>
              <a:avLst/>
              <a:gdLst/>
              <a:ahLst/>
              <a:rect l="l" t="t" r="r" b="b"/>
              <a:pathLst>
                <a:path w="79" h="63">
                  <a:moveTo>
                    <a:pt x="78" y="0"/>
                  </a:moveTo>
                  <a:lnTo>
                    <a:pt x="0" y="41"/>
                  </a:lnTo>
                  <a:lnTo>
                    <a:pt x="0" y="62"/>
                  </a:lnTo>
                  <a:lnTo>
                    <a:pt x="78" y="20"/>
                  </a:lnTo>
                  <a:lnTo>
                    <a:pt x="78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2958840" y="230796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9541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2"/>
                  </a:moveTo>
                  <a:lnTo>
                    <a:pt x="16" y="10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2"/>
                  </a:lnTo>
                  <a:lnTo>
                    <a:pt x="9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10"/>
                  </a:lnTo>
                  <a:lnTo>
                    <a:pt x="6" y="12"/>
                  </a:lnTo>
                  <a:lnTo>
                    <a:pt x="6" y="15"/>
                  </a:lnTo>
                  <a:lnTo>
                    <a:pt x="9" y="12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541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8" y="15"/>
                  </a:lnTo>
                  <a:lnTo>
                    <a:pt x="8" y="12"/>
                  </a:lnTo>
                  <a:lnTo>
                    <a:pt x="0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968560" y="231804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6" y="13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968560" y="23194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2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7000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981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9"/>
                  </a:lnTo>
                  <a:lnTo>
                    <a:pt x="4" y="12"/>
                  </a:lnTo>
                  <a:lnTo>
                    <a:pt x="6" y="13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98116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8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8" y="13"/>
                  </a:lnTo>
                  <a:lnTo>
                    <a:pt x="5" y="12"/>
                  </a:lnTo>
                  <a:lnTo>
                    <a:pt x="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98260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5"/>
                  </a:lnTo>
                  <a:lnTo>
                    <a:pt x="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1" y="15"/>
                  </a:moveTo>
                  <a:lnTo>
                    <a:pt x="14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1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962080" y="23212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3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74680" y="2327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1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5" y="0"/>
                  </a:lnTo>
                  <a:lnTo>
                    <a:pt x="7" y="1"/>
                  </a:lnTo>
                  <a:lnTo>
                    <a:pt x="10" y="2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022560" y="235116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8"/>
                  </a:moveTo>
                  <a:lnTo>
                    <a:pt x="1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2" y="4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8" y="12"/>
                  </a:lnTo>
                  <a:lnTo>
                    <a:pt x="4" y="11"/>
                  </a:lnTo>
                  <a:lnTo>
                    <a:pt x="1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977920" y="2273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0" y="11"/>
                  </a:moveTo>
                  <a:lnTo>
                    <a:pt x="20" y="0"/>
                  </a:lnTo>
                  <a:lnTo>
                    <a:pt x="20" y="21"/>
                  </a:lnTo>
                  <a:lnTo>
                    <a:pt x="0" y="33"/>
                  </a:lnTo>
                  <a:lnTo>
                    <a:pt x="0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73160" y="22654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14"/>
                  </a:moveTo>
                  <a:lnTo>
                    <a:pt x="13" y="11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3" y="4"/>
                  </a:lnTo>
                  <a:lnTo>
                    <a:pt x="12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7316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0" y="7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4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4960" y="2270520"/>
              <a:ext cx="2664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2" y="10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3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2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2880" y="227340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3" y="10"/>
                  </a:moveTo>
                  <a:lnTo>
                    <a:pt x="1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6" y="12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8756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9"/>
                  </a:moveTo>
                  <a:lnTo>
                    <a:pt x="3" y="7"/>
                  </a:lnTo>
                  <a:lnTo>
                    <a:pt x="0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9" y="0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9" y="14"/>
                  </a:lnTo>
                  <a:lnTo>
                    <a:pt x="3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866680" y="22687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15"/>
                  </a:moveTo>
                  <a:lnTo>
                    <a:pt x="13" y="12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3" y="5"/>
                  </a:lnTo>
                  <a:lnTo>
                    <a:pt x="12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9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866680" y="22705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" y="10"/>
                  </a:move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4" y="12"/>
                  </a:lnTo>
                  <a:lnTo>
                    <a:pt x="1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879640" y="22752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0" y="15"/>
                  </a:moveTo>
                  <a:lnTo>
                    <a:pt x="13" y="12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5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879640" y="227664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3" y="10"/>
                  </a:moveTo>
                  <a:lnTo>
                    <a:pt x="1" y="6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4" y="11"/>
                  </a:lnTo>
                  <a:lnTo>
                    <a:pt x="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852640" y="2211480"/>
              <a:ext cx="158760" cy="8280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0" y="10"/>
                  </a:moveTo>
                  <a:lnTo>
                    <a:pt x="19" y="0"/>
                  </a:lnTo>
                  <a:lnTo>
                    <a:pt x="99" y="40"/>
                  </a:lnTo>
                  <a:lnTo>
                    <a:pt x="78" y="51"/>
                  </a:lnTo>
                  <a:lnTo>
                    <a:pt x="0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852640" y="222588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0" y="0"/>
                  </a:moveTo>
                  <a:lnTo>
                    <a:pt x="79" y="41"/>
                  </a:lnTo>
                  <a:lnTo>
                    <a:pt x="79" y="63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738160" y="237204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0" y="11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0" y="33"/>
                  </a:lnTo>
                  <a:lnTo>
                    <a:pt x="20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904840" y="2459160"/>
              <a:ext cx="32040" cy="5256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769840" y="2322720"/>
              <a:ext cx="123840" cy="10332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76" y="0"/>
                  </a:moveTo>
                  <a:lnTo>
                    <a:pt x="0" y="42"/>
                  </a:lnTo>
                  <a:lnTo>
                    <a:pt x="0" y="64"/>
                  </a:lnTo>
                  <a:lnTo>
                    <a:pt x="77" y="21"/>
                  </a:lnTo>
                  <a:lnTo>
                    <a:pt x="7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041640" y="23320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0"/>
                  </a:moveTo>
                  <a:lnTo>
                    <a:pt x="16" y="8"/>
                  </a:lnTo>
                  <a:lnTo>
                    <a:pt x="12" y="14"/>
                  </a:ln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987640" y="2294280"/>
              <a:ext cx="47520" cy="23760"/>
            </a:xfrm>
            <a:custGeom>
              <a:avLst/>
              <a:gdLst/>
              <a:ahLst/>
              <a:rect l="l" t="t" r="r" b="b"/>
              <a:pathLst>
                <a:path w="30" h="15">
                  <a:moveTo>
                    <a:pt x="19" y="0"/>
                  </a:moveTo>
                  <a:lnTo>
                    <a:pt x="29" y="4"/>
                  </a:lnTo>
                  <a:lnTo>
                    <a:pt x="10" y="14"/>
                  </a:lnTo>
                  <a:lnTo>
                    <a:pt x="0" y="9"/>
                  </a:lnTo>
                  <a:lnTo>
                    <a:pt x="1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987640" y="2308320"/>
              <a:ext cx="27000" cy="399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19"/>
                  </a:moveTo>
                  <a:lnTo>
                    <a:pt x="16" y="24"/>
                  </a:lnTo>
                  <a:lnTo>
                    <a:pt x="16" y="6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003480" y="230040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19" y="20"/>
                  </a:moveTo>
                  <a:lnTo>
                    <a:pt x="0" y="29"/>
                  </a:lnTo>
                  <a:lnTo>
                    <a:pt x="0" y="9"/>
                  </a:lnTo>
                  <a:lnTo>
                    <a:pt x="19" y="0"/>
                  </a:lnTo>
                  <a:lnTo>
                    <a:pt x="19" y="2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006720" y="2308320"/>
              <a:ext cx="33120" cy="255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4" y="0"/>
                  </a:moveTo>
                  <a:lnTo>
                    <a:pt x="20" y="5"/>
                  </a:lnTo>
                  <a:lnTo>
                    <a:pt x="16" y="12"/>
                  </a:lnTo>
                  <a:lnTo>
                    <a:pt x="7" y="15"/>
                  </a:lnTo>
                  <a:lnTo>
                    <a:pt x="0" y="9"/>
                  </a:lnTo>
                  <a:lnTo>
                    <a:pt x="14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006720" y="2321280"/>
              <a:ext cx="2664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6"/>
                  </a:moveTo>
                  <a:lnTo>
                    <a:pt x="15" y="22"/>
                  </a:lnTo>
                  <a:lnTo>
                    <a:pt x="16" y="9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022560" y="23371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1"/>
                  </a:moveTo>
                  <a:lnTo>
                    <a:pt x="2" y="7"/>
                  </a:lnTo>
                  <a:lnTo>
                    <a:pt x="9" y="9"/>
                  </a:lnTo>
                  <a:lnTo>
                    <a:pt x="13" y="15"/>
                  </a:lnTo>
                  <a:lnTo>
                    <a:pt x="16" y="14"/>
                  </a:lnTo>
                  <a:lnTo>
                    <a:pt x="13" y="6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041640" y="23385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10"/>
                  </a:moveTo>
                  <a:lnTo>
                    <a:pt x="2" y="15"/>
                  </a:lnTo>
                  <a:lnTo>
                    <a:pt x="0" y="5"/>
                  </a:lnTo>
                  <a:lnTo>
                    <a:pt x="9" y="3"/>
                  </a:lnTo>
                  <a:lnTo>
                    <a:pt x="14" y="0"/>
                  </a:lnTo>
                  <a:lnTo>
                    <a:pt x="16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08160" y="232416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8"/>
                  </a:moveTo>
                  <a:lnTo>
                    <a:pt x="16" y="15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22560" y="23353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9" y="11"/>
                  </a:moveTo>
                  <a:lnTo>
                    <a:pt x="12" y="14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9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038400" y="2325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7"/>
                  </a:moveTo>
                  <a:lnTo>
                    <a:pt x="3" y="0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0" y="7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019320" y="23194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1"/>
                  </a:moveTo>
                  <a:lnTo>
                    <a:pt x="3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7" y="11"/>
                  </a:lnTo>
                </a:path>
              </a:pathLst>
            </a:custGeom>
            <a:solidFill>
              <a:srgbClr val="9db9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847960" y="2364120"/>
              <a:ext cx="156960" cy="838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98" y="10"/>
                  </a:moveTo>
                  <a:lnTo>
                    <a:pt x="78" y="0"/>
                  </a:lnTo>
                  <a:lnTo>
                    <a:pt x="0" y="42"/>
                  </a:lnTo>
                  <a:lnTo>
                    <a:pt x="20" y="52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738160" y="2306880"/>
              <a:ext cx="154080" cy="82440"/>
            </a:xfrm>
            <a:custGeom>
              <a:avLst/>
              <a:gdLst/>
              <a:ahLst/>
              <a:rect l="l" t="t" r="r" b="b"/>
              <a:pathLst>
                <a:path w="97" h="52">
                  <a:moveTo>
                    <a:pt x="96" y="10"/>
                  </a:moveTo>
                  <a:lnTo>
                    <a:pt x="76" y="0"/>
                  </a:lnTo>
                  <a:lnTo>
                    <a:pt x="0" y="40"/>
                  </a:lnTo>
                  <a:lnTo>
                    <a:pt x="19" y="51"/>
                  </a:lnTo>
                  <a:lnTo>
                    <a:pt x="96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360520" y="2337120"/>
              <a:ext cx="119160" cy="207720"/>
            </a:xfrm>
            <a:custGeom>
              <a:avLst/>
              <a:gdLst/>
              <a:ahLst/>
              <a:rect l="l" t="t" r="r" b="b"/>
              <a:pathLst>
                <a:path w="75" h="131">
                  <a:moveTo>
                    <a:pt x="74" y="39"/>
                  </a:moveTo>
                  <a:lnTo>
                    <a:pt x="0" y="0"/>
                  </a:lnTo>
                  <a:lnTo>
                    <a:pt x="0" y="90"/>
                  </a:lnTo>
                  <a:lnTo>
                    <a:pt x="74" y="130"/>
                  </a:lnTo>
                  <a:lnTo>
                    <a:pt x="74" y="39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360520" y="2192400"/>
              <a:ext cx="392040" cy="20988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246" y="39"/>
                  </a:moveTo>
                  <a:lnTo>
                    <a:pt x="171" y="0"/>
                  </a:lnTo>
                  <a:lnTo>
                    <a:pt x="0" y="91"/>
                  </a:lnTo>
                  <a:lnTo>
                    <a:pt x="74" y="131"/>
                  </a:lnTo>
                  <a:lnTo>
                    <a:pt x="246" y="3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77880" y="2256120"/>
              <a:ext cx="274680" cy="288720"/>
            </a:xfrm>
            <a:custGeom>
              <a:avLst/>
              <a:gdLst/>
              <a:ahLst/>
              <a:rect l="l" t="t" r="r" b="b"/>
              <a:pathLst>
                <a:path w="173" h="182">
                  <a:moveTo>
                    <a:pt x="172" y="0"/>
                  </a:moveTo>
                  <a:lnTo>
                    <a:pt x="0" y="90"/>
                  </a:lnTo>
                  <a:lnTo>
                    <a:pt x="0" y="181"/>
                  </a:lnTo>
                  <a:lnTo>
                    <a:pt x="172" y="90"/>
                  </a:lnTo>
                  <a:lnTo>
                    <a:pt x="17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506320" y="2424240"/>
              <a:ext cx="238320" cy="22860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149" y="78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149" y="143"/>
                  </a:lnTo>
                  <a:lnTo>
                    <a:pt x="149" y="78"/>
                  </a:lnTo>
                </a:path>
              </a:pathLst>
            </a:custGeom>
            <a:solidFill>
              <a:srgbClr val="a19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504880" y="2303640"/>
              <a:ext cx="463680" cy="246240"/>
            </a:xfrm>
            <a:custGeom>
              <a:avLst/>
              <a:gdLst/>
              <a:ahLst/>
              <a:rect l="l" t="t" r="r" b="b"/>
              <a:pathLst>
                <a:path w="292" h="155">
                  <a:moveTo>
                    <a:pt x="291" y="79"/>
                  </a:moveTo>
                  <a:lnTo>
                    <a:pt x="141" y="0"/>
                  </a:lnTo>
                  <a:lnTo>
                    <a:pt x="0" y="74"/>
                  </a:lnTo>
                  <a:lnTo>
                    <a:pt x="149" y="154"/>
                  </a:lnTo>
                  <a:lnTo>
                    <a:pt x="291" y="79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743200" y="2428920"/>
              <a:ext cx="226800" cy="223920"/>
            </a:xfrm>
            <a:custGeom>
              <a:avLst/>
              <a:gdLst/>
              <a:ahLst/>
              <a:rect l="l" t="t" r="r" b="b"/>
              <a:pathLst>
                <a:path w="143" h="141">
                  <a:moveTo>
                    <a:pt x="142" y="0"/>
                  </a:moveTo>
                  <a:lnTo>
                    <a:pt x="0" y="75"/>
                  </a:lnTo>
                  <a:lnTo>
                    <a:pt x="0" y="140"/>
                  </a:lnTo>
                  <a:lnTo>
                    <a:pt x="142" y="65"/>
                  </a:lnTo>
                  <a:lnTo>
                    <a:pt x="142" y="0"/>
                  </a:lnTo>
                </a:path>
              </a:pathLst>
            </a:custGeom>
            <a:solidFill>
              <a:srgbClr val="3e34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522520" y="2478240"/>
              <a:ext cx="41040" cy="7164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44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522520" y="2524320"/>
              <a:ext cx="41040" cy="255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5" y="10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25" y="15"/>
                  </a:lnTo>
                  <a:lnTo>
                    <a:pt x="25" y="10"/>
                  </a:lnTo>
                </a:path>
              </a:pathLst>
            </a:custGeom>
            <a:solidFill>
              <a:srgbClr val="d0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573280" y="2505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3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624040" y="2532240"/>
              <a:ext cx="41040" cy="73080"/>
            </a:xfrm>
            <a:custGeom>
              <a:avLst/>
              <a:gdLst/>
              <a:ahLst/>
              <a:rect l="l" t="t" r="r" b="b"/>
              <a:pathLst>
                <a:path w="26" h="46">
                  <a:moveTo>
                    <a:pt x="25" y="45"/>
                  </a:moveTo>
                  <a:lnTo>
                    <a:pt x="25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674800" y="2559240"/>
              <a:ext cx="42840" cy="74520"/>
            </a:xfrm>
            <a:custGeom>
              <a:avLst/>
              <a:gdLst/>
              <a:ahLst/>
              <a:rect l="l" t="t" r="r" b="b"/>
              <a:pathLst>
                <a:path w="27" h="47">
                  <a:moveTo>
                    <a:pt x="26" y="46"/>
                  </a:moveTo>
                  <a:lnTo>
                    <a:pt x="26" y="14"/>
                  </a:lnTo>
                  <a:lnTo>
                    <a:pt x="0" y="0"/>
                  </a:lnTo>
                  <a:lnTo>
                    <a:pt x="0" y="31"/>
                  </a:lnTo>
                  <a:lnTo>
                    <a:pt x="2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361960" y="236088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361960" y="236556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361960" y="237204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361960" y="2375280"/>
              <a:ext cx="115920" cy="63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361960" y="23814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361960" y="238932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361960" y="239256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361960" y="2400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361960" y="24051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361960" y="241020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361960" y="241632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361960" y="2422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361960" y="2427480"/>
              <a:ext cx="115920" cy="604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361960" y="243396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61960" y="2440080"/>
              <a:ext cx="115920" cy="57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361960" y="244512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61960" y="2449800"/>
              <a:ext cx="115920" cy="60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361960" y="245448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361960" y="246240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361960" y="2465640"/>
              <a:ext cx="115920" cy="61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361960" y="247356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361960" y="2478240"/>
              <a:ext cx="115920" cy="5868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411280" y="2368800"/>
              <a:ext cx="27000" cy="1461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88"/>
                  </a:moveTo>
                  <a:lnTo>
                    <a:pt x="0" y="0"/>
                  </a:lnTo>
                  <a:lnTo>
                    <a:pt x="16" y="1"/>
                  </a:lnTo>
                  <a:lnTo>
                    <a:pt x="16" y="91"/>
                  </a:lnTo>
                  <a:lnTo>
                    <a:pt x="0" y="88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38280" y="23814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1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1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466720" y="239580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0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0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401560" y="2495880"/>
              <a:ext cx="157320" cy="8712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98" y="11"/>
                  </a:moveTo>
                  <a:lnTo>
                    <a:pt x="78" y="0"/>
                  </a:lnTo>
                  <a:lnTo>
                    <a:pt x="0" y="43"/>
                  </a:lnTo>
                  <a:lnTo>
                    <a:pt x="19" y="54"/>
                  </a:lnTo>
                  <a:lnTo>
                    <a:pt x="98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401560" y="2562480"/>
              <a:ext cx="32040" cy="52200"/>
            </a:xfrm>
            <a:custGeom>
              <a:avLst/>
              <a:gdLst/>
              <a:ahLst/>
              <a:rect l="l" t="t" r="r" b="b"/>
              <a:pathLst>
                <a:path w="20" h="33">
                  <a:moveTo>
                    <a:pt x="19" y="11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9" y="32"/>
                  </a:lnTo>
                  <a:lnTo>
                    <a:pt x="19" y="11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431800" y="251316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79" y="0"/>
                  </a:moveTo>
                  <a:lnTo>
                    <a:pt x="0" y="42"/>
                  </a:lnTo>
                  <a:lnTo>
                    <a:pt x="0" y="63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525400" y="25545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4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286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53188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5113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514600" y="2560680"/>
              <a:ext cx="2664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519280" y="25671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9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9" y="14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2452680" y="259416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530440" y="2557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5" y="15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5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533320" y="2559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4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3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536560" y="2560680"/>
              <a:ext cx="27000" cy="24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0"/>
                  </a:moveTo>
                  <a:lnTo>
                    <a:pt x="16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51928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4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522520" y="25639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11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2"/>
                  </a:lnTo>
                  <a:lnTo>
                    <a:pt x="12" y="11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523960" y="256896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8"/>
                  </a:lnTo>
                  <a:lnTo>
                    <a:pt x="16" y="5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6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4508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8" y="15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5"/>
                  </a:lnTo>
                  <a:lnTo>
                    <a:pt x="5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6" y="5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8" y="15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52680" y="26053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9"/>
                  </a:moveTo>
                  <a:lnTo>
                    <a:pt x="16" y="5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9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2501640" y="2620800"/>
              <a:ext cx="0" cy="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477880" y="26323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5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481120" y="2635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1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48256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3" y="10"/>
                  </a:moveTo>
                  <a:lnTo>
                    <a:pt x="13" y="5"/>
                  </a:lnTo>
                  <a:lnTo>
                    <a:pt x="16" y="5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4"/>
                  </a:lnTo>
                  <a:lnTo>
                    <a:pt x="8" y="11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46672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4" y="12"/>
                  </a:move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46996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2" y="10"/>
                  </a:moveTo>
                  <a:lnTo>
                    <a:pt x="16" y="7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2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47140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2"/>
                  </a:lnTo>
                  <a:lnTo>
                    <a:pt x="13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482560" y="2637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487600" y="2638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4" y="10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471400" y="2640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6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7" y="15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474640" y="2643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10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4" y="1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574720" y="258156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5794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2" y="8"/>
                  </a:moveTo>
                  <a:lnTo>
                    <a:pt x="14" y="6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8" y="12"/>
                  </a:lnTo>
                  <a:lnTo>
                    <a:pt x="11" y="11"/>
                  </a:lnTo>
                  <a:lnTo>
                    <a:pt x="12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581200" y="258624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8" y="15"/>
                  </a:lnTo>
                  <a:lnTo>
                    <a:pt x="13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562120" y="258768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4" y="15"/>
                  </a:moveTo>
                  <a:lnTo>
                    <a:pt x="1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4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566800" y="258948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4" y="8"/>
                  </a:moveTo>
                  <a:lnTo>
                    <a:pt x="16" y="7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5682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16" y="8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581200" y="25848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6" y="14"/>
                  </a:moveTo>
                  <a:lnTo>
                    <a:pt x="2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570040" y="25927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3" y="8"/>
                  </a:moveTo>
                  <a:lnTo>
                    <a:pt x="14" y="7"/>
                  </a:lnTo>
                  <a:lnTo>
                    <a:pt x="16" y="4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3" y="8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428560" y="261468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20"/>
                  </a:moveTo>
                  <a:lnTo>
                    <a:pt x="17" y="3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0" y="2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420640" y="2624400"/>
              <a:ext cx="34920" cy="25200"/>
            </a:xfrm>
            <a:custGeom>
              <a:avLst/>
              <a:gdLst/>
              <a:ahLst/>
              <a:rect l="l" t="t" r="r" b="b"/>
              <a:pathLst>
                <a:path w="22" h="16">
                  <a:moveTo>
                    <a:pt x="6" y="0"/>
                  </a:moveTo>
                  <a:lnTo>
                    <a:pt x="0" y="5"/>
                  </a:lnTo>
                  <a:lnTo>
                    <a:pt x="3" y="12"/>
                  </a:lnTo>
                  <a:lnTo>
                    <a:pt x="13" y="15"/>
                  </a:lnTo>
                  <a:lnTo>
                    <a:pt x="21" y="9"/>
                  </a:lnTo>
                  <a:lnTo>
                    <a:pt x="6" y="0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438280" y="263880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6" y="15"/>
                  </a:moveTo>
                  <a:lnTo>
                    <a:pt x="0" y="20"/>
                  </a:lnTo>
                  <a:lnTo>
                    <a:pt x="0" y="9"/>
                  </a:lnTo>
                  <a:lnTo>
                    <a:pt x="4" y="3"/>
                  </a:lnTo>
                  <a:lnTo>
                    <a:pt x="16" y="0"/>
                  </a:lnTo>
                  <a:lnTo>
                    <a:pt x="16" y="15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11280" y="26514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10"/>
                  </a:moveTo>
                  <a:lnTo>
                    <a:pt x="15" y="7"/>
                  </a:lnTo>
                  <a:lnTo>
                    <a:pt x="7" y="9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6"/>
                  </a:lnTo>
                  <a:lnTo>
                    <a:pt x="17" y="0"/>
                  </a:lnTo>
                  <a:lnTo>
                    <a:pt x="17" y="1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441520" y="263880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8"/>
                  </a:moveTo>
                  <a:lnTo>
                    <a:pt x="0" y="15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8"/>
                  </a:lnTo>
                </a:path>
              </a:pathLst>
            </a:custGeom>
            <a:solidFill>
              <a:srgbClr val="6e8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395440" y="264348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0" y="11"/>
                  </a:moveTo>
                  <a:lnTo>
                    <a:pt x="9" y="15"/>
                  </a:lnTo>
                  <a:lnTo>
                    <a:pt x="27" y="3"/>
                  </a:lnTo>
                  <a:lnTo>
                    <a:pt x="11" y="0"/>
                  </a:lnTo>
                  <a:lnTo>
                    <a:pt x="0" y="11"/>
                  </a:lnTo>
                </a:path>
              </a:pathLst>
            </a:custGeom>
            <a:solidFill>
              <a:srgbClr val="f93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417760" y="262908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7" y="8"/>
                  </a:moveTo>
                  <a:lnTo>
                    <a:pt x="6" y="0"/>
                  </a:lnTo>
                  <a:lnTo>
                    <a:pt x="0" y="8"/>
                  </a:lnTo>
                  <a:lnTo>
                    <a:pt x="8" y="15"/>
                  </a:lnTo>
                  <a:lnTo>
                    <a:pt x="17" y="8"/>
                  </a:lnTo>
                </a:path>
              </a:pathLst>
            </a:custGeom>
            <a:solidFill>
              <a:srgbClr val="cee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452680" y="2524320"/>
              <a:ext cx="156960" cy="82440"/>
            </a:xfrm>
            <a:custGeom>
              <a:avLst/>
              <a:gdLst/>
              <a:ahLst/>
              <a:rect l="l" t="t" r="r" b="b"/>
              <a:pathLst>
                <a:path w="99" h="52">
                  <a:moveTo>
                    <a:pt x="98" y="10"/>
                  </a:moveTo>
                  <a:lnTo>
                    <a:pt x="77" y="0"/>
                  </a:lnTo>
                  <a:lnTo>
                    <a:pt x="0" y="40"/>
                  </a:lnTo>
                  <a:lnTo>
                    <a:pt x="20" y="51"/>
                  </a:lnTo>
                  <a:lnTo>
                    <a:pt x="98" y="1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482560" y="2541960"/>
              <a:ext cx="127080" cy="98280"/>
            </a:xfrm>
            <a:custGeom>
              <a:avLst/>
              <a:gdLst/>
              <a:ahLst/>
              <a:rect l="l" t="t" r="r" b="b"/>
              <a:pathLst>
                <a:path w="80" h="62">
                  <a:moveTo>
                    <a:pt x="79" y="0"/>
                  </a:moveTo>
                  <a:lnTo>
                    <a:pt x="0" y="40"/>
                  </a:lnTo>
                  <a:lnTo>
                    <a:pt x="0" y="61"/>
                  </a:lnTo>
                  <a:lnTo>
                    <a:pt x="79" y="20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452680" y="2589480"/>
              <a:ext cx="31680" cy="5076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9" y="1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19" y="31"/>
                  </a:lnTo>
                  <a:lnTo>
                    <a:pt x="19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428560" y="2608560"/>
              <a:ext cx="4464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9" y="0"/>
                  </a:moveTo>
                  <a:lnTo>
                    <a:pt x="0" y="5"/>
                  </a:lnTo>
                  <a:lnTo>
                    <a:pt x="17" y="15"/>
                  </a:lnTo>
                  <a:lnTo>
                    <a:pt x="27" y="9"/>
                  </a:lnTo>
                  <a:lnTo>
                    <a:pt x="9" y="0"/>
                  </a:lnTo>
                </a:path>
              </a:pathLst>
            </a:custGeom>
            <a:solidFill>
              <a:srgbClr val="fc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455560" y="26226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19"/>
                  </a:moveTo>
                  <a:lnTo>
                    <a:pt x="0" y="2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6" y="19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552400" y="2578320"/>
              <a:ext cx="160560" cy="85680"/>
            </a:xfrm>
            <a:custGeom>
              <a:avLst/>
              <a:gdLst/>
              <a:ahLst/>
              <a:rect l="l" t="t" r="r" b="b"/>
              <a:pathLst>
                <a:path w="101" h="54">
                  <a:moveTo>
                    <a:pt x="100" y="11"/>
                  </a:moveTo>
                  <a:lnTo>
                    <a:pt x="79" y="0"/>
                  </a:lnTo>
                  <a:lnTo>
                    <a:pt x="0" y="41"/>
                  </a:lnTo>
                  <a:lnTo>
                    <a:pt x="20" y="53"/>
                  </a:lnTo>
                  <a:lnTo>
                    <a:pt x="100" y="11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554200" y="2643480"/>
              <a:ext cx="33120" cy="5220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20" y="1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0" y="32"/>
                  </a:lnTo>
                  <a:lnTo>
                    <a:pt x="20" y="10"/>
                  </a:lnTo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585880" y="2595960"/>
              <a:ext cx="127080" cy="9972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9" y="0"/>
                  </a:moveTo>
                  <a:lnTo>
                    <a:pt x="0" y="40"/>
                  </a:lnTo>
                  <a:lnTo>
                    <a:pt x="0" y="62"/>
                  </a:lnTo>
                  <a:lnTo>
                    <a:pt x="79" y="21"/>
                  </a:lnTo>
                  <a:lnTo>
                    <a:pt x="79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355840" y="2337120"/>
              <a:ext cx="27000" cy="15084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0" y="91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4"/>
                  </a:lnTo>
                  <a:lnTo>
                    <a:pt x="0" y="91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382840" y="2354400"/>
              <a:ext cx="2664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0" y="89"/>
                  </a:moveTo>
                  <a:lnTo>
                    <a:pt x="0" y="0"/>
                  </a:lnTo>
                  <a:lnTo>
                    <a:pt x="16" y="3"/>
                  </a:lnTo>
                  <a:lnTo>
                    <a:pt x="16" y="93"/>
                  </a:lnTo>
                  <a:lnTo>
                    <a:pt x="0" y="89"/>
                  </a:lnTo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398680" y="265608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10"/>
                  </a:moveTo>
                  <a:lnTo>
                    <a:pt x="12" y="14"/>
                  </a:lnTo>
                  <a:lnTo>
                    <a:pt x="16" y="4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90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2" name="health%20cardiogram" descr=""/>
          <p:cNvPicPr/>
          <p:nvPr/>
        </p:nvPicPr>
        <p:blipFill>
          <a:blip r:embed="rId1"/>
          <a:stretch/>
        </p:blipFill>
        <p:spPr>
          <a:xfrm>
            <a:off x="1689120" y="1576440"/>
            <a:ext cx="458640" cy="485640"/>
          </a:xfrm>
          <a:prstGeom prst="rect">
            <a:avLst/>
          </a:prstGeom>
          <a:ln w="0">
            <a:noFill/>
          </a:ln>
        </p:spPr>
      </p:pic>
      <p:pic>
        <p:nvPicPr>
          <p:cNvPr id="1763" name="health%20syringe" descr=""/>
          <p:cNvPicPr/>
          <p:nvPr/>
        </p:nvPicPr>
        <p:blipFill>
          <a:blip r:embed="rId2"/>
          <a:stretch/>
        </p:blipFill>
        <p:spPr>
          <a:xfrm>
            <a:off x="1319040" y="1893960"/>
            <a:ext cx="712800" cy="365040"/>
          </a:xfrm>
          <a:prstGeom prst="rect">
            <a:avLst/>
          </a:prstGeom>
          <a:ln w="0">
            <a:noFill/>
          </a:ln>
        </p:spPr>
      </p:pic>
      <p:sp>
        <p:nvSpPr>
          <p:cNvPr id="1764" name=""/>
          <p:cNvSpPr/>
          <p:nvPr/>
        </p:nvSpPr>
        <p:spPr>
          <a:xfrm flipH="1" rot="19860000">
            <a:off x="2157840" y="12348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0066cc"/>
          </a:solidFill>
          <a:ln w="0">
            <a:noFill/>
          </a:ln>
          <a:effectLst>
            <a:outerShdw dist="89808" dir="4916091" blurRad="0" rotWithShape="0">
              <a:srgbClr val="00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5" name="health%20pills" descr=""/>
          <p:cNvPicPr/>
          <p:nvPr/>
        </p:nvPicPr>
        <p:blipFill>
          <a:blip r:embed="rId3"/>
          <a:stretch/>
        </p:blipFill>
        <p:spPr>
          <a:xfrm>
            <a:off x="2529000" y="126540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766" name="health%20pills" descr=""/>
          <p:cNvPicPr/>
          <p:nvPr/>
        </p:nvPicPr>
        <p:blipFill>
          <a:blip r:embed="rId4"/>
          <a:stretch/>
        </p:blipFill>
        <p:spPr>
          <a:xfrm>
            <a:off x="2706840" y="1328760"/>
            <a:ext cx="171360" cy="333360"/>
          </a:xfrm>
          <a:prstGeom prst="rect">
            <a:avLst/>
          </a:prstGeom>
          <a:ln w="0">
            <a:noFill/>
          </a:ln>
        </p:spPr>
      </p:pic>
      <p:pic>
        <p:nvPicPr>
          <p:cNvPr id="1767" name="health%20beaker%20+%20tt" descr=""/>
          <p:cNvPicPr/>
          <p:nvPr/>
        </p:nvPicPr>
        <p:blipFill>
          <a:blip r:embed="rId5"/>
          <a:stretch/>
        </p:blipFill>
        <p:spPr>
          <a:xfrm>
            <a:off x="835200" y="1987560"/>
            <a:ext cx="377640" cy="561960"/>
          </a:xfrm>
          <a:prstGeom prst="rect">
            <a:avLst/>
          </a:prstGeom>
          <a:ln w="0">
            <a:noFill/>
          </a:ln>
        </p:spPr>
      </p:pic>
      <p:pic>
        <p:nvPicPr>
          <p:cNvPr id="1768" name="build001" descr=""/>
          <p:cNvPicPr/>
          <p:nvPr/>
        </p:nvPicPr>
        <p:blipFill>
          <a:blip r:embed="rId6"/>
          <a:stretch/>
        </p:blipFill>
        <p:spPr>
          <a:xfrm>
            <a:off x="3490920" y="2967120"/>
            <a:ext cx="380880" cy="503280"/>
          </a:xfrm>
          <a:prstGeom prst="rect">
            <a:avLst/>
          </a:prstGeom>
          <a:ln w="0">
            <a:noFill/>
          </a:ln>
        </p:spPr>
      </p:pic>
      <p:sp>
        <p:nvSpPr>
          <p:cNvPr id="1769" name=""/>
          <p:cNvSpPr/>
          <p:nvPr/>
        </p:nvSpPr>
        <p:spPr>
          <a:xfrm>
            <a:off x="1401840" y="3537000"/>
            <a:ext cx="693720" cy="376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H="1" rot="19860000">
            <a:off x="1730880" y="385560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ff9900"/>
          </a:solidFill>
          <a:ln w="0">
            <a:noFill/>
          </a:ln>
          <a:effectLst>
            <a:outerShdw dist="89808" dir="4916091" blurRad="0" rotWithShape="0">
              <a:srgbClr val="b4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629080" y="4249800"/>
            <a:ext cx="674640" cy="352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V="1">
            <a:off x="1397160" y="3351240"/>
            <a:ext cx="357120" cy="18720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035000" y="4206960"/>
            <a:ext cx="10810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g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2418840" y="1693800"/>
            <a:ext cx="530280" cy="5954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 rot="19860000">
            <a:off x="5688360" y="4463640"/>
            <a:ext cx="1098720" cy="530280"/>
          </a:xfrm>
          <a:prstGeom prst="parallelogram">
            <a:avLst>
              <a:gd name="adj" fmla="val 62667"/>
            </a:avLst>
          </a:prstGeom>
          <a:solidFill>
            <a:srgbClr val="66bca4"/>
          </a:solidFill>
          <a:ln w="0">
            <a:noFill/>
          </a:ln>
          <a:effectLst>
            <a:outerShdw dist="89808" dir="4916091" blurRad="0" rotWithShape="0">
              <a:srgbClr val="00715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278400" y="4175280"/>
            <a:ext cx="12639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 flipV="1">
            <a:off x="2595600" y="3485880"/>
            <a:ext cx="738000" cy="4078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703680" y="5348160"/>
            <a:ext cx="280800" cy="1429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4749840" y="4740120"/>
            <a:ext cx="309600" cy="1573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165720" y="3971880"/>
            <a:ext cx="304920" cy="13824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013520" y="3486240"/>
            <a:ext cx="304920" cy="15552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765920" y="3033720"/>
            <a:ext cx="343080" cy="166680"/>
          </a:xfrm>
          <a:prstGeom prst="line">
            <a:avLst/>
          </a:prstGeom>
          <a:ln w="1260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3" name="4" descr=""/>
          <p:cNvPicPr/>
          <p:nvPr/>
        </p:nvPicPr>
        <p:blipFill>
          <a:blip r:embed="rId7"/>
          <a:srcRect l="11821" t="30086" r="15043" b="25774"/>
          <a:stretch/>
        </p:blipFill>
        <p:spPr>
          <a:xfrm>
            <a:off x="5937120" y="4460760"/>
            <a:ext cx="622440" cy="374760"/>
          </a:xfrm>
          <a:prstGeom prst="rect">
            <a:avLst/>
          </a:prstGeom>
          <a:ln w="0">
            <a:noFill/>
          </a:ln>
        </p:spPr>
      </p:pic>
      <p:sp>
        <p:nvSpPr>
          <p:cNvPr id="1784" name=""/>
          <p:cNvSpPr/>
          <p:nvPr/>
        </p:nvSpPr>
        <p:spPr>
          <a:xfrm>
            <a:off x="6681240" y="979560"/>
            <a:ext cx="1515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yers/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5" name="build002" descr="Building: Official Building"/>
          <p:cNvPicPr/>
          <p:nvPr/>
        </p:nvPicPr>
        <p:blipFill>
          <a:blip r:embed="rId8"/>
          <a:stretch/>
        </p:blipFill>
        <p:spPr>
          <a:xfrm>
            <a:off x="2030400" y="3749760"/>
            <a:ext cx="544680" cy="57456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9"/>
          <a:stretch/>
        </p:blipFill>
        <p:spPr>
          <a:xfrm>
            <a:off x="4915080" y="2170080"/>
            <a:ext cx="529920" cy="441360"/>
          </a:xfrm>
          <a:prstGeom prst="rect">
            <a:avLst/>
          </a:prstGeom>
          <a:ln w="0">
            <a:noFill/>
          </a:ln>
        </p:spPr>
      </p:pic>
      <p:grpSp>
        <p:nvGrpSpPr>
          <p:cNvPr id="1787" name=""/>
          <p:cNvGrpSpPr/>
          <p:nvPr/>
        </p:nvGrpSpPr>
        <p:grpSpPr>
          <a:xfrm>
            <a:off x="3049560" y="4894200"/>
            <a:ext cx="763200" cy="581040"/>
            <a:chOff x="3049560" y="4894200"/>
            <a:chExt cx="763200" cy="581040"/>
          </a:xfrm>
        </p:grpSpPr>
        <p:pic>
          <p:nvPicPr>
            <p:cNvPr id="1788" name="" descr=""/>
            <p:cNvPicPr/>
            <p:nvPr/>
          </p:nvPicPr>
          <p:blipFill>
            <a:blip r:embed="rId10"/>
            <a:stretch/>
          </p:blipFill>
          <p:spPr>
            <a:xfrm>
              <a:off x="3049560" y="495144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female_doctor" descr=""/>
            <p:cNvPicPr/>
            <p:nvPr/>
          </p:nvPicPr>
          <p:blipFill>
            <a:blip r:embed="rId11"/>
            <a:stretch/>
          </p:blipFill>
          <p:spPr>
            <a:xfrm>
              <a:off x="3384360" y="489420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0" name=""/>
          <p:cNvGrpSpPr/>
          <p:nvPr/>
        </p:nvGrpSpPr>
        <p:grpSpPr>
          <a:xfrm>
            <a:off x="4119480" y="4272120"/>
            <a:ext cx="763200" cy="581040"/>
            <a:chOff x="4119480" y="4272120"/>
            <a:chExt cx="763200" cy="581040"/>
          </a:xfrm>
        </p:grpSpPr>
        <p:pic>
          <p:nvPicPr>
            <p:cNvPr id="1791" name="" descr=""/>
            <p:cNvPicPr/>
            <p:nvPr/>
          </p:nvPicPr>
          <p:blipFill>
            <a:blip r:embed="rId12"/>
            <a:stretch/>
          </p:blipFill>
          <p:spPr>
            <a:xfrm>
              <a:off x="4119480" y="4329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2" name="female_doctor" descr=""/>
            <p:cNvPicPr/>
            <p:nvPr/>
          </p:nvPicPr>
          <p:blipFill>
            <a:blip r:embed="rId13"/>
            <a:stretch/>
          </p:blipFill>
          <p:spPr>
            <a:xfrm>
              <a:off x="4454280" y="4272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3" name=""/>
          <p:cNvGrpSpPr/>
          <p:nvPr/>
        </p:nvGrpSpPr>
        <p:grpSpPr>
          <a:xfrm>
            <a:off x="5479920" y="3506760"/>
            <a:ext cx="763200" cy="581040"/>
            <a:chOff x="5479920" y="3506760"/>
            <a:chExt cx="763200" cy="581040"/>
          </a:xfrm>
        </p:grpSpPr>
        <p:pic>
          <p:nvPicPr>
            <p:cNvPr id="1794" name="" descr=""/>
            <p:cNvPicPr/>
            <p:nvPr/>
          </p:nvPicPr>
          <p:blipFill>
            <a:blip r:embed="rId14"/>
            <a:stretch/>
          </p:blipFill>
          <p:spPr>
            <a:xfrm>
              <a:off x="5479920" y="356400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5" name="female_doctor" descr=""/>
            <p:cNvPicPr/>
            <p:nvPr/>
          </p:nvPicPr>
          <p:blipFill>
            <a:blip r:embed="rId15"/>
            <a:stretch/>
          </p:blipFill>
          <p:spPr>
            <a:xfrm>
              <a:off x="5814720" y="350676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6" name=""/>
          <p:cNvGrpSpPr/>
          <p:nvPr/>
        </p:nvGrpSpPr>
        <p:grpSpPr>
          <a:xfrm>
            <a:off x="6392880" y="3016080"/>
            <a:ext cx="763200" cy="581040"/>
            <a:chOff x="6392880" y="3016080"/>
            <a:chExt cx="763200" cy="581040"/>
          </a:xfrm>
        </p:grpSpPr>
        <p:pic>
          <p:nvPicPr>
            <p:cNvPr id="1797" name="" descr=""/>
            <p:cNvPicPr/>
            <p:nvPr/>
          </p:nvPicPr>
          <p:blipFill>
            <a:blip r:embed="rId16"/>
            <a:stretch/>
          </p:blipFill>
          <p:spPr>
            <a:xfrm>
              <a:off x="6392880" y="307332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female_doctor" descr=""/>
            <p:cNvPicPr/>
            <p:nvPr/>
          </p:nvPicPr>
          <p:blipFill>
            <a:blip r:embed="rId17"/>
            <a:stretch/>
          </p:blipFill>
          <p:spPr>
            <a:xfrm>
              <a:off x="6727680" y="301608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9" name=""/>
          <p:cNvGrpSpPr/>
          <p:nvPr/>
        </p:nvGrpSpPr>
        <p:grpSpPr>
          <a:xfrm>
            <a:off x="7265880" y="2481120"/>
            <a:ext cx="763200" cy="581040"/>
            <a:chOff x="7265880" y="2481120"/>
            <a:chExt cx="763200" cy="581040"/>
          </a:xfrm>
        </p:grpSpPr>
        <p:pic>
          <p:nvPicPr>
            <p:cNvPr id="1800" name="" descr=""/>
            <p:cNvPicPr/>
            <p:nvPr/>
          </p:nvPicPr>
          <p:blipFill>
            <a:blip r:embed="rId18"/>
            <a:stretch/>
          </p:blipFill>
          <p:spPr>
            <a:xfrm>
              <a:off x="7265880" y="2538360"/>
              <a:ext cx="63468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1" name="female_doctor" descr=""/>
            <p:cNvPicPr/>
            <p:nvPr/>
          </p:nvPicPr>
          <p:blipFill>
            <a:blip r:embed="rId19"/>
            <a:stretch/>
          </p:blipFill>
          <p:spPr>
            <a:xfrm>
              <a:off x="7600680" y="2481120"/>
              <a:ext cx="4284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2" name=""/>
          <p:cNvSpPr/>
          <p:nvPr/>
        </p:nvSpPr>
        <p:spPr>
          <a:xfrm flipH="1" rot="19860000">
            <a:off x="6626880" y="4993920"/>
            <a:ext cx="1139760" cy="663480"/>
          </a:xfrm>
          <a:prstGeom prst="parallelogram">
            <a:avLst>
              <a:gd name="adj" fmla="val 56013"/>
            </a:avLst>
          </a:prstGeom>
          <a:solidFill>
            <a:srgbClr val="ffff99"/>
          </a:solidFill>
          <a:ln w="0">
            <a:noFill/>
          </a:ln>
          <a:effectLst>
            <a:outerShdw dist="89808" dir="491609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3" name="" descr=""/>
          <p:cNvPicPr/>
          <p:nvPr/>
        </p:nvPicPr>
        <p:blipFill>
          <a:blip r:embed="rId20"/>
          <a:srcRect l="0" t="0" r="75226" b="0"/>
          <a:stretch/>
        </p:blipFill>
        <p:spPr>
          <a:xfrm>
            <a:off x="6916680" y="4995720"/>
            <a:ext cx="147600" cy="552600"/>
          </a:xfrm>
          <a:prstGeom prst="rect">
            <a:avLst/>
          </a:prstGeom>
          <a:ln w="0">
            <a:noFill/>
          </a:ln>
        </p:spPr>
      </p:pic>
      <p:pic>
        <p:nvPicPr>
          <p:cNvPr id="1804" name="" descr=""/>
          <p:cNvPicPr/>
          <p:nvPr/>
        </p:nvPicPr>
        <p:blipFill>
          <a:blip r:embed="rId21"/>
          <a:srcRect l="2707" t="37282" r="65990" b="0"/>
          <a:stretch/>
        </p:blipFill>
        <p:spPr>
          <a:xfrm>
            <a:off x="7389720" y="4997520"/>
            <a:ext cx="177840" cy="550800"/>
          </a:xfrm>
          <a:prstGeom prst="rect">
            <a:avLst/>
          </a:prstGeom>
          <a:ln w="0">
            <a:noFill/>
          </a:ln>
        </p:spPr>
      </p:pic>
      <p:pic>
        <p:nvPicPr>
          <p:cNvPr id="1805" name="" descr=""/>
          <p:cNvPicPr/>
          <p:nvPr/>
        </p:nvPicPr>
        <p:blipFill>
          <a:blip r:embed="rId22"/>
          <a:srcRect l="57354" t="0" r="27034" b="37937"/>
          <a:stretch/>
        </p:blipFill>
        <p:spPr>
          <a:xfrm>
            <a:off x="7221600" y="5021280"/>
            <a:ext cx="162000" cy="500040"/>
          </a:xfrm>
          <a:prstGeom prst="rect">
            <a:avLst/>
          </a:prstGeom>
          <a:ln w="0">
            <a:noFill/>
          </a:ln>
        </p:spPr>
      </p:pic>
      <p:pic>
        <p:nvPicPr>
          <p:cNvPr id="1806" name="" descr=""/>
          <p:cNvPicPr/>
          <p:nvPr/>
        </p:nvPicPr>
        <p:blipFill>
          <a:blip r:embed="rId23"/>
          <a:srcRect l="32939" t="29324" r="34349" b="0"/>
          <a:stretch/>
        </p:blipFill>
        <p:spPr>
          <a:xfrm>
            <a:off x="7048440" y="4981680"/>
            <a:ext cx="174600" cy="582480"/>
          </a:xfrm>
          <a:prstGeom prst="rect">
            <a:avLst/>
          </a:prstGeom>
          <a:ln w="0">
            <a:noFill/>
          </a:ln>
        </p:spPr>
      </p:pic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takehold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8" name=""/>
          <p:cNvSpPr/>
          <p:nvPr/>
        </p:nvSpPr>
        <p:spPr>
          <a:xfrm>
            <a:off x="1219320" y="3417840"/>
            <a:ext cx="7543800" cy="3012840"/>
          </a:xfrm>
          <a:prstGeom prst="wedgeRoundRectCallout">
            <a:avLst>
              <a:gd name="adj1" fmla="val -10064"/>
              <a:gd name="adj2" fmla="val -120310"/>
              <a:gd name="adj3" fmla="val 16667"/>
            </a:avLst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“am I being rewarded for safe and effective products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roved patient 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oup R&amp;D inves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r and transparent coverage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ear evidenc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01C9-A2B4-4E52-956E-40537C626E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0:41:45Z</dcterms:created>
  <dc:creator>pjuhn9</dc:creator>
  <dc:description/>
  <dc:language>en-US</dc:language>
  <cp:lastModifiedBy>pjuhn9</cp:lastModifiedBy>
  <dcterms:modified xsi:type="dcterms:W3CDTF">2007-09-27T11:47:20Z</dcterms:modified>
  <cp:revision>236</cp:revision>
  <dc:subject/>
  <dc:title>Payer Coverage Policy Impact on Information-rich Products and Services</dc:title>
</cp:coreProperties>
</file>