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26C0-30E5-4BE2-8FB5-ECE083EAB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DFD6-752E-4AE9-82BA-21520AFB2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FC52-5D43-414F-BB3F-42FDCA433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76BD-77EA-41D1-A547-9B16C7D04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D808-07C6-4CD2-89C9-68601EBD7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9811-5756-47D5-865D-695D28B57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BE8C-A4AA-4195-8014-D19E526D6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2558-3CE9-4ABC-BA6C-DC528BF2C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634D-0892-40BF-988D-D2CDF3D0A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AC6D-A6AC-4996-9973-9F59CFA9B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6C12-D643-4C1E-AD38-D046BAA0D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0E14-C4DE-490E-9A77-3C8E7B5C8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jnj.com/home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jnj.com/home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95280"/>
            <a:ext cx="822672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819-D902-44DD-9592-73CEC7D6D8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Johnson &amp; Johns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6281640"/>
            <a:ext cx="1981440" cy="4032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52280" y="304920"/>
            <a:ext cx="7668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1295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Johnson &amp; Johns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6281640"/>
            <a:ext cx="1981440" cy="40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251460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76680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3440" y="1142640"/>
            <a:ext cx="80802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mparative Effectiveness:           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 Manufacturer’s Perspectiv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HRQ 2007 Annual Con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tember 27,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648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ter Juhn, MD, M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ce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 and Regulatory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hnson &amp; Johnson Corporate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Brunswick, N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32-524-64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it work?  Is it saf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ulatory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evant for covered population (i.e. Medicare over 65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0" name=""/>
          <p:cNvSpPr/>
          <p:nvPr/>
        </p:nvSpPr>
        <p:spPr>
          <a:xfrm>
            <a:off x="99072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should it be used?  Who will most benef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ropriateness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ient selection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990720" y="3886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it compare?  Is it definitively bet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rlier generation of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in same class of techn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gor of comparative re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Key Questions about Produ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3" name=""/>
          <p:cNvSpPr/>
          <p:nvPr/>
        </p:nvSpPr>
        <p:spPr>
          <a:xfrm>
            <a:off x="9907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value?  Can the value be capt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it cost-effective?  Is it cost-sav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re an ROI?  When?  To Wh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CD9D-B38A-4A1B-9488-A49037BD16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vidence Challeng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ailability of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s for evidence are increa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 gaps in the existing litera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mited generalizability of trials data to real-world pract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que challenges of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inguishing operator vs. product eff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 product life-cyc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asibility of R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lusions from the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onciling “average” population effects with individual eff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lf-life” of evi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al use of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of evidence to real-world medical deci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r “accountability” for using evi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8279-CC7E-4F94-81D1-0B5832F4DE0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Promise of EB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ly developed and applied, evidence-based medicine ca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imulate the development of high quality information about treatments and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hance consistent and informed healthcare decision-making by physicians, patients, caregivers and pay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rt patient access to appropriate techn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 establish the value of medicines, medical devices, diagnostics and other health servic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the basis for optimal use of health care resour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 a more quality-focused and cost-effective healthcare system that delivers superior patient out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CC9C-BDF9-4044-A3EF-0FAA1B19F9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Perils of EB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for unintended con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ifies coverage decisions based purely on cost without regard for overall effectiveness or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eezes the pace of innovation to the current generation of produ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riminates against new techn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s to prescriptive clinical protocols that do not allow for physician judgment and consideration of patient prefere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es too narrowly on clinical morbidity or mortality, ignoring a range of other important patient-reported outcomes (ease of use, compliance, functional statu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to coverage policies occur haphazardly without clear rationale, transparency or accoun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DFAD-A75C-4313-BA53-F73E3F70677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arative Effectiven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J&amp;J’s position on comparative effectivenes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 establish the value of treat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 a more quality-focused cost-effective health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 physicians and patients make better deci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 a way for manufacturers to differentiate produ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it is not the “silver bullet” as it will not automatically solve our cost and quality challe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information from CE research be us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uld inform medical decisions, not replace medical judgment with treatment formu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l need to reconcile “average” population effects and with impacts on individuals that reflect differences in side effects, intolerance, noncompliance, and quality of lif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1D25-E6E5-479B-8846-12D18C4E59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/>
          </p:nvPr>
        </p:nvSpPr>
        <p:spPr>
          <a:xfrm>
            <a:off x="990360" y="16714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it be linked to coverage decisions by payer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uld not serve the cost containment concerns of pay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ght be most useful in informing treatment options and assigning appropriate reimbursement premiu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this information be communica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widely with all stakeholders, particularly providers and pat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 the dangers of incomplete understanding of results, particularly when communicated in an overly simplistic m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nowledge that CE information can be incomplete, misleading, or misinterpre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stakeholders be involv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e in framing the methods that will be used and prioritizing the key therapeutic are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 transparency about the processes, findings, limitations, and appropriate uses of th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arative Effectiven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44ED-AD52-4F14-BA7B-12B621D8DB9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ison of “what to what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ug to drug; drug to procedure; disease management to n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will success look like – information output vs. impact on care deliv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nical decision dilemmas vs. population econom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thesis of current evidence vs. initiating new comparative researc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itment to conduct adequately powered stu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ance from payment author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uine involvement with priority setting, methods review and communication approa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 Few Sugges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4646-5708-4E0D-97C3-0C216DA1A7D1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volving Environment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55720" y="2514600"/>
            <a:ext cx="10051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5720" y="3657600"/>
            <a:ext cx="10051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/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5720" y="4800600"/>
            <a:ext cx="10051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295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952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67652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92560" y="2514600"/>
            <a:ext cx="1600200" cy="2971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916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erage and Reimbur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idence  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urance Benefit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T – EMR, PHR, Data M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1348560" y="3848040"/>
            <a:ext cx="3429000" cy="304920"/>
          </a:xfrm>
          <a:prstGeom prst="triangle">
            <a:avLst>
              <a:gd name="adj" fmla="val 50000"/>
            </a:avLst>
          </a:prstGeom>
          <a:solidFill>
            <a:srgbClr val="1c1c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68720" y="3657600"/>
            <a:ext cx="2117880" cy="685800"/>
          </a:xfrm>
          <a:prstGeom prst="rightArrow">
            <a:avLst>
              <a:gd name="adj1" fmla="val 53241"/>
              <a:gd name="adj2" fmla="val 31196"/>
            </a:avLst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7960" y="1981080"/>
            <a:ext cx="1422360" cy="1005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rative Effec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7960" y="3983040"/>
            <a:ext cx="142236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-fo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7960" y="4986360"/>
            <a:ext cx="142236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t-Risk De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7960" y="2979720"/>
            <a:ext cx="142236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verage with Evidence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3505320"/>
            <a:ext cx="1676160" cy="129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to and Paymen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and effective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295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4382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actice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1240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ing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098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ing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44956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1814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 Pre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73BD-C90F-4E7C-BFE4-1D647DD7C1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162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306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309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310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311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331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334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337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340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343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FEA2-81CE-4BDF-8FCB-0F7E943084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404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7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548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551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552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553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573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576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579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582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585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2135160"/>
            <a:ext cx="6019560" cy="2529360"/>
          </a:xfrm>
          <a:prstGeom prst="wedgeRoundRectCallout">
            <a:avLst>
              <a:gd name="adj1" fmla="val 39657"/>
              <a:gd name="adj2" fmla="val 67416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am I getting the best car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ven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ectful/compassio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usted information about cho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er out-of-pocket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9B67-0DF7-4DC6-BB69-EC82FFFFA4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647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0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791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794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795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796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815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816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8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819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1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4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825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7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828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0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939960"/>
            <a:ext cx="6629400" cy="3134160"/>
          </a:xfrm>
          <a:prstGeom prst="wedgeRoundRectCallout">
            <a:avLst>
              <a:gd name="adj1" fmla="val -30347"/>
              <a:gd name="adj2" fmla="val 102129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vid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am I being rewarded for good work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ter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er reimbur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reased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ce to inno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hanced re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D6F2-7E55-4EFA-8977-66380153C8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890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3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1034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6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037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038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1039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058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1059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1062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4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1065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1068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1071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3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"/>
          <p:cNvSpPr/>
          <p:nvPr/>
        </p:nvSpPr>
        <p:spPr>
          <a:xfrm>
            <a:off x="1295280" y="3962520"/>
            <a:ext cx="6858000" cy="2683800"/>
          </a:xfrm>
          <a:prstGeom prst="wedgeRoundRectCallout">
            <a:avLst>
              <a:gd name="adj1" fmla="val 9898"/>
              <a:gd name="adj2" fmla="val -97180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ploye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– “am I getting value for money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 car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unhappy beneficiaries/work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lthy productive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D749-20D2-4815-9F81-58FE1CDF2D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1133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6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1277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1278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280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281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1282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301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1302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4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1305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7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1308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0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1311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3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1314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6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7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2" name=""/>
          <p:cNvSpPr/>
          <p:nvPr/>
        </p:nvSpPr>
        <p:spPr>
          <a:xfrm>
            <a:off x="838080" y="4191120"/>
            <a:ext cx="7010640" cy="2232720"/>
          </a:xfrm>
          <a:prstGeom prst="wedgeRoundRectCallout">
            <a:avLst>
              <a:gd name="adj1" fmla="val -10421"/>
              <a:gd name="adj2" fmla="val -79773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ye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– “am I only paying for effective car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ter outcomes (influence on later co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0250-548E-402A-82C3-A52F521E84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1376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9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1520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1521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523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524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1525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1526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2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544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1545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7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1548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0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1551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3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1554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6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1557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9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"/>
          <p:cNvSpPr/>
          <p:nvPr/>
        </p:nvSpPr>
        <p:spPr>
          <a:xfrm>
            <a:off x="1144440" y="2874960"/>
            <a:ext cx="7769520" cy="2333520"/>
          </a:xfrm>
          <a:prstGeom prst="wedgeRoundRectCallout">
            <a:avLst>
              <a:gd name="adj1" fmla="val 31550"/>
              <a:gd name="adj2" fmla="val -78856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gulat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– “am I protecting the public health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fe and effec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types of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roving a drug later found to be dang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approving a useful drug in a timely fash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33CC-10EC-4855-B1B9-1C5FBA200E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1619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2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1763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1764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5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766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767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1768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1769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3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1784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5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787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1788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0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1791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3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1794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6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1797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9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1800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1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2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3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1804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1805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1806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8" name=""/>
          <p:cNvSpPr/>
          <p:nvPr/>
        </p:nvSpPr>
        <p:spPr>
          <a:xfrm>
            <a:off x="1219320" y="3417840"/>
            <a:ext cx="7543800" cy="3012840"/>
          </a:xfrm>
          <a:prstGeom prst="wedgeRoundRectCallout">
            <a:avLst>
              <a:gd name="adj1" fmla="val -10064"/>
              <a:gd name="adj2" fmla="val -120310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am I being rewarded for safe and effective products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roved patient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oup R&amp;D inves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r and transparent coverag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r evidenc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75DF-D0B3-450A-9618-D2A13536E7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0:41:45Z</dcterms:created>
  <dc:creator>pjuhn9</dc:creator>
  <dc:description/>
  <dc:language>en-US</dc:language>
  <cp:lastModifiedBy>pjuhn9</cp:lastModifiedBy>
  <dcterms:modified xsi:type="dcterms:W3CDTF">2007-09-27T11:47:20Z</dcterms:modified>
  <cp:revision>236</cp:revision>
  <dc:subject/>
  <dc:title>Payer Coverage Policy Impact on Information-rich Products and Services</dc:title>
</cp:coreProperties>
</file>