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ct" ContentType="image/x-pi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B526-4DEA-43BB-8451-F233947C3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DA3A-2AAD-48A1-9742-36D3A8AFB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76C1-C8B3-43A3-9566-FBB3E7540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FD87-16A1-48AA-A07B-CC4A0C4AD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6D7E-93D4-4451-9334-B49778A4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A0B-C7AE-42B9-8221-7024B161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1D89-8426-44F3-BE5C-86BE6AEE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2795-E8D8-457F-B8C6-C3C9BCD3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BBDF-4D11-461A-BFBE-A584E95D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19A4-760F-469C-ADAF-E94CBCAF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EA84-36E4-4736-BF33-DA2BB337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C17E-52AC-4A4D-B02C-DC18D3E1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9492-CBC0-460A-A29D-5F7081D4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545F-BD7B-47F5-9020-99B2F75F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F4BF-CA6B-4EDC-9A70-8766B529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906-FF70-48EE-BD44-1D73E6D3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9D13-E011-4708-9723-30DA779F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C447-E733-4A33-ABC4-7301A169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8025-EA21-4D5B-958E-C5458F7A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0A2A-6AAD-4580-BAB2-3D9A64FB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1B52-C0A3-49F6-8A81-3622399D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99B-3902-4879-A1D8-930D2C8B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DA2-90B9-4594-A161-71265E88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174-0BD9-4D26-B794-FFBE26B1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682C-BBAA-455F-BB0E-B955665E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483-BBEA-4DCA-9A15-F497C206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C2D2-F1ED-4FC4-9798-398F68F4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E1E-5499-4296-BB31-55062111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B5CB-9827-436E-854D-BF1842E2135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262D-92F4-4D80-8C98-C3BABEB8FFF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5328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66"/>
                </a:solidFill>
                <a:latin typeface="Arial"/>
              </a:rPr>
              <a:t>Connecting to the Future:</a:t>
            </a:r>
            <a:br>
              <a:rPr sz="5000"/>
            </a:br>
            <a:br>
              <a:rPr sz="5000"/>
            </a:br>
            <a:r>
              <a:rPr b="0" lang="en-US" sz="4200" spc="-1" strike="noStrike">
                <a:solidFill>
                  <a:srgbClr val="ffcc66"/>
                </a:solidFill>
                <a:latin typeface="Arial"/>
              </a:rPr>
              <a:t>The Use of Electronic Health Information Exchange to Reduce Health Disparities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6324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 Inclusive Safety Net Pro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e of the most inclusive exchanges in the count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ta exchange agreement being used by HHS to help them resolve issues at the national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 1.5 million “AHRQ Transforming Healthcare Quality through Information Technology (5-UC1-HS016131-02), $ 1.9 million local sour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2388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One of Every Provider Institu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6840" y="220932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ublic Healt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klahoma State Department of Health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ental Healt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klahoma Department of Mental Health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d Substance Abuse Servic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spital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ahlequah City Hospita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ative American Trib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herokee Nation Health Servic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ortheastern State Universit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dian Health Servic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astings Indian Medical Cent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mmunity Health Center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EO Comm. Health Cent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ypes of eRec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unity reco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prescrib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nal health reco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610480" y="1599840"/>
            <a:ext cx="76320" cy="2189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8610480" y="3962160"/>
            <a:ext cx="763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ata to be Shared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Based on Continuity of Care Record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mograph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lergies and Rea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agno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harmac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boratory resul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muniz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istory/visi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ve health risk factors as defined by prevention science taskforce, aspirin use, cholesterol, blood pressure, alcohol abuse, tobacc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l history*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surance *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vanced directives *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lan of Care *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ypes of Provid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spit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unity Health Cent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blic Heal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ntal Health and Drug Ab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ibal Heal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ian Health Ser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ysici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ntis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armac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iropracto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nefits of Community Recor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urate history from all sources in the network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rove diagnostic spe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rease repeat tests and rule out need for other tes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rove quality from seeing activities that have occurred elsew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ordinate care as all provider share the same reco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ck clients between ED and other health facil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nefits of ePrescrib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rove patient safe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ght dru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st expensive dru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ght spel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ght do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p to date pharmacy sci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iminate drug intera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tch drug abu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scriptions sent electronically, fax, or printed out, no handwrit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see if patient is refilling prescrip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nefits of Personal Health Recor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ows patient to see their health information in an understandable w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 add information such as herbals, allergies and rea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ows patient to audit chart u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01000" cy="51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A Health Information Network Can Improve Health Disparities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617184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ather Data from Many Sources for Quality Improvement and Research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cial populations use many provid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ly aggregated data will give enough information over time to establish comprehensive health fa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a is standardized in measurement syste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a is curr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</a:rPr>
              <a:t>SMRTNET</a:t>
            </a:r>
            <a:br>
              <a:rPr sz="6000"/>
            </a:b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Secure Medical Records Transfer Network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342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An Expandable Health Information Exchange for Treatment Providers and Their Support Syste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ower cost of Care for the Uninsur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ent SMRTNET Oklahoma City ten hospital study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D reductions from network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 1,714,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duced lab  $ 351,00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duced inpatient and observation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 7,439,71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tal of $ 9,504,76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mon Science Based Prev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earch group chaired by David Satcher, National Commission on Prevention Prior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nked 25 leading prevention measures based on best science avail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ed on effectiveness and cost effectiven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blished American Journal of Preventative Medicine 200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ww.prevent.org/content/view/46/96/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klahoma Health Rank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Conditions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OK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art Disease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07.1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40.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ok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6.4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moke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6.0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0.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gh bp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8.0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4.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gh chol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2.0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3.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nge drink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3.0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4.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asures Select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5345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erven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PB+CE Sco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) Discuss Benefits of daily aspirin us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2) Measure blood pressure and trea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3) Screen for lipid disorders and trea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) Screen adults for tobacco use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ovide brief counseling, off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harmacotherapy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5) Screen those at risk for problem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rinking and provide counselin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d follow-u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eographic Pockets Can Be Identified for More Intense Effor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health problems are more intense in pockets, such as injuries, communicable diseases, and environmental influen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areas can them be more focused for interven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stomized Algorithms Can Be Develop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fferent populations may need different algorith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stem can be programmed to provide aler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ild an Electronic Health Record for the Uninsur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we are not going to insure people then we need to at least provide them with a portable electronic health reco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 be accomplished by creating a phantom insurance company and submitting claims to 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rove Funding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ts are available based on d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cial population health data can help qualify an area for these gra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alth centers can be established through some of these gra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portunities for intervention care resear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st to Oklahoman’s from Disconnected Health Recor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$ 1.2 billion in healthcare costs of $ 20.1 billion health care expenditures in Oklahoma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is a minimum of 6% of all health expenditu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,139 potential lost li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* Estimate based in U.S. Center for Medicare and Medicaid Services 2004 and medical inflation at 6.65 % through 2007. $ 1.7 billion projected by 2011 against medical costs of $ 25.8 billion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Overview of Cost Savings for Statewide Adoption of SMRTNET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5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ear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ll Oklahoma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tate Govt.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edicaid          Deaths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                       Avoid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5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007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$ 100.6 million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$ 20.1 million       $ 10.1 million     10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5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008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$ 205.1 million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$ 41.0 million       $ 19.8 million     17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5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009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$ 349.7 million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$ 69.9 million       $ 32.3 million     247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5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010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$ 539.8 million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$ 107.9 million     $ 48.2 million     325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5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011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$ 784.8 million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$ 156.9 million     $ 67.7 million     407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3505320"/>
            <a:ext cx="54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tal Cost Based on Percentage of Providers Using 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838080" y="3124080"/>
          <a:ext cx="723924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124080"/>
                    <a:ext cx="723924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" y="685800"/>
            <a:ext cx="89154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ere Are Your Health Record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309"/>
                </a:solidFill>
                <a:latin typeface="Verdana"/>
              </a:rPr>
              <a:t>Physician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309"/>
                </a:solidFill>
                <a:latin typeface="Verdana"/>
              </a:rPr>
              <a:t>Hospital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309"/>
                </a:solidFill>
                <a:latin typeface="Verdana"/>
              </a:rPr>
              <a:t>Specialist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309"/>
                </a:solidFill>
                <a:latin typeface="Verdana"/>
              </a:rPr>
              <a:t>Pharmacy (local, chain, mail 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309"/>
                </a:solidFill>
                <a:latin typeface="Verdana"/>
              </a:rPr>
              <a:t>Indigent cli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309"/>
                </a:solidFill>
                <a:latin typeface="Verdana"/>
              </a:rPr>
              <a:t>FQH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309"/>
                </a:solidFill>
                <a:latin typeface="Verdana"/>
              </a:rPr>
              <a:t>Laborat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309"/>
                </a:solidFill>
                <a:latin typeface="Verdana"/>
              </a:rPr>
              <a:t>Native American fac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309"/>
                </a:solidFill>
                <a:latin typeface="Verdana"/>
              </a:rPr>
              <a:t>Veterans Admin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309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52880" y="1314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33520" y="62485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escription Savings and Fraud and Abuse are the largest areas for potential sav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600" y="-112680"/>
            <a:ext cx="914400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st Benefits Based on Statewide SMRTNET Initi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0" y="1523880"/>
          <a:ext cx="891540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89154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summary, HIE can help reduce health disparities by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ather data from many sources for treatment, quality improvement and research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ower costs for the uninsure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ustomize algorithms for special popula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dentify “pockets” and address those specificall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uild an electronic health record for the uninsure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mprove funding by providing special population dat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0880" y="685800"/>
            <a:ext cx="7696440" cy="56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Has Scattered Record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Hospital and E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Uninsu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M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Change In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Change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Health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Community health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Native Ameri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Elde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Specialist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914400"/>
            <a:ext cx="3400560" cy="4800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5867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01"/>
                </a:solidFill>
                <a:latin typeface="Arial"/>
              </a:rPr>
              <a:t>Here is Enrico, our patient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62120" y="990720"/>
            <a:ext cx="3533760" cy="4647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V="1">
            <a:off x="5029200" y="5181120"/>
            <a:ext cx="1523880" cy="2286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47720" y="4761000"/>
            <a:ext cx="213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Foot Surg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1-15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Bone Spur remo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666880" y="1523520"/>
            <a:ext cx="1447920" cy="838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52640" y="874800"/>
            <a:ext cx="14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iagn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ith Asth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5-27-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320040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Diagnosed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BS   9-30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343400" y="761760"/>
            <a:ext cx="609480" cy="6094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53360" y="38088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hronic Heada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133360" y="4419720"/>
            <a:ext cx="1981080" cy="53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1400" y="4608360"/>
            <a:ext cx="154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agn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 Arthrit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-29-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48400" y="3124080"/>
            <a:ext cx="15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Diagn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With Depress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4-29-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648320" y="1523520"/>
            <a:ext cx="1066680" cy="6858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990720"/>
            <a:ext cx="283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rescribed medication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vated LDL Choleste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12-22-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752480" y="2971800"/>
            <a:ext cx="2362320" cy="533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2514600"/>
            <a:ext cx="2057400" cy="91440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248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01"/>
                </a:solidFill>
                <a:latin typeface="Verdana"/>
              </a:rPr>
              <a:t>Enrico has disconnected healthcare providers, records, timefram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147720" y="4761000"/>
            <a:ext cx="213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t Surg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15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ne Spur remo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52640" y="874800"/>
            <a:ext cx="14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gn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Asth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-27-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320040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gnosed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S   9-30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53360" y="38088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nic Heada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1400" y="4608360"/>
            <a:ext cx="154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gn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Arthrit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-29-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48400" y="3124080"/>
            <a:ext cx="15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gn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Depress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-29-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990720"/>
            <a:ext cx="283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cribed medication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vated LDL Choleste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-22-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1523880"/>
            <a:ext cx="91440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43400" y="761760"/>
            <a:ext cx="76212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486400" y="160020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28840" y="4190760"/>
            <a:ext cx="152388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209680" y="426672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3505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3429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4095720" cy="11667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6127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MRTnet brings them togeth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This is So Importa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r medical records are scattered. This costs lives, injuries, and significant mon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r medical system is largely paper based.  “Paper Kills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ree county ar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4.1% families under poverty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3.5% Native Americ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an family inco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ea $ 28,32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te $ 35,31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 $ 42,409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19:57:47Z</dcterms:created>
  <dc:creator>Mark Jones</dc:creator>
  <dc:description/>
  <dc:language>en-US</dc:language>
  <cp:lastModifiedBy>Jones` Mark</cp:lastModifiedBy>
  <cp:lastPrinted>2007-05-25T13:19:35Z</cp:lastPrinted>
  <dcterms:modified xsi:type="dcterms:W3CDTF">2007-09-24T21:27:52Z</dcterms:modified>
  <cp:revision>56</cp:revision>
  <dc:subject/>
  <dc:title>AHRQ Prevention Science Taskforce</dc:title>
</cp:coreProperties>
</file>