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3C2E35-478F-4F22-8639-93C7CBD1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2C1669-D76A-4E99-948A-F19E9A48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95DB74-A668-4E6A-9CC5-64C7F62D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9CC-419D-49C9-93E1-981FE4AC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BD4-03DD-4F41-84E3-9AB961ED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A99-9D5A-44FA-98E5-653DB91C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06E-ABB3-4A41-BAC2-D729B05F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1B67-22EE-4F64-A0BE-81422A20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4388-65DD-4AC4-A38A-20EBD246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4D2-E2AD-4562-9A94-6027FF33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94D3-DAF9-48FD-9A9F-A539532E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5D39-2DDF-4F15-AEC8-552B22A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B99C-769B-43CE-B609-AD962A8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5D5B-FEAA-462E-AC38-8E01A69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36F-BA7C-4B26-8C05-CE1383CA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EB8A-8658-4FE4-897E-F98A9E2A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6289-B4DD-4010-B8BA-F0301EE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DBB7-7F87-41E0-9955-51DB29A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1B9E-2A7F-4322-9406-A5665A26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CE7D-61C8-4992-BADA-26389D79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6CE-287D-4BD1-8589-4BB0BF8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714-9CD2-4389-9F2A-FFBADF6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6FC-6B66-4B52-BE08-05D6E68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6E3-5E97-4DC0-BC80-35757385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DEE-11BC-43CE-9F63-77D28060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138-2BF4-4F76-B975-EB04D48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1DF-7991-4457-867B-6A440B95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CB7B-6E64-4893-AEF6-75749FE39F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096920"/>
            <a:ext cx="8229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015-A7C5-4C44-9EB1-EBEE50E5F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T Return on Invest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valuating Progress in a Sea of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Hsu, MD, MBA, MS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Co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 September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A28-5251-4C21-A6F4-58196E3D6F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CPOE Implementation and Us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1523880"/>
          <a:ext cx="81439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143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09480" y="6127920"/>
            <a:ext cx="797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New prescriptions are defined as new prescriptions doctor wrote, can be refills for existing drugs or completely new dru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6DF-D48F-457D-9254-785BCDEC3E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HIT Use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≠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one type of HIT ≠ use of all HI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BC0-3925-417A-8F93-5E682D3D7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Information Quality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Data Availability: </a:t>
            </a:r>
            <a:br>
              <a:rPr sz="3200"/>
            </a:b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Diagnoses Completed on Visit Dat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20560" y="617220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Among office visits in department of Medicine or Family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36680" y="1225440"/>
          <a:ext cx="804852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225440"/>
                    <a:ext cx="804852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903-E119-47BC-9445-1CA223F8E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nical Benefit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Methodological Challenges for Assessing Clinical Benefits</a:t>
            </a:r>
            <a:endParaRPr b="0" lang="en-US" sz="24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of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l trends - concurrent control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- and physician-level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 pre-implementation clinical data - differentiating documentation vs.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level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te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4AD-0F2B-4EA7-AC59-300CF78A65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Methods 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 Period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4/2004-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KPNC members who continuously enrolled during the study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years and older as of 04/01/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diabetes registry as of 1st quarter of 200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ers in 5 medical centers  where KPHC implemented before 07/2006 during the study peri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eams which existed all the time during the study peri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t least one LDL measurement in pre-HIT period and one in post-HIT peri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or Measur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ce of HIT (HealthConn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xed model with random effects at PCP and Patient level, adjusted for patient age, gender, race/ethnicity, neighborhood SES, time of measurement and Medical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E16-AC09-4E52-9C34-1B5D416495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Definitions of Presence of HIT</a:t>
            </a:r>
            <a:r>
              <a:rPr b="0" lang="en-US" sz="2800" spc="-1" strike="noStrike">
                <a:solidFill>
                  <a:srgbClr val="ffe701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1: Medical center level KPHC rollout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=0: before KPHC was implemented at the first team in the medical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=1: within six months after KPHC was implemented at the first team in the medical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=2: six months after KPHC was implemented at the first team in the medical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2: Primary care team level actua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 = 0: low use (&lt;80% at team level) of eChart or KP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 = 1: starting from the first month when eChart used &gt;=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 = 2: starting from the first month when KPHC used &gt;=8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7F5-59C1-43CA-A1C2-E1AE075C7C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Mean LDL in Each Month in KPNC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371600"/>
          <a:ext cx="82296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29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289-BFFD-414C-BAB4-7D5956E756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Association between HIT and LDL 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523880"/>
          <a:ext cx="8381880" cy="3733920"/>
        </p:xfrm>
        <a:graphic>
          <a:graphicData uri="http://schemas.openxmlformats.org/drawingml/2006/table">
            <a:tbl>
              <a:tblPr/>
              <a:tblGrid>
                <a:gridCol w="2286000"/>
                <a:gridCol w="3429000"/>
                <a:gridCol w="1143000"/>
                <a:gridCol w="762120"/>
                <a:gridCol w="7617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Implementation at Medical Center (roll-out schedu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fore KPH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. group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st 6 months of KPH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+ months of KPH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Actual use by Primary Care Tea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 of total visi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HIT use (&lt;80% of visits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. group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hart used in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% of visit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PHC used in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% of vis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.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27D-132E-4E73-A871-A9C8192D19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Verdana"/>
              </a:rPr>
              <a:t>HIT Background</a:t>
            </a:r>
            <a:endParaRPr b="0" lang="en-US" sz="36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potential for transforming clinical care, especially for patients with chronic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HIT across the U.S. is limited but gro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 benefits of HIT uncle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benefits of HIT depend on how routinely and systematically clinicians use the HIT tools and result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 information on HIT effects in the ambulatory setting with commercially-available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 benefits and costs of HIT are difficult to quanti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ehensive ide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ical 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C6B-7D95-4C6C-A5E6-07E7F2F715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ost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Investment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nel/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support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upgr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d 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CCD-3F23-41F1-9644-DF4ECD133E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Other Relevant Feature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Verdana"/>
              </a:rPr>
              <a:t>Dynamic Environment</a:t>
            </a:r>
            <a:endParaRPr b="0" lang="en-US" sz="36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H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sion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e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Medical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on effe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mination of new knowled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the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 features, e.g., risk adjustment, reporting, performance incen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 m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3BB-BD10-45CC-A5EE-A5C43D70D3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potential clinical benefits related to better information at the point-of-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lear benefits associated with improvements in clinical information at the system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action benefits perhaps easiest to quantif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benefits depend market and reimbursement 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 costs beyond equipment costs can be difficult to quantif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costs also impor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/changing systems and markets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0DA-C657-46D1-A54F-469D30957A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12733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6760" y="258840"/>
            <a:ext cx="81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ummary: Need for Better Empiric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DE2-657D-41D6-B837-2891098906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HIT as Basic Infrastructur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31840" y="1371600"/>
            <a:ext cx="68785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35F-05C0-43DE-8D02-2156C43697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Preliminary Results - IMPACT Study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of Information Technology on Clinical Ca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valuation of the Technology on Quality, Safety and Efficiency of Chronic Diseas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Hsu, MD, MBA, MSCE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lana Graetz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uihui Wang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ie Huang, PhD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y Reed, DrPh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uce Fireman, MA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Selby, MD, MPH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vonne Zhou, PhD (K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im Bellows, PhD (KP C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omi Bardach, MD (UCS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lian Wimbush (UC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 Rundall, PhD (UC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bert Miller, PhD (UCS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ard Brand, PhD (UCS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Funding: AHRQ R01HS0152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1A9-9B95-4E27-B0C3-295C1F4A38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study with quasi-experimental changes in exposure to HIT, and using a pre-post analytic design with concurrent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Period: 2004-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: IDS Members with any of five chronic diseases in January 2004 (Asthma, CAD, DM, HF, Ht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e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urve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F72-7811-4C58-A774-EE73332EA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Basic HIT Tools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023840"/>
          <a:ext cx="9144000" cy="5834160"/>
        </p:xfrm>
        <a:graphic>
          <a:graphicData uri="http://schemas.openxmlformats.org/drawingml/2006/table">
            <a:tbl>
              <a:tblPr/>
              <a:tblGrid>
                <a:gridCol w="2057400"/>
                <a:gridCol w="1292400"/>
                <a:gridCol w="1935000"/>
                <a:gridCol w="1928880"/>
                <a:gridCol w="182520"/>
                <a:gridCol w="1747800"/>
              </a:tblGrid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ha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x/eRef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ons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st Availabl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ch 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ction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-Re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u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-Ent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er-alternativ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grated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integrated with other applications (i.e., need log onto each application separatel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cription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lab res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l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ing free-text visit no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ing standard note templa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l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allerg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tering orders for new prescription or ref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ing referrals or consult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ding messages to other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E09-B7FE-4FDC-9D5C-C84B148E1F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990720"/>
          <a:ext cx="9144000" cy="5686200"/>
        </p:xfrm>
        <a:graphic>
          <a:graphicData uri="http://schemas.openxmlformats.org/drawingml/2006/table">
            <a:tbl>
              <a:tblPr/>
              <a:tblGrid>
                <a:gridCol w="1996920"/>
                <a:gridCol w="71470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st Availabl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gered implementation (2005-200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ction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-Re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u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-Ent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er-alternativ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grated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Fully Integr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cription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list, allergies, lab res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ing standard note templates &amp;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 free-text visit no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 new prescription or refills with decision 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ing Disease-specific sets (drugs and lab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ding messages to other providers &amp; 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esting referrals or consult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ding and receiving messages from pati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int-of-care access to decision-support tools– including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ine references and resources for current treatment guidelin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Management Institute protocols, and standard tests/scree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KP HealthConnect Ambulatory Su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D76-4399-40DD-97FA-57219C06A0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Potential Benefits of HIT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information availability (value of inform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benefits: e.g., greater efficiency, lower administrative costs, better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191120"/>
            <a:ext cx="685800" cy="609480"/>
          </a:xfrm>
          <a:prstGeom prst="downArrow">
            <a:avLst>
              <a:gd name="adj1" fmla="val 46296"/>
              <a:gd name="adj2" fmla="val 46093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4840" y="5159520"/>
            <a:ext cx="76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predicated on clinician use of HI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38B-E1CB-46FA-8760-2440210F8B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HIT Use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HIT Implementation and Us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295280"/>
          <a:ext cx="793440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9344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825120" y="556272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Among office visits in department of Medicine or Family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6DC-6412-4517-99AE-E62C56AD48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9:36:56Z</dcterms:created>
  <dc:creator>vcf</dc:creator>
  <dc:description/>
  <dc:language>en-US</dc:language>
  <cp:lastModifiedBy>User</cp:lastModifiedBy>
  <dcterms:modified xsi:type="dcterms:W3CDTF">2007-09-27T13:35:16Z</dcterms:modified>
  <cp:revision>310</cp:revision>
  <dc:subject/>
  <dc:title>Adherence to Anti-hypertensives in a Medicare Population</dc:title>
</cp:coreProperties>
</file>