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7CD670-9422-47AD-8252-AE63FC83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00512EA-FC3A-4624-B62E-6C0412E2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DDE70C8-0C70-411C-BACB-0D3074E4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8659-883D-455D-92AF-6010FF3D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057-0396-4BB3-B9CA-691A8CDF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FB7-8CC3-4C2A-865F-AAAB9062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93E-B150-444F-96F6-097FC065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77B4-2B4C-48F9-91CA-BD413767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1F47-F0F0-406D-9471-8FE63425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2D49-16A0-43AD-BB2D-9EF721DC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C0DA-B8D4-4953-AFBB-8B994A0D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596B-A300-43BA-AC00-71B512E9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39C-CEBE-48AC-9400-8ECD2C8F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10CC-08B9-4358-B1E1-5DCEBACB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8F51-F5A8-474A-AE6F-BE594DE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C72A-18CA-4DA8-8AF6-0D988B9C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E900-F076-4140-8BB1-65B8CFD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47E9-5DD5-4671-B1CA-C27EFB3D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9BE1-27C1-45A9-A040-6F151DEC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6704-D854-44AB-84C4-AE549BDC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AC9-5614-4D8A-AB6A-4A0A13F0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D02-7A9D-472D-BB85-B360ECA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C38-62C6-40EA-923B-FF6C4378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F6D-6AB2-43F5-AA88-6876C333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4DFC-F807-43B5-A353-2EDDAA00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6E5-0B91-467B-8419-A6D5CB1E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3B5-EBDC-47FF-9C6A-3698D1EC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0626-CD17-48F6-A90E-9D4975279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096920"/>
            <a:ext cx="8229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7673-3A20-4419-8300-E62803FC7A4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IT Return on Investment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Evaluating Progress in a Sea of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 Hsu, MD, MBA, MS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RQ Con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7 September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990-BA44-4E9D-A60F-81F9A1C9BF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CPOE Implementation and Us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09480" y="1523880"/>
          <a:ext cx="81439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8143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09480" y="6127920"/>
            <a:ext cx="7979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New prescriptions are defined as new prescriptions doctor wrote, can be refills for existing drugs or completely new dru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55B-49D1-406C-8FE7-4D67B38074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HIT Use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≠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f one type of HIT ≠ use of all HI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F95-C1A5-4807-8E04-65684D216F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Information Quality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Data Availability: </a:t>
            </a:r>
            <a:br>
              <a:rPr sz="3200"/>
            </a:b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Diagnoses Completed on Visit Dat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520560" y="617220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Among office visits in department of Medicine or Family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36680" y="1225440"/>
          <a:ext cx="8048520" cy="47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225440"/>
                    <a:ext cx="804852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01E0-1BF7-4624-B5A9-645B6634F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linical Benefit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701"/>
                </a:solidFill>
                <a:latin typeface="Verdana"/>
              </a:rPr>
              <a:t>Methodological Challenges for Assessing Clinical Benefits</a:t>
            </a:r>
            <a:endParaRPr b="0" lang="en-US" sz="24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of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oral trends - concurrent contro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- and physician-level dif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iable pre-implementation clinical data - differentiating documentation vs.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level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quate 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98FF-5E56-4357-9394-975BF169CB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Methods 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 Period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4/2004-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udy 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e KPNC members who continuously enrolled during the study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8 years and older as of 04/01/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diabetes registry as of 1st quarter of 200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bers in 5 medical centers  where KPHC implemented before 07/2006 during the study peri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eams which existed all the time during the study peri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t least one LDL measurement in pre-HIT period and one in post-HIT peri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ictor Measur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ce of HIT (HealthConn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xed model with random effects at PCP and Patient level, adjusted for patient age, gender, race/ethnicity, neighborhood SES, time of measurement and Medical ce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786-2B5D-45A0-9A11-BFC9057F7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Definitions of Presence of HIT</a:t>
            </a:r>
            <a:r>
              <a:rPr b="0" lang="en-US" sz="2800" spc="-1" strike="noStrike">
                <a:solidFill>
                  <a:srgbClr val="ffe701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1: Medical center level KPHC rollout sched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=0: before KPHC was implemented at the first team in the medical c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=1: within six months after KPHC was implemented at the first team in the medical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=2: six months after KPHC was implemented at the first team in the medical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2: Primary care team level actual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 = 0: low use (&lt;80% at team level) of eChart or KP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 = 1: starting from the first month when eChart used &gt;=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-218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T = 2: starting from the first month when KPHC used &gt;=80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2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37C-5F8C-45D9-A585-84B90026B2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Mean LDL in Each Month in KPNC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371600"/>
          <a:ext cx="822960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29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9F7-B4C9-42FC-BD1C-59FB6C63E8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84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Association between HIT and LDL 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523880"/>
          <a:ext cx="8381880" cy="3733920"/>
        </p:xfrm>
        <a:graphic>
          <a:graphicData uri="http://schemas.openxmlformats.org/drawingml/2006/table">
            <a:tbl>
              <a:tblPr/>
              <a:tblGrid>
                <a:gridCol w="2286000"/>
                <a:gridCol w="3429000"/>
                <a:gridCol w="1143000"/>
                <a:gridCol w="762120"/>
                <a:gridCol w="7617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im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5% C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104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 Implementation at Medical Center (roll-out schedul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fore KPH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. group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st 6 months of KPH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+ months of KPH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Actual use by Primary Care Team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% of total visit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ow HIT use (&lt;80% of visits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f. group  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hart used in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% of visit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5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PHC used in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  <a:ea typeface="Arial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% of visi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1.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.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0.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6B23-6D9D-44A2-A28C-8A47E6658F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Verdana"/>
              </a:rPr>
              <a:t>HIT Background</a:t>
            </a:r>
            <a:endParaRPr b="0" lang="en-US" sz="36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potential for transforming clinical care, especially for patients with chronic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ion of HIT across the U.S. is limited but grow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benefits of HIT uncle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 benefits of HIT depend on how routinely and systematically clinicians use the HIT tools and resulting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ttle information on HIT effects in the ambulatory setting with commercially-available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 benefits and costs of HIT are difficult to quantif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rehensive iden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ical challe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4F4-F5E1-4CA2-BD05-3701A2B0A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ost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Investment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ment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nel/pro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support sta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ture upgr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ed tra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070-D832-4984-A4BA-C375B2F5ED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Other Relevant Feature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01"/>
                </a:solidFill>
                <a:latin typeface="Verdana"/>
              </a:rPr>
              <a:t>Dynamic Environment</a:t>
            </a:r>
            <a:endParaRPr b="0" lang="en-US" sz="36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H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ision sup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Care Deli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nical coordin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Medical Thera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on effectiven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semination of new knowled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s in the Mar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 features, e.g., risk adjustment, reporting, performance incentiv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yment mi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127-65C7-4BBE-8B7D-7656371335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potential clinical benefits related to better information at the point-of-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clear benefits associated with improvements in clinical information at the system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action benefits perhaps easiest to quant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benefits depend market and reimbursement mi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estment costs beyond equipment costs can be difficult to quantif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tenance costs also import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/changing systems and markets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8886-7E6B-4260-9072-4DC16EE3B2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1273320"/>
            <a:ext cx="4648320" cy="4647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6760" y="258840"/>
            <a:ext cx="81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Summary: Need for Better Empiric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9AE-266B-4798-BC00-5F8C744733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HIT as Basic Infrastructur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31840" y="1371600"/>
            <a:ext cx="687852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D55-FFB3-4CCA-BB9C-1671B8BCCF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Preliminary Results - IMPACT Study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act of Information Technology on Clinical Car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Evaluation of the Technology on Quality, Safety and Efficiency of Chronic Disease 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hn Hsu, MD, MBA, MSCE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lana Graetz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uihui Wang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ie Huang, PhD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y Reed, DrPh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ruce Fireman, MA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oseph Selby, MD, MPH (KP DO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vonne Zhou, PhD (K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im Bellows, PhD (KP CM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omi Bardach, MD (UCS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ulian Wimbush (UC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m Rundall, PhD (UCB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bert Miller, PhD (UCS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chard Brand, PhD (UCSF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Tahoma"/>
              </a:rPr>
              <a:t>Funding: AHRQ R01HS0152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FD9-C421-45AE-BCAA-A554277B1E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ngitudinal study with quasi-experimental changes in exposure to HIT, and using a pre-post analytic design with concurrent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Period: 2004-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: IDS Members with any of five chronic diseases in January 2004 (Asthma, CAD, DM, HF, Ht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mated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604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urve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FD5-2EBD-41F2-AF7C-ED1026A9B4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Basic HIT Tools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023840"/>
          <a:ext cx="9144000" cy="5834160"/>
        </p:xfrm>
        <a:graphic>
          <a:graphicData uri="http://schemas.openxmlformats.org/drawingml/2006/table">
            <a:tbl>
              <a:tblPr/>
              <a:tblGrid>
                <a:gridCol w="2057400"/>
                <a:gridCol w="1292400"/>
                <a:gridCol w="1935000"/>
                <a:gridCol w="1928880"/>
                <a:gridCol w="182520"/>
                <a:gridCol w="1747800"/>
              </a:tblGrid>
              <a:tr h="468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IP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ha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Rx/eRefi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Cons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st Availabl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arch 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ction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-Re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u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-En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er-alternativ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Y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ated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integrated with other applications (i.e., need log onto each application separatel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cription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lab resul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l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riting free-text visit no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ing standard note templat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li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allerg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ering orders for new prescription or refill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questing referrals or consultatio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ding messages to other provider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8E7-1A6D-49D1-82B1-FA4F87803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990720"/>
          <a:ext cx="9144000" cy="5686200"/>
        </p:xfrm>
        <a:graphic>
          <a:graphicData uri="http://schemas.openxmlformats.org/drawingml/2006/table">
            <a:tbl>
              <a:tblPr/>
              <a:tblGrid>
                <a:gridCol w="1996920"/>
                <a:gridCol w="71470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irst Availabl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ggered implementation (2005-200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unction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-Revie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cument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-En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mmuni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ffe701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478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er-alternativ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grated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e701"/>
                          </a:solidFill>
                          <a:latin typeface="Arial"/>
                        </a:rPr>
                        <a:t>Fully Integr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 w="5760">
                      <a:solidFill>
                        <a:srgbClr val="3366cc"/>
                      </a:solidFill>
                    </a:lnB>
                    <a:noFill/>
                  </a:tcPr>
                </a:tc>
              </a:tr>
              <a:tr h="24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scription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66cc"/>
                      </a:solidFill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ewing medication list, allergies, lab resul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sing standard note templates &amp;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 free-text visit no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 new prescription or refills with decision suppor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dering Disease-specific sets (drugs and lab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nding messages to other providers &amp; 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questing referrals or consulta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ding and receiving messages from pati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int-of-care access to decision-support tools– including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ine references and resources for current treatment guidelin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9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e Management Institute protocols, and standard tests/scree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cc"/>
                      </a:solidFill>
                    </a:lnL>
                    <a:lnR>
                      <a:noFill/>
                    </a:lnR>
                    <a:lnT w="5760">
                      <a:solidFill>
                        <a:srgbClr val="3366cc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KP HealthConnect Ambulatory Su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572-436B-4E34-BEE1-CC9CAAF490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Potential Benefits of HIT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information availability (value of inform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nical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ial benefits: e.g., greater efficiency, lower administrative costs, better 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4191120"/>
            <a:ext cx="685800" cy="609480"/>
          </a:xfrm>
          <a:prstGeom prst="downArrow">
            <a:avLst>
              <a:gd name="adj1" fmla="val 46296"/>
              <a:gd name="adj2" fmla="val 46093"/>
            </a:avLst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4840" y="5159520"/>
            <a:ext cx="76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efits predicated on clinician use of HIT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BE8-73E0-41C5-9BBB-E7503A2FF0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e701"/>
                </a:solidFill>
                <a:latin typeface="Verdana"/>
              </a:rPr>
              <a:t>HIT Use</a:t>
            </a:r>
            <a:endParaRPr b="0" lang="en-US" sz="4000" spc="-1" strike="noStrike">
              <a:solidFill>
                <a:srgbClr val="ffe70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a"/>
            </a:gs>
            <a:gs pos="100000">
              <a:srgbClr val="00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Verdana"/>
              </a:rPr>
              <a:t>HIT Implementation and Use</a:t>
            </a:r>
            <a:endParaRPr b="0" lang="en-US" sz="3200" spc="-1" strike="noStrike">
              <a:solidFill>
                <a:srgbClr val="ffe701"/>
              </a:solidFill>
              <a:latin typeface="Verdan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295280"/>
          <a:ext cx="7934400" cy="42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793440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825120" y="556272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Among office visits in department of Medicine or Family Pract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20F-AE3E-4AF0-8061-6D183AF5D9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9:36:56Z</dcterms:created>
  <dc:creator>vcf</dc:creator>
  <dc:description/>
  <dc:language>en-US</dc:language>
  <cp:lastModifiedBy>User</cp:lastModifiedBy>
  <dcterms:modified xsi:type="dcterms:W3CDTF">2007-09-27T13:35:16Z</dcterms:modified>
  <cp:revision>310</cp:revision>
  <dc:subject/>
  <dc:title>Adherence to Anti-hypertensives in a Medicare Population</dc:title>
</cp:coreProperties>
</file>