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CDEBF2-537A-4958-9984-73EB08466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25360" y="691920"/>
            <a:ext cx="461664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84800"/>
            <a:ext cx="5029200" cy="4232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8F7EEBC-062D-459A-88A7-29260F5FC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33D7E5-0066-4BE7-9659-45D1B0FCD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A3EC93-7F73-4DB0-9667-5CB28E8A8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233B18-E2D2-4BEE-9978-57934E4FB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AF70E11-A94C-46E6-9C8A-1CE41EBAD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9F6DFA-B1CC-4A62-9E5D-B053E9411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8EFE83-D5D7-4D28-A2B5-3B76033D6A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D7CB42-C7F8-471B-A80C-8FFA2EE0A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421619F-1083-4F51-BC45-1845B1399A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ABFDB7-9C91-4914-B39B-33B27DAF6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6A2E29-E1E9-4D40-B9CF-88098E3D6A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534-817F-470D-9A2F-6F0DECC8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5F1-C7C2-4CE9-8CD8-60561433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4C3-785A-4ED5-A482-794DFD15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E6DE-A7DA-4E8D-8985-65624CFD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1FE7-8B5D-42F0-869B-47416E13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F777-0CD0-459C-AEFB-09F78648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60D8-6863-4C15-ACE1-68B90F24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4A10-3182-4F56-97C4-DF890147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2ED8-463C-41AC-89F1-58A4999A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30D8-943D-43CA-B44C-15150431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AA9E-8EEE-45B9-A360-9C43C190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ED2-05E6-4406-8EB8-EDB43A80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E6C3-B6BC-4DBA-A585-C0925F2D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8A37-43C9-4E9B-A66C-2A3C41B0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DCA8-1CA9-405F-B42B-261FC2B8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81F6-5688-4AC2-B571-C877FD28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165E-D18A-4437-AACE-43581367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39C-B971-4256-8318-E09BC926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422-9DF0-4AD7-B035-26D694B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545-246F-4B8F-9B57-2D00C3ED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094-9822-441A-ADE2-421A905D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994-BBCA-4453-9A79-0E8CA4C6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716-EDA1-40AE-8037-7DEBF2F7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EE2-40BB-4897-8137-143884FE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F36F-E108-496F-AAAE-EA50FC8EE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9E8A-0B30-43E4-929B-C7CA57982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Tour of AHRQ Prevention Tools for Clinicians  </a:t>
            </a:r>
            <a:br>
              <a:rPr sz="4400"/>
            </a:b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6483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-Time Prevention of Pressure Ulcers   in Nursing Hom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hursday, September 27, 2007; 3:30 – 5pm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usan D. Horn, Ph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stitute for Clinical Outcomes Research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699 E. South Temple, Suite 100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alt Lake City, Utah  84102-128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801-466-5595 (T)     801-466-6685 (F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horn@isisicor.com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1055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176-4F97-4B38-B401-809851CDB3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617C-1F26-4283-B588-B0B67A2194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1440" y="-360"/>
            <a:ext cx="887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ep 3: Timely Feedback Repor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728720"/>
            <a:ext cx="899172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1000" indent="-351000">
              <a:lnSpc>
                <a:spcPct val="90000"/>
              </a:lnSpc>
              <a:spcBef>
                <a:spcPts val="726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Use comprehensive standardized documentation data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14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First reports provide feedback on documentation completeness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14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Other reports target alerts for specific components of care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14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Summarize clinical information in variety of formats for use by RNs, MDS coordinators, dieticians, CNAs, wound RN, etc.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14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Reports contribute to individualized care planning processes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C53-53B9-4894-B211-75F7EECFE6C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imely Reports focus on   Pressure Ulcer Prev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728720"/>
            <a:ext cx="7772400" cy="51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Weekly Repor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99960">
              <a:spcBef>
                <a:spcPts val="11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utrition Report / Weight 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9996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havior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9996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ssure Ulcer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99960">
              <a:spcBef>
                <a:spcPts val="11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iority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999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onthly Repor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99960">
              <a:spcBef>
                <a:spcPts val="11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Status Summary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99960">
              <a:spcBef>
                <a:spcPts val="11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4AB-5A1D-4A52-BC34-8A4B2A33A4A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Nutrition Summ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eal intake for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luid intake for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Diet ord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Supplement product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change since last week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isting pressure ulc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History of resolved ulc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3040" y="3200040"/>
            <a:ext cx="4800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Weight Summ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180 days prio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30 days prio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for each of past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change since last week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5-10% weight loss past 30 day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10% weight loss past 180 day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9920" y="304920"/>
            <a:ext cx="725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ample: Nutrition Repor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160" y="1654200"/>
            <a:ext cx="8887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ratified by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vide ‘BIG picture’ over time, not just snapshot of one shift or one da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893-8F59-4A31-871B-0DDD873190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69960" y="380520"/>
            <a:ext cx="7727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utrition Report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are uses of the Nutrition Report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ntify which meals are not being eat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mote use of nutritional supplem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ntify need for consistent weigh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1BF-9FD6-47A6-88D5-47540FFCEF1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creased meal intake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ight los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d incontinence episod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d behavior problem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isting red areas on ski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pressure ulcer in last 90 day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83920" y="380880"/>
            <a:ext cx="576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ample: Priority Repo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7680" y="1600200"/>
            <a:ext cx="8896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Identifies residents at risk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F40-A51B-4D37-B3D3-37580489876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1440" y="456840"/>
            <a:ext cx="887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enefits of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imely Feedback Report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0440" y="1728720"/>
            <a:ext cx="827568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1000" indent="-351000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Access to summarized information for clinical decision-making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buClr>
                <a:srgbClr val="ffff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Improve response time between identification of resident need and intervention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9376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80000"/>
              <a:buFont typeface="Times New Roman"/>
              <a:buChar char="–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residents at risk for pressure ulcer develop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1650"/>
              </a:spcBef>
              <a:buClr>
                <a:srgbClr val="ffff00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Transform from paper to data culture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62120" indent="-29376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80000"/>
              <a:buFont typeface="Times New Roman"/>
              <a:buChar char="–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nk reports to documentation eleme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D93-CA0E-4E61-AF4A-BB928BB4B35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ep 4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: Integrate into Daily Workflow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4480" y="1981080"/>
            <a:ext cx="827532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1000" indent="-351000">
              <a:lnSpc>
                <a:spcPct val="90000"/>
              </a:lnSpc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rehensive forms replace (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not supplem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) previous form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mportance of front-line CNA observations stresse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edback is based on document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eedback contributes to care plan updat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C84-C359-48FD-8854-A8A677457AA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61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7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ecrease Pressure Ulcer Development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 Adherence to Best Practi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 Staff Accountability and Satisfa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Inclusion of front-line workers in QI efforts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prehensive documentation at point of care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munication among care team improved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duce Inefficienc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# documentation forms for CNAs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NA time looking for documentation book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ime to compile reports for State Regulators and MDS 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ime for Wound RN to summarize and report data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mprove State Survey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stablish a foundation for EH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EF8-15ED-425D-84C2-14DEFE67299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990720" y="2362320"/>
          <a:ext cx="7454880" cy="366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7454880" cy="36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act On Pressure Ulcer Q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6400800"/>
            <a:ext cx="5715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ource:  CMS Nursing Home Compare; Facility QM data repo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523880"/>
            <a:ext cx="836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combined facilities’ average shows an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verall reduction of 33% in the QM % of high risk residents with pressure ulce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from pre-implementation to initial post-implementation time perio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1219320"/>
            <a:ext cx="335268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809880"/>
            <a:ext cx="1447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bined Faciliti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0" y="3276720"/>
            <a:ext cx="1219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ional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315200" y="3962520"/>
            <a:ext cx="2030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009920" y="3505320"/>
            <a:ext cx="20340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4724280"/>
            <a:ext cx="3047760" cy="285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03 – Q3 05% Change =  - 33%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907-1165-49FC-ADB4-BFFABCFD07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72960" y="2437920"/>
            <a:ext cx="8771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Build partnerships / Develop interdisciplinary team capacity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to promote faster QI in LTC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Integrate evidence-based research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on pressure ulcer prevention into long term care daily workflow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Redesign clinical care planning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processes using standardized documentation and timely feedback report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spcBef>
                <a:spcPts val="1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200" y="152388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ON-TIME PREVENTION OF        PRESSURE ULCERS IN NURSING HOM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E092-A480-45C9-B66A-1AB58E9000D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mmary of Key Program Benefit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mprove Qualit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rove clinical decision making:  integrate reports into day-to-day workflo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residents at high risk early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imely communication among multi-disciplinary team memb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QI Collabor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eive technical assistance from QI exper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llaborate with peers to share experiences and best practic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6B0-63DC-4BEC-87A3-D79090FE344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mmary of Key Program Benefits (cont)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mprove CNA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nsolidate current document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tandardize data elements and eliminate redundancy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udit and train for accuracy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Gain Efficienc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duce time spent searching for multiple sources of inform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utomated reports replace manual compilation of resident inform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crease Mora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power multidisciplinary teams with CNAs as important memb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NAs see importance of their 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878-AE84-4CEF-A818-73A4A642AB3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vailable On-Time Too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NA document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://ahrq.gov/research/ltc/pucnaform.pd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n-Time Repor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ttp://ahrq.gov/research/ltc/pusamplerep.pd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ideo and other resour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ttp://ahrq.gov/research/puwebcast.ht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AC0-5F8E-4F72-BDA9-F28B3816E86C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esearc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sed Best Practice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ursing Home Study (NPULS)  1996-1997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 long-term care provider organiz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9 facili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,490 residents studi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,343 residents with pressure ulcer; 1,147 at ris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0% female, 30% ma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erage age = 79.8 ye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unded by Ross Products Division, Abbott Laboratori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AAB-BC84-47AC-A9A1-C77ADB2910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8398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Times New Roman"/>
              </a:rPr>
              <a:t>Long Term Care CPI Results</a:t>
            </a:r>
            <a:br>
              <a:rPr sz="3900"/>
            </a:b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Outcome: Develop Pressure Ulcer</a:t>
            </a:r>
            <a:endParaRPr b="1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2362320"/>
            <a:ext cx="1828800" cy="1143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71760" y="2286000"/>
            <a:ext cx="1828800" cy="1220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7280" y="2286000"/>
            <a:ext cx="1828800" cy="121932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89680" y="2286000"/>
            <a:ext cx="1828800" cy="1220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aff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581280"/>
            <a:ext cx="243828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Ag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M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Severity of Ill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History of P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ependency 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gt;= 7 AD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iabe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History of tobacco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ehyd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Weight lo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581280"/>
            <a:ext cx="22096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Mechanical devices for the containment of urine (catheters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Disposable brie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Toileting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3581280"/>
            <a:ext cx="213372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RN hours per resident day &gt;=0 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CNA hours per resident day &gt;= 2.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40360" y="5105520"/>
            <a:ext cx="1828800" cy="685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73760" y="59436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SSRI + Antipsycho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23880"/>
            <a:ext cx="8991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n et al,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mer Geriatr So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rch 2004; 52(3):359-36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495680" y="3581280"/>
            <a:ext cx="28195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Fluid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Nutritional Supp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ndard med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Enteral Supp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ase-specif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igh calorie/hig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B00B-D159-450D-ACA4-46E69BDC9E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Common Challenges Across Facilities</a:t>
            </a:r>
            <a:endParaRPr b="1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086600" cy="426708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efficient Proces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omplete Document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NAs: untapped resour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cation Breakdowns / Lack Standard Proces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nical Decision Support Need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F25-09FF-4B4E-8E4B-97742291A25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1440" y="-360"/>
            <a:ext cx="887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ep 1: Build Partnership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75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93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90000"/>
              </a:lnSpc>
              <a:spcBef>
                <a:spcPts val="950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Empower all members of a facility team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90000"/>
              </a:lnSpc>
              <a:spcBef>
                <a:spcPts val="950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Front-line workers actively participate in QI activities, including CNAs: bottom-up approach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-319320">
              <a:lnSpc>
                <a:spcPct val="90000"/>
              </a:lnSpc>
              <a:spcBef>
                <a:spcPts val="950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Share across facilities</a:t>
            </a:r>
            <a:endParaRPr b="1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19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7CD-574F-468A-8AB8-D79DA416379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ep 2: Standardize Document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0080" y="1728720"/>
            <a:ext cx="848052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1000" indent="-351000">
              <a:lnSpc>
                <a:spcPct val="90000"/>
              </a:lnSpc>
              <a:spcBef>
                <a:spcPts val="825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Comprehensive  documentation for front-line workers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064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Redesign work flow – consolidate documentation 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064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Allow individual facility customization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064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Encourage inter-facility sharing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2064"/>
              </a:spcBef>
              <a:buClr>
                <a:srgbClr val="ffff66"/>
              </a:buClr>
              <a:buFont typeface="Times New Roman"/>
              <a:buChar char="•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imes New Roman"/>
              </a:rPr>
              <a:t>Observe facilities come to consensus over time</a:t>
            </a:r>
            <a:endParaRPr b="1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4B6-FB28-4D7C-BDD8-775EE101CBB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rehensive Standardized Document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64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N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ily flow shee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form replaced multiple logs, clipboards, bedside char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redundant documentation “document one time, in one place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94320" y="1976400"/>
            <a:ext cx="427824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U Tracking Shee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nd RN standardized PrU documentation: tracks resident risk and pressure ulcer statu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used to compile summary repor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EF9-D509-4044-AF33-07A2CD320F3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A8A-78A7-4104-AC20-0B515B6A24F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22:39:16Z</dcterms:created>
  <dc:creator>Susan D. Horn, Ph.D.</dc:creator>
  <dc:description/>
  <dc:language>en-US</dc:language>
  <cp:lastModifiedBy>Susan</cp:lastModifiedBy>
  <cp:lastPrinted>2000-09-06T19:30:46Z</cp:lastPrinted>
  <dcterms:modified xsi:type="dcterms:W3CDTF">2007-09-20T18:56:39Z</dcterms:modified>
  <cp:revision>195</cp:revision>
  <dc:subject/>
  <dc:title>No Slide Title</dc:title>
</cp:coreProperties>
</file>