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476C4D-011A-4149-B080-7A9F47A60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25360" y="691920"/>
            <a:ext cx="461664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84800"/>
            <a:ext cx="5029200" cy="4232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23BBCE-D794-42F6-B5EE-BCCFB6052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23D0A1-A77A-4248-916F-41E99C97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B8876D-4216-4AC1-8265-878797030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A51B86-EA43-4C6A-BBBA-D35698703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7FAC34-ED24-4608-BF0E-81734F12F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C84DC0-14C9-492D-B6C9-F9793706E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4D7BBE-E99F-4C72-A2E0-80FB50D72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B3C949-F1DB-438A-AABF-D1625818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9D5BC2-2089-46F3-ABE0-413BD224A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E933F4-7959-424D-8453-6D139A61C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3B83D9-8109-44CB-AEEB-A72FCD801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319-CEE0-4244-A286-8BD693B4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1B4-4FCA-4CA7-905F-4C7A1BCC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C23-DC59-4D46-A169-E4D923B5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A0A-B638-465D-A7F2-359EE180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0D47-5321-4BB1-B76B-61615624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7F2B-E737-4C8C-AB59-1907ACF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10E6-69B1-4789-92E5-27276953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1B5D-FFF7-4AAF-BEAB-C06AE4A7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067A-8979-47BF-B5DB-42353FD8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CAC9-3E0A-4CC4-A58E-1321C800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C673-07DC-4DD5-B6D1-0ACCCD1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03E-A767-455B-8F58-2AF40B23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1DFC-4724-4846-8A3D-CEA9538E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8567-098E-489B-9FC0-8E137F8A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0BA6-CF04-4C03-AD48-C4CD9906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348C-0912-4E32-B9C7-C2424622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586-1E4A-403E-8755-9E2449D0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26A-ABFC-414F-B61F-48A81D67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7F4-3CD2-40A5-8ADC-0051525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6EA-B9B4-42B4-B8A0-E8A5CAC3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5D1-71D8-47D9-B625-31A27F58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C4A-906E-490A-B873-78964D13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65D-9CE2-4523-A57C-101AB57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B25-2A3F-47D3-8CDA-335F9553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4987-4E25-4D8C-94B6-8B58A3031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41F-7786-4344-8C91-EDDC0720A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Tour of AHRQ Prevention Tools for Clinicians  </a:t>
            </a:r>
            <a:br>
              <a:rPr sz="4400"/>
            </a:b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648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-Time Prevention of Pressure Ulcers   in Nursing Hom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ursday, September 27, 2007; 3:30 – 5pm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usan D. Horn, Ph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stitute for Clinical Outcomes Research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699 E. South Temple, Suite 100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alt Lake City, Utah  84102-128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801-466-5595 (T)     801-466-6685 (F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horn@isisicor.com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1055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309-F8F7-4DD7-A6CC-83A8DF6647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C27-A33F-47BC-81CF-4C49569AA3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1440" y="-360"/>
            <a:ext cx="887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ep 3: Timely Feedback Repor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728720"/>
            <a:ext cx="899172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726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Use comprehensive standardized documentation data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4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First reports provide feedback on documentation completeness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4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Other reports target alerts for specific components of care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4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Summarize clinical information in variety of formats for use by RNs, MDS coordinators, dieticians, CNAs, wound RN, etc.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4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Reports contribute to individualized care planning processes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272-1ED5-48C7-B31D-2419D57217F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mely Reports focus on   Pressure Ulcer Prev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728720"/>
            <a:ext cx="77724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Weekly Repo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trition Report / Weight 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havior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ssure Ulcer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iority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onthly Repo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Status Summary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873-E5D1-46C9-9610-770C3AB4726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eal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luid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Diet ord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upplement product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isting pressure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History of resolved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040" y="3200040"/>
            <a:ext cx="4800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Weight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18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3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for each of past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5-10% weight loss past 3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10% weight loss past 18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9920" y="304920"/>
            <a:ext cx="725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ample: Nutrition Repor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160" y="1654200"/>
            <a:ext cx="8887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ratified by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vide ‘BIG picture’ over time, not just snapshot of one shift or one d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C01-82A2-468A-B65F-D877CFEC7A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9960" y="380520"/>
            <a:ext cx="7727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utrition Report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re uses of the Nutrition Report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which meals are not being eat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mote use of nutritional supple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need for consistent weigh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A19-604A-429C-82CD-903BEF09E53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creased meal intake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ight los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d incontinence episod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d behavior problem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isting red areas on ski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pressure ulcer in last 90 day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83920" y="380880"/>
            <a:ext cx="576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: Priority Re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7680" y="1600200"/>
            <a:ext cx="889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Identifies residents at risk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F01-A0FC-4459-A981-08256ADEA1B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1440" y="456840"/>
            <a:ext cx="887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enefits of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mely Feedback Report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0440" y="1728720"/>
            <a:ext cx="827568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Access to summarized information for clinical decision-making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Improve response time between identification of resident need and intervention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937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residents at risk for pressure ulcer develop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650"/>
              </a:spcBef>
              <a:buClr>
                <a:srgbClr val="ffff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Transform from paper to data culture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937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nk reports to documentation ele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0C1-DD5B-49BE-8F25-61033ADA000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ep 4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: Integrate into Daily Workflow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4480" y="1981080"/>
            <a:ext cx="827532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rehensive forms replace (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t supplem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 previous form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ortance of front-line CNA observations stresse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edback is based on document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edback contributes to care plan updat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3CA-1969-4A1B-9CD1-F91E52EEDE0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61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7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crease Pressure Ulcer Development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Adherence to Best Pract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Staff Accountability and Satisfa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Inclusion of front-line workers in QI effort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prehensive documentation at point of care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munication among care team improved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duce Inefficienc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# documentation forms for CNA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NA time looking for documentation book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to compile reports for State Regulators and MDS 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for Wound RN to summarize and report data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mprove State Survey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stablish a foundation for EH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BD4-3F73-403E-94B9-C3C961E0D67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90720" y="2362320"/>
          <a:ext cx="7454880" cy="366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454880" cy="36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act On Pressure Ulcer Q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6400800"/>
            <a:ext cx="5715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ource:  CMS Nursing Home Compare; Facility QM data repo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523880"/>
            <a:ext cx="836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combined facilities’ average shows an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verall reduction of 33% in the QM % of high risk residents with pressure ulce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from pre-implementation to initial post-implementation time perio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1219320"/>
            <a:ext cx="335268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809880"/>
            <a:ext cx="1447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bined Faciliti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276720"/>
            <a:ext cx="1219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315200" y="3962520"/>
            <a:ext cx="2030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009920" y="3505320"/>
            <a:ext cx="2034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4724280"/>
            <a:ext cx="3047760" cy="285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03 – Q3 05% Change =  - 33%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E96-52E7-4DAB-B419-091022C6078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72960" y="2437920"/>
            <a:ext cx="8771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Build partnerships / Develop interdisciplinary team capacity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to promote faster QI in LTC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ntegrate evidence-based research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on pressure ulcer prevention into long term care daily workflow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Redesign clinical care planning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processes using standardized documentation and timely feedback report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200" y="15238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ON-TIME PREVENTION OF        PRESSURE ULCERS IN NURSING HOM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CE6-5500-4417-9C99-28B39C70AEF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mmary of Key Program Benefit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mprove Qualit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rove clinical decision making:  integrate reports into day-to-day workfl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residents at high risk early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mely communication among multi-disciplinary team memb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QI Collabor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eive technical assistance from QI expe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laborate with peers to share experiences and best practic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C13-07EB-4BB4-8D1B-D5D74223C5D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mmary of Key Program Benefits (cont)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mprove CNA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solidate current document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 data elements and eliminate redundanc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udit and train for accurac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Gain Efficien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duce time spent searching for multiple sources of inform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utomated reports replace manual compilation of resident inform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rease Mora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ower multidisciplinary teams with CNAs as important memb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NAs see importance of their 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05A-E835-4E85-A233-84F01B280B1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vailable On-Time Too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NA documen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//ahrq.gov/research/ltc/pucnaform.pd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n-Time Repo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//ahrq.gov/research/ltc/pusamplerep.pd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ideo and other resour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ttp://ahrq.gov/research/puwebcast.ht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751-0307-475D-BFA9-DB4BA915DE06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searc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sed Best Practice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ursing Home Study (NPULS)  1996-1997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long-term care provider organiz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 facili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,490 residents studi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,343 residents with pressure ulcer; 1,147 at ris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0% female, 30% ma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 age = 79.8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ded by Ross Products Division, Abbott Laborator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630-F143-4B4A-88D4-07367AE2F3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98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Times New Roman"/>
              </a:rPr>
              <a:t>Long Term Care CPI Results</a:t>
            </a:r>
            <a:br>
              <a:rPr sz="3900"/>
            </a:b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Outcome: Develop Pressure Ulcer</a:t>
            </a:r>
            <a:endParaRPr b="1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362320"/>
            <a:ext cx="1828800" cy="1143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7176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7280" y="2286000"/>
            <a:ext cx="1828800" cy="12193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8968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aff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581280"/>
            <a:ext cx="243828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Ag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Severity of Il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P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pendency 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gt;= 7 AD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iabe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tobacco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hyd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Weight lo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581280"/>
            <a:ext cx="22096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echanical devices for the containment of urine (catheter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Disposable brie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Toileting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3581280"/>
            <a:ext cx="213372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RN hours per resident day &gt;=0 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CNA hours per resident day &gt;= 2.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0360" y="5105520"/>
            <a:ext cx="182880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73760" y="59436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SSRI + Antipsycho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23880"/>
            <a:ext cx="899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n et al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mer Geriatr So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ch 2004; 52(3):359-36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95680" y="3581280"/>
            <a:ext cx="28195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Fluid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Nutrition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ndard med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Enter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ase-specif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 calorie/hig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D6C-B837-4D3E-B3D1-3F8684308C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Common Challenges Across Facilities</a:t>
            </a:r>
            <a:endParaRPr b="1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086600" cy="426708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efficient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omplete Documen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NAs: untapped resour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 Breakdowns / Lack Standard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Decision Support Nee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31D-5072-4E8F-A25D-B81CE23262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1440" y="-360"/>
            <a:ext cx="887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ep 1: Build Partnership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75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93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90000"/>
              </a:lnSpc>
              <a:spcBef>
                <a:spcPts val="950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Empower all members of a facility team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90000"/>
              </a:lnSpc>
              <a:spcBef>
                <a:spcPts val="950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Front-line workers actively participate in QI activities, including CNAs: bottom-up approach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90000"/>
              </a:lnSpc>
              <a:spcBef>
                <a:spcPts val="950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Share across facilities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A14-6636-44B2-83FE-FB212E30C7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ep 2: Standardize Document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080" y="1728720"/>
            <a:ext cx="848052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825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Comprehensive  documentation for front-line workers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064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Redesign work flow – consolidate documentation 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064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Allow individual facility customization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064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Encourage inter-facility sharing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064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Observe facilities come to consensus over time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4F4-82A7-4032-A832-6AD5860365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rehensive Standardized Document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64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N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flow shee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orm replaced multiple logs, clipboards, bedside cha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dundant documentation “document one time, in one place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94320" y="1976400"/>
            <a:ext cx="427824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U Tracking She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RN standardized PrU documentation: tracks resident risk and pressure ulcer statu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used to compile summary repo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BC0-6175-4EF3-A90A-1DDC7F99BE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73E-C452-4E6A-9C8D-93793AF650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usan</cp:lastModifiedBy>
  <cp:lastPrinted>2000-09-06T19:30:46Z</cp:lastPrinted>
  <dcterms:modified xsi:type="dcterms:W3CDTF">2007-09-20T18:56:39Z</dcterms:modified>
  <cp:revision>195</cp:revision>
  <dc:subject/>
  <dc:title>No Slide Title</dc:title>
</cp:coreProperties>
</file>