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25C8C69-E34E-4AA2-BB26-52A4CC44F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12480" y="68544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4560" y="4354560"/>
            <a:ext cx="5140440" cy="420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1108222-7A11-40A3-A306-1CFBF50D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7C161A-8920-476B-A302-F0A5E6993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8C3C3E-665C-48F1-8B2E-0BD407716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3483C6F-C122-4629-9CD4-1256BBD5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F27A35-7DED-4D2C-8152-F056672BE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5A17212-DCF4-42A9-AE29-D0C11D4AB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6650CDF-F17B-4FC1-8DD6-1FB4F61FF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1A74574-C25F-4AFF-A2AF-6C780009B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B7D44E2-158B-4C9E-ADA5-B8E17540C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551-98B8-4FA4-890F-A6FB5CC4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CB8-5FFA-4EDC-B82A-38BEC740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994-881D-4F29-A26F-5021EF04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0E6-EE37-496D-A43B-4897C074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5DE3-2D06-4AD4-BCD9-1202CD3B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AC23-F1D0-4AFF-9B39-27306CB8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CFC0-3E5D-47AD-B915-7C02D35D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FE86-D4BC-4590-9D49-43B90F5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8352-16B0-4EDC-A6B5-475AF1D0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FE4D-F811-474C-9D30-1BBB5E9F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6AF6-3785-4FB8-A4F6-81B63C27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7F7-2FBC-43A0-9297-3E4BEDD4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D61D-A7B4-45D5-B1C0-EA03AC3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193A-7DAB-4DE5-9D76-DD5631AB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EE1B-39BB-46E9-9D0E-F93DD0C4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0FDA-7C2F-4D99-9875-02E5B941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2B69-BF79-42C0-ABC7-38762A5D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F81-2C95-4A46-A2AC-B50D6C83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A32-AD2D-4E2A-B8DE-DAD86705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45B-9175-4656-A703-6429F62F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E2A-C0E8-4098-B3AC-7996C13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AB8-9097-41B7-94B9-DA14A2B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5B0-F6A9-4F78-A6EB-96E5D1AC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355-C01B-4D16-B6C3-E28ED355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4014-7D9D-4DE2-A099-72C9ABD91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1EA-FC8C-49B2-AE0F-BD255AA08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-Time Quality Improvement for Long Term Care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ursday, September 27, 2007; 1:30 – 3p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san D. Horn, Ph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e for Clinical Outcomes Researc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99 E. South Temple, Suite 100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lt Lake City, Utah  84102-128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01-466-5595 (T)     801-466-6685 (F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rn@isisicor.co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1055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2600" y="0"/>
            <a:ext cx="82504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designing Work Processes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rove Resident Safety and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1FD-FF2D-467F-A2E6-A10C38BF9E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76360" y="1676160"/>
            <a:ext cx="79912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2438280"/>
            <a:ext cx="23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Prevention Repo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3040" y="4724280"/>
            <a:ext cx="27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andardized CNA documen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29360" y="5257800"/>
            <a:ext cx="128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QI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Picture of person using digital pen tool"/>
          <p:cNvPicPr/>
          <p:nvPr/>
        </p:nvPicPr>
        <p:blipFill>
          <a:blip r:embed="rId1"/>
          <a:stretch/>
        </p:blipFill>
        <p:spPr>
          <a:xfrm>
            <a:off x="2166840" y="1143000"/>
            <a:ext cx="78732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Picture of computer with peripheral card unit"/>
          <p:cNvPicPr/>
          <p:nvPr/>
        </p:nvPicPr>
        <p:blipFill>
          <a:blip r:embed="rId2"/>
          <a:stretch/>
        </p:blipFill>
        <p:spPr>
          <a:xfrm>
            <a:off x="3048120" y="1143000"/>
            <a:ext cx="1693800" cy="130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09680" y="3124080"/>
            <a:ext cx="259092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ess timely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3040" y="5715000"/>
            <a:ext cx="292104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duce redund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idate docu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867280"/>
            <a:ext cx="304776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ont-line team members use reports in daily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Image of Standard CNA Documentation"/>
          <p:cNvPicPr/>
          <p:nvPr/>
        </p:nvPicPr>
        <p:blipFill>
          <a:blip r:embed="rId3"/>
          <a:stretch/>
        </p:blipFill>
        <p:spPr>
          <a:xfrm>
            <a:off x="338040" y="2743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Prevention Reports picture of two people reviewing computer image"/>
          <p:cNvPicPr/>
          <p:nvPr/>
        </p:nvPicPr>
        <p:blipFill>
          <a:blip r:embed="rId4"/>
          <a:stretch/>
        </p:blipFill>
        <p:spPr>
          <a:xfrm>
            <a:off x="5824440" y="1143000"/>
            <a:ext cx="1762200" cy="1170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44480" y="160020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8520" y="1523880"/>
            <a:ext cx="868320" cy="486000"/>
          </a:xfrm>
          <a:prstGeom prst="rightArrow">
            <a:avLst>
              <a:gd name="adj1" fmla="val 50000"/>
              <a:gd name="adj2" fmla="val 44667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34280" y="3657600"/>
            <a:ext cx="474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129360" y="419112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83360" y="3124080"/>
            <a:ext cx="25732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dentify high-risk resid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00240" y="2590920"/>
            <a:ext cx="31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formation 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286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1464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65800" y="6858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AD5-D745-403F-9DE7-4C07836CEA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mplemen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  Workflow Redesign Focused to Reduce PrU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NA Daily Workfl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dardized data in documentation flow shee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d communication with clinical team (RN, CNA, MDS, Dietar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und Nur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dardized data in PrU docum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ly access to compiled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imely Information for Care Planning Proces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y residents at risk for pressure ulcer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ess to summarized information for clinical decision-ma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rten response time between identification of resident need and interven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7FD-85B5-43F6-BFB0-AE1995774CD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1440" y="-360"/>
            <a:ext cx="887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mely Feedback Report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0440" y="1728720"/>
            <a:ext cx="827568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43800" indent="-343800">
              <a:lnSpc>
                <a:spcPct val="9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Access to summarized information for clinical decision-making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640" indent="-2876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, Behavior, High risk triggers, Pressure Ulcer monitoring repor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-343800">
              <a:lnSpc>
                <a:spcPct val="9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Improve response time between identification of resident need and intervention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640" indent="-2876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y residents at risk for pressure ulcer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-343800">
              <a:lnSpc>
                <a:spcPct val="90000"/>
              </a:lnSpc>
              <a:spcBef>
                <a:spcPts val="1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Transform from paper to data culture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640" indent="-2876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k reports to documentation ele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C52-F3D2-439F-B575-80D4A60C17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ecision Making Repor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Documentation Completeness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ummary of CNA documentation completeness ra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average meal intake, resident diet, supplements, resident weight status (presence of weight gain/loss), last diet consult date, history of pressure ulcer indicator, and presence of pressure ulcer.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Behavior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the total number of times a resident exhibits a behavior by shif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riority Resident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residents who are at risk for pressure ulcer development and high priority for staff focus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A88-FA57-4B36-BBD5-573F55116AB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eal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luid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Diet ord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upplement product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isting pressure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History of resolved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3040" y="3200040"/>
            <a:ext cx="4800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Weight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18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3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for each of past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5-10% weight loss past 3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10% weight loss past 18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9640" y="282600"/>
            <a:ext cx="566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: Nutrition Repor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160" y="1654200"/>
            <a:ext cx="8887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ratified by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vide ‘BIG picture’ over time, not just snapshot of one shift or one d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733-7F5F-4986-A47E-BDDB3B0A062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61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7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crease Pressure Ulcer Developmen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Adherence to Best Pract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Staff Accountability and Satisfa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Inclusion of front-line workers in QI effort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prehensive documentation at point of care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munication among care team improved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duce Inefficienc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# documentation forms for CNA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NA time looking for documentation book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to compile reports for State Regulators and MDS 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for Wound RN to summarize and report data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mprove State Survey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stablish a foundation for EH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7C9-8042-4E14-984A-5C395E10B96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990720" y="2362320"/>
          <a:ext cx="7454880" cy="366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45488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act On Pressure Ulcer Q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400800"/>
            <a:ext cx="5715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ource:  CMS Nursing Home Compare; Facility QM data repo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523880"/>
            <a:ext cx="836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combined facilities’ average shows an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verall reduction of 33% in the QM % of high risk residents with pressure ulce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from pre-implementation to initial post-implementation time perio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1219320"/>
            <a:ext cx="335268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809880"/>
            <a:ext cx="1447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bined Faciliti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276720"/>
            <a:ext cx="1219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315200" y="3962520"/>
            <a:ext cx="2030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009920" y="3505320"/>
            <a:ext cx="2034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4724280"/>
            <a:ext cx="3047760" cy="285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03 – Q3 05% Change =  - 33%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3B2-732D-4BD4-9D2E-53E1839B0B8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ey Program Benefit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mprove Qualit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ove clinical decision making:  integrate reports into day-to-day workfl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residents at high risk early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mely communication among multi-disciplinary team memb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QI Collabo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eive technical assistance from QI expe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laborate with peers to share experiences and best practic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FCA-0736-4F7F-8773-B719A79680E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ey Program Benefits (cont)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mprove CNA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solidate current document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 data elements and eliminate redundanc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udit and train for accurac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Gain Effici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duce time spent searching for multiple sources of inform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utomated reports replace manual compilation of resident inform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rease Mora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ower multidisciplinary teams with CNAs as important memb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NAs see importance of their 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AA5-1A3B-41A9-9C42-5EDADC2D283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different about this approach?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49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egrates sustainable quality improvement into daily opera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eamlines documentation with focus on critical data elements and information flow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lates documentation data into multi-disciplinary clinical report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volves front-line staff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nks QI and HI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C0F-E556-46F8-8D12-C7356B12357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ng Term Care and AHRQ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Go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Broad improvements in quality at a national scal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trateg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rough adoption of innovations and tools th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oster evidence-based intervention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ncourage implementation in day to day practi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isseminate broadly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2E9-25AA-4A5C-B840-BED380A0D5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sure ulcer (PrU) rates remain high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pite guidelin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pite trai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 staff know how to prevent Pr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ed to identify high risk residents on weekly ba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ledge not integrated into day to day practic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ire multi-disciplinary team needs to coordinate care better for high risk residents (including CNA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012-EAAD-4116-BA02-6FA7431F5F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searc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Best Practice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ursing Home Study (NPULS)  1996-1997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long-term care provider organiz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 facili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,490 residents studi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,343 residents with pressure ulcer; 1,147 at ris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0% female, 30% ma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 age = 79.8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ded by Ross Products Division, Abbott Laborator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C67-A6F4-4E92-B584-A376B9A2DA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839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imes New Roman"/>
              </a:rPr>
              <a:t>Long Term Care CPI Results</a:t>
            </a:r>
            <a:br>
              <a:rPr sz="3900"/>
            </a:b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Outcome: Develop Pressure Ulcer</a:t>
            </a:r>
            <a:endParaRPr b="1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362320"/>
            <a:ext cx="1828800" cy="1143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176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97280" y="2286000"/>
            <a:ext cx="1828800" cy="12193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8968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aff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581280"/>
            <a:ext cx="243828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Ag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Severity of Il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P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pendency 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gt;= 7 AD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iabe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tobacco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hyd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Weight lo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581280"/>
            <a:ext cx="22096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echanical devices for the containment of urine (catheter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Disposable brie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Toileting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3581280"/>
            <a:ext cx="213372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RN hours per resident day &gt;=0 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CNA hours per resident day &gt;= 2.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0360" y="5105520"/>
            <a:ext cx="182880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73760" y="59436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SSRI + Antipsycho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3880"/>
            <a:ext cx="899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n et al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mer Geriatr So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ch 2004; 52(3):359-36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495680" y="3581280"/>
            <a:ext cx="28195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Fluid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Nutrition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ndard med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Enter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ase-specif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 calorie/hig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F93-CD07-41F3-9E8C-DABBAD8469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Common Challenges Across Facilities</a:t>
            </a:r>
            <a:endParaRPr b="1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086600" cy="42670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efficient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mplete Documen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NAs: untapped resour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 Breakdowns / Lack Standard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Decision Support Nee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66B-9D5C-4E2E-87AF-61D59E2F80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HRQ-funded Initiativ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nership for Quality Project: ‘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al-time Optimal Care Plans for Nursing Home QI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2002-2007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forming Health Care Quality through Information Systems:  ‘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rsing Home IT:  Optimal Medication and Care Delivery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2004-2007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-Time Prevention of Pressure Ulcers – Collaboration with QIOs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2005-2007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nowledge Transf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Capture and Spread Promising Practices and Lessons Learned from Implementing the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al-time Prevention of Pressure Ulc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project.  2006-2007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967-2568-4E37-B40A-F3030F6F3D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81480" y="4419720"/>
            <a:ext cx="1473480" cy="617400"/>
          </a:xfrm>
          <a:prstGeom prst="rightArrow">
            <a:avLst>
              <a:gd name="adj1" fmla="val 71935"/>
              <a:gd name="adj2" fmla="val 59665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ckground: Progression of Work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5207040"/>
            <a:ext cx="769608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81160" y="5041800"/>
            <a:ext cx="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0" y="5549760"/>
            <a:ext cx="10922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5105520"/>
            <a:ext cx="0" cy="3045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5160" y="5549760"/>
            <a:ext cx="10922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5083200"/>
            <a:ext cx="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5549760"/>
            <a:ext cx="10922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1981080"/>
            <a:ext cx="2286000" cy="17449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RQ-funded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-Time Optimal Care Plans”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 evidence-based best practices into daily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981080"/>
            <a:ext cx="2286000" cy="17449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RQ-funded: “Nursing Home I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HIT adoption in L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‘Real-Time’ knowledge in 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267080"/>
            <a:ext cx="1320840" cy="803520"/>
          </a:xfrm>
          <a:prstGeom prst="rightArrow">
            <a:avLst>
              <a:gd name="adj1" fmla="val 50000"/>
              <a:gd name="adj2" fmla="val 41095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419720"/>
            <a:ext cx="1168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4397400"/>
            <a:ext cx="1219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 with H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981080"/>
            <a:ext cx="1676520" cy="1156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Pressure Ulcer Long Term Care Stu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267080"/>
            <a:ext cx="1409760" cy="803520"/>
          </a:xfrm>
          <a:prstGeom prst="rightArrow">
            <a:avLst>
              <a:gd name="adj1" fmla="val 50000"/>
              <a:gd name="adj2" fmla="val 43862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45000" y="5011560"/>
            <a:ext cx="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4419720"/>
            <a:ext cx="1219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76160" y="5029200"/>
            <a:ext cx="228600" cy="380880"/>
          </a:xfrm>
          <a:prstGeom prst="line">
            <a:avLst/>
          </a:prstGeom>
          <a:ln w="349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28440" y="5029200"/>
            <a:ext cx="228600" cy="380880"/>
          </a:xfrm>
          <a:prstGeom prst="line">
            <a:avLst/>
          </a:prstGeom>
          <a:ln w="349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549760"/>
            <a:ext cx="10922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40760" y="4259160"/>
            <a:ext cx="1409400" cy="803520"/>
          </a:xfrm>
          <a:prstGeom prst="rightArrow">
            <a:avLst>
              <a:gd name="adj1" fmla="val 50000"/>
              <a:gd name="adj2" fmla="val 43851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4419720"/>
            <a:ext cx="1447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semin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1981080"/>
            <a:ext cx="1981440" cy="1643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RQ-funded: “On-Time Pressure Ulcer Prevention: Partnering with QI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6FF-FC5A-488C-B94F-266FE51FD7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istory of On-Time QI for LTC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n development for 5 year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ilot facilities reduced PrU rate by a third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urrently 28 active facilities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NY RFA will add at least 10-12 new facilitie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ecruiting efforts in progress CA, NY, and DC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artnership with California Healthcare Fnd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2 web casts : over 600 facilities registered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New pilot on PrU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ealing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(20 facilities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C17-DEAF-4BD2-8629-5581B6E3A3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usan</cp:lastModifiedBy>
  <cp:lastPrinted>2000-09-06T19:30:46Z</cp:lastPrinted>
  <dcterms:modified xsi:type="dcterms:W3CDTF">2007-09-20T18:56:52Z</dcterms:modified>
  <cp:revision>251</cp:revision>
  <dc:subject/>
  <dc:title>No Slide Title</dc:title>
</cp:coreProperties>
</file>