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8501BDE-F033-4A51-A67B-5203B99D20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212480" y="685440"/>
            <a:ext cx="4591080" cy="34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34560" y="4354560"/>
            <a:ext cx="5140440" cy="4208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87865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971880" y="87865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545F9D2-6654-4352-97C4-FB418B985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971880" y="87865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E820D79-5814-40C9-AB11-B063E3FF0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87865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97188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B45BAAF-AF9E-476E-A5F7-8BDD74B41F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984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971880" y="87865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5A7E28C-679D-41D5-B6E3-2EDCE3E15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87865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7188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D00ADF9-177C-421F-9E30-AB0AC33497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971880" y="87865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2F0AB13-21BE-4759-9A3C-1AEE297C3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87865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7188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6E532EE-015C-41D6-8239-4EA3EBBB5A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984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971880" y="87865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DDDC6C0-274A-4883-BFB6-8A1090221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87865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7188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F38EE12-137B-4014-A2D0-C04DECA61B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984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009C-7382-41EC-98F4-797A27ED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208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82A1-0E6C-482F-9280-20C2A862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F50A-B746-43C1-9F72-581E3F64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C1DE-1A7B-4D93-B48E-35D7BC22D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FCCB-D3A8-46A4-BE0B-8CCFDD53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50F8-58C6-43DC-A9E5-47737CD4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6153-5B33-4304-97BC-A0D7E661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04F5-24BF-4682-A35F-94AB60F9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43A7-946B-4460-9DD9-FA1F10EA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F678-2A24-4351-863F-C105B701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07F8-D681-40B1-8C4C-3CC60F80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FB93-9ABA-4545-8E5A-77B29BE2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140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C894-DD62-4AE2-8671-A689BD9D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99976-1180-4272-BC2D-34477B48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480" y="40208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4BFB-13B0-4165-AF23-2DF3CBC3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140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8E7D-929D-4ECE-A5ED-6FA4CD8D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340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1732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48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340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1732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AC85-DF38-48B2-AA8B-E5295111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12EC-C16F-4C18-8A53-3490EB88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3066-7308-4C6F-8090-E247AA12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569B-C536-422B-9BB1-EAA66A08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391D-6E39-4A58-969D-214E1670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937C-A009-491B-8871-EDD25689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6FE0-3ABB-4BBF-8EAD-CACE37B6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0DDF-B09E-4733-A9A9-BE248AA5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00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cc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20AC-2DFD-4B5D-AF27-0DDC0D7A7C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894B-8CA4-416B-9491-8BE1E110F8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9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00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cc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20968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n-Time Quality Improvement for Long Term Care</a:t>
            </a: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ursday, September 27, 2007; 1:30 – 3p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373392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san D. Horn, Ph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stitute for Clinical Outcomes Research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699 E. South Temple, Suite 100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alt Lake City, Utah  84102-1282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801-466-5595 (T)     801-466-6685 (F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horn@isisicor.co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5105520"/>
            <a:ext cx="5105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2600" y="0"/>
            <a:ext cx="825048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1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designing Work Processes to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mprove Resident Safety and Quali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985E-B16D-4441-8CFC-D831FCE6B69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76360" y="1676160"/>
            <a:ext cx="79912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57840" y="2438280"/>
            <a:ext cx="237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Prevention Repor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3040" y="4724280"/>
            <a:ext cx="27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Standardized CNA document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29360" y="5257800"/>
            <a:ext cx="128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QI Tea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Picture of person using digital pen tool"/>
          <p:cNvPicPr/>
          <p:nvPr/>
        </p:nvPicPr>
        <p:blipFill>
          <a:blip r:embed="rId1"/>
          <a:stretch/>
        </p:blipFill>
        <p:spPr>
          <a:xfrm>
            <a:off x="2166840" y="1143000"/>
            <a:ext cx="787320" cy="1295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Picture of computer with peripheral card unit"/>
          <p:cNvPicPr/>
          <p:nvPr/>
        </p:nvPicPr>
        <p:blipFill>
          <a:blip r:embed="rId2"/>
          <a:stretch/>
        </p:blipFill>
        <p:spPr>
          <a:xfrm>
            <a:off x="3048120" y="1143000"/>
            <a:ext cx="1693800" cy="1305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209680" y="3124080"/>
            <a:ext cx="2590920" cy="707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ccess timely inform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3040" y="5715000"/>
            <a:ext cx="2921040" cy="707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duce redundanc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solidate documen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5867280"/>
            <a:ext cx="3047760" cy="580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ont-line team members use reports in daily 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Image of Standard CNA Documentation"/>
          <p:cNvPicPr/>
          <p:nvPr/>
        </p:nvPicPr>
        <p:blipFill>
          <a:blip r:embed="rId3"/>
          <a:stretch/>
        </p:blipFill>
        <p:spPr>
          <a:xfrm>
            <a:off x="338040" y="27432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Prevention Reports picture of two people reviewing computer image"/>
          <p:cNvPicPr/>
          <p:nvPr/>
        </p:nvPicPr>
        <p:blipFill>
          <a:blip r:embed="rId4"/>
          <a:stretch/>
        </p:blipFill>
        <p:spPr>
          <a:xfrm>
            <a:off x="5824440" y="1143000"/>
            <a:ext cx="1762200" cy="1170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44480" y="1600200"/>
            <a:ext cx="1219320" cy="68580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8520" y="1523880"/>
            <a:ext cx="868320" cy="486000"/>
          </a:xfrm>
          <a:prstGeom prst="rightArrow">
            <a:avLst>
              <a:gd name="adj1" fmla="val 50000"/>
              <a:gd name="adj2" fmla="val 44667"/>
            </a:avLst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34280" y="3657600"/>
            <a:ext cx="4744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6129360" y="4191120"/>
            <a:ext cx="1152360" cy="1143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283360" y="3124080"/>
            <a:ext cx="25732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dentify high-risk resid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00240" y="2590920"/>
            <a:ext cx="311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Information Technolog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2286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14640" y="685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65800" y="68580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0120" y="45720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0797-21FD-41B8-B29D-5791DB8BFDA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30592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Implement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:  Workflow Redesign Focused to Reduce PrU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NA Daily Workflow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381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ndardized data in documentation flow shee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381240">
              <a:lnSpc>
                <a:spcPct val="90000"/>
              </a:lnSpc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roved communication with clinical team (RN, CNA, MDS, Dietary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250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ound Nurs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381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ndardized data in PrU document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381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imely access to compiled inform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749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imely Information for Care Planning Process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381240">
              <a:lnSpc>
                <a:spcPct val="90000"/>
              </a:lnSpc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dentify residents at risk for pressure ulcer developm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381240">
              <a:lnSpc>
                <a:spcPct val="90000"/>
              </a:lnSpc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cess to summarized information for clinical decision-mak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381240">
              <a:lnSpc>
                <a:spcPct val="90000"/>
              </a:lnSpc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orten response time between identification of resident need and interven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A694-E0E3-413C-A588-38A69BF4F93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71440" y="-360"/>
            <a:ext cx="88725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imely Feedback Reports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0440" y="1728720"/>
            <a:ext cx="8275680" cy="512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43800" indent="-343800">
              <a:lnSpc>
                <a:spcPct val="9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Access to summarized information for clinical decision-making</a:t>
            </a:r>
            <a:endParaRPr b="1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640" indent="-2876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trition, Behavior, High risk triggers, Pressure Ulcer monitoring repor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800" indent="0">
              <a:lnSpc>
                <a:spcPct val="90000"/>
              </a:lnSpc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1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800" indent="-343800">
              <a:lnSpc>
                <a:spcPct val="9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Improve response time between identification of resident need and intervention</a:t>
            </a:r>
            <a:endParaRPr b="1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640" indent="-2876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dentify residents at risk for pressure ulcer developm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6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800" indent="-343800">
              <a:lnSpc>
                <a:spcPct val="90000"/>
              </a:lnSpc>
              <a:spcBef>
                <a:spcPts val="145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Transform from paper to data culture</a:t>
            </a:r>
            <a:endParaRPr b="1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6640" indent="-2876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nk reports to documentation elemen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E71C-EA84-432D-B658-6027A5A3295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Decision Making Reports</a:t>
            </a:r>
            <a:endParaRPr b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Documentation Completeness Repor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ummary of CNA documentation completeness rat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Nutrition Repor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Displays average meal intake, resident diet, supplements, resident weight status (presence of weight gain/loss), last diet consult date, history of pressure ulcer indicator, and presence of pressure ulcer.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Behavior Repor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Displays the total number of times a resident exhibits a behavior by shif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Priority Resident Repor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Displays residents who are at risk for pressure ulcer development and high priority for staff focus.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FD5C-3408-4833-B6F0-ACED368A6D7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560" y="2895480"/>
            <a:ext cx="42670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Nutrition Summar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600" indent="-2757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Meal intake for 4 weeks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600" indent="-2757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Fluid intake for 4 weeks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600" indent="-2757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Diet order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600" indent="-2757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Supplement product 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600" indent="-2757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Weight change since last week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600" indent="-2757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Existing pressure ulcer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14600" indent="-2757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History of resolved ulcer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343040" y="3200040"/>
            <a:ext cx="48006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Weight Summar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-287280"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Weight 180 days prior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-287280"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Weight 30 days prior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-287280"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Weight for each of past 4 weeks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-287280"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Weight change since last week 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-287280"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5-10% weight loss past 30 days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-287280"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&gt;10% weight loss past 180 days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9640" y="282600"/>
            <a:ext cx="566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x: Nutrition Repor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160" y="1654200"/>
            <a:ext cx="888732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tratified by R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vide ‘BIG picture’ over time, not just snapshot of one shift or one da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D92F-AD00-4142-96B1-EAD237925E1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Results</a:t>
            </a:r>
            <a:endParaRPr b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61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079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507960"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Decrease Pressure Ulcer Development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507960"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crease Adherence to Best Practic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507960"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crease Staff Accountability and Satisfac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-50832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Inclusion of front-line workers in QI efforts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-508320">
              <a:lnSpc>
                <a:spcPct val="80000"/>
              </a:lnSpc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Comprehensive documentation at point of care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-508320">
              <a:lnSpc>
                <a:spcPct val="80000"/>
              </a:lnSpc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Communication among care team improved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50796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Reduce Inefficienci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-50832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# documentation forms for CNAs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-50832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CNA time looking for documentation book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-50832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Time to compile reports for State Regulators and MDS 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-50832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Time for Wound RN to summarize and report data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507960"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Improve State Survey Proces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507960"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Establish a foundation for EH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E542-EA44-4194-B1A5-0FDA9E14999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990720" y="2362320"/>
          <a:ext cx="7454880" cy="366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362320"/>
                    <a:ext cx="7454880" cy="36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mpact On Pressure Ulcer QM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6400800"/>
            <a:ext cx="57150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ource:  CMS Nursing Home Compare; Facility QM data repor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1523880"/>
            <a:ext cx="836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combined facilities’ average shows an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verall reduction of 33% in the QM % of high risk residents with pressure ulcer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from pre-implementation to initial post-implementation time perio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05520" y="1219320"/>
            <a:ext cx="3352680" cy="685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0" y="3809880"/>
            <a:ext cx="14479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bined Faciliti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0" y="3276720"/>
            <a:ext cx="12193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tional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or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315200" y="3962520"/>
            <a:ext cx="2030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7009920" y="3505320"/>
            <a:ext cx="20340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2520" y="4724280"/>
            <a:ext cx="3047760" cy="285480"/>
          </a:xfrm>
          <a:prstGeom prst="rect">
            <a:avLst/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4 03 – Q3 05% Change =  - 33%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4CB7-15F1-4081-82DA-B179A6220CB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Key Program Benefit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Improve Quality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mprove clinical decision making:  integrate reports into day-to-day workflow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dentify residents at high risk early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imely communication among multi-disciplinary team membe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QI Collaboratio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ceive technical assistance from QI exper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llaborate with peers to share experiences and best practice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A50B-894E-416F-AD0E-9D0A3583AE3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Key Program Benefits (cont)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Improve CNA Document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onsolidate current documentation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tandardize data elements and eliminate redundancy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Audit and train for accuracy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Gain Efficienc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Reduce time spent searching for multiple sources of information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Automated reports replace manual compilation of resident information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Increase Moral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mpower multidisciplinary teams with CNAs as important memb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NAs see importance of their work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56D4-03BA-423B-BE00-7D394F225BE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is different about this approach?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8991720" cy="49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tegrates sustainable quality improvement into daily operation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reamlines documentation with focus on critical data elements and information flow.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anslates documentation data into multi-disciplinary clinical reports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volves front-line staff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inks QI and HI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3692-63EE-4925-8B88-84070EC4192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9644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ong Term Care and AHRQ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2251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Goal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Broad improvements in quality at a national scale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2251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Strategy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Through adoption of innovations and tools that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80000"/>
              </a:lnSpc>
              <a:spcBef>
                <a:spcPts val="1125"/>
              </a:spcBef>
              <a:buClr>
                <a:srgbClr val="ffff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Foster evidence-based interventions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80000"/>
              </a:lnSpc>
              <a:spcBef>
                <a:spcPts val="1125"/>
              </a:spcBef>
              <a:buClr>
                <a:srgbClr val="ffff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Encourage implementation in day to day practice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lnSpc>
                <a:spcPct val="80000"/>
              </a:lnSpc>
              <a:spcBef>
                <a:spcPts val="1125"/>
              </a:spcBef>
              <a:buClr>
                <a:srgbClr val="ffff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Disseminate broadly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B3D4-4342-4A4F-B840-8C57AE65CB6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ackground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ssure ulcer (PrU) rates remain high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spite guidelin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spite train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H staff know how to prevent PrU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ed to identify high risk residents on weekly ba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nowledge not integrated into day to day practice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ire multi-disciplinary team needs to coordinate care better for high risk residents (including CNAs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E9DE-F243-4BEF-9FB5-7A556FF34D8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Research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ased Best Practices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ursing Home Study (NPULS)  1996-1997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 long-term care provider organizat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9 faciliti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,490 residents studie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,343 residents with pressure ulcer; 1,147 at ris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0% female, 30% mal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verage age = 79.8 yea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unded by Ross Products Division, Abbott Laboratorie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74A5-26EF-4C73-B672-6AA8F8EE495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83988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Times New Roman"/>
              </a:rPr>
              <a:t>Long Term Care CPI Results</a:t>
            </a:r>
            <a:br>
              <a:rPr sz="3900"/>
            </a:br>
            <a:r>
              <a:rPr b="1" lang="en-US" sz="3500" spc="-1" strike="noStrike">
                <a:solidFill>
                  <a:srgbClr val="ffff00"/>
                </a:solidFill>
                <a:latin typeface="Times New Roman"/>
              </a:rPr>
              <a:t>Outcome: Develop Pressure Ulcer</a:t>
            </a:r>
            <a:endParaRPr b="1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362320"/>
            <a:ext cx="1828800" cy="1143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ssess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1760" y="2286000"/>
            <a:ext cx="1828800" cy="122076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contin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erven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97280" y="2286000"/>
            <a:ext cx="1828800" cy="121932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Nutr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erven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89680" y="2286000"/>
            <a:ext cx="1828800" cy="122076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taff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erven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3581280"/>
            <a:ext cx="2438280" cy="38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Age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8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M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Severity of Illn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History of P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Dependency i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gt;= 7 AD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Diabe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History of tobacco u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Dehyd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Weight lo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3581280"/>
            <a:ext cx="220968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Mechanical devices for the containment of urine (catheters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Disposable brief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Toileting Progr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3581280"/>
            <a:ext cx="2133720" cy="20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RN hours per resident day &gt;=0 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CNA hours per resident day &gt;= 2.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40360" y="5105520"/>
            <a:ext cx="1828800" cy="6858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ed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73760" y="594360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SSRI + Antipsychot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523880"/>
            <a:ext cx="8991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rn et al,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. Amer Geriatr Soc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arch 2004; 52(3):359-367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495680" y="3581280"/>
            <a:ext cx="281952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Fluid O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Nutritional Suppl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andard medi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Enteral Suppl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isease-specif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igh calorie/high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rotei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401C-80AB-4315-A25D-CB16BFD306A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Times New Roman"/>
              </a:rPr>
              <a:t>Common Challenges Across Facilities</a:t>
            </a:r>
            <a:endParaRPr b="1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2057040"/>
            <a:ext cx="7086600" cy="426708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599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efficient Process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599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complete Documentatio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599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NAs: untapped resourc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599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munication Breakdowns / Lack Standard Process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599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nical Decision Support Need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64E1-192E-4724-A93E-323AC9921B7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HRQ-funded Initiative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tnership for Quality Project: ‘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al-time Optimal Care Plans for Nursing Home QI’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 2002-2007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nsforming Health Care Quality through Information Systems:  ‘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Nursing Home IT:  Optimal Medication and Care Delivery’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 2004-2007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n-Time Prevention of Pressure Ulcers – Collaboration with QIOs’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 2005-2007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Knowledge Transfe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 Capture and Spread Promising Practices and Lessons Learned from Implementing the “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al-time Prevention of Pressure Ulcer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” project.  2006-2007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4CB4-5380-407D-8B1C-77CEF8F743A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181480" y="4419720"/>
            <a:ext cx="1473480" cy="617400"/>
          </a:xfrm>
          <a:prstGeom prst="rightArrow">
            <a:avLst>
              <a:gd name="adj1" fmla="val 71935"/>
              <a:gd name="adj2" fmla="val 59665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ackground: Progression of Work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25480" y="5207040"/>
            <a:ext cx="769608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1440" bIns="-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81160" y="5041800"/>
            <a:ext cx="0" cy="3049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8400" y="5549760"/>
            <a:ext cx="109224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848720" y="5105520"/>
            <a:ext cx="0" cy="3045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35160" y="5549760"/>
            <a:ext cx="109224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680" y="5083200"/>
            <a:ext cx="0" cy="3049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5549760"/>
            <a:ext cx="109224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1981080"/>
            <a:ext cx="2286000" cy="174492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HRQ-funded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-Time Optimal Care Plans”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e evidence-based best practices into daily 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1981080"/>
            <a:ext cx="2286000" cy="174492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HRQ-funded: “Nursing Home I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HIT adoption in LT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‘Real-Time’ knowledge in 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4267080"/>
            <a:ext cx="1320840" cy="803520"/>
          </a:xfrm>
          <a:prstGeom prst="rightArrow">
            <a:avLst>
              <a:gd name="adj1" fmla="val 50000"/>
              <a:gd name="adj2" fmla="val 41095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4419720"/>
            <a:ext cx="1168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19640" y="4397400"/>
            <a:ext cx="12193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e with H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1981080"/>
            <a:ext cx="1676520" cy="115668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ional Pressure Ulcer Long Term Care Stud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4267080"/>
            <a:ext cx="1409760" cy="803520"/>
          </a:xfrm>
          <a:prstGeom prst="rightArrow">
            <a:avLst>
              <a:gd name="adj1" fmla="val 50000"/>
              <a:gd name="adj2" fmla="val 43862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45000" y="5011560"/>
            <a:ext cx="0" cy="3049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65360" y="4419720"/>
            <a:ext cx="12193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676160" y="5029200"/>
            <a:ext cx="228600" cy="380880"/>
          </a:xfrm>
          <a:prstGeom prst="line">
            <a:avLst/>
          </a:prstGeom>
          <a:ln w="349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828440" y="5029200"/>
            <a:ext cx="228600" cy="380880"/>
          </a:xfrm>
          <a:prstGeom prst="line">
            <a:avLst/>
          </a:prstGeom>
          <a:ln w="349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5549760"/>
            <a:ext cx="109224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40760" y="4259160"/>
            <a:ext cx="1409400" cy="803520"/>
          </a:xfrm>
          <a:prstGeom prst="rightArrow">
            <a:avLst>
              <a:gd name="adj1" fmla="val 50000"/>
              <a:gd name="adj2" fmla="val 43851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15200" y="4419720"/>
            <a:ext cx="1447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semin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10280" y="1981080"/>
            <a:ext cx="1981440" cy="164340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HRQ-funded: “On-Time Pressure Ulcer Prevention: Partnering with QIOs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4E58-A35C-496C-97AA-B02072EAB5D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istory of On-Time QI for LTC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12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In development for 5 years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12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Pilot facilities reduced PrU rate by a third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12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urrently 28 active facilities 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12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NY RFA will add at least 10-12 new facilities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12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Recruiting efforts in progress CA, NY, and DC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12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Partnership with California Healthcare Fndn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12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2 web casts : over 600 facilities registered 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12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New pilot on PrU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healing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  (20 facilities)</a:t>
            </a: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43D5-72ED-4494-BCFA-5E9D6413C79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9T22:39:16Z</dcterms:created>
  <dc:creator>Susan D. Horn, Ph.D.</dc:creator>
  <dc:description/>
  <dc:language>en-US</dc:language>
  <cp:lastModifiedBy>Susan</cp:lastModifiedBy>
  <cp:lastPrinted>2000-09-06T19:30:46Z</cp:lastPrinted>
  <dcterms:modified xsi:type="dcterms:W3CDTF">2007-09-20T18:56:52Z</dcterms:modified>
  <cp:revision>251</cp:revision>
  <dc:subject/>
  <dc:title>No Slide Title</dc:title>
</cp:coreProperties>
</file>