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ason Goldwater" initials="JG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9-21T14:29:58.965000000" idx="1">
    <p:pos x="4019" y="2367"/>
    <p:text>Yes, e-prescribing is a major component of HIE, as there is enough literature out there to suggest a significant reduction in overall health costs.</p:text>
  </p:cm>
</p:cmLst>
</file>

<file path=ppt/comments/comment6.xml><?xml version="1.0" encoding="utf-8"?>
<p:cmLst xmlns:p="http://schemas.openxmlformats.org/presentationml/2006/main">
  <p:cm authorId="0" dt="2007-09-21T14:30:37.560000000" idx="2">
    <p:pos x="4625" y="1712"/>
    <p:text>Do you have data on how much lower in solo practices, and how significant the adoption rate is in New England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B89-A269-4D62-8FAB-DD207990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1646-04E0-4345-8220-9476220B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952-E99B-4F95-9ADF-DF27B0980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D8B-1B61-4EB2-BAB3-EC23F86F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AC1-0A43-4DCB-8B53-CF25F471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7F3-348B-43F6-8435-0A3C6563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A7C-5BBC-4E99-9DE4-AEF4457B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B61-BA1F-4DAD-908F-36F8726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8AC-6C37-415C-8627-7916A3B8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797-68E8-4E78-8672-184CC82B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376-72F5-4C38-8E44-8AAD1865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9E4-0DEC-4358-8E14-FD4A32F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DC7A-5891-4F48-8B8B-44FC4D186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5905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Return on Investment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Apples to Orange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 at least Macintosh to Granny Sm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Yael Harris, PhD, M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nior Policy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ffice of the National Coordinator for Health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608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124080" y="-30492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507000" y="0"/>
            <a:ext cx="2374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Quick Review of the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763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39,662 total annual savings in practice of 28 MDs using EHRs-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Grieger, Cohen, Krusch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net benefit of using EMR over 5 year period: $86,400 per physician-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ng, Middleton, Prosser, et. al.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wide savings of $21.3 billion within 5 years of 90% adoption-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illestad, Bigelow, Bower et. al.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EMRs can result in poorer quality (and possibly higher overall costs as a result)-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inder et. al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6688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measu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Administrative Recor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Physician Order Ente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lab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Decision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3581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lea for a Standardized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5639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 funded study by George Washington /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stitutes an Electronic Health Record (EH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ea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79064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3600" y="2809800"/>
            <a:ext cx="32004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Function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ordering of lab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receipt of lab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ordering of me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, What is Current Adoption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2% for physician off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much lower for small and solo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lower in rur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st rates in New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4648320"/>
            <a:ext cx="17748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oing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Comprehensive survey of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ypes of practices that have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actices planning to ado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cost trade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 &amp; going forward- National Ambulatory Medical Care Survey (NA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3906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, is there a return on invest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ion” of E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inc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up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76920" y="2209680"/>
            <a:ext cx="952560" cy="1343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71480" cy="1057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9880" y="5029200"/>
            <a:ext cx="971640" cy="133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238880" y="533520"/>
            <a:ext cx="97164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28600" y="5800680"/>
            <a:ext cx="77148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7924680" y="5257800"/>
            <a:ext cx="952560" cy="1343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6400800" y="3962520"/>
            <a:ext cx="7714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48320" y="304560"/>
            <a:ext cx="449568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2880" y="4419720"/>
            <a:ext cx="41911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el Har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-205-36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el.harris@hhs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857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6:48:27Z</dcterms:created>
  <dc:creator>Preferred Customer</dc:creator>
  <dc:description/>
  <dc:language>en-US</dc:language>
  <cp:lastModifiedBy>DHHS</cp:lastModifiedBy>
  <dcterms:modified xsi:type="dcterms:W3CDTF">2007-09-24T21:35:39Z</dcterms:modified>
  <cp:revision>6</cp:revision>
  <dc:subject/>
  <dc:title>Measuring Return on Investment: Comparing Apples to Oranges</dc:title>
</cp:coreProperties>
</file>