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ason Goldwater" initials="J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9-21T14:29:58.965000000" idx="1">
    <p:pos x="4019" y="2367"/>
    <p:text>Yes, e-prescribing is a major component of HIE, as there is enough literature out there to suggest a significant reduction in overall health costs.</p:text>
  </p:cm>
</p:cmLst>
</file>

<file path=ppt/comments/comment6.xml><?xml version="1.0" encoding="utf-8"?>
<p:cmLst xmlns:p="http://schemas.openxmlformats.org/presentationml/2006/main">
  <p:cm authorId="0" dt="2007-09-21T14:30:37.560000000" idx="2">
    <p:pos x="4625" y="1712"/>
    <p:text>Do you have data on how much lower in solo practices, and how significant the adoption rate is in New Englan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5E3-A011-4474-9DB9-B11AEAED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9DA-752E-46D3-A122-F58DAABA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C94-09E3-47DD-A8D3-C5CE7C56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626-C7AE-4697-A82D-D3FB2390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936-741F-4DC4-AC86-B42E108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49F-A87D-49D6-803D-FC2703C8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FA3-993A-4DC5-B738-F089DBF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8D3-4D4E-42D5-B2A0-120404E4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86E-61C7-4D8A-9156-474DFE7F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C04-F3E0-47BE-8E41-635EAD9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488-CE9D-4F8B-B5BE-794909B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2D6-4076-47BA-A938-64D4CAAA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E60-F4B3-4D6C-835B-A3F1E0B0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turn on Invest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Apples to Orang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at least Macintosh to Granny Sm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ael Harris, PhD, M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nior Policy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ffice of the National Coordinator for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60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24080" y="-30492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07000" y="0"/>
            <a:ext cx="2374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ick Review of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39,662 total annual savings in practice of 28 MDs using EHRs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rieger, Cohen, Krusch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net benefit of using EMR over 5 year period: $86,400 per physician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ng, Middleton, Prosser, et. al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wide savings of $21.3 billion within 5 years of 90% adoption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illestad, Bigelow, Bower et. al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MRs can result in poorer quality (and possibly higher overall costs as a result)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der et. al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measu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dministrative Recor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Physician Order En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l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Decision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581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lea for a Standardized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 funded study by George Washington /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stitutes an Electronic Health Record (E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ea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79064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2809800"/>
            <a:ext cx="3200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ordering of lab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receipt of lab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ordering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What is Current Adoption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% for physician off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much lower for small and solo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lower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rates in 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1774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Comprehensive survey of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ypes of practices that have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actices planning to ado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 trade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&amp; going forward- National Ambulatory Medical Care Survey (NA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390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is there a return on inves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” of 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in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p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148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9880" y="5029200"/>
            <a:ext cx="9716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8880" y="533520"/>
            <a:ext cx="97164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8600" y="5800680"/>
            <a:ext cx="77148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924680" y="525780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400800" y="3962520"/>
            <a:ext cx="7714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44956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4419720"/>
            <a:ext cx="41911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el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-205-36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el.harris@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85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6:48:27Z</dcterms:created>
  <dc:creator>Preferred Customer</dc:creator>
  <dc:description/>
  <dc:language>en-US</dc:language>
  <cp:lastModifiedBy>DHHS</cp:lastModifiedBy>
  <dcterms:modified xsi:type="dcterms:W3CDTF">2007-09-24T21:35:39Z</dcterms:modified>
  <cp:revision>6</cp:revision>
  <dc:subject/>
  <dc:title>Measuring Return on Investment: Comparing Apples to Oranges</dc:title>
</cp:coreProperties>
</file>