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76B0-AEEE-47DC-B88A-75AFDB49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tell e bay story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when improve technical, what is left to improve like aviation when planes are in air.        Where is variation among you.    SSI not likely technica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824-F8D1-41E6-9708-15958DAE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7F9-3E78-4F7A-A20E-7EEC649A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8D5-CF63-466E-83AE-8DCCB77F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D12-6154-43D5-99E8-40184965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DC0-5FCC-42B0-A89D-A7231DC9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DBC-9067-483F-BD40-C58BA4B3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245-AC2F-4D28-B23F-417A0843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A9D-9619-4CE1-A77E-8A9DD58E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870-D596-4B29-A441-33A258A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2FC-54DC-4C2B-BBB7-8EE3227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EAC-FB8A-4F5A-BF39-FE55E1C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E47-2C9E-4E49-93CC-1DA8672C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916-77FE-49AD-B01F-7275E523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5397480"/>
            <a:ext cx="1523880" cy="12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Care Through Technical &amp; Adaptiv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ris Goeschel RN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rector, Patient Safety &amp;Quality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HU Quality &amp; Safety Researc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goesch1@jhmi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397480"/>
            <a:ext cx="15238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60" y="576360"/>
            <a:ext cx="22860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4680"/>
            <a:ext cx="3776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ading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760" y="533520"/>
          <a:ext cx="9097920" cy="6319440"/>
        </p:xfrm>
        <a:graphic>
          <a:graphicData uri="http://schemas.openxmlformats.org/drawingml/2006/table">
            <a:tbl>
              <a:tblPr/>
              <a:tblGrid>
                <a:gridCol w="868320"/>
                <a:gridCol w="2286000"/>
                <a:gridCol w="2460600"/>
                <a:gridCol w="348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ve Lea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m Lea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ap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Make the World a Better Pla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create an organization that is safe for patients and rewarding for staff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es this strategy fit our mission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Make the World a Better Pla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create a unit that is safe for patients and rewarding for staff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 I touch their heart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Make the World a Better Pla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I believe I can change the world, starting with my uni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I help make my unit safer for patients and a better place to work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the business cas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engage the Board and Medical Staff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can I monitor progress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the evid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I have executive and medical staff support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there tools to help me develop a plan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is this change importa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are patient outcomes likely to improv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es my daily work need to chang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re do I go for suppor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ap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the Board and Medical Staff support the plan and have the skills and vision to impleme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 the team has sufficient resources, incentives and organizational support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the Staff Know the plan and do they have the skills and commitment to implement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we tailored this to our environme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I be a better team member and team lead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can I share what I know to make care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 I learning from defects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Will I Know I Made a Differ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resources been allocated to collect and use safety data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work climate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patients saf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Will I Know I Made a Differ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I created a system for data collection, unit level reporting, and using data to improv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work climate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patients saf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Will I Know I Made a Differ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our unit level report card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unit a better place to work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eamwork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patients saf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77777"/>
                          </a:solidFill>
                          <a:latin typeface="Arial"/>
                          <a:ea typeface="Times New Roman"/>
                        </a:rPr>
                        <a:t>© Quality and Safety Research Group, Johns Hopkins University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to use common methods for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eporting and analysis, 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, support, coaching from the collaborative sponsor &amp;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data is to help understand, control, and improve processe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for learning and testing, not for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asure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fety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we harm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I and V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we do what we shou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 bun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often do we learn from de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arn from one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well do we improv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828800" y="1494000"/>
          <a:ext cx="6454440" cy="4222080"/>
        </p:xfrm>
        <a:graphic>
          <a:graphicData uri="http://schemas.openxmlformats.org/drawingml/2006/table">
            <a:tbl>
              <a:tblPr/>
              <a:tblGrid>
                <a:gridCol w="2440440"/>
                <a:gridCol w="2319840"/>
                <a:gridCol w="1694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CRBSI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rate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 inter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76212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80% Reduction in BSI in One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24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3 prevented infections 108 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get technical and adaptive work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measurement, loc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culture and specific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have you used your SAQ and clinical resul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es your project team include and respect expertise of technical and adaptive experts ?  (Infection control, education, QI, organizational development et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hat harm is untenable; make harm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does this look like in your clinical a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have you shared what you are learning with other teams in the collabor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odification of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ve you adapted the implementation in light of your organizational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improve quality improv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ublic reporting change focus from doing good to looking goo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egree of evidence is required to develop a process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we know we mad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an We Cross the Chasm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demands rig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deserve reliabil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apable ~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the cou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Man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4495320" y="1143000"/>
            <a:ext cx="1080" cy="37346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3"/>
          </p:cNvCxnSpPr>
          <p:nvPr/>
        </p:nvCxnSpPr>
        <p:spPr>
          <a:xfrm>
            <a:off x="2209320" y="2743200"/>
            <a:ext cx="449676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362320" y="4876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52280" y="2133720"/>
            <a:ext cx="2361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all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362320"/>
            <a:ext cx="2819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981080"/>
            <a:ext cx="18288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00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9880" y="548640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8200" y="159228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Never doubt that a small group of thoughtful committed citizens can change the world. Indeed, it’s the only thing that ever h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rgaret Me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hns Hopki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Unit-ba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145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ulture of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staff on science of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xecutive to adop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rom one defect per month and implement teamwor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ww.safetyresearch.jh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257800"/>
            <a:ext cx="8686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63579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novost J Patient Safet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Reliable Health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terventions associated with improved outcomes in specified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trongest interventions, convert to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measures (either process or out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patients receive the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CLAB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Unnecessary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Hands Prior to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ximal Barrier 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Skin with Chlorhex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Femor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WR. 2002;51 RR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olved with existing science o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or challenges for which there is “an ans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able to centralize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change of values, attitudes o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………..respecting the wisdom of the front line wor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000" y="903240"/>
            <a:ext cx="7506000" cy="4594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47920" y="2858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we need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35:07Z</dcterms:created>
  <dc:creator>Chris g</dc:creator>
  <dc:description/>
  <dc:language>en-US</dc:language>
  <cp:lastModifiedBy>User</cp:lastModifiedBy>
  <dcterms:modified xsi:type="dcterms:W3CDTF">2007-09-27T11:44:35Z</dcterms:modified>
  <cp:revision>3</cp:revision>
  <dc:subject/>
  <dc:title>Improving Care Through Technical &amp; Adaptive Work</dc:title>
</cp:coreProperties>
</file>