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AED9A-6414-49C5-9E4D-D37D4D85C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3800" cy="343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lture tell e bay story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3800" cy="343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when improve technical, what is left to improve like aviation when planes are in air.        Where is variation among you.    SSI not likely technical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FE18-6F82-423B-9AD7-BA1C44FA2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81BA-E548-4DE4-A3DA-3779BC17B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E6CE-A1BF-4CB3-BA70-E241A9AF4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933C-F485-49A2-8427-F45487C9E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284E-6F4C-4EB8-9BC8-7C36C3D6D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ED0B-81EB-41F2-AA57-CB517AFC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B3A6-EB8F-42DA-833C-FBEAA2153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0F5C-8C6A-470B-AD5E-A2D0D9D9E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DEF1-1BF2-45EC-9545-398809792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ACEC-DD6A-47AF-9818-6648F037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CF4D-80BA-4C98-B2F2-F17092A5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CA9A-1979-4F95-A9F5-EDD7F5C8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53B6F-5920-41E0-89A8-11B0BE05A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5397480"/>
            <a:ext cx="1523880" cy="125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5943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roving Care Through Technical &amp; Adaptive 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2590560"/>
            <a:ext cx="86104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hris Goeschel RN M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irector, Patient Safety &amp;Quality Initi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JHU Quality &amp; Safety Research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goesch1@jhmi.e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920" y="5397480"/>
            <a:ext cx="1523880" cy="12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3760" y="576360"/>
            <a:ext cx="2286000" cy="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195640" y="4680"/>
            <a:ext cx="377640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Leading 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3760" y="533520"/>
          <a:ext cx="9097920" cy="6319440"/>
        </p:xfrm>
        <a:graphic>
          <a:graphicData uri="http://schemas.openxmlformats.org/drawingml/2006/table">
            <a:tbl>
              <a:tblPr/>
              <a:tblGrid>
                <a:gridCol w="868320"/>
                <a:gridCol w="2286000"/>
                <a:gridCol w="2460600"/>
                <a:gridCol w="3483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ecutive Leade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am Leade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f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127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g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ap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608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w Do I Make the World a Better Place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228600"/>
                          <a:tab algn="l" pos="608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w do I create an organization that is safe for patients and rewarding for staff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228600"/>
                          <a:tab algn="l" pos="608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w does this strategy fit our mission?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w Do I Make the World a Better Place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w do I create a unit that is safe for patients and rewarding for staff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w do  I touch their hearts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w Do I Make the World a Better Place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 I believe I can change the world, starting with my unit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n I help make my unit safer for patients and a better place to work?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10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uc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chnic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608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hat Do I Need to Know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228600"/>
                          <a:tab algn="l" pos="608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hat is the business case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228600"/>
                          <a:tab algn="l" pos="608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w do I engage the Board and Medical Staff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228600"/>
                          <a:tab algn="l" pos="608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w can I monitor progress?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hat Do I Need to Know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hat is the evidence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 I have executive and medical staff support?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e there tools to help me develop a plan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hat Do I Need to Know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hy is this change important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w are patient outcomes likely to improve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w does my daily work need to change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here do I go for support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14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ecu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ap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608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hat Do I Need to Do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608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 the Board and Medical Staff support the plan and have the skills and vision to implement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608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w do I know the team has sufficient resources, incentives and organizational support?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608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hat Do I Need to Do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 the Staff Know the plan and do they have the skills and commitment to implement?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ve we tailored this to our environment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hat Do I Need to Do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n I be a better team member and team leader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w can I share what I know to make care better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m I learning from defects?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44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valu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chnic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608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w Will I Know I Made a Difference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228600"/>
                          <a:tab algn="l" pos="608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ve resources been allocated to collect and use safety data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228600"/>
                          <a:tab algn="l" pos="608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s the work climate better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228600"/>
                          <a:tab algn="l" pos="608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e patients safer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228600"/>
                          <a:tab algn="l" pos="608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w do I know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w Will I Know I Made a Difference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ve I created a system for data collection, unit level reporting, and using data to improve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s the work climate better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e patients safer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w do I know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w Will I Know I Made a Difference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hat is our unit level report card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s the unit a better place to work?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s teamwork better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e patients safer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w do I know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777777"/>
                          </a:solidFill>
                          <a:latin typeface="Arial"/>
                          <a:ea typeface="Times New Roman"/>
                        </a:rPr>
                        <a:t>© Quality and Safety Research Group, Johns Hopkins University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aborative Particip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ee to use common methods for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reporting and analysis, cen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aborative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, support, coaching from the collaborative sponsor &amp; facul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chma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Con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urpose of data is to help understand, control, and improve processes an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ment for learning and testing, not for judg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measure to impr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afety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often do we harm pati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SI and V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often do we do what we shoul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t bund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ow often do we learn from defec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earn from one per 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ow well do we improve cul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A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1828800" y="1494000"/>
          <a:ext cx="6454440" cy="4222080"/>
        </p:xfrm>
        <a:graphic>
          <a:graphicData uri="http://schemas.openxmlformats.org/drawingml/2006/table">
            <a:tbl>
              <a:tblPr/>
              <a:tblGrid>
                <a:gridCol w="2440440"/>
                <a:gridCol w="2319840"/>
                <a:gridCol w="169416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peri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 CRBSI r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idence rate rat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i interven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 month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6 month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-9 month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762120" y="53352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80% Reduction in BSI in One Y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24080" y="632448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33 prevented infections 108 de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get technical and adaptive work 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alized measurement, local ow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cal les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 culture and specific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ow have you used your SAQ and clinical resul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oes your project team include and respect expertise of technical and adaptive experts ?  (Infection control, education, QI, organizational development etc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ive les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it that harm is untenable; make harm vi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hat does this look like in your clinical are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h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ow have you shared what you are learning with other teams in the collaborati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odification of exec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ave you adapted the implementation in light of your organizational cul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mportant Research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we improve quality improv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public reporting change focus from doing good to looking good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egree of evidence is required to develop a process meas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ill we know we made a differ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an We Cross the Chasm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ce demands rigor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s deserve reliability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 capable ~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we have the coura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62320" y="228240"/>
            <a:ext cx="4495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 Man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/>
          <p:nvPr/>
        </p:nvCxnSpPr>
        <p:spPr>
          <a:xfrm>
            <a:off x="4495320" y="1143000"/>
            <a:ext cx="1080" cy="3734640"/>
          </a:xfrm>
          <a:prstGeom prst="straightConnector1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54" name=""/>
          <p:cNvCxnSpPr>
            <a:stCxn id="55" idx="3"/>
          </p:cNvCxnSpPr>
          <p:nvPr/>
        </p:nvCxnSpPr>
        <p:spPr>
          <a:xfrm>
            <a:off x="2209320" y="2743200"/>
            <a:ext cx="449676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</a:ln>
        </p:spPr>
      </p:cxnSp>
      <p:sp>
        <p:nvSpPr>
          <p:cNvPr id="56" name=""/>
          <p:cNvSpPr/>
          <p:nvPr/>
        </p:nvSpPr>
        <p:spPr>
          <a:xfrm>
            <a:off x="2362320" y="4876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Wis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152280" y="2133720"/>
            <a:ext cx="23619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ientifically S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05720" y="2362320"/>
            <a:ext cx="2819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657600" y="1981080"/>
            <a:ext cx="1828800" cy="1524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276720" y="1905120"/>
            <a:ext cx="2438280" cy="200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809880" y="5486400"/>
            <a:ext cx="4724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8200" y="1592280"/>
            <a:ext cx="66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Never doubt that a small group of thoughtful committed citizens can change the world. Indeed, it’s the only thing that ever ha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Margaret Me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7617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Johns Hopki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hensive Unit-bas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ety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120" y="2438280"/>
            <a:ext cx="81457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culture of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e staff on science of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de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 executive to adopt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from one defect per month and implement teamwork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www.safetyresearch.jhu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5257800"/>
            <a:ext cx="86868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71800" y="635796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novost J Patient Safety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ng Reliable Healthc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interventions associated with improved outcomes in specified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trongest interventions, convert to behavi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measures (either process or outco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ure patients receive the interv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enting CLAB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 Unnecessary 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h Hands Prior to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Maximal Barrier Preca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 Skin with Chlorhexid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Femoral 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MWR. 2002;51 RR-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cal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solved with existing science or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es or challenges for which there is “an answ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nable to centralized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aptive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a change of values, attitudes or belie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l………..respecting the wisdom of the front line work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19000" y="903240"/>
            <a:ext cx="7506000" cy="45943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447920" y="28584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do we need to lear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09:35:07Z</dcterms:created>
  <dc:creator>Chris g</dc:creator>
  <dc:description/>
  <dc:language>en-US</dc:language>
  <cp:lastModifiedBy>User</cp:lastModifiedBy>
  <dcterms:modified xsi:type="dcterms:W3CDTF">2007-09-27T11:44:35Z</dcterms:modified>
  <cp:revision>3</cp:revision>
  <dc:subject/>
  <dc:title>Improving Care Through Technical &amp; Adaptive Work</dc:title>
</cp:coreProperties>
</file>