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008-C8D1-4123-A91D-3B830905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483-9DD1-49FB-A21D-6C43CF5E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EF9-90B2-4883-B659-D9FCC4A4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74D-7DCA-496C-BB91-A0CC6678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62C7-9CAC-4118-A691-5BC0BD44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2B98-F36C-4902-A47D-4AB49922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05BD-73CA-42BA-B6B7-37EE92FC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D470-322F-42B7-9D1D-E68B5369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FADF-407E-442C-8498-1AD8E9EE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C962-779C-4DAB-8741-DCD0CF0B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61F0-D2DD-450F-AF78-D399BA8A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16B-63DD-4BB7-8959-C7B938FE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2E80-268D-48A5-A2B9-C70258BB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3983-BD59-49A5-A2AC-BAC47942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B1EC-B7EF-4667-AAC3-34BD1C70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BDFF-BF6A-46C4-B2EE-F54A25DA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D292-AB94-458B-8CFB-47DD2CA9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016-81FF-4FEE-87D8-4C62638C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25B-DE1C-4D04-950C-3B0A48A1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DCC-F045-4961-8DBF-84E262A7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83E-CE6C-4ADA-9184-DF78049B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DD2-76B7-409E-87B1-F74A12F6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F20-A204-44B4-9BAB-F5AAF9EA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F2A-9C5C-468A-93CA-3405270C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98A5-B1B8-4C8C-AC39-A5C7C961261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C4D3-24D8-4288-AEEC-D3F7A973059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aeaea"/>
                </a:solidFill>
                <a:latin typeface="Tahoma"/>
              </a:rPr>
              <a:t>Research in the Real World: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47560" y="3962520"/>
            <a:ext cx="6553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becca Et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borah Coh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cole Isaac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jal Balasubraman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jamin Crabtr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fred Tal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1981080"/>
            <a:ext cx="6400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ssons Learned from Prescription for Heal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3809880"/>
            <a:ext cx="0" cy="259092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Fidelity vs Flexibilit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delity and Flexi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In the primary care sett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nterventions are not plug and 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They are tailo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contours of the pract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…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 made the comment that we need to come up with something that will work at a 1 nurse office like her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Fidelity vs Flexibilit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exibility is a reflection of the inescapable realness of the real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other striking thing is the varied ways that the practices are implementing the H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ep it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at recep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given to patients at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check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e it to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one staff memb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he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administe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en to all patients of the in house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diabetes educ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ep it at nurses station, used primarily by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one care giving tea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Fidelity vs Flexibilit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ing how research is integrated into real life practice is essent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BRNs facilitate that translation with all the muckiness that it imp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t’s Get Re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Trans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Tahoma"/>
              </a:rPr>
              <a:t>Realize the shift from efficacy to effective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se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ture </a:t>
            </a: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context and strate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s well as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e </a:t>
            </a: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solutions for navigat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tension between QI and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696200">
            <a:off x="6158880" y="515160"/>
            <a:ext cx="1066680" cy="281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74" y="609"/>
                </a:moveTo>
                <a:arcTo wR="10800" hR="10800" stAng="-4240452" swAng="4240452"/>
                <a:lnTo>
                  <a:pt x="10800" y="10800"/>
                </a:lnTo>
                <a:close/>
              </a:path>
              <a:path fill="none" w="21600" h="21600">
                <a:moveTo>
                  <a:pt x="14374" y="609"/>
                </a:moveTo>
                <a:arcTo wR="10800" hR="10800" stAng="-4240452" swAng="424045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Quality Improvement vs Research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search is abou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blishing/following protocols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essing outcom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52900" spc="-1" strike="noStrike">
              <a:solidFill>
                <a:srgbClr val="ffffff"/>
              </a:solidFill>
              <a:latin typeface="Tahoma"/>
            </a:endParaRPr>
          </a:p>
          <a:p>
            <a:pPr lvl="1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rolling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the ‘right’ typ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 number of pati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53000" spc="-1" strike="noStrike">
              <a:solidFill>
                <a:srgbClr val="ffffff"/>
              </a:solidFill>
              <a:latin typeface="Tahoma"/>
            </a:endParaRPr>
          </a:p>
          <a:p>
            <a:pPr lvl="1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ving a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bound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ata collection peri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53000" spc="-1" strike="noStrike">
              <a:solidFill>
                <a:srgbClr val="ffffff"/>
              </a:solidFill>
              <a:latin typeface="Tahoma"/>
            </a:endParaRPr>
          </a:p>
          <a:p>
            <a:pPr lvl="1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uring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fu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pay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for researc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 sometimes the interven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52900" spc="-1" strike="noStrike">
              <a:solidFill>
                <a:srgbClr val="ffffff"/>
              </a:solidFill>
              <a:latin typeface="Tahoma"/>
            </a:endParaRPr>
          </a:p>
          <a:p>
            <a:pPr lvl="1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intaining fidelity – implementing the intervention according to an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established protoc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Quality Improvement vs Research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Quality Improvement is abou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erstanding organization and set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52900" spc="-1" strike="noStrike">
              <a:solidFill>
                <a:srgbClr val="ffffff"/>
              </a:solidFill>
              <a:latin typeface="Tahoma"/>
            </a:endParaRPr>
          </a:p>
          <a:p>
            <a:pPr lvl="1" marL="475200" indent="-182880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Tailor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mprovement to fit the protocols and procedures of the prac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75200" indent="-182880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Adap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setting/context, allowing for flexibi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75200" indent="-182880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Institutionaliz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e improvement, sustainabi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Quality Improvement vs Research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nt line PCPs are overwhelmed – this is re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ices for recruitment are often about choosing practices positioned for impro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BRNs allow us to see </a:t>
            </a: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ose that actually take the change on are </a:t>
            </a: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able to make it happ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Quality Improvement vs Research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the ground, team members manage patient expec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Staff] report [this] is the first thing the patient asks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what do I get for particip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?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s that were seamless – where increased service was in the foreground, research in the background – faired b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Quality Improvement vs Research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I is ‘institutional’ where research is finite in terms of time &amp;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 had practices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take a two week brea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rom referring patients … It has been more difficult than I had anticipated to get them back up and running ..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 tried to fine tune our message for the staff ... That is,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one patient enrollment per [staff member] per da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BRNs showed us institutionalization was manageable but involved sacrif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vestigating with REAIM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Where’s the Tension – QI and Research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nt line practices don’t have a lot of sl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teams bring resources and it’s hard to hold up when they are go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practice [does] prevention because it’s important, not because it’s reimbursed. [We] offered to keep the intervention on at this practice (but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without free services). They pulled the plug on the project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t’s Get Re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ze the shift from efficacy to </a:t>
            </a: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effective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se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ture </a:t>
            </a: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context and strate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s well as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Health Imp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</a:t>
            </a: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partnershi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696200">
            <a:off x="6158880" y="515160"/>
            <a:ext cx="1066680" cy="281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74" y="609"/>
                </a:moveTo>
                <a:arcTo wR="10800" hR="10800" stAng="-4240452" swAng="4240452"/>
                <a:lnTo>
                  <a:pt x="10800" y="10800"/>
                </a:lnTo>
                <a:close/>
              </a:path>
              <a:path fill="none" w="21600" h="21600">
                <a:moveTo>
                  <a:pt x="14374" y="609"/>
                </a:moveTo>
                <a:arcTo wR="10800" hR="10800" stAng="-4240452" swAng="424045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vestigating with REAIM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Where’s the Tension – QI and Research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BRN based research allows practices to build a line of inquiry that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s the value of what they di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s funding enabling translation of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research into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BRNs are an environment that makes translation hap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t’s Get Re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Tahoma"/>
              </a:rPr>
              <a:t>Trans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Tahoma"/>
              </a:rPr>
              <a:t>Realize the shift from efficacy to effective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Tahoma"/>
              </a:rPr>
              <a:t>Dissemin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Tahoma"/>
              </a:rPr>
              <a:t>Capture context and strategy, share solu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Health Imp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</a:t>
            </a: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partnershi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l in the missing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696200">
            <a:off x="6158880" y="515160"/>
            <a:ext cx="1066680" cy="281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74" y="609"/>
                </a:moveTo>
                <a:arcTo wR="10800" hR="10800" stAng="-4240452" swAng="4240452"/>
                <a:lnTo>
                  <a:pt x="10800" y="10800"/>
                </a:lnTo>
                <a:close/>
              </a:path>
              <a:path fill="none" w="21600" h="21600">
                <a:moveTo>
                  <a:pt x="14374" y="609"/>
                </a:moveTo>
                <a:arcTo wR="10800" hR="10800" stAng="-4240452" swAng="424045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In the Real World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… “linking to community resources is easier said than done”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3733560"/>
            <a:ext cx="36957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imary Ca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l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y patients at ris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pacity to refer pati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now how to access community resou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3733920"/>
            <a:ext cx="3353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ommunity 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ail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ford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es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ceived as valu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9436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mary Care Elements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dentifying Patients at Risk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practices did not have processes 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 to identify patients at risk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295280" y="2743200"/>
          <a:ext cx="7239240" cy="394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723924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mary Care Elements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dentifying Patients at Risk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ts val="25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 teams were able to help them develop what was nee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This] practice had, with the help of our facilitator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modified their vital signs template in the EH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eClinical Works) to include smoking.  His staff review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moking and update status at every visit. The inclusio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f smoking as a vital sign plus verbal reminders by th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rses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keeps the issue in front of [the doctor]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ears to have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increased referrals to the Quit Li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s use of brief counseling strategies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mary Care Elements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aking the Referral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mited capacity for referrals was a barrier ..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we need to print referrals for faxing…,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maybe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someone in the [research team’s] office could do i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some concern about stressing the referral person...)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 teams offered different strategies for simplifying referr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ving the direct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real-time lin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the designate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reach person…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makes it very eas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the physician to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e the referral… quick and easy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mary Care Elements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aking the Tim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mited time was another barrier ..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lked with [Doctor] 6:30 am... had read material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said] it sounded like a good study,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as long as it didn’t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take too much time would be happy to do i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like 30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project teams helped practices met these time constrai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ooming staff person reported that she did th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4H pop-up as part of the vital signs process.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She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reports it was not extra work/tim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1143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mary Care Elements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Knowing How to Access/Use Resourc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ty resources are fluid, many, and difficult to tr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s addressed this in a number of 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-tools, HIT, resource c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ople as portals to community resou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pping into national, state, or health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ilding relationships with resou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09880"/>
            <a:ext cx="0" cy="243864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ommunity Resource Elements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vailability, Affordability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practices, particularly those in rural and low income areas, reported a scarcity of community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resources did exist in communities, they were often not afford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rrier for counseling is patients affording it - many would be interested in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group visits if free, reason for interest in the stud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ently they will refer to some nutritionists, but sporadic and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dependant on what insurance will cov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more often for diabetic patient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ommunity Resource Elements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ccessibilit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nded and informed by patient need, projects teams took many creative approa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ring in-house coun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ing website and IVR system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ring and paying for branded ser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veraging their relationships with community resourc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ptu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ying implementation as way to evaluate what ‘works’ in real-life setting (i.e. </a:t>
            </a: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effectiven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s 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 Surve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te Visits/Intervie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di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Evaluation of P4H</a:t>
            </a:r>
            <a:br>
              <a:rPr sz="48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The Analysis Team’s Focu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BRNs are Re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4H projects, and the use of REAIM, sho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BRNs as an ideal setting in which to innov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Provid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eal-world effectiv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lancing internal and external valid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Foster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active intervention desig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eater public appeal and rapid adop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Enabl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view of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otenti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ublic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nefit of qualitative and quantitative in uni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203880" y="-2564640"/>
            <a:ext cx="1066680" cy="878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74" y="609"/>
                </a:moveTo>
                <a:arcTo wR="10800" hR="10800" stAng="-4240452" swAng="4240452"/>
                <a:lnTo>
                  <a:pt x="10800" y="10800"/>
                </a:lnTo>
                <a:close/>
              </a:path>
              <a:path fill="none" w="21600" h="21600">
                <a:moveTo>
                  <a:pt x="14374" y="609"/>
                </a:moveTo>
                <a:arcTo wR="10800" hR="10800" stAng="-4240452" swAng="424045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BRNs are Re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Integrat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Full integration of RE-AIM model into research and intervention design from project concep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se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Contex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qualitative and quantitative work together to suggest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otent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Health Imp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Adap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nterventions must be responsive to site specific needs – functional, cultural, emo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6203880" y="-2564640"/>
            <a:ext cx="1066680" cy="878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74" y="609"/>
                </a:moveTo>
                <a:arcTo wR="10800" hR="10800" stAng="-4240452" swAng="4240452"/>
                <a:lnTo>
                  <a:pt x="10800" y="10800"/>
                </a:lnTo>
                <a:close/>
              </a:path>
              <a:path fill="none" w="21600" h="21600">
                <a:moveTo>
                  <a:pt x="14374" y="609"/>
                </a:moveTo>
                <a:arcTo wR="10800" hR="10800" stAng="-4240452" swAng="424045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valuation </a:t>
            </a:r>
            <a:br>
              <a:rPr sz="44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Analysis Team’s Focu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ata Analysis – Qualitativ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Read the diary data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Read it ag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Really read th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42900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valuation </a:t>
            </a:r>
            <a:br>
              <a:rPr sz="44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Analysis Team’s Focu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ata Analysis – Quantitativ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Find missing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Fix any inconsisten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Convert numbers into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3429000"/>
            <a:ext cx="0" cy="243828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t’s Get Re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lize the shift from efficacy to </a:t>
            </a: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effectiv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BRNs are an ideal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36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earch oriented, but not unus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36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5 practices (10 PBR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2% Family medicine pract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ff turnover of 8-1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696200">
            <a:off x="6158880" y="515160"/>
            <a:ext cx="1066680" cy="281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74" y="609"/>
                </a:moveTo>
                <a:arcTo wR="10800" hR="10800" stAng="-4240452" swAng="4240452"/>
                <a:lnTo>
                  <a:pt x="10800" y="10800"/>
                </a:lnTo>
                <a:close/>
              </a:path>
              <a:path fill="none" w="21600" h="21600">
                <a:moveTo>
                  <a:pt x="14374" y="609"/>
                </a:moveTo>
                <a:arcTo wR="10800" hR="10800" stAng="-4240452" swAng="424045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5029200"/>
            <a:ext cx="0" cy="83808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REAIM as our len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57400" y="289512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IM was proactively for the first time in practice-based, primary care 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ross all 10 projects in round 2, P4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2096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47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ch, </a:t>
            </a:r>
            <a:r>
              <a:rPr b="1" lang="en-US" sz="2000" spc="-1" strike="noStrike">
                <a:solidFill>
                  <a:srgbClr val="ffff47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fectiveness, </a:t>
            </a:r>
            <a:r>
              <a:rPr b="1" lang="en-US" sz="2000" spc="-1" strike="noStrike">
                <a:solidFill>
                  <a:srgbClr val="ffff47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ption, </a:t>
            </a:r>
            <a:r>
              <a:rPr b="1" lang="en-US" sz="2000" spc="-1" strike="noStrike">
                <a:solidFill>
                  <a:srgbClr val="ffff47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lementation, </a:t>
            </a:r>
            <a:r>
              <a:rPr b="1" lang="en-US" sz="2000" spc="-1" strike="noStrike">
                <a:solidFill>
                  <a:srgbClr val="ffff47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REAIM as our len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IM and our qualitative data allowed us to as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erent kinds of ques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o we take something that we know works, or that we think will work, and put that thing into practi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d you get it to work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d it work and can we get it to work elsewher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REAIM as our len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themes emerged from the diary data – the tensions between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ibility &amp; Fide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 issue of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trans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ity Improvement &amp; 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…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 issue of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dissemin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3733920"/>
            <a:ext cx="0" cy="152388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4:43:28Z</dcterms:created>
  <dc:creator>Rebecca Etz</dc:creator>
  <dc:description/>
  <dc:language>en-US</dc:language>
  <cp:lastModifiedBy>Rebecca Etz</cp:lastModifiedBy>
  <dcterms:modified xsi:type="dcterms:W3CDTF">2007-09-27T13:27:05Z</dcterms:modified>
  <cp:revision>114</cp:revision>
  <dc:subject/>
  <dc:title>Slide 1</dc:title>
</cp:coreProperties>
</file>