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BE0-F147-4BC6-8ECC-02A202C0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1E7-A608-4628-AFF0-E55CDDBB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BEC-7305-4C2F-9739-09110551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ACD0-901B-4881-B96C-759140EF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FBB0-E696-4957-9BEA-3255E486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E6A-CC6E-4073-ADA7-5284DB9E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48DE-5709-477C-9A43-19335EC1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6578-FB05-4542-8C0C-5010947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FA9C-D013-49AF-AD56-AF74F8AA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88D5-2177-41D2-AA26-2A168A39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AC6A-7D68-40AB-91EE-D153B3BC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26F9-3700-4CCB-A3A8-842DAC4C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0BFE-A39A-4282-A319-615ECC08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4C25-FDCB-423E-9EE1-B0B6AFFC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24D0-1561-4841-B890-2E1ABC64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918D-2580-413C-B7C0-0A50A1C1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734F-ABA8-4A4B-BD56-6EC30B24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527E-03B9-48D7-A86B-EA13D81B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D7E-C88F-4A79-99E4-737811DB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1D4-2CC7-49FA-B721-B07C6661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6D64-6FA7-464E-895D-05390490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1041-98A6-4B2A-A958-72371CF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E90E-F2AB-4741-ACE9-F5803DF6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33E-61D9-4B16-B5C5-0DFE761C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769F-46B1-44C8-9E47-2246E07852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D0EB-3B1A-4FC1-8955-1AD31349508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086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aeaea"/>
                </a:solidFill>
                <a:latin typeface="Tahoma"/>
              </a:rPr>
              <a:t>Research in the Real World:</a:t>
            </a:r>
            <a:endParaRPr b="1" lang="en-US" sz="3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47560" y="3962520"/>
            <a:ext cx="6553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becca Et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borah Co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icole Isaac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l Balasubraman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jamin Crab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fred Tall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1981080"/>
            <a:ext cx="6400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ssons Learned from Prescription for Heal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3809880"/>
            <a:ext cx="0" cy="259092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delity and Flexi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In the primary care set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nterventions are not plug and pl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They are tailor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contours of the pract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…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 made the comment that we need to come up with something that will work at a 1 nurse office like her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exibility is a reflection of the inescapable realness of the real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other striking thing is the varied ways that the practices are implementing the H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i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t recep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given to patients a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check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 it to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staff memb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h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dministe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o all patients of the in hous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iabetes educa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it at nurses station, used primarily by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care giving tea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Fidelity vs Flex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ing how research is integrated into real life practice is ess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facilitate that translation with all the muckiness that it imp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Trans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Realize the shift from efficacy to effective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context and strate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well as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solutions for navigat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e tension between QI and 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Research is abou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7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lishing/following protocols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essing outcome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rolling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he ‘right’ typ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number of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30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ing a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bound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data collection peri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30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uring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fu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pay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for research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sometimes the interven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intaining fidelity – implementing the intervention according to an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established protoc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lity Improvement is abou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ing organization and set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529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ilor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mprovement to fit the protocols and procedures of the 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dap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setting/context, allowing for flexi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475200" indent="-18288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Institutionaliz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he improvement, sustainabi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19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 line PCPs are overwhelmed – this is re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ices for recruitment are often about choosing practices positioned for impr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RNs allow us to see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ose that actually take the change on are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able to make it happ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the ground, team members manage patient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taff] report [this] is the first thing the patient asks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what do I get for particip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s that were seamless – where increased service was in the foreground, research in the background – faired b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Quality Improvement vs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I is ‘institutional’ where research is finite in terms of time &amp;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had practices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ke a two week brea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rom referring patients … It has been more difficult than I had anticipated to get them back up and running ..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tried to fine tune our message for the staff ... That is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one patient enrollment per [staff member] per da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showed us institutionalization was manageable but involved sacrif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vestigating with REAI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ere’s the Tension – QI and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ont line practices don’t have a lot of sl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teams bring resources and it’s hard to hold up when they are g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practice [does] prevention because it’s important, not because it’s reimbursed. [We] offered to keep the intervention on at this practice (bu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without free services). They pulled the plug on the projec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ize the shift from efficacy to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effective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tur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context and strate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 well as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partnershi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vestigating with REAIM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Where’s the Tension – QI and Research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 based research allows practices to build a line of inquiry that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s the value of what they di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s funding enabling translation of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research into 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are an environment that makes translation hap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Trans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Realize the shift from efficacy to effectiven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Dissem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Tahoma"/>
              </a:rPr>
              <a:t>Capture context and strategy, share solu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e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partnership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the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l in the missing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In the Real World </a:t>
            </a: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… “linking to community resources is easier said than done”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680" y="3733560"/>
            <a:ext cx="36957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imary Ca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entify patients at ris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pacity to refer pati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now how to access community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733920"/>
            <a:ext cx="3353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mmunity Re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ford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ffffcc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ceived as valu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9436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ying Patients at Risk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practices did not have processes 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ce to identify patients at risk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295280" y="2743200"/>
          <a:ext cx="7239240" cy="394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23924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Identifying Patients at Risk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ts val="25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teams were able to help them develop what was nee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This] practice had, with the help of our facilitator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odified their vital signs template in the EH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eClinical Works) to include smoking.  His staff review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oking and update status at every visit. The inclus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f smoking as a vital sign plus verbal reminders by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rses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keeps the issue in front of [the doctor]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ears to hav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increased referrals to the Quit Li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use of brief counseling strategies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aking the Referral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capacity for referrals was a barrier 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need to print referrals for faxing…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ayb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omeone in the [research team’s] office could do i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some concern about stressing the referral person...)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teams offered different strategies for simplifying referr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ing the direc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real-time lin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the designate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treach person…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makes it very eas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the physician to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e the referral… quick and easy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Making the Time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time was another barrier ..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lked with [Doctor] 6:30 am... had read material,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said] it sounded like a good study,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as long as it didn’t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ake too much time would be happy to do i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like 30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project teams helped practices met these time constrai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rooming staff person reported that she did th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4H pop-up as part of the vital signs process.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She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reports it was not extra work/tim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1143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imary Car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Knowing How to Access/Use Resourc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unity resources are fluid, many, and difficult to tr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s addressed this in a number of 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b-tools, HIT, resource c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ople as portals to community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pping into national, state, or healt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sys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ding relationships with resour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3809880"/>
            <a:ext cx="0" cy="243864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mmunity Resourc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vailability, Affordability…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y practices, particularly those in rural and low income areas, reported a scarcity of community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n resources did exist in communities, they were often not afford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rrier for counseling is patients affording it - many would be interested in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group visits if free, reason for interest in the stud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rrently they will refer to some nutritionists, but sporadic and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ependant on what insurance will cov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more often for diabetic patients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Community Resource Elements</a:t>
            </a:r>
            <a:br>
              <a:rPr sz="28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Accessibility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nded and informed by patient need, projects teams took many creative approa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in-house coun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ing website and IVR system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ring and paying for branded serv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veraging their relationships with community resour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eptu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ying implementation as way to evaluate what ‘works’ in real-life setting (i.e. </a:t>
            </a:r>
            <a:r>
              <a:rPr b="0" lang="en-US" sz="2800" spc="-1" strike="noStrike">
                <a:solidFill>
                  <a:srgbClr val="ffff47"/>
                </a:solidFill>
                <a:latin typeface="Tahoma"/>
              </a:rPr>
              <a:t>effectiven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tice Surv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te Visits/Inter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 d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Evaluation of P4H</a:t>
            </a:r>
            <a:br>
              <a:rPr sz="48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BRNs are Re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4H projects, and the use of REAIM, sho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BRNs as an ideal setting in which to innov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Provid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al-world effectiv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lancing internal and external valid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Foster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active intervention desig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ater public appeal and rapid ado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Enabl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view of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otenti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ublic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t of qualitative and quantitative in unis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6200000">
            <a:off x="6203880" y="-2564640"/>
            <a:ext cx="1066680" cy="87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BRNs are Real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Integr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Full integration of RE-AIM model into research and intervention design from project con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sem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Contex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qualitative and quantitative work together to sugges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tent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Health Imp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Adap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Interventions must be responsive to site specific needs – functional, cultural, emot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6203880" y="-2564640"/>
            <a:ext cx="1066680" cy="8787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luation </a:t>
            </a:r>
            <a:br>
              <a:rPr sz="44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 Analysis – Qualitativ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d the diary data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d it ag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Really read th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429000"/>
            <a:ext cx="0" cy="251460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valuation </a:t>
            </a:r>
            <a:br>
              <a:rPr sz="44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The Analysis Team’s Foc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ata Analysis – Quantitative D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Find missing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Fix any inconsistenc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Convert numbers into w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3429000"/>
            <a:ext cx="0" cy="24382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t’s Get Real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ze the shift from efficacy to </a:t>
            </a: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BRNs are an ideal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earch oriented, but not unus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36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5 practices (10 PBRN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2% Family medicine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ff turnover of 8-1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6696200">
            <a:off x="6158880" y="515160"/>
            <a:ext cx="1066680" cy="281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74" y="609"/>
                </a:moveTo>
                <a:arcTo wR="10800" hR="10800" stAng="-4240452" swAng="4240452"/>
                <a:lnTo>
                  <a:pt x="10800" y="10800"/>
                </a:lnTo>
                <a:close/>
              </a:path>
              <a:path fill="none" w="21600" h="21600">
                <a:moveTo>
                  <a:pt x="14374" y="609"/>
                </a:moveTo>
                <a:arcTo wR="10800" hR="10800" stAng="-4240452" swAng="4240452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029200"/>
            <a:ext cx="0" cy="8380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057400" y="2895120"/>
            <a:ext cx="5943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IM was proactively for the first time in practice-based, primary care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ross all 10 projects in round 2, P4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2096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ch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fectiveness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ption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plementation, </a:t>
            </a:r>
            <a:r>
              <a:rPr b="1" lang="en-US" sz="2000" spc="-1" strike="noStrike">
                <a:solidFill>
                  <a:srgbClr val="ffff47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inten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IM and our qualitative data allowed us to as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fferent kinds of ques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o we take something that we know works, or that we think will work, and put that thing into practic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d you get it to wor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8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47"/>
                </a:solidFill>
                <a:latin typeface="Tahoma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did it work and can we get it to work elsewher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BRNs and Getting Real</a:t>
            </a:r>
            <a:br>
              <a:rPr sz="3200"/>
            </a:b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REAIM as our len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hemes emerged from the diary data – the tensions between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ibility &amp; Fide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issue of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trans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 Improvement &amp;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…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 issue of </a:t>
            </a:r>
            <a:r>
              <a:rPr b="0" lang="en-US" sz="2000" spc="-1" strike="noStrike">
                <a:solidFill>
                  <a:srgbClr val="ffff47"/>
                </a:solidFill>
                <a:latin typeface="Tahoma"/>
              </a:rPr>
              <a:t>dissemin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04920"/>
            <a:ext cx="0" cy="4952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3733920"/>
            <a:ext cx="0" cy="1523880"/>
          </a:xfrm>
          <a:prstGeom prst="line">
            <a:avLst/>
          </a:prstGeom>
          <a:ln w="31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4:43:28Z</dcterms:created>
  <dc:creator>Rebecca Etz</dc:creator>
  <dc:description/>
  <dc:language>en-US</dc:language>
  <cp:lastModifiedBy>Rebecca Etz</cp:lastModifiedBy>
  <dcterms:modified xsi:type="dcterms:W3CDTF">2007-09-27T13:27:05Z</dcterms:modified>
  <cp:revision>114</cp:revision>
  <dc:subject/>
  <dc:title>Slide 1</dc:title>
</cp:coreProperties>
</file>