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4.jpeg" ContentType="image/jpeg"/>
  <Override PartName="/ppt/media/image5.jpeg" ContentType="image/jpeg"/>
  <Override PartName="/ppt/media/image20.wmf" ContentType="image/x-wmf"/>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png" ContentType="image/png"/>
  <Override PartName="/ppt/media/image24.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44557-46E3-456D-B89C-11939A3E8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000E0-1B82-4D15-828E-129D12279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1064DE-BFCB-4B1C-B87B-2797433C0B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B76D90-18FC-4993-9BC3-065F3B1FFE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FA8E7C-DEE4-49DD-A68D-AB475011B2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B386EF-E701-47DD-A981-F8002ED4FE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A27533-AC5B-444D-964A-9984B5A9C9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B8647B-9F9D-49EF-AF6E-897BAC70C5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A16AEF-CB58-48E9-BD87-CE6551A7F1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8C0996-9A40-4064-BABE-93E1690E78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B4C3D2-4D56-44B5-BAF1-084ADEBEC2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9ACDBD8-1A4F-41E0-AA1A-34C91CF989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63903-AF31-40F6-8FB1-8F7C9BDE5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2D31EC-13A2-4885-A295-761B9A6272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C76155C-320E-48B9-A817-DD8F4128BA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71AB38-6422-4567-9F6A-FD41D3D631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80ED36-60AC-4517-A1D3-FBA9598F0F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DE91D4-C85D-42FE-97D9-E0591656EF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7327ED-3B94-4FD1-8EFB-7B156D5A15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30797C-7374-4AA3-A1A5-2C42F99561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F3706A-840F-432C-8471-A95E30EF22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B08C78-BDA8-4A9C-893A-C4663557A4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5264B2-3231-496E-AD31-18949EC797C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594F4-EC0A-4336-9105-7660E5E08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234C4C-FDDD-4D07-8705-4655F0F528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872A87-ECB3-4707-A497-0A563C1552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4976D3-6A81-4AAA-9076-16F3204CAE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384BB9-F5E7-4C61-B0E9-4636201D09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EA0BD2-E43D-4AE0-8582-66F20E2D47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7D8D8A-A684-4BAC-BA37-6FA200E4A8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626AD9-2040-4DD6-9BE8-16E301640A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D3E879-DB00-4844-836A-72C1B940FB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41E6EC-1B5C-4AE3-B73D-32756B83F3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887CB7-13C1-47D9-B36E-459D76C84C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9678D7-93F0-48C8-8161-59E1D737B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B16AEA-E17D-45A9-9FD9-D8E6802801A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A96ABE-A93E-42B0-94D1-019161A2CD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76C620D-379E-4E80-BAB8-286ACD782D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97757D-553F-4DB2-84DD-B35E5FE404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E38B1B-E643-4AEB-BE1D-C0F82225F6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F405E8-B6F2-41AA-88C9-C1212F8D48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507F5F-587A-49BD-A03E-853DC974BE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E54FEF-9F28-4408-AD8C-8364CCAF0A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795B1B-9426-4661-8BDA-C69A12E0D9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906DF5-03CE-4DA3-BABE-7EAA7F9C2F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A6A52-63EE-4AE7-8EDD-0339754287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56785C-1B8B-46AF-939A-9F48B225A8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271205-D6A6-41C5-8D9C-40BD1BD8BA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27CB69-F2B7-4EF5-85A5-9142AAFE8C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166013-9D91-4D96-BD4D-9E02AB3EB9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C99F34A-106C-4635-B61C-4A357B7BB7A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F72CDA1-A3A4-4707-BD36-33CE78A01E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176F295-DB48-4B20-AA85-4C14EE5CC4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AD53BA-88A5-4949-AE0C-E9CC7C37CE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CA7F5CA-862B-48E8-9944-BB7B490D04F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80A4C90-0770-4B1E-B1BA-7C89695842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5E475-A467-4B9A-990B-5B04BCD57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A7D6BC-E6F3-4A59-A5DA-DAE308C9155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5147D2C-B2D3-488F-ACCB-6A680EF87A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EE4AA2-88F9-4A53-B777-FB22CA93DA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DB50DC-4154-4D52-AAD6-2EA9BAE5CD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229872-FCFB-4360-BC88-1D2F29F9F91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7A97B0-5BA3-4775-8FB8-A6E9B3BCA0D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0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67782CB-202E-49A3-A5C9-FD3BF92BD3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472BA-7550-4F1E-A7D0-F1B214A4F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44E87-4C91-4E9B-AEBB-64FF1EE3F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C3C5E-A2AF-423A-852F-7384E014F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04BB9-F727-48A1-B1A5-CBF127BB0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2F63E-8DBA-475B-A964-246466DEF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79C60-626C-40BA-8849-C5B2E6944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7B2FE-E112-475B-AE9E-6D6509474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B1256F-C301-4045-AE02-DF0038A62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3A10D-A3C7-4FC0-AE41-4ED3F69A8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CFE68-4AB1-4B7C-8E6A-65E56BBFE0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E8D34D-C5D8-478A-906D-0D08EB2455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B698F8-7EEB-4E36-B659-C7DC03B0FD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19AE3F-658C-432D-A9F0-FF7730DB2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0200B8-EE23-4440-864F-3F07D55C6E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413A1A-7C76-4818-BFA8-93B96B35A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17DA2-9B57-4266-B208-0B3EA4BCF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410DC0-5BA5-4D51-99A3-3056134781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3F7DED-9916-4040-B412-60EDCF4A7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AC58A-C5B0-4C0B-9441-E46AD76E4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4207A-AB39-4BD7-BD57-E0FC56F68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778A3-150E-4411-B1F6-B9B6BD98F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DE213B-FD16-4704-A416-FF94E01CCF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AE9863-C0BC-4908-9061-631FE3D1BE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806159-9B3F-4D0E-8EC4-C5081859BC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826A31-9F4D-456A-9E56-1E0870CB89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47BD25-24A1-428A-A0E3-7523780E8D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EA39A-36E7-4E28-8D74-C1E381A57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9DD35-FB68-4216-8ADF-F81C9BCA4F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21CC84-4A51-4C41-AB87-E12A222B9D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BFAFF-B444-45BD-AB9F-3553698F87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9A2254-57B4-4554-8399-4D47FB45A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BDA6E-2E1C-45E8-8FA6-5C75B383E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76EBA9-5C99-4C18-8615-83B0EE72CD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777B05-BBAD-45AA-B4DA-F1B4C8B12E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2A1C57-0563-4FBC-9B44-A7016B5515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EE9D5E-F128-43B4-9DD4-E6F8FEA0EE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B5A28C-0BFB-43A3-BCF9-2A13D0B8A0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78A03-891F-4A1A-9338-0BE941539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7F071-CA24-43C7-B79F-A32C4B866C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C4AFFB-D3E1-4F43-B1B6-5AB2D8A2A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7F21ED-BCB7-4CF5-B62E-F6BEFA764B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105EAA-359C-4482-8E70-DBC58D30EB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61BC56-7C74-4E5C-8F76-07B2B2025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073647-6C58-41E7-8907-1FAB07D1B5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D6F7E7-6AB1-40EE-BF63-BD91834595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889DD8-AB44-475C-800D-F921E838E0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F42176-4953-4D6B-B4CE-D37733BD7C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F2B7A8-683F-4DBF-AE53-47510036F6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8FA8C-1FF3-45FF-96C6-512324C99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7A1057-307F-42A6-8A9F-A82961B31B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B63B2F-D5EA-4D63-9EE0-C470082F0B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4A0BBF-D732-4E39-82FC-2A0710DA4A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1BF251-B0B6-4519-8F61-67641A46AD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37A94D-9C48-409A-8181-6C52F9BEA5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A68728-E408-48E8-824D-3270BAEF6A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A1B78B-8B62-49A9-992B-8A95B604AB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380B42-8861-4242-AFFD-ECE1A14003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68C938-9539-4F6C-B3DF-B23F241414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F5BC09-9FE5-4F5A-9DC3-0646CC9792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DCF21-9AB2-4B57-B2C6-8CD9019C8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E67DE3-3669-4C28-987D-9757D061F6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05696C-A1D2-4DB5-8373-E43F8C5896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58F823-7126-4646-B718-22391527E4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218D58-EEC7-470B-B7F2-B6E6638C11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05812B-DD9A-4E2A-956C-57B8BE2984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B41511-9493-427D-BC08-58A43D60A2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21AFCA-3DFD-42C7-BDD0-913FA1B515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DBBEA6-6794-4FE5-B8BC-BC6E910B9C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9DE1F-4086-4CDD-AEA7-824AF04C05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F27BCE-B92B-4554-8059-7B31A1B71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EABB4-0A37-49D0-9A47-8FC6191C4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2FE7AD-43D7-469A-B1CA-E83874B23D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C8AB53-591A-4468-9550-62D5FCDCA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41F25B-E803-4EF0-8946-69229A12D1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D98A58-8884-4C9C-9926-812370CE8E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C8C75A-BE35-4297-9830-7198686FFF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A64B00-A372-44C4-AADC-9C0E03D12E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6380A1-B6AC-403D-9A1F-B9E7D98DAA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9F3B9-170C-421E-9337-59E84097D4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8EC7E-82B6-4E41-967B-8D1D6EC09B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1D8DEF-7340-4EBB-A504-05030FDD67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B5895-FD63-435F-A402-6F1212F2D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4D8967-7292-4A82-880C-B157125F7C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7D895A-5D67-4FC9-8D6D-00711AB321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8F5F4E-7F58-49C3-B194-4DFE74A1C8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CAC85E-FCB0-4A6A-B627-0D3B8E50E3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304CAC-D54D-4CB4-9B6E-F6C834FF1D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D9A5A2-1296-4094-AFC9-B25A75F057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C22D6B-DA3D-4178-A556-1BAC97E5A67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08F06E-755D-4AA1-B61F-6333AB2BB5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0318E3-79D5-4C94-ABED-7710D1087D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A01D5C-55B2-4574-9AEB-66CD42C220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360" y="6408720"/>
            <a:ext cx="30481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Vanderbilt Center for </a:t>
            </a:r>
            <a:endParaRPr b="0" lang="en-US" sz="10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tter Health 2007</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92324-E3C7-4D0D-9F90-BF8DD112C6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5"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16"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17" name="Right Triangle 16"/>
          <p:cNvGrpSpPr/>
          <p:nvPr/>
        </p:nvGrpSpPr>
        <p:grpSpPr>
          <a:xfrm>
            <a:off x="-12600" y="5784840"/>
            <a:ext cx="3414600" cy="1092240"/>
            <a:chOff x="-12600" y="5784840"/>
            <a:chExt cx="3414600" cy="1092240"/>
          </a:xfrm>
        </p:grpSpPr>
        <p:pic>
          <p:nvPicPr>
            <p:cNvPr id="418" name="Right Triangle 16" descr=""/>
            <p:cNvPicPr/>
            <p:nvPr/>
          </p:nvPicPr>
          <p:blipFill>
            <a:blip r:embed="rId3"/>
            <a:stretch/>
          </p:blipFill>
          <p:spPr>
            <a:xfrm>
              <a:off x="-12600" y="5784840"/>
              <a:ext cx="3414600" cy="1092240"/>
            </a:xfrm>
            <a:prstGeom prst="rect">
              <a:avLst/>
            </a:prstGeom>
            <a:ln w="0">
              <a:noFill/>
            </a:ln>
          </p:spPr>
        </p:pic>
        <p:sp>
          <p:nvSpPr>
            <p:cNvPr id="41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20" name="Straight Connector 18" descr=""/>
          <p:cNvPicPr/>
          <p:nvPr/>
        </p:nvPicPr>
        <p:blipFill>
          <a:blip r:embed="rId4"/>
          <a:stretch/>
        </p:blipFill>
        <p:spPr>
          <a:xfrm>
            <a:off x="-19080" y="5772240"/>
            <a:ext cx="3421080" cy="1109520"/>
          </a:xfrm>
          <a:prstGeom prst="rect">
            <a:avLst/>
          </a:prstGeom>
          <a:ln w="0">
            <a:noFill/>
          </a:ln>
        </p:spPr>
      </p:pic>
      <p:sp>
        <p:nvSpPr>
          <p:cNvPr id="421"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2"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2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2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2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E4D2-ED73-4BFD-9946-45FD3AB58E3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465"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466" name="Right Triangle 13"/>
          <p:cNvGrpSpPr/>
          <p:nvPr/>
        </p:nvGrpSpPr>
        <p:grpSpPr>
          <a:xfrm>
            <a:off x="-12600" y="5784840"/>
            <a:ext cx="3414600" cy="1092240"/>
            <a:chOff x="-12600" y="5784840"/>
            <a:chExt cx="3414600" cy="1092240"/>
          </a:xfrm>
        </p:grpSpPr>
        <p:pic>
          <p:nvPicPr>
            <p:cNvPr id="467" name="Right Triangle 13" descr=""/>
            <p:cNvPicPr/>
            <p:nvPr/>
          </p:nvPicPr>
          <p:blipFill>
            <a:blip r:embed="rId2"/>
            <a:stretch/>
          </p:blipFill>
          <p:spPr>
            <a:xfrm>
              <a:off x="-12600" y="5784840"/>
              <a:ext cx="3414600" cy="1092240"/>
            </a:xfrm>
            <a:prstGeom prst="rect">
              <a:avLst/>
            </a:prstGeom>
            <a:ln w="0">
              <a:noFill/>
            </a:ln>
          </p:spPr>
        </p:pic>
        <p:sp>
          <p:nvSpPr>
            <p:cNvPr id="46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469" name="Straight Connector 14" descr=""/>
          <p:cNvPicPr/>
          <p:nvPr/>
        </p:nvPicPr>
        <p:blipFill>
          <a:blip r:embed="rId3"/>
          <a:stretch/>
        </p:blipFill>
        <p:spPr>
          <a:xfrm>
            <a:off x="-19080" y="5772240"/>
            <a:ext cx="3421080" cy="1109520"/>
          </a:xfrm>
          <a:prstGeom prst="rect">
            <a:avLst/>
          </a:prstGeom>
          <a:ln w="0">
            <a:noFill/>
          </a:ln>
        </p:spPr>
      </p:pic>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2"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3" name="PlaceHolder 4"/>
          <p:cNvSpPr>
            <a:spLocks noGrp="1"/>
          </p:cNvSpPr>
          <p:nvPr>
            <p:ph type="ftr" idx="32"/>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474"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6141-6C23-40FF-9C62-A82A7E5B5A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12"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3" name="Right Triangle 13"/>
          <p:cNvGrpSpPr/>
          <p:nvPr/>
        </p:nvGrpSpPr>
        <p:grpSpPr>
          <a:xfrm>
            <a:off x="-12600" y="5784840"/>
            <a:ext cx="3414600" cy="1092240"/>
            <a:chOff x="-12600" y="5784840"/>
            <a:chExt cx="3414600" cy="1092240"/>
          </a:xfrm>
        </p:grpSpPr>
        <p:pic>
          <p:nvPicPr>
            <p:cNvPr id="514" name="Right Triangle 13" descr=""/>
            <p:cNvPicPr/>
            <p:nvPr/>
          </p:nvPicPr>
          <p:blipFill>
            <a:blip r:embed="rId2"/>
            <a:stretch/>
          </p:blipFill>
          <p:spPr>
            <a:xfrm>
              <a:off x="-12600" y="5784840"/>
              <a:ext cx="3414600" cy="1092240"/>
            </a:xfrm>
            <a:prstGeom prst="rect">
              <a:avLst/>
            </a:prstGeom>
            <a:ln w="0">
              <a:noFill/>
            </a:ln>
          </p:spPr>
        </p:pic>
        <p:sp>
          <p:nvSpPr>
            <p:cNvPr id="51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16" name="Straight Connector 14" descr=""/>
          <p:cNvPicPr/>
          <p:nvPr/>
        </p:nvPicPr>
        <p:blipFill>
          <a:blip r:embed="rId3"/>
          <a:stretch/>
        </p:blipFill>
        <p:spPr>
          <a:xfrm>
            <a:off x="-19080" y="5772240"/>
            <a:ext cx="3421080" cy="1109520"/>
          </a:xfrm>
          <a:prstGeom prst="rect">
            <a:avLst/>
          </a:prstGeom>
          <a:ln w="0">
            <a:noFill/>
          </a:ln>
        </p:spPr>
      </p:pic>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19"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0" name="PlaceHolder 4"/>
          <p:cNvSpPr>
            <a:spLocks noGrp="1"/>
          </p:cNvSpPr>
          <p:nvPr>
            <p:ph type="ftr" idx="35"/>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21"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C3F1D-0585-4BCC-9E32-CF3C444A3B6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59"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60" name="Right Triangle 13"/>
          <p:cNvGrpSpPr/>
          <p:nvPr/>
        </p:nvGrpSpPr>
        <p:grpSpPr>
          <a:xfrm>
            <a:off x="-12600" y="5784840"/>
            <a:ext cx="3414600" cy="1092240"/>
            <a:chOff x="-12600" y="5784840"/>
            <a:chExt cx="3414600" cy="1092240"/>
          </a:xfrm>
        </p:grpSpPr>
        <p:pic>
          <p:nvPicPr>
            <p:cNvPr id="561" name="Right Triangle 13" descr=""/>
            <p:cNvPicPr/>
            <p:nvPr/>
          </p:nvPicPr>
          <p:blipFill>
            <a:blip r:embed="rId2"/>
            <a:stretch/>
          </p:blipFill>
          <p:spPr>
            <a:xfrm>
              <a:off x="-12600" y="5784840"/>
              <a:ext cx="3414600" cy="1092240"/>
            </a:xfrm>
            <a:prstGeom prst="rect">
              <a:avLst/>
            </a:prstGeom>
            <a:ln w="0">
              <a:noFill/>
            </a:ln>
          </p:spPr>
        </p:pic>
        <p:sp>
          <p:nvSpPr>
            <p:cNvPr id="56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63" name="Straight Connector 14" descr=""/>
          <p:cNvPicPr/>
          <p:nvPr/>
        </p:nvPicPr>
        <p:blipFill>
          <a:blip r:embed="rId3"/>
          <a:stretch/>
        </p:blipFill>
        <p:spPr>
          <a:xfrm>
            <a:off x="-19080" y="5772240"/>
            <a:ext cx="3421080" cy="1109520"/>
          </a:xfrm>
          <a:prstGeom prst="rect">
            <a:avLst/>
          </a:prstGeom>
          <a:ln w="0">
            <a:noFill/>
          </a:ln>
        </p:spPr>
      </p:pic>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66" name="PlaceHolder 3"/>
          <p:cNvSpPr>
            <a:spLocks noGrp="1"/>
          </p:cNvSpPr>
          <p:nvPr>
            <p:ph type="dt" idx="37"/>
          </p:nvPr>
        </p:nvSpPr>
        <p:spPr>
          <a:xfrm>
            <a:off x="151920" y="6243480"/>
            <a:ext cx="35816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Vanderbilt Center for Better Health March 8, 2007</a:t>
            </a:r>
            <a:endParaRPr b="0" lang="en-US" sz="1000" spc="-1" strike="noStrike">
              <a:solidFill>
                <a:srgbClr val="000000"/>
              </a:solidFill>
              <a:latin typeface="Times New Roman"/>
            </a:endParaRPr>
          </a:p>
        </p:txBody>
      </p:sp>
      <p:sp>
        <p:nvSpPr>
          <p:cNvPr id="567" name="PlaceHolder 4"/>
          <p:cNvSpPr>
            <a:spLocks noGrp="1"/>
          </p:cNvSpPr>
          <p:nvPr>
            <p:ph type="ftr" idx="38"/>
          </p:nvPr>
        </p:nvSpPr>
        <p:spPr>
          <a:xfrm>
            <a:off x="3657240" y="6243480"/>
            <a:ext cx="33526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68" name="PlaceHolder 5"/>
          <p:cNvSpPr>
            <a:spLocks noGrp="1"/>
          </p:cNvSpPr>
          <p:nvPr>
            <p:ph type="sldNum" idx="39"/>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37E9-EF43-4933-9FF0-E875DD0320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3DE3-3583-4E43-A401-4D9242D158D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2"/>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3"/>
          <a:stretch/>
        </p:blipFill>
        <p:spPr>
          <a:xfrm>
            <a:off x="-19080" y="5772240"/>
            <a:ext cx="3421080" cy="110952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4"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5" name="PlaceHolder 4"/>
          <p:cNvSpPr>
            <a:spLocks noGrp="1"/>
          </p:cNvSpPr>
          <p:nvPr>
            <p:ph type="ftr" idx="8"/>
          </p:nvPr>
        </p:nvSpPr>
        <p:spPr>
          <a:xfrm>
            <a:off x="-360" y="6492960"/>
            <a:ext cx="25909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Vanderbilt Center for Better Health September 26, 2007</a:t>
            </a:r>
            <a:endParaRPr b="0" lang="en-US" sz="1000" spc="-1" strike="noStrike">
              <a:solidFill>
                <a:srgbClr val="000000"/>
              </a:solidFill>
              <a:latin typeface="Times New Roman"/>
            </a:endParaRPr>
          </a:p>
        </p:txBody>
      </p:sp>
      <p:sp>
        <p:nvSpPr>
          <p:cNvPr id="106"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57B5-F931-4AE6-A925-5CADC527D1D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5" name="Right Triangle 13"/>
          <p:cNvGrpSpPr/>
          <p:nvPr/>
        </p:nvGrpSpPr>
        <p:grpSpPr>
          <a:xfrm>
            <a:off x="-12600" y="5784840"/>
            <a:ext cx="3414600" cy="1092240"/>
            <a:chOff x="-12600" y="5784840"/>
            <a:chExt cx="3414600" cy="1092240"/>
          </a:xfrm>
        </p:grpSpPr>
        <p:pic>
          <p:nvPicPr>
            <p:cNvPr id="146" name="Right Triangle 13" descr=""/>
            <p:cNvPicPr/>
            <p:nvPr/>
          </p:nvPicPr>
          <p:blipFill>
            <a:blip r:embed="rId3"/>
            <a:stretch/>
          </p:blipFill>
          <p:spPr>
            <a:xfrm>
              <a:off x="-12600" y="5784840"/>
              <a:ext cx="3414600" cy="1092240"/>
            </a:xfrm>
            <a:prstGeom prst="rect">
              <a:avLst/>
            </a:prstGeom>
            <a:ln w="0">
              <a:noFill/>
            </a:ln>
          </p:spPr>
        </p:pic>
        <p:sp>
          <p:nvSpPr>
            <p:cNvPr id="1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48" name="Straight Connector 14" descr=""/>
          <p:cNvPicPr/>
          <p:nvPr/>
        </p:nvPicPr>
        <p:blipFill>
          <a:blip r:embed="rId4"/>
          <a:stretch/>
        </p:blipFill>
        <p:spPr>
          <a:xfrm>
            <a:off x="-19080" y="5772240"/>
            <a:ext cx="3421080" cy="1109520"/>
          </a:xfrm>
          <a:prstGeom prst="rect">
            <a:avLst/>
          </a:prstGeom>
          <a:ln w="0">
            <a:noFill/>
          </a:ln>
        </p:spPr>
      </p:pic>
      <p:sp>
        <p:nvSpPr>
          <p:cNvPr id="149"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0"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7BA4-4029-4101-9699-B301E26C359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93"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94" name="Right Triangle 13"/>
          <p:cNvGrpSpPr/>
          <p:nvPr/>
        </p:nvGrpSpPr>
        <p:grpSpPr>
          <a:xfrm>
            <a:off x="-12600" y="5784840"/>
            <a:ext cx="3414600" cy="1092240"/>
            <a:chOff x="-12600" y="5784840"/>
            <a:chExt cx="3414600" cy="1092240"/>
          </a:xfrm>
        </p:grpSpPr>
        <p:pic>
          <p:nvPicPr>
            <p:cNvPr id="195" name="Right Triangle 13" descr=""/>
            <p:cNvPicPr/>
            <p:nvPr/>
          </p:nvPicPr>
          <p:blipFill>
            <a:blip r:embed="rId3"/>
            <a:stretch/>
          </p:blipFill>
          <p:spPr>
            <a:xfrm>
              <a:off x="-12600" y="5784840"/>
              <a:ext cx="3414600" cy="1092240"/>
            </a:xfrm>
            <a:prstGeom prst="rect">
              <a:avLst/>
            </a:prstGeom>
            <a:ln w="0">
              <a:noFill/>
            </a:ln>
          </p:spPr>
        </p:pic>
        <p:sp>
          <p:nvSpPr>
            <p:cNvPr id="1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97" name="Straight Connector 14" descr=""/>
          <p:cNvPicPr/>
          <p:nvPr/>
        </p:nvPicPr>
        <p:blipFill>
          <a:blip r:embed="rId4"/>
          <a:stretch/>
        </p:blipFill>
        <p:spPr>
          <a:xfrm>
            <a:off x="-19080" y="5772240"/>
            <a:ext cx="3421080" cy="110952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01" name="PlaceHolder 4"/>
          <p:cNvSpPr>
            <a:spLocks noGrp="1"/>
          </p:cNvSpPr>
          <p:nvPr>
            <p:ph type="ftr" idx="14"/>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0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2CCA-0B8C-4176-8FEC-402952A652A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FA7D9-0601-4611-93E8-04471DA69E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8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82" name="Right Triangle 13"/>
          <p:cNvGrpSpPr/>
          <p:nvPr/>
        </p:nvGrpSpPr>
        <p:grpSpPr>
          <a:xfrm>
            <a:off x="-12600" y="5784840"/>
            <a:ext cx="3414600" cy="1092240"/>
            <a:chOff x="-12600" y="5784840"/>
            <a:chExt cx="3414600" cy="1092240"/>
          </a:xfrm>
        </p:grpSpPr>
        <p:pic>
          <p:nvPicPr>
            <p:cNvPr id="283" name="Right Triangle 13" descr=""/>
            <p:cNvPicPr/>
            <p:nvPr/>
          </p:nvPicPr>
          <p:blipFill>
            <a:blip r:embed="rId3"/>
            <a:stretch/>
          </p:blipFill>
          <p:spPr>
            <a:xfrm>
              <a:off x="-12600" y="5784840"/>
              <a:ext cx="3414600" cy="1092240"/>
            </a:xfrm>
            <a:prstGeom prst="rect">
              <a:avLst/>
            </a:prstGeom>
            <a:ln w="0">
              <a:noFill/>
            </a:ln>
          </p:spPr>
        </p:pic>
        <p:sp>
          <p:nvSpPr>
            <p:cNvPr id="28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85" name="Straight Connector 14" descr=""/>
          <p:cNvPicPr/>
          <p:nvPr/>
        </p:nvPicPr>
        <p:blipFill>
          <a:blip r:embed="rId4"/>
          <a:stretch/>
        </p:blipFill>
        <p:spPr>
          <a:xfrm>
            <a:off x="-19080" y="5772240"/>
            <a:ext cx="3421080" cy="1109520"/>
          </a:xfrm>
          <a:prstGeom prst="rect">
            <a:avLst/>
          </a:prstGeom>
          <a:ln w="0">
            <a:noFill/>
          </a:ln>
        </p:spPr>
      </p:pic>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8"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89" name="PlaceHolder 4"/>
          <p:cNvSpPr>
            <a:spLocks noGrp="1"/>
          </p:cNvSpPr>
          <p:nvPr>
            <p:ph type="ftr" idx="20"/>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90"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2476-514A-44E5-BE20-B94F4844D33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9" name="Right Triangle 13"/>
          <p:cNvGrpSpPr/>
          <p:nvPr/>
        </p:nvGrpSpPr>
        <p:grpSpPr>
          <a:xfrm>
            <a:off x="-12600" y="5784840"/>
            <a:ext cx="3414600" cy="1092240"/>
            <a:chOff x="-12600" y="5784840"/>
            <a:chExt cx="3414600" cy="1092240"/>
          </a:xfrm>
        </p:grpSpPr>
        <p:pic>
          <p:nvPicPr>
            <p:cNvPr id="330" name="Right Triangle 13" descr=""/>
            <p:cNvPicPr/>
            <p:nvPr/>
          </p:nvPicPr>
          <p:blipFill>
            <a:blip r:embed="rId2"/>
            <a:stretch/>
          </p:blipFill>
          <p:spPr>
            <a:xfrm>
              <a:off x="-12600" y="5784840"/>
              <a:ext cx="3414600" cy="1092240"/>
            </a:xfrm>
            <a:prstGeom prst="rect">
              <a:avLst/>
            </a:prstGeom>
            <a:ln w="0">
              <a:noFill/>
            </a:ln>
          </p:spPr>
        </p:pic>
        <p:sp>
          <p:nvSpPr>
            <p:cNvPr id="3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32" name="Straight Connector 14" descr=""/>
          <p:cNvPicPr/>
          <p:nvPr/>
        </p:nvPicPr>
        <p:blipFill>
          <a:blip r:embed="rId3"/>
          <a:stretch/>
        </p:blipFill>
        <p:spPr>
          <a:xfrm>
            <a:off x="-19080" y="5772240"/>
            <a:ext cx="3421080" cy="110952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5"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6" name="PlaceHolder 4"/>
          <p:cNvSpPr>
            <a:spLocks noGrp="1"/>
          </p:cNvSpPr>
          <p:nvPr>
            <p:ph type="ftr" idx="23"/>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7"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67836-6CDD-4E7B-A676-1739F6F812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6"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77" name="PlaceHolder 4"/>
          <p:cNvSpPr>
            <a:spLocks noGrp="1"/>
          </p:cNvSpPr>
          <p:nvPr>
            <p:ph type="ftr" idx="26"/>
          </p:nvPr>
        </p:nvSpPr>
        <p:spPr>
          <a:xfrm>
            <a:off x="-360" y="6408720"/>
            <a:ext cx="30481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78"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5507-BC24-4D3E-AD4D-7256F00CC5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slideLayout" Target="../slideLayouts/slideLayout145.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5" name="Title 1" descr=""/>
          <p:cNvPicPr/>
          <p:nvPr/>
        </p:nvPicPr>
        <p:blipFill>
          <a:blip r:embed="rId1"/>
          <a:stretch/>
        </p:blipFill>
        <p:spPr>
          <a:xfrm>
            <a:off x="682560" y="1749600"/>
            <a:ext cx="8266320" cy="1841400"/>
          </a:xfrm>
          <a:prstGeom prst="rect">
            <a:avLst/>
          </a:prstGeom>
          <a:ln w="0">
            <a:noFill/>
          </a:ln>
        </p:spPr>
      </p:pic>
      <p:sp>
        <p:nvSpPr>
          <p:cNvPr id="606"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One Health Information Exchange’s experience in responding to the changing landscape</a:t>
            </a:r>
            <a:endParaRPr b="0" lang="en-US" sz="2500" spc="-1" strike="noStrike">
              <a:solidFill>
                <a:srgbClr val="000000"/>
              </a:solidFill>
              <a:latin typeface="Lucida Sans Unicode"/>
            </a:endParaRPr>
          </a:p>
        </p:txBody>
      </p:sp>
      <p:sp>
        <p:nvSpPr>
          <p:cNvPr id="607" name="Text Box 6"/>
          <p:cNvSpPr/>
          <p:nvPr/>
        </p:nvSpPr>
        <p:spPr>
          <a:xfrm>
            <a:off x="0" y="6334200"/>
            <a:ext cx="8305920" cy="518760"/>
          </a:xfrm>
          <a:prstGeom prst="rect">
            <a:avLst/>
          </a:prstGeom>
          <a:noFill/>
          <a:ln w="0">
            <a:noFill/>
          </a:ln>
        </p:spPr>
        <p:style>
          <a:lnRef idx="0"/>
          <a:fillRef idx="0"/>
          <a:effectRef idx="0"/>
          <a:fontRef idx="minor"/>
        </p:style>
        <p:txBody>
          <a:bodyPr lIns="92160" rIns="92160" tIns="46080" bIns="4608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Funding:  AHRQ Contract 290-04-0006; State of Tennessee; Vanderbilt University. </a:t>
            </a:r>
            <a:endParaRPr b="0" lang="en-US" sz="1400" spc="-1" strike="noStrike">
              <a:solidFill>
                <a:srgbClr val="000000"/>
              </a:solidFill>
              <a:latin typeface="Lucida Sans Unicod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This presentation has not been approved by the Agency for Healthcare Research and Quality </a:t>
            </a:r>
            <a:endParaRPr b="0" lang="en-US" sz="1400" spc="-1" strike="noStrike">
              <a:solidFill>
                <a:srgbClr val="000000"/>
              </a:solidFill>
              <a:latin typeface="Lucida Sans Unicode"/>
            </a:endParaRPr>
          </a:p>
        </p:txBody>
      </p:sp>
      <p:pic>
        <p:nvPicPr>
          <p:cNvPr id="608" name="Picture 31" descr=""/>
          <p:cNvPicPr/>
          <p:nvPr/>
        </p:nvPicPr>
        <p:blipFill>
          <a:blip r:embed="rId2"/>
          <a:stretch/>
        </p:blipFill>
        <p:spPr>
          <a:xfrm>
            <a:off x="152280" y="152280"/>
            <a:ext cx="1905120" cy="2438640"/>
          </a:xfrm>
          <a:prstGeom prst="rect">
            <a:avLst/>
          </a:prstGeom>
          <a:ln w="0">
            <a:noFill/>
          </a:ln>
        </p:spPr>
      </p:pic>
      <p:pic>
        <p:nvPicPr>
          <p:cNvPr id="609" name="Picture 2" descr=""/>
          <p:cNvPicPr/>
          <p:nvPr/>
        </p:nvPicPr>
        <p:blipFill>
          <a:blip r:embed="rId3"/>
          <a:stretch/>
        </p:blipFill>
        <p:spPr>
          <a:xfrm>
            <a:off x="2743200" y="4495680"/>
            <a:ext cx="4222800" cy="609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04560" y="1798560"/>
            <a:ext cx="7924680" cy="40687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date our experience has been that consensus at the local level is more important than waiting for consensus to be achieved at a national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 do not believe that the decisions we make today are permanent; however, we have the infrastructure in place to respon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ne area that we continue to struggle with is the relationship with the consum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45" name="Title 2" descr=""/>
          <p:cNvPicPr/>
          <p:nvPr/>
        </p:nvPicPr>
        <p:blipFill>
          <a:blip r:embed="rId1"/>
          <a:stretch/>
        </p:blipFill>
        <p:spPr>
          <a:xfrm>
            <a:off x="298440" y="85680"/>
            <a:ext cx="8570880" cy="1451160"/>
          </a:xfrm>
          <a:prstGeom prst="rect">
            <a:avLst/>
          </a:prstGeom>
          <a:ln w="0">
            <a:noFill/>
          </a:ln>
        </p:spPr>
      </p:pic>
      <p:sp>
        <p:nvSpPr>
          <p:cNvPr id="646"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80880" y="1600200"/>
            <a:ext cx="8229600" cy="44956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n our project started, Tennessee was in the middle of a Medicaid “crisis” (TennCare)</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Participants were not comfortable with the issues and wanted time to learn about HIE before engaging the consumer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s a result a </a:t>
            </a:r>
            <a:r>
              <a:rPr b="0" i="1" lang="en-US" sz="2300" spc="-1" strike="noStrike">
                <a:solidFill>
                  <a:srgbClr val="000000"/>
                </a:solidFill>
                <a:latin typeface="Lucida Sans Unicode"/>
              </a:rPr>
              <a:t>very limited </a:t>
            </a:r>
            <a:r>
              <a:rPr b="0" lang="en-US" sz="2300" spc="-1" strike="noStrike">
                <a:solidFill>
                  <a:srgbClr val="000000"/>
                </a:solidFill>
                <a:latin typeface="Lucida Sans Unicode"/>
              </a:rPr>
              <a:t>dialogue with consumers occurred in the planning phase</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Fact sheet was developed by an adult literacy group and there were others involved in the review</a:t>
            </a:r>
            <a:endParaRPr b="0" lang="en-US" sz="20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e know that engaging the consumer must go hand in hand with the organization’s communication plan</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consumer strategy should be addressed from a community perspective with other partners in the community</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648" name="Title 2" descr=""/>
          <p:cNvPicPr/>
          <p:nvPr/>
        </p:nvPicPr>
        <p:blipFill>
          <a:blip r:embed="rId1"/>
          <a:stretch/>
        </p:blipFill>
        <p:spPr>
          <a:xfrm>
            <a:off x="195120" y="268200"/>
            <a:ext cx="8498160" cy="1158840"/>
          </a:xfrm>
          <a:prstGeom prst="rect">
            <a:avLst/>
          </a:prstGeom>
          <a:ln w="0">
            <a:noFill/>
          </a:ln>
        </p:spPr>
      </p:pic>
      <p:sp>
        <p:nvSpPr>
          <p:cNvPr id="649"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0" y="144792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is the consum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represents the consum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uld we focus on 100% of the consumers or a subse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iven what we have done (and have not done), what is the best way to engage the consum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ow do we know what consumers need and want from an HI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1" name="Date Placeholder 4"/>
          <p:cNvSpPr/>
          <p:nvPr/>
        </p:nvSpPr>
        <p:spPr>
          <a:xfrm>
            <a:off x="6727680" y="6408720"/>
            <a:ext cx="191952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652"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A315-5ECE-4B08-AF85-8B78CA2387D2}"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pic>
        <p:nvPicPr>
          <p:cNvPr id="653" name="Title 10" descr=""/>
          <p:cNvPicPr/>
          <p:nvPr/>
        </p:nvPicPr>
        <p:blipFill>
          <a:blip r:embed="rId1"/>
          <a:stretch/>
        </p:blipFill>
        <p:spPr>
          <a:xfrm>
            <a:off x="268200" y="219240"/>
            <a:ext cx="8425080" cy="1207800"/>
          </a:xfrm>
          <a:prstGeom prst="rect">
            <a:avLst/>
          </a:prstGeom>
          <a:ln w="0">
            <a:noFill/>
          </a:ln>
        </p:spPr>
      </p:pic>
      <p:sp>
        <p:nvSpPr>
          <p:cNvPr id="654" name="Rectangle 5"/>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Title 3" descr=""/>
          <p:cNvPicPr/>
          <p:nvPr/>
        </p:nvPicPr>
        <p:blipFill>
          <a:blip r:embed="rId1"/>
          <a:stretch/>
        </p:blipFill>
        <p:spPr>
          <a:xfrm>
            <a:off x="682560" y="1749600"/>
            <a:ext cx="7785000" cy="1841400"/>
          </a:xfrm>
          <a:prstGeom prst="rect">
            <a:avLst/>
          </a:prstGeom>
          <a:ln w="0">
            <a:noFill/>
          </a:ln>
        </p:spPr>
      </p:pic>
      <p:sp>
        <p:nvSpPr>
          <p:cNvPr id="656"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Contact Information</a:t>
            </a:r>
            <a:endParaRPr b="0" lang="en-US" sz="2500" spc="-1" strike="noStrike">
              <a:solidFill>
                <a:srgbClr val="000000"/>
              </a:solidFill>
              <a:latin typeface="Lucida Sans Unicode"/>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Vicki Y. Estrin</a:t>
            </a:r>
            <a:endParaRPr b="0" lang="en-US" sz="2500" spc="-1" strike="noStrike">
              <a:solidFill>
                <a:srgbClr val="000000"/>
              </a:solidFill>
              <a:latin typeface="Lucida Sans Unicode"/>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Vicki.Y.Estrin@Vanderbilt.edu</a:t>
            </a:r>
            <a:endParaRPr b="0" lang="en-US" sz="2500" spc="-1" strike="noStrike">
              <a:solidFill>
                <a:srgbClr val="000000"/>
              </a:solidFill>
              <a:latin typeface="Lucida Sans Unicode"/>
            </a:endParaRPr>
          </a:p>
        </p:txBody>
      </p:sp>
      <p:sp>
        <p:nvSpPr>
          <p:cNvPr id="657" name="Rectangle 5"/>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0" y="18288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he MidSouth eHealth Alliance is a 501(c)3 organization that serves citizens in the Greater Memphis area</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pproximately 1.1 million citizens</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25% of the citizens are at or below the poverty line</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Began as a state funded planning project in August 2004.  Awarded an AHRQ State &amp; Regional Demonstration contract in September 2004. Also received additional state funding</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Board was founded in February 2005</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Board identified the first point of access to be the Emergency Department</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First emergency department began using the system on May 23, 2006</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Today we have 5 hospital emergency departments with plans to implement the remaining 9 emergency departments in the three counties between now and the first quarter of 2008</a:t>
            </a:r>
            <a:endParaRPr b="0" lang="en-US" sz="18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611" name="Title 2" descr=""/>
          <p:cNvPicPr/>
          <p:nvPr/>
        </p:nvPicPr>
        <p:blipFill>
          <a:blip r:embed="rId1"/>
          <a:stretch/>
        </p:blipFill>
        <p:spPr>
          <a:xfrm>
            <a:off x="195120" y="268200"/>
            <a:ext cx="8498160" cy="1158840"/>
          </a:xfrm>
          <a:prstGeom prst="rect">
            <a:avLst/>
          </a:prstGeom>
          <a:ln w="0">
            <a:noFill/>
          </a:ln>
        </p:spPr>
      </p:pic>
      <p:pic>
        <p:nvPicPr>
          <p:cNvPr id="612" name="Picture 3" descr=""/>
          <p:cNvPicPr/>
          <p:nvPr/>
        </p:nvPicPr>
        <p:blipFill>
          <a:blip r:embed="rId2"/>
          <a:stretch/>
        </p:blipFill>
        <p:spPr>
          <a:xfrm>
            <a:off x="4724280" y="152280"/>
            <a:ext cx="4343400" cy="1119240"/>
          </a:xfrm>
          <a:prstGeom prst="rect">
            <a:avLst/>
          </a:prstGeom>
          <a:ln w="0">
            <a:noFill/>
          </a:ln>
        </p:spPr>
      </p:pic>
      <p:sp>
        <p:nvSpPr>
          <p:cNvPr id="613" name="Oval 4"/>
          <p:cNvSpPr/>
          <p:nvPr/>
        </p:nvSpPr>
        <p:spPr>
          <a:xfrm>
            <a:off x="4724280" y="685800"/>
            <a:ext cx="609840" cy="609480"/>
          </a:xfrm>
          <a:prstGeom prst="ellipse">
            <a:avLst/>
          </a:prstGeom>
          <a:noFill/>
          <a:ln w="9360">
            <a:solidFill>
              <a:srgbClr val="000000"/>
            </a:solidFill>
            <a:miter/>
          </a:ln>
        </p:spPr>
        <p:style>
          <a:lnRef idx="0"/>
          <a:fillRef idx="0"/>
          <a:effectRef idx="0"/>
          <a:fontRef idx="minor"/>
        </p:style>
        <p:txBody>
          <a:bodyPr wrap="none" lIns="91800" rIns="91800" anchor="ctr">
            <a:noAutofit/>
          </a:bodyPr>
          <a:p>
            <a:endParaRPr b="0" lang="en-US" sz="1800" spc="-1" strike="noStrike">
              <a:solidFill>
                <a:srgbClr val="000000"/>
              </a:solidFill>
              <a:latin typeface="Lucida Sans Unicode"/>
            </a:endParaRPr>
          </a:p>
        </p:txBody>
      </p:sp>
      <p:sp>
        <p:nvSpPr>
          <p:cNvPr id="614" name="Line 5"/>
          <p:cNvSpPr/>
          <p:nvPr/>
        </p:nvSpPr>
        <p:spPr>
          <a:xfrm flipH="1" flipV="1">
            <a:off x="5257440" y="1066680"/>
            <a:ext cx="135000" cy="25560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1800" spc="-1" strike="noStrike">
              <a:solidFill>
                <a:srgbClr val="000000"/>
              </a:solidFill>
              <a:latin typeface="Lucida Sans Unicode"/>
            </a:endParaRPr>
          </a:p>
        </p:txBody>
      </p:sp>
      <p:sp>
        <p:nvSpPr>
          <p:cNvPr id="615" name="TextBox 6"/>
          <p:cNvSpPr/>
          <p:nvPr/>
        </p:nvSpPr>
        <p:spPr>
          <a:xfrm>
            <a:off x="0" y="6627960"/>
            <a:ext cx="2743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Title 2" descr=""/>
          <p:cNvPicPr/>
          <p:nvPr/>
        </p:nvPicPr>
        <p:blipFill>
          <a:blip r:embed="rId1"/>
          <a:stretch/>
        </p:blipFill>
        <p:spPr>
          <a:xfrm>
            <a:off x="493560" y="208080"/>
            <a:ext cx="8455320" cy="1474560"/>
          </a:xfrm>
          <a:prstGeom prst="rect">
            <a:avLst/>
          </a:prstGeom>
          <a:ln w="0">
            <a:noFill/>
          </a:ln>
        </p:spPr>
      </p:pic>
      <p:sp>
        <p:nvSpPr>
          <p:cNvPr id="617" name="PlaceHolder 1"/>
          <p:cNvSpPr>
            <a:spLocks noGrp="1"/>
          </p:cNvSpPr>
          <p:nvPr>
            <p:ph/>
          </p:nvPr>
        </p:nvSpPr>
        <p:spPr>
          <a:xfrm>
            <a:off x="685440" y="1676520"/>
            <a:ext cx="3809880" cy="44560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Number of Users – approximately 250</a:t>
            </a: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 of Active Users in the Emergency Departments:  207</a:t>
            </a:r>
            <a:endParaRPr b="0" lang="en-US" sz="13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74 Clinicians – Physicians, Nurse Practioners, and Physician Assistants</a:t>
            </a:r>
            <a:endParaRPr b="0" lang="en-US" sz="13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85 Registered Nurses</a:t>
            </a:r>
            <a:endParaRPr b="0" lang="en-US" sz="13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48 Support staff </a:t>
            </a:r>
            <a:endParaRPr b="0" lang="en-US" sz="1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Percent of Patient Encounters in the ED who have data at other sites: between 40% &amp; 50%</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Total # of records in the system:   989,629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Total # of patients with information in the system:  811,000 (est.)</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Total # of record linkages:   263,181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Daily lab results reported: 80,000 </a:t>
            </a:r>
            <a:endParaRPr b="0" lang="en-US" sz="15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sp>
        <p:nvSpPr>
          <p:cNvPr id="618" name=""/>
          <p:cNvSpPr txBox="1"/>
          <p:nvPr/>
        </p:nvSpPr>
        <p:spPr>
          <a:xfrm>
            <a:off x="4876560" y="1676520"/>
            <a:ext cx="3809880" cy="44956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Text Reports: 50,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Encounter Data:   110,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ICD-9 admission codes (Chief complaints):   34,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Reason For Visit" messages in text:   110,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ICD-9 Discharge codes:  370,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Procedure codes:   6,000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white blood counts (9 hospitals, March, 2007)   51,975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microbiology reports (May, 2007)   25,709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Average # monthly chest x-rays (May, 2007)   34,996   </a:t>
            </a:r>
            <a:endParaRPr b="0" lang="en-US" sz="1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Lucida Sans Unicode"/>
            </a:endParaRPr>
          </a:p>
        </p:txBody>
      </p:sp>
      <p:sp>
        <p:nvSpPr>
          <p:cNvPr id="619" name="Rectangle 5"/>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Title 8" descr=""/>
          <p:cNvPicPr/>
          <p:nvPr/>
        </p:nvPicPr>
        <p:blipFill>
          <a:blip r:embed="rId1"/>
          <a:stretch/>
        </p:blipFill>
        <p:spPr>
          <a:xfrm>
            <a:off x="573120" y="208080"/>
            <a:ext cx="8064360" cy="1474560"/>
          </a:xfrm>
          <a:prstGeom prst="rect">
            <a:avLst/>
          </a:prstGeom>
          <a:ln w="0">
            <a:noFill/>
          </a:ln>
        </p:spPr>
      </p:pic>
      <p:sp>
        <p:nvSpPr>
          <p:cNvPr id="621" name="PlaceHolder 1"/>
          <p:cNvSpPr>
            <a:spLocks noGrp="1"/>
          </p:cNvSpPr>
          <p:nvPr>
            <p:ph/>
          </p:nvPr>
        </p:nvSpPr>
        <p:spPr>
          <a:xfrm>
            <a:off x="151920" y="1447560"/>
            <a:ext cx="3962520" cy="46846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64646"/>
                </a:solidFill>
                <a:latin typeface="Lucida Sans Unicode"/>
              </a:rPr>
              <a:t>19 data feeds submit IP, OP, ED and claims information</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Patient identification/demographics</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Lab results</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ncounter data: date of service, physician and reason</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Medication history through claims</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llergies (test)</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ictated Report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maging studie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Cardiology studie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ischarge summarie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Operative report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mergency room summarie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History and Physical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Diagnostic Code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ome medication history (TennCare Claims)</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tc.</a:t>
            </a:r>
            <a:endParaRPr b="0" lang="en-US" sz="1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622" name=""/>
          <p:cNvSpPr txBox="1"/>
          <p:nvPr/>
        </p:nvSpPr>
        <p:spPr>
          <a:xfrm>
            <a:off x="6172200" y="3733560"/>
            <a:ext cx="2782800" cy="23986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623" name="Picture 5" descr="demographics"/>
          <p:cNvPicPr/>
          <p:nvPr/>
        </p:nvPicPr>
        <p:blipFill>
          <a:blip r:embed="rId2"/>
          <a:stretch/>
        </p:blipFill>
        <p:spPr>
          <a:xfrm>
            <a:off x="5943600" y="3743280"/>
            <a:ext cx="2971800" cy="2809800"/>
          </a:xfrm>
          <a:prstGeom prst="rect">
            <a:avLst/>
          </a:prstGeom>
          <a:ln w="0">
            <a:noFill/>
          </a:ln>
        </p:spPr>
      </p:pic>
      <p:pic>
        <p:nvPicPr>
          <p:cNvPr id="624" name="Picture 7" descr="details-dictated-note-2"/>
          <p:cNvPicPr/>
          <p:nvPr/>
        </p:nvPicPr>
        <p:blipFill>
          <a:blip r:embed="rId3"/>
          <a:stretch/>
        </p:blipFill>
        <p:spPr>
          <a:xfrm>
            <a:off x="6248520" y="1523880"/>
            <a:ext cx="2743200" cy="2435400"/>
          </a:xfrm>
          <a:prstGeom prst="rect">
            <a:avLst/>
          </a:prstGeom>
          <a:ln w="0">
            <a:noFill/>
          </a:ln>
        </p:spPr>
      </p:pic>
      <p:pic>
        <p:nvPicPr>
          <p:cNvPr id="625" name="Picture 8" descr="details-1"/>
          <p:cNvPicPr/>
          <p:nvPr/>
        </p:nvPicPr>
        <p:blipFill>
          <a:blip r:embed="rId4"/>
          <a:stretch/>
        </p:blipFill>
        <p:spPr>
          <a:xfrm>
            <a:off x="4267080" y="2792520"/>
            <a:ext cx="3124440" cy="2846160"/>
          </a:xfrm>
          <a:prstGeom prst="rect">
            <a:avLst/>
          </a:prstGeom>
          <a:ln w="0">
            <a:noFill/>
          </a:ln>
        </p:spPr>
      </p:pic>
      <p:sp>
        <p:nvSpPr>
          <p:cNvPr id="626" name="Rectangle 7"/>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457200" y="164628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Our project was restricted to use in the Emergency Department only.</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ll work groups were focused on the same goal – initial use in the Emergency Department</a:t>
            </a:r>
            <a:endParaRPr b="0" lang="en-US" sz="25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Financial Work Group</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echnical Work Group</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rivacy and Security Work Group</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linical Work Group</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The privacy and security work group narrowed the use of the data to the purpose of diagnosis and treatment.</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628" name="Title 2" descr=""/>
          <p:cNvPicPr/>
          <p:nvPr/>
        </p:nvPicPr>
        <p:blipFill>
          <a:blip r:embed="rId1"/>
          <a:stretch/>
        </p:blipFill>
        <p:spPr>
          <a:xfrm>
            <a:off x="225360" y="122400"/>
            <a:ext cx="8742600" cy="1341360"/>
          </a:xfrm>
          <a:prstGeom prst="rect">
            <a:avLst/>
          </a:prstGeom>
          <a:ln w="0">
            <a:noFill/>
          </a:ln>
        </p:spPr>
      </p:pic>
      <p:sp>
        <p:nvSpPr>
          <p:cNvPr id="629"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0" y="1752480"/>
            <a:ext cx="8229600" cy="42674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rom a technical perspective we were ready for initial use in the fall of 2005 but due to the privacy, confidentiality, security AND legal concerns, we did not begin using the system until May 200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itially we believed once the Business Associate Agreements (BAAs) were in place, then we were fine – WRONG!</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t took 11 months to achieve consensus (and trust) on our initial approach, to draft the data sharing agreements, and to write the policies.</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 addition we spent approximately 3 months setting up the infrastructure to respond “real time” to changes in privacy, security and confidentiality.</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631" name="Title 2" descr=""/>
          <p:cNvPicPr/>
          <p:nvPr/>
        </p:nvPicPr>
        <p:blipFill>
          <a:blip r:embed="rId1"/>
          <a:stretch/>
        </p:blipFill>
        <p:spPr>
          <a:xfrm>
            <a:off x="268200" y="-23760"/>
            <a:ext cx="8504280" cy="1650960"/>
          </a:xfrm>
          <a:prstGeom prst="rect">
            <a:avLst/>
          </a:prstGeom>
          <a:ln w="0">
            <a:noFill/>
          </a:ln>
        </p:spPr>
      </p:pic>
      <p:sp>
        <p:nvSpPr>
          <p:cNvPr id="632"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0" y="1905120"/>
            <a:ext cx="8229600" cy="44956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ho should have access?</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ny one involved in supporting the clinical care of the patient in the emergency department setting.  </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Should patients have the right to not participate in data sharing?</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ll patients are notified that their data will be shared and the patient has the right to not share their data for clinical purposes.  </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What data will be shared?</a:t>
            </a:r>
            <a:endParaRPr b="0" lang="en-US" sz="19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Know what the laws and regulations actually say versus what people believe they say</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We don’t share mental health or substance abuse data from those clinics or units.</a:t>
            </a:r>
            <a:endParaRPr b="0" lang="en-US" sz="16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We do share mental health drug claims</a:t>
            </a:r>
            <a:endParaRPr b="0" lang="en-US" sz="15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Sans Unicode"/>
              </a:rPr>
              <a:t>We do share mental health ICD9 codes</a:t>
            </a:r>
            <a:endParaRPr b="0" lang="en-US" sz="15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All Participants have the right NOT to share specific patient populations</a:t>
            </a:r>
            <a:endParaRPr b="0" lang="en-US" sz="16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Ultimately – if we are in doubt – we keep it out until we can get consensus</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634" name="Title 2" descr=""/>
          <p:cNvPicPr/>
          <p:nvPr/>
        </p:nvPicPr>
        <p:blipFill>
          <a:blip r:embed="rId1"/>
          <a:stretch/>
        </p:blipFill>
        <p:spPr>
          <a:xfrm>
            <a:off x="268200" y="219240"/>
            <a:ext cx="8425080" cy="1207800"/>
          </a:xfrm>
          <a:prstGeom prst="rect">
            <a:avLst/>
          </a:prstGeom>
          <a:ln w="0">
            <a:noFill/>
          </a:ln>
        </p:spPr>
      </p:pic>
      <p:sp>
        <p:nvSpPr>
          <p:cNvPr id="635"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1EEF-23C9-4DB7-BCBB-B1E8B00E6603}" type="slidenum">
              <a:rPr b="0" lang="en-US" sz="1000" spc="-1" strike="noStrike">
                <a:solidFill>
                  <a:srgbClr val="000000"/>
                </a:solidFill>
                <a:latin typeface="Lucida Sans Unicode"/>
              </a:rPr>
              <a:t>&lt;number&gt;</a:t>
            </a:fld>
            <a:endParaRPr b="0" lang="en-US" sz="1000" spc="-1" strike="noStrike">
              <a:solidFill>
                <a:srgbClr val="000000"/>
              </a:solidFill>
              <a:latin typeface="Lucida Sans Unicode"/>
            </a:endParaRPr>
          </a:p>
        </p:txBody>
      </p:sp>
      <p:sp>
        <p:nvSpPr>
          <p:cNvPr id="637" name="PlaceHolder 1"/>
          <p:cNvSpPr>
            <a:spLocks noGrp="1"/>
          </p:cNvSpPr>
          <p:nvPr>
            <p:ph/>
          </p:nvPr>
        </p:nvSpPr>
        <p:spPr>
          <a:xfrm>
            <a:off x="304920" y="1447920"/>
            <a:ext cx="4495680" cy="4572000"/>
          </a:xfrm>
          <a:prstGeom prst="rect">
            <a:avLst/>
          </a:prstGeom>
          <a:noFill/>
          <a:ln w="0">
            <a:noFill/>
          </a:ln>
        </p:spPr>
        <p:txBody>
          <a:bodyPr lIns="90000" rIns="90000" tIns="46800" bIns="46800" anchor="t">
            <a:normAutofit/>
          </a:bodyPr>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Lucida Sans Unicode"/>
              </a:rPr>
              <a:t>Participants in the MidSouth eHealth Alliance</a:t>
            </a: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re allowed the use of the data for designated Participants for the purposed of treatment and diagnosis only.</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igned a Registration Agreement that designates them as a Data Provider and/or a Data Recipient.  </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signed a Data Sharing Agreement.</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have a vote on the policy committee known as the Operations Committee</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Policy is recommended by the Operations Committee to the Board and the Board approves it.</a:t>
            </a:r>
            <a:endParaRPr b="0" lang="en-US" sz="12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Lucida Sans Unicode"/>
              </a:rPr>
              <a:t>Patients who seek their care from Participants in the MidSouth eHealth Alliance</a:t>
            </a:r>
            <a:r>
              <a:rPr b="0" lang="en-US" sz="1400" spc="-1" strike="noStrike">
                <a:solidFill>
                  <a:srgbClr val="000000"/>
                </a:solidFill>
                <a:latin typeface="Lucida Sans Unicode"/>
              </a:rPr>
              <a:t> -</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re notified that their clinical data could be shared with the MidSouth eHealth Alliance..</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have the right to “Opt Out” of the system.  It is assumed they are in the system until they “Opt Out”.  </a:t>
            </a:r>
            <a:endParaRPr b="0" lang="en-US" sz="1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46"/>
                </a:solidFill>
                <a:latin typeface="Lucida Sans Unicode"/>
              </a:rPr>
              <a:t>We relied heavily on the Markle Connecting for Health Policy Framework</a:t>
            </a:r>
            <a:endParaRPr b="0" lang="en-US" sz="1400" spc="-1" strike="noStrike">
              <a:solidFill>
                <a:srgbClr val="000000"/>
              </a:solidFill>
              <a:latin typeface="Lucida Sans Unicode"/>
            </a:endParaRPr>
          </a:p>
        </p:txBody>
      </p:sp>
      <p:pic>
        <p:nvPicPr>
          <p:cNvPr id="638" name="Picture 5" descr=""/>
          <p:cNvPicPr/>
          <p:nvPr/>
        </p:nvPicPr>
        <p:blipFill>
          <a:blip r:embed="rId1"/>
          <a:stretch/>
        </p:blipFill>
        <p:spPr>
          <a:xfrm>
            <a:off x="4952880" y="1371600"/>
            <a:ext cx="3926160" cy="4876920"/>
          </a:xfrm>
          <a:prstGeom prst="rect">
            <a:avLst/>
          </a:prstGeom>
          <a:ln w="0">
            <a:noFill/>
          </a:ln>
        </p:spPr>
      </p:pic>
      <p:pic>
        <p:nvPicPr>
          <p:cNvPr id="639" name="Title 7" descr=""/>
          <p:cNvPicPr/>
          <p:nvPr/>
        </p:nvPicPr>
        <p:blipFill>
          <a:blip r:embed="rId2"/>
          <a:stretch/>
        </p:blipFill>
        <p:spPr>
          <a:xfrm>
            <a:off x="347760" y="208080"/>
            <a:ext cx="8601120" cy="1017360"/>
          </a:xfrm>
          <a:prstGeom prst="rect">
            <a:avLst/>
          </a:prstGeom>
          <a:ln w="0">
            <a:noFill/>
          </a:ln>
        </p:spPr>
      </p:pic>
      <p:sp>
        <p:nvSpPr>
          <p:cNvPr id="640" name="Rectangle 8"/>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0880" y="167652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Following the Connecting for Health policy framework and model contracts, the board created the Operations Committee</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ll Participants have a voice/vote in addition the MidSouth eHealth Alliance has a voice/vote </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The Operations Committee has become the forum for discussing the privacy, security, confidentiality and legal landscape.  They advise and educate the Board and others.  </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views and recommends policy changes</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views requests for different uses of the data</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views applications for participation</a:t>
            </a:r>
            <a:endParaRPr b="0" lang="en-US" sz="14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Responds to specific agenda items from the Board – usually related to policy</a:t>
            </a:r>
            <a:endParaRPr b="0" lang="en-US" sz="1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Sans Unicode"/>
              </a:rPr>
              <a:t>The Operations Committee is involved in the expansion of scope and use of data discussions</a:t>
            </a:r>
            <a:endParaRPr b="0" lang="en-US" sz="1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xpansion of scope beyond the emergency room </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Ambulatory sites</a:t>
            </a:r>
            <a:endParaRPr b="0" lang="en-US" sz="13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Hospitalists</a:t>
            </a:r>
            <a:endParaRPr b="0" lang="en-US" sz="1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Expansion of use of the data</a:t>
            </a:r>
            <a:endParaRPr b="0" lang="en-US" sz="14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Public health reporting</a:t>
            </a:r>
            <a:endParaRPr b="0" lang="en-US" sz="13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Reportable diseases</a:t>
            </a:r>
            <a:endParaRPr b="0" lang="en-US" sz="1200" spc="-1" strike="noStrike">
              <a:solidFill>
                <a:srgbClr val="000000"/>
              </a:solidFill>
              <a:latin typeface="Lucida Sans Unicode"/>
            </a:endParaRPr>
          </a:p>
          <a:p>
            <a:pPr lvl="3" marL="1143000" indent="-228600">
              <a:lnSpc>
                <a:spcPct val="8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rPr>
              <a:t>De-identified/Annonymized data for epidemiology studies</a:t>
            </a:r>
            <a:endParaRPr b="0" lang="en-US" sz="1200" spc="-1" strike="noStrike">
              <a:solidFill>
                <a:srgbClr val="000000"/>
              </a:solidFill>
              <a:latin typeface="Lucida Sans Unicode"/>
            </a:endParaRPr>
          </a:p>
          <a:p>
            <a:pPr lvl="2" marL="858960" indent="-228600">
              <a:lnSpc>
                <a:spcPct val="80000"/>
              </a:lnSpc>
              <a:spcBef>
                <a:spcPts val="349"/>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Sans Unicode"/>
              </a:rPr>
              <a:t>Case management</a:t>
            </a:r>
            <a:endParaRPr b="0" lang="en-US" sz="1300" spc="-1" strike="noStrike">
              <a:solidFill>
                <a:srgbClr val="000000"/>
              </a:solidFill>
              <a:latin typeface="Lucida Sans Unicode"/>
            </a:endParaRPr>
          </a:p>
        </p:txBody>
      </p:sp>
      <p:pic>
        <p:nvPicPr>
          <p:cNvPr id="642" name="Title 2" descr=""/>
          <p:cNvPicPr/>
          <p:nvPr/>
        </p:nvPicPr>
        <p:blipFill>
          <a:blip r:embed="rId1"/>
          <a:stretch/>
        </p:blipFill>
        <p:spPr>
          <a:xfrm>
            <a:off x="189000" y="268200"/>
            <a:ext cx="8656560" cy="1262160"/>
          </a:xfrm>
          <a:prstGeom prst="rect">
            <a:avLst/>
          </a:prstGeom>
          <a:ln w="0">
            <a:noFill/>
          </a:ln>
        </p:spPr>
      </p:pic>
      <p:sp>
        <p:nvSpPr>
          <p:cNvPr id="643" name="Rectangle 3"/>
          <p:cNvSpPr/>
          <p:nvPr/>
        </p:nvSpPr>
        <p:spPr>
          <a:xfrm>
            <a:off x="-76320" y="6703920"/>
            <a:ext cx="457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ucida Sans Unicode"/>
              </a:rPr>
              <a:t>© Vanderbilt Center for Better Health 2007</a:t>
            </a:r>
            <a:endParaRPr b="0" lang="en-US" sz="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3:31:31Z</dcterms:created>
  <dc:creator>Vicki Y. Estrin</dc:creator>
  <dc:description/>
  <dc:language>en-US</dc:language>
  <cp:lastModifiedBy>Vicki Y. Estrin</cp:lastModifiedBy>
  <dcterms:modified xsi:type="dcterms:W3CDTF">2007-09-26T23:09:25Z</dcterms:modified>
  <cp:revision>27</cp:revision>
  <dc:subject/>
  <dc:title>Privacy, Security and Confidentiality</dc:title>
</cp:coreProperties>
</file>