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23.wmf" ContentType="image/x-wmf"/>
  <Override PartName="/ppt/media/image10.jpeg" ContentType="image/jpeg"/>
  <Override PartName="/ppt/media/image13.wmf" ContentType="image/x-wmf"/>
  <Override PartName="/ppt/media/image8.jpeg" ContentType="image/jpeg"/>
  <Override PartName="/ppt/media/image9.png" ContentType="image/png"/>
  <Override PartName="/ppt/media/image17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BB4-78B6-4179-82D7-FE0F34857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5194-2B32-4927-B58A-2C91632BC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123560" y="4584240"/>
            <a:ext cx="456084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control practices (at least for workflow / call volume) since didn’t have opportunity to go into eRx practices b4 eRx be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C117-2175-4185-A3E6-BD7A0736C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8BF2-5851-45C1-A1BE-F589B3498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02B-28FC-4260-9BB0-2680A1FF3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5DA1-D4EE-46D8-8CDA-C34454350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C914-B80A-47F8-81BF-681FC19A0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00160" y="90324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7B3A-DED4-48FD-B392-132B6C2D9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00160" y="90180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122120" y="4584240"/>
            <a:ext cx="45622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umbers represent ALL of UHMP e-prescribing practices, including specialty. However, ¾ of UHMP eRx volume is represented by our study group prescribers in the 25 primary care practices (~ 30K of monthly UHMP total of ~40K eRx), so presumably ¾ of these eligibility transactions are coming from the 25 study group pract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9995-BC0C-4323-AD38-B76CA7C02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002A3-3DC7-47C5-94AC-8BAB5912F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C685-300F-4890-A7E1-A2647E2A3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88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74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060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88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74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D2B4-4103-4FB5-8E15-F5341DA60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0240" y="16200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8E96-E285-4F3A-8198-10F6B7346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88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67440" y="13647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060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88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67440" y="3904560"/>
            <a:ext cx="27028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DF03-F829-49A6-8E9B-77F3EC51A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ED0BF-A3A1-4401-B990-4092A4E86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5639-7D96-4662-AC42-D36BED6C8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0240" y="16200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76FA2-F4C5-4029-A478-788689C9F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95016-8950-40F2-A11C-58EB5ED76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2240" y="39045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1124-2A4A-4DB3-8306-45857D7D0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2240" y="1364760"/>
            <a:ext cx="409644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0600" y="3904560"/>
            <a:ext cx="8394480" cy="2319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F926-FF47-4323-8BA4-186FA91C80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876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1500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15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3" marL="895320" indent="-214200">
              <a:spcBef>
                <a:spcPts val="1500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4" marL="1141560" indent="-244800">
              <a:spcBef>
                <a:spcPts val="15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5" marL="1141560" indent="-244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6" marL="1141560" indent="-244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91200" y="6311520"/>
            <a:ext cx="252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518-9DC3-4E85-AA1A-37A31EA8E3A0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0" y="105876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16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0" y="31896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85800" y="3591000"/>
            <a:ext cx="77724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0800000">
            <a:off x="-3240" y="6568560"/>
            <a:ext cx="9144000" cy="304920"/>
          </a:xfrm>
          <a:prstGeom prst="rect">
            <a:avLst/>
          </a:prstGeom>
          <a:solidFill>
            <a:srgbClr val="606a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40" y="6554880"/>
            <a:ext cx="9144000" cy="0"/>
          </a:xfrm>
          <a:prstGeom prst="line">
            <a:avLst/>
          </a:prstGeom>
          <a:ln w="28440">
            <a:solidFill>
              <a:srgbClr val="2528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225360" indent="238320" algn="ctr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3" marL="455760" indent="225360" algn="ctr">
              <a:spcBef>
                <a:spcPts val="400"/>
              </a:spcBef>
              <a:buClr>
                <a:srgbClr val="606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4" marL="685800" indent="210960" algn="ctr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5" marL="685800" indent="210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6" marL="685800" indent="210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cbi.nlm.nih.gov/entrez/query.fcgi?cmd=Retrieve&amp;db=PubMed&amp;dopt=Citation&amp;list_uids=15755942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hrq.gov/downloads/pub/advances/vol2/Seger.pdf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71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0" rIns="9000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52849"/>
                </a:solidFill>
                <a:latin typeface="Arial"/>
              </a:rPr>
              <a:t>Northeast Ohio CMS eRx Project</a:t>
            </a:r>
            <a:endParaRPr b="0" lang="en-US" sz="4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4200" y="3504960"/>
            <a:ext cx="8099280" cy="1230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AHRQ National Meeting</a:t>
            </a:r>
            <a:br>
              <a:rPr sz="2400"/>
            </a:b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ethesda</a:t>
            </a:r>
            <a:br>
              <a:rPr sz="20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September 27</a:t>
            </a:r>
            <a:r>
              <a:rPr b="0" lang="en-US" sz="1800" spc="-1" strike="noStrike" baseline="30000">
                <a:solidFill>
                  <a:srgbClr val="25284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, 2007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2209680" cy="1105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080" y="5126040"/>
            <a:ext cx="270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 Elson, MD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ef Medical Off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lipsys Cor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b.elson@eclipsy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60840" y="343080"/>
            <a:ext cx="3638880" cy="11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42160" y="2112840"/>
            <a:ext cx="2009880" cy="209088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50760" y="2214720"/>
            <a:ext cx="2509920" cy="21240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68280" y="1736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25360" y="253692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1582560" y="2689200"/>
            <a:ext cx="1676160" cy="1294920"/>
            <a:chOff x="1582560" y="2689200"/>
            <a:chExt cx="1676160" cy="129492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1861920" y="2689200"/>
              <a:ext cx="13968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1582560" y="2842920"/>
              <a:ext cx="111780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1796040" y="241776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478400" y="2689200"/>
            <a:ext cx="1371240" cy="966960"/>
            <a:chOff x="4478400" y="2689200"/>
            <a:chExt cx="1371240" cy="966960"/>
          </a:xfrm>
        </p:grpSpPr>
        <p:sp>
          <p:nvSpPr>
            <p:cNvPr id="200" name="Cloud"/>
            <p:cNvSpPr/>
            <p:nvPr/>
          </p:nvSpPr>
          <p:spPr>
            <a:xfrm>
              <a:off x="4478400" y="2689200"/>
              <a:ext cx="1371240" cy="96696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33920" y="3030480"/>
              <a:ext cx="916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46e"/>
                  </a:solidFill>
                  <a:latin typeface="Arial"/>
                </a:rPr>
                <a:t>Rx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2" name=""/>
          <p:cNvCxnSpPr>
            <a:endCxn id="200" idx="4"/>
          </p:cNvCxnSpPr>
          <p:nvPr/>
        </p:nvCxnSpPr>
        <p:spPr>
          <a:xfrm>
            <a:off x="3030120" y="2917800"/>
            <a:ext cx="1453320" cy="25596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3" name=""/>
          <p:cNvSpPr/>
          <p:nvPr/>
        </p:nvSpPr>
        <p:spPr>
          <a:xfrm>
            <a:off x="942840" y="548316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 Standard: Medication History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™ requests med hx from RxHub, using info from prior eligibility chec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hows interoperability between an Initial and a Foundation stand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/>
          <p:nvPr/>
        </p:nvCxnSpPr>
        <p:spPr>
          <a:xfrm flipV="1" rot="10800000">
            <a:off x="5847480" y="3308400"/>
            <a:ext cx="992880" cy="65520"/>
          </a:xfrm>
          <a:prstGeom prst="curvedConnector5">
            <a:avLst>
              <a:gd name="adj1" fmla="val 49909"/>
              <a:gd name="adj2" fmla="val 49723"/>
              <a:gd name="adj3" fmla="val 49909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cxnSp>
        <p:nvCxnSpPr>
          <p:cNvPr id="205" name=""/>
          <p:cNvCxnSpPr>
            <a:stCxn id="200" idx="5"/>
          </p:cNvCxnSpPr>
          <p:nvPr/>
        </p:nvCxnSpPr>
        <p:spPr>
          <a:xfrm flipV="1" rot="10800000">
            <a:off x="2877480" y="3172320"/>
            <a:ext cx="1605600" cy="251640"/>
          </a:xfrm>
          <a:prstGeom prst="curvedConnector5">
            <a:avLst>
              <a:gd name="adj1" fmla="val 50145"/>
              <a:gd name="adj2" fmla="val 50000"/>
              <a:gd name="adj3" fmla="val 50145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6" name=""/>
          <p:cNvSpPr/>
          <p:nvPr/>
        </p:nvSpPr>
        <p:spPr>
          <a:xfrm>
            <a:off x="3335400" y="2612880"/>
            <a:ext cx="3504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9960" y="1806480"/>
            <a:ext cx="4572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"/>
          <p:cNvCxnSpPr/>
          <p:nvPr/>
        </p:nvCxnSpPr>
        <p:spPr>
          <a:xfrm>
            <a:off x="5697360" y="2841480"/>
            <a:ext cx="1146960" cy="332640"/>
          </a:xfrm>
          <a:prstGeom prst="curvedConnector5">
            <a:avLst>
              <a:gd name="adj1" fmla="val 49984"/>
              <a:gd name="adj2" fmla="val 49945"/>
              <a:gd name="adj3" fmla="val 49984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209" name=""/>
          <p:cNvSpPr/>
          <p:nvPr/>
        </p:nvSpPr>
        <p:spPr>
          <a:xfrm>
            <a:off x="3335400" y="2612880"/>
            <a:ext cx="35049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259080" y="3755880"/>
            <a:ext cx="358128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36120" y="232884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 Hx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161240" y="382428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 Hx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11760" y="4175280"/>
            <a:ext cx="457200" cy="4572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39680" y="4919760"/>
            <a:ext cx="74390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pt ’0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K med hx transfers (only 500 “views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6720" y="1644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391520" y="2330280"/>
            <a:ext cx="838080" cy="739440"/>
            <a:chOff x="7391520" y="2330280"/>
            <a:chExt cx="838080" cy="739440"/>
          </a:xfrm>
        </p:grpSpPr>
        <p:sp>
          <p:nvSpPr>
            <p:cNvPr id="217" name=""/>
            <p:cNvSpPr/>
            <p:nvPr/>
          </p:nvSpPr>
          <p:spPr>
            <a:xfrm>
              <a:off x="7391520" y="2809080"/>
              <a:ext cx="838080" cy="1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4"/>
            <a:stretch/>
          </p:blipFill>
          <p:spPr>
            <a:xfrm>
              <a:off x="7391520" y="2330280"/>
              <a:ext cx="83808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7728120" y="2809080"/>
              <a:ext cx="183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67360" y="3171960"/>
            <a:ext cx="194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co, Expr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mark, Anthem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them live as of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816200" y="304920"/>
            <a:ext cx="716256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RxHu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5BF1-4E62-4DD5-9F2D-6EA6A67820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88920" y="3693960"/>
            <a:ext cx="7745400" cy="26416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88920" y="1474920"/>
            <a:ext cx="3110040" cy="21492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30560" y="2440080"/>
            <a:ext cx="1284120" cy="403200"/>
          </a:xfrm>
          <a:prstGeom prst="ellipse">
            <a:avLst/>
          </a:prstGeom>
          <a:noFill/>
          <a:ln w="38160">
            <a:solidFill>
              <a:srgbClr val="4c74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User View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49560" y="2941560"/>
            <a:ext cx="782640" cy="993960"/>
          </a:xfrm>
          <a:custGeom>
            <a:avLst/>
            <a:gdLst/>
            <a:ahLst/>
            <a:rect l="l" t="t" r="r" b="b"/>
            <a:pathLst>
              <a:path w="493" h="626">
                <a:moveTo>
                  <a:pt x="0" y="0"/>
                </a:moveTo>
                <a:lnTo>
                  <a:pt x="493" y="0"/>
                </a:lnTo>
                <a:lnTo>
                  <a:pt x="493" y="6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B415-3523-44FA-AD79-7944E2BF9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ferred Rx History (View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82640" y="2368440"/>
          <a:ext cx="6997680" cy="2367000"/>
        </p:xfrm>
        <a:graphic>
          <a:graphicData uri="http://schemas.openxmlformats.org/drawingml/2006/table">
            <a:tbl>
              <a:tblPr/>
              <a:tblGrid>
                <a:gridCol w="2932200"/>
                <a:gridCol w="1015920"/>
                <a:gridCol w="1015920"/>
                <a:gridCol w="1017720"/>
                <a:gridCol w="1015920"/>
              </a:tblGrid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 History Transfers from RxH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tion History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e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B0E0-DCFD-4711-BE77-C0C3D1FB15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60" y="1128600"/>
            <a:ext cx="620640" cy="5729400"/>
          </a:xfrm>
          <a:custGeom>
            <a:avLst/>
            <a:gdLst>
              <a:gd name="textAreaLeft" fmla="*/ 30240 w 620640"/>
              <a:gd name="textAreaRight" fmla="*/ 590400 w 620640"/>
              <a:gd name="textAreaTop" fmla="*/ 30240 h 5729400"/>
              <a:gd name="textAreaBottom" fmla="*/ 5699160 h 5729400"/>
            </a:gdLst>
            <a:ahLst/>
            <a:rect l="textAreaLeft" t="textAreaTop" r="textAreaRight" b="textAreaBottom"/>
            <a:pathLst>
              <a:path w="21600" h="199296">
                <a:moveTo>
                  <a:pt x="3600" y="0"/>
                </a:moveTo>
                <a:arcTo wR="3600" hR="3600" stAng="16200000" swAng="-5400000"/>
                <a:lnTo>
                  <a:pt x="0" y="195696"/>
                </a:lnTo>
                <a:arcTo wR="3600" hR="3600" stAng="10800000" swAng="-5400000"/>
                <a:lnTo>
                  <a:pt x="18000" y="1992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2106720"/>
            <a:ext cx="2286000" cy="3886200"/>
          </a:xfrm>
          <a:prstGeom prst="rect">
            <a:avLst/>
          </a:prstGeom>
          <a:solidFill>
            <a:srgbClr val="ff9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04920" y="225900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762120" y="2411280"/>
            <a:ext cx="1675800" cy="1295280"/>
            <a:chOff x="762120" y="2411280"/>
            <a:chExt cx="1675800" cy="129528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041480" y="241128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3"/>
            <a:stretch/>
          </p:blipFill>
          <p:spPr>
            <a:xfrm>
              <a:off x="762120" y="2565000"/>
              <a:ext cx="1117440" cy="114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"/>
          <p:cNvSpPr/>
          <p:nvPr/>
        </p:nvSpPr>
        <p:spPr>
          <a:xfrm>
            <a:off x="975240" y="213984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09640" y="1143000"/>
            <a:ext cx="76438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undation Standard: NEWRX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rescriptions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OnCall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™ to pharm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l request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from pharmacy; response (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to pharm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17960" y="3797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4164120"/>
            <a:ext cx="2666880" cy="1828800"/>
          </a:xfrm>
          <a:prstGeom prst="rect">
            <a:avLst/>
          </a:prstGeom>
          <a:solidFill>
            <a:srgbClr val="ff9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6781680" y="4316400"/>
            <a:ext cx="1067040" cy="747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962680" y="523080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loud"/>
          <p:cNvSpPr/>
          <p:nvPr/>
        </p:nvSpPr>
        <p:spPr>
          <a:xfrm>
            <a:off x="3429000" y="4240080"/>
            <a:ext cx="1752480" cy="1148040"/>
          </a:xfrm>
          <a:prstGeom prst="pie">
            <a:avLst/>
          </a:prstGeom>
          <a:solidFill>
            <a:srgbClr val="ff855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3800" y="4667400"/>
            <a:ext cx="1319040" cy="337320"/>
          </a:xfrm>
          <a:prstGeom prst="rect">
            <a:avLst/>
          </a:prstGeom>
          <a:solidFill>
            <a:srgbClr val="ff8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e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5181120" y="494496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760" y="5383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4" idx="2"/>
            <a:endCxn id="241" idx="4"/>
          </p:cNvCxnSpPr>
          <p:nvPr/>
        </p:nvCxnSpPr>
        <p:spPr>
          <a:xfrm flipH="1" rot="16200000">
            <a:off x="1822320" y="3204360"/>
            <a:ext cx="1108800" cy="21135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 flipH="1">
            <a:off x="1142640" y="494172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143000" y="3684600"/>
            <a:ext cx="0" cy="12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27080" y="4276800"/>
            <a:ext cx="45720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252849"/>
                </a:solidFill>
                <a:latin typeface="Arial"/>
              </a:rPr>
              <a:t>1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482112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80200" y="5062680"/>
            <a:ext cx="457200" cy="4572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25284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25920" y="2179800"/>
            <a:ext cx="548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 ’06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39K New; 3K Re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S +RiteAid + Walgreen’s: 20 / 42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2520" y="6288120"/>
            <a:ext cx="54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ail order routing via RxHub not represent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cription Routing (SureScrip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D19E-7871-4CA2-989F-FB2EC5513A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Med Hx, 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33AE-D26B-4322-8797-43CCFD28B7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(Study) and Contro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849"/>
                </a:solidFill>
                <a:latin typeface="Arial"/>
              </a:rPr>
              <a:t>Study (eRx) group (n=25 practices, 130 physician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art of University Hospital Medical Practices (UHMP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Community-based, primary care practices in Northeast Ohio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ccess to OnCallData™ e-prescribing software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t least one doctor in the practice generated a minimum of 150 eRx in any month of 2006 prior to enrollment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52849"/>
                </a:solidFill>
                <a:latin typeface="Arial"/>
              </a:rPr>
              <a:t>Control group (n=22 practices, 77 physician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dependent primary care practices in NEO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Not currently e-prescribing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Convenience sample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actices w/ Ohio KePRO relationship under 8</a:t>
            </a:r>
            <a:r>
              <a:rPr b="0" lang="en-US" sz="1800" spc="-1" strike="noStrike" baseline="30000">
                <a:solidFill>
                  <a:srgbClr val="252849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 SOW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B68F-A174-4ECC-9656-BFACE972EC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and Contro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349880" y="1231920"/>
          <a:ext cx="479412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9880" y="1231920"/>
                    <a:ext cx="47941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4410000" y="3906720"/>
          <a:ext cx="4449960" cy="26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0000" y="3906720"/>
                    <a:ext cx="44499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Rx and Control Groups: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25 UHMP practices with access to eRx (130 MD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22 non eRx practices (100 MDs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oosely matched by size and specialty (separately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1A25F-2D0B-4692-939D-7FBF6FD77E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60" y="76320"/>
            <a:ext cx="8791560" cy="75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Rx / prescriber / mo (10/06 by practi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0" y="1150920"/>
            <a:ext cx="9144000" cy="5707080"/>
            <a:chOff x="0" y="1150920"/>
            <a:chExt cx="9144000" cy="5707080"/>
          </a:xfrm>
        </p:grpSpPr>
        <p:graphicFrame>
          <p:nvGraphicFramePr>
            <p:cNvPr id="266" name=""/>
            <p:cNvGraphicFramePr/>
            <p:nvPr/>
          </p:nvGraphicFramePr>
          <p:xfrm>
            <a:off x="0" y="1171440"/>
            <a:ext cx="9144000" cy="56055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171440"/>
                      <a:ext cx="9144000" cy="560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8" name=""/>
            <p:cNvSpPr/>
            <p:nvPr/>
          </p:nvSpPr>
          <p:spPr>
            <a:xfrm>
              <a:off x="631800" y="5340240"/>
              <a:ext cx="8196120" cy="11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480" y="1150920"/>
              <a:ext cx="598320" cy="5707080"/>
            </a:xfrm>
            <a:prstGeom prst="rect">
              <a:avLst/>
            </a:prstGeom>
            <a:solidFill>
              <a:srgbClr val="005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574120" y="5159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59600" y="5156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45080" y="5153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30920" y="514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5146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02240" y="5143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5943600"/>
            <a:ext cx="618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= pediatric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 at top of each bar = number of physicians in that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50920" y="1324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58720" y="2409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6880" y="2484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063520" y="24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82840" y="285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1800" y="3019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98800" y="3171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06600" y="3468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25560" y="3632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22560" y="3784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41520" y="3881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494240" y="3878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57480" y="3886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65640" y="389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73440" y="3890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81600" y="3887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23160" y="3884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19880" y="39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705360" y="3944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024680" y="3963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321320" y="423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651440" y="434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948440" y="4398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56600" y="4406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564400" y="451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92640" y="153684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5 UHMP primary care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0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94E5-47EE-4B24-A80E-108C07CAD8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-Prescribing @ 25 UHMP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90600" y="1365120"/>
          <a:ext cx="8394480" cy="5288040"/>
        </p:xfrm>
        <a:graphic>
          <a:graphicData uri="http://schemas.openxmlformats.org/drawingml/2006/table">
            <a:tbl>
              <a:tblPr/>
              <a:tblGrid>
                <a:gridCol w="1933560"/>
                <a:gridCol w="2074680"/>
                <a:gridCol w="2335320"/>
                <a:gridCol w="2050920"/>
              </a:tblGrid>
              <a:tr h="500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on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Total eR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Study Group eR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% of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2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1,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,7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1,3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0,0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5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5,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3,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2,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0,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7,7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4,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3,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9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2,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7,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,4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6,4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0,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4,6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85,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17,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8CB19-5330-4A06-A102-F90F4A9422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rogate-Based e-Prescrib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0600" y="1395360"/>
            <a:ext cx="77565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48,013 eRx in October (all UHMP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16,715 entered directly by MD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5,724 NewRx (~1000 Renew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97 / 219 e-prescribers did at least </a:t>
            </a:r>
            <a:br>
              <a:rPr sz="2000"/>
            </a:b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some data entry themselves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22 did non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67320" y="1949400"/>
          <a:ext cx="3933720" cy="46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7320" y="1949400"/>
                    <a:ext cx="39337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DEA4-305C-4B03-9263-0D644D8499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O eRx Project Particip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410840"/>
            <a:ext cx="74678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 fontScale="84000"/>
          </a:bodyPr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UH Medical Practices + Ohio KePRO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MGMA Center for Research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Univ. of Minnesota Division of HSR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nstantDx (OnCallData</a:t>
            </a: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™)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RxHub, SureScripts, NDC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Aetna, Anthem, Medical Mutual of Ohio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190800" indent="-19080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Partners (Bates / Seger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252849"/>
                </a:solidFill>
                <a:latin typeface="Arial"/>
                <a:ea typeface="Arial"/>
              </a:rPr>
              <a:t>… and CMS, AHRQ, and the other pilot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42EF-793F-4B5E-BAE9-894F1D084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newal Workflow Find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0240" y="1206360"/>
            <a:ext cx="8240760" cy="5013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eRx decreases dependence on phone / fax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Incoming Rx 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enewal requests 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rom local pharmacies</a:t>
            </a: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eceived by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eRx practices still depend on paper for internal processing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or phoned-in requests, 81% communicated to MD by paper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Only 7% entered into OnCallData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™ on the </a:t>
            </a: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front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end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For faxed requests, fax itself used for internal communication 91%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73% sent back to pharmacy via eRx 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only 33% come in by eRx, but most entered into OCD on </a:t>
            </a:r>
            <a:r>
              <a:rPr b="0" i="1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back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 end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25% of authorizations called or faxed to pharmacy vs. 90% in control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390840" y="1787400"/>
          <a:ext cx="5029200" cy="1495440"/>
        </p:xfrm>
        <a:graphic>
          <a:graphicData uri="http://schemas.openxmlformats.org/drawingml/2006/table">
            <a:tbl>
              <a:tblPr/>
              <a:tblGrid>
                <a:gridCol w="2031840"/>
                <a:gridCol w="1549440"/>
                <a:gridCol w="14479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solidFill>
                      <a:srgbClr val="6d0b01"/>
                    </a:solidFill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Ph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6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e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3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52849"/>
                          </a:solidFill>
                          <a:latin typeface="Arial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d0b01"/>
                      </a:solidFill>
                    </a:lnL>
                    <a:lnR w="5760">
                      <a:solidFill>
                        <a:srgbClr val="6d0b01"/>
                      </a:solidFill>
                    </a:lnR>
                    <a:lnT w="5760">
                      <a:solidFill>
                        <a:srgbClr val="6d0b01"/>
                      </a:solidFill>
                    </a:lnT>
                    <a:lnB w="5760">
                      <a:solidFill>
                        <a:srgbClr val="6d0b0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485F6-05B8-4A9F-B766-A68ADE6974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160" y="1092240"/>
            <a:ext cx="628560" cy="576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85680"/>
            <a:ext cx="8709120" cy="82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racterizing Rx-Related Phone Ca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7320" y="1638360"/>
            <a:ext cx="885348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5E60-71A1-42F5-A9A4-75A3BFAFDA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x Impact on Call Typ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Inbound / outbound Rati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elative % of outbound calls</a:t>
            </a:r>
            <a:br>
              <a:rPr sz="2400"/>
            </a:b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ing to pharmacy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668840" y="1539720"/>
          <a:ext cx="4475160" cy="25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1539720"/>
                    <a:ext cx="447516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4475160" y="4175280"/>
          <a:ext cx="4668840" cy="26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5160" y="4175280"/>
                    <a:ext cx="466884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17AC-AADF-4CC7-86AA-A367192EB6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NEWRX, Med H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68DE-D025-42AE-A655-D79D58055F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CallDat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Production Te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edication history (November test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xisting (RxHub) rx history transfers not being looked at by user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Typical month: available 13,000 times but viewed only 130 (1%)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ctober ’06: SureScripts (filled prescriptions from pharmacies) added to RxHub (claims paid by prescription benefit manager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raining intervention at nine UHMP practices (November test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Print prescription history and place on paper chart at time of encounter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RxFill / NoFill (November test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NoFill alert created if pickup confirmation message (RxFill) not received within 10 days for Rx sent to CVS, RiteAid or Walgreen’s 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or Authorization test with Anthem; began 12/7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escriber sees drug-specific questions when drug is pick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elebrex, Mobic, Lyrica, Provigil, Viagra, Nexium, Crestor, Vytorin 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nswer questions, submit and receive response via OnCallData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PLUS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parallel fax-based workflow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274F-C615-444C-AD27-2B1029761C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281800" cy="84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cation History (SureScrip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27000" y="1805040"/>
            <a:ext cx="2286000" cy="30798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003320" y="2317680"/>
            <a:ext cx="68580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674000" y="191916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17560" y="5359320"/>
            <a:ext cx="76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itial Standard: Medication History (SCRIPT 8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rmacy transfers prescription hx to SureScripts repository after dispen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requests med hx from SureScripts at encou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PI but no eligibility check involv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30720" y="2179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54960" y="2647800"/>
            <a:ext cx="1976400" cy="194652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124760" y="2865600"/>
            <a:ext cx="1066680" cy="747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837480" y="3687840"/>
            <a:ext cx="180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loud"/>
          <p:cNvSpPr/>
          <p:nvPr/>
        </p:nvSpPr>
        <p:spPr>
          <a:xfrm>
            <a:off x="4064040" y="3841920"/>
            <a:ext cx="1752480" cy="1147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52320" y="4238640"/>
            <a:ext cx="1398240" cy="337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46e"/>
                </a:solidFill>
                <a:latin typeface="Arial"/>
              </a:rPr>
              <a:t>SureScript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829480" y="42735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12400" y="14637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"/>
          <p:cNvCxnSpPr/>
          <p:nvPr/>
        </p:nvCxnSpPr>
        <p:spPr>
          <a:xfrm flipH="1" rot="16200000">
            <a:off x="2521800" y="2881800"/>
            <a:ext cx="1108800" cy="211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9" name=""/>
          <p:cNvSpPr/>
          <p:nvPr/>
        </p:nvSpPr>
        <p:spPr>
          <a:xfrm flipH="1">
            <a:off x="1841040" y="464508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841400" y="3666600"/>
            <a:ext cx="0" cy="99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67560" y="4605480"/>
            <a:ext cx="205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In production 10/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460520" y="2470320"/>
            <a:ext cx="1676160" cy="1294920"/>
            <a:chOff x="1460520" y="2470320"/>
            <a:chExt cx="1676160" cy="1294920"/>
          </a:xfrm>
        </p:grpSpPr>
        <p:pic>
          <p:nvPicPr>
            <p:cNvPr id="343" name="" descr=""/>
            <p:cNvPicPr/>
            <p:nvPr/>
          </p:nvPicPr>
          <p:blipFill>
            <a:blip r:embed="rId3"/>
            <a:stretch/>
          </p:blipFill>
          <p:spPr>
            <a:xfrm>
              <a:off x="1739880" y="2470320"/>
              <a:ext cx="139680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1460520" y="2624040"/>
              <a:ext cx="111780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9368D-C0F3-4374-A668-3BF50E02D9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2849"/>
                </a:solidFill>
                <a:latin typeface="Arial"/>
              </a:rPr>
              <a:t>Medication history (November test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xisting (RxHub) rx history transfers not being looked at by user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3" marL="895320" indent="-214200">
              <a:spcBef>
                <a:spcPts val="34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2849"/>
                </a:solidFill>
                <a:latin typeface="Arial"/>
              </a:rPr>
              <a:t>Typical month: available 13,000 times but viewed only 130 (1%); jumped to 4% in October</a:t>
            </a:r>
            <a:endParaRPr b="0" lang="en-US" sz="1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252849"/>
                </a:solidFill>
                <a:uFillTx/>
                <a:latin typeface="Arial"/>
              </a:rPr>
              <a:t>October ’06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: SureScripts (filled prescriptions from pharmacies) added to RxHub (claims paid by prescription benefit manager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raining intervention at nine UHMP practic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Print prescription history and place on paper chart at time of encounter during November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nly one practice (Euclid IM) complied, and was eager to stop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Mixed response from physicians, but continue to support importance of transferred prescription history (at least conceptually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arly problems with SureScripts patient matching; unable to fully evaluat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dication History Te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F0C4-4145-45FC-A037-B28B8581AE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 History Transfers vs.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90600" y="1365120"/>
          <a:ext cx="8394480" cy="5070600"/>
        </p:xfrm>
        <a:graphic>
          <a:graphicData uri="http://schemas.openxmlformats.org/drawingml/2006/table">
            <a:tbl>
              <a:tblPr/>
              <a:tblGrid>
                <a:gridCol w="1881000"/>
                <a:gridCol w="1511280"/>
                <a:gridCol w="1862280"/>
                <a:gridCol w="1511280"/>
                <a:gridCol w="1628640"/>
              </a:tblGrid>
              <a:tr h="161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edication History Transf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Medication History Vie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(%) Percent View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ercent Change from Previous Mon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65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,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0,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,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9,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-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2,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4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3,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eaef2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-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83,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,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008F-D255-4F6F-BB17-0476A59042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xFILL / NoF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992160" y="2422440"/>
            <a:ext cx="2286000" cy="38862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068480" y="257508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1525680" y="2727360"/>
            <a:ext cx="1675800" cy="1294920"/>
            <a:chOff x="1525680" y="2727360"/>
            <a:chExt cx="1675800" cy="1294920"/>
          </a:xfrm>
        </p:grpSpPr>
        <p:pic>
          <p:nvPicPr>
            <p:cNvPr id="353" name="" descr=""/>
            <p:cNvPicPr/>
            <p:nvPr/>
          </p:nvPicPr>
          <p:blipFill>
            <a:blip r:embed="rId2"/>
            <a:stretch/>
          </p:blipFill>
          <p:spPr>
            <a:xfrm>
              <a:off x="1805040" y="272736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" descr=""/>
            <p:cNvPicPr/>
            <p:nvPr/>
          </p:nvPicPr>
          <p:blipFill>
            <a:blip r:embed="rId3"/>
            <a:stretch/>
          </p:blipFill>
          <p:spPr>
            <a:xfrm>
              <a:off x="1525680" y="2881080"/>
              <a:ext cx="111744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"/>
          <p:cNvSpPr/>
          <p:nvPr/>
        </p:nvSpPr>
        <p:spPr>
          <a:xfrm>
            <a:off x="6554880" y="4479840"/>
            <a:ext cx="2003400" cy="18288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116840" y="4684680"/>
            <a:ext cx="1066680" cy="747720"/>
          </a:xfrm>
          <a:prstGeom prst="rect">
            <a:avLst/>
          </a:prstGeom>
          <a:ln w="0">
            <a:noFill/>
          </a:ln>
        </p:spPr>
      </p:pic>
      <p:sp>
        <p:nvSpPr>
          <p:cNvPr id="357" name="Cloud"/>
          <p:cNvSpPr/>
          <p:nvPr/>
        </p:nvSpPr>
        <p:spPr>
          <a:xfrm>
            <a:off x="3963960" y="4556160"/>
            <a:ext cx="1752480" cy="1147680"/>
          </a:xfrm>
          <a:prstGeom prst="pi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716080" y="5261040"/>
            <a:ext cx="838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773360" y="4000680"/>
            <a:ext cx="0" cy="1257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773000" y="5257800"/>
            <a:ext cx="225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549840" y="41133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550200" y="5546880"/>
            <a:ext cx="198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S, Walgreen’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teAid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118760" y="4983120"/>
            <a:ext cx="13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46e"/>
                </a:solidFill>
                <a:latin typeface="Arial"/>
              </a:rPr>
              <a:t>SureScri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738800" y="245592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76120" y="20019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4560" y="1293840"/>
            <a:ext cx="24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6e"/>
                </a:solidFill>
                <a:latin typeface="Arial"/>
              </a:rPr>
              <a:t>E: RxFILL / No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 rot="523800">
            <a:off x="1551600" y="2877120"/>
            <a:ext cx="2028600" cy="756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56" y="503"/>
                </a:moveTo>
                <a:arcTo wR="10800" hR="10800" stAng="-4347177" swAng="8794526"/>
                <a:lnTo>
                  <a:pt x="10800" y="10800"/>
                </a:lnTo>
                <a:close/>
              </a:path>
              <a:path fill="none" w="21600" h="21600">
                <a:moveTo>
                  <a:pt x="14056" y="503"/>
                </a:moveTo>
                <a:arcTo wR="10800" hR="10800" stAng="-4347177" swAng="8794526"/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190960" y="48625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x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80760" y="2690640"/>
            <a:ext cx="14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u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Fill Al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E885-264E-49A5-A5AD-3046D99FB0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xFill / NoFILL Tes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52849"/>
                </a:solidFill>
                <a:latin typeface="Arial"/>
              </a:rPr>
              <a:t>Presumed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NoFill alert (no actual transaction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-live 10/23; aborted ~10/28 (NDCs missing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tense workflow (and legal) planning, training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Go-live 10/31; aborted 11/29 (RxFILL mix-up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Reared head w/ flood of false NoFill alert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eactivated 12/1 – but not “salvageable” at that poin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ost of 9 practices not paying much attentio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RxFill lacks interop w/ 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No tracking number for closing the loop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680C-E127-42AB-AE69-7E287CFFAA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ligibility, Med Hx,NEWR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849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pic>
        <p:nvPicPr>
          <p:cNvPr id="1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35800" y="3313080"/>
            <a:ext cx="2608200" cy="35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88B1-B523-4615-974F-7DE044E89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rot="16200000">
            <a:off x="-817920" y="3866040"/>
            <a:ext cx="4267080" cy="6490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CLIN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72080" y="2057400"/>
            <a:ext cx="1908000" cy="42670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RxH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222960" y="3885840"/>
            <a:ext cx="4267080" cy="609480"/>
          </a:xfrm>
          <a:prstGeom prst="rect">
            <a:avLst/>
          </a:prstGeom>
          <a:solidFill>
            <a:srgbClr val="6d0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edce"/>
                </a:solidFill>
                <a:latin typeface="Times New Roman"/>
              </a:rPr>
              <a:t>PA 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638000" y="53341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172240" y="510552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278 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87720" y="4648320"/>
            <a:ext cx="1447920" cy="914400"/>
          </a:xfrm>
          <a:prstGeom prst="ellipse">
            <a:avLst/>
          </a:prstGeom>
          <a:solidFill>
            <a:srgbClr val="fee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46e"/>
                </a:solidFill>
                <a:latin typeface="Arial"/>
              </a:rPr>
              <a:t>PA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87720" y="3124080"/>
            <a:ext cx="1447920" cy="914400"/>
          </a:xfrm>
          <a:prstGeom prst="ellipse">
            <a:avLst/>
          </a:prstGeom>
          <a:solidFill>
            <a:srgbClr val="feed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46e"/>
                </a:solidFill>
                <a:latin typeface="Arial"/>
              </a:rPr>
              <a:t>PA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689080" y="4495680"/>
            <a:ext cx="2391120" cy="398520"/>
            <a:chOff x="5689080" y="4495680"/>
            <a:chExt cx="2391120" cy="398520"/>
          </a:xfrm>
        </p:grpSpPr>
        <p:sp>
          <p:nvSpPr>
            <p:cNvPr id="380" name=""/>
            <p:cNvSpPr/>
            <p:nvPr/>
          </p:nvSpPr>
          <p:spPr>
            <a:xfrm flipH="1">
              <a:off x="5689080" y="4699440"/>
              <a:ext cx="236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48200" y="4495680"/>
              <a:ext cx="223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 User Reviews Pending 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689440" y="5029200"/>
            <a:ext cx="2361960" cy="398520"/>
            <a:chOff x="5689440" y="5029200"/>
            <a:chExt cx="2361960" cy="398520"/>
          </a:xfrm>
        </p:grpSpPr>
        <p:sp>
          <p:nvSpPr>
            <p:cNvPr id="383" name=""/>
            <p:cNvSpPr/>
            <p:nvPr/>
          </p:nvSpPr>
          <p:spPr>
            <a:xfrm>
              <a:off x="5689440" y="525708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48200" y="5029200"/>
              <a:ext cx="197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46e"/>
                  </a:solidFill>
                  <a:latin typeface="Arial"/>
                </a:rPr>
                <a:t>PA User Initiates 278 Respo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638360" y="2895480"/>
            <a:ext cx="2133720" cy="244440"/>
            <a:chOff x="1638360" y="2895480"/>
            <a:chExt cx="2133720" cy="244440"/>
          </a:xfrm>
        </p:grpSpPr>
        <p:sp>
          <p:nvSpPr>
            <p:cNvPr id="386" name=""/>
            <p:cNvSpPr/>
            <p:nvPr/>
          </p:nvSpPr>
          <p:spPr>
            <a:xfrm>
              <a:off x="1638360" y="30420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62920" y="289548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1790640" y="2819520"/>
            <a:ext cx="147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278 &amp; 275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6560" y="3352680"/>
            <a:ext cx="99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Email Al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689440" y="3429000"/>
            <a:ext cx="2361960" cy="244440"/>
            <a:chOff x="5689440" y="3429000"/>
            <a:chExt cx="2361960" cy="244440"/>
          </a:xfrm>
        </p:grpSpPr>
        <p:sp>
          <p:nvSpPr>
            <p:cNvPr id="391" name=""/>
            <p:cNvSpPr/>
            <p:nvPr/>
          </p:nvSpPr>
          <p:spPr>
            <a:xfrm>
              <a:off x="5689440" y="3589200"/>
              <a:ext cx="23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27320" y="3429000"/>
              <a:ext cx="183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89080" y="4495680"/>
            <a:ext cx="2391120" cy="398520"/>
            <a:chOff x="5689080" y="4495680"/>
            <a:chExt cx="2391120" cy="398520"/>
          </a:xfrm>
        </p:grpSpPr>
        <p:sp>
          <p:nvSpPr>
            <p:cNvPr id="394" name=""/>
            <p:cNvSpPr/>
            <p:nvPr/>
          </p:nvSpPr>
          <p:spPr>
            <a:xfrm flipH="1">
              <a:off x="5689080" y="4699440"/>
              <a:ext cx="236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48200" y="4495680"/>
              <a:ext cx="223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246e"/>
                  </a:solidFill>
                  <a:latin typeface="Arial"/>
                </a:rPr>
                <a:t>PA User Reviews Pending Reques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flipH="1">
            <a:off x="5689440" y="2336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7040" y="2133720"/>
            <a:ext cx="107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PA Drug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638000" y="23623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247840" y="2133720"/>
            <a:ext cx="1076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46e"/>
                </a:solidFill>
                <a:latin typeface="Arial"/>
              </a:rPr>
              <a:t>PA Drug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14320" y="1316160"/>
            <a:ext cx="60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46e"/>
                </a:solidFill>
                <a:latin typeface="Arial"/>
              </a:rPr>
              <a:t>Production test with Anthem 12/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rior Auth (X12 278 + 275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BB83-16B8-4A8B-AE00-4DFF51688A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or Authorization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or Authorization test with Anthem; “unsolicited model”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rescriber sees drug-specific questions when drug is pick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elebrex, Mobic, Lyrica, Provigil, Viagra, Nexium, Crestor, Vytorin 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nswer questions, submit and receive response via OnCallData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spcBef>
                <a:spcPts val="400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PLUS</a:t>
            </a:r>
            <a:r>
              <a:rPr b="0" lang="en-US" sz="1600" spc="-1" strike="noStrike">
                <a:solidFill>
                  <a:srgbClr val="252849"/>
                </a:solidFill>
                <a:latin typeface="Arial"/>
                <a:ea typeface="Arial"/>
              </a:rPr>
              <a:t> parallel fax-based workflow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All UHMP non-pediatric practices, no training!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ive 12/10/06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30 transactions over 4 week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17 prescribers, 13 practices (25/30 by surrogates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ean turnaround time for authorizations: 87 mi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5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Highly valued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25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Main glitch: 12/30 were “repeats”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1F9E-D1B0-4AC0-90E6-076C0ED1C2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NEO eRx Over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Rx adoption, including “incumbent” transac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ligibility, NEWRX, Med Hx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pact on workflow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ransaction interventions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601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dication Hx, Fill Notification, Prior Auth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749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on safety and utilization</a:t>
            </a:r>
            <a:endParaRPr b="0" lang="en-US" sz="2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588DC-3CC8-425D-8175-3F6902163A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fety and Drug Cost Analy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Data sourc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Health plans (Anthem, Aetna, QualChoice, MMO = 48%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InstantDx / OnCallData</a:t>
            </a: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™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Concept (UHMP’s practice management system)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Intelligent Health Repository™ (WoltersKluwer) – 70% coverag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2.5 year data pull (1/1/04 </a:t>
            </a:r>
            <a:r>
              <a:rPr b="0" lang="en-US" sz="2400" spc="-1" strike="noStrike">
                <a:solidFill>
                  <a:srgbClr val="25284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 6/30/06)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Concurrent and time series comparison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  <a:ea typeface="Arial"/>
              </a:rPr>
              <a:t>Computerized outpatient adverse drug event monitor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  <a:ea typeface="Arial"/>
              </a:rPr>
              <a:t>Developed by Seger et. al.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ahrq.gov/downloads/pub/advances/vol2/Seger.pdf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08" name="">
            <a:hlinkClick r:id="rId1"/>
          </p:cNvPr>
          <p:cNvSpPr/>
          <p:nvPr/>
        </p:nvSpPr>
        <p:spPr>
          <a:xfrm>
            <a:off x="297000" y="1303200"/>
            <a:ext cx="8640720" cy="55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2BA3-2895-4691-84FD-6A835B97C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Es by Practice Ty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54000" y="1519200"/>
            <a:ext cx="6458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s (and PADEs) by Practice Type, All Data Sources Comb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914400" y="2122560"/>
          <a:ext cx="6648480" cy="3367080"/>
        </p:xfrm>
        <a:graphic>
          <a:graphicData uri="http://schemas.openxmlformats.org/drawingml/2006/table">
            <a:tbl>
              <a:tblPr/>
              <a:tblGrid>
                <a:gridCol w="2195640"/>
                <a:gridCol w="1074600"/>
                <a:gridCol w="1065240"/>
                <a:gridCol w="231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l databases 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ADE h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encount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ADE hi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ADE/Total encounte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HMP eRx phys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0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x physicians – P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1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Rx physicians- P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8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%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HMP physicians not eR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19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ol physici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ysicians not in a study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77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that could not be assigned to a study 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38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0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18880" y="6398280"/>
            <a:ext cx="88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*Difference between UHMP eRx PRE and POST is statistically significant (Chi-square = 4.990; p = .02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EC0B-571C-454F-9740-73CAFE8FD8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E / PADE Trigger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23840" y="1854360"/>
          <a:ext cx="8912160" cy="3342960"/>
        </p:xfrm>
        <a:graphic>
          <a:graphicData uri="http://schemas.openxmlformats.org/drawingml/2006/table">
            <a:tbl>
              <a:tblPr/>
              <a:tblGrid>
                <a:gridCol w="1006560"/>
                <a:gridCol w="1226880"/>
                <a:gridCol w="1076400"/>
                <a:gridCol w="1603440"/>
                <a:gridCol w="1333440"/>
                <a:gridCol w="1287720"/>
                <a:gridCol w="13777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ger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gger 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 / P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no. ADE hit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no./ 100,000 encounter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HMP eRx PRE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HMP eRx POST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s no. ADE hits (no./100,000 encoun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or More Dru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rfarin Toxi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(.03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0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(.1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s/Mis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ug/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,837 (46.6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662 (90.7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9 (67.1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7160" indent="-22716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94 (343.5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7D83-425E-4D15-BF3B-BA6E818610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mula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024360" y="1432080"/>
            <a:ext cx="34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of Formulary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2203560" y="1539720"/>
          <a:ext cx="429552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3560" y="1539720"/>
                    <a:ext cx="429552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4631-7636-4BF7-97CB-077F48E95D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neric Us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ates of generic utilization higher among Control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Rates of “dispense as written” same for both groups 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~ 1% of all R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More patients of eRx physicians request brand name drug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  <a:ea typeface="Arial"/>
              </a:rPr>
              <a:t>Ohio law mandates generic substitution by pharmacist when available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68920" y="1324080"/>
            <a:ext cx="30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s of Generic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4635360" y="1492200"/>
          <a:ext cx="41166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5360" y="1492200"/>
                    <a:ext cx="41166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973760" y="4278240"/>
          <a:ext cx="392904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3760" y="4278240"/>
                    <a:ext cx="39290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5272200" y="38847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. Requesting Brand Name D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6485-56B2-480D-9DFD-E67D3A2BFB2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ult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per Rx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411804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Average cost per Rx was higher for eRx physician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However, the difference existed PRIOR to widespread adoption of eR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Cost differences likely due to differences in patient severity or health plan payer mix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914400" indent="-457200">
              <a:spcBef>
                <a:spcPts val="4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52849"/>
                </a:solidFill>
                <a:latin typeface="Arial"/>
              </a:rPr>
              <a:t>Could not be controlled for with data provided</a:t>
            </a:r>
            <a:endParaRPr b="0" lang="en-US" sz="16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68920" y="1432080"/>
            <a:ext cx="34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Cost / Pr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4848120" y="1589040"/>
          <a:ext cx="42958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8120" y="1589040"/>
                    <a:ext cx="42958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1B287-66A0-4BFA-9DF8-1689179D7F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Adoption and Workfl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0600" y="1364760"/>
            <a:ext cx="839448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Rx w/ advanced transactional capabilities </a:t>
            </a:r>
            <a:r>
              <a:rPr b="0" i="1" lang="en-US" sz="2400" spc="-1" strike="noStrike">
                <a:solidFill>
                  <a:srgbClr val="252849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be rapidly adopted by small, community-based practic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MS integration, no license fee + small incentiv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Large (&gt;2/3) dependence on surrogat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Implications for decision support and safety benefits unclear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olicy guidance? P4P?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ig impact on efficiency and communication channels, but…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Paper-based internal communication still predominat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Faxing is tough to beat re: overall resource requirement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Opportunity for additional efficiency with more pharmacy participation plus true e-messaging </a:t>
            </a:r>
            <a:r>
              <a:rPr b="0" i="1" lang="en-US" sz="1800" spc="-1" strike="noStrike">
                <a:solidFill>
                  <a:srgbClr val="252849"/>
                </a:solidFill>
                <a:latin typeface="Arial"/>
              </a:rPr>
              <a:t>within </a:t>
            </a: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the practices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1" marL="461880" indent="-233280">
              <a:lnSpc>
                <a:spcPct val="90000"/>
              </a:lnSpc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Conventional wisdom challenged: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Renewals drive adoption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Surrogates provide bridge to MD adoption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lvl="2" marL="679320" indent="-215640">
              <a:lnSpc>
                <a:spcPct val="90000"/>
              </a:lnSpc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eRx is a stepping stone to a full EMR (?)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0954-180B-4DAC-9917-466510441A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105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600" y="5272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5280" y="52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78320" y="52722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21360" y="52722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64040" y="5272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07440" y="52722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50480" y="52722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316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35840" y="5272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160" y="527220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228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64960" y="5272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58800" y="69696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2800" y="5664240"/>
            <a:ext cx="40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O eRX PROJECT TIMELIN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84880" y="218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27162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62960" y="26892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3160" y="2862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097080"/>
            <a:ext cx="6858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51760" y="30877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23320" y="1395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43800" y="192888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85760" y="18907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 A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447040" y="2082960"/>
            <a:ext cx="45720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3097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89840" y="23004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27720" y="304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48560" y="838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82000" y="78912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 Hx (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662960" y="969480"/>
            <a:ext cx="4572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6320" y="2457360"/>
            <a:ext cx="1096920" cy="12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4600" y="12096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0800" y="2540160"/>
            <a:ext cx="1093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0/2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 H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3640" y="3809880"/>
            <a:ext cx="7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87920" y="4116240"/>
            <a:ext cx="1589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55000" y="387504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86200" y="1550880"/>
            <a:ext cx="30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, Too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 Recruitment, I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06680" y="1857240"/>
            <a:ext cx="39542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51560" y="1616040"/>
            <a:ext cx="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76200" y="200160"/>
            <a:ext cx="36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lth Plan Data Acquisition /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8501040" y="385920"/>
            <a:ext cx="45720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5F6A-F03A-4B80-B415-AFDF3F597D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Standard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8753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 fontScale="99000"/>
          </a:bodyPr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Eligibility checking works remarkably well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But users universally unaware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No human assessment of dual-eligibles or possible false+ MPI match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Disappointing impact on formulary/cost but difficult to interpret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EWRX workhorse – extremely importan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rimary driver of </a:t>
            </a:r>
            <a:r>
              <a:rPr b="0" i="1" lang="en-US" sz="2000" spc="-1" strike="noStrike">
                <a:solidFill>
                  <a:srgbClr val="252849"/>
                </a:solidFill>
                <a:latin typeface="Arial"/>
              </a:rPr>
              <a:t>surrogate</a:t>
            </a: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 adoption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1" marL="457200" indent="-230760">
              <a:spcBef>
                <a:spcPts val="499"/>
              </a:spcBef>
              <a:buClr>
                <a:srgbClr val="606aa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2849"/>
                </a:solidFill>
                <a:latin typeface="Arial"/>
              </a:rPr>
              <a:t>Persistent transmission reliability issues</a:t>
            </a:r>
            <a:endParaRPr b="0" lang="en-US" sz="2000" spc="-1" strike="noStrike">
              <a:solidFill>
                <a:srgbClr val="252849"/>
              </a:solidFill>
              <a:latin typeface="Arial"/>
            </a:endParaRPr>
          </a:p>
          <a:p>
            <a:pPr lvl="2" marL="672480" indent="-213480">
              <a:spcBef>
                <a:spcPts val="451"/>
              </a:spcBef>
              <a:buClr>
                <a:srgbClr val="606a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849"/>
                </a:solidFill>
                <a:latin typeface="Arial"/>
              </a:rPr>
              <a:t>Most problems due to human factors @ pharmacy?</a:t>
            </a:r>
            <a:endParaRPr b="0" lang="en-US" sz="18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Med Hx: Transaction is easy; workflow integration isn’t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oFill clinically risky w/o true transaction; need order ID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4640" indent="-22464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Prior Auth: not fully tested; big hit for provider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DBF57-E2AE-4491-B2C2-1A81E0F36EE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mmary: Safety and Cos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90240" y="1364760"/>
            <a:ext cx="8753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91440" bIns="46800" anchor="t">
            <a:normAutofit/>
          </a:bodyPr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Novel application of low-cost computerized ADE / PADE detection method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Safety methods need validation in ambulatory setting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  <a:p>
            <a:pPr marL="227160" indent="-227160">
              <a:spcBef>
                <a:spcPts val="1500"/>
              </a:spcBef>
              <a:buClr>
                <a:srgbClr val="606aa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2849"/>
                </a:solidFill>
                <a:latin typeface="Arial"/>
              </a:rPr>
              <a:t>Interpret both safety and cost results cautiously given matching issues</a:t>
            </a:r>
            <a:endParaRPr b="0" lang="en-US" sz="2400" spc="-1" strike="noStrike">
              <a:solidFill>
                <a:srgbClr val="2528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1685-3975-40DB-B107-73D4DD45E3C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6320" y="76320"/>
            <a:ext cx="6858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f6e"/>
                </a:solidFill>
                <a:latin typeface="Arial"/>
                <a:ea typeface="Arial"/>
              </a:rPr>
              <a:t>UH Medical Practices (UH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7320" y="5257800"/>
            <a:ext cx="785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5 physicians, 73 practices, 42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6 primar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re; 27 speci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25 million office visits / 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1240" y="609480"/>
            <a:ext cx="2654280" cy="8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375E9-BDCF-4BEF-A0B0-C6AFD3192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838080" y="1292400"/>
          <a:ext cx="8001000" cy="53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2400"/>
                    <a:ext cx="8001000" cy="53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Project eRx Adoption at UHM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40800" y="1538280"/>
            <a:ext cx="483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-Rx / mo, 1/05 -&gt; 1/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0DB4-FE8C-4DDB-B7FD-5190788E81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57160" y="2139840"/>
            <a:ext cx="2365560" cy="285300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4920" y="16714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99240" y="2139840"/>
            <a:ext cx="2060640" cy="2090880"/>
          </a:xfrm>
          <a:prstGeom prst="rect">
            <a:avLst/>
          </a:prstGeom>
          <a:solidFill>
            <a:srgbClr val="befa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299360" y="2357280"/>
            <a:ext cx="838080" cy="739440"/>
            <a:chOff x="7299360" y="2357280"/>
            <a:chExt cx="838080" cy="739440"/>
          </a:xfrm>
        </p:grpSpPr>
        <p:sp>
          <p:nvSpPr>
            <p:cNvPr id="157" name=""/>
            <p:cNvSpPr/>
            <p:nvPr/>
          </p:nvSpPr>
          <p:spPr>
            <a:xfrm>
              <a:off x="7299360" y="2836080"/>
              <a:ext cx="838080" cy="1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7299360" y="2357280"/>
              <a:ext cx="838080" cy="50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635960" y="2836080"/>
              <a:ext cx="183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775560" y="3198960"/>
            <a:ext cx="194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co, Expre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emark, Anthem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them live as of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06280" y="1671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HMP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63720" y="2381400"/>
            <a:ext cx="685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420920" y="2533680"/>
            <a:ext cx="1675800" cy="1294920"/>
            <a:chOff x="1420920" y="2533680"/>
            <a:chExt cx="1675800" cy="1294920"/>
          </a:xfrm>
        </p:grpSpPr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1700280" y="2533680"/>
              <a:ext cx="1396440" cy="11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1420920" y="2687400"/>
              <a:ext cx="1117440" cy="114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1634040" y="226224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316400" y="2533680"/>
            <a:ext cx="1371240" cy="966600"/>
            <a:chOff x="4316400" y="2533680"/>
            <a:chExt cx="1371240" cy="966600"/>
          </a:xfrm>
        </p:grpSpPr>
        <p:sp>
          <p:nvSpPr>
            <p:cNvPr id="168" name="Cloud"/>
            <p:cNvSpPr/>
            <p:nvPr/>
          </p:nvSpPr>
          <p:spPr>
            <a:xfrm>
              <a:off x="4316400" y="2533680"/>
              <a:ext cx="1371240" cy="966600"/>
            </a:xfrm>
            <a:prstGeom prst="pi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71920" y="2874600"/>
              <a:ext cx="916920" cy="368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46e"/>
                  </a:solidFill>
                  <a:latin typeface="Arial"/>
                </a:rPr>
                <a:t>Rx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"/>
          <p:cNvCxnSpPr>
            <a:endCxn id="168" idx="4"/>
          </p:cNvCxnSpPr>
          <p:nvPr/>
        </p:nvCxnSpPr>
        <p:spPr>
          <a:xfrm>
            <a:off x="2868120" y="2762280"/>
            <a:ext cx="1453320" cy="255960"/>
          </a:xfrm>
          <a:prstGeom prst="curvedConnector5">
            <a:avLst>
              <a:gd name="adj1" fmla="val 49826"/>
              <a:gd name="adj2" fmla="val 50000"/>
              <a:gd name="adj3" fmla="val 49826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1" name=""/>
          <p:cNvSpPr/>
          <p:nvPr/>
        </p:nvSpPr>
        <p:spPr>
          <a:xfrm>
            <a:off x="890640" y="563868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oundation Standard: Eligibility (X12 270/2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CallDat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ends name, dob, zip, gender to RxHub, gets formulary identifier in return (informs formulary selection for that prescribing sess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/>
          <p:nvPr/>
        </p:nvCxnSpPr>
        <p:spPr>
          <a:xfrm flipV="1" rot="10800000">
            <a:off x="5685840" y="3152880"/>
            <a:ext cx="992880" cy="65520"/>
          </a:xfrm>
          <a:prstGeom prst="curvedConnector5">
            <a:avLst>
              <a:gd name="adj1" fmla="val 49909"/>
              <a:gd name="adj2" fmla="val 49723"/>
              <a:gd name="adj3" fmla="val 49909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cxnSp>
        <p:nvCxnSpPr>
          <p:cNvPr id="173" name=""/>
          <p:cNvCxnSpPr>
            <a:stCxn id="168" idx="5"/>
          </p:cNvCxnSpPr>
          <p:nvPr/>
        </p:nvCxnSpPr>
        <p:spPr>
          <a:xfrm flipV="1" rot="10800000">
            <a:off x="2715480" y="3016800"/>
            <a:ext cx="1605600" cy="251640"/>
          </a:xfrm>
          <a:prstGeom prst="curvedConnector5">
            <a:avLst>
              <a:gd name="adj1" fmla="val 50145"/>
              <a:gd name="adj2" fmla="val 50000"/>
              <a:gd name="adj3" fmla="val 50145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4" name=""/>
          <p:cNvSpPr/>
          <p:nvPr/>
        </p:nvSpPr>
        <p:spPr>
          <a:xfrm>
            <a:off x="3173400" y="2457360"/>
            <a:ext cx="35053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54080" y="3905280"/>
            <a:ext cx="990720" cy="914400"/>
          </a:xfrm>
          <a:prstGeom prst="flowChartMagneticDisk">
            <a:avLst/>
          </a:prstGeom>
          <a:solidFill>
            <a:srgbClr val="00246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rmul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11280" y="367668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"/>
          <p:cNvCxnSpPr/>
          <p:nvPr/>
        </p:nvCxnSpPr>
        <p:spPr>
          <a:xfrm>
            <a:off x="5535720" y="2685960"/>
            <a:ext cx="1146960" cy="332640"/>
          </a:xfrm>
          <a:prstGeom prst="curvedConnector5">
            <a:avLst>
              <a:gd name="adj1" fmla="val 49984"/>
              <a:gd name="adj2" fmla="val 49945"/>
              <a:gd name="adj3" fmla="val 49984"/>
            </a:avLst>
          </a:prstGeom>
          <a:ln w="19080">
            <a:solidFill>
              <a:srgbClr val="008000"/>
            </a:solidFill>
            <a:miter/>
            <a:tailEnd len="med" type="triangle" w="lg"/>
          </a:ln>
        </p:spPr>
      </p:cxnSp>
      <p:sp>
        <p:nvSpPr>
          <p:cNvPr id="178" name=""/>
          <p:cNvSpPr/>
          <p:nvPr/>
        </p:nvSpPr>
        <p:spPr>
          <a:xfrm>
            <a:off x="3173400" y="2457360"/>
            <a:ext cx="35053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096720" y="3600360"/>
            <a:ext cx="358164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84760" y="21225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270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96560" y="361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12 271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8680" y="3562200"/>
            <a:ext cx="377640" cy="39528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900" spc="-1" strike="noStrike">
                <a:solidFill>
                  <a:srgbClr val="252849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487600" y="3657240"/>
            <a:ext cx="0" cy="228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47880" y="5060880"/>
            <a:ext cx="7439040" cy="55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 ’06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6K + responses / 300K checks (~59% hit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6120" y="189000"/>
            <a:ext cx="87026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gibility Checking (All UHM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A1A7-9EE0-4802-9DC4-4C59C5E8AB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85960" y="2276640"/>
            <a:ext cx="7989840" cy="620640"/>
          </a:xfrm>
          <a:prstGeom prst="rect">
            <a:avLst/>
          </a:prstGeom>
          <a:solidFill>
            <a:srgbClr val="f0f0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xHub MPI Coverage in NE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876240" y="1460520"/>
          <a:ext cx="8013600" cy="5059440"/>
        </p:xfrm>
        <a:graphic>
          <a:graphicData uri="http://schemas.openxmlformats.org/drawingml/2006/table">
            <a:tbl>
              <a:tblPr/>
              <a:tblGrid>
                <a:gridCol w="3359160"/>
                <a:gridCol w="803160"/>
                <a:gridCol w="1414800"/>
                <a:gridCol w="1617480"/>
                <a:gridCol w="81900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MSA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ST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    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Popul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     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Total_Liv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000" spc="-1" strike="noStrike" u="sng">
                          <a:solidFill>
                            <a:srgbClr val="252849"/>
                          </a:solidFill>
                          <a:uFillTx/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anton-Massillon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01,16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16,9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4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incinnati-Hamilton, OH-KY-IN C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556,1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41,5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7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leveland-Akron, OH CM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 </a:t>
                      </a: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,947,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</a:t>
                      </a: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851,2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Columbus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540,5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96,34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4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Dayton-Springfield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54,2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33,1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Huntington-Ashland, WV-KY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2,03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2,3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2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Lima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61,4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89,0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Mansfield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79,99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99,6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5.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Parkersburg-Marietta, WV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4,51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2,7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0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RURAL OH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2,136,2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,164,74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4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Steubenville-Weirton, OH-WV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6,7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1,0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3.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Toledo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14,64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32,02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70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Wheeling, WV-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8,6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42,07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1.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Youngstown-Warren, OH M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89,5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304,68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1.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OH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1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11,353,0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        </a:t>
                      </a: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6,577,5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252849"/>
                          </a:solidFill>
                          <a:latin typeface="Arial"/>
                          <a:ea typeface="Arial"/>
                        </a:rPr>
                        <a:t>57.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10000"/>
                      </a:solidFill>
                    </a:lnT>
                    <a:lnB w="576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498D-86AD-451D-AD8E-20CE23F773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0240" y="162000"/>
            <a:ext cx="8381880" cy="84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0" rIns="0" tIns="4680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gibility Checking (RxHub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90600" y="1257480"/>
          <a:ext cx="8394480" cy="5446440"/>
        </p:xfrm>
        <a:graphic>
          <a:graphicData uri="http://schemas.openxmlformats.org/drawingml/2006/table">
            <a:tbl>
              <a:tblPr/>
              <a:tblGrid>
                <a:gridCol w="2460600"/>
                <a:gridCol w="1977840"/>
                <a:gridCol w="1978200"/>
                <a:gridCol w="19778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Eligibility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Che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ositiv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Respo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ercent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Times New Roman"/>
                        </a:rPr>
                        <a:t>Po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4a62a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an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7,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Febru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9,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1,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5,5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5,7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3,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4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3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5,4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Ju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4,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Augu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7,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5,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Sept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6,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4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Oct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30,4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Nov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6,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Dec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,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7,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299,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175,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27160" indent="-22716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5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a62a8"/>
                      </a:solidFill>
                    </a:lnL>
                    <a:lnR w="5760">
                      <a:solidFill>
                        <a:srgbClr val="4a62a8"/>
                      </a:solidFill>
                    </a:lnR>
                    <a:lnT w="5760">
                      <a:solidFill>
                        <a:srgbClr val="4a62a8"/>
                      </a:solidFill>
                    </a:lnT>
                    <a:lnB w="5760">
                      <a:solidFill>
                        <a:srgbClr val="4a62a8"/>
                      </a:solidFill>
                    </a:lnB>
                    <a:solidFill>
                      <a:srgbClr val="ccd3e8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5CA1-35EA-4295-819E-C9EA9B384D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13:56:55Z</dcterms:created>
  <dc:creator>Bob Elson, MD, MS</dc:creator>
  <dc:description/>
  <dc:language>en-US</dc:language>
  <cp:lastModifiedBy>User</cp:lastModifiedBy>
  <dcterms:modified xsi:type="dcterms:W3CDTF">2003-07-03T00:23:16Z</dcterms:modified>
  <cp:revision>655</cp:revision>
  <dc:subject>For UHMP</dc:subject>
  <dc:title>NEO CMS eRx Project Update</dc:title>
</cp:coreProperties>
</file>