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23.wmf" ContentType="image/x-wmf"/>
  <Override PartName="/ppt/media/image10.jpeg" ContentType="image/jpeg"/>
  <Override PartName="/ppt/media/image13.wmf" ContentType="image/x-wmf"/>
  <Override PartName="/ppt/media/image8.jpeg" ContentType="image/jpeg"/>
  <Override PartName="/ppt/media/image9.png" ContentType="image/png"/>
  <Override PartName="/ppt/media/image17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7.gif" ContentType="image/gif"/>
  <Override PartName="/ppt/media/image18.wmf" ContentType="image/x-wmf"/>
  <Override PartName="/ppt/media/image20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5284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9CC7-80B1-4BBD-8515-22ABBBB96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E0AD-3EB2-44C6-9428-BF1AFBACC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00160" y="90180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123560" y="4584240"/>
            <a:ext cx="456084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ed control practices (at least for workflow / call volume) since didn’t have opportunity to go into eRx practices b4 eRx be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7082-5E2A-457E-AB32-C19C2F1BA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0160" y="90324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122120" y="4584240"/>
            <a:ext cx="45622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EE30-614E-4E5B-80A4-025596846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0160" y="90180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122120" y="4584240"/>
            <a:ext cx="45622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E71F-F621-4501-BEC2-65D3AEEC0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00160" y="90324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22120" y="4584240"/>
            <a:ext cx="45622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0A33-F4F1-4975-BE86-05E4B17B3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00160" y="90324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22120" y="4584240"/>
            <a:ext cx="45622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C4A3-7928-4CBD-BD75-C4E1116A3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00160" y="90324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1122120" y="4584240"/>
            <a:ext cx="45622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5562-7BB4-40FD-BE6D-B46ADF978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00160" y="90180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122120" y="4584240"/>
            <a:ext cx="45622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umbers represent ALL of UHMP e-prescribing practices, including specialty. However, ¾ of UHMP eRx volume is represented by our study group prescribers in the 25 primary care practices (~ 30K of monthly UHMP total of ~40K eRx), so presumably ¾ of these eligibility transactions are coming from the 25 study group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98C1-9F9B-4D2B-88D1-11C652EFF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600" y="3904560"/>
            <a:ext cx="83944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4063-BFEF-4433-90A9-32D3132D1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600" y="39045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2240" y="39045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1884-E307-4F5F-BFC6-D999B420E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8840" y="13647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7440" y="13647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600" y="39045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8840" y="39045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7440" y="39045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359B-D09B-4074-A30D-4AD0E3BAC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0240" y="162000"/>
            <a:ext cx="838188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0600" y="39045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B7E0-FF36-4F15-9B7B-C4A649817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2240" y="39045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0600" y="3904560"/>
            <a:ext cx="83944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0600" y="3904560"/>
            <a:ext cx="83944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0600" y="39045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2240" y="39045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8840" y="13647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7440" y="13647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0600" y="39045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8840" y="39045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7440" y="39045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82E2-BB03-445E-AC0C-36D07E088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5651-B850-4B9B-A8F2-C976B56B1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1C1D-7D62-4F2A-8F37-5CD1EC266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240" y="162000"/>
            <a:ext cx="838188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FD15-312A-4044-8EC7-847209E74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600" y="39045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3286-A2F5-418C-ADB2-B5F8A0098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2240" y="39045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58AC-9723-47B8-994B-657DC1887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600" y="3904560"/>
            <a:ext cx="83944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7F1C-5D62-49B6-B9BC-57E2C8D11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solidFill>
            <a:srgbClr val="606a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1500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spcBef>
                <a:spcPts val="15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3" marL="895320" indent="-214200">
              <a:spcBef>
                <a:spcPts val="1500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4" marL="1141560" indent="-244800">
              <a:spcBef>
                <a:spcPts val="15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5" marL="1141560" indent="-244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6" marL="1141560" indent="-244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91200" y="6311520"/>
            <a:ext cx="252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BFEB-91B3-40F8-A624-51FEDAF8A8D8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0" y="1058760"/>
            <a:ext cx="9144000" cy="0"/>
          </a:xfrm>
          <a:prstGeom prst="line">
            <a:avLst/>
          </a:prstGeom>
          <a:ln w="28440">
            <a:solidFill>
              <a:srgbClr val="2528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16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5284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06a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318960"/>
            <a:ext cx="9144000" cy="0"/>
          </a:xfrm>
          <a:prstGeom prst="line">
            <a:avLst/>
          </a:prstGeom>
          <a:ln w="28440">
            <a:solidFill>
              <a:srgbClr val="2528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685800" y="3591000"/>
            <a:ext cx="7772400" cy="0"/>
          </a:xfrm>
          <a:prstGeom prst="line">
            <a:avLst/>
          </a:prstGeom>
          <a:ln w="28440">
            <a:solidFill>
              <a:srgbClr val="2528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-3240" y="6568560"/>
            <a:ext cx="9144000" cy="304920"/>
          </a:xfrm>
          <a:prstGeom prst="rect">
            <a:avLst/>
          </a:prstGeom>
          <a:solidFill>
            <a:srgbClr val="606a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554880"/>
            <a:ext cx="9144000" cy="0"/>
          </a:xfrm>
          <a:prstGeom prst="line">
            <a:avLst/>
          </a:prstGeom>
          <a:ln w="28440">
            <a:solidFill>
              <a:srgbClr val="2528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1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2" marL="225360" indent="238320" algn="ctr"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3" marL="455760" indent="225360" algn="ctr">
              <a:spcBef>
                <a:spcPts val="400"/>
              </a:spcBef>
              <a:buClr>
                <a:srgbClr val="606aa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lvl="4" marL="685800" indent="210960" algn="ctr"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lvl="5" marL="685800" indent="210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lvl="6" marL="685800" indent="210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cbi.nlm.nih.gov/entrez/query.fcgi?cmd=Retrieve&amp;db=PubMed&amp;dopt=Citation&amp;list_uids=15755942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ahrq.gov/downloads/pub/advances/vol2/Seger.pdf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71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52849"/>
                </a:solidFill>
                <a:latin typeface="Arial"/>
              </a:rPr>
              <a:t>Northeast Ohio CMS eRx Project</a:t>
            </a:r>
            <a:endParaRPr b="0" lang="en-US" sz="40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4200" y="3504960"/>
            <a:ext cx="8099280" cy="1230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AHRQ National Meeting</a:t>
            </a:r>
            <a:br>
              <a:rPr sz="2400"/>
            </a:b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Bethesda</a:t>
            </a:r>
            <a:br>
              <a:rPr sz="2000"/>
            </a:b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September 27</a:t>
            </a:r>
            <a:r>
              <a:rPr b="0" lang="en-US" sz="1800" spc="-1" strike="noStrike" baseline="30000">
                <a:solidFill>
                  <a:srgbClr val="252849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, 2007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31640"/>
            <a:ext cx="2209680" cy="1105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080" y="5126040"/>
            <a:ext cx="270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 Elson, MD,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ef Medical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ys Co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.elson@eclipsy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60840" y="343080"/>
            <a:ext cx="363888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42160" y="2112840"/>
            <a:ext cx="2009880" cy="2090880"/>
          </a:xfrm>
          <a:prstGeom prst="rect">
            <a:avLst/>
          </a:prstGeom>
          <a:solidFill>
            <a:srgbClr val="bef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50760" y="2214720"/>
            <a:ext cx="2509920" cy="2124000"/>
          </a:xfrm>
          <a:prstGeom prst="rect">
            <a:avLst/>
          </a:prstGeom>
          <a:solidFill>
            <a:srgbClr val="bef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68280" y="173664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HMP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25360" y="2536920"/>
            <a:ext cx="685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582560" y="2689200"/>
            <a:ext cx="1676160" cy="1294920"/>
            <a:chOff x="1582560" y="2689200"/>
            <a:chExt cx="1676160" cy="129492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1861920" y="2689200"/>
              <a:ext cx="1396800" cy="11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1582560" y="2842920"/>
              <a:ext cx="1117800" cy="11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"/>
          <p:cNvSpPr/>
          <p:nvPr/>
        </p:nvSpPr>
        <p:spPr>
          <a:xfrm>
            <a:off x="1796040" y="241776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CallDat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478400" y="2689200"/>
            <a:ext cx="1371240" cy="966960"/>
            <a:chOff x="4478400" y="2689200"/>
            <a:chExt cx="1371240" cy="966960"/>
          </a:xfrm>
        </p:grpSpPr>
        <p:sp>
          <p:nvSpPr>
            <p:cNvPr id="200" name="Cloud"/>
            <p:cNvSpPr/>
            <p:nvPr/>
          </p:nvSpPr>
          <p:spPr>
            <a:xfrm>
              <a:off x="4478400" y="2689200"/>
              <a:ext cx="1371240" cy="966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33920" y="3030480"/>
              <a:ext cx="91692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46e"/>
                  </a:solidFill>
                  <a:latin typeface="Arial"/>
                </a:rPr>
                <a:t>Rx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2" name=""/>
          <p:cNvCxnSpPr>
            <a:endCxn id="200" idx="4"/>
          </p:cNvCxnSpPr>
          <p:nvPr/>
        </p:nvCxnSpPr>
        <p:spPr>
          <a:xfrm>
            <a:off x="3030120" y="2917800"/>
            <a:ext cx="1453320" cy="25596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19080">
            <a:solidFill>
              <a:srgbClr val="008000"/>
            </a:solidFill>
            <a:miter/>
            <a:tailEnd len="med" type="triangle" w="lg"/>
          </a:ln>
        </p:spPr>
      </p:cxnSp>
      <p:sp>
        <p:nvSpPr>
          <p:cNvPr id="203" name=""/>
          <p:cNvSpPr/>
          <p:nvPr/>
        </p:nvSpPr>
        <p:spPr>
          <a:xfrm>
            <a:off x="942840" y="5483160"/>
            <a:ext cx="764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itial Standard: Medication History (SCRIPT 8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CallD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™ requests med hx from RxHub, using info from prior eligibility che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Shows interoperability between an Initial and a Foundation stand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/>
          <p:nvPr/>
        </p:nvCxnSpPr>
        <p:spPr>
          <a:xfrm flipV="1" rot="10800000">
            <a:off x="5847480" y="3308400"/>
            <a:ext cx="992880" cy="65520"/>
          </a:xfrm>
          <a:prstGeom prst="curvedConnector5">
            <a:avLst>
              <a:gd name="adj1" fmla="val 49909"/>
              <a:gd name="adj2" fmla="val 49723"/>
              <a:gd name="adj3" fmla="val 49909"/>
            </a:avLst>
          </a:prstGeom>
          <a:ln w="19080">
            <a:solidFill>
              <a:srgbClr val="008000"/>
            </a:solidFill>
            <a:miter/>
            <a:tailEnd len="med" type="triangle" w="lg"/>
          </a:ln>
        </p:spPr>
      </p:cxnSp>
      <p:cxnSp>
        <p:nvCxnSpPr>
          <p:cNvPr id="205" name=""/>
          <p:cNvCxnSpPr>
            <a:stCxn id="200" idx="5"/>
          </p:cNvCxnSpPr>
          <p:nvPr/>
        </p:nvCxnSpPr>
        <p:spPr>
          <a:xfrm flipV="1" rot="10800000">
            <a:off x="2877480" y="3172320"/>
            <a:ext cx="1605600" cy="251640"/>
          </a:xfrm>
          <a:prstGeom prst="curvedConnector5">
            <a:avLst>
              <a:gd name="adj1" fmla="val 50145"/>
              <a:gd name="adj2" fmla="val 50000"/>
              <a:gd name="adj3" fmla="val 50145"/>
            </a:avLst>
          </a:prstGeom>
          <a:ln w="19080">
            <a:solidFill>
              <a:srgbClr val="008000"/>
            </a:solidFill>
            <a:miter/>
            <a:tailEnd len="med" type="triangle" w="lg"/>
          </a:ln>
        </p:spPr>
      </p:cxnSp>
      <p:sp>
        <p:nvSpPr>
          <p:cNvPr id="206" name=""/>
          <p:cNvSpPr/>
          <p:nvPr/>
        </p:nvSpPr>
        <p:spPr>
          <a:xfrm>
            <a:off x="3335400" y="2612880"/>
            <a:ext cx="350496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9960" y="1806480"/>
            <a:ext cx="457200" cy="4572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/>
          <p:nvPr/>
        </p:nvCxnSpPr>
        <p:spPr>
          <a:xfrm>
            <a:off x="5697360" y="2841480"/>
            <a:ext cx="1146960" cy="332640"/>
          </a:xfrm>
          <a:prstGeom prst="curvedConnector5">
            <a:avLst>
              <a:gd name="adj1" fmla="val 49984"/>
              <a:gd name="adj2" fmla="val 49945"/>
              <a:gd name="adj3" fmla="val 49984"/>
            </a:avLst>
          </a:prstGeom>
          <a:ln w="19080">
            <a:solidFill>
              <a:srgbClr val="008000"/>
            </a:solidFill>
            <a:miter/>
            <a:tailEnd len="med" type="triangle" w="lg"/>
          </a:ln>
        </p:spPr>
      </p:cxnSp>
      <p:sp>
        <p:nvSpPr>
          <p:cNvPr id="209" name=""/>
          <p:cNvSpPr/>
          <p:nvPr/>
        </p:nvSpPr>
        <p:spPr>
          <a:xfrm>
            <a:off x="3335400" y="2612880"/>
            <a:ext cx="350496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259080" y="3755880"/>
            <a:ext cx="358128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36120" y="2328840"/>
            <a:ext cx="156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 Hx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61240" y="382428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 Hx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11760" y="4175280"/>
            <a:ext cx="457200" cy="4572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39680" y="4919760"/>
            <a:ext cx="743904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pt ’06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K med hx transfers (only 500 “views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26720" y="1644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391520" y="2330280"/>
            <a:ext cx="838080" cy="739440"/>
            <a:chOff x="7391520" y="2330280"/>
            <a:chExt cx="838080" cy="739440"/>
          </a:xfrm>
        </p:grpSpPr>
        <p:sp>
          <p:nvSpPr>
            <p:cNvPr id="217" name=""/>
            <p:cNvSpPr/>
            <p:nvPr/>
          </p:nvSpPr>
          <p:spPr>
            <a:xfrm>
              <a:off x="7391520" y="2809080"/>
              <a:ext cx="838080" cy="1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4"/>
            <a:stretch/>
          </p:blipFill>
          <p:spPr>
            <a:xfrm>
              <a:off x="7391520" y="2330280"/>
              <a:ext cx="838080" cy="5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7728120" y="2809080"/>
              <a:ext cx="1832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67360" y="3171960"/>
            <a:ext cx="194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co, Expre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emark, Anthem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nthem live as of 10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16200" y="304920"/>
            <a:ext cx="71625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cation History (RxHu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F442-8605-4541-84AE-2E9F9A57C8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88920" y="3693960"/>
            <a:ext cx="7745400" cy="26416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88920" y="1474920"/>
            <a:ext cx="3110040" cy="2149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30560" y="2440080"/>
            <a:ext cx="1284120" cy="403200"/>
          </a:xfrm>
          <a:prstGeom prst="ellipse">
            <a:avLst/>
          </a:prstGeom>
          <a:noFill/>
          <a:ln w="38160">
            <a:solidFill>
              <a:srgbClr val="4c7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cation History (User View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49560" y="2941560"/>
            <a:ext cx="782640" cy="993960"/>
          </a:xfrm>
          <a:custGeom>
            <a:avLst/>
            <a:gdLst/>
            <a:ahLst/>
            <a:rect l="l" t="t" r="r" b="b"/>
            <a:pathLst>
              <a:path w="493" h="626">
                <a:moveTo>
                  <a:pt x="0" y="0"/>
                </a:moveTo>
                <a:lnTo>
                  <a:pt x="493" y="0"/>
                </a:lnTo>
                <a:lnTo>
                  <a:pt x="493" y="6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7DB7-F047-4B95-AD29-F93DA5FB39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ferred Rx History (View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82640" y="2368440"/>
          <a:ext cx="6997680" cy="2367000"/>
        </p:xfrm>
        <a:graphic>
          <a:graphicData uri="http://schemas.openxmlformats.org/drawingml/2006/table">
            <a:tbl>
              <a:tblPr/>
              <a:tblGrid>
                <a:gridCol w="2932200"/>
                <a:gridCol w="1015920"/>
                <a:gridCol w="1015920"/>
                <a:gridCol w="1017720"/>
                <a:gridCol w="1015920"/>
              </a:tblGrid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cation History Transfers from RxH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cation History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135A-3422-457F-9291-E99FF2DF7E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60" y="1128600"/>
            <a:ext cx="620640" cy="5729400"/>
          </a:xfrm>
          <a:custGeom>
            <a:avLst/>
            <a:gdLst>
              <a:gd name="textAreaLeft" fmla="*/ 30240 w 620640"/>
              <a:gd name="textAreaRight" fmla="*/ 590400 w 620640"/>
              <a:gd name="textAreaTop" fmla="*/ 30240 h 5729400"/>
              <a:gd name="textAreaBottom" fmla="*/ 5699160 h 5729400"/>
            </a:gdLst>
            <a:ahLst/>
            <a:rect l="textAreaLeft" t="textAreaTop" r="textAreaRight" b="textAreaBottom"/>
            <a:pathLst>
              <a:path w="21600" h="199296">
                <a:moveTo>
                  <a:pt x="3600" y="0"/>
                </a:moveTo>
                <a:arcTo wR="3600" hR="3600" stAng="16200000" swAng="-5400000"/>
                <a:lnTo>
                  <a:pt x="0" y="195696"/>
                </a:lnTo>
                <a:arcTo wR="3600" hR="3600" stAng="10800000" swAng="-5400000"/>
                <a:lnTo>
                  <a:pt x="18000" y="1992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2106720"/>
            <a:ext cx="2286000" cy="3886200"/>
          </a:xfrm>
          <a:prstGeom prst="rect">
            <a:avLst/>
          </a:prstGeom>
          <a:solidFill>
            <a:srgbClr val="ff9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04920" y="2259000"/>
            <a:ext cx="685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762120" y="2411280"/>
            <a:ext cx="1675800" cy="1295280"/>
            <a:chOff x="762120" y="2411280"/>
            <a:chExt cx="1675800" cy="129528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1041480" y="2411280"/>
              <a:ext cx="1396440" cy="11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3"/>
            <a:stretch/>
          </p:blipFill>
          <p:spPr>
            <a:xfrm>
              <a:off x="762120" y="2565000"/>
              <a:ext cx="1117440" cy="114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/>
          <p:nvPr/>
        </p:nvSpPr>
        <p:spPr>
          <a:xfrm>
            <a:off x="975240" y="213984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CallDat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9640" y="1143000"/>
            <a:ext cx="76438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oundation Standard: NEWRX (SCRIPT 8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prescriptions (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from OnCallD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™ to pharm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ewal request (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 from pharmacy; response (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 to pharm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17960" y="3797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19920" y="4164120"/>
            <a:ext cx="2666880" cy="1828800"/>
          </a:xfrm>
          <a:prstGeom prst="rect">
            <a:avLst/>
          </a:prstGeom>
          <a:solidFill>
            <a:srgbClr val="ff9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781680" y="4316400"/>
            <a:ext cx="1067040" cy="747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962680" y="523080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S, Walgreen’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teAid,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loud"/>
          <p:cNvSpPr/>
          <p:nvPr/>
        </p:nvSpPr>
        <p:spPr>
          <a:xfrm>
            <a:off x="3429000" y="4240080"/>
            <a:ext cx="1752480" cy="1148040"/>
          </a:xfrm>
          <a:prstGeom prst="pie">
            <a:avLst/>
          </a:prstGeom>
          <a:solidFill>
            <a:srgbClr val="ff855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83800" y="4667400"/>
            <a:ext cx="1319040" cy="337320"/>
          </a:xfrm>
          <a:prstGeom prst="rect">
            <a:avLst/>
          </a:prstGeom>
          <a:solidFill>
            <a:srgbClr val="ff8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eScri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181120" y="494496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760" y="53830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HMP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34" idx="2"/>
            <a:endCxn id="241" idx="4"/>
          </p:cNvCxnSpPr>
          <p:nvPr/>
        </p:nvCxnSpPr>
        <p:spPr>
          <a:xfrm flipH="1" rot="16200000">
            <a:off x="1822320" y="3204360"/>
            <a:ext cx="1108800" cy="2113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 flipH="1">
            <a:off x="1142640" y="4941720"/>
            <a:ext cx="225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143000" y="3684600"/>
            <a:ext cx="0" cy="125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27080" y="4276800"/>
            <a:ext cx="457200" cy="4572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2849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252849"/>
                </a:solidFill>
                <a:latin typeface="Arial"/>
              </a:rPr>
              <a:t>1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482112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80200" y="5062680"/>
            <a:ext cx="457200" cy="4572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2849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25284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25920" y="2179800"/>
            <a:ext cx="548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 ’06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39K New; 3K Re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S +RiteAid + Walgreen’s: 20 / 42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2520" y="6288120"/>
            <a:ext cx="54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ail order routing via RxHub not represente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cription Routing (SureScript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6604-0146-44C6-B6D0-17BD0A5621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EO eRx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eRx adoption, including “incumbent” transaction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60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ligibility, Med Hx, NEWRX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n workflow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Transaction intervention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60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edication Hx, Fill Notification, Prior Auth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mpact on safety and utilization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5A5F-4EA1-45EA-9DB0-CC811D43FD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x (Study) and Control Pract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2849"/>
                </a:solidFill>
                <a:latin typeface="Arial"/>
              </a:rPr>
              <a:t>Study (eRx) group (n=25 practices, 130 physicians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Part of University Hospital Medical Practices (UHMP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Community-based, primary care practices in Northeast Ohio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Access to OnCallData™ e-prescribing software 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At least one doctor in the practice generated a minimum of 150 eRx in any month of 2006 prior to enrollment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2849"/>
                </a:solidFill>
                <a:latin typeface="Arial"/>
              </a:rPr>
              <a:t>Control group (n=22 practices, 77 physicians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Independent primary care practices in NEO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Not currently e-prescribing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Convenience sample 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Practices w/ Ohio KePRO relationship under 8</a:t>
            </a:r>
            <a:r>
              <a:rPr b="0" lang="en-US" sz="1800" spc="-1" strike="noStrike" baseline="30000">
                <a:solidFill>
                  <a:srgbClr val="252849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 SOW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D392-5201-4FC7-99D9-E6A0DF9C0B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x and Control Pract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349880" y="1231920"/>
          <a:ext cx="4794120" cy="26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9880" y="1231920"/>
                    <a:ext cx="47941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410000" y="3906720"/>
          <a:ext cx="4449960" cy="26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0000" y="3906720"/>
                    <a:ext cx="44499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0240" y="1364760"/>
            <a:ext cx="41180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eRx and Control Groups: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25 UHMP practices with access to eRx (130 MDs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22 non eRx practices (100 MDs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Loosely matched by size and specialty (separately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6934-265A-495C-BA07-FD7880891D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60" y="76320"/>
            <a:ext cx="8791560" cy="75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Rx / prescriber / mo (10/06 by practi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0" y="1150920"/>
            <a:ext cx="9144000" cy="5707080"/>
            <a:chOff x="0" y="1150920"/>
            <a:chExt cx="9144000" cy="5707080"/>
          </a:xfrm>
        </p:grpSpPr>
        <p:graphicFrame>
          <p:nvGraphicFramePr>
            <p:cNvPr id="266" name=""/>
            <p:cNvGraphicFramePr/>
            <p:nvPr/>
          </p:nvGraphicFramePr>
          <p:xfrm>
            <a:off x="0" y="1171440"/>
            <a:ext cx="9144000" cy="56055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71440"/>
                      <a:ext cx="9144000" cy="560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8" name=""/>
            <p:cNvSpPr/>
            <p:nvPr/>
          </p:nvSpPr>
          <p:spPr>
            <a:xfrm>
              <a:off x="631800" y="5340240"/>
              <a:ext cx="8196120" cy="11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480" y="1150920"/>
              <a:ext cx="598320" cy="5707080"/>
            </a:xfrm>
            <a:prstGeom prst="rect">
              <a:avLst/>
            </a:prstGeom>
            <a:solidFill>
              <a:srgbClr val="005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574120" y="515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59600" y="5156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45080" y="5153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30920" y="514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5146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02240" y="5143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5943600"/>
            <a:ext cx="618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= pediatric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at top of each bar = number of physicians in that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50920" y="132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58720" y="2409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6880" y="2484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63520" y="2492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82840" y="285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01800" y="30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98800" y="3171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06600" y="346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25560" y="3632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22560" y="3784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41520" y="3881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94240" y="3878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57480" y="3886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65640" y="3894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73440" y="3890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81600" y="388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23160" y="3884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19880" y="39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05360" y="394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24680" y="3963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21320" y="423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51440" y="434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948440" y="4398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56600" y="4406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564400" y="451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92640" y="1536840"/>
            <a:ext cx="35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 UHMP primary care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0 phys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5074-282F-432C-B504-06574FA2AF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-Prescribing @ 25 UHMP Pract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90600" y="1365120"/>
          <a:ext cx="8394480" cy="5288040"/>
        </p:xfrm>
        <a:graphic>
          <a:graphicData uri="http://schemas.openxmlformats.org/drawingml/2006/table">
            <a:tbl>
              <a:tblPr/>
              <a:tblGrid>
                <a:gridCol w="1933560"/>
                <a:gridCol w="2074680"/>
                <a:gridCol w="2335320"/>
                <a:gridCol w="2050920"/>
              </a:tblGrid>
              <a:tr h="500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Mon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Total eR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Study Group eR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% of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2,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1,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1,7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1,3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0,0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6,5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5,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3,4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2,6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7,4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0,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6,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Ju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7,7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4,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Aug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3,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7,9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2,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7,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7,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1,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6,4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0,3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4,6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9,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85,4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17,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0641-E483-4F1F-8985-677428F2DD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rrogate-Based e-Prescrib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0600" y="1395360"/>
            <a:ext cx="7756560" cy="5035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48,013 eRx in October (all UHMP)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16,715 entered directly by MD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15,724 NewRx (~1000 Renew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97 / 219 e-prescribers did at least </a:t>
            </a:r>
            <a:br>
              <a:rPr sz="2000"/>
            </a:b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some data entry themselves 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122 did none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67320" y="1949400"/>
          <a:ext cx="393372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7320" y="1949400"/>
                    <a:ext cx="393372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39E9-9CE4-44C8-B4E3-972AD920BB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O eRx Project Particip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720" y="1410840"/>
            <a:ext cx="74678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 fontScale="84000"/>
          </a:bodyPr>
          <a:p>
            <a:pPr marL="190800" indent="-19080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</a:rPr>
              <a:t>UH Medical Practices + Ohio KePRO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190800" indent="-19080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  <a:ea typeface="Arial"/>
              </a:rPr>
              <a:t>MGMA Center for Research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190800" indent="-19080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  <a:ea typeface="Arial"/>
              </a:rPr>
              <a:t>Univ. of Minnesota Division of HSR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190800" indent="-19080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</a:rPr>
              <a:t>InstantDx (OnCallData</a:t>
            </a:r>
            <a:r>
              <a:rPr b="0" lang="en-US" sz="2800" spc="-1" strike="noStrike">
                <a:solidFill>
                  <a:srgbClr val="252849"/>
                </a:solidFill>
                <a:latin typeface="Arial"/>
                <a:ea typeface="Arial"/>
              </a:rPr>
              <a:t>™)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190800" indent="-19080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  <a:ea typeface="Arial"/>
              </a:rPr>
              <a:t>RxHub, SureScripts, NDC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190800" indent="-19080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  <a:ea typeface="Arial"/>
              </a:rPr>
              <a:t>Aetna, Anthem, Medical Mutual of Ohio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190800" indent="-19080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  <a:ea typeface="Arial"/>
              </a:rPr>
              <a:t>Partners (Bates / Seger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252849"/>
                </a:solidFill>
                <a:latin typeface="Arial"/>
                <a:ea typeface="Arial"/>
              </a:rPr>
              <a:t>… and CMS, AHRQ, and the other pilot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031E-4F1C-414F-BE31-77642AFFF9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newal Workflow Find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0240" y="1206360"/>
            <a:ext cx="8240760" cy="5013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eRx decreases dependence on phone / fax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Incoming Rx </a:t>
            </a:r>
            <a:br>
              <a:rPr sz="1800"/>
            </a:b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renewal requests </a:t>
            </a:r>
            <a:br>
              <a:rPr sz="1800"/>
            </a:b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from local pharmacies</a:t>
            </a:r>
            <a:br>
              <a:rPr sz="1800"/>
            </a:b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received by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eRx practices still depend on paper for internal processing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For phoned-in requests, 81% communicated to MD by paper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Only 7% entered into OnCallData</a:t>
            </a:r>
            <a:r>
              <a:rPr b="0" lang="en-US" sz="1600" spc="-1" strike="noStrike">
                <a:solidFill>
                  <a:srgbClr val="252849"/>
                </a:solidFill>
                <a:latin typeface="Arial"/>
                <a:ea typeface="Arial"/>
              </a:rPr>
              <a:t>™ on the </a:t>
            </a:r>
            <a:r>
              <a:rPr b="0" i="1" lang="en-US" sz="1600" spc="-1" strike="noStrike">
                <a:solidFill>
                  <a:srgbClr val="252849"/>
                </a:solidFill>
                <a:latin typeface="Arial"/>
                <a:ea typeface="Arial"/>
              </a:rPr>
              <a:t>front</a:t>
            </a:r>
            <a:r>
              <a:rPr b="0" lang="en-US" sz="1600" spc="-1" strike="noStrike">
                <a:solidFill>
                  <a:srgbClr val="252849"/>
                </a:solidFill>
                <a:latin typeface="Arial"/>
                <a:ea typeface="Arial"/>
              </a:rPr>
              <a:t> end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For faxed requests, fax itself used for internal communication 91%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  <a:ea typeface="Arial"/>
              </a:rPr>
              <a:t>73% sent back to pharmacy via eRx 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only 33% come in by eRx, but most entered into OCD on </a:t>
            </a:r>
            <a:r>
              <a:rPr b="0" i="1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back</a:t>
            </a:r>
            <a:r>
              <a:rPr b="0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 end 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25% of authorizations called or faxed to pharmacy vs. 90% in control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390840" y="1787400"/>
          <a:ext cx="5029200" cy="1495440"/>
        </p:xfrm>
        <a:graphic>
          <a:graphicData uri="http://schemas.openxmlformats.org/drawingml/2006/table">
            <a:tbl>
              <a:tblPr/>
              <a:tblGrid>
                <a:gridCol w="2031840"/>
                <a:gridCol w="1549440"/>
                <a:gridCol w="14479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solidFill>
                      <a:srgbClr val="6d0b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solidFill>
                      <a:srgbClr val="6d0b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solidFill>
                      <a:srgbClr val="6d0b01"/>
                    </a:solidFill>
                  </a:tcPr>
                </a:tc>
              </a:tr>
              <a:tr h="3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Ph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6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eR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3E05-9D22-4187-A7F0-281814F74F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160" y="1092240"/>
            <a:ext cx="628560" cy="576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85680"/>
            <a:ext cx="8709120" cy="82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acterizing Rx-Related Phone Ca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57320" y="1638360"/>
            <a:ext cx="885348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176C-2C7C-43F6-8D52-B4DC32D9AD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x Impact on Call Typ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Inbound / outbound Ratio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Relative % of outbound calls</a:t>
            </a:r>
            <a:br>
              <a:rPr sz="2400"/>
            </a:b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going to pharmacy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668840" y="1539720"/>
          <a:ext cx="44751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8840" y="1539720"/>
                    <a:ext cx="44751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4475160" y="4175280"/>
          <a:ext cx="4668840" cy="26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5160" y="4175280"/>
                    <a:ext cx="466884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16A4-BB45-450A-BA5A-AC0E408216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EO eRx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eRx adoption, including “incumbent” transaction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60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ligibility, NEWRX, Med Hx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mpact on workflow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intervention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60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tion Hx, Fill Notification, Prior Auth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mpact on safety and utilization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A904-A054-4697-89F5-012A8410F9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CallDat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Production Te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Medication history (November test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Existing (RxHub) rx history transfers not being looked at by user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Typical month: available 13,000 times but viewed only 130 (1%)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October ’06: SureScripts (filled prescriptions from pharmacies) added to RxHub (claims paid by prescription benefit managers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Training intervention at nine UHMP practices (November test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Print prescription history and place on paper chart at time of encounter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RxFill / NoFill (November test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NoFill alert created if pickup confirmation message (RxFill) not received within 10 days for Rx sent to CVS, RiteAid or Walgreen’s 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Prior Authorization test with Anthem; began 12/7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Prescriber sees drug-specific questions when drug is picked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Celebrex, Mobic, Lyrica, Provigil, Viagra, Nexium, Crestor, Vytorin 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Answer questions, submit and receive response via OnCallData</a:t>
            </a:r>
            <a:r>
              <a:rPr b="0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™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52849"/>
                </a:solidFill>
                <a:latin typeface="Arial"/>
                <a:ea typeface="Arial"/>
              </a:rPr>
              <a:t>PLUS</a:t>
            </a:r>
            <a:r>
              <a:rPr b="0" lang="en-US" sz="1600" spc="-1" strike="noStrike">
                <a:solidFill>
                  <a:srgbClr val="252849"/>
                </a:solidFill>
                <a:latin typeface="Arial"/>
                <a:ea typeface="Arial"/>
              </a:rPr>
              <a:t> parallel fax-based workflow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8E13-3D3D-4A9F-AB37-8FC9240C3F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281800" cy="84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cation History (SureScript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27000" y="1805040"/>
            <a:ext cx="2286000" cy="3079800"/>
          </a:xfrm>
          <a:prstGeom prst="rect">
            <a:avLst/>
          </a:prstGeom>
          <a:solidFill>
            <a:srgbClr val="bef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003320" y="2317680"/>
            <a:ext cx="685800" cy="13716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674000" y="191916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CallDat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17560" y="5359320"/>
            <a:ext cx="764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itial Standard: Medication History (SCRIPT 8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rmacy transfers prescription hx to SureScripts repository after dispen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CallDat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requests med hx from SureScripts at encou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MPI but no eligibility check involve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30720" y="21798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54960" y="2647800"/>
            <a:ext cx="1976400" cy="1946520"/>
          </a:xfrm>
          <a:prstGeom prst="rect">
            <a:avLst/>
          </a:prstGeom>
          <a:solidFill>
            <a:srgbClr val="bef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7124760" y="2865600"/>
            <a:ext cx="1066680" cy="747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837480" y="3687840"/>
            <a:ext cx="180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S, Walgreen’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te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loud"/>
          <p:cNvSpPr/>
          <p:nvPr/>
        </p:nvSpPr>
        <p:spPr>
          <a:xfrm>
            <a:off x="4064040" y="3841920"/>
            <a:ext cx="1752480" cy="1147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52320" y="4238640"/>
            <a:ext cx="139824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46e"/>
                </a:solidFill>
                <a:latin typeface="Arial"/>
              </a:rPr>
              <a:t>SureScript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829480" y="42735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12400" y="14637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HMP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"/>
          <p:cNvCxnSpPr/>
          <p:nvPr/>
        </p:nvCxnSpPr>
        <p:spPr>
          <a:xfrm flipH="1" rot="16200000">
            <a:off x="2521800" y="2881800"/>
            <a:ext cx="1108800" cy="211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 flipH="1">
            <a:off x="1841040" y="4645080"/>
            <a:ext cx="225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841400" y="3666600"/>
            <a:ext cx="0" cy="99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667560" y="460548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In production 10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460520" y="2470320"/>
            <a:ext cx="1676160" cy="1294920"/>
            <a:chOff x="1460520" y="2470320"/>
            <a:chExt cx="1676160" cy="1294920"/>
          </a:xfrm>
        </p:grpSpPr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1739880" y="2470320"/>
              <a:ext cx="1396800" cy="11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1460520" y="2624040"/>
              <a:ext cx="1117800" cy="11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84D4-20F0-4FDC-83B0-0C8E62690A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2849"/>
                </a:solidFill>
                <a:latin typeface="Arial"/>
              </a:rPr>
              <a:t>Medication history (November test)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Existing (RxHub) rx history transfers not being looked at by user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3" marL="895320" indent="-214200">
              <a:spcBef>
                <a:spcPts val="34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2849"/>
                </a:solidFill>
                <a:latin typeface="Arial"/>
              </a:rPr>
              <a:t>Typical month: available 13,000 times but viewed only 130 (1%); jumped to 4% in October</a:t>
            </a:r>
            <a:endParaRPr b="0" lang="en-US" sz="1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52849"/>
                </a:solidFill>
                <a:uFillTx/>
                <a:latin typeface="Arial"/>
              </a:rPr>
              <a:t>October ’06</a:t>
            </a: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: SureScripts (filled prescriptions from pharmacies) added to RxHub (claims paid by prescription benefit managers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Training intervention at nine UHMP practice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Print prescription history and place on paper chart at time of encounter during November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Only one practice (Euclid IM) complied, and was eager to stop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Mixed response from physicians, but continue to support importance of transferred prescription history (at least conceptually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Early problems with SureScripts patient matching; unable to fully evaluate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dication History 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24666-821B-4FB7-BED3-86E146DC1E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 History Transfers vs.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90600" y="1365120"/>
          <a:ext cx="8394480" cy="5070600"/>
        </p:xfrm>
        <a:graphic>
          <a:graphicData uri="http://schemas.openxmlformats.org/drawingml/2006/table">
            <a:tbl>
              <a:tblPr/>
              <a:tblGrid>
                <a:gridCol w="1881000"/>
                <a:gridCol w="1511280"/>
                <a:gridCol w="1862280"/>
                <a:gridCol w="1511280"/>
                <a:gridCol w="1628640"/>
              </a:tblGrid>
              <a:tr h="161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Medication History Transf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Medication History Vie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(%) Percent View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Percent Change from Previous Mon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</a:tr>
              <a:tr h="65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2,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0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Ju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0,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Aug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,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9,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-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2,4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7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1,8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,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-6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83,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,7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7C11-A9E4-4985-9D3B-CC77207020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xFILL / NoFI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92160" y="2422440"/>
            <a:ext cx="2286000" cy="3886200"/>
          </a:xfrm>
          <a:prstGeom prst="rect">
            <a:avLst/>
          </a:prstGeom>
          <a:solidFill>
            <a:srgbClr val="bef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068480" y="2575080"/>
            <a:ext cx="685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2" name=""/>
          <p:cNvGrpSpPr/>
          <p:nvPr/>
        </p:nvGrpSpPr>
        <p:grpSpPr>
          <a:xfrm>
            <a:off x="1525680" y="2727360"/>
            <a:ext cx="1675800" cy="1294920"/>
            <a:chOff x="1525680" y="2727360"/>
            <a:chExt cx="1675800" cy="129492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1805040" y="2727360"/>
              <a:ext cx="1396440" cy="11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3"/>
            <a:stretch/>
          </p:blipFill>
          <p:spPr>
            <a:xfrm>
              <a:off x="1525680" y="2881080"/>
              <a:ext cx="1117440" cy="11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"/>
          <p:cNvSpPr/>
          <p:nvPr/>
        </p:nvSpPr>
        <p:spPr>
          <a:xfrm>
            <a:off x="6554880" y="4479840"/>
            <a:ext cx="2003400" cy="1828800"/>
          </a:xfrm>
          <a:prstGeom prst="rect">
            <a:avLst/>
          </a:prstGeom>
          <a:solidFill>
            <a:srgbClr val="bef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7116840" y="4684680"/>
            <a:ext cx="1066680" cy="747720"/>
          </a:xfrm>
          <a:prstGeom prst="rect">
            <a:avLst/>
          </a:prstGeom>
          <a:ln w="0">
            <a:noFill/>
          </a:ln>
        </p:spPr>
      </p:pic>
      <p:sp>
        <p:nvSpPr>
          <p:cNvPr id="357" name="Cloud"/>
          <p:cNvSpPr/>
          <p:nvPr/>
        </p:nvSpPr>
        <p:spPr>
          <a:xfrm>
            <a:off x="3963960" y="4556160"/>
            <a:ext cx="1752480" cy="1147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716080" y="526104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773360" y="4000680"/>
            <a:ext cx="0" cy="125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773000" y="5257800"/>
            <a:ext cx="225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9840" y="411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50200" y="5546880"/>
            <a:ext cx="198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S, Walgreen’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teAid,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18760" y="4983120"/>
            <a:ext cx="13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46e"/>
                </a:solidFill>
                <a:latin typeface="Arial"/>
              </a:rPr>
              <a:t>SureScri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38800" y="245592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CallDat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76120" y="20019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HMP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54560" y="129384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46e"/>
                </a:solidFill>
                <a:latin typeface="Arial"/>
              </a:rPr>
              <a:t>E: RxFILL / NoF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 rot="523800">
            <a:off x="1551600" y="2877120"/>
            <a:ext cx="2028600" cy="75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56" y="503"/>
                </a:moveTo>
                <a:arcTo wR="10800" hR="10800" stAng="-4347177" swAng="8794526"/>
                <a:lnTo>
                  <a:pt x="10800" y="10800"/>
                </a:lnTo>
                <a:close/>
              </a:path>
              <a:path fill="none" w="21600" h="21600">
                <a:moveTo>
                  <a:pt x="14056" y="503"/>
                </a:moveTo>
                <a:arcTo wR="10800" hR="10800" stAng="-4347177" swAng="8794526"/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90960" y="48625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80760" y="269064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u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Fill Al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12BB-3AC0-4DCB-947F-14315CB943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xFill / NoFILL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52849"/>
                </a:solidFill>
                <a:latin typeface="Arial"/>
              </a:rPr>
              <a:t>Presumed</a:t>
            </a: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 NoFill alert (no actual transaction)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Go-live 10/23; aborted ~10/28 (NDCs missing)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Intense workflow (and legal) planning, training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Go-live 10/31; aborted 11/29 (RxFILL mix-up)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Reared head w/ flood of false NoFill alerts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Reactivated 12/1 – but not “salvageable” at that point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Most of 9 practices not paying much attention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RxFill lacks interop w/ NewRx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No tracking number for closing the loop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D88B-D782-48AC-AB54-265A8A3359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EO eRx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</a:rPr>
              <a:t>eRx adoption, including “incumbent” transaction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60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Eligibility, Med Hx,NEWRX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</a:rPr>
              <a:t>Impact on workflow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</a:rPr>
              <a:t>Transaction intervention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60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Medication Hx, Fill Notification, Prior Auth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</a:rPr>
              <a:t>Impact on safety and utilization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35800" y="3313080"/>
            <a:ext cx="2608200" cy="35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7692-E51E-475A-A481-2F1642C89B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rot="16200000">
            <a:off x="-817920" y="3866040"/>
            <a:ext cx="4267080" cy="649080"/>
          </a:xfrm>
          <a:prstGeom prst="rect">
            <a:avLst/>
          </a:prstGeom>
          <a:solidFill>
            <a:srgbClr val="6d0b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dce"/>
                </a:solidFill>
                <a:latin typeface="Times New Roman"/>
              </a:rPr>
              <a:t>CLIN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72080" y="2057400"/>
            <a:ext cx="1908000" cy="4267080"/>
          </a:xfrm>
          <a:prstGeom prst="rect">
            <a:avLst/>
          </a:prstGeom>
          <a:solidFill>
            <a:srgbClr val="6d0b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dce"/>
                </a:solidFill>
                <a:latin typeface="Times New Roman"/>
              </a:rPr>
              <a:t>RxH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6222960" y="3885840"/>
            <a:ext cx="4267080" cy="609480"/>
          </a:xfrm>
          <a:prstGeom prst="rect">
            <a:avLst/>
          </a:prstGeom>
          <a:solidFill>
            <a:srgbClr val="6d0b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dce"/>
                </a:solidFill>
                <a:latin typeface="Times New Roman"/>
              </a:rPr>
              <a:t>PA 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638000" y="5334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72240" y="510552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6e"/>
                </a:solidFill>
                <a:latin typeface="Arial"/>
              </a:rPr>
              <a:t>278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87720" y="4648320"/>
            <a:ext cx="1447920" cy="914400"/>
          </a:xfrm>
          <a:prstGeom prst="ellipse">
            <a:avLst/>
          </a:prstGeom>
          <a:solidFill>
            <a:srgbClr val="fee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46e"/>
                </a:solidFill>
                <a:latin typeface="Arial"/>
              </a:rPr>
              <a:t>PA 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87720" y="3124080"/>
            <a:ext cx="1447920" cy="914400"/>
          </a:xfrm>
          <a:prstGeom prst="ellipse">
            <a:avLst/>
          </a:prstGeom>
          <a:solidFill>
            <a:srgbClr val="fee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46e"/>
                </a:solidFill>
                <a:latin typeface="Arial"/>
              </a:rPr>
              <a:t>PA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689080" y="4495680"/>
            <a:ext cx="2391120" cy="398520"/>
            <a:chOff x="5689080" y="4495680"/>
            <a:chExt cx="2391120" cy="398520"/>
          </a:xfrm>
        </p:grpSpPr>
        <p:sp>
          <p:nvSpPr>
            <p:cNvPr id="380" name=""/>
            <p:cNvSpPr/>
            <p:nvPr/>
          </p:nvSpPr>
          <p:spPr>
            <a:xfrm flipH="1">
              <a:off x="5689080" y="4699440"/>
              <a:ext cx="236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48200" y="4495680"/>
              <a:ext cx="223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 User Reviews Pending Reques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689440" y="5029200"/>
            <a:ext cx="2361960" cy="398520"/>
            <a:chOff x="5689440" y="5029200"/>
            <a:chExt cx="2361960" cy="398520"/>
          </a:xfrm>
        </p:grpSpPr>
        <p:sp>
          <p:nvSpPr>
            <p:cNvPr id="383" name=""/>
            <p:cNvSpPr/>
            <p:nvPr/>
          </p:nvSpPr>
          <p:spPr>
            <a:xfrm>
              <a:off x="5689440" y="525708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48200" y="5029200"/>
              <a:ext cx="197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46e"/>
                  </a:solidFill>
                  <a:latin typeface="Arial"/>
                </a:rPr>
                <a:t>PA User Initiates 278 Respon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638360" y="2895480"/>
            <a:ext cx="2133720" cy="244440"/>
            <a:chOff x="1638360" y="2895480"/>
            <a:chExt cx="2133720" cy="244440"/>
          </a:xfrm>
        </p:grpSpPr>
        <p:sp>
          <p:nvSpPr>
            <p:cNvPr id="386" name=""/>
            <p:cNvSpPr/>
            <p:nvPr/>
          </p:nvSpPr>
          <p:spPr>
            <a:xfrm>
              <a:off x="1638360" y="30420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62920" y="2895480"/>
              <a:ext cx="183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1790640" y="2819520"/>
            <a:ext cx="147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6e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246e"/>
                </a:solidFill>
                <a:latin typeface="Arial"/>
              </a:rPr>
              <a:t>278 &amp; 275 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6560" y="3352680"/>
            <a:ext cx="99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6e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246e"/>
                </a:solidFill>
                <a:latin typeface="Arial"/>
              </a:rPr>
              <a:t>Email Al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689440" y="3429000"/>
            <a:ext cx="2361960" cy="244440"/>
            <a:chOff x="5689440" y="3429000"/>
            <a:chExt cx="2361960" cy="244440"/>
          </a:xfrm>
        </p:grpSpPr>
        <p:sp>
          <p:nvSpPr>
            <p:cNvPr id="391" name=""/>
            <p:cNvSpPr/>
            <p:nvPr/>
          </p:nvSpPr>
          <p:spPr>
            <a:xfrm>
              <a:off x="5689440" y="358920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27320" y="3429000"/>
              <a:ext cx="183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89080" y="4495680"/>
            <a:ext cx="2391120" cy="398520"/>
            <a:chOff x="5689080" y="4495680"/>
            <a:chExt cx="2391120" cy="398520"/>
          </a:xfrm>
        </p:grpSpPr>
        <p:sp>
          <p:nvSpPr>
            <p:cNvPr id="394" name=""/>
            <p:cNvSpPr/>
            <p:nvPr/>
          </p:nvSpPr>
          <p:spPr>
            <a:xfrm flipH="1">
              <a:off x="5689080" y="4699440"/>
              <a:ext cx="236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48200" y="4495680"/>
              <a:ext cx="223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46e"/>
                  </a:solidFill>
                  <a:latin typeface="Arial"/>
                </a:rPr>
                <a:t>PA User Reviews Pending Reques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H="1">
            <a:off x="5689440" y="2336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77040" y="2133720"/>
            <a:ext cx="1072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6e"/>
                </a:solidFill>
                <a:latin typeface="Arial"/>
              </a:rPr>
              <a:t>PA Drug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638000" y="2362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247840" y="2133720"/>
            <a:ext cx="107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6e"/>
                </a:solidFill>
                <a:latin typeface="Arial"/>
              </a:rPr>
              <a:t>PA Drug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14320" y="1316160"/>
            <a:ext cx="60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46e"/>
                </a:solidFill>
                <a:latin typeface="Arial"/>
              </a:rPr>
              <a:t>Production test with Anthem 12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Prior Auth (X12 278 + 27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65AD-56C1-4761-9270-8F533BF094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or Authorization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Prior Authorization test with Anthem; “unsolicited model”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Prescriber sees drug-specific questions when drug is picked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Celebrex, Mobic, Lyrica, Provigil, Viagra, Nexium, Crestor, Vytorin 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Answer questions, submit and receive response via OnCallData</a:t>
            </a:r>
            <a:r>
              <a:rPr b="0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™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52849"/>
                </a:solidFill>
                <a:latin typeface="Arial"/>
                <a:ea typeface="Arial"/>
              </a:rPr>
              <a:t>PLUS</a:t>
            </a:r>
            <a:r>
              <a:rPr b="0" lang="en-US" sz="1600" spc="-1" strike="noStrike">
                <a:solidFill>
                  <a:srgbClr val="252849"/>
                </a:solidFill>
                <a:latin typeface="Arial"/>
                <a:ea typeface="Arial"/>
              </a:rPr>
              <a:t> parallel fax-based workflow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All UHMP non-pediatric practices, no training!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Live 12/10/06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30 transactions over 4 weeks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17 prescribers, 13 practices (25/30 by surrogates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Mean turnaround time for authorizations: 87 min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Highly valued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Main glitch: 12/30 were “repeats”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7044-631A-49BE-A2A2-348785A0EB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EO eRx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eRx adoption, including “incumbent” transaction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60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ligibility, NEWRX, Med Hx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mpact on workflow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Transaction intervention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60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edication Hx, Fill Notification, Prior Auth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n safety and utilization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7D72-5714-4A80-9405-2C88BB1F1A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fety and Drug Cost Analy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Data sources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Health plans (Anthem, Aetna, QualChoice, MMO = 48%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InstantDx / OnCallData</a:t>
            </a:r>
            <a:r>
              <a:rPr b="0" lang="en-US" sz="2000" spc="-1" strike="noStrike">
                <a:solidFill>
                  <a:srgbClr val="252849"/>
                </a:solidFill>
                <a:latin typeface="Arial"/>
                <a:ea typeface="Arial"/>
              </a:rPr>
              <a:t>™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  <a:ea typeface="Arial"/>
              </a:rPr>
              <a:t>Concept (UHMP’s practice management system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  <a:ea typeface="Arial"/>
              </a:rPr>
              <a:t>Intelligent Health Repository™ (WoltersKluwer) – 70% coverage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  <a:ea typeface="Arial"/>
              </a:rPr>
              <a:t>2.5 year data pull (1/1/04 </a:t>
            </a:r>
            <a:r>
              <a:rPr b="0" lang="en-US" sz="2400" spc="-1" strike="noStrike">
                <a:solidFill>
                  <a:srgbClr val="2528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52849"/>
                </a:solidFill>
                <a:latin typeface="Arial"/>
                <a:ea typeface="Arial"/>
              </a:rPr>
              <a:t> 6/30/06)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  <a:ea typeface="Arial"/>
              </a:rPr>
              <a:t>Concurrent and time series comparisons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  <a:ea typeface="Arial"/>
              </a:rPr>
              <a:t>Computerized outpatient adverse drug event monitor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  <a:ea typeface="Arial"/>
              </a:rPr>
              <a:t>Developed by Seger et. al.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ahrq.gov/downloads/pub/advances/vol2/Seger.pdf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08" name="">
            <a:hlinkClick r:id="rId1"/>
          </p:cNvPr>
          <p:cNvSpPr/>
          <p:nvPr/>
        </p:nvSpPr>
        <p:spPr>
          <a:xfrm>
            <a:off x="297000" y="1303200"/>
            <a:ext cx="8640720" cy="55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CB3A-3B48-494A-B043-1DD67A737C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Es by Practice Ty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54000" y="1519200"/>
            <a:ext cx="6458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s (and PADEs) by Practice Type, All Data Sources Comb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914400" y="2122560"/>
          <a:ext cx="6648480" cy="3367080"/>
        </p:xfrm>
        <a:graphic>
          <a:graphicData uri="http://schemas.openxmlformats.org/drawingml/2006/table">
            <a:tbl>
              <a:tblPr/>
              <a:tblGrid>
                <a:gridCol w="2195640"/>
                <a:gridCol w="1074600"/>
                <a:gridCol w="1065240"/>
                <a:gridCol w="2313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databases comb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ADE hi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ncount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ADE hi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DE/Total encount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HMP eRx physici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0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x physicians – P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1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%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x physicians- P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8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%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HMP physicians not eR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19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physici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ians not in a study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7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that could not be assigned to a study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38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70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218880" y="6398280"/>
            <a:ext cx="88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Difference between UHMP eRx PRE and POST is statistically significant (Chi-square = 4.990; p = .02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86A0-B81B-4159-B4C1-31441F75CC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E / PADE Trigger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23840" y="1854360"/>
          <a:ext cx="8912160" cy="3342960"/>
        </p:xfrm>
        <a:graphic>
          <a:graphicData uri="http://schemas.openxmlformats.org/drawingml/2006/table">
            <a:tbl>
              <a:tblPr/>
              <a:tblGrid>
                <a:gridCol w="1006560"/>
                <a:gridCol w="1226880"/>
                <a:gridCol w="1076400"/>
                <a:gridCol w="1603440"/>
                <a:gridCol w="1333440"/>
                <a:gridCol w="1287720"/>
                <a:gridCol w="13777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gge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gger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E / P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no. ADE hi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o./ 100,000 encounter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HMP eRx PRE no. ADE hits (no./100,000 encoun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HMP eRx POST no. ADE hits (no./100,000 encoun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s no. ADE hits (no./100,000 encoun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or More Dru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farin Toxi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(.03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.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.0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.1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gs/Mis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g/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837 (46.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62 (90.7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9 (67.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94 (343.5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DC9C-3E85-4678-B912-3F19B7F388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ult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ular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24360" y="1432080"/>
            <a:ext cx="34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s of Formulary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203560" y="1539720"/>
          <a:ext cx="429552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3560" y="1539720"/>
                    <a:ext cx="429552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EAF6-4885-4874-ABAA-231C6A69454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ult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eric Usag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0240" y="1364760"/>
            <a:ext cx="41180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533520" indent="-533520">
              <a:spcBef>
                <a:spcPts val="1125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Rates of generic utilization higher among Control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Rates of “dispense as written” same for both groups </a:t>
            </a:r>
            <a:r>
              <a:rPr b="0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~ 1% of all Rx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More patients of eRx physicians request brand name drug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Ohio law mandates generic substitution by pharmacist when available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53352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68920" y="1324080"/>
            <a:ext cx="30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s of Generic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4635360" y="1492200"/>
          <a:ext cx="411660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5360" y="1492200"/>
                    <a:ext cx="41166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973760" y="4278240"/>
          <a:ext cx="3929040" cy="22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3760" y="4278240"/>
                    <a:ext cx="392904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5272200" y="388476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. Requesting Brand Name D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B055-AF1D-4290-A811-0B75E2C76F9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ult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per Rx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90240" y="1364760"/>
            <a:ext cx="41180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533520" indent="-533520">
              <a:spcBef>
                <a:spcPts val="1125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Average cost per Rx was higher for eRx physician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However, the difference existed PRIOR to widespread adoption of eRX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Cost differences likely due to differences in patient severity or health plan payer mix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Could not be controlled for with data provided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668920" y="1432080"/>
            <a:ext cx="34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Cost / Pr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848120" y="1589040"/>
          <a:ext cx="429588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8120" y="1589040"/>
                    <a:ext cx="429588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0058-1800-4778-85C4-28911FA13FE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y: Adoption and Workfl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eRx w/ advanced transactional capabilities </a:t>
            </a:r>
            <a:r>
              <a:rPr b="0" i="1" lang="en-US" sz="2400" spc="-1" strike="noStrike">
                <a:solidFill>
                  <a:srgbClr val="252849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 be rapidly adopted by small, community-based practices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PMS integration, no license fee + small incentive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Large (&gt;2/3) dependence on surrogates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Implications for decision support and safety benefits unclear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Policy guidance? P4P?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Big impact on efficiency and communication channels, but…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Paper-based internal communication still predominate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Faxing is tough to beat re: overall resource requirement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Opportunity for additional efficiency with more pharmacy participation plus true e-messaging </a:t>
            </a:r>
            <a:r>
              <a:rPr b="0" i="1" lang="en-US" sz="1800" spc="-1" strike="noStrike">
                <a:solidFill>
                  <a:srgbClr val="252849"/>
                </a:solidFill>
                <a:latin typeface="Arial"/>
              </a:rPr>
              <a:t>within </a:t>
            </a: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the practice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Conventional wisdom challenged: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eRenewals drive adoption (?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Surrogates provide bridge to MD adoption (?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eRx is a stepping stone to a full EMR (?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6756-5909-4D32-8703-30AC6AC343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105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2600" y="52722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5280" y="5272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8320" y="5272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21360" y="52722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64040" y="5272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07440" y="52722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50480" y="52722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3160" y="52722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35840" y="5272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78160" y="52722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2280" y="52722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64960" y="52722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58800" y="69696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22800" y="566424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O eRX PROJECT TIMELIN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84880" y="218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27162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62960" y="26892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F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3160" y="28623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3097080"/>
            <a:ext cx="6858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51760" y="308772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23320" y="1395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43800" y="192888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85760" y="189072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 A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8447040" y="2082960"/>
            <a:ext cx="45720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23097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89840" y="23004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27720" y="304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48560" y="838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2000" y="78912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 Hx (ne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62960" y="969480"/>
            <a:ext cx="4572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008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6320" y="2457360"/>
            <a:ext cx="109692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94600" y="12096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00800" y="2540160"/>
            <a:ext cx="10936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0/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 H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3640" y="3809880"/>
            <a:ext cx="7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87920" y="4116240"/>
            <a:ext cx="158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55000" y="387504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86200" y="1550880"/>
            <a:ext cx="30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, Too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 Recruitment, I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6680" y="1857240"/>
            <a:ext cx="395424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51560" y="161604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200" y="200160"/>
            <a:ext cx="368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Plan Data Acquisition /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8501040" y="385920"/>
            <a:ext cx="45720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E682-3134-4A99-B88F-CC45BA6622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y: Standard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90240" y="1364760"/>
            <a:ext cx="8753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 fontScale="99000"/>
          </a:bodyPr>
          <a:p>
            <a:pPr marL="224640" indent="-22464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Eligibility checking works remarkably well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57200" indent="-23076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But users universally unaware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57200" indent="-23076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No human assessment of dual-eligibles or possible false+ MPI matches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57200" indent="-23076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Disappointing impact on formulary/cost but difficult to interpret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4640" indent="-22464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NEWRX workhorse – extremely important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57200" indent="-23076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Primary driver of </a:t>
            </a:r>
            <a:r>
              <a:rPr b="0" i="1" lang="en-US" sz="2000" spc="-1" strike="noStrike">
                <a:solidFill>
                  <a:srgbClr val="252849"/>
                </a:solidFill>
                <a:latin typeface="Arial"/>
              </a:rPr>
              <a:t>surrogate</a:t>
            </a: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 adoption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57200" indent="-23076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Persistent transmission reliability issues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2" marL="672480" indent="-213480"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Most problems due to human factors @ pharmacy?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224640" indent="-22464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Med Hx: Transaction is easy; workflow integration isn’t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4640" indent="-22464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NoFill clinically risky w/o true transaction; need order ID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4640" indent="-22464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Prior Auth: not fully tested; big hit for providers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4B19-1455-4B3F-B936-056652E6A7C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y: Safety and Cos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0240" y="1364760"/>
            <a:ext cx="8753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Novel application of low-cost computerized ADE / PADE detection methods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Safety methods need validation in ambulatory setting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Interpret both safety and cost results cautiously given matching issues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528A-58C5-4B17-B72F-5FEC2D3E087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6320" y="76320"/>
            <a:ext cx="685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f6e"/>
                </a:solidFill>
                <a:latin typeface="Arial"/>
                <a:ea typeface="Arial"/>
              </a:rPr>
              <a:t>UH Medical Practices (UHM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7320" y="5257800"/>
            <a:ext cx="785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5 physicians, 73 practices, 42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 prima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re; 27 speci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25 million office visits / 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1240" y="609480"/>
            <a:ext cx="265428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773A-585B-4D87-A064-63F167AC89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838080" y="1292400"/>
          <a:ext cx="8001000" cy="53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2400"/>
                    <a:ext cx="80010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r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Project eRx Adoption at UHM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40800" y="1538280"/>
            <a:ext cx="48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e-Rx / mo, 1/05 -&gt; 1/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1636-D50C-4285-8479-E0C8759FBD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57160" y="2139840"/>
            <a:ext cx="2365560" cy="2853000"/>
          </a:xfrm>
          <a:prstGeom prst="rect">
            <a:avLst/>
          </a:prstGeom>
          <a:solidFill>
            <a:srgbClr val="bef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4920" y="1671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99240" y="2139840"/>
            <a:ext cx="2060640" cy="2090880"/>
          </a:xfrm>
          <a:prstGeom prst="rect">
            <a:avLst/>
          </a:prstGeom>
          <a:solidFill>
            <a:srgbClr val="bef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299360" y="2357280"/>
            <a:ext cx="838080" cy="739440"/>
            <a:chOff x="7299360" y="2357280"/>
            <a:chExt cx="838080" cy="739440"/>
          </a:xfrm>
        </p:grpSpPr>
        <p:sp>
          <p:nvSpPr>
            <p:cNvPr id="157" name=""/>
            <p:cNvSpPr/>
            <p:nvPr/>
          </p:nvSpPr>
          <p:spPr>
            <a:xfrm>
              <a:off x="7299360" y="2836080"/>
              <a:ext cx="838080" cy="1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7299360" y="2357280"/>
              <a:ext cx="838080" cy="5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635960" y="2836080"/>
              <a:ext cx="1832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775560" y="3198960"/>
            <a:ext cx="194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co, Expre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emark, Anthem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nthem live as of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06280" y="16714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HMP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63720" y="2381400"/>
            <a:ext cx="685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1420920" y="2533680"/>
            <a:ext cx="1675800" cy="1294920"/>
            <a:chOff x="1420920" y="2533680"/>
            <a:chExt cx="1675800" cy="1294920"/>
          </a:xfrm>
        </p:grpSpPr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1700280" y="2533680"/>
              <a:ext cx="1396440" cy="11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1420920" y="2687400"/>
              <a:ext cx="1117440" cy="11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1634040" y="226224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CallDat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316400" y="2533680"/>
            <a:ext cx="1371240" cy="966600"/>
            <a:chOff x="4316400" y="2533680"/>
            <a:chExt cx="1371240" cy="966600"/>
          </a:xfrm>
        </p:grpSpPr>
        <p:sp>
          <p:nvSpPr>
            <p:cNvPr id="168" name="Cloud"/>
            <p:cNvSpPr/>
            <p:nvPr/>
          </p:nvSpPr>
          <p:spPr>
            <a:xfrm>
              <a:off x="4316400" y="2533680"/>
              <a:ext cx="1371240" cy="9666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71920" y="2874600"/>
              <a:ext cx="91692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46e"/>
                  </a:solidFill>
                  <a:latin typeface="Arial"/>
                </a:rPr>
                <a:t>Rx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0" name=""/>
          <p:cNvCxnSpPr>
            <a:endCxn id="168" idx="4"/>
          </p:cNvCxnSpPr>
          <p:nvPr/>
        </p:nvCxnSpPr>
        <p:spPr>
          <a:xfrm>
            <a:off x="2868120" y="2762280"/>
            <a:ext cx="1453320" cy="25596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19080">
            <a:solidFill>
              <a:srgbClr val="008000"/>
            </a:solidFill>
            <a:miter/>
            <a:tailEnd len="med" type="triangle" w="lg"/>
          </a:ln>
        </p:spPr>
      </p:cxnSp>
      <p:sp>
        <p:nvSpPr>
          <p:cNvPr id="171" name=""/>
          <p:cNvSpPr/>
          <p:nvPr/>
        </p:nvSpPr>
        <p:spPr>
          <a:xfrm>
            <a:off x="890640" y="5638680"/>
            <a:ext cx="764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oundation Standard: Eligibility (X12 270/27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CallDat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ends name, dob, zip, gender to RxHub, gets formulary identifier in return (informs formulary selection for that prescribing ses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/>
          <p:nvPr/>
        </p:nvCxnSpPr>
        <p:spPr>
          <a:xfrm flipV="1" rot="10800000">
            <a:off x="5685840" y="3152880"/>
            <a:ext cx="992880" cy="65520"/>
          </a:xfrm>
          <a:prstGeom prst="curvedConnector5">
            <a:avLst>
              <a:gd name="adj1" fmla="val 49909"/>
              <a:gd name="adj2" fmla="val 49723"/>
              <a:gd name="adj3" fmla="val 49909"/>
            </a:avLst>
          </a:prstGeom>
          <a:ln w="19080">
            <a:solidFill>
              <a:srgbClr val="008000"/>
            </a:solidFill>
            <a:miter/>
            <a:tailEnd len="med" type="triangle" w="lg"/>
          </a:ln>
        </p:spPr>
      </p:cxnSp>
      <p:cxnSp>
        <p:nvCxnSpPr>
          <p:cNvPr id="173" name=""/>
          <p:cNvCxnSpPr>
            <a:stCxn id="168" idx="5"/>
          </p:cNvCxnSpPr>
          <p:nvPr/>
        </p:nvCxnSpPr>
        <p:spPr>
          <a:xfrm flipV="1" rot="10800000">
            <a:off x="2715480" y="3016800"/>
            <a:ext cx="1605600" cy="251640"/>
          </a:xfrm>
          <a:prstGeom prst="curvedConnector5">
            <a:avLst>
              <a:gd name="adj1" fmla="val 50145"/>
              <a:gd name="adj2" fmla="val 50000"/>
              <a:gd name="adj3" fmla="val 50145"/>
            </a:avLst>
          </a:prstGeom>
          <a:ln w="19080">
            <a:solidFill>
              <a:srgbClr val="008000"/>
            </a:solidFill>
            <a:miter/>
            <a:tailEnd len="med" type="triangle" w="lg"/>
          </a:ln>
        </p:spPr>
      </p:cxnSp>
      <p:sp>
        <p:nvSpPr>
          <p:cNvPr id="174" name=""/>
          <p:cNvSpPr/>
          <p:nvPr/>
        </p:nvSpPr>
        <p:spPr>
          <a:xfrm>
            <a:off x="3173400" y="2457360"/>
            <a:ext cx="350532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54080" y="3905280"/>
            <a:ext cx="990720" cy="914400"/>
          </a:xfrm>
          <a:prstGeom prst="flowChartMagneticDisk">
            <a:avLst/>
          </a:prstGeom>
          <a:solidFill>
            <a:srgbClr val="0024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mu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3676680"/>
            <a:ext cx="0" cy="2286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/>
          <p:nvPr/>
        </p:nvCxnSpPr>
        <p:spPr>
          <a:xfrm>
            <a:off x="5535720" y="2685960"/>
            <a:ext cx="1146960" cy="332640"/>
          </a:xfrm>
          <a:prstGeom prst="curvedConnector5">
            <a:avLst>
              <a:gd name="adj1" fmla="val 49984"/>
              <a:gd name="adj2" fmla="val 49945"/>
              <a:gd name="adj3" fmla="val 49984"/>
            </a:avLst>
          </a:prstGeom>
          <a:ln w="19080">
            <a:solidFill>
              <a:srgbClr val="008000"/>
            </a:solidFill>
            <a:miter/>
            <a:tailEnd len="med" type="triangle" w="lg"/>
          </a:ln>
        </p:spPr>
      </p:cxnSp>
      <p:sp>
        <p:nvSpPr>
          <p:cNvPr id="178" name=""/>
          <p:cNvSpPr/>
          <p:nvPr/>
        </p:nvSpPr>
        <p:spPr>
          <a:xfrm>
            <a:off x="3173400" y="2457360"/>
            <a:ext cx="350532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096720" y="3600360"/>
            <a:ext cx="358164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84760" y="212256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270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96560" y="36180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271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68680" y="3562200"/>
            <a:ext cx="377640" cy="39528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900" spc="-1" strike="noStrike">
                <a:solidFill>
                  <a:srgbClr val="25284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487600" y="3657240"/>
            <a:ext cx="0" cy="2286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47880" y="5060880"/>
            <a:ext cx="743904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 ’06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6K + responses / 300K checks (~59% hit r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6120" y="189000"/>
            <a:ext cx="87026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igibility Checking (All UHM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DFE3-082E-4844-85E6-7A0F882C44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85960" y="2276640"/>
            <a:ext cx="7989840" cy="620640"/>
          </a:xfrm>
          <a:prstGeom prst="rect">
            <a:avLst/>
          </a:prstGeom>
          <a:solidFill>
            <a:srgbClr val="f0f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xHub MPI Coverage in NE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76240" y="1460520"/>
          <a:ext cx="8013600" cy="5059440"/>
        </p:xfrm>
        <a:graphic>
          <a:graphicData uri="http://schemas.openxmlformats.org/drawingml/2006/table">
            <a:tbl>
              <a:tblPr/>
              <a:tblGrid>
                <a:gridCol w="3359160"/>
                <a:gridCol w="803160"/>
                <a:gridCol w="1414800"/>
                <a:gridCol w="1617480"/>
                <a:gridCol w="81900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252849"/>
                          </a:solidFill>
                          <a:uFillTx/>
                          <a:latin typeface="Arial"/>
                          <a:ea typeface="Arial"/>
                        </a:rPr>
                        <a:t>MSA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252849"/>
                          </a:solidFill>
                          <a:uFillTx/>
                          <a:latin typeface="Arial"/>
                          <a:ea typeface="Arial"/>
                        </a:rPr>
                        <a:t>ST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252849"/>
                          </a:solidFill>
                          <a:uFillTx/>
                          <a:latin typeface="Arial"/>
                          <a:ea typeface="Arial"/>
                        </a:rPr>
                        <a:t>      </a:t>
                      </a:r>
                      <a:r>
                        <a:rPr b="0" lang="en-US" sz="1000" spc="-1" strike="noStrike" u="sng">
                          <a:solidFill>
                            <a:srgbClr val="252849"/>
                          </a:solidFill>
                          <a:uFillTx/>
                          <a:latin typeface="Arial"/>
                          <a:ea typeface="Arial"/>
                        </a:rPr>
                        <a:t>Popul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252849"/>
                          </a:solidFill>
                          <a:uFillTx/>
                          <a:latin typeface="Arial"/>
                          <a:ea typeface="Arial"/>
                        </a:rPr>
                        <a:t>       </a:t>
                      </a:r>
                      <a:r>
                        <a:rPr b="0" lang="en-US" sz="1000" spc="-1" strike="noStrike" u="sng">
                          <a:solidFill>
                            <a:srgbClr val="252849"/>
                          </a:solidFill>
                          <a:uFillTx/>
                          <a:latin typeface="Arial"/>
                          <a:ea typeface="Arial"/>
                        </a:rPr>
                        <a:t>Total_Liv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252849"/>
                          </a:solidFill>
                          <a:uFillTx/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000" spc="-1" strike="noStrike" u="sng">
                          <a:solidFill>
                            <a:srgbClr val="252849"/>
                          </a:solidFill>
                          <a:uFillTx/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Canton-Massillon, 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401,16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216,9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4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Cincinnati-Hamilton, OH-KY-IN C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1,556,1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741,59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47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Cleveland-Akron, OH CM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 </a:t>
                      </a:r>
                      <a:r>
                        <a:rPr b="1" lang="en-US" sz="14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2,947,1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</a:t>
                      </a:r>
                      <a:r>
                        <a:rPr b="1" lang="en-US" sz="14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1,851,2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6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Columbus, 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1,540,59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996,3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64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Dayton-Springfield, 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954,2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33,12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5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Huntington-Ashland, WV-KY-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62,0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32,3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Lima, 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161,4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89,02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5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Mansfield, 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179,99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99,66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5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Parkersburg-Marietta, WV-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64,51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32,7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RURAL OH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2,136,2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1,164,74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4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Steubenville-Weirton, OH-WV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76,71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41,0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3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Toledo, 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614,64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432,02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7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Wheeling, WV-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68,6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42,07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6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Youngstown-Warren, 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89,52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304,68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11,353,00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6,577,5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7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6A72-0F9D-44DB-8962-B2B6BD3070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gibility Checking (RxHub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90600" y="1257480"/>
          <a:ext cx="8394480" cy="5446440"/>
        </p:xfrm>
        <a:graphic>
          <a:graphicData uri="http://schemas.openxmlformats.org/drawingml/2006/table">
            <a:tbl>
              <a:tblPr/>
              <a:tblGrid>
                <a:gridCol w="2460600"/>
                <a:gridCol w="1977840"/>
                <a:gridCol w="1978200"/>
                <a:gridCol w="19778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Eligibility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Che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Positiv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Respo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Percent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Pos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7,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9,3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1,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5,5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5,7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3,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4,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7,4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6,3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5,4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4,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Ju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4,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4,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Aug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7,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5,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6,3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4,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0,4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6,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9,7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6,3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9,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7,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99,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75,6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D97B-1388-45D0-A447-3BE445905F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3:56:55Z</dcterms:created>
  <dc:creator>Bob Elson, MD, MS</dc:creator>
  <dc:description/>
  <dc:language>en-US</dc:language>
  <cp:lastModifiedBy>User</cp:lastModifiedBy>
  <dcterms:modified xsi:type="dcterms:W3CDTF">2003-07-03T00:23:16Z</dcterms:modified>
  <cp:revision>655</cp:revision>
  <dc:subject>For UHMP</dc:subject>
  <dc:title>NEO CMS eRx Project Update</dc:title>
</cp:coreProperties>
</file>