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2A2AD-5373-499C-977A-42DD1B508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79E28-79A8-4243-80BB-05AFD423D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770E5-AC9F-40A3-BB24-683B41E63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8259C-0C63-44E8-825A-3742942FF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83660-A016-425A-8102-88711D26E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704FF-FA3D-47D3-9956-48C21C332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1C426-DEF8-482B-B4FB-8743822DD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20BDE-0BA6-48B4-A49A-2588076E6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337C0-A0BC-4392-9CC5-97B0A8930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E4DE9-96D9-488B-A151-E4DC1A3FA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CC38B-0771-4C4C-9E8D-A1F6054D2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3DCAA-C1FB-45F0-A4C6-26997C45B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1FDAB-782F-4EA8-BE12-309713382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FFF6C-72F5-4120-B824-0F10CAA07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F7EB4-919D-4F16-AA14-DE3404495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AC19B-3106-4A33-8C20-71ACDFC65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A91E7-6E93-4E8D-A123-C02F4C608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62200-6BB1-4930-8E34-C59A6E8BC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41412-E602-4D2A-A44D-2D3DD173A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4B098-532B-4028-A791-07131E1A3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93343-2003-4D0F-956F-76FC2A834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D26E3-32E9-44E4-ADE9-A244B2E48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D953E-9648-491D-89EC-04692435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61023-E88A-49C3-80E7-D2234B30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EAF32-B841-48B8-9A80-D8C54F234DF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E7E9F-0BEA-4105-BB26-29E65827DBF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7848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ducing Waste and Improving Health Care Processes Through the Application of Lea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37720" y="2743200"/>
            <a:ext cx="76964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Sheri Eisert, PhD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Associate Professor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University of Colorado Health Sciences Center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Director of Health Services Research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Denver Health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9/27/07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AHRQ Annual Conference:  Improving Health Care, Improving Live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This project was supported by the Agency for Healthcare Research and Quality under IDSRN Contract No. 290-00-0014,TO #11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1789B-857A-49F4-B966-31CFEFCF283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Next Step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pand knowledge transfer to Healthcare Lean Education Institut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tinue implementing RIEs, while improving defining scope of process improvement  and metric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tinue monitoring impact at the 3 level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 articles under peer-review and national and regional presentatio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9681B-B62B-4B47-B2AF-8191BBD071D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urpose of Lean Implement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tinued rise in health care costs and uninsure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duction and uncertainty in health care resourc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orkforce shortag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eed to improve patient safety/qualit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ilos of care and communicati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most every health care process includes non-value added activiti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an philosophy and tools can be readily understood by all employee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Was driven by healthcare system leadership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FE4E0-A722-4E8C-BEA7-BC19FC4B434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cope of Lean Implement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lace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Denver Health, an Integrated Safety Net Healthcare Syst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- 500 Bed Hospit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8 Community Health Cen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ver 4,000 Employe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imeframe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June 2005: Pilot in O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ctober 2005: 5 Systems Area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June 2007:  14 System Area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CA573-289D-4787-A77E-5861194275B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Lean Implemented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xecutive Staff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ssigned to system areas or value stream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ean Facilitator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ssigned to value streams (3 FTE then 8 FTE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50 mid manager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nd clinical personnel Lean trained as “Lean Belts”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rojects identified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by mapping the flow of a value stream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Rapid Improvement Events (RIEs),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where teams of 6-8 people map scope of process, eliminate waste in process and pilot new process during this week long event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BCF76-7153-4BD2-AD93-D6DEEF2275D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Impact of Lean Evaluated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ree levels of metric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.  System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-readily available such as Net Revenue, Employee Turnover, Medication Errors, Patient Satisfaction, Patient Volum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2.  Value Steam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-related to healthcare system area such as divert rate for the hospital, clinic visit cycle time for outpatient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3.  RIE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-specifically identified for a particular process such as reduced patient waiting time in surgery clinic, decrease in the amount of time from patient discharge to bed cleaned and reduction in OR overtim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56C6A-FF0C-40FE-B3D4-C3833BB2B5C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Results of Lean Implementation:  From October 2005 –July 2007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94 RIEs implement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95 employees participat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$8.1 million in reduced costs/increased revenue ($3.5m in 2006,  $4.6m in 2007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amples of improved quality of car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abetic Foot Exams: 14% to 24%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covery Time:  210 minutes to 134 minu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tibiotic within 60 minutes of incision:  80% to 90%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29806-92A1-4ADD-9B1B-C72B9A60D0B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usiness Case Consider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ounting for indirect implementation costs such as the opportunity cost of employee time in RIEs, Executive staff time, data analysi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trolling for outside market and regulatory factors that may impact metric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turn may not be realized until a year into implementa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ing waste and improving quality of car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A4636-97D9-4229-8C05-DBEC737FC5A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essons Learne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ecessary to implement many projects for their to be a tipping poin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dentifying and defining metrics linked to process change is challenge for operational staff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mportant to establish infrastructure for evaluation with system redesig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Quantitative evaluation not rigorous research –lack of controls and randomizati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hysician participation a challeng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an tools needed to be adapted to the healthcare environmen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081A9-6EBC-48FB-BA88-4A319B8E303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Knowledge Transfe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an in Healthcare National conference targeting safety-nets supported by AHRQ small conference grant (2005-06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rticipation in Lean activities by Denver City Government and Denver University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ite visits by Commonwealth Fund and Singapore Government Official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rtnership with DH, consultant and NYCHHC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esentations at IHI, NAPH and locall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ublications in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Industrial Engineer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d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Academic Medicin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905CA-C7EA-4EA4-9D19-C8F225DA119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16:38:44Z</dcterms:created>
  <dc:creator>Denver Health</dc:creator>
  <dc:description/>
  <dc:language>en-US</dc:language>
  <cp:lastModifiedBy>Denver Health</cp:lastModifiedBy>
  <dcterms:modified xsi:type="dcterms:W3CDTF">2007-09-24T17:01:03Z</dcterms:modified>
  <cp:revision>28</cp:revision>
  <dc:subject/>
  <dc:title>Reducing Waste and Improving Health Care Processes Through the Application of Lean</dc:title>
</cp:coreProperties>
</file>