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CD4D-884F-4EB7-8CB7-C57A2643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FD19-0E2C-4792-8A71-3EC3A99B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EBE3-0E89-4879-9900-2F6E1373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A96A-AB48-4682-AF08-C4B19BAE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C760-999F-4749-9090-C5674D11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1B99-6E64-457F-9404-D3A1BD56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E6D-3D06-4916-A813-B5BB96C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435-A7CB-457A-B127-01F5175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7107-49E6-47E5-8735-89408E01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2C15-9AF4-45C2-BF01-9E72973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5249-0CDB-44D4-94E5-2173178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6F9F-C42F-4347-81EE-988C58FC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318F-CBE4-490A-BE06-5332B6B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360B-1866-42A7-A309-ACBFF3B2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A546-8D05-4B06-926F-D4F62B8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AF1F-F4D2-4BF7-B5D0-CAA00860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3F4D-20D0-4883-947F-8E0DA963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B24F-8F1D-4FB2-B353-C07415CB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331A-027F-44DB-B9E2-E8420F65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A661-0B73-4D59-99E8-611BF431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2B4A-5A29-403C-8228-0D2C0C6D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5647-9509-4B54-B1C6-8E3ED41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6884-182F-42EA-8DFD-087F238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757F-815D-4248-80CA-331239D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F08C-5908-4BCB-8740-EC85DE5695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3726-F5BB-491A-8236-25C1DCCF5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ducing Waste and Improving Health Care Processes Through the Application of Le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27432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heri Eisert, Ph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ssociate Profess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niversity of Colorado Health Sciences Cente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irector of Health Services Research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enver Health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9/27/07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HRQ Annual Conference:  Improving Health Care, Improving Liv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This project was supported by the Agency for Healthcare Research and Quality under IDSRN Contract No. 290-00-0014,TO #11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7CFD-8B75-4A7C-B39E-B3E23F9F72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St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d knowledge transfer to Healthcare Lean Education Institu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 implementing RIEs, while improving defining scope of process improvement  and metr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 monitoring impact at the 3 lev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articles under peer-review and national and regional present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3C60-0E04-4CD1-B7EE-A5110BBA55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rpose of Lean 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rise in health care costs and uninsur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tion and uncertainty in health care resour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force shortag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to improve patient safety/qua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los of care and communic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most every health care process includes non-value added activ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n philosophy and tools can be readily understood by all employe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s driven by healthcare system leadershi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14B2-03FE-4F8A-A77D-A0DA369DF4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ope of Lean 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c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Denver Health, an Integrated Safety Net Healthcar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 500 Bed Hospi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 Community Health Cen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4,000 Employ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imefram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2005: Pilot in 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tober 2005: 5 Systems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2007:  14 System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B79F-BD35-4F43-B5EC-F07C8CB201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Lean Implemente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ecutive Staf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signed to system areas or value strea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n Facilita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signed to value streams (3 FTE then 8 FT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0 mid manag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clinical personnel Lean trained as “Lean Belts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jects identifi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mapping the flow of a value stre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apid Improvement Events (RIEs)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re teams of 6-8 people map scope of process, eliminate waste in process and pilot new process during this week long ev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57D8-FCAE-4F65-875C-41FC3FD61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Impact of Lean Evaluate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levels of metr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 Syst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readily available such as Net Revenue, Employee Turnover, Medication Errors, Patient Satisfaction, Patient Volu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 Value Stea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related to healthcare system area such as divert rate for the hospital, clinic visit cycle time for outpati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 RI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specifically identified for a particular process such as reduced patient waiting time in surgery clinic, decrease in the amount of time from patient discharge to bed cleaned and reduction in OR overti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975D-083A-41D9-912E-B984ED7019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sults of Lean Implementation:  From October 2005 –July 200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4 RIEs implemen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95 employees particip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$8.1 million in reduced costs/increased revenue ($3.5m in 2006,  $4.6m in 2007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 of improved quality of c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betic Foot Exams: 14% to 24%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very Time:  210 minutes to 13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biotic within 60 minutes of incision:  80% to 9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992F-FEFB-4E84-AF32-4561CC919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siness Case Consid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ounting for indirect implementation costs such as the opportunity cost of employee time in RIEs, Executive staff time, data analy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ling for outside market and regulatory factors that may impact metr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urn may not be realized until a year into implement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ing waste and improving quality of c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09C1-7DFD-40F6-988E-6DDDB0267B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sons Learn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cessary to implement many projects for their to be a tipping poi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ing and defining metrics linked to process change is challenge for operational sta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ant to establish infrastructure for evaluation with system rede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ntitative evaluation not rigorous research –lack of controls and random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ysician participation a challen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n tools needed to be adapted to the healthcare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77FB-DC52-437F-9230-F2868D7E0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nowledge Transf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n in Healthcare National conference targeting safety-nets supported by AHRQ small conference grant (2005-0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tion in Lean activities by Denver City Government and Denver Universi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te visits by Commonwealth Fund and Singapore Government Offici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nership with DH, consultant and NYCHH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ations at IHI, NAPH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ations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dustrial Enginee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cademic Medi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0093-F26F-4F66-A40A-B3E7D6CF7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6:38:44Z</dcterms:created>
  <dc:creator>Denver Health</dc:creator>
  <dc:description/>
  <dc:language>en-US</dc:language>
  <cp:lastModifiedBy>Denver Health</cp:lastModifiedBy>
  <dcterms:modified xsi:type="dcterms:W3CDTF">2007-09-24T17:01:03Z</dcterms:modified>
  <cp:revision>28</cp:revision>
  <dc:subject/>
  <dc:title>Reducing Waste and Improving Health Care Processes Through the Application of Lean</dc:title>
</cp:coreProperties>
</file>