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5B7A-CE9C-4EFC-BCC3-E639F6087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6E30-55B2-4662-9689-C7C53F68A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ul suggested change to “Impact” from “benefits”, because more neutr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ed to give information on what the experimental design is. E.g., X intervention, Y control, how controlled. Point out that did intra and inter clinic control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FD7-C678-41E7-97D1-2E7B2432F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suggested change to “Impact” from “benefits”, because more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give information on what the experimental design is. E.g., X intervention, Y control, how controlled. Point out that did intra and inter clinic contr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39E-CDD3-46B9-9401-AD0E0055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fference in process and control, but there was in a difference in death, hospitalized, an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ed flow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EE06-AA8C-43B0-8343-5E80D945F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tracking database - focusing on the care management diagnoses, encounters, and protocols (mental health displayed over time, with risk of suicide and depression decreasing with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. Smith knows there are a number of guidelines that appl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at they might exclude Ms. Viera or guidelines conflict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r cognitive abilities may limit the complexity of medication regimens or cause safety concerns about potential side effe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orities must b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example, treatment with a diuretic such as chlorthalidone and a beta-blocker, while recommended for hypertension, may potentiate hyperglycemia from her diab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F6CC-F3E9-48FD-93B4-48CDAF871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49C9-09B7-45EA-A6C9-44118A32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50EE-51BE-4A52-8EA4-0BD4472C3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A9CD-6A3A-4379-9579-6BBC83694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150480"/>
            <a:ext cx="822960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01BF-6C68-4C83-A7BA-B73EF559A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11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3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11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3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E332-8166-4192-BC18-B81AC2361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DBB7-6F9D-4E7B-8BF2-C4E6707D5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B656-471C-4B36-AAE8-5535A3C3B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150480"/>
            <a:ext cx="822960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FC78-B194-49D1-8400-C9D02D7E2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0A0A-F25E-424C-9302-74D3D604D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B72E-E97F-4C3A-8E2A-4DF5A5717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5239F-FD33-4EA6-B263-C10D97401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8400" y="6270120"/>
            <a:ext cx="360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195800" y="6270120"/>
            <a:ext cx="752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3274-1C19-4F26-AAC9-D7B71B134290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4114440"/>
            <a:ext cx="6856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38098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dressing Problems in Care Coordination: Experience of Care Management Pl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5484960"/>
            <a:ext cx="6856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ed by: David A. Dorr, for the Care Management Plus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6477120"/>
            <a:ext cx="441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ate: Sept 27</a:t>
            </a:r>
            <a:r>
              <a:rPr b="1" lang="en-US" sz="15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798480"/>
            <a:ext cx="29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ded by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A. Hartford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development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ountai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to start funding from AHRQ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29998" t="24148" r="19686" b="6037"/>
          <a:stretch/>
        </p:blipFill>
        <p:spPr>
          <a:xfrm>
            <a:off x="3111480" y="0"/>
            <a:ext cx="6032520" cy="6502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28600"/>
            <a:ext cx="30258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tient 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-12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76720"/>
            <a:ext cx="5105520" cy="91440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2743200"/>
            <a:ext cx="510552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ve car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295280"/>
            <a:ext cx="5105520" cy="428760"/>
          </a:xfrm>
          <a:prstGeom prst="rect">
            <a:avLst/>
          </a:prstGeom>
          <a:solidFill>
            <a:srgbClr val="ccffff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838080"/>
            <a:ext cx="5105520" cy="3049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4343400"/>
            <a:ext cx="510552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inent 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5181480"/>
            <a:ext cx="5105520" cy="12956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 rem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by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19720"/>
            <a:ext cx="23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cox, Proc of AMIA Symp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1905120"/>
            <a:ext cx="5105520" cy="22860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2286000"/>
            <a:ext cx="5105520" cy="304920"/>
          </a:xfrm>
          <a:prstGeom prst="rect">
            <a:avLst/>
          </a:prstGeom>
          <a:solidFill>
            <a:srgbClr val="ccff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0" y="0"/>
          <a:ext cx="6108840" cy="78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10884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422440" y="4003560"/>
            <a:ext cx="56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4006800"/>
            <a:ext cx="329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6859440"/>
            <a:ext cx="329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4952880"/>
            <a:ext cx="0" cy="54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006800"/>
            <a:ext cx="0" cy="9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66120" y="4006800"/>
            <a:ext cx="0" cy="94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98880" y="4006800"/>
            <a:ext cx="183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499000"/>
            <a:ext cx="0" cy="1360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0920" y="4006800"/>
            <a:ext cx="173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66120" y="4952880"/>
            <a:ext cx="0" cy="546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66120" y="5499000"/>
            <a:ext cx="0" cy="679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0920" y="6859440"/>
            <a:ext cx="1735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8880" y="6859440"/>
            <a:ext cx="1832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66120" y="6178680"/>
            <a:ext cx="0" cy="680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72200" y="1447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pulati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ickle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was the effect of CMP on patient outcomes?</a:t>
            </a:r>
            <a:br>
              <a:rPr sz="2600"/>
            </a:br>
            <a:br>
              <a:rPr sz="26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ospective co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of care managed (CM) patients (7 clinics) with patients from similar clinics w/out care managers (n=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 patients matched to controls on key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, disease control, death,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Guideline Adherence in Diabetes: Resul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1828800"/>
          <a:ext cx="8229240" cy="3366720"/>
        </p:xfrm>
        <a:graphic>
          <a:graphicData uri="http://schemas.openxmlformats.org/drawingml/2006/table">
            <a:tbl>
              <a:tblPr/>
              <a:tblGrid>
                <a:gridCol w="5486040"/>
                <a:gridCol w="274320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ds Rat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66"/>
                      </a:solidFill>
                    </a:lnT>
                    <a:lnB w="18720">
                      <a:solidFill>
                        <a:srgbClr val="ffff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due for HbA1c t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bA1c Test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2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1800">
                <a:tc>
                  <a:txBody>
                    <a:bodyPr lIns="18288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bA1c in control (&lt;7.0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4</a:t>
                      </a:r>
                      <a:r>
                        <a:rPr b="0" lang="en-US" sz="3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*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085760" y="563868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&lt;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68320" y="613260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HSR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dds of dying were reduced significant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609480"/>
          <a:ext cx="571500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57150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581280" y="3209760"/>
          <a:ext cx="5562720" cy="3648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09760"/>
                    <a:ext cx="55627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-85680" y="5599080"/>
            <a:ext cx="35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AcademyHealth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224000" y="2205000"/>
          <a:ext cx="77706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2205000"/>
                    <a:ext cx="77706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Odds of admission (any cause) were reduced by 27-40% for patients with complex diabet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3352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=0.65; p=0.0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=0.56; p=0.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Plus has other benefits… quality and efficien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primary care gro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an improve efficiency through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self-management / empower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clinical processes from complex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the care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patients and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exacerbations = lower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40" y="632448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AJMC, 2007; Dorr, AcademyHealth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blems in creating Care Coordin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762120"/>
          <a:ext cx="8229600" cy="5240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 exper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xt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tion success diff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accurate prescrib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age’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semination and fide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imburs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aligned incen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ughtful re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Neutr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es by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cus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1280" y="150480"/>
            <a:ext cx="871236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Variability of results across programs and population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05920" cy="41259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7840" y="5294160"/>
            <a:ext cx="81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Management Plus has similar issues across populations: specific benefits are tied to specific popu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0" y="6208560"/>
            <a:ext cx="743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e Medicare Coordination of Care Demos, 2 year Summary Report, March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2007; available from cm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liability: Lack of a framework for describing differe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191120" y="1600200"/>
          <a:ext cx="4952880" cy="4856040"/>
        </p:xfrm>
        <a:graphic>
          <a:graphicData uri="http://schemas.openxmlformats.org/drawingml/2006/table">
            <a:tbl>
              <a:tblPr/>
              <a:tblGrid>
                <a:gridCol w="2949480"/>
                <a:gridCol w="2003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ervice catego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 pati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,8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Following evidence-based protoc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955 (56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General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808 (2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789 (2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Motivating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43 (27.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ocial issues / barr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,221 (35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4497480" y="649116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JGIM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93080" y="114300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what a patient actually receives (‘dosage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600200"/>
          <a:ext cx="3809880" cy="4723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&amp; Assess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Develop the Care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 with All Relevant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and Adju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e Health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070280" y="10666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program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Care Management Plus Tea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H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Dorr, MD, 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 John McConnell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li Rad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ountain Health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rie Brunker, 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m Wilcox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9160" y="1828440"/>
            <a:ext cx="403884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isor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Bodenhe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ry Casal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ic Colem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ryl Schrae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ther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imbursement and Cost Neutral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760" y="1828800"/>
          <a:ext cx="8334360" cy="4297320"/>
        </p:xfrm>
        <a:graphic>
          <a:graphicData uri="http://schemas.openxmlformats.org/drawingml/2006/table">
            <a:tbl>
              <a:tblPr/>
              <a:tblGrid>
                <a:gridCol w="2778120"/>
                <a:gridCol w="2778120"/>
                <a:gridCol w="277812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crease in expendit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ith cos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 Coord C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P – complex diabe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P - ot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-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-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teps to Implementation – JAHF funded dissemination grant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5200" y="1519200"/>
            <a:ext cx="18385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email, phone call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erence meet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1160" y="2552760"/>
            <a:ext cx="185256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In person visit 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ne vis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7440" y="2552760"/>
            <a:ext cx="182880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fill out as much as possib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71840" y="3591000"/>
            <a:ext cx="1814400" cy="9144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lan f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Review Read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ess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 assess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7440" y="4800600"/>
            <a:ext cx="18622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Hire a Car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Sign a contr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Register for 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48120" y="4510080"/>
            <a:ext cx="16099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days in per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weeks online/dis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5486400"/>
            <a:ext cx="158112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00920" y="4662360"/>
            <a:ext cx="1828800" cy="137160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ementation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Continued follow-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Evaluation (succes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, barriers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lementation, et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00240" y="23097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62480" y="3343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5600" y="45338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43480" y="51912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14840" y="4886280"/>
            <a:ext cx="1440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29240" y="49006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9240" y="5862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58040" y="4886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58863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86640" y="52149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86640" y="48862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71880" y="290520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P Cont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Dorr (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rd@ohsu.ed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3.418.23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lli Radican (Project manag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nk@ohsu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3.494.256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visit www.caremanagementplu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varies by intensity and function for different populations and need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092320" y="1447560"/>
            <a:ext cx="5187600" cy="4491720"/>
            <a:chOff x="2092320" y="1447560"/>
            <a:chExt cx="5187600" cy="4491720"/>
          </a:xfrm>
        </p:grpSpPr>
        <p:sp>
          <p:nvSpPr>
            <p:cNvPr id="213" name="_s64517"/>
            <p:cNvSpPr/>
            <p:nvPr/>
          </p:nvSpPr>
          <p:spPr>
            <a:xfrm flipV="1">
              <a:off x="3821400" y="1447200"/>
              <a:ext cx="1729440" cy="1497600"/>
            </a:xfrm>
            <a:custGeom>
              <a:avLst/>
              <a:gdLst>
                <a:gd name="textAreaLeft" fmla="*/ 620640 w 1729440"/>
                <a:gd name="textAreaRight" fmla="*/ 1108800 w 1729440"/>
                <a:gd name="textAreaTop" fmla="*/ 537120 h 1497600"/>
                <a:gd name="textAreaBottom" fmla="*/ 960480 h 14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st int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.g., Homeles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izophrenia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64518"/>
            <p:cNvSpPr/>
            <p:nvPr/>
          </p:nvSpPr>
          <p:spPr>
            <a:xfrm flipV="1">
              <a:off x="2956680" y="2944440"/>
              <a:ext cx="3458880" cy="1497240"/>
            </a:xfrm>
            <a:custGeom>
              <a:avLst/>
              <a:gdLst>
                <a:gd name="textAreaLeft" fmla="*/ 760680 w 3458880"/>
                <a:gd name="textAreaRight" fmla="*/ 2698200 w 3458880"/>
                <a:gd name="textAreaTop" fmla="*/ 329040 h 1497240"/>
                <a:gd name="textAreaBottom" fmla="*/ 1168200 h 149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lex ill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 chronic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issues (cognitive, frail elderly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cial, financ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4519"/>
            <p:cNvSpPr/>
            <p:nvPr/>
          </p:nvSpPr>
          <p:spPr>
            <a:xfrm flipV="1">
              <a:off x="2092320" y="4443120"/>
              <a:ext cx="5187600" cy="1496160"/>
            </a:xfrm>
            <a:custGeom>
              <a:avLst/>
              <a:gdLst>
                <a:gd name="textAreaLeft" fmla="*/ 900360 w 5187600"/>
                <a:gd name="textAreaRight" fmla="*/ 4287240 w 5187600"/>
                <a:gd name="textAreaTop" fmla="*/ 259560 h 1496160"/>
                <a:gd name="textAreaBottom" fmla="*/ 1236600 h 14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ld-moder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-compensated multiple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ngle disea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638680" y="151920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 1%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load 15-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29671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-5% of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load 90-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62920" y="449100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 of p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~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890800"/>
            <a:ext cx="380880" cy="1523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63360 h 1523880"/>
              <a:gd name="textAreaBottom" fmla="*/ 146052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re Management Plu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aseload 250-3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88680" y="150480"/>
            <a:ext cx="61722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Description as ‘dosage’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897" t="32150" r="28987" b="11144"/>
          <a:stretch/>
        </p:blipFill>
        <p:spPr>
          <a:xfrm>
            <a:off x="152280" y="198108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41360" y="2246400"/>
            <a:ext cx="28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moxicillin 500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One pill po q6hrs x 7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ispense #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1800" y="995400"/>
            <a:ext cx="1536480" cy="914400"/>
          </a:xfrm>
          <a:prstGeom prst="borderCallout1">
            <a:avLst>
              <a:gd name="adj1" fmla="val -1071"/>
              <a:gd name="adj2" fmla="val 30600"/>
              <a:gd name="adj3" fmla="val -1071"/>
              <a:gd name="adj4" fmla="val 2700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drugs =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1943280"/>
            <a:ext cx="1307880" cy="361800"/>
          </a:xfrm>
          <a:prstGeom prst="borderCallout1">
            <a:avLst>
              <a:gd name="adj1" fmla="val -10433"/>
              <a:gd name="adj2" fmla="val 26147"/>
              <a:gd name="adj3" fmla="val 19713"/>
              <a:gd name="adj4" fmla="val 261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2819520"/>
            <a:ext cx="1307880" cy="361800"/>
          </a:xfrm>
          <a:prstGeom prst="borderCallout1">
            <a:avLst>
              <a:gd name="adj1" fmla="val -2700"/>
              <a:gd name="adj2" fmla="val -4547"/>
              <a:gd name="adj3" fmla="val 19713"/>
              <a:gd name="adj4" fmla="val -45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327672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-75000"/>
              <a:gd name="adj4" fmla="val -32523"/>
            </a:avLst>
          </a:prstGeom>
          <a:solidFill>
            <a:srgbClr val="bbe0e3"/>
          </a:solidFill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2897" t="32150" r="28987" b="11144"/>
          <a:stretch/>
        </p:blipFill>
        <p:spPr>
          <a:xfrm>
            <a:off x="4406760" y="297180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695840" y="3236760"/>
            <a:ext cx="283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ducation 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very 3 weeks x 6 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ispense: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02160" y="1981080"/>
            <a:ext cx="1536840" cy="914400"/>
          </a:xfrm>
          <a:prstGeom prst="borderCallout1">
            <a:avLst>
              <a:gd name="adj1" fmla="val -1071"/>
              <a:gd name="adj2" fmla="val 28913"/>
              <a:gd name="adj3" fmla="val -1071"/>
              <a:gd name="adj4" fmla="val 2700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services =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96080" y="2971800"/>
            <a:ext cx="1308240" cy="361800"/>
          </a:xfrm>
          <a:prstGeom prst="borderCallout1">
            <a:avLst>
              <a:gd name="adj1" fmla="val -16462"/>
              <a:gd name="adj2" fmla="val 26147"/>
              <a:gd name="adj3" fmla="val 19713"/>
              <a:gd name="adj4" fmla="val 261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3814920"/>
            <a:ext cx="1307880" cy="361800"/>
          </a:xfrm>
          <a:prstGeom prst="borderCallout1">
            <a:avLst>
              <a:gd name="adj1" fmla="val -6344"/>
              <a:gd name="adj2" fmla="val -4547"/>
              <a:gd name="adj3" fmla="val 19713"/>
              <a:gd name="adj4" fmla="val -4547"/>
            </a:avLst>
          </a:prstGeom>
          <a:solidFill>
            <a:srgbClr val="bbe0e3"/>
          </a:solidFill>
          <a:ln w="381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4343400"/>
            <a:ext cx="1371600" cy="457200"/>
          </a:xfrm>
          <a:prstGeom prst="borderCallout1">
            <a:avLst>
              <a:gd name="adj1" fmla="val 18750"/>
              <a:gd name="adj2" fmla="val -8333"/>
              <a:gd name="adj3" fmla="val -105902"/>
              <a:gd name="adj4" fmla="val -51967"/>
            </a:avLst>
          </a:prstGeom>
          <a:solidFill>
            <a:srgbClr val="bbe0e3"/>
          </a:solidFill>
          <a:ln w="381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5446800"/>
            <a:ext cx="57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rr, JGIM, 2007; Adapted from work by Huber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hysicians were more efficient through better documentation, a slight increase in visits, and a change in practice patter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8400" y="1828440"/>
            <a:ext cx="4033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hysicians who referred to care manag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% more produ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an peers in same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1835" t="45451" r="54694" b="8861"/>
          <a:stretch/>
        </p:blipFill>
        <p:spPr>
          <a:xfrm>
            <a:off x="4446720" y="2101680"/>
            <a:ext cx="3763800" cy="3997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419720" y="5867280"/>
            <a:ext cx="405900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n-user    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324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4240" y="6132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rr, AJMC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688" t="7589" r="560" b="38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104840" y="5418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T database -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04920" y="1905120"/>
            <a:ext cx="1295640" cy="685800"/>
          </a:xfrm>
          <a:prstGeom prst="rightArrow">
            <a:avLst>
              <a:gd name="adj1" fmla="val 50000"/>
              <a:gd name="adj2" fmla="val 47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685800" y="3809880"/>
            <a:ext cx="3505320" cy="838440"/>
          </a:xfrm>
          <a:prstGeom prst="rightArrow">
            <a:avLst>
              <a:gd name="adj1" fmla="val 50000"/>
              <a:gd name="adj2" fmla="val 1045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se stud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. V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75-year-old wom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diabete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olic hypertens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congestive heart failur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riti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ly diagnosed dementia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5622" t="2086" r="14077" b="10438"/>
          <a:stretch/>
        </p:blipFill>
        <p:spPr>
          <a:xfrm>
            <a:off x="4495680" y="0"/>
            <a:ext cx="4648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s. Viera and her caregiver come to clinic with several problems, including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 and knee pai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uble taking all of her current 12 medicin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zziness when she gets up at nigh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lood sugars in the morning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cent fall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s. Viera’s office vi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Out in the ha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regiver confidentially notes he is exhaus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is running low for additional medic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Dr. Smith and the primary care team handle these iss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at do we know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imary care still has visit-based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hronic and social issues not solved with one visit, one provider, or even one care pl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ing evidence-based interventions t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and tra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t coord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1431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e Management Plus fills in core gaps in many clinics through a proactive, flexible system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8991720" cy="3398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42080" y="1676520"/>
            <a:ext cx="73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primary care clinics (current 26 trained + 18 more i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0960" y="5715000"/>
            <a:ext cx="699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rger infrastructure: Electronic Health Record, quality fo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Coordination and Care Manag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914400"/>
          <a:ext cx="8763120" cy="51768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Coord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Plus - 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Plus – 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 &amp; Assess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ral to Care Manager (usually RN) &amp; Protoc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orithm to prioritize referrals &amp; focus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-Develop the Care Pl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+ Disease specific protocols ; priorit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ocols embedded in Tracking System; Patient worksh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e with All Relevant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owered self-management / navi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cking database for all communi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and Adju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llow-up planning; incomplete compon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inders / tick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te Health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– achievement of health goals + control of disease; Efficiency – health system and soci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114480" y="6338880"/>
            <a:ext cx="71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ed from Closing the Quality Gap: Volume 7 Care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640" y="15048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re Management Plus can help create a medical hom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1677960" cy="1681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487692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lanned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assessment and structure part of training,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has technique for less intensive structured vis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82880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vidence-based pr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embeds certain disease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consensus about approach and 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352680"/>
            <a:ext cx="2971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aborative care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Care manager works with patient, family, and catalyzes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Refers appropriate patients for interven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876920"/>
            <a:ext cx="25146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Quality impr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team approach part of assessment, C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must commit to measurement and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505320"/>
            <a:ext cx="2971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ealth Information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Provides pop. management and flexible remi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Creates patient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1600200"/>
            <a:ext cx="27432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erformance 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P: Tracking database create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: works with payers to change reimburs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1" idx="1"/>
            <a:endCxn id="113" idx="3"/>
          </p:cNvCxnSpPr>
          <p:nvPr/>
        </p:nvCxnSpPr>
        <p:spPr>
          <a:xfrm flipH="1" flipV="1">
            <a:off x="3428640" y="2514240"/>
            <a:ext cx="457920" cy="613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19" name=""/>
          <p:cNvCxnSpPr>
            <a:stCxn id="111" idx="1"/>
            <a:endCxn id="114" idx="3"/>
          </p:cNvCxnSpPr>
          <p:nvPr/>
        </p:nvCxnSpPr>
        <p:spPr>
          <a:xfrm flipH="1">
            <a:off x="3428640" y="3126960"/>
            <a:ext cx="457920" cy="91188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0" name=""/>
          <p:cNvCxnSpPr>
            <a:stCxn id="111" idx="2"/>
            <a:endCxn id="112" idx="0"/>
          </p:cNvCxnSpPr>
          <p:nvPr/>
        </p:nvCxnSpPr>
        <p:spPr>
          <a:xfrm flipH="1">
            <a:off x="3466440" y="3966840"/>
            <a:ext cx="1259640" cy="910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1" name=""/>
          <p:cNvCxnSpPr>
            <a:stCxn id="111" idx="2"/>
            <a:endCxn id="115" idx="0"/>
          </p:cNvCxnSpPr>
          <p:nvPr/>
        </p:nvCxnSpPr>
        <p:spPr>
          <a:xfrm>
            <a:off x="4725720" y="3966840"/>
            <a:ext cx="1485000" cy="9104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2" name=""/>
          <p:cNvCxnSpPr>
            <a:stCxn id="117" idx="1"/>
            <a:endCxn id="111" idx="3"/>
          </p:cNvCxnSpPr>
          <p:nvPr/>
        </p:nvCxnSpPr>
        <p:spPr>
          <a:xfrm flipH="1">
            <a:off x="5563440" y="2361960"/>
            <a:ext cx="685080" cy="76572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123" name=""/>
          <p:cNvCxnSpPr>
            <a:stCxn id="116" idx="1"/>
            <a:endCxn id="111" idx="3"/>
          </p:cNvCxnSpPr>
          <p:nvPr/>
        </p:nvCxnSpPr>
        <p:spPr>
          <a:xfrm flipH="1" flipV="1">
            <a:off x="5563440" y="3126600"/>
            <a:ext cx="608760" cy="950040"/>
          </a:xfrm>
          <a:prstGeom prst="straightConnector1">
            <a:avLst/>
          </a:prstGeom>
          <a:ln w="15840">
            <a:solidFill>
              <a:srgbClr val="ffffff"/>
            </a:solidFill>
            <a:miter/>
            <a:headEnd len="med" type="triangle" w="lg"/>
            <a:tailEnd len="med" type="triangle" w="lg"/>
          </a:ln>
        </p:spPr>
      </p:cxnSp>
      <p:sp>
        <p:nvSpPr>
          <p:cNvPr id="124" name=""/>
          <p:cNvSpPr/>
          <p:nvPr/>
        </p:nvSpPr>
        <p:spPr>
          <a:xfrm>
            <a:off x="1066680" y="1066320"/>
            <a:ext cx="75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e Managers act as a guide, coordinator, and helper to facilitate patients receiving coordinated, sensitive 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03:43:08Z</dcterms:created>
  <dc:creator>Dave Dorr</dc:creator>
  <dc:description/>
  <dc:language>en-US</dc:language>
  <cp:lastModifiedBy>User</cp:lastModifiedBy>
  <dcterms:modified xsi:type="dcterms:W3CDTF">2007-09-27T19:20:44Z</dcterms:modified>
  <cp:revision>64</cp:revision>
  <dc:subject/>
  <dc:title>Home_CMP.ppt</dc:title>
</cp:coreProperties>
</file>