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895-4759-4468-9806-29327BE6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1A2-05D1-4848-9C49-23A084216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ul suggested change to “Impact” from “benefits”, because more neutr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ed to give information on what the experimental design is. E.g., X intervention, Y control, how controlled. Point out that did intra and inter clinic control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5B79-A2BA-4611-9A25-828CD401D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suggested change to “Impact” from “benefits”, because more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give information on what the experimental design is. E.g., X intervention, Y control, how controlled. Point out that did intra and inter clinic contr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BCA-0988-4A3C-BAC4-F1C5F1415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fference in process and control, but there was in a difference in death, hospitalized, an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ed flow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4F3-0AC8-485A-953B-26E2208B4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racking database - focusing on the care management diagnoses, encounters, and protocols (mental health displayed over time, with risk of suicide and depression decreasing with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795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. Smith knows there are a number of guidelines that app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at they might exclude Ms. Viera or guidelines conflict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 cognitive abilities may limit the complexity of medication regimens or cause safety concerns about potential side effec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orities must be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example, treatment with a diuretic such as chlorthalidone and a beta-blocker, while recommended for hypertension, may potentiate hyperglycemia from her diab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5513-C9A7-4411-B281-3266D9BA4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D5C1-CCB0-4BEC-B24F-759D9AC0D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A997-B33B-453E-A426-7546A2867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51BC-3E7B-4659-8704-0E80CAD33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150480"/>
            <a:ext cx="822960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C9DA-D531-462E-86C5-7C48C070E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1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1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A330-D77B-4643-A7D7-9E97CB59D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1B11-BE35-408B-8A1E-1952B20F6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94FD-2B35-43EE-A815-68C24AA32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150480"/>
            <a:ext cx="822960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E854-CE54-46DA-A33D-B0DDDDE2E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A641-D73D-42AA-AD1E-5C4335774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D50D-9FA3-47BD-AE0B-544DAC326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D212-4C16-4C50-BD45-74A7200B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8400" y="6270120"/>
            <a:ext cx="360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195800" y="6270120"/>
            <a:ext cx="75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9AD-2726-4349-B5A8-397BE59F5AD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4114440"/>
            <a:ext cx="6856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38098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ressing Problems in Care Coordination: Experience of Care Management Pl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5484960"/>
            <a:ext cx="6856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ed by: David A. Dorr, for the Care Management Plu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6477120"/>
            <a:ext cx="441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e: Sept 27</a:t>
            </a:r>
            <a:r>
              <a:rPr b="1" lang="en-US" sz="15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798480"/>
            <a:ext cx="29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A. Hartford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development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ountai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to start funding from AHRQ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29998" t="24148" r="19686" b="6037"/>
          <a:stretch/>
        </p:blipFill>
        <p:spPr>
          <a:xfrm>
            <a:off x="3111480" y="0"/>
            <a:ext cx="6032520" cy="65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28600"/>
            <a:ext cx="30258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ient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-12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76720"/>
            <a:ext cx="5105520" cy="9144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743200"/>
            <a:ext cx="510552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ve car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295280"/>
            <a:ext cx="5105520" cy="42876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838080"/>
            <a:ext cx="5105520" cy="30492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343400"/>
            <a:ext cx="510552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5181480"/>
            <a:ext cx="5105520" cy="1295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rem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by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197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cox, Proc of AMIA Symp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1905120"/>
            <a:ext cx="5105520" cy="22860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286000"/>
            <a:ext cx="5105520" cy="30492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6108840" cy="78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088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422440" y="4003560"/>
            <a:ext cx="565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006800"/>
            <a:ext cx="329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6859440"/>
            <a:ext cx="329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4952880"/>
            <a:ext cx="0" cy="54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006800"/>
            <a:ext cx="0" cy="94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66120" y="4006800"/>
            <a:ext cx="0" cy="94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8880" y="4006800"/>
            <a:ext cx="183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499000"/>
            <a:ext cx="0" cy="1360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0920" y="4006800"/>
            <a:ext cx="173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66120" y="4952880"/>
            <a:ext cx="0" cy="54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66120" y="5499000"/>
            <a:ext cx="0" cy="67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0920" y="6859440"/>
            <a:ext cx="173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8880" y="6859440"/>
            <a:ext cx="183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66120" y="6178680"/>
            <a:ext cx="0" cy="680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72200" y="1447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pulation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ckl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as the effect of CMP on patient outcomes?</a:t>
            </a:r>
            <a:br>
              <a:rPr sz="2600"/>
            </a:br>
            <a:br>
              <a:rPr sz="26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ospective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of care managed (CM) patients (7 clinics) with patients from similar clinics w/out care managers (n=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patients matched to controls on key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, disease control, death,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uideline Adherence in Diabetes: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8760" y="1828800"/>
          <a:ext cx="8229240" cy="3366720"/>
        </p:xfrm>
        <a:graphic>
          <a:graphicData uri="http://schemas.openxmlformats.org/drawingml/2006/table">
            <a:tbl>
              <a:tblPr/>
              <a:tblGrid>
                <a:gridCol w="5486040"/>
                <a:gridCol w="274320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ds Rati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due for HbA1c t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9</a:t>
                      </a: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bA1c Tes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2</a:t>
                      </a: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180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bA1c in control (&lt;7.0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4</a:t>
                      </a: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85760" y="56386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&lt;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8320" y="61326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HSR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dds of dying were reduced significant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609480"/>
          <a:ext cx="571500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57150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581280" y="3209760"/>
          <a:ext cx="5562720" cy="364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09760"/>
                    <a:ext cx="55627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-85680" y="5599080"/>
            <a:ext cx="35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AcademyHealth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224000" y="2205000"/>
          <a:ext cx="7770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2205000"/>
                    <a:ext cx="7770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dds of admission (any cause) were reduced by 27-40% for patients with complex diabet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352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=0.65; p=0.0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=0.56; p=0.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Management Plus has other benefits… quality and efficien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primary care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improve efficiency through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elf-management / empower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clinical processes from complex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ca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atients and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exacerbations =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40" y="632448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AJMC, 2007; Dorr, AcademyHealth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blems in creating Care Coordin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762120"/>
          <a:ext cx="8229600" cy="5240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 exper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xt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 success diff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accurate prescri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age’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semination and fide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imburs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aligned incen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ughtful re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Neutr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es by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1280" y="150480"/>
            <a:ext cx="871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ariability of results across programs and popul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0592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7840" y="5294160"/>
            <a:ext cx="81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 Management Plus has similar issues across populations: specific benefits are tied to specific pop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0" y="6208560"/>
            <a:ext cx="743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e Medicare Coordination of Care Demos, 2 year Summary Report, March 2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007; available from cm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liability: Lack of a framework for describing differe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91120" y="1600200"/>
          <a:ext cx="4952880" cy="4856040"/>
        </p:xfrm>
        <a:graphic>
          <a:graphicData uri="http://schemas.openxmlformats.org/drawingml/2006/table">
            <a:tbl>
              <a:tblPr/>
              <a:tblGrid>
                <a:gridCol w="2949480"/>
                <a:gridCol w="200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ervice 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 pati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,8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Following evidence-based protoc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955 (56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eneral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808 (2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789 (2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otivating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43 (27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ocial issues / barr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221 (35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497480" y="6491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JGIM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93080" y="114300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what a patient actually receives (‘dosage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600200"/>
          <a:ext cx="3809880" cy="4723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Co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&amp; Assess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Develop the Care Pl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 with All Relevant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and Adju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e Health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070280" y="10666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program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Care Management Plus Te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Dorr, MD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 John McConnell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li Rad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ountain Health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rie Brunker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m Wilcox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9160" y="1828440"/>
            <a:ext cx="4038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Boden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ry Casal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 Cole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ryl Schrae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her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imbursement and Cost Neutral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8760" y="1828800"/>
          <a:ext cx="8334360" cy="4297320"/>
        </p:xfrm>
        <a:graphic>
          <a:graphicData uri="http://schemas.openxmlformats.org/drawingml/2006/table">
            <a:tbl>
              <a:tblPr/>
              <a:tblGrid>
                <a:gridCol w="2778120"/>
                <a:gridCol w="2778120"/>
                <a:gridCol w="277812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crease in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ith cos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Coord C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P – complex diab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P - ot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-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4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teps to Implementation – JAHF funded dissemination gran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5200" y="1519200"/>
            <a:ext cx="18385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itial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ail, phone cal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erence meet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1160" y="2552760"/>
            <a:ext cx="185256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 person visit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vis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7440" y="2552760"/>
            <a:ext cx="182880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ill out as much as possib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71840" y="3591000"/>
            <a:ext cx="1814400" cy="9144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n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Review Read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ss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assess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7440" y="4800600"/>
            <a:ext cx="18622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Hire a Car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Sign a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Register for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4510080"/>
            <a:ext cx="16099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days in 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weeks online/d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5486400"/>
            <a:ext cx="15811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00920" y="4662360"/>
            <a:ext cx="1828800" cy="13716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Continued follow-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Evaluation (succes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, barrier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ation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00240" y="2309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62480" y="3343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5600" y="453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43480" y="5191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14840" y="4886280"/>
            <a:ext cx="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29240" y="4900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9240" y="5862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58040" y="4886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58863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6640" y="52149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86640" y="4886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71880" y="2905200"/>
            <a:ext cx="32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P Cont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Dorr (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rrd@ohsu.ed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3.418.23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li Radican (Project manag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cank@ohsu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3.494.256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visit www.caremanagementplu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management varies by intensity and function for different populations and need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92320" y="1447560"/>
            <a:ext cx="5187600" cy="4491720"/>
            <a:chOff x="2092320" y="1447560"/>
            <a:chExt cx="5187600" cy="4491720"/>
          </a:xfrm>
        </p:grpSpPr>
        <p:sp>
          <p:nvSpPr>
            <p:cNvPr id="213" name="_s64517"/>
            <p:cNvSpPr/>
            <p:nvPr/>
          </p:nvSpPr>
          <p:spPr>
            <a:xfrm flipV="1">
              <a:off x="3821400" y="1447200"/>
              <a:ext cx="1729440" cy="1497600"/>
            </a:xfrm>
            <a:custGeom>
              <a:avLst/>
              <a:gdLst>
                <a:gd name="textAreaLeft" fmla="*/ 620640 w 1729440"/>
                <a:gd name="textAreaRight" fmla="*/ 1108800 w 1729440"/>
                <a:gd name="textAreaTop" fmla="*/ 537120 h 1497600"/>
                <a:gd name="textAreaBottom" fmla="*/ 960480 h 14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st int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Homeles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izophrenia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64518"/>
            <p:cNvSpPr/>
            <p:nvPr/>
          </p:nvSpPr>
          <p:spPr>
            <a:xfrm flipV="1">
              <a:off x="2956680" y="2944440"/>
              <a:ext cx="3458880" cy="1497240"/>
            </a:xfrm>
            <a:custGeom>
              <a:avLst/>
              <a:gdLst>
                <a:gd name="textAreaLeft" fmla="*/ 760680 w 3458880"/>
                <a:gd name="textAreaRight" fmla="*/ 2698200 w 3458880"/>
                <a:gd name="textAreaTop" fmla="*/ 329040 h 1497240"/>
                <a:gd name="textAreaBottom" fmla="*/ 1168200 h 149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lex ill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 chronic dise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issues (cognitive, frail elderl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, financ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4519"/>
            <p:cNvSpPr/>
            <p:nvPr/>
          </p:nvSpPr>
          <p:spPr>
            <a:xfrm flipV="1">
              <a:off x="2092320" y="4443120"/>
              <a:ext cx="5187600" cy="1496160"/>
            </a:xfrm>
            <a:custGeom>
              <a:avLst/>
              <a:gdLst>
                <a:gd name="textAreaLeft" fmla="*/ 900360 w 5187600"/>
                <a:gd name="textAreaRight" fmla="*/ 4287240 w 5187600"/>
                <a:gd name="textAreaTop" fmla="*/ 259560 h 1496160"/>
                <a:gd name="textAreaBottom" fmla="*/ 1236600 h 149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ld-mode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-compensated multiple dise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gle dise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638680" y="151920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1% of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load 15-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29671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5% of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load 90-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449100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of p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~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890800"/>
            <a:ext cx="380880" cy="1523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re Management Plu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seload 250-35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8680" y="150480"/>
            <a:ext cx="61722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cription as ‘dosage’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897" t="32150" r="28987" b="11144"/>
          <a:stretch/>
        </p:blipFill>
        <p:spPr>
          <a:xfrm>
            <a:off x="152280" y="198108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41360" y="2246400"/>
            <a:ext cx="28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moxicillin 500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ne pill po q6hrs x 7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ispense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1800" y="995400"/>
            <a:ext cx="1536480" cy="914400"/>
          </a:xfrm>
          <a:prstGeom prst="borderCallout1">
            <a:avLst>
              <a:gd name="adj1" fmla="val -1071"/>
              <a:gd name="adj2" fmla="val 30600"/>
              <a:gd name="adj3" fmla="val -1071"/>
              <a:gd name="adj4" fmla="val 2700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drugs = brea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1943280"/>
            <a:ext cx="1307880" cy="361800"/>
          </a:xfrm>
          <a:prstGeom prst="borderCallout1">
            <a:avLst>
              <a:gd name="adj1" fmla="val -10433"/>
              <a:gd name="adj2" fmla="val 26147"/>
              <a:gd name="adj3" fmla="val 19713"/>
              <a:gd name="adj4" fmla="val 261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2819520"/>
            <a:ext cx="1307880" cy="361800"/>
          </a:xfrm>
          <a:prstGeom prst="borderCallout1">
            <a:avLst>
              <a:gd name="adj1" fmla="val -2700"/>
              <a:gd name="adj2" fmla="val -4547"/>
              <a:gd name="adj3" fmla="val 19713"/>
              <a:gd name="adj4" fmla="val -45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327672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-75000"/>
              <a:gd name="adj4" fmla="val -32523"/>
            </a:avLst>
          </a:prstGeom>
          <a:solidFill>
            <a:srgbClr val="bbe0e3"/>
          </a:solidFill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rcRect l="2897" t="32150" r="28987" b="11144"/>
          <a:stretch/>
        </p:blipFill>
        <p:spPr>
          <a:xfrm>
            <a:off x="4406760" y="297180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695840" y="3236760"/>
            <a:ext cx="28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ducation 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very 3 weeks x 6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ispense: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02160" y="1981080"/>
            <a:ext cx="1536840" cy="914400"/>
          </a:xfrm>
          <a:prstGeom prst="borderCallout1">
            <a:avLst>
              <a:gd name="adj1" fmla="val -1071"/>
              <a:gd name="adj2" fmla="val 28913"/>
              <a:gd name="adj3" fmla="val -1071"/>
              <a:gd name="adj4" fmla="val 2700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rvices = brea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2971800"/>
            <a:ext cx="1308240" cy="361800"/>
          </a:xfrm>
          <a:prstGeom prst="borderCallout1">
            <a:avLst>
              <a:gd name="adj1" fmla="val -16462"/>
              <a:gd name="adj2" fmla="val 26147"/>
              <a:gd name="adj3" fmla="val 19713"/>
              <a:gd name="adj4" fmla="val 261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3814920"/>
            <a:ext cx="1307880" cy="361800"/>
          </a:xfrm>
          <a:prstGeom prst="borderCallout1">
            <a:avLst>
              <a:gd name="adj1" fmla="val -6344"/>
              <a:gd name="adj2" fmla="val -4547"/>
              <a:gd name="adj3" fmla="val 19713"/>
              <a:gd name="adj4" fmla="val -45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434340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-105902"/>
              <a:gd name="adj4" fmla="val -51967"/>
            </a:avLst>
          </a:prstGeom>
          <a:solidFill>
            <a:srgbClr val="bbe0e3"/>
          </a:solidFill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544680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JGIM, 2007; Adapted from work by Huber et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ysicians were more efficient through better documentation, a slight increase in visits, and a change in practice patter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8400" y="1828440"/>
            <a:ext cx="4033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hysicians who referred to care manag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% more produ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an peers in same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1835" t="45451" r="54694" b="8861"/>
          <a:stretch/>
        </p:blipFill>
        <p:spPr>
          <a:xfrm>
            <a:off x="4446720" y="2101680"/>
            <a:ext cx="3763800" cy="3997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419720" y="5867280"/>
            <a:ext cx="4059000" cy="1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n-user    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6324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240" y="6132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rr, AJMC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688" t="7589" r="560" b="38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04840" y="5418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T database -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04920" y="1905120"/>
            <a:ext cx="1295640" cy="685800"/>
          </a:xfrm>
          <a:prstGeom prst="rightArrow">
            <a:avLst>
              <a:gd name="adj1" fmla="val 50000"/>
              <a:gd name="adj2" fmla="val 47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685800" y="3809880"/>
            <a:ext cx="3505320" cy="838440"/>
          </a:xfrm>
          <a:prstGeom prst="rightArrow">
            <a:avLst>
              <a:gd name="adj1" fmla="val 50000"/>
              <a:gd name="adj2" fmla="val 1045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V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75-year-old wom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diabet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olic hypertens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congestive heart fail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riti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 diagnosed dementi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5622" t="2086" r="14077" b="10438"/>
          <a:stretch/>
        </p:blipFill>
        <p:spPr>
          <a:xfrm>
            <a:off x="4495680" y="0"/>
            <a:ext cx="46483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s. Viera and her caregiver come to clinic with several problems, including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 and knee pai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uble taking all of her current 12 medici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zziness when she gets up at nigh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lood sugars in the morning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cent fal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s. Viera’s office vi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ut in the ha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regiver confidentially notes he is exhaus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is running low for additional medic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Dr. Smith and the primary care team handle these iss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 we k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imary care still has visit-based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hronic and social issues not solved with one visit, one provider, or even one care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ing evidence-based interventions t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and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e Management Plus fills in core gaps in many clinics through a proactive, flexible system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991720" cy="339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2080" y="1676520"/>
            <a:ext cx="73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primary care clinics (current 26 trained + 18 more i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0960" y="5715000"/>
            <a:ext cx="699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rger infrastructure: Electronic Health Record, quality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Coordination and Care Manag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914400"/>
          <a:ext cx="8763120" cy="51768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Co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Management Plus -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Management Plus – 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&amp; Assess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ral to Care Manager (usually RN) &amp; Proto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orithm to prioritize referrals &amp; focus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Develop the Care Pl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+ Disease specific protocols ; priori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cols embedded in Tracking System; Patient worksh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 with All Relevant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owered self-management / nav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ing database for all commun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and Adju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low-up planning; incomplete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inders / tick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e Health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– achievement of health goals + control of disease; Efficiency – health system and soci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14480" y="6338880"/>
            <a:ext cx="71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ed from Closing the Quality Gap: Volume 7 Care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Management Plus can help create a medical hom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1677960" cy="1681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4876920"/>
            <a:ext cx="2514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lanned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assessment and structure part of training,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has technique for less intensive structured vis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828800"/>
            <a:ext cx="2971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idence-based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embeds certain disease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consensus about approach and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352680"/>
            <a:ext cx="2971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aborative care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Care manager works with patient, family, and catalyzes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Refers appropriate patients for interven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876920"/>
            <a:ext cx="2514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lity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team approach part of assessment, C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must commit to measurement and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505320"/>
            <a:ext cx="2971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alth Information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Provides pop. management and flexible remi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Creates patient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1600200"/>
            <a:ext cx="27432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erformance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Tracking database create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works with payers to change reimbur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1" idx="1"/>
            <a:endCxn id="113" idx="3"/>
          </p:cNvCxnSpPr>
          <p:nvPr/>
        </p:nvCxnSpPr>
        <p:spPr>
          <a:xfrm flipH="1" flipV="1">
            <a:off x="3428640" y="2514240"/>
            <a:ext cx="457920" cy="6134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19" name=""/>
          <p:cNvCxnSpPr>
            <a:stCxn id="111" idx="1"/>
            <a:endCxn id="114" idx="3"/>
          </p:cNvCxnSpPr>
          <p:nvPr/>
        </p:nvCxnSpPr>
        <p:spPr>
          <a:xfrm flipH="1">
            <a:off x="3428640" y="3126960"/>
            <a:ext cx="457920" cy="91188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0" name=""/>
          <p:cNvCxnSpPr>
            <a:stCxn id="111" idx="2"/>
            <a:endCxn id="112" idx="0"/>
          </p:cNvCxnSpPr>
          <p:nvPr/>
        </p:nvCxnSpPr>
        <p:spPr>
          <a:xfrm flipH="1">
            <a:off x="3466440" y="3966840"/>
            <a:ext cx="1259640" cy="9104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1" name=""/>
          <p:cNvCxnSpPr>
            <a:stCxn id="111" idx="2"/>
            <a:endCxn id="115" idx="0"/>
          </p:cNvCxnSpPr>
          <p:nvPr/>
        </p:nvCxnSpPr>
        <p:spPr>
          <a:xfrm>
            <a:off x="4725720" y="3966840"/>
            <a:ext cx="1485000" cy="9104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2" name=""/>
          <p:cNvCxnSpPr>
            <a:stCxn id="117" idx="1"/>
            <a:endCxn id="111" idx="3"/>
          </p:cNvCxnSpPr>
          <p:nvPr/>
        </p:nvCxnSpPr>
        <p:spPr>
          <a:xfrm flipH="1">
            <a:off x="5563440" y="2361960"/>
            <a:ext cx="685080" cy="76572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3" name=""/>
          <p:cNvCxnSpPr>
            <a:stCxn id="116" idx="1"/>
            <a:endCxn id="111" idx="3"/>
          </p:cNvCxnSpPr>
          <p:nvPr/>
        </p:nvCxnSpPr>
        <p:spPr>
          <a:xfrm flipH="1" flipV="1">
            <a:off x="5563440" y="3126600"/>
            <a:ext cx="608760" cy="9500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sp>
        <p:nvSpPr>
          <p:cNvPr id="124" name=""/>
          <p:cNvSpPr/>
          <p:nvPr/>
        </p:nvSpPr>
        <p:spPr>
          <a:xfrm>
            <a:off x="1066680" y="1066320"/>
            <a:ext cx="75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 Managers act as a guide, coordinator, and helper to facilitate patients receiving coordinated, sensitive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3:43:08Z</dcterms:created>
  <dc:creator>Dave Dorr</dc:creator>
  <dc:description/>
  <dc:language>en-US</dc:language>
  <cp:lastModifiedBy>User</cp:lastModifiedBy>
  <dcterms:modified xsi:type="dcterms:W3CDTF">2007-09-27T19:20:44Z</dcterms:modified>
  <cp:revision>64</cp:revision>
  <dc:subject/>
  <dc:title>Home_CMP.ppt</dc:title>
</cp:coreProperties>
</file>