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8BA9-D150-4D5B-A70E-D867799D30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E4B4-F230-49D4-9010-FC76DAA7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5113-14FE-4421-A059-5D1C3F39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64B03-DC9D-4588-9B5C-C55DE2FE9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FBF40-37E7-487C-9413-8DC5AFE03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2A0C8-664E-4B3A-812B-2BC65CA8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B13C3-F3AF-4009-A1CD-F2E2CA2B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34800-5FC5-4FC7-B2EE-AD0E7368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DE75A-73E9-46FC-874E-57EB7EB0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82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7FBB6-B7C9-44CE-AC7D-6BF2564A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A85AB-03C8-4249-8BC4-32E6FEBD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5979-B12B-4C4A-89F9-6923E422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844C8-13A8-4B11-9BF3-0FED1CE6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E9E9C-1BA0-4914-9AED-18ACA37A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6AE8F-3B97-4C4D-B3AB-D97E1249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3F811-EC5B-47C6-A7F7-FE6827FB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1DD44-1092-4565-88C6-3C82FBDC02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CFF0-D795-4655-9302-67E0B138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9650A-FC6A-45D4-9C4A-CED000A2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42C3-CA7A-46C8-A400-C0F9BC80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2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C539-F15D-40A1-8A99-E9C1B588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4310-6D4D-40BD-8F55-DD45826E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ED53-6CD5-4585-A1D9-8EB0BFA2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0523-BE7F-4026-AF2C-8C768D9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284040">
              <a:spcBef>
                <a:spcPts val="1500"/>
              </a:spcBef>
              <a:buClr>
                <a:srgbClr val="8e9ac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1040" indent="-284040"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978000" y="6491160"/>
            <a:ext cx="16002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4c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1360" y="6469200"/>
            <a:ext cx="441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b2b2b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2BB3-BC3B-46F8-99AB-EB19AE5BF5A0}" type="slidenum">
              <a:rPr b="1" lang="en-US" sz="1400" spc="-1" strike="noStrike">
                <a:solidFill>
                  <a:srgbClr val="b2b2b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29604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981240" y="6491160"/>
            <a:ext cx="15476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4c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d71a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5d71a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171360" y="6469200"/>
            <a:ext cx="441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b2b2b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5AFD-5ECE-4144-A7E5-5A4C3197D947}" type="slidenum">
              <a:rPr b="1" lang="en-US" sz="1400" spc="-1" strike="noStrike">
                <a:solidFill>
                  <a:srgbClr val="b2b2b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8480" algn="ctr">
              <a:spcBef>
                <a:spcPts val="451"/>
              </a:spcBef>
              <a:buClr>
                <a:srgbClr val="8e9ac0"/>
              </a:buClr>
              <a:buSzPct val="7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97000" algn="ctr">
              <a:spcBef>
                <a:spcPts val="3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ealthit.ahrq.gov/privacyandsecurity" TargetMode="External"/><Relationship Id="rId2" Type="http://schemas.openxmlformats.org/officeDocument/2006/relationships/hyperlink" Target="http://www.rti.org/hisp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1252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cy and Security Solutions For Interoperable Health Information Exchange</a:t>
            </a:r>
            <a:r>
              <a:rPr b="0" lang="en-US" sz="3200" spc="-1" strike="noStrike">
                <a:solidFill>
                  <a:srgbClr val="5d71a6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br>
              <a:rPr sz="2200"/>
            </a:br>
            <a:r>
              <a:rPr b="0" i="1" lang="pt-BR" sz="2200" spc="-1" strike="noStrike">
                <a:solidFill>
                  <a:srgbClr val="0a357e"/>
                </a:solidFill>
                <a:latin typeface="Times New Roman"/>
              </a:rPr>
              <a:t>Linda Dimitropoulos, PhD</a:t>
            </a:r>
            <a:br>
              <a:rPr sz="2200"/>
            </a:br>
            <a:r>
              <a:rPr b="0" i="1" lang="en-US" sz="2200" spc="-1" strike="noStrike">
                <a:solidFill>
                  <a:srgbClr val="0a357e"/>
                </a:solidFill>
                <a:latin typeface="Times New Roman"/>
              </a:rPr>
              <a:t>RTI International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ed at</a:t>
            </a:r>
            <a:br>
              <a:rPr sz="2200"/>
            </a:br>
            <a:r>
              <a:rPr b="0" i="1" lang="en-US" sz="2200" spc="-1" strike="noStrike">
                <a:solidFill>
                  <a:srgbClr val="0a357e"/>
                </a:solidFill>
                <a:latin typeface="Times New Roman"/>
              </a:rPr>
              <a:t>AHRQ Annual Meeting  •  September 27, 2007</a:t>
            </a:r>
            <a:br>
              <a:rPr sz="2200"/>
            </a:br>
            <a:endParaRPr b="0" lang="en-US" sz="2200" spc="-1" strike="noStrike">
              <a:solidFill>
                <a:srgbClr val="5d71a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27800"/>
            <a:ext cx="1986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d71a6"/>
                </a:solidFill>
                <a:latin typeface="Arial"/>
              </a:rPr>
              <a:t>RTI International is a trade name of Research Triangle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27200" y="5751360"/>
            <a:ext cx="987480" cy="45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60560" y="5718240"/>
            <a:ext cx="66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40 Cornwallis Road     </a:t>
            </a:r>
            <a:r>
              <a:rPr b="0" lang="en-US" sz="2000" spc="-1" strike="noStrike" baseline="10000">
                <a:solidFill>
                  <a:srgbClr val="8e9ac0"/>
                </a:solidFill>
                <a:latin typeface="Arial"/>
                <a:ea typeface="Arial"/>
              </a:rPr>
              <a:t>■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P.O. Box 12194     </a:t>
            </a:r>
            <a:r>
              <a:rPr b="0" lang="en-US" sz="2000" spc="-1" strike="noStrike" baseline="10000">
                <a:solidFill>
                  <a:srgbClr val="8e9ac0"/>
                </a:solidFill>
                <a:latin typeface="Arial"/>
                <a:ea typeface="Arial"/>
              </a:rPr>
              <a:t>■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Research Triangle Park, NC 277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67400" y="5931000"/>
            <a:ext cx="1726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 312-456-524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7600" y="5931000"/>
            <a:ext cx="144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-mail lld@rti.or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9840" y="5931000"/>
            <a:ext cx="1524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x 312-456-5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llenges/Solu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:  Privacy and Security Over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tate-level authoritative governing bodies to oversee the development, adoption and enforcement of common privacy policies and security practices for 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6 states working on governance and over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Governor’s eHealth taskforce on Privacy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rivacy and Security Advisory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formal work group to formulate and review P&amp;S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 umbrella organization to operationalize P&amp;S strategies and interact with Governor's HIE Commission and the state Health Policy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ing Forw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to multi-state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isting the remaining states and territories into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the technical assistance needed to foster the multi-state collaborativ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ional Meeting November 1-2 in 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http://Healthit.ahrq.gov/privacyand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www.rti.org/his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rivacy and security business practices, policies, and state laws creates a barrier to electronic clinical health inform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, organizations, and state and federal entities share concerns related to maintaining the privacy and security of health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isting paradigm for privacy and security protections does not fully accommodate active consumer participation in health inform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375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sions about how to protect the privacy and security of health information should be made at the loc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375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keholders at the state and community levels, including patients and consumers, must be involved in identifying the challenges and developing solutions to achieve broad-based accep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375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ions need to take place to develop an understanding of the current landscape and the variation that exists between organizations within each state, and ultimately across the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thod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-based participatory research model where state teams identify and “own” the issues an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d broad range of stakeholders to identify challenges to privacy and security and develop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a “core” methodology that framed discussions in term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rpo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exchange an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e of health information being exchan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 domains of privac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keholder Participation in Assessment of Vari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Participa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8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 and Health Information Expe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58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4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Govern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Health Agencies/Depart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Counsel/Attorne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&amp; Public Health Schools/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 Enforcement and Correctional Fac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3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ations/Other Policy Consult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llenges/Solu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:  Lack of awareness among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s lack sufficient knowledge of HIT/HIE to understand implications for privacy and security; Consumers are unaware of legal protections under state law; Providers frequently do not understand state law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 states are developing model outreach and educa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r and provider outreach an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nd multistate privacy and security sum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r advisory councils/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kits for educating stakehol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llenges/Solu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: Variation created by state privacy and security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law governing privacy and security is scattered, fragmented, sometimes inconsistent or contradictory within a state, and frequently does not apply sensibly to electronic exchan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states implementing solutions related to state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ing a catalog of existing relevant statutes and administrative regul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a road map of current P&amp;S laws/sta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model legislation to harmonize on multistate issues such as 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ng a legal analysis to determine what changes need to be made to ensure privacy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ing state privacy laws to address electronic 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ing legislation for 2008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llenges/Solu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8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: Obtaining and Managing Patient Con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 variation in the requirements for obtaining and managing patient consent and authorization for information disclos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states are working on reducing variation related to consen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8008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 patient cons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8008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ze consent language that addresses opt-in/opt-out issues across th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8008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consent management process; develop use cases that drive HIE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8008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guiding principles for consent that can be used to update state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8008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onse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llenges/Solu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:  Variation in Methods of Implementing 4 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consensus on standards for authentication, authorization, access controls and information audits to reduce mistrust between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states are working on issues related to the 4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125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inimum standards for authentication acceptable to individuals or entities participating in an 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125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P&amp;S requirements for providers' role-based access and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125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“solutions building block” i.e., trusted digital identities for authentication, authorization, access control, data integrity, and digital 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5:05:24Z</dcterms:created>
  <dc:creator>Nate Robinson</dc:creator>
  <dc:description/>
  <dc:language>en-US</dc:language>
  <cp:lastModifiedBy>Linda Dimitropoulos</cp:lastModifiedBy>
  <dcterms:modified xsi:type="dcterms:W3CDTF">2007-09-26T19:13:40Z</dcterms:modified>
  <cp:revision>38</cp:revision>
  <dc:subject/>
  <dc:title>Connecting for Health Common Framework Resources for Implementing Secure Health Information Exchange</dc:title>
</cp:coreProperties>
</file>