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8BF6-BF07-4825-926E-DE488EF1F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6F585-DBDF-46DA-BF21-928BE430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4B37-AD7C-46F5-8013-FD626600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6D80-21B6-4AD5-B662-A4D42E005B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6E9E-3340-429B-B333-C3A86E7F1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458F6-1183-49AA-A329-28CA302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504A4-2669-45D9-9B25-D210C749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24B9A-76AF-48E9-9349-DBE1696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7B503-EB99-4A09-8F48-B4C54AD5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82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30A26-4AFD-4578-AB92-81ABCA28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19636-EEA5-4F07-A39B-70363A41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624D-E250-4BEC-94F3-D0EB1FC2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5DA92-00EF-4C44-96C0-D13EC396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424B2-B5B2-4179-AE84-1F6A10E5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8E36F-BAE5-4B16-BCA3-0541A432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DC696-F715-4833-A6E8-F85F0BDD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39A61-E16F-45FB-865C-16769B404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4035-F07B-4212-AED4-CE634B28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6CFA-8584-435D-8E63-AE5F6B4A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2D8D-A075-4570-B84C-E79EFC3B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2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B1AC-664B-46C1-944C-C03543A2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1925-8E57-465A-AE2C-31BBCB28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3DD9-05BA-4249-9183-7FB4AF82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7E43-2068-44E6-B605-62E58F8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284880"/>
            <a:ext cx="9144000" cy="57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520" indent="-284040">
              <a:spcBef>
                <a:spcPts val="1500"/>
              </a:spcBef>
              <a:buClr>
                <a:srgbClr val="8e9ac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1040" indent="-284040">
              <a:spcBef>
                <a:spcPts val="15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978000" y="6491160"/>
            <a:ext cx="16002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c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171360" y="6469200"/>
            <a:ext cx="441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2D6-EF92-4DC8-851F-7FCA80E09164}" type="slidenum">
              <a:rPr b="1" lang="en-US" sz="1400" spc="-1" strike="noStrike">
                <a:solidFill>
                  <a:srgbClr val="b2b2b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296040"/>
            <a:ext cx="9144000" cy="57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981240" y="6491160"/>
            <a:ext cx="15476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4c8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4c8d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496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d71a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5d71a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171360" y="6469200"/>
            <a:ext cx="441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b2b2b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C25-B6DE-41BC-9CB0-183050F00925}" type="slidenum">
              <a:rPr b="1" lang="en-US" sz="1400" spc="-1" strike="noStrike">
                <a:solidFill>
                  <a:srgbClr val="b2b2b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98480" algn="ctr">
              <a:spcBef>
                <a:spcPts val="451"/>
              </a:spcBef>
              <a:buClr>
                <a:srgbClr val="8e9ac0"/>
              </a:buClr>
              <a:buSzPct val="7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7000" algn="ctr">
              <a:spcBef>
                <a:spcPts val="300"/>
              </a:spcBef>
              <a:buClr>
                <a:srgbClr val="8e9ac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ealthit.ahrq.gov/privacyandsecurity" TargetMode="External"/><Relationship Id="rId2" Type="http://schemas.openxmlformats.org/officeDocument/2006/relationships/hyperlink" Target="http://www.rti.org/hispc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1252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 and Security Solutions For Interoperable Health Information Exchange</a:t>
            </a:r>
            <a:r>
              <a:rPr b="0" lang="en-US" sz="3200" spc="-1" strike="noStrike">
                <a:solidFill>
                  <a:srgbClr val="5d71a6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br>
              <a:rPr sz="2200"/>
            </a:br>
            <a:r>
              <a:rPr b="0" i="1" lang="pt-BR" sz="2200" spc="-1" strike="noStrike">
                <a:solidFill>
                  <a:srgbClr val="0a357e"/>
                </a:solidFill>
                <a:latin typeface="Times New Roman"/>
              </a:rPr>
              <a:t>Linda Dimitropoulos, PhD</a:t>
            </a:r>
            <a:br>
              <a:rPr sz="2200"/>
            </a:br>
            <a:r>
              <a:rPr b="0" i="1" lang="en-US" sz="2200" spc="-1" strike="noStrike">
                <a:solidFill>
                  <a:srgbClr val="0a357e"/>
                </a:solidFill>
                <a:latin typeface="Times New Roman"/>
              </a:rPr>
              <a:t>RTI International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ed at</a:t>
            </a:r>
            <a:br>
              <a:rPr sz="2200"/>
            </a:br>
            <a:r>
              <a:rPr b="0" i="1" lang="en-US" sz="2200" spc="-1" strike="noStrike">
                <a:solidFill>
                  <a:srgbClr val="0a357e"/>
                </a:solidFill>
                <a:latin typeface="Times New Roman"/>
              </a:rPr>
              <a:t>AHRQ Annual Meeting  •  September 27, 2007</a:t>
            </a:r>
            <a:br>
              <a:rPr sz="2200"/>
            </a:br>
            <a:endParaRPr b="0" lang="en-US" sz="2200" spc="-1" strike="noStrike">
              <a:solidFill>
                <a:srgbClr val="5d71a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427800"/>
            <a:ext cx="19861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5d71a6"/>
                </a:solidFill>
                <a:latin typeface="Arial"/>
              </a:rPr>
              <a:t>RTI International is a trade name of Research Triangle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27200" y="5751360"/>
            <a:ext cx="987480" cy="459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60560" y="5718240"/>
            <a:ext cx="66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040 Cornwallis Road     </a:t>
            </a:r>
            <a:r>
              <a:rPr b="0" lang="en-US" sz="2000" spc="-1" strike="noStrike" baseline="10000">
                <a:solidFill>
                  <a:srgbClr val="8e9ac0"/>
                </a:solidFill>
                <a:latin typeface="Arial"/>
                <a:ea typeface="Arial"/>
              </a:rPr>
              <a:t>■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P.O. Box 12194     </a:t>
            </a:r>
            <a:r>
              <a:rPr b="0" lang="en-US" sz="2000" spc="-1" strike="noStrike" baseline="10000">
                <a:solidFill>
                  <a:srgbClr val="8e9ac0"/>
                </a:solidFill>
                <a:latin typeface="Arial"/>
                <a:ea typeface="Arial"/>
              </a:rPr>
              <a:t>■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Research Triangle Park, NC 277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67400" y="5931000"/>
            <a:ext cx="1726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ne 312-456-524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67600" y="5931000"/>
            <a:ext cx="1445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-mail lld@rti.or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9840" y="5931000"/>
            <a:ext cx="1524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x 312-456-5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 Privacy and Security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tate-level authoritative governing bodies to oversee the development, adoption and enforcement of common privacy policies and security practices for 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6 states working on governance and over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Governor’s eHealth taskforce on Privacy and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rivacy and Security Advisory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formal work group to formulate and review P&amp;S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 umbrella organization to operationalize P&amp;S strategies and interact with Governor's HIE Commission and the state Health Policy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ing Forw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to multi-state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listing the remaining states and territories into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the technical assistance needed to foster the multi-state collaborativ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tional Meeting November 1-2 in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Healthit.ahrq.gov/privacyand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www.rti.org/his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rivacy and security business practices, policies, and state laws creates a barrier to electronic clinical health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s, organizations, and state and federal entities share concerns related to maintaining the privacy and security of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paradigm for privacy and security protections does not fully accommodate active consumer participation in health inform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375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s about how to protect the privacy and security of health information should be made at the loc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keholders at the state and community levels, including patients and consumers, must be involved in identifying the challenges and developing solutions to achieve broad-based accep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375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s need to take place to develop an understanding of the current landscape and the variation that exists between organizations within each state, and ultimately across the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hodolo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-based participatory research model where state teams identify and “own” the issue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d broad range of stakeholders to identify challenges to privacy and security and develop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150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a “core” methodology that framed discussions in term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exchange an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e of health information being exch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9 domains of privacy an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keholder Participation in Assessment of Vari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Participa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8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 and Health Information Expe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58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45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Govern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4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Health Agencies/Depart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Counsel/Attorn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&amp; Public Health Schools/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w Enforcement and Correctional Fac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3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ations/Other Policy Consult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 Lack of awareness among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keholders lack sufficient knowledge of HIT/HIE to understand implications for privacy and security; Consumers are unaware of legal protections under state law; Providers frequently do not understand state law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 states are developing model outreach and educa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 and provider outreach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nd multistate privacy and security sum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 advisory councils/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kits for educating stakehol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: Variation created by state privacy and security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law governing privacy and security is scattered, fragmented, sometimes inconsistent or contradictory within a state, and frequently does not apply sensibly to electronic exchan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states implementing solutions related to state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ing a catalog of existing relevant statutes and administrative regul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a road map of current P&amp;S laws/sta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ing model legislation to harmonize on multistate issues such as 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ng a legal analysis to determine what changes need to be made to ensure privacy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ing state privacy laws to address electronic 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5840">
              <a:lnSpc>
                <a:spcPct val="90000"/>
              </a:lnSpc>
              <a:spcBef>
                <a:spcPts val="675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legislation for 2008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Obtaining and Managing Patient Con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 variation in the requirements for obtaining and managing patient consent and authorization for information disclos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states are working on reducing variation related to consen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 patient cons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 consent language that addresses opt-in/opt-out issues across the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 consent management process; develop use cases that drive HIE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guiding principles for consent that can be used to update state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80080">
              <a:lnSpc>
                <a:spcPct val="80000"/>
              </a:lnSpc>
              <a:spcBef>
                <a:spcPts val="751"/>
              </a:spcBef>
              <a:buClr>
                <a:srgbClr val="8e9ac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s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2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allenges/Solu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:  Variation in Methods of Implementing 4 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consensus on standards for authentication, authorization, access controls and information audits to reduce mistrust between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states are working on issues related to the 4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inimum standards for authentication acceptable to individuals or entities participating in an 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P&amp;S requirements for providers' role-based access and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1250"/>
              </a:spcBef>
              <a:buClr>
                <a:srgbClr val="8e9ac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“solutions building block” i.e., trusted digital identities for authentication, authorization, access control, data integrity, and digital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5:05:24Z</dcterms:created>
  <dc:creator>Nate Robinson</dc:creator>
  <dc:description/>
  <dc:language>en-US</dc:language>
  <cp:lastModifiedBy>Linda Dimitropoulos</cp:lastModifiedBy>
  <dcterms:modified xsi:type="dcterms:W3CDTF">2007-09-26T19:13:40Z</dcterms:modified>
  <cp:revision>38</cp:revision>
  <dc:subject/>
  <dc:title>Connecting for Health Common Framework Resources for Implementing Secure Health Information Exchange</dc:title>
</cp:coreProperties>
</file>