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405-3595-4869-854F-E7290D53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E7E-3E19-40D0-A263-B33930A9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920-236F-409D-8300-C1F003D2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DE4-86E5-415E-A3E8-3EDB38C2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FD9-E18A-4A4C-A457-151A907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A0B-B608-4DB8-818E-2CA0A7C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9A4-6716-436C-8964-A932388E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A3E-D841-4AB4-A385-CF0CD64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6F9-D0CF-438A-9644-C7EAEEDE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943-8CB0-476A-8D1C-23FA0BC4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E00-3B2B-4789-81C3-DE5E321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186-C0CC-4297-A07B-FAAEB0E4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2E35-AF55-4411-B3AD-8C91EDC7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mplementing an e-Prescribing System: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 Journey, Not a Solution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28951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B Devine, JL Wilson-Norton, NM Lawl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 Hollingworth, RN Hansen, BA Comstoc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W Fisk, SD Sulliv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AHRQ HIT Grant #:  5-UC1 HS015319 (PI: Sulliv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AHRQ Training Grant #:  5-K08-HS014739 (PI: Dev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10552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ment of Pharmacy, University of Washington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verett Clinic, Everett,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354720"/>
            <a:ext cx="2819520" cy="50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6330960"/>
            <a:ext cx="29718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verity of Potential and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edication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762120"/>
          <a:ext cx="8586720" cy="591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86720" cy="59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5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haracteristics of Errors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685800"/>
          <a:ext cx="8839080" cy="63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839080" cy="63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ime-motion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whether the implementation of e-prescribing was at least time-neutral for physicians and staff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dowed each user over a 4 hour shi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am -12 noon, or 1pm-5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consent of clinician &amp;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137160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447920"/>
            <a:ext cx="4267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ollected with Timer Pr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http://performance-measurement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egories adapted from Over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TimerPro%20Screen%20Shot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655308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hage. JAMIA 2001;8:361-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ime-motion:  stud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2133720"/>
          <a:ext cx="8305920" cy="437040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1676520"/>
                <a:gridCol w="1600200"/>
                <a:gridCol w="167652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x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x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ver L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-Mar 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 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arter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k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bour Poi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 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 office Desk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 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arter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k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05 – Jan 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reless Lap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 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arter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k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trolled Pre- Post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ime-motion results: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verall task types (prescrib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523880"/>
          <a:ext cx="8077320" cy="4730760"/>
        </p:xfrm>
        <a:graphic>
          <a:graphicData uri="http://schemas.openxmlformats.org/drawingml/2006/table">
            <a:tbl>
              <a:tblPr/>
              <a:tblGrid>
                <a:gridCol w="2719440"/>
                <a:gridCol w="1758960"/>
                <a:gridCol w="1758960"/>
                <a:gridCol w="183996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lver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pap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min/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arbour Poi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deskto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=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min/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nohom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lapto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min/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puter &amp; wr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ing to 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ing to collea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ing 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ing ch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8600" y="62467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&lt;0.05; chi-squared test Silver Lake vs. other clinics; all other tasks took &lt; 7.5% of tot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378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ime-motion results: 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scribing-related events (prescrib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1600200"/>
          <a:ext cx="7772400" cy="4610160"/>
        </p:xfrm>
        <a:graphic>
          <a:graphicData uri="http://schemas.openxmlformats.org/drawingml/2006/table">
            <a:tbl>
              <a:tblPr/>
              <a:tblGrid>
                <a:gridCol w="2752560"/>
                <a:gridCol w="1781280"/>
                <a:gridCol w="1619280"/>
                <a:gridCol w="1619280"/>
              </a:tblGrid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and-written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sec/ ev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number of ev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-Pr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sec/ev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number of ev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djusted mean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sec/event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95% 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ver Lake (pap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.6 (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bour Pointe (deskto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1 (2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6(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9.8, 28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 (lapto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.1 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5(5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23.4, 43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7 (1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0 (13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1.6, 25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28600" y="632448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Linear mixed effect model, adjusted for prescriber and type of prescription (new/ren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Focus group stud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and describe prescriber &amp; staff experiences with and perceptions of the e-prescrib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sample in 3 clinics / 3 stage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minutes/ group; 3-8 participants; oral 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structured elicitation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domains – expectations, impact, fears, barriers to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with Atlas.ti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6858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Focus group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685800"/>
            <a:ext cx="7925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focus group; 67 participants (17 prescribers; 52 RNs &amp; 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background influenced percep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23880"/>
          <a:ext cx="8001000" cy="496080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43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Themes - Perceptions of e-prescrib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racy, transparency,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sid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ing errors; lack of wireless reli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i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after training 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lin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at paper-based cli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red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bers – CDS alerts and favorites l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be from home – an unexpected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ove it!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, feedback,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3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esearch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76440"/>
            <a:ext cx="8229600" cy="64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e Everett Clinic / University of Washington a valuable part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edication err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-prescribing reduces medication erro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liminates types of errors (illegibility, abbreviatio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ntroduces new types of errors (picking erro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andardizes care / reduce unnecessary vari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ata available to optimize quality &amp; lower cost of prescrib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ime-motion workload / workflow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-prescribing has minimal impact on prescriber time (12 seconds per ev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lo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95% of prescriptions written electronical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umber of monthly chart pulls decreased fro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5,800 (2003) to 650 (2007) – 9-fold reduction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mpact beneficial – users do not wish to go back to paper-based prescrib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86200"/>
            <a:ext cx="7239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devine@u.washington.ed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6479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he Everett Clinic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447920"/>
            <a:ext cx="7010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sician owned and managed multi-specialty integrated health-system with a 83-year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locations; 60+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cill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60 physicians/ 1,500+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25,000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00,000 ambulatory visit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5 million Rx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haracteristics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760" y="1068480"/>
          <a:ext cx="8886960" cy="52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1068480"/>
                    <a:ext cx="888696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Tech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ormatio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ly-developed EHR began in 1995: charts, labs and imaging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prescribing implemented beginning during 2003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of e-prescribing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new &amp; refill prescrip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= fax/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s choice of medication; generates medication list as prescriptions are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diatric antibiotic dosing by we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s subscription to commercial drug database as back e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s patient drug database, improving disea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Everett Clinic’s e-prescrib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mplementation of e-prescri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ral months in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uracy and relevance of drug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creens easy to use and involve minimal mani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ic decision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opt an icon = “MedMa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 at pilot site; refill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oluntary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al: Implement on platform of wireless laptop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witch to hardwired desktops in exam room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5 exam roo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1 months to last clinic go-l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w: 5,000 prescriptions/ day (95% written); faxed to 600+ pharm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ition to vendor-purchased EHR in late 2007 – CDS customized; use becomes manda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Medman" descr=""/>
          <p:cNvPicPr/>
          <p:nvPr/>
        </p:nvPicPr>
        <p:blipFill>
          <a:blip r:embed="rId1"/>
          <a:stretch/>
        </p:blipFill>
        <p:spPr>
          <a:xfrm>
            <a:off x="6629400" y="2286000"/>
            <a:ext cx="2112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lessons learned during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impact on medication errors and adverse drug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impact on workload / work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mo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trics (chart pulls, prescriptions writ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impact on huma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assessing readiness to adop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HRQ HIT Grant: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pecific 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mplementation Lesson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ary leadership; safety-oriented; positive,    upbeat 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-way communication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iv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engineering / standardization of workflow integral to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quate investment in infrastructu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priori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is essential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user prior experience variable and influences user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quate testing and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-in-time, one-on-one training; 24 / 7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mplementation Lesson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arly adopters as 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interested in research results as motivation f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safety, workflow /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groups provided opportunity to provid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pharmacies are stakeholders,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love looking at their data with their phys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exam rooms not large enough for compu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retrof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includes ongoing monitoring and development of plans for system dow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ization of purchased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great care; detailed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edication error stud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the impact of e-prescribing on medication errors and adverse drug events (AD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error characteristics and sev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/ post-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rospective review, 10,000 scripts (3,000 for pilot study at 1 internal medicine clin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opted definition and severity index of the NCC MER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sources: prescriptions, EHR, laboratory values, hospital admit / discharge / emergency department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17220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tional Coordinating Council for Medication Error Reporting and Prevention. http://www.nccmerp.org/aboutMedError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417680"/>
          <a:ext cx="8381880" cy="52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17680"/>
                    <a:ext cx="838188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3801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cidence of Potential and Medicatio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6:43:42Z</dcterms:created>
  <dc:creator>willh</dc:creator>
  <dc:description/>
  <dc:language>en-US</dc:language>
  <cp:lastModifiedBy>Beth Devine</cp:lastModifiedBy>
  <dcterms:modified xsi:type="dcterms:W3CDTF">2007-09-27T17:33:09Z</dcterms:modified>
  <cp:revision>66</cp:revision>
  <dc:subject/>
  <dc:title>The impact of e-prescribing on prescriber and staff time in ambulatory care clinics:  A time-motion study </dc:title>
</cp:coreProperties>
</file>