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97C-013E-4DD9-98FD-8EC42DAD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FCE1-08FB-4C63-8C7F-3C3F6AFA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6A5-DC63-4B9B-A3E8-E56832FC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973-5366-4C4D-A744-08C382B2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26A8-2221-45C4-8167-8C3FBF7F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E9F-34A1-42D9-8B42-5B3C320F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6EE-C453-4A2F-8DB1-F0FC49B7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90C-FD4B-424F-98D5-11BBD0A0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67F-3E32-4408-8B56-539D39C8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08D-6F09-4721-AAF7-836602DF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8AA-86C8-4D67-B5D2-EE9495F0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D5E-0A0D-4FCE-8A48-5DC4B82D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E451-4B63-4D7E-9121-2BF85849F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Implementing an e-Prescribing System: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 Journey, Not a Solution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28951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B Devine, JL Wilson-Norton, NM Lawles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W Hollingworth, RN Hansen, BA Comstoc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W Fisk, SD Sulliv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AHRQ HIT Grant #:  5-UC1 HS015319 (PI: Sulliv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AHRQ Training Grant #:  5-K08-HS014739 (PI: Dev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5105520"/>
            <a:ext cx="7391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ment of Pharmacy, University of Washington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verett Clinic, Everett, Wash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6354720"/>
            <a:ext cx="2819520" cy="50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6330960"/>
            <a:ext cx="29718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everity of Potential and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Medication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04920" y="762120"/>
          <a:ext cx="8586720" cy="591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586720" cy="59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55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haracteristics of Errors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920" y="685800"/>
          <a:ext cx="8839080" cy="636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8839080" cy="63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Time-motion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whether the implementation of e-prescribing was at least time-neutral for physicians and staff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dowed each user over a 4 hour shi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am -12 noon, or 1pm-5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consent of clinician &amp;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1371600"/>
            <a:ext cx="3657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1447920"/>
            <a:ext cx="42670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ollected with Timer Pro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http://performance-measurement.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tegories adapted from Overh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TimerPro%20Screen%20Shot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04920" y="655308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verhage. JAMIA 2001;8:361-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Time-motion:  study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2133720"/>
          <a:ext cx="8305920" cy="4370400"/>
        </p:xfrm>
        <a:graphic>
          <a:graphicData uri="http://schemas.openxmlformats.org/drawingml/2006/table">
            <a:tbl>
              <a:tblPr/>
              <a:tblGrid>
                <a:gridCol w="1752480"/>
                <a:gridCol w="1600200"/>
                <a:gridCol w="1676520"/>
                <a:gridCol w="1600200"/>
                <a:gridCol w="167652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280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x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280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x 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ver La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-Mar 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p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280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 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arter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k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bour Poi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g 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D office Desk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280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 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arter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k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hom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 05 – Jan 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reless Lap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2808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r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 4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Quarter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 Ro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k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ontrolled Pre- Post Stu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63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ime-motion results: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verall task types (prescrib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0880" y="1523880"/>
          <a:ext cx="8077320" cy="4730760"/>
        </p:xfrm>
        <a:graphic>
          <a:graphicData uri="http://schemas.openxmlformats.org/drawingml/2006/table">
            <a:tbl>
              <a:tblPr/>
              <a:tblGrid>
                <a:gridCol w="2719440"/>
                <a:gridCol w="1758960"/>
                <a:gridCol w="1758960"/>
                <a:gridCol w="1839960"/>
              </a:tblGrid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T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ilver 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pap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n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min/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arbour Poi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deskto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n=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min/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Snohom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lapto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n=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min/h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uter tas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ing Tas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7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omputer &amp; wri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1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ing to pat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ing to colleag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ing pat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9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ining ch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228600" y="62467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&lt;0.05; chi-squared test Silver Lake vs. other clinics; all other tasks took &lt; 7.5% of total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3784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ime-motion results: 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escribing-related events (prescrib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33520" y="1600200"/>
          <a:ext cx="7772400" cy="4610160"/>
        </p:xfrm>
        <a:graphic>
          <a:graphicData uri="http://schemas.openxmlformats.org/drawingml/2006/table">
            <a:tbl>
              <a:tblPr/>
              <a:tblGrid>
                <a:gridCol w="2752560"/>
                <a:gridCol w="1781280"/>
                <a:gridCol w="1619280"/>
                <a:gridCol w="1619280"/>
              </a:tblGrid>
              <a:tr h="167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Cl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Hand-written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sec/ even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number of ev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-Pr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sec/ev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number of ev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djusted mean dif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sec/event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(95% 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lver Lake (pape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.6 (6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bour Pointe (deskto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.1 (2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.6(7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9.8, 28.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ohomish (lapto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.1 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.5(5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23.4, 43.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si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.7 (10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.0 (13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1.6, 25.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228600" y="6324480"/>
            <a:ext cx="81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Linear mixed effect model, adjusted for prescriber and type of prescription (new/rene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Focus group stud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ore and describe prescriber &amp; staff experiences with and perceptions of the e-prescrib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litative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sample in 3 clinics / 3 stage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 minutes/ group; 3-8 participants; oral con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structured elicitation techniq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domains – expectations, impact, fears, barriers to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sis with Atlas.ti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6858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Focus group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685800"/>
            <a:ext cx="7925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focus group; 67 participants (17 prescribers; 52 RNs &amp; 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background influenced percep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523880"/>
          <a:ext cx="8001000" cy="4960800"/>
        </p:xfrm>
        <a:graphic>
          <a:graphicData uri="http://schemas.openxmlformats.org/drawingml/2006/table">
            <a:tbl>
              <a:tblPr/>
              <a:tblGrid>
                <a:gridCol w="4000320"/>
                <a:gridCol w="4000680"/>
              </a:tblGrid>
              <a:tr h="437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Themes - Perceptions of e-prescribing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uracy, transparency, integ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wnsid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gramming errors; lack of wireless reli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icienc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d after training 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ct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line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at paper-based cli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ired fea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cribers – CDS alerts and favorites lis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cribe from home – an unexpected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love it!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d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ining, feedback, sup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ffff"/>
                      </a:solidFill>
                    </a:lnL>
                    <a:lnR w="5760">
                      <a:solidFill>
                        <a:srgbClr val="ccffff"/>
                      </a:solidFill>
                    </a:lnR>
                    <a:lnT w="5760">
                      <a:solidFill>
                        <a:srgbClr val="ccffff"/>
                      </a:solidFill>
                    </a:lnT>
                    <a:lnB w="5760">
                      <a:solidFill>
                        <a:srgbClr val="cc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63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Research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76440"/>
            <a:ext cx="8229600" cy="64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The Everett Clinic / University of Washington a valuable part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Medication erro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e-prescribing reduces medication error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eliminates types of errors (illegibility, abbreviation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introduces new types of errors (picking error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standardizes care / reduce unnecessary vari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data available to optimize quality &amp; lower cost of prescrib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ime-motion workload / workflow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e-prescribing has minimal impact on prescriber time (12 seconds per even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lo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95% of prescriptions written electronical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umber of monthly chart pulls decreased fro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5,800 (2003) to 650 (2007) – 9-fold reduction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mpact beneficial – users do not wish to go back to paper-based prescrib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86200"/>
            <a:ext cx="72392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Questions?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bdevine@u.washington.ed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64796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The Everett Clinic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447920"/>
            <a:ext cx="7010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ysician owned and managed multi-specialty integrated health-system with a 83-year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4 locations; 60+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cillar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60 physicians/ 1,500+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25,000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00,000 ambulatory visit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5 million Rx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3733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711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Characteristics of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12760" y="1068480"/>
          <a:ext cx="8886960" cy="527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1068480"/>
                    <a:ext cx="8886960" cy="52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Tech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formatio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ly-developed EHR began in 1995: charts, labs and imaging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prescribing implemented beginning during 2003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atures of e-prescribing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e new &amp; refill prescrip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ut = fax/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es choice of medication; generates medication list as prescriptions are 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diatric antibiotic dosing by we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es subscription to commercial drug database as back en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ilds patient drug database, improving diseas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e Everett Clinic’s e-prescrib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Implementation of e-prescrib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ral months in develo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ccuracy and relevance of drug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creens easy to use and involve minimal mani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sic decision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dopt an icon = “MedMa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mplement at pilot site; refills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oluntary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al: Implement on platform of wireless laptop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witch to hardwired desktops in exam rooms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05 exam roo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51 months to last clinic go-l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w: 5,000 prescriptions/ day (95% written); faxed to 600+ pharma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nsition to vendor-purchased EHR in late 2007 – CDS customized; use becomes manda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Medman" descr=""/>
          <p:cNvPicPr/>
          <p:nvPr/>
        </p:nvPicPr>
        <p:blipFill>
          <a:blip r:embed="rId1"/>
          <a:stretch/>
        </p:blipFill>
        <p:spPr>
          <a:xfrm>
            <a:off x="6629400" y="2286000"/>
            <a:ext cx="2112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ture lessons learned during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impact on medication errors and adverse drug ev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asure impact on workload / work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motio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etrics (chart pulls, prescriptions writt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luate impact on huma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vey assessing readiness to adop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04560" y="228600"/>
            <a:ext cx="863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AHRQ HIT Grant:</a:t>
            </a: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pecific Ai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Implementation Lesson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onary leadership; safety-oriented; positive,    upbeat work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-way communication 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rativ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engineering / standardization of workflow integral to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quate investment in infrastructur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priori;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is essential for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-user prior experience variable and influences user 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equate testing and feed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-in-time, one-on-one training; 24 / 7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Implementation Lesson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arly adopters as tr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rs interested in research results as motivation fo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tion safety, workflow / 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cus groups provided opportunity to provid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 pharmacies are stakeholders,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s love looking at their data with their phys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exam rooms not large enough for comput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retrof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enance includes ongoing monitoring and development of plans for system dow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ization of purchased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great care; detailed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Medication error stud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e the impact of e-prescribing on medication errors and adverse drug events (AD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ture error characteristics and sev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-/ post-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rospective review, 10,000 scripts (3,000 for pilot study at 1 internal medicine clini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opted definition and severity index of the NCC MERP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a sources: prescriptions, EHR, laboratory values, hospital admit / discharge / emergency department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172200"/>
            <a:ext cx="762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ational Coordinating Council for Medication Error Reporting and Prevention. http://www.nccmerp.org/aboutMedErrors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417680"/>
          <a:ext cx="8381880" cy="52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17680"/>
                    <a:ext cx="838188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28600" y="38016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cidence of Potential and Medication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6:43:42Z</dcterms:created>
  <dc:creator>willh</dc:creator>
  <dc:description/>
  <dc:language>en-US</dc:language>
  <cp:lastModifiedBy>Beth Devine</cp:lastModifiedBy>
  <dcterms:modified xsi:type="dcterms:W3CDTF">2007-09-27T17:33:09Z</dcterms:modified>
  <cp:revision>66</cp:revision>
  <dc:subject/>
  <dc:title>The impact of e-prescribing on prescriber and staff time in ambulatory care clinics:  A time-motion study </dc:title>
</cp:coreProperties>
</file>