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HRQ 2007 Annual Conference: Improving Healthcare, Improving Lives</a:t>
            </a:r>
            <a:br>
              <a:rPr sz="2400"/>
            </a:b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NOVATIVE STRATEG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TOOLS FOR IMPRO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CA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i Consal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Health Care                                                      Innovations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electronic learning hub for sharing health care service innovations, bringing innovators and adopter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rchable database featuring innovation successes and failures, expert commentaries, lessons learned,  etc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to help health care “Agents of Change” improv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320" y="15685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-based Repository of Cutting-Edge Service Innovati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innovations Exchange-Arrows1"/>
          <p:cNvPicPr/>
          <p:nvPr/>
        </p:nvPicPr>
        <p:blipFill>
          <a:blip r:embed="rId1"/>
          <a:stretch/>
        </p:blipFill>
        <p:spPr>
          <a:xfrm>
            <a:off x="2209680" y="569880"/>
            <a:ext cx="648000" cy="4208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6"/>
          <p:cNvGrpSpPr/>
          <p:nvPr/>
        </p:nvGrpSpPr>
        <p:grpSpPr>
          <a:xfrm>
            <a:off x="4038480" y="2286000"/>
            <a:ext cx="3962160" cy="3700800"/>
            <a:chOff x="4038480" y="2286000"/>
            <a:chExt cx="3962160" cy="3700800"/>
          </a:xfrm>
        </p:grpSpPr>
        <p:pic>
          <p:nvPicPr>
            <p:cNvPr id="95" name="Picture 7" descr="innovations Exchange Web Site"/>
            <p:cNvPicPr/>
            <p:nvPr/>
          </p:nvPicPr>
          <p:blipFill>
            <a:blip r:embed="rId2"/>
            <a:stretch/>
          </p:blipFill>
          <p:spPr>
            <a:xfrm>
              <a:off x="4038480" y="2286000"/>
              <a:ext cx="3962160" cy="336708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96" name="Text Box 8"/>
            <p:cNvSpPr/>
            <p:nvPr/>
          </p:nvSpPr>
          <p:spPr>
            <a:xfrm>
              <a:off x="4362120" y="5587920"/>
              <a:ext cx="33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ww.innovations.ahrq.go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59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is McCarthy, MPH, 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, Innovation Learning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iser Perman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istine Goeschel, RN, MPA, 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atient Safety and Quality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s-Hopkins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Redding, M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sfield Pediatrics in Mansfield,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ryl Aspy, P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essor of Family &amp; Preventive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klahoma University Health Science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4:46:17Z</dcterms:created>
  <dc:creator>jeff.hardy</dc:creator>
  <dc:description/>
  <dc:language>en-US</dc:language>
  <cp:lastModifiedBy>User</cp:lastModifiedBy>
  <dcterms:modified xsi:type="dcterms:W3CDTF">2007-09-27T13:52:30Z</dcterms:modified>
  <cp:revision>9</cp:revision>
  <dc:subject/>
  <dc:title>AHRQ Health Care                                                      Innovations Exchange</dc:title>
</cp:coreProperties>
</file>