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8E5-41D1-4B43-99BE-41693D64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55E-B785-4F18-870E-507C878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969-8D37-4296-99D7-520002EF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4D5-9479-4C94-8831-3C5EA9D9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09E-939D-49D1-B7C4-B676154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DBA-5668-4FCC-8730-FB0A5440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9E3-969C-4F74-9676-0DBAA49E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604-A957-4CFD-8AEA-0901F54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F99-1C63-470F-9937-77988B30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EDE-7E90-4825-BA07-7967868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B23-3DB8-4D04-B6E5-44E61D4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3C2-9C4B-488A-88F5-86CC7A0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Click to edit the title text format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816B-1918-4C69-818A-53A6CFCD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4952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Palatino Linotype"/>
              </a:rPr>
              <a:t>Shifting gears – 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Palatino Linotype"/>
              </a:rPr>
              <a:t>Linking People and Ideas in the Military Health System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Patricia Collins, BSN, MN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September 2007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3772080"/>
            <a:ext cx="50292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57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Healthcare Innovations Program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tarted in 1998 to showcase innovations in healthy lifestyles at the annual State of the Military Health System Conferenc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Now includes access to care, quality, military readiness, cost, and effective patient partnerships in addition to healthy lifestyles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Abstracts are reviewed and winners determined in all categories  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Posters are displayed at the annual conferenc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Awardees give oral presentations at the annual conference and receive an engraved plaque 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9A0-2340-4413-B729-2B568E3BE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Guidance for Five Step Proces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Identify Improvement Opportunities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Develop Action Plan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Implement Changes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Evaluate Impact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Transfer Knowledg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45F-9A09-43D7-8637-B055652AC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Evaluation of Submission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Innovation must be transferable to another ‘like ‘ organization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Evidence-based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Outcome based/measurable with cost avoidance/return on investment; efficiency &amp; effectiveness achieved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ustainable/Institutionalized to maintain results over tim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http://www.tricare.mil/ocmo/innovations.cfm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123-F231-45F3-8F3C-36C1E1C69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Successful Innovation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Palatino Linotype"/>
              </a:rPr>
              <a:t>Access to care in Okinawa Japan Navy Clinic – improved 400%; wait time reduced by 75%; patient satisfaction rose to above 90% -</a:t>
            </a:r>
            <a:endParaRPr b="0" lang="en-US" sz="20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Leadership involvement and commitment; front line staff felt their efforts were appreciated; focus on a single clinic allowed resiliency to overcome initial challenges in a small setting; cultural transformation – patient access became a priority from the front desk to the providers.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Palatino Linotype"/>
              </a:rPr>
              <a:t>Patient and Family Centered Approach to Pharmacy Services – expanded hours of operation; created new pickup window at base exchange; developed software algorithm to expedite processing; reduced waiting time from over an hour to 15 minutes; satisfaction improved from 20% to 0ver 70 %</a:t>
            </a:r>
            <a:endParaRPr b="0" lang="en-US" sz="20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Patient and family involvement in the committee was key to improvements; increased efficiencies resulted in maintaining dispensing of medications for troops who are deployed; cost avoidance of over $200,000; patient feedback sheet routed to the Non-Commissioned officer in pharmacy meant direct communication about any problematic areas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097-CB2F-4C44-9A32-9D44FDA8C2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Successful Innovation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Palatino Linotype"/>
              </a:rPr>
              <a:t>Military Readiness – Soldier Wellness Assessment at Ft Lewis, Madigan Army Medical Center used a multidisciplinary team to develop a comprehensive assessment program for soldiers deploying and those returning from deployment.  They were triaged for 15, 30 or 60 minute behavioral health encounters; 14% were wounded or injured in combat; 35 % reported physical pain affecting their ability to work or exercise.  Over 99% completed the voluntary behavioral health interview; 83% agreed that the assessment will help soldiers get the help they need; 27% report they disclosed a personal problem not previously disclosed.  </a:t>
            </a:r>
            <a:endParaRPr b="0" lang="en-US" sz="20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The three star general’s support was critical – and helped de-stigmatize the behavioral health assessment; over 9,000 soldiers assessed from Jan- Sep 2006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7F1-7794-4C92-92A2-6390C241F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36:19Z</dcterms:created>
  <dc:creator>pcollins</dc:creator>
  <dc:description/>
  <dc:language>en-US</dc:language>
  <cp:lastModifiedBy>pcollins</cp:lastModifiedBy>
  <dcterms:modified xsi:type="dcterms:W3CDTF">2007-09-20T21:01:38Z</dcterms:modified>
  <cp:revision>4</cp:revision>
  <dc:subject/>
  <dc:title>Innovations in the Military Health System</dc:title>
</cp:coreProperties>
</file>