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DD5-0C50-4EC7-A7A5-9E918C85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CCE-C6DD-4F0D-B90D-81D21238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41A-0AED-4AB3-A66C-2D27D711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494-1347-43BC-9C6B-C4E87837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836-0BEA-47A7-A5E8-4C632FC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7F3-F958-49F7-8CF4-8F874F48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BB6-8346-4621-B3D2-2BD75CB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3B3-2172-41FF-9A6C-99599EB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5BD-71A8-466D-A3CD-D5E4460B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0DB-DD47-4DD8-B106-E85F473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D5E-6D5F-4297-8A8D-3CED3512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089-66C9-49E0-9661-400CCE1D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Click to edit the title text format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3" marL="16002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4" marL="2057400" indent="-228600">
              <a:spcBef>
                <a:spcPts val="601"/>
              </a:spcBef>
              <a:buClr>
                <a:srgbClr val="336699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B2C0-549F-4268-872F-408C6ECB2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4952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Palatino Linotype"/>
              </a:rPr>
              <a:t>Shifting gears – </a:t>
            </a:r>
            <a:br>
              <a:rPr sz="2400"/>
            </a:br>
            <a:r>
              <a:rPr b="1" lang="en-US" sz="2400" spc="-1" strike="noStrike">
                <a:solidFill>
                  <a:srgbClr val="336699"/>
                </a:solidFill>
                <a:latin typeface="Palatino Linotype"/>
              </a:rPr>
              <a:t>Linking People and Ideas in the Military Health System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6386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Patricia Collins, BSN, MN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September 2007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14800" y="3772080"/>
            <a:ext cx="5029200" cy="30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Healthcare Innovations Program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tarted in 1998 to showcase innovations in healthy lifestyles at the annual State of the Military Health System Conferenc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Now includes access to care, quality, military readiness, cost, and effective patient partnerships in addition to healthy lifestyl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Abstracts are reviewed and winners determined in all categories  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Posters are displayed at the annual conferenc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Awardees give oral presentations at the annual conference and receive an engraved plaque 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37F6-DF76-4669-84CF-68DD05389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Guidance for Five Step Proces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dentify Improvement Opportuniti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Develop Action Plan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mplement Changes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Evaluate Impact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Transfer Knowledg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2840-924E-40BE-A946-3B3603F1B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Evaluation of Submiss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Innovation must be transferable to another ‘like ‘ organization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Evidence-based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Outcome based/measurable with cost avoidance/return on investment; efficiency &amp; effectiveness achieved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Sustainable/Institutionalized to maintain results over time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Palatino Linotype"/>
              </a:rPr>
              <a:t>http://www.tricare.mil/ocmo/innovations.cfm</a:t>
            </a:r>
            <a:endParaRPr b="0" lang="en-US" sz="24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706-D001-458E-AF88-C62463E808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Successful Innovat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Access to care in Okinawa Japan Navy Clinic – improved 400%; wait time reduced by 75%; patient satisfaction rose to above 90% -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Leadership involvement and commitment; front line staff felt their efforts were appreciated; focus on a single clinic allowed resiliency to overcome initial challenges in a small setting; cultural transformation – patient access became a priority from the front desk to the providers.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Patient and Family Centered Approach to Pharmacy Services – expanded hours of operation; created new pickup window at base exchange; developed software algorithm to expedite processing; reduced waiting time from over an hour to 15 minutes; satisfaction improved from 20% to 0ver 70 %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Patient and family involvement in the committee was key to improvements; increased efficiencies resulted in maintaining dispensing of medications for troops who are deployed; cost avoidance of over $200,000; patient feedback sheet routed to the Non-Commissioned officer in pharmacy meant direct communication about any problematic areas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DC6-9057-4375-A957-AFA9AB7996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Palatino Linotype"/>
              </a:rPr>
              <a:t>Successful Innovations</a:t>
            </a:r>
            <a:endParaRPr b="0" lang="en-US" sz="2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Palatino Linotype"/>
              </a:rPr>
              <a:t>Military Readiness – Soldier Wellness Assessment at Ft Lewis, Madigan Army Medical Center used a multidisciplinary team to develop a comprehensive assessment program for soldiers deploying and those returning from deployment.  They were triaged for 15, 30 or 60 minute behavioral health encounters; 14% were wounded or injured in combat; 35 % reported physical pain affecting their ability to work or exercise.  Over 99% completed the voluntary behavioral health interview; 83% agreed that the assessment will help soldiers get the help they need; 27% report they disclosed a personal problem not previously disclosed.  </a:t>
            </a:r>
            <a:endParaRPr b="0" lang="en-US" sz="2000" spc="-1" strike="noStrike">
              <a:solidFill>
                <a:srgbClr val="336699"/>
              </a:solidFill>
              <a:latin typeface="Palatino Linotype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Palatino Linotype"/>
              </a:rPr>
              <a:t>The three star general’s support was critical – and helped de-stigmatize the behavioral health assessment; over 9,000 soldiers assessed from Jan- Sep 2006</a:t>
            </a: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F794-DE79-4AC6-BF3A-2212F8B6F8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36:19Z</dcterms:created>
  <dc:creator>pcollins</dc:creator>
  <dc:description/>
  <dc:language>en-US</dc:language>
  <cp:lastModifiedBy>pcollins</cp:lastModifiedBy>
  <dcterms:modified xsi:type="dcterms:W3CDTF">2007-09-20T21:01:38Z</dcterms:modified>
  <cp:revision>4</cp:revision>
  <dc:subject/>
  <dc:title>Innovations in the Military Health System</dc:title>
</cp:coreProperties>
</file>