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C1E95F-1729-49F9-9E77-7C914F0E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.  Facilitate practice team based quality improvement mee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oblems and the changes that practices want to m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 information about how others are doing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resources needed and provide hands-on ass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 physicians and staff to use informa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 practices with glitches and problems that occur in their use of information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 in the development, testing, and implementation of health IT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actice/community needs regarding consultations/referr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actice/community needs for C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 physicians and staff to follow study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data for studies requiring intermittent data col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t and/or pull charts for others to au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 study data safely to the research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date practices regarding the status and findings from recent or ongoing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new research ideas from practitioners and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ideas for improving research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t feedback on the types of studies being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t feedback on manuscripts prior to sub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647960"/>
            <a:ext cx="5607000" cy="39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 Free Families/Beginning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ve Services Reminder System Studies (Phase I-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 of Preventive Services in Primary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ing Colorectal Cancer Screening in Primary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thromycin Trial in Community Settings (AZMATICS)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 the Rate and Quality of EPSDT Examinations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ription for Health -   P4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647960"/>
            <a:ext cx="5607000" cy="39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 Free Families/Beginning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ve Services Reminder System Studies (Phase I-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 of Preventive Services in Primary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ing Colorectal Cancer Screening in Primary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thromycin Trial in Community Settings (AZMATICS)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 the Rate and Quality of EPSDT Examinations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ription for Health -   P4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ice system intervention typically includ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chart audits and feedback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nurse train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dentifying high risk patie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patient reminders and education materia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establishing recall systems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cross-pollination” of good ideas an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.  Facilitate practice team based quality improvement mee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oblems and the changes that practices want to m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 information about how others are doing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resources needed and provide hands-on ass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 physicians and staff to use informa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 practices with glitches and problems that occur in their use of information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 in the development, testing, and implementation of health IT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actice/community needs regarding consultations/referr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actice/community needs for C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 physicians and staff to follow study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data for studies requiring intermittent data col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t and/or pull charts for others to au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 study data safely to the research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date practices regarding the status and findings from recent or ongoing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new research ideas from practitioners and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ideas for improving research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t feedback on the types of studies being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t feedback on manuscripts prior to sub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.  Facilitate practice team based quality improvement mee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oblems and the changes that practices want to m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 information about how others are doing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resources needed and provide hands-on ass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 physicians and staff to use informa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 practices with glitches and problems that occur in their use of information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 in the development, testing, and implementation of health IT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actice/community needs regarding consultations/referr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actice/community needs for C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 physicians and staff to follow study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data for studies requiring intermittent data col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t and/or pull charts for others to au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 study data safely to the research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date practices regarding the status and findings from recent or ongoing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new research ideas from practitioners and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ideas for improving research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t feedback on the types of studies being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t feedback on manuscripts prior to sub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32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8884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264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88840"/>
            <a:ext cx="264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88840"/>
            <a:ext cx="264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320"/>
            <a:ext cx="264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320"/>
            <a:ext cx="264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320"/>
            <a:ext cx="264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888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40158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88840"/>
            <a:ext cx="40158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88840"/>
            <a:ext cx="40158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40158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8884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8884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888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6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728" b="1961"/>
          <a:stretch/>
        </p:blipFill>
        <p:spPr>
          <a:xfrm>
            <a:off x="0" y="6145200"/>
            <a:ext cx="9144000" cy="7128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733920" y="6172200"/>
            <a:ext cx="12571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990360"/>
            <a:ext cx="7848720" cy="184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Office Redesign to Increase Prevention Services? Give “PEAs” a Chance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3733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heryl B. Aspy, Ph.D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rofessor, Family &amp; Preventive Medicin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UHSC – College of Medicin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lahoma City, OK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How Do PEAs Work with  Practices?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1360" y="1409400"/>
            <a:ext cx="88012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9999"/>
                </a:solidFill>
                <a:latin typeface="Arial"/>
              </a:rPr>
              <a:t>Conventional methods include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800000"/>
                </a:solidFill>
                <a:latin typeface="Arial"/>
              </a:rPr>
              <a:t>medical records review, feedback, benchmarking, and academic detailing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9999"/>
                </a:solidFill>
                <a:latin typeface="Arial"/>
              </a:rPr>
              <a:t>Practice facilitation techniques include:</a:t>
            </a:r>
            <a:r>
              <a:rPr b="1" lang="en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800000"/>
                </a:solidFill>
                <a:latin typeface="Arial"/>
              </a:rPr>
              <a:t>observation and characterization of practices and their readiness to change, </a:t>
            </a:r>
            <a:r>
              <a:rPr b="1" lang="en" sz="2400" spc="-1" strike="noStrike">
                <a:solidFill>
                  <a:srgbClr val="333399"/>
                </a:solidFill>
                <a:latin typeface="Arial"/>
              </a:rPr>
              <a:t>coordination of Plan-Do-Study-Act (PDSA) quality improvement cycles within the practices,</a:t>
            </a:r>
            <a:r>
              <a:rPr b="1" lang="en" sz="2400" spc="-1" strike="noStrike">
                <a:solidFill>
                  <a:srgbClr val="800000"/>
                </a:solidFill>
                <a:latin typeface="Arial"/>
              </a:rPr>
              <a:t> identification of effective strategies and exemplar practices, “</a:t>
            </a:r>
            <a:r>
              <a:rPr b="1" lang="en" sz="2400" spc="-1" strike="noStrike">
                <a:solidFill>
                  <a:srgbClr val="333399"/>
                </a:solidFill>
                <a:latin typeface="Arial"/>
              </a:rPr>
              <a:t>cross-pollination” of good ideas and solutions between practices,</a:t>
            </a:r>
            <a:r>
              <a:rPr b="1" lang="en" sz="2400" spc="-1" strike="noStrike">
                <a:solidFill>
                  <a:srgbClr val="800000"/>
                </a:solidFill>
                <a:latin typeface="Arial"/>
              </a:rPr>
              <a:t> and implementation of health information technology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What has Been the Outcome?</a:t>
            </a:r>
            <a:endParaRPr b="1" lang="en-US" sz="5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10552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208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What Has Been the Outcome?</a:t>
            </a:r>
            <a:endParaRPr b="1" lang="en-US" sz="5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3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EAing – What PEAs d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EA Pods – The practices they facilita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plit PEAs – Half-time PEA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EA Soup – Weekly problem solving ti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Keeping the PEAs – Funding source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EAs on Earth – HIPAA &amp; PHS Training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teamed PEAs - A hot day in Oklahom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EAs be with you – What you learn today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ll we are saying is  - Give PEAs a chanc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What Has Been the Outcome?</a:t>
            </a:r>
            <a:endParaRPr b="1" lang="en-US" sz="5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actices have consistently reported their satisfaction and appreciation for PEA service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EAs have demonstrated their contribution to project outcomes in both RCTs and Intervention Trials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mmography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_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4H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IP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EPSDT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What Is Innovative About PEAs?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here is no other position in health care that unites the community practitioner with the academic researcher like a PEA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As provide the link between the academic center and the community practice and this allows each to be influenced by the other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ood ideas or “best practices” in one practice are cross-pollinated into another via the PEA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As are both “us” and “them” due to their strong ties to the practice and to the academic center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657600" y="1523880"/>
            <a:ext cx="1828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?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"/>
              </a:rPr>
              <a:t>The Problem</a:t>
            </a:r>
            <a:endParaRPr b="1" lang="en-US" sz="6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actice-Based Research Network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Oklahoma Physicians Resource/Research Network - OKPRN)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projects required practice redesign to implement RTC protocol to increase preventive service deliver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HRQ funded Diabetes Care projec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HRQ funded TRIP projec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actices have great difficulty redesigning their procedures  without help because of continuous workflow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"/>
              </a:rPr>
              <a:t>The Problem</a:t>
            </a:r>
            <a:endParaRPr b="1" lang="en-US" sz="6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Other projects required patient recruitment and enrollment – which meant that someone in the practice must be certified for protection of human subjects – a 3-step process at our institution including a 1-day seminar – highly impractical fo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WJ P4H project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- AZMATIC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"/>
              </a:rPr>
              <a:t>The Solution</a:t>
            </a:r>
            <a:endParaRPr b="1" lang="en-US" sz="6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193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actice Enhancement Assistants  - P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534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"/>
              </a:rPr>
              <a:t>What is a PEA?</a:t>
            </a:r>
            <a:endParaRPr b="1" lang="en-US" sz="6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 Practice Facilitato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Develops a relationship with a group of practices over a period of time, in order to help them to evaluate and improve their quality of car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Helps the primary care team to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ess the current state of the practice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lan, implement, and evaluate the effectiveness of office system interventions that enhance prevention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Requirements to be a PEA</a:t>
            </a:r>
            <a:endParaRPr b="1" lang="en-US" sz="5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Master’s degree in a health related field (e.g., MPH in Epidemiology or Health Promotion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xperience in healthca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 current driver’s license and car (have help will travel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formation Technology skills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nterpersonal skill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Requirements to be a PEA</a:t>
            </a:r>
            <a:endParaRPr b="1" lang="en-US" sz="5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22860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raining provided in the following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Administrative and departmental procedure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•Human subjects protection training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•Health Insurance Portability and Accountability Act (HIPAA)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•Practice-based research skills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•Medical records review (chart auditing)  •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apid cycle quality improvement process (PDSA cycles)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 •Group facilitation and motivational methods (quality circles)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•Practice characterization model, change management approache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 •The Chronic Care Model and its implications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•Practice visits (shadowing PEAs in practices)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 •Health information technology implementation and utilization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•Past and ongoing OKPRN studie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•“Best practices” study methodology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•Preventive services guidelines and implementation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•Billing and coding (E&amp;M Coding), coding resources •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lectronic Practice Record (demographics, progress notes, and plans for practice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) •Handouts, patient education materials, practice resource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•Project-specific training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How Do PEAs Work with  Practices?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1360" y="1980720"/>
            <a:ext cx="8801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sually assigned 8 practices and visit each one every other week – 1 day per week meet with other PEAs to discuss projects and share ideas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Begin by meeting staff, developing relationships, and observing practice function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Recommend that practices implement weekly staff meetings – attend and facilitate as needed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ovide any office assistance they can to build relationship, e.g., provide patient education materials, BMI charts; file charts; data entry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How Do PEAs Work with  Practices?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 PEA can help a practice implement changes suggested by research or clinical practice guidelines to improve the quality of car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 PEA can help a practice use health information technolog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 PEA can help in the facilitation of research (e.g., patient enrollment, staff training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9:07:40Z</dcterms:created>
  <dc:creator>caspy</dc:creator>
  <dc:description/>
  <dc:language>en-US</dc:language>
  <cp:lastModifiedBy>Cheryl B. Aspy, Ph.D., Professor</cp:lastModifiedBy>
  <dcterms:modified xsi:type="dcterms:W3CDTF">2007-09-27T02:01:21Z</dcterms:modified>
  <cp:revision>47</cp:revision>
  <dc:subject/>
  <dc:title>Longitudinal Study of Youth Assets and Youth Risk Behaviors</dc:title>
</cp:coreProperties>
</file>