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DF0223-4239-48BF-A2F1-E31C7A678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 Facilitate practice team based quality improvement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oblems and the changes that practices want to m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 information about how others are doing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resources needed and provide hands-o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use informa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practices with glitches and problems that occur in their use of information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in the development, testing, and implementation of health I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regarding consultations/referr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for C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follow study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data for studies requiring intermittent data col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t and/or pull charts for others to au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 study data safely to the research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date practices regarding the status and findings from recent or ongoing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new research ideas from practitioners and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ideas for improving research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the types of studies being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manuscripts prior to 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01280" y="4647960"/>
            <a:ext cx="5607000" cy="39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 Free Families/Beginning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ve Services Reminder System Studies (Phase I-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Preventive Services in Primary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ing Colorectal Cancer Screening in Primary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thromycin Trial in Community Settings (AZMATICS)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the Rate and Quality of EPSDT Examinations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ription for Health -   P4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647960"/>
            <a:ext cx="5607000" cy="39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 Free Families/Beginning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ive Services Reminder System Studies (Phase I-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Preventive Services in Primary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ing Colorectal Cancer Screening in Primary Car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thromycin Trial in Community Settings (AZMATICS)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 the Rate and Quality of EPSDT Examinations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ription for Health -   P4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ice system intervention typically includ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chart audits and feedback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nurse training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identifying high risk patie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patient reminders and education materia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establishing recall systems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cross-pollination” of good ideas an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 Facilitate practice team based quality improvement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oblems and the changes that practices want to m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 information about how others are doing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resources needed and provide hands-o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use informa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practices with glitches and problems that occur in their use of information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in the development, testing, and implementation of health I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regarding consultations/referr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for C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follow study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data for studies requiring intermittent data col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t and/or pull charts for others to au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 study data safely to the research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date practices regarding the status and findings from recent or ongoing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new research ideas from practitioners and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ideas for improving research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the types of studies being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manuscripts prior to 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 Facilitate practice team based quality improvement meet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oblems and the changes that practices want to ma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 information about how others are doing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resources needed and provide hands-on ass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use information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practices with glitches and problems that occur in their use of information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st in the development, testing, and implementation of health IT 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regarding consultations/referr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y practice/community needs for C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in physicians and staff to follow study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data for studies requiring intermittent data col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t and/or pull charts for others to au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port study data safely to the research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pdate practices regarding the status and findings from recent or ongoing stud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new research ideas from practitioners and sta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lect ideas for improving research protoc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the types of studies being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t feedback on manuscripts prior to 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5432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8884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8884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5432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5432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54320"/>
            <a:ext cx="264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5432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88840"/>
            <a:ext cx="4015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32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136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728" b="1961"/>
          <a:stretch/>
        </p:blipFill>
        <p:spPr>
          <a:xfrm>
            <a:off x="0" y="6145200"/>
            <a:ext cx="9144000" cy="7128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733920" y="6172200"/>
            <a:ext cx="125712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990360"/>
            <a:ext cx="7848720" cy="184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Office Redesign to Increase Prevention Services? Give “PEAs” a Chance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3733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heryl B. Aspy, Ph.D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rofessor, Family &amp; Preventive Medicin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UHSC – College of Medicin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klahoma City, OK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How Do PEAs Work with  Practices?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1360" y="1409400"/>
            <a:ext cx="88012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9999"/>
                </a:solidFill>
                <a:latin typeface="Arial"/>
              </a:rPr>
              <a:t>Conventional methods include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800000"/>
                </a:solidFill>
                <a:latin typeface="Arial"/>
              </a:rPr>
              <a:t>medical records review, feedback, benchmarking, and academic detailing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009999"/>
                </a:solidFill>
                <a:latin typeface="Arial"/>
              </a:rPr>
              <a:t>Practice facilitation techniques include:</a:t>
            </a:r>
            <a:r>
              <a:rPr b="1" lang="en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400" spc="-1" strike="noStrike">
                <a:solidFill>
                  <a:srgbClr val="800000"/>
                </a:solidFill>
                <a:latin typeface="Arial"/>
              </a:rPr>
              <a:t>observation and characterization of practices and their readiness to change, </a:t>
            </a:r>
            <a:r>
              <a:rPr b="1" lang="en" sz="2400" spc="-1" strike="noStrike">
                <a:solidFill>
                  <a:srgbClr val="333399"/>
                </a:solidFill>
                <a:latin typeface="Arial"/>
              </a:rPr>
              <a:t>coordination of Plan-Do-Study-Act (PDSA) quality improvement cycles within the practices,</a:t>
            </a:r>
            <a:r>
              <a:rPr b="1" lang="en" sz="2400" spc="-1" strike="noStrike">
                <a:solidFill>
                  <a:srgbClr val="800000"/>
                </a:solidFill>
                <a:latin typeface="Arial"/>
              </a:rPr>
              <a:t> identification of effective strategies and exemplar practices, “</a:t>
            </a:r>
            <a:r>
              <a:rPr b="1" lang="en" sz="2400" spc="-1" strike="noStrike">
                <a:solidFill>
                  <a:srgbClr val="333399"/>
                </a:solidFill>
                <a:latin typeface="Arial"/>
              </a:rPr>
              <a:t>cross-pollination” of good ideas and solutions between practices,</a:t>
            </a:r>
            <a:r>
              <a:rPr b="1" lang="en" sz="2400" spc="-1" strike="noStrike">
                <a:solidFill>
                  <a:srgbClr val="800000"/>
                </a:solidFill>
                <a:latin typeface="Arial"/>
              </a:rPr>
              <a:t> and implementation of health information technology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What has Been the Outcome?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208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What Has Been the Outcome?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3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EAing – What PEAs d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A Pods – The practices they facilitat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plit PEAs – Half-time PEA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A Soup – Weekly problem solving tim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Keeping the PEAs – Funding source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As on Earth – HIPAA &amp; PHS Training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teamed PEAs - A hot day in Oklahom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As be with you – What you learn today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ll we are saying is  - Give PEAs a chanc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What Has Been the Outcome?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actices have consistently reported their satisfaction and appreciation for PEA services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EAs have demonstrated their contribution to project outcomes in both RCTs and Intervention Trials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mmography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_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4H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IP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EPSDT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What Is Innovative About PEAs?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here is no other position in health care that unites the community practitioner with the academic researcher like a PEA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As provide the link between the academic center and the community practice and this allows each to be influenced by the other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ood ideas or “best practices” in one practice are cross-pollinated into another via the PEA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As are both “us” and “them” due to their strong ties to the practice and to the academic center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657600" y="1523880"/>
            <a:ext cx="18288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The Problem</a:t>
            </a:r>
            <a:endParaRPr b="1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actice-Based Research Network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Oklahoma Physicians Resource/Research Network - OKPRN)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projects required practice redesign to implement RTC protocol to increase preventive service deliver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HRQ funded Diabetes Care projec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HRQ funded TRIP projec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actices have great difficulty redesigning their procedures  without help because of continuous workflow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The Problem</a:t>
            </a:r>
            <a:endParaRPr b="1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ther projects required patient recruitment and enrollment – which meant that someone in the practice must be certified for protection of human subjects – a 3-step process at our institution including a 1-day seminar – highly impractical fo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WJ P4H project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- AZMATIC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The Solution</a:t>
            </a:r>
            <a:endParaRPr b="1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8884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actice Enhancement Assistants  - P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534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80"/>
                </a:solidFill>
                <a:latin typeface="Arial"/>
              </a:rPr>
              <a:t>What is a PEA?</a:t>
            </a:r>
            <a:endParaRPr b="1" lang="en-US" sz="6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 Practice Facilitator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Develops a relationship with a group of practices over a period of time, in order to help them to evaluate and improve their quality of car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Helps the primary care team to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ssess the current state of the practice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lan, implement, and evaluate the effectiveness of office system interventions that enhance prevention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Requirements to be a PEA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Master’s degree in a health related field (e.g., MPH in Epidemiology or Health Promotion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xperience in healthcar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 current driver’s license and car (have help will travel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formation Technology skills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nterpersonal skills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80"/>
                </a:solidFill>
                <a:latin typeface="Arial"/>
              </a:rPr>
              <a:t>Requirements to be a PEA</a:t>
            </a:r>
            <a:endParaRPr b="1" lang="en-US" sz="5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22860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raining provided in the following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•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dministrative and departmental procedure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•Human subjects protection training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•Health Insurance Portability and Accountability Act (HIPAA)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actice-based research skills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•Medical records review (chart auditing)  •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Rapid cycle quality improvement process (PDSA cycles)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•Group facilitation and motivational methods (quality circles)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actice characterization model, change management approache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•The Chronic Care Model and its implications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actice visits (shadowing PEAs in practices)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•Health information technology implementation and utilization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ast and ongoing OKPRN studie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•“Best practices” study methodology 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eventive services guidelines and implementation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•Billing and coding (E&amp;M Coding), coding resources •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lectronic Practice Record (demographics, progress notes, and plans for practice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) •Handouts, patient education materials, practice resource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•Project-specific training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1040"/>
                <a:tab algn="l" pos="4967280"/>
                <a:tab algn="l" pos="5014800"/>
                <a:tab algn="l" pos="5200560"/>
                <a:tab algn="l" pos="5386320"/>
                <a:tab algn="l" pos="5572080"/>
                <a:tab algn="l" pos="5757840"/>
                <a:tab algn="l" pos="5943600"/>
                <a:tab algn="l" pos="6129360"/>
                <a:tab algn="l" pos="6315120"/>
                <a:tab algn="l" pos="6500880"/>
                <a:tab algn="l" pos="6686640"/>
                <a:tab algn="l" pos="6872400"/>
                <a:tab algn="l" pos="7058160"/>
                <a:tab algn="l" pos="7243920"/>
                <a:tab algn="l" pos="7429680"/>
                <a:tab algn="l" pos="7615080"/>
                <a:tab algn="l" pos="7800840"/>
                <a:tab algn="l" pos="7986600"/>
                <a:tab algn="l" pos="8172360"/>
                <a:tab algn="l" pos="8358120"/>
                <a:tab algn="l" pos="854388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How Do PEAs Work with  Practices?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1360" y="1980720"/>
            <a:ext cx="8801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Usually assigned 8 practices and visit each one every other week – 1 day per week meet with other PEAs to discuss projects and share ideas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Begin by meeting staff, developing relationships, and observing practice function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Recommend that practices implement weekly staff meetings – attend and facilitate as needed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vide any office assistance they can to build relationship, e.g., provide patient education materials, BMI charts; file charts; data entry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How Do PEAs Work with  Practices?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 PEA can help a practice implement changes suggested by research or clinical practice guidelines to improve the quality of care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 PEA can help a practice use health information technolog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 PEA can help in the facilitation of research (e.g., patient enrollment, staff training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9:07:40Z</dcterms:created>
  <dc:creator>caspy</dc:creator>
  <dc:description/>
  <dc:language>en-US</dc:language>
  <cp:lastModifiedBy>Cheryl B. Aspy, Ph.D., Professor</cp:lastModifiedBy>
  <dcterms:modified xsi:type="dcterms:W3CDTF">2007-09-27T02:01:21Z</dcterms:modified>
  <cp:revision>47</cp:revision>
  <dc:subject/>
  <dc:title>Longitudinal Study of Youth Assets and Youth Risk Behaviors</dc:title>
</cp:coreProperties>
</file>