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3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3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 type="sldNum" idx="3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1AAEE8-CAEE-437F-87E1-AA61967F0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2B9C6C-F17D-4E82-88FE-3B1E98954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3E27C9-6A21-46F1-AD2F-2A9D9FF23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64A-D2A8-4AFC-8C38-2C16A98B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9E3-767F-466D-8B4B-58B76AC2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AD5A2-B9D0-404F-986E-68BCCCFD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C086D-3931-458C-8B1B-6EB8CF67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48CDA-89C9-48C3-A7A6-EAF801C0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F644C-F108-4040-9C5F-3AE74449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9B45A-D1E8-4D53-8D94-36BB0D91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AFEC7-B2AF-45BC-9378-A1F1D849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8CA40-66D1-4680-BD22-444663CF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DAA6B-7328-43AA-BBDE-C5EEB06A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ADFAD-25F0-4F93-A6FD-967CB1A4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58AA5-A50C-487D-AAC0-D491877C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439-F619-447C-84A2-807F3C75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83566-3186-4781-80B3-A5E58824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4B512-6B04-47A6-9D83-40EF261B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77586-B428-462A-B5D6-A270E4F3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29658-976D-409F-9C2F-9528ED6C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EFBAE-22AD-4ABD-A86A-EB9EA943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AD67A-5098-486B-8E11-AB78FB3B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5D2CC-67A5-437F-8EB1-26B7EE36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3046C-5697-4F72-999A-6E3343B8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A4DDC-D1B5-4FD6-9DDC-9C399B31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F5FFA-B4AC-4B1B-9BA6-FBFBA207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33E7-033C-4C6C-A9A1-F6BEDF8A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ABBE7-4E93-4801-938E-AE4935E1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D706-7A52-4AA5-96F8-ACAAC285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9C27-5B63-4AD1-8C62-CA487BFE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4D7E-D412-49DF-89FE-6D0AE20F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F8D2-B3F5-4014-AFCF-EAEA241B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18D8-8E50-416B-9E82-E851DBEA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8AF2-6942-4D43-B071-25AB186C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B518-FAD3-4603-A73B-9E71AC6F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73E-55BE-4B2B-8895-AF68A1E5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9D69-07E5-4AC2-A33F-12F2A336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C19E-E908-43A8-A504-53E5CA33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8F1A-D3C2-4D97-8F42-0955BCBF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3F80-6BA2-4B0F-AFFE-B2B8F41A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DC85-419E-4764-83A7-6F212671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F119F-080E-4152-9B53-7C4BB9AD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F5ABD-A9F1-423B-B76F-4DA14422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2D02C-4694-4BE6-BC9C-F0D3D013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B70CE-7FD0-41E6-AC49-E7549F68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C1C60-BE5B-4A79-A702-25EA68E2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657-3350-462D-9037-A25B286C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D5E48-0EE8-48E7-9851-BBBFF56A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C6CF9-51CF-4D95-86C2-05655B67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44DB0-F799-4036-BCBC-9840A614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2840B-E13F-4C90-BF3F-33F0C237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A1F8A-C711-4797-B1E1-7A683D17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D3AC4-B78D-4AE2-BE67-6AFDD8DF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24566-8BB9-407B-9BF4-1A434136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7814F-DEA6-4594-AE24-DAECC1CF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DD056-0587-41BC-8CF9-DC3DE7E4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9B573-1117-4F98-A455-2275DA67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DFD-08AE-4E0D-A2D2-DAA94E48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B913F-3D20-46FC-ACF0-F4B88A2E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21CDB-C678-46F8-A950-9584BD55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C2808-2122-4A35-A1AD-68506F70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3169A-03F0-4BD6-88D2-4B799488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EE778-02AD-4D91-8DF8-0E0BA1CA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BC2FF-93FE-4BD7-8921-E7014500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437EF-0B47-4322-851C-3B557EB5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668CD-1A02-4524-97C8-225D197A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F833C-3183-4780-BA65-6112A703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DC9EF-C5B3-4FEC-8E3C-25F226C9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2A88-BC61-4664-9E32-479FF258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6D9F9-502F-4C06-92E2-A2B56302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98340-85D4-4295-BB9C-35FB734A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A5FB8-916D-4DF0-8205-BC79D10A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E1372-3A8B-4DB4-9B46-E6B9EF01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C827C-B7E7-4954-AE0A-2ED15515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0B00E-3CF5-4497-93F6-16256B24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36245-FA36-4B37-A081-A0267151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80E65-0D06-41A9-BF23-B0A5E81F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7D97E-65DB-421F-9D58-D3EC4B9D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57290-0410-4FC1-9675-AD03BB21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D3D-9FC7-412A-9EE9-84065AA1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BEF23-4BED-4FAA-86F0-D88C052E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4811A-C450-475C-B77D-BF6B45CD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90330-3268-438E-B6D9-7F6FEFA7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8D557-DB7D-4A43-8E5E-23DA79F1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01E06-8B38-45A3-AFA3-FF2436EE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61018-C888-4D3E-99F6-0A5A2267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78FCC-86E2-4884-AEF2-9629AD8F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2E4B1-32CD-410A-90C4-D98D35CA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033EA-4108-4B09-BA35-5DA48E8C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CE136-3FBF-4A6D-A4D5-987A62CF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3C25-794A-4EB4-BDF9-718ED981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05990-AB29-4425-8680-3F768D3D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19CDC-5A7B-4312-91D6-D7331599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BC95A-2262-44F2-9774-FAA0F934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09A58-A135-4C23-AD5E-F10353C0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C618D-169E-4B84-94B1-AAFBACC8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EF631-45B4-40E1-A2B9-FED22417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3CBD1-E4B4-4DC8-8E15-C5717176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3DE54-AE1B-4C25-9C0E-DC3E5470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AAC32-BC54-435B-B194-B083E359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BE598-B5CF-436A-891A-35BE27B7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09A9-B4F1-405B-8DB5-EF190A18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9058B-3EF3-4587-B296-AC909E7C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AA856-6018-473E-84C3-AE9492FA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AD81A-EB68-483C-8B95-484CDA9C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47FCC-7EA4-485C-BA55-EAB716BD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919EE-608A-4F5B-9665-D5FCB3BE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EB028-6E7B-4CE0-A931-1B718734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4A075-F595-4698-B12B-1954DB7A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344A4-B509-42FC-AC20-FDFDB918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00820-6C61-4BDA-8919-D0D67CCC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A32B6-8C0F-4609-8595-7026C3AC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359-79A1-4E6E-A4C2-03C3E490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B968C-3B75-4BF6-BF63-460404AB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D63C1-2F69-4928-A591-B5FC5A5C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39061-BBD4-4B05-B036-552826A6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33A35-FAE4-43F3-9E84-A68C4CF7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18E58-1606-46EB-8C19-6F81FFD8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BABDF-39C7-4D2C-AF91-5C81FB22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2D572-2ED4-47F1-938F-73DDFB49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18860-48AF-4882-ABAD-E48A68F3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B9429-8070-4C80-8279-430ADFFE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92BB3-C9BF-4BDE-A64D-DE1C2EE3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16CEB9-36F2-4703-8506-1CFE0B3BA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3300"/>
              </a:buClr>
              <a:buSzPct val="150000"/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61"/>
              </a:spcBef>
              <a:buClr>
                <a:srgbClr val="6600cc"/>
              </a:buClr>
              <a:buFont typeface="Arial"/>
              <a:buChar char="♦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EE8C32-EB22-472E-858D-804F5E81E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21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21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3938760"/>
            <a:ext cx="4038120" cy="2187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648320" y="3938760"/>
            <a:ext cx="4038120" cy="2187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8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6D763C-27A7-40E3-BCB7-36E84899B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21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4648320" y="3938760"/>
            <a:ext cx="4038120" cy="2187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2216C8-5C14-45B1-9074-63968A9C7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  <a:ea typeface="Gulim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  <a:ea typeface="Gulim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  <a:ea typeface="Gulim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  <a:ea typeface="Gulim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  <a:ea typeface="Gulim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  <a:ea typeface="Gulim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424113-D4FD-4130-B1D9-E915ADF66FB4}" type="slidenum">
              <a:rPr b="0" lang="en-US" sz="14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820EC2-FB43-45D3-A687-8FA3277E1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24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88EE63-EEA2-4633-8367-DA2A574E7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B3704C-54E6-4328-9F3B-871B53AEA5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293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9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30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2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A591A0-9C61-4152-9111-9E2EBC5857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9B73BF-49DC-4E26-A2ED-E65B20A97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0" y="2971800"/>
            <a:ext cx="9143640" cy="5428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chemeClr val="accent2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jeev Arora M.D., FA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 of Medic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ive Vice Chai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New Mexico School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61"/>
              </a:spcBef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32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304920" y="304920"/>
            <a:ext cx="60195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COMMUNITY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457200" y="1143000"/>
            <a:ext cx="8686440" cy="5636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8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No cost CME’s  and Nursing CEU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Professional interaction with colleagues with simila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 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interest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  –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Less isolation with improved recruitment and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A mix of work an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Obtain HCV cert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Access to specialty consultation with GI, hepatolog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 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psychiatry, infectious diseases, addiction specialist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 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pharmacist, patient educato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0" y="649116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6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8" descr=""/>
          <p:cNvPicPr/>
          <p:nvPr/>
        </p:nvPicPr>
        <p:blipFill>
          <a:blip r:embed="rId3"/>
          <a:stretch/>
        </p:blipFill>
        <p:spPr>
          <a:xfrm>
            <a:off x="152280" y="640080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9"/>
          <p:cNvSpPr/>
          <p:nvPr/>
        </p:nvSpPr>
        <p:spPr>
          <a:xfrm>
            <a:off x="838080" y="0"/>
            <a:ext cx="525744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 TO RURAL 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IMG_5705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IMG_5815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762120" y="304920"/>
            <a:ext cx="5562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DISEASE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1066680" y="1752480"/>
            <a:ext cx="7619760" cy="4966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8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Common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Management is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Evolving treatments and medic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High societal impact (health and econom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Serious outcomes of untreated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Improved outcomes with diseas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0" y="632448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6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3"/>
          <a:stretch/>
        </p:blipFill>
        <p:spPr>
          <a:xfrm>
            <a:off x="228600" y="617220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9"/>
          <p:cNvSpPr/>
          <p:nvPr/>
        </p:nvSpPr>
        <p:spPr>
          <a:xfrm>
            <a:off x="838080" y="228600"/>
            <a:ext cx="49525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EASE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6324480" y="2438280"/>
            <a:ext cx="479160" cy="410976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76320" y="304920"/>
            <a:ext cx="62481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HEALTHCARE IN NEW 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4930920" y="2443320"/>
            <a:ext cx="479160" cy="410976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7750080" y="2443320"/>
            <a:ext cx="479160" cy="410976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3406680" y="2443320"/>
            <a:ext cx="479160" cy="410976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 rot="16200000">
            <a:off x="4579920" y="-307440"/>
            <a:ext cx="479160" cy="735300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 rot="16200000">
            <a:off x="4579920" y="987840"/>
            <a:ext cx="479160" cy="735300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3276720" y="1600200"/>
            <a:ext cx="129492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chemeClr val="accent2"/>
                </a:solidFill>
                <a:latin typeface="Tw Cen MT"/>
              </a:rPr>
              <a:t>UNM H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4848120" y="1224000"/>
            <a:ext cx="10951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chemeClr val="accent2"/>
                </a:solidFill>
                <a:latin typeface="Tw Cen MT"/>
              </a:rPr>
              <a:t>State Health D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1"/>
          <p:cNvSpPr/>
          <p:nvPr/>
        </p:nvSpPr>
        <p:spPr>
          <a:xfrm>
            <a:off x="6019920" y="1447920"/>
            <a:ext cx="1447560" cy="1339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chemeClr val="accent2"/>
                </a:solidFill>
                <a:latin typeface="Tw Cen MT"/>
              </a:rPr>
              <a:t>Private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2"/>
          <p:cNvSpPr/>
          <p:nvPr/>
        </p:nvSpPr>
        <p:spPr>
          <a:xfrm>
            <a:off x="7391520" y="1224000"/>
            <a:ext cx="17521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chemeClr val="accent2"/>
                </a:solidFill>
                <a:latin typeface="Tw Cen MT"/>
              </a:rPr>
              <a:t>Community Health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3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560" name="Text Box 14"/>
          <p:cNvSpPr/>
          <p:nvPr/>
        </p:nvSpPr>
        <p:spPr>
          <a:xfrm>
            <a:off x="1143000" y="3124080"/>
            <a:ext cx="1980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Hepatitis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1143000" y="4419720"/>
            <a:ext cx="43430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H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6"/>
          <p:cNvSpPr/>
          <p:nvPr/>
        </p:nvSpPr>
        <p:spPr>
          <a:xfrm rot="16200000">
            <a:off x="4579920" y="2278440"/>
            <a:ext cx="479160" cy="735300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7"/>
          <p:cNvSpPr/>
          <p:nvPr/>
        </p:nvSpPr>
        <p:spPr>
          <a:xfrm>
            <a:off x="1143000" y="5715000"/>
            <a:ext cx="5866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Hepatiti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762120" y="304920"/>
            <a:ext cx="50288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BUILDING BRID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-92160" y="636120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0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2" descr=""/>
          <p:cNvPicPr/>
          <p:nvPr/>
        </p:nvPicPr>
        <p:blipFill>
          <a:blip r:embed="rId3"/>
          <a:stretch/>
        </p:blipFill>
        <p:spPr>
          <a:xfrm>
            <a:off x="152280" y="624852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23"/>
          <p:cNvSpPr/>
          <p:nvPr/>
        </p:nvSpPr>
        <p:spPr>
          <a:xfrm>
            <a:off x="914400" y="152280"/>
            <a:ext cx="51051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ILDING BRID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4"/>
          <p:cNvSpPr/>
          <p:nvPr/>
        </p:nvSpPr>
        <p:spPr>
          <a:xfrm>
            <a:off x="152280" y="1143000"/>
            <a:ext cx="2819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PARETTO’S PRINC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6324480" y="2438280"/>
            <a:ext cx="479160" cy="410976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76320" y="304920"/>
            <a:ext cx="62481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HEALTHCARE IN NEW 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4930920" y="2443320"/>
            <a:ext cx="479160" cy="410976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7750080" y="2443320"/>
            <a:ext cx="479160" cy="410976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3406680" y="2443320"/>
            <a:ext cx="479160" cy="410976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 rot="16200000">
            <a:off x="4579920" y="-307440"/>
            <a:ext cx="479160" cy="735300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8"/>
          <p:cNvSpPr/>
          <p:nvPr/>
        </p:nvSpPr>
        <p:spPr>
          <a:xfrm rot="16200000">
            <a:off x="4579920" y="987840"/>
            <a:ext cx="479160" cy="735300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2362320" y="1600200"/>
            <a:ext cx="1676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chemeClr val="accent2"/>
                </a:solidFill>
                <a:latin typeface="Tw Cen MT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4419720" y="1224000"/>
            <a:ext cx="152352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chemeClr val="accent2"/>
                </a:solidFill>
                <a:latin typeface="Tw Cen MT"/>
              </a:rPr>
              <a:t>Primary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1"/>
          <p:cNvSpPr/>
          <p:nvPr/>
        </p:nvSpPr>
        <p:spPr>
          <a:xfrm>
            <a:off x="5486400" y="1600200"/>
            <a:ext cx="1904760" cy="1339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chemeClr val="accent2"/>
                </a:solidFill>
                <a:latin typeface="Tw Cen MT"/>
              </a:rPr>
              <a:t>Pharmac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7315200" y="1224000"/>
            <a:ext cx="19807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chemeClr val="accent2"/>
                </a:solidFill>
                <a:latin typeface="Tw Cen MT"/>
              </a:rPr>
              <a:t>Nurse Practitio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3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583" name="Text Box 14"/>
          <p:cNvSpPr/>
          <p:nvPr/>
        </p:nvSpPr>
        <p:spPr>
          <a:xfrm>
            <a:off x="1143000" y="3124080"/>
            <a:ext cx="1980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Hepatitis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5"/>
          <p:cNvSpPr/>
          <p:nvPr/>
        </p:nvSpPr>
        <p:spPr>
          <a:xfrm>
            <a:off x="1143000" y="4419720"/>
            <a:ext cx="4419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H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6"/>
          <p:cNvSpPr/>
          <p:nvPr/>
        </p:nvSpPr>
        <p:spPr>
          <a:xfrm rot="16200000">
            <a:off x="4579920" y="2278440"/>
            <a:ext cx="479160" cy="735300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7"/>
          <p:cNvSpPr/>
          <p:nvPr/>
        </p:nvSpPr>
        <p:spPr>
          <a:xfrm>
            <a:off x="1143000" y="5715000"/>
            <a:ext cx="5638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patiti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8"/>
          <p:cNvSpPr/>
          <p:nvPr/>
        </p:nvSpPr>
        <p:spPr>
          <a:xfrm>
            <a:off x="457200" y="0"/>
            <a:ext cx="59432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KNOWLEDGE  IMPORTANT -  NO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9"/>
          <p:cNvSpPr/>
          <p:nvPr/>
        </p:nvSpPr>
        <p:spPr>
          <a:xfrm>
            <a:off x="0" y="632448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0"/>
          <p:cNvSpPr/>
          <p:nvPr/>
        </p:nvSpPr>
        <p:spPr>
          <a:xfrm>
            <a:off x="0" y="1143000"/>
            <a:ext cx="6095520" cy="363960"/>
          </a:xfrm>
          <a:prstGeom prst="rect">
            <a:avLst/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chemeClr val="accent2"/>
                </a:solidFill>
                <a:latin typeface="Arial"/>
              </a:rPr>
              <a:t>Use Existing Community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21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2" descr=""/>
          <p:cNvPicPr/>
          <p:nvPr/>
        </p:nvPicPr>
        <p:blipFill>
          <a:blip r:embed="rId2"/>
          <a:stretch/>
        </p:blipFill>
        <p:spPr>
          <a:xfrm>
            <a:off x="0" y="0"/>
            <a:ext cx="6400440" cy="11426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3" descr=""/>
          <p:cNvPicPr/>
          <p:nvPr/>
        </p:nvPicPr>
        <p:blipFill>
          <a:blip r:embed="rId3"/>
          <a:stretch/>
        </p:blipFill>
        <p:spPr>
          <a:xfrm>
            <a:off x="228600" y="617220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24"/>
          <p:cNvSpPr/>
          <p:nvPr/>
        </p:nvSpPr>
        <p:spPr>
          <a:xfrm>
            <a:off x="762120" y="0"/>
            <a:ext cx="525744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LEDGE  IMPORTANT -  NOT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762120" y="-92160"/>
            <a:ext cx="55623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COMMUNITY HEALTH EXTENSION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12"/>
          <p:cNvSpPr/>
          <p:nvPr/>
        </p:nvSpPr>
        <p:spPr>
          <a:xfrm>
            <a:off x="4191120" y="3809880"/>
            <a:ext cx="914040" cy="685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_s1033"/>
          <p:cNvSpPr/>
          <p:nvPr/>
        </p:nvSpPr>
        <p:spPr>
          <a:xfrm>
            <a:off x="3733920" y="4038480"/>
            <a:ext cx="1752120" cy="52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400" rIns="113400" tIns="56520" bIns="5652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accent2"/>
                </a:solidFill>
                <a:latin typeface="Tw Cen MT"/>
              </a:rPr>
              <a:t> </a:t>
            </a:r>
            <a:r>
              <a:rPr b="1" lang="en-US" sz="1600" spc="-1" strike="noStrike">
                <a:solidFill>
                  <a:schemeClr val="accent2"/>
                </a:solidFill>
                <a:latin typeface="Tw Cen MT"/>
              </a:rPr>
              <a:t>CH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4"/>
          <p:cNvSpPr/>
          <p:nvPr/>
        </p:nvSpPr>
        <p:spPr>
          <a:xfrm>
            <a:off x="-92160" y="636120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5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2189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7" descr=""/>
          <p:cNvPicPr/>
          <p:nvPr/>
        </p:nvPicPr>
        <p:blipFill>
          <a:blip r:embed="rId3"/>
          <a:stretch/>
        </p:blipFill>
        <p:spPr>
          <a:xfrm>
            <a:off x="0" y="624852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18"/>
          <p:cNvSpPr/>
          <p:nvPr/>
        </p:nvSpPr>
        <p:spPr>
          <a:xfrm>
            <a:off x="609480" y="0"/>
            <a:ext cx="54860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MUNITY HEALTH EXTENSION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-304560" y="1447920"/>
            <a:ext cx="10591920" cy="5805360"/>
            <a:chOff x="-304560" y="1447920"/>
            <a:chExt cx="10591920" cy="5805360"/>
          </a:xfrm>
        </p:grpSpPr>
        <p:sp>
          <p:nvSpPr>
            <p:cNvPr id="604" name=""/>
            <p:cNvSpPr/>
            <p:nvPr/>
          </p:nvSpPr>
          <p:spPr>
            <a:xfrm>
              <a:off x="-304560" y="1447920"/>
              <a:ext cx="10591920" cy="58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_s976902"/>
            <p:cNvSpPr/>
            <p:nvPr/>
          </p:nvSpPr>
          <p:spPr>
            <a:xfrm>
              <a:off x="3200400" y="1827360"/>
              <a:ext cx="2894040" cy="2746440"/>
            </a:xfrm>
            <a:prstGeom prst="ellipse">
              <a:avLst/>
            </a:prstGeom>
            <a:solidFill>
              <a:srgbClr val="3399ff">
                <a:alpha val="50000"/>
              </a:srgbClr>
            </a:solidFill>
            <a:ln w="4680">
              <a:solidFill>
                <a:srgbClr val="333399"/>
              </a:solidFill>
              <a:round/>
            </a:ln>
          </p:spPr>
          <p:txBody>
            <a:bodyPr lIns="92160" rIns="92160" tIns="47160" bIns="471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976903"/>
            <p:cNvSpPr/>
            <p:nvPr/>
          </p:nvSpPr>
          <p:spPr>
            <a:xfrm>
              <a:off x="3429000" y="2590920"/>
              <a:ext cx="2438280" cy="525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113400" rIns="113400" tIns="56520" bIns="5652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976904"/>
            <p:cNvSpPr/>
            <p:nvPr/>
          </p:nvSpPr>
          <p:spPr>
            <a:xfrm>
              <a:off x="4114800" y="3517920"/>
              <a:ext cx="2895480" cy="2747880"/>
            </a:xfrm>
            <a:prstGeom prst="ellipse">
              <a:avLst/>
            </a:prstGeom>
            <a:solidFill>
              <a:srgbClr val="66ff66">
                <a:alpha val="50000"/>
              </a:srgbClr>
            </a:solidFill>
            <a:ln w="4680">
              <a:solidFill>
                <a:srgbClr val="009999"/>
              </a:solidFill>
              <a:round/>
            </a:ln>
          </p:spPr>
          <p:txBody>
            <a:bodyPr lIns="92160" rIns="92160" tIns="47160" bIns="471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976905"/>
            <p:cNvSpPr/>
            <p:nvPr/>
          </p:nvSpPr>
          <p:spPr>
            <a:xfrm>
              <a:off x="5181480" y="4800600"/>
              <a:ext cx="1905120" cy="525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113400" rIns="113400" tIns="56520" bIns="5652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976906"/>
            <p:cNvSpPr/>
            <p:nvPr/>
          </p:nvSpPr>
          <p:spPr>
            <a:xfrm>
              <a:off x="2286000" y="3505320"/>
              <a:ext cx="2895480" cy="274788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4680">
              <a:solidFill>
                <a:srgbClr val="99cc00"/>
              </a:solidFill>
              <a:round/>
            </a:ln>
          </p:spPr>
          <p:txBody>
            <a:bodyPr lIns="92160" rIns="92160" tIns="47160" bIns="471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976907"/>
            <p:cNvSpPr/>
            <p:nvPr/>
          </p:nvSpPr>
          <p:spPr>
            <a:xfrm>
              <a:off x="2361960" y="4724280"/>
              <a:ext cx="1752480" cy="525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113400" rIns="113400" tIns="56520" bIns="5652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914400" y="0"/>
            <a:ext cx="54097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ROLE OF KNOWLEDGE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1066680" y="2895480"/>
            <a:ext cx="7619760" cy="1031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>
            <a:off x="2286000" y="4647960"/>
            <a:ext cx="44193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6"/>
          <p:cNvSpPr/>
          <p:nvPr/>
        </p:nvSpPr>
        <p:spPr>
          <a:xfrm>
            <a:off x="2286000" y="1752480"/>
            <a:ext cx="360" cy="28954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rc 7"/>
          <p:cNvSpPr/>
          <p:nvPr/>
        </p:nvSpPr>
        <p:spPr>
          <a:xfrm flipV="1" rot="21360000">
            <a:off x="2590560" y="2666520"/>
            <a:ext cx="3419280" cy="1370880"/>
          </a:xfrm>
          <a:custGeom>
            <a:avLst/>
            <a:gdLst>
              <a:gd name="textAreaLeft" fmla="*/ 0 w 3419280"/>
              <a:gd name="textAreaRight" fmla="*/ 3419640 w 3419280"/>
              <a:gd name="textAreaTop" fmla="*/ 360 h 1370880"/>
              <a:gd name="textAreaBottom" fmla="*/ 1371600 h 1370880"/>
            </a:gdLst>
            <a:ahLst/>
            <a:rect l="textAreaLeft" t="textAreaTop" r="textAreaRight" b="textAreaBottom"/>
            <a:pathLst>
              <a:path fill="none" w="26199" h="21600">
                <a:moveTo>
                  <a:pt x="0" y="495"/>
                </a:moveTo>
                <a:cubicBezTo>
                  <a:pt x="1511" y="166"/>
                  <a:pt x="3053" y="-1"/>
                  <a:pt x="4600" y="0"/>
                </a:cubicBezTo>
                <a:cubicBezTo>
                  <a:pt x="16445" y="0"/>
                  <a:pt x="26081" y="9540"/>
                  <a:pt x="26198" y="21385"/>
                </a:cubicBezTo>
              </a:path>
              <a:path stroke="0" w="26199" h="21600">
                <a:moveTo>
                  <a:pt x="0" y="495"/>
                </a:moveTo>
                <a:cubicBezTo>
                  <a:pt x="1511" y="166"/>
                  <a:pt x="3053" y="-1"/>
                  <a:pt x="4600" y="0"/>
                </a:cubicBezTo>
                <a:cubicBezTo>
                  <a:pt x="16445" y="0"/>
                  <a:pt x="26081" y="9540"/>
                  <a:pt x="26198" y="21385"/>
                </a:cubicBezTo>
                <a:lnTo>
                  <a:pt x="4600" y="21600"/>
                </a:lnTo>
                <a:close/>
              </a:path>
            </a:pathLst>
          </a:cu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8"/>
          <p:cNvSpPr/>
          <p:nvPr/>
        </p:nvSpPr>
        <p:spPr>
          <a:xfrm flipV="1">
            <a:off x="2589840" y="4074120"/>
            <a:ext cx="3497400" cy="2336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 rot="21386400">
            <a:off x="4571640" y="4114800"/>
            <a:ext cx="2412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rning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0"/>
          <p:cNvSpPr/>
          <p:nvPr/>
        </p:nvSpPr>
        <p:spPr>
          <a:xfrm>
            <a:off x="3886200" y="5105160"/>
            <a:ext cx="1981080" cy="360"/>
          </a:xfrm>
          <a:prstGeom prst="line">
            <a:avLst/>
          </a:prstGeom>
          <a:ln w="2857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4495680" y="5181480"/>
            <a:ext cx="91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WordArt 12"/>
          <p:cNvSpPr txBox="1"/>
          <p:nvPr/>
        </p:nvSpPr>
        <p:spPr>
          <a:xfrm rot="20045400">
            <a:off x="4038120" y="3352680"/>
            <a:ext cx="1571400" cy="2440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Medical Knowledge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3"/>
          <p:cNvSpPr/>
          <p:nvPr/>
        </p:nvSpPr>
        <p:spPr>
          <a:xfrm>
            <a:off x="6400800" y="2666880"/>
            <a:ext cx="360" cy="12193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6629400" y="3048120"/>
            <a:ext cx="1980720" cy="71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5"/>
          <p:cNvSpPr/>
          <p:nvPr/>
        </p:nvSpPr>
        <p:spPr>
          <a:xfrm>
            <a:off x="2057400" y="6095880"/>
            <a:ext cx="5790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ing the  Definition of Underserved  Popul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6"/>
          <p:cNvSpPr/>
          <p:nvPr/>
        </p:nvSpPr>
        <p:spPr>
          <a:xfrm>
            <a:off x="0" y="649116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7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8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9" descr=""/>
          <p:cNvPicPr/>
          <p:nvPr/>
        </p:nvPicPr>
        <p:blipFill>
          <a:blip r:embed="rId3"/>
          <a:stretch/>
        </p:blipFill>
        <p:spPr>
          <a:xfrm>
            <a:off x="76320" y="632448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20"/>
          <p:cNvSpPr/>
          <p:nvPr/>
        </p:nvSpPr>
        <p:spPr>
          <a:xfrm>
            <a:off x="914400" y="0"/>
            <a:ext cx="510516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KNOWLEDGE NETWORK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685800" y="304920"/>
            <a:ext cx="56383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KNOWLEDGE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762120" y="1752480"/>
            <a:ext cx="7619760" cy="2934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8193"/>
                </a:solidFill>
                <a:latin typeface="Tw Cen MT"/>
              </a:rPr>
              <a:t>Patient specific knowledg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r>
              <a:rPr b="1" lang="en-US" sz="2800" spc="-1" strike="noStrike">
                <a:solidFill>
                  <a:srgbClr val="008193"/>
                </a:solidFill>
                <a:latin typeface="Tw Cen MT"/>
              </a:rPr>
              <a:t>Access to Case-Specific Information like Access to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0" y="649116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6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8" descr=""/>
          <p:cNvPicPr/>
          <p:nvPr/>
        </p:nvPicPr>
        <p:blipFill>
          <a:blip r:embed="rId3"/>
          <a:stretch/>
        </p:blipFill>
        <p:spPr>
          <a:xfrm>
            <a:off x="76320" y="632448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9"/>
          <p:cNvSpPr/>
          <p:nvPr/>
        </p:nvSpPr>
        <p:spPr>
          <a:xfrm>
            <a:off x="838080" y="304920"/>
            <a:ext cx="51051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LEDG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reeform 2"/>
          <p:cNvSpPr/>
          <p:nvPr/>
        </p:nvSpPr>
        <p:spPr>
          <a:xfrm>
            <a:off x="1015920" y="915840"/>
            <a:ext cx="7529040" cy="5182920"/>
          </a:xfrm>
          <a:custGeom>
            <a:avLst/>
            <a:gdLst>
              <a:gd name="textAreaLeft" fmla="*/ 0 w 7529040"/>
              <a:gd name="textAreaRight" fmla="*/ 7529400 w 7529040"/>
              <a:gd name="textAreaTop" fmla="*/ 0 h 5182920"/>
              <a:gd name="textAreaBottom" fmla="*/ 5183280 h 5182920"/>
            </a:gdLst>
            <a:ahLst/>
            <a:rect l="textAreaLeft" t="textAreaTop" r="textAreaRight" b="textAreaBottom"/>
            <a:pathLst>
              <a:path w="10671" h="13061">
                <a:moveTo>
                  <a:pt x="10497" y="1296"/>
                </a:moveTo>
                <a:lnTo>
                  <a:pt x="10497" y="11240"/>
                </a:lnTo>
                <a:lnTo>
                  <a:pt x="4517" y="11238"/>
                </a:lnTo>
                <a:lnTo>
                  <a:pt x="4551" y="11532"/>
                </a:lnTo>
                <a:lnTo>
                  <a:pt x="4517" y="11622"/>
                </a:lnTo>
                <a:lnTo>
                  <a:pt x="5022" y="12005"/>
                </a:lnTo>
                <a:lnTo>
                  <a:pt x="1672" y="12005"/>
                </a:lnTo>
                <a:lnTo>
                  <a:pt x="1672" y="13061"/>
                </a:lnTo>
                <a:lnTo>
                  <a:pt x="4" y="13061"/>
                </a:lnTo>
                <a:lnTo>
                  <a:pt x="0" y="0"/>
                </a:lnTo>
                <a:lnTo>
                  <a:pt x="10671" y="0"/>
                </a:lnTo>
                <a:lnTo>
                  <a:pt x="10671" y="1296"/>
                </a:lnTo>
                <a:lnTo>
                  <a:pt x="10497" y="1296"/>
                </a:lnTo>
                <a:lnTo>
                  <a:pt x="10497" y="1296"/>
                </a:lnTo>
              </a:path>
            </a:pathLst>
          </a:cu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3"/>
          <p:cNvSpPr/>
          <p:nvPr/>
        </p:nvSpPr>
        <p:spPr>
          <a:xfrm>
            <a:off x="1015920" y="914400"/>
            <a:ext cx="7529040" cy="5184360"/>
          </a:xfrm>
          <a:custGeom>
            <a:avLst/>
            <a:gdLst>
              <a:gd name="textAreaLeft" fmla="*/ 0 w 7529040"/>
              <a:gd name="textAreaRight" fmla="*/ 7529400 w 7529040"/>
              <a:gd name="textAreaTop" fmla="*/ 0 h 5184360"/>
              <a:gd name="textAreaBottom" fmla="*/ 5184720 h 5184360"/>
            </a:gdLst>
            <a:ahLst/>
            <a:rect l="textAreaLeft" t="textAreaTop" r="textAreaRight" b="textAreaBottom"/>
            <a:pathLst>
              <a:path w="10671" h="13061">
                <a:moveTo>
                  <a:pt x="10497" y="1296"/>
                </a:moveTo>
                <a:lnTo>
                  <a:pt x="10497" y="11240"/>
                </a:lnTo>
                <a:lnTo>
                  <a:pt x="4517" y="11238"/>
                </a:lnTo>
                <a:lnTo>
                  <a:pt x="4551" y="11532"/>
                </a:lnTo>
                <a:lnTo>
                  <a:pt x="4517" y="11622"/>
                </a:lnTo>
                <a:lnTo>
                  <a:pt x="5022" y="12005"/>
                </a:lnTo>
                <a:lnTo>
                  <a:pt x="1672" y="12005"/>
                </a:lnTo>
                <a:lnTo>
                  <a:pt x="1672" y="13061"/>
                </a:lnTo>
                <a:lnTo>
                  <a:pt x="4" y="13061"/>
                </a:lnTo>
                <a:lnTo>
                  <a:pt x="0" y="0"/>
                </a:lnTo>
                <a:lnTo>
                  <a:pt x="10671" y="0"/>
                </a:lnTo>
                <a:lnTo>
                  <a:pt x="10671" y="1296"/>
                </a:lnTo>
                <a:lnTo>
                  <a:pt x="10497" y="1296"/>
                </a:lnTo>
              </a:path>
            </a:pathLst>
          </a:cu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4"/>
          <p:cNvSpPr/>
          <p:nvPr/>
        </p:nvSpPr>
        <p:spPr>
          <a:xfrm>
            <a:off x="1614600" y="914400"/>
            <a:ext cx="7529040" cy="5184360"/>
          </a:xfrm>
          <a:custGeom>
            <a:avLst/>
            <a:gdLst>
              <a:gd name="textAreaLeft" fmla="*/ 0 w 7529040"/>
              <a:gd name="textAreaRight" fmla="*/ 7529400 w 7529040"/>
              <a:gd name="textAreaTop" fmla="*/ 0 h 5184360"/>
              <a:gd name="textAreaBottom" fmla="*/ 5184720 h 5184360"/>
            </a:gdLst>
            <a:ahLst/>
            <a:rect l="textAreaLeft" t="textAreaTop" r="textAreaRight" b="textAreaBottom"/>
            <a:pathLst>
              <a:path w="10673" h="13063">
                <a:moveTo>
                  <a:pt x="10498" y="1296"/>
                </a:moveTo>
                <a:lnTo>
                  <a:pt x="10498" y="11238"/>
                </a:lnTo>
                <a:lnTo>
                  <a:pt x="4520" y="11238"/>
                </a:lnTo>
                <a:lnTo>
                  <a:pt x="4553" y="11534"/>
                </a:lnTo>
                <a:lnTo>
                  <a:pt x="4520" y="11624"/>
                </a:lnTo>
                <a:lnTo>
                  <a:pt x="5026" y="12007"/>
                </a:lnTo>
                <a:lnTo>
                  <a:pt x="1673" y="12007"/>
                </a:lnTo>
                <a:lnTo>
                  <a:pt x="1673" y="13063"/>
                </a:lnTo>
                <a:lnTo>
                  <a:pt x="0" y="13063"/>
                </a:lnTo>
                <a:lnTo>
                  <a:pt x="0" y="0"/>
                </a:lnTo>
                <a:lnTo>
                  <a:pt x="10673" y="0"/>
                </a:lnTo>
                <a:lnTo>
                  <a:pt x="10673" y="1296"/>
                </a:lnTo>
                <a:lnTo>
                  <a:pt x="10498" y="1296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5"/>
          <p:cNvSpPr/>
          <p:nvPr/>
        </p:nvSpPr>
        <p:spPr>
          <a:xfrm>
            <a:off x="952560" y="878040"/>
            <a:ext cx="7529040" cy="5182920"/>
          </a:xfrm>
          <a:custGeom>
            <a:avLst/>
            <a:gdLst>
              <a:gd name="textAreaLeft" fmla="*/ 0 w 7529040"/>
              <a:gd name="textAreaRight" fmla="*/ 7529400 w 7529040"/>
              <a:gd name="textAreaTop" fmla="*/ 0 h 5182920"/>
              <a:gd name="textAreaBottom" fmla="*/ 5183280 h 5182920"/>
            </a:gdLst>
            <a:ahLst/>
            <a:rect l="textAreaLeft" t="textAreaTop" r="textAreaRight" b="textAreaBottom"/>
            <a:pathLst>
              <a:path w="10673" h="13063">
                <a:moveTo>
                  <a:pt x="10498" y="1296"/>
                </a:moveTo>
                <a:lnTo>
                  <a:pt x="10498" y="11238"/>
                </a:lnTo>
                <a:lnTo>
                  <a:pt x="4520" y="11238"/>
                </a:lnTo>
                <a:lnTo>
                  <a:pt x="4553" y="11534"/>
                </a:lnTo>
                <a:lnTo>
                  <a:pt x="4520" y="11624"/>
                </a:lnTo>
                <a:lnTo>
                  <a:pt x="5026" y="12007"/>
                </a:lnTo>
                <a:lnTo>
                  <a:pt x="1673" y="12007"/>
                </a:lnTo>
                <a:lnTo>
                  <a:pt x="1673" y="13063"/>
                </a:lnTo>
                <a:lnTo>
                  <a:pt x="0" y="13063"/>
                </a:lnTo>
                <a:lnTo>
                  <a:pt x="0" y="0"/>
                </a:lnTo>
                <a:lnTo>
                  <a:pt x="10673" y="0"/>
                </a:lnTo>
                <a:lnTo>
                  <a:pt x="10673" y="1296"/>
                </a:lnTo>
                <a:lnTo>
                  <a:pt x="10498" y="1296"/>
                </a:lnTo>
                <a:lnTo>
                  <a:pt x="10498" y="1296"/>
                </a:lnTo>
              </a:path>
            </a:pathLst>
          </a:custGeom>
          <a:noFill/>
          <a:ln w="1587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6"/>
          <p:cNvSpPr/>
          <p:nvPr/>
        </p:nvSpPr>
        <p:spPr>
          <a:xfrm>
            <a:off x="952560" y="878040"/>
            <a:ext cx="7529040" cy="5182920"/>
          </a:xfrm>
          <a:custGeom>
            <a:avLst/>
            <a:gdLst>
              <a:gd name="textAreaLeft" fmla="*/ 0 w 7529040"/>
              <a:gd name="textAreaRight" fmla="*/ 7529400 w 7529040"/>
              <a:gd name="textAreaTop" fmla="*/ 0 h 5182920"/>
              <a:gd name="textAreaBottom" fmla="*/ 5183280 h 5182920"/>
            </a:gdLst>
            <a:ahLst/>
            <a:rect l="textAreaLeft" t="textAreaTop" r="textAreaRight" b="textAreaBottom"/>
            <a:pathLst>
              <a:path w="10673" h="13063">
                <a:moveTo>
                  <a:pt x="10498" y="1296"/>
                </a:moveTo>
                <a:lnTo>
                  <a:pt x="10498" y="11238"/>
                </a:lnTo>
                <a:lnTo>
                  <a:pt x="4520" y="11238"/>
                </a:lnTo>
                <a:lnTo>
                  <a:pt x="4553" y="11534"/>
                </a:lnTo>
                <a:lnTo>
                  <a:pt x="4520" y="11624"/>
                </a:lnTo>
                <a:lnTo>
                  <a:pt x="5026" y="12007"/>
                </a:lnTo>
                <a:lnTo>
                  <a:pt x="1673" y="12007"/>
                </a:lnTo>
                <a:lnTo>
                  <a:pt x="1673" y="13063"/>
                </a:lnTo>
                <a:lnTo>
                  <a:pt x="0" y="13063"/>
                </a:lnTo>
                <a:lnTo>
                  <a:pt x="0" y="0"/>
                </a:lnTo>
                <a:lnTo>
                  <a:pt x="10673" y="0"/>
                </a:lnTo>
                <a:lnTo>
                  <a:pt x="10673" y="1296"/>
                </a:lnTo>
                <a:lnTo>
                  <a:pt x="10498" y="1296"/>
                </a:lnTo>
              </a:path>
            </a:pathLst>
          </a:cu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7"/>
          <p:cNvSpPr/>
          <p:nvPr/>
        </p:nvSpPr>
        <p:spPr>
          <a:xfrm>
            <a:off x="914400" y="857160"/>
            <a:ext cx="1879200" cy="904680"/>
          </a:xfrm>
          <a:custGeom>
            <a:avLst/>
            <a:gdLst>
              <a:gd name="textAreaLeft" fmla="*/ 0 w 1879200"/>
              <a:gd name="textAreaRight" fmla="*/ 1879560 w 187920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2663" h="2279">
                <a:moveTo>
                  <a:pt x="2663" y="0"/>
                </a:moveTo>
                <a:lnTo>
                  <a:pt x="2655" y="214"/>
                </a:lnTo>
                <a:lnTo>
                  <a:pt x="2411" y="479"/>
                </a:lnTo>
                <a:lnTo>
                  <a:pt x="2411" y="2279"/>
                </a:lnTo>
                <a:lnTo>
                  <a:pt x="0" y="2279"/>
                </a:lnTo>
                <a:lnTo>
                  <a:pt x="0" y="0"/>
                </a:lnTo>
                <a:lnTo>
                  <a:pt x="2663" y="0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8"/>
          <p:cNvSpPr/>
          <p:nvPr/>
        </p:nvSpPr>
        <p:spPr>
          <a:xfrm>
            <a:off x="950760" y="878040"/>
            <a:ext cx="1879200" cy="904680"/>
          </a:xfrm>
          <a:custGeom>
            <a:avLst/>
            <a:gdLst>
              <a:gd name="textAreaLeft" fmla="*/ 0 w 1879200"/>
              <a:gd name="textAreaRight" fmla="*/ 1879560 w 187920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2663" h="2279">
                <a:moveTo>
                  <a:pt x="2663" y="0"/>
                </a:moveTo>
                <a:lnTo>
                  <a:pt x="2655" y="214"/>
                </a:lnTo>
                <a:lnTo>
                  <a:pt x="2411" y="479"/>
                </a:lnTo>
                <a:lnTo>
                  <a:pt x="2411" y="2279"/>
                </a:lnTo>
                <a:lnTo>
                  <a:pt x="0" y="2279"/>
                </a:lnTo>
                <a:lnTo>
                  <a:pt x="0" y="0"/>
                </a:lnTo>
                <a:lnTo>
                  <a:pt x="2663" y="0"/>
                </a:lnTo>
                <a:lnTo>
                  <a:pt x="2663" y="0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9"/>
          <p:cNvSpPr/>
          <p:nvPr/>
        </p:nvSpPr>
        <p:spPr>
          <a:xfrm>
            <a:off x="950760" y="878040"/>
            <a:ext cx="1879200" cy="904680"/>
          </a:xfrm>
          <a:custGeom>
            <a:avLst/>
            <a:gdLst>
              <a:gd name="textAreaLeft" fmla="*/ 0 w 1879200"/>
              <a:gd name="textAreaRight" fmla="*/ 1879560 w 187920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2663" h="2279">
                <a:moveTo>
                  <a:pt x="2663" y="0"/>
                </a:moveTo>
                <a:lnTo>
                  <a:pt x="2655" y="214"/>
                </a:lnTo>
                <a:lnTo>
                  <a:pt x="2411" y="479"/>
                </a:lnTo>
                <a:lnTo>
                  <a:pt x="2411" y="2279"/>
                </a:lnTo>
                <a:lnTo>
                  <a:pt x="0" y="2279"/>
                </a:lnTo>
                <a:lnTo>
                  <a:pt x="0" y="0"/>
                </a:lnTo>
                <a:lnTo>
                  <a:pt x="2663" y="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0"/>
          <p:cNvSpPr/>
          <p:nvPr/>
        </p:nvSpPr>
        <p:spPr>
          <a:xfrm>
            <a:off x="2654280" y="878040"/>
            <a:ext cx="2531880" cy="894960"/>
          </a:xfrm>
          <a:custGeom>
            <a:avLst/>
            <a:gdLst>
              <a:gd name="textAreaLeft" fmla="*/ 0 w 2531880"/>
              <a:gd name="textAreaRight" fmla="*/ 2532240 w 2531880"/>
              <a:gd name="textAreaTop" fmla="*/ 0 h 894960"/>
              <a:gd name="textAreaBottom" fmla="*/ 895320 h 894960"/>
            </a:gdLst>
            <a:ahLst/>
            <a:rect l="textAreaLeft" t="textAreaTop" r="textAreaRight" b="textAreaBottom"/>
            <a:pathLst>
              <a:path w="3590" h="2256">
                <a:moveTo>
                  <a:pt x="0" y="1753"/>
                </a:moveTo>
                <a:lnTo>
                  <a:pt x="0" y="479"/>
                </a:lnTo>
                <a:lnTo>
                  <a:pt x="244" y="214"/>
                </a:lnTo>
                <a:lnTo>
                  <a:pt x="251" y="0"/>
                </a:lnTo>
                <a:lnTo>
                  <a:pt x="2729" y="0"/>
                </a:lnTo>
                <a:lnTo>
                  <a:pt x="2751" y="742"/>
                </a:lnTo>
                <a:lnTo>
                  <a:pt x="2884" y="1273"/>
                </a:lnTo>
                <a:lnTo>
                  <a:pt x="2707" y="1463"/>
                </a:lnTo>
                <a:lnTo>
                  <a:pt x="3039" y="1632"/>
                </a:lnTo>
                <a:lnTo>
                  <a:pt x="3151" y="1873"/>
                </a:lnTo>
                <a:lnTo>
                  <a:pt x="3590" y="2135"/>
                </a:lnTo>
                <a:lnTo>
                  <a:pt x="3302" y="2256"/>
                </a:lnTo>
                <a:lnTo>
                  <a:pt x="2361" y="2256"/>
                </a:lnTo>
                <a:lnTo>
                  <a:pt x="1257" y="2256"/>
                </a:lnTo>
                <a:lnTo>
                  <a:pt x="1257" y="1753"/>
                </a:lnTo>
                <a:lnTo>
                  <a:pt x="0" y="1753"/>
                </a:lnTo>
                <a:lnTo>
                  <a:pt x="1257" y="1753"/>
                </a:lnTo>
                <a:lnTo>
                  <a:pt x="0" y="1753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>
            <a:off x="2654280" y="878040"/>
            <a:ext cx="2531880" cy="894960"/>
          </a:xfrm>
          <a:custGeom>
            <a:avLst/>
            <a:gdLst>
              <a:gd name="textAreaLeft" fmla="*/ 0 w 2531880"/>
              <a:gd name="textAreaRight" fmla="*/ 2532240 w 2531880"/>
              <a:gd name="textAreaTop" fmla="*/ 0 h 894960"/>
              <a:gd name="textAreaBottom" fmla="*/ 895320 h 894960"/>
            </a:gdLst>
            <a:ahLst/>
            <a:rect l="textAreaLeft" t="textAreaTop" r="textAreaRight" b="textAreaBottom"/>
            <a:pathLst>
              <a:path w="3590" h="2256">
                <a:moveTo>
                  <a:pt x="0" y="1753"/>
                </a:moveTo>
                <a:lnTo>
                  <a:pt x="0" y="479"/>
                </a:lnTo>
                <a:lnTo>
                  <a:pt x="244" y="214"/>
                </a:lnTo>
                <a:lnTo>
                  <a:pt x="251" y="0"/>
                </a:lnTo>
                <a:lnTo>
                  <a:pt x="2729" y="0"/>
                </a:lnTo>
                <a:lnTo>
                  <a:pt x="2751" y="742"/>
                </a:lnTo>
                <a:lnTo>
                  <a:pt x="2884" y="1273"/>
                </a:lnTo>
                <a:lnTo>
                  <a:pt x="2707" y="1463"/>
                </a:lnTo>
                <a:lnTo>
                  <a:pt x="3039" y="1632"/>
                </a:lnTo>
                <a:lnTo>
                  <a:pt x="3151" y="1873"/>
                </a:lnTo>
                <a:lnTo>
                  <a:pt x="3590" y="2135"/>
                </a:lnTo>
                <a:lnTo>
                  <a:pt x="3302" y="2256"/>
                </a:lnTo>
                <a:lnTo>
                  <a:pt x="2361" y="2256"/>
                </a:lnTo>
                <a:lnTo>
                  <a:pt x="1257" y="2256"/>
                </a:lnTo>
                <a:lnTo>
                  <a:pt x="1257" y="1753"/>
                </a:lnTo>
                <a:lnTo>
                  <a:pt x="0" y="1753"/>
                </a:lnTo>
                <a:lnTo>
                  <a:pt x="1257" y="1753"/>
                </a:lnTo>
                <a:lnTo>
                  <a:pt x="0" y="1753"/>
                </a:lnTo>
                <a:lnTo>
                  <a:pt x="0" y="1753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12"/>
          <p:cNvSpPr/>
          <p:nvPr/>
        </p:nvSpPr>
        <p:spPr>
          <a:xfrm>
            <a:off x="2654280" y="878040"/>
            <a:ext cx="2531880" cy="894960"/>
          </a:xfrm>
          <a:custGeom>
            <a:avLst/>
            <a:gdLst>
              <a:gd name="textAreaLeft" fmla="*/ 0 w 2531880"/>
              <a:gd name="textAreaRight" fmla="*/ 2532240 w 2531880"/>
              <a:gd name="textAreaTop" fmla="*/ 0 h 894960"/>
              <a:gd name="textAreaBottom" fmla="*/ 895320 h 894960"/>
            </a:gdLst>
            <a:ahLst/>
            <a:rect l="textAreaLeft" t="textAreaTop" r="textAreaRight" b="textAreaBottom"/>
            <a:pathLst>
              <a:path w="3590" h="2256">
                <a:moveTo>
                  <a:pt x="0" y="1753"/>
                </a:moveTo>
                <a:lnTo>
                  <a:pt x="0" y="479"/>
                </a:lnTo>
                <a:lnTo>
                  <a:pt x="244" y="214"/>
                </a:lnTo>
                <a:lnTo>
                  <a:pt x="251" y="0"/>
                </a:lnTo>
                <a:lnTo>
                  <a:pt x="2729" y="0"/>
                </a:lnTo>
                <a:lnTo>
                  <a:pt x="2751" y="742"/>
                </a:lnTo>
                <a:lnTo>
                  <a:pt x="2884" y="1273"/>
                </a:lnTo>
                <a:lnTo>
                  <a:pt x="2707" y="1463"/>
                </a:lnTo>
                <a:lnTo>
                  <a:pt x="3039" y="1632"/>
                </a:lnTo>
                <a:lnTo>
                  <a:pt x="3151" y="1873"/>
                </a:lnTo>
                <a:lnTo>
                  <a:pt x="3590" y="2135"/>
                </a:lnTo>
                <a:lnTo>
                  <a:pt x="3302" y="2256"/>
                </a:lnTo>
                <a:lnTo>
                  <a:pt x="2361" y="2256"/>
                </a:lnTo>
                <a:lnTo>
                  <a:pt x="1257" y="2256"/>
                </a:lnTo>
                <a:lnTo>
                  <a:pt x="1257" y="1753"/>
                </a:lnTo>
                <a:lnTo>
                  <a:pt x="0" y="1753"/>
                </a:lnTo>
                <a:lnTo>
                  <a:pt x="1257" y="1753"/>
                </a:lnTo>
                <a:lnTo>
                  <a:pt x="0" y="1753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13"/>
          <p:cNvSpPr/>
          <p:nvPr/>
        </p:nvSpPr>
        <p:spPr>
          <a:xfrm>
            <a:off x="4559400" y="878040"/>
            <a:ext cx="950400" cy="847440"/>
          </a:xfrm>
          <a:custGeom>
            <a:avLst/>
            <a:gdLst>
              <a:gd name="textAreaLeft" fmla="*/ 0 w 950400"/>
              <a:gd name="textAreaRight" fmla="*/ 950760 w 950400"/>
              <a:gd name="textAreaTop" fmla="*/ 0 h 847440"/>
              <a:gd name="textAreaBottom" fmla="*/ 847800 h 847440"/>
            </a:gdLst>
            <a:ahLst/>
            <a:rect l="textAreaLeft" t="textAreaTop" r="textAreaRight" b="textAreaBottom"/>
            <a:pathLst>
              <a:path w="1346" h="2135">
                <a:moveTo>
                  <a:pt x="1346" y="0"/>
                </a:moveTo>
                <a:lnTo>
                  <a:pt x="1346" y="503"/>
                </a:lnTo>
                <a:lnTo>
                  <a:pt x="1125" y="503"/>
                </a:lnTo>
                <a:lnTo>
                  <a:pt x="1125" y="839"/>
                </a:lnTo>
                <a:lnTo>
                  <a:pt x="1237" y="960"/>
                </a:lnTo>
                <a:lnTo>
                  <a:pt x="1191" y="1127"/>
                </a:lnTo>
                <a:lnTo>
                  <a:pt x="1237" y="1273"/>
                </a:lnTo>
                <a:lnTo>
                  <a:pt x="1237" y="1559"/>
                </a:lnTo>
                <a:lnTo>
                  <a:pt x="1125" y="1825"/>
                </a:lnTo>
                <a:lnTo>
                  <a:pt x="883" y="2135"/>
                </a:lnTo>
                <a:lnTo>
                  <a:pt x="444" y="1873"/>
                </a:lnTo>
                <a:lnTo>
                  <a:pt x="333" y="1632"/>
                </a:lnTo>
                <a:lnTo>
                  <a:pt x="0" y="1463"/>
                </a:lnTo>
                <a:lnTo>
                  <a:pt x="178" y="1273"/>
                </a:lnTo>
                <a:lnTo>
                  <a:pt x="45" y="742"/>
                </a:lnTo>
                <a:lnTo>
                  <a:pt x="22" y="0"/>
                </a:lnTo>
                <a:lnTo>
                  <a:pt x="1346" y="0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14"/>
          <p:cNvSpPr/>
          <p:nvPr/>
        </p:nvSpPr>
        <p:spPr>
          <a:xfrm>
            <a:off x="4559400" y="878040"/>
            <a:ext cx="950400" cy="847440"/>
          </a:xfrm>
          <a:custGeom>
            <a:avLst/>
            <a:gdLst>
              <a:gd name="textAreaLeft" fmla="*/ 0 w 950400"/>
              <a:gd name="textAreaRight" fmla="*/ 950760 w 950400"/>
              <a:gd name="textAreaTop" fmla="*/ 0 h 847440"/>
              <a:gd name="textAreaBottom" fmla="*/ 847800 h 847440"/>
            </a:gdLst>
            <a:ahLst/>
            <a:rect l="textAreaLeft" t="textAreaTop" r="textAreaRight" b="textAreaBottom"/>
            <a:pathLst>
              <a:path w="1346" h="2135">
                <a:moveTo>
                  <a:pt x="1346" y="0"/>
                </a:moveTo>
                <a:lnTo>
                  <a:pt x="1346" y="503"/>
                </a:lnTo>
                <a:lnTo>
                  <a:pt x="1125" y="503"/>
                </a:lnTo>
                <a:lnTo>
                  <a:pt x="1125" y="839"/>
                </a:lnTo>
                <a:lnTo>
                  <a:pt x="1237" y="960"/>
                </a:lnTo>
                <a:lnTo>
                  <a:pt x="1191" y="1127"/>
                </a:lnTo>
                <a:lnTo>
                  <a:pt x="1237" y="1273"/>
                </a:lnTo>
                <a:lnTo>
                  <a:pt x="1237" y="1559"/>
                </a:lnTo>
                <a:lnTo>
                  <a:pt x="1125" y="1825"/>
                </a:lnTo>
                <a:lnTo>
                  <a:pt x="883" y="2135"/>
                </a:lnTo>
                <a:lnTo>
                  <a:pt x="444" y="1873"/>
                </a:lnTo>
                <a:lnTo>
                  <a:pt x="333" y="1632"/>
                </a:lnTo>
                <a:lnTo>
                  <a:pt x="0" y="1463"/>
                </a:lnTo>
                <a:lnTo>
                  <a:pt x="178" y="1273"/>
                </a:lnTo>
                <a:lnTo>
                  <a:pt x="45" y="742"/>
                </a:lnTo>
                <a:lnTo>
                  <a:pt x="22" y="0"/>
                </a:lnTo>
                <a:lnTo>
                  <a:pt x="1346" y="0"/>
                </a:lnTo>
                <a:lnTo>
                  <a:pt x="1346" y="0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5"/>
          <p:cNvSpPr/>
          <p:nvPr/>
        </p:nvSpPr>
        <p:spPr>
          <a:xfrm>
            <a:off x="4559400" y="878040"/>
            <a:ext cx="950400" cy="847440"/>
          </a:xfrm>
          <a:custGeom>
            <a:avLst/>
            <a:gdLst>
              <a:gd name="textAreaLeft" fmla="*/ 0 w 950400"/>
              <a:gd name="textAreaRight" fmla="*/ 950760 w 950400"/>
              <a:gd name="textAreaTop" fmla="*/ 0 h 847440"/>
              <a:gd name="textAreaBottom" fmla="*/ 847800 h 847440"/>
            </a:gdLst>
            <a:ahLst/>
            <a:rect l="textAreaLeft" t="textAreaTop" r="textAreaRight" b="textAreaBottom"/>
            <a:pathLst>
              <a:path w="1346" h="2135">
                <a:moveTo>
                  <a:pt x="1346" y="0"/>
                </a:moveTo>
                <a:lnTo>
                  <a:pt x="1346" y="503"/>
                </a:lnTo>
                <a:lnTo>
                  <a:pt x="1125" y="503"/>
                </a:lnTo>
                <a:lnTo>
                  <a:pt x="1125" y="839"/>
                </a:lnTo>
                <a:lnTo>
                  <a:pt x="1237" y="960"/>
                </a:lnTo>
                <a:lnTo>
                  <a:pt x="1191" y="1127"/>
                </a:lnTo>
                <a:lnTo>
                  <a:pt x="1237" y="1273"/>
                </a:lnTo>
                <a:lnTo>
                  <a:pt x="1237" y="1559"/>
                </a:lnTo>
                <a:lnTo>
                  <a:pt x="1125" y="1825"/>
                </a:lnTo>
                <a:lnTo>
                  <a:pt x="883" y="2135"/>
                </a:lnTo>
                <a:lnTo>
                  <a:pt x="444" y="1873"/>
                </a:lnTo>
                <a:lnTo>
                  <a:pt x="333" y="1632"/>
                </a:lnTo>
                <a:lnTo>
                  <a:pt x="0" y="1463"/>
                </a:lnTo>
                <a:lnTo>
                  <a:pt x="178" y="1273"/>
                </a:lnTo>
                <a:lnTo>
                  <a:pt x="45" y="742"/>
                </a:lnTo>
                <a:lnTo>
                  <a:pt x="22" y="0"/>
                </a:lnTo>
                <a:lnTo>
                  <a:pt x="1346" y="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16"/>
          <p:cNvSpPr/>
          <p:nvPr/>
        </p:nvSpPr>
        <p:spPr>
          <a:xfrm>
            <a:off x="5353200" y="878040"/>
            <a:ext cx="1696680" cy="620280"/>
          </a:xfrm>
          <a:custGeom>
            <a:avLst/>
            <a:gdLst>
              <a:gd name="textAreaLeft" fmla="*/ 0 w 1696680"/>
              <a:gd name="textAreaRight" fmla="*/ 1697040 w 1696680"/>
              <a:gd name="textAreaTop" fmla="*/ 0 h 620280"/>
              <a:gd name="textAreaBottom" fmla="*/ 620640 h 620280"/>
            </a:gdLst>
            <a:ahLst/>
            <a:rect l="textAreaLeft" t="textAreaTop" r="textAreaRight" b="textAreaBottom"/>
            <a:pathLst>
              <a:path w="2406" h="1563">
                <a:moveTo>
                  <a:pt x="221" y="0"/>
                </a:moveTo>
                <a:lnTo>
                  <a:pt x="221" y="503"/>
                </a:lnTo>
                <a:lnTo>
                  <a:pt x="0" y="503"/>
                </a:lnTo>
                <a:lnTo>
                  <a:pt x="0" y="841"/>
                </a:lnTo>
                <a:lnTo>
                  <a:pt x="112" y="960"/>
                </a:lnTo>
                <a:lnTo>
                  <a:pt x="66" y="1127"/>
                </a:lnTo>
                <a:lnTo>
                  <a:pt x="112" y="1273"/>
                </a:lnTo>
                <a:lnTo>
                  <a:pt x="112" y="1563"/>
                </a:lnTo>
                <a:lnTo>
                  <a:pt x="1870" y="1559"/>
                </a:lnTo>
                <a:lnTo>
                  <a:pt x="2406" y="1559"/>
                </a:lnTo>
                <a:lnTo>
                  <a:pt x="2406" y="0"/>
                </a:lnTo>
                <a:lnTo>
                  <a:pt x="221" y="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17"/>
          <p:cNvSpPr/>
          <p:nvPr/>
        </p:nvSpPr>
        <p:spPr>
          <a:xfrm>
            <a:off x="4979880" y="1495440"/>
            <a:ext cx="1726920" cy="45684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w="2449" h="1152">
                <a:moveTo>
                  <a:pt x="287" y="576"/>
                </a:moveTo>
                <a:lnTo>
                  <a:pt x="0" y="697"/>
                </a:lnTo>
                <a:lnTo>
                  <a:pt x="0" y="914"/>
                </a:lnTo>
                <a:lnTo>
                  <a:pt x="714" y="914"/>
                </a:lnTo>
                <a:lnTo>
                  <a:pt x="1155" y="1152"/>
                </a:lnTo>
                <a:lnTo>
                  <a:pt x="1243" y="986"/>
                </a:lnTo>
                <a:lnTo>
                  <a:pt x="2449" y="986"/>
                </a:lnTo>
                <a:lnTo>
                  <a:pt x="2391" y="0"/>
                </a:lnTo>
                <a:lnTo>
                  <a:pt x="637" y="3"/>
                </a:lnTo>
                <a:lnTo>
                  <a:pt x="529" y="265"/>
                </a:lnTo>
                <a:lnTo>
                  <a:pt x="287" y="576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18"/>
          <p:cNvSpPr/>
          <p:nvPr/>
        </p:nvSpPr>
        <p:spPr>
          <a:xfrm>
            <a:off x="7050240" y="878040"/>
            <a:ext cx="1428480" cy="103932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1039320"/>
              <a:gd name="textAreaBottom" fmla="*/ 1039680 h 1039320"/>
            </a:gdLst>
            <a:ahLst/>
            <a:rect l="textAreaLeft" t="textAreaTop" r="textAreaRight" b="textAreaBottom"/>
            <a:pathLst>
              <a:path w="2027" h="2618">
                <a:moveTo>
                  <a:pt x="1851" y="2618"/>
                </a:moveTo>
                <a:lnTo>
                  <a:pt x="1080" y="2618"/>
                </a:lnTo>
                <a:lnTo>
                  <a:pt x="1080" y="1849"/>
                </a:lnTo>
                <a:lnTo>
                  <a:pt x="333" y="1849"/>
                </a:lnTo>
                <a:lnTo>
                  <a:pt x="333" y="1655"/>
                </a:lnTo>
                <a:lnTo>
                  <a:pt x="0" y="1655"/>
                </a:lnTo>
                <a:lnTo>
                  <a:pt x="0" y="1558"/>
                </a:lnTo>
                <a:lnTo>
                  <a:pt x="0" y="0"/>
                </a:lnTo>
                <a:lnTo>
                  <a:pt x="2027" y="0"/>
                </a:lnTo>
                <a:lnTo>
                  <a:pt x="2027" y="1301"/>
                </a:lnTo>
                <a:lnTo>
                  <a:pt x="1851" y="1301"/>
                </a:lnTo>
                <a:lnTo>
                  <a:pt x="1851" y="2618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9"/>
          <p:cNvSpPr/>
          <p:nvPr/>
        </p:nvSpPr>
        <p:spPr>
          <a:xfrm>
            <a:off x="7050240" y="878040"/>
            <a:ext cx="1428480" cy="103932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1039320"/>
              <a:gd name="textAreaBottom" fmla="*/ 1039680 h 1039320"/>
            </a:gdLst>
            <a:ahLst/>
            <a:rect l="textAreaLeft" t="textAreaTop" r="textAreaRight" b="textAreaBottom"/>
            <a:pathLst>
              <a:path w="2027" h="2618">
                <a:moveTo>
                  <a:pt x="1851" y="2618"/>
                </a:moveTo>
                <a:lnTo>
                  <a:pt x="1080" y="2618"/>
                </a:lnTo>
                <a:lnTo>
                  <a:pt x="1080" y="1849"/>
                </a:lnTo>
                <a:lnTo>
                  <a:pt x="333" y="1849"/>
                </a:lnTo>
                <a:lnTo>
                  <a:pt x="333" y="1655"/>
                </a:lnTo>
                <a:lnTo>
                  <a:pt x="0" y="1655"/>
                </a:lnTo>
                <a:lnTo>
                  <a:pt x="0" y="1558"/>
                </a:lnTo>
                <a:lnTo>
                  <a:pt x="0" y="0"/>
                </a:lnTo>
                <a:lnTo>
                  <a:pt x="2027" y="0"/>
                </a:lnTo>
                <a:lnTo>
                  <a:pt x="2027" y="1301"/>
                </a:lnTo>
                <a:lnTo>
                  <a:pt x="1851" y="1301"/>
                </a:lnTo>
                <a:lnTo>
                  <a:pt x="1851" y="2618"/>
                </a:lnTo>
                <a:lnTo>
                  <a:pt x="1851" y="2618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20"/>
          <p:cNvSpPr/>
          <p:nvPr/>
        </p:nvSpPr>
        <p:spPr>
          <a:xfrm>
            <a:off x="7050240" y="878040"/>
            <a:ext cx="1428480" cy="103932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1039320"/>
              <a:gd name="textAreaBottom" fmla="*/ 1039680 h 1039320"/>
            </a:gdLst>
            <a:ahLst/>
            <a:rect l="textAreaLeft" t="textAreaTop" r="textAreaRight" b="textAreaBottom"/>
            <a:pathLst>
              <a:path w="2027" h="2618">
                <a:moveTo>
                  <a:pt x="1851" y="2618"/>
                </a:moveTo>
                <a:lnTo>
                  <a:pt x="1080" y="2618"/>
                </a:lnTo>
                <a:lnTo>
                  <a:pt x="1080" y="1849"/>
                </a:lnTo>
                <a:lnTo>
                  <a:pt x="333" y="1849"/>
                </a:lnTo>
                <a:lnTo>
                  <a:pt x="333" y="1655"/>
                </a:lnTo>
                <a:lnTo>
                  <a:pt x="0" y="1655"/>
                </a:lnTo>
                <a:lnTo>
                  <a:pt x="0" y="1558"/>
                </a:lnTo>
                <a:lnTo>
                  <a:pt x="0" y="0"/>
                </a:lnTo>
                <a:lnTo>
                  <a:pt x="2027" y="0"/>
                </a:lnTo>
                <a:lnTo>
                  <a:pt x="2027" y="1301"/>
                </a:lnTo>
                <a:lnTo>
                  <a:pt x="1851" y="1301"/>
                </a:lnTo>
                <a:lnTo>
                  <a:pt x="1851" y="2618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21"/>
          <p:cNvSpPr/>
          <p:nvPr/>
        </p:nvSpPr>
        <p:spPr>
          <a:xfrm>
            <a:off x="6667560" y="1495440"/>
            <a:ext cx="1144080" cy="685440"/>
          </a:xfrm>
          <a:custGeom>
            <a:avLst/>
            <a:gdLst>
              <a:gd name="textAreaLeft" fmla="*/ 0 w 1144080"/>
              <a:gd name="textAreaRight" fmla="*/ 1144440 w 114408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1623" h="1728">
                <a:moveTo>
                  <a:pt x="1250" y="1728"/>
                </a:moveTo>
                <a:lnTo>
                  <a:pt x="1117" y="1728"/>
                </a:lnTo>
                <a:lnTo>
                  <a:pt x="610" y="890"/>
                </a:lnTo>
                <a:lnTo>
                  <a:pt x="543" y="986"/>
                </a:lnTo>
                <a:lnTo>
                  <a:pt x="57" y="986"/>
                </a:lnTo>
                <a:lnTo>
                  <a:pt x="0" y="0"/>
                </a:lnTo>
                <a:lnTo>
                  <a:pt x="543" y="0"/>
                </a:lnTo>
                <a:lnTo>
                  <a:pt x="543" y="96"/>
                </a:lnTo>
                <a:lnTo>
                  <a:pt x="876" y="96"/>
                </a:lnTo>
                <a:lnTo>
                  <a:pt x="876" y="290"/>
                </a:lnTo>
                <a:lnTo>
                  <a:pt x="1623" y="290"/>
                </a:lnTo>
                <a:lnTo>
                  <a:pt x="1623" y="1728"/>
                </a:lnTo>
                <a:lnTo>
                  <a:pt x="1250" y="1728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22"/>
          <p:cNvSpPr/>
          <p:nvPr/>
        </p:nvSpPr>
        <p:spPr>
          <a:xfrm>
            <a:off x="4140360" y="1803240"/>
            <a:ext cx="280800" cy="169560"/>
          </a:xfrm>
          <a:custGeom>
            <a:avLst/>
            <a:gdLst>
              <a:gd name="textAreaLeft" fmla="*/ 0 w 280800"/>
              <a:gd name="textAreaRight" fmla="*/ 281160 w 28080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397" h="425">
                <a:moveTo>
                  <a:pt x="375" y="425"/>
                </a:moveTo>
                <a:lnTo>
                  <a:pt x="241" y="425"/>
                </a:lnTo>
                <a:lnTo>
                  <a:pt x="153" y="353"/>
                </a:lnTo>
                <a:lnTo>
                  <a:pt x="0" y="330"/>
                </a:lnTo>
                <a:lnTo>
                  <a:pt x="0" y="67"/>
                </a:lnTo>
                <a:lnTo>
                  <a:pt x="59" y="0"/>
                </a:lnTo>
                <a:lnTo>
                  <a:pt x="267" y="2"/>
                </a:lnTo>
                <a:lnTo>
                  <a:pt x="265" y="183"/>
                </a:lnTo>
                <a:lnTo>
                  <a:pt x="397" y="330"/>
                </a:lnTo>
                <a:lnTo>
                  <a:pt x="375" y="425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23"/>
          <p:cNvSpPr/>
          <p:nvPr/>
        </p:nvSpPr>
        <p:spPr>
          <a:xfrm>
            <a:off x="4140360" y="1803240"/>
            <a:ext cx="280800" cy="169560"/>
          </a:xfrm>
          <a:custGeom>
            <a:avLst/>
            <a:gdLst>
              <a:gd name="textAreaLeft" fmla="*/ 0 w 280800"/>
              <a:gd name="textAreaRight" fmla="*/ 281160 w 28080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397" h="425">
                <a:moveTo>
                  <a:pt x="375" y="425"/>
                </a:moveTo>
                <a:lnTo>
                  <a:pt x="241" y="425"/>
                </a:lnTo>
                <a:lnTo>
                  <a:pt x="153" y="353"/>
                </a:lnTo>
                <a:lnTo>
                  <a:pt x="0" y="330"/>
                </a:lnTo>
                <a:lnTo>
                  <a:pt x="0" y="67"/>
                </a:lnTo>
                <a:lnTo>
                  <a:pt x="59" y="0"/>
                </a:lnTo>
                <a:lnTo>
                  <a:pt x="267" y="2"/>
                </a:lnTo>
                <a:lnTo>
                  <a:pt x="265" y="183"/>
                </a:lnTo>
                <a:lnTo>
                  <a:pt x="397" y="330"/>
                </a:lnTo>
                <a:lnTo>
                  <a:pt x="375" y="425"/>
                </a:lnTo>
                <a:lnTo>
                  <a:pt x="375" y="425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24"/>
          <p:cNvSpPr/>
          <p:nvPr/>
        </p:nvSpPr>
        <p:spPr>
          <a:xfrm>
            <a:off x="4140360" y="1803240"/>
            <a:ext cx="280800" cy="169560"/>
          </a:xfrm>
          <a:custGeom>
            <a:avLst/>
            <a:gdLst>
              <a:gd name="textAreaLeft" fmla="*/ 0 w 280800"/>
              <a:gd name="textAreaRight" fmla="*/ 281160 w 28080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397" h="425">
                <a:moveTo>
                  <a:pt x="375" y="425"/>
                </a:moveTo>
                <a:lnTo>
                  <a:pt x="241" y="425"/>
                </a:lnTo>
                <a:lnTo>
                  <a:pt x="153" y="353"/>
                </a:lnTo>
                <a:lnTo>
                  <a:pt x="0" y="330"/>
                </a:lnTo>
                <a:lnTo>
                  <a:pt x="0" y="67"/>
                </a:lnTo>
                <a:lnTo>
                  <a:pt x="59" y="0"/>
                </a:lnTo>
                <a:lnTo>
                  <a:pt x="267" y="2"/>
                </a:lnTo>
                <a:lnTo>
                  <a:pt x="265" y="183"/>
                </a:lnTo>
                <a:lnTo>
                  <a:pt x="397" y="330"/>
                </a:lnTo>
                <a:lnTo>
                  <a:pt x="375" y="425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25"/>
          <p:cNvSpPr/>
          <p:nvPr/>
        </p:nvSpPr>
        <p:spPr>
          <a:xfrm>
            <a:off x="2652840" y="1573200"/>
            <a:ext cx="1755360" cy="885600"/>
          </a:xfrm>
          <a:custGeom>
            <a:avLst/>
            <a:gdLst>
              <a:gd name="textAreaLeft" fmla="*/ 0 w 1755360"/>
              <a:gd name="textAreaRight" fmla="*/ 1755720 w 175536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488" h="2231">
                <a:moveTo>
                  <a:pt x="0" y="0"/>
                </a:moveTo>
                <a:lnTo>
                  <a:pt x="0" y="527"/>
                </a:lnTo>
                <a:lnTo>
                  <a:pt x="545" y="527"/>
                </a:lnTo>
                <a:lnTo>
                  <a:pt x="545" y="2066"/>
                </a:lnTo>
                <a:lnTo>
                  <a:pt x="674" y="2140"/>
                </a:lnTo>
                <a:lnTo>
                  <a:pt x="789" y="2231"/>
                </a:lnTo>
                <a:lnTo>
                  <a:pt x="2488" y="2231"/>
                </a:lnTo>
                <a:lnTo>
                  <a:pt x="2488" y="1006"/>
                </a:lnTo>
                <a:lnTo>
                  <a:pt x="2352" y="1006"/>
                </a:lnTo>
                <a:lnTo>
                  <a:pt x="2262" y="935"/>
                </a:lnTo>
                <a:lnTo>
                  <a:pt x="2109" y="911"/>
                </a:lnTo>
                <a:lnTo>
                  <a:pt x="2109" y="649"/>
                </a:lnTo>
                <a:lnTo>
                  <a:pt x="2169" y="580"/>
                </a:lnTo>
                <a:lnTo>
                  <a:pt x="2378" y="584"/>
                </a:lnTo>
                <a:lnTo>
                  <a:pt x="2378" y="503"/>
                </a:lnTo>
                <a:lnTo>
                  <a:pt x="1258" y="503"/>
                </a:lnTo>
                <a:lnTo>
                  <a:pt x="125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26"/>
          <p:cNvSpPr/>
          <p:nvPr/>
        </p:nvSpPr>
        <p:spPr>
          <a:xfrm>
            <a:off x="2652840" y="1573200"/>
            <a:ext cx="1755360" cy="885600"/>
          </a:xfrm>
          <a:custGeom>
            <a:avLst/>
            <a:gdLst>
              <a:gd name="textAreaLeft" fmla="*/ 0 w 1755360"/>
              <a:gd name="textAreaRight" fmla="*/ 1755720 w 175536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488" h="2231">
                <a:moveTo>
                  <a:pt x="0" y="0"/>
                </a:moveTo>
                <a:lnTo>
                  <a:pt x="0" y="527"/>
                </a:lnTo>
                <a:lnTo>
                  <a:pt x="545" y="527"/>
                </a:lnTo>
                <a:lnTo>
                  <a:pt x="545" y="2066"/>
                </a:lnTo>
                <a:lnTo>
                  <a:pt x="674" y="2140"/>
                </a:lnTo>
                <a:lnTo>
                  <a:pt x="789" y="2231"/>
                </a:lnTo>
                <a:lnTo>
                  <a:pt x="2488" y="2231"/>
                </a:lnTo>
                <a:lnTo>
                  <a:pt x="2488" y="1006"/>
                </a:lnTo>
                <a:lnTo>
                  <a:pt x="2352" y="1006"/>
                </a:lnTo>
                <a:lnTo>
                  <a:pt x="2262" y="935"/>
                </a:lnTo>
                <a:lnTo>
                  <a:pt x="2109" y="911"/>
                </a:lnTo>
                <a:lnTo>
                  <a:pt x="2109" y="649"/>
                </a:lnTo>
                <a:lnTo>
                  <a:pt x="2169" y="580"/>
                </a:lnTo>
                <a:lnTo>
                  <a:pt x="2378" y="584"/>
                </a:lnTo>
                <a:lnTo>
                  <a:pt x="2378" y="503"/>
                </a:lnTo>
                <a:lnTo>
                  <a:pt x="1258" y="503"/>
                </a:lnTo>
                <a:lnTo>
                  <a:pt x="1258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27"/>
          <p:cNvSpPr/>
          <p:nvPr/>
        </p:nvSpPr>
        <p:spPr>
          <a:xfrm>
            <a:off x="2652840" y="1573200"/>
            <a:ext cx="383760" cy="820440"/>
          </a:xfrm>
          <a:custGeom>
            <a:avLst/>
            <a:gdLst>
              <a:gd name="textAreaLeft" fmla="*/ 0 w 383760"/>
              <a:gd name="textAreaRight" fmla="*/ 384120 w 383760"/>
              <a:gd name="textAreaTop" fmla="*/ 0 h 820440"/>
              <a:gd name="textAreaBottom" fmla="*/ 820800 h 820440"/>
            </a:gdLst>
            <a:ahLst/>
            <a:rect l="textAreaLeft" t="textAreaTop" r="textAreaRight" b="textAreaBottom"/>
            <a:pathLst>
              <a:path w="546" h="2065">
                <a:moveTo>
                  <a:pt x="0" y="0"/>
                </a:moveTo>
                <a:lnTo>
                  <a:pt x="0" y="526"/>
                </a:lnTo>
                <a:lnTo>
                  <a:pt x="546" y="526"/>
                </a:lnTo>
                <a:lnTo>
                  <a:pt x="546" y="2065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28"/>
          <p:cNvSpPr/>
          <p:nvPr/>
        </p:nvSpPr>
        <p:spPr>
          <a:xfrm>
            <a:off x="3036960" y="2392200"/>
            <a:ext cx="91800" cy="29880"/>
          </a:xfrm>
          <a:custGeom>
            <a:avLst/>
            <a:gdLst>
              <a:gd name="textAreaLeft" fmla="*/ 0 w 91800"/>
              <a:gd name="textAreaRight" fmla="*/ 92160 w 9180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128" h="74">
                <a:moveTo>
                  <a:pt x="0" y="0"/>
                </a:moveTo>
                <a:lnTo>
                  <a:pt x="73" y="42"/>
                </a:lnTo>
                <a:lnTo>
                  <a:pt x="128" y="74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29"/>
          <p:cNvSpPr/>
          <p:nvPr/>
        </p:nvSpPr>
        <p:spPr>
          <a:xfrm>
            <a:off x="2652840" y="1573200"/>
            <a:ext cx="1755360" cy="885600"/>
          </a:xfrm>
          <a:custGeom>
            <a:avLst/>
            <a:gdLst>
              <a:gd name="textAreaLeft" fmla="*/ 0 w 1755360"/>
              <a:gd name="textAreaRight" fmla="*/ 1755720 w 175536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488" h="2231">
                <a:moveTo>
                  <a:pt x="674" y="2140"/>
                </a:moveTo>
                <a:lnTo>
                  <a:pt x="789" y="2231"/>
                </a:lnTo>
                <a:lnTo>
                  <a:pt x="2488" y="2231"/>
                </a:lnTo>
                <a:lnTo>
                  <a:pt x="2488" y="1006"/>
                </a:lnTo>
                <a:lnTo>
                  <a:pt x="2352" y="1006"/>
                </a:lnTo>
                <a:lnTo>
                  <a:pt x="2262" y="935"/>
                </a:lnTo>
                <a:lnTo>
                  <a:pt x="2109" y="911"/>
                </a:lnTo>
                <a:lnTo>
                  <a:pt x="2109" y="649"/>
                </a:lnTo>
                <a:lnTo>
                  <a:pt x="2169" y="580"/>
                </a:lnTo>
                <a:lnTo>
                  <a:pt x="2378" y="584"/>
                </a:lnTo>
                <a:lnTo>
                  <a:pt x="2378" y="503"/>
                </a:lnTo>
                <a:lnTo>
                  <a:pt x="1258" y="503"/>
                </a:lnTo>
                <a:lnTo>
                  <a:pt x="1258" y="0"/>
                </a:lnTo>
                <a:lnTo>
                  <a:pt x="0" y="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0"/>
          <p:cNvSpPr/>
          <p:nvPr/>
        </p:nvSpPr>
        <p:spPr>
          <a:xfrm>
            <a:off x="1015920" y="1771560"/>
            <a:ext cx="2084040" cy="942480"/>
          </a:xfrm>
          <a:custGeom>
            <a:avLst/>
            <a:gdLst>
              <a:gd name="textAreaLeft" fmla="*/ 0 w 2084040"/>
              <a:gd name="textAreaRight" fmla="*/ 2084400 w 2084040"/>
              <a:gd name="textAreaTop" fmla="*/ 0 h 942480"/>
              <a:gd name="textAreaBottom" fmla="*/ 942840 h 942480"/>
            </a:gdLst>
            <a:ahLst/>
            <a:rect l="textAreaLeft" t="textAreaTop" r="textAreaRight" b="textAreaBottom"/>
            <a:pathLst>
              <a:path w="2956" h="2378">
                <a:moveTo>
                  <a:pt x="0" y="0"/>
                </a:moveTo>
                <a:lnTo>
                  <a:pt x="2427" y="0"/>
                </a:lnTo>
                <a:lnTo>
                  <a:pt x="0" y="0"/>
                </a:lnTo>
                <a:lnTo>
                  <a:pt x="2427" y="0"/>
                </a:lnTo>
                <a:lnTo>
                  <a:pt x="2956" y="0"/>
                </a:lnTo>
                <a:lnTo>
                  <a:pt x="2956" y="1539"/>
                </a:lnTo>
                <a:lnTo>
                  <a:pt x="2494" y="1539"/>
                </a:lnTo>
                <a:lnTo>
                  <a:pt x="2427" y="1489"/>
                </a:lnTo>
                <a:lnTo>
                  <a:pt x="2271" y="1489"/>
                </a:lnTo>
                <a:lnTo>
                  <a:pt x="2271" y="1608"/>
                </a:lnTo>
                <a:lnTo>
                  <a:pt x="991" y="1608"/>
                </a:lnTo>
                <a:lnTo>
                  <a:pt x="991" y="2378"/>
                </a:lnTo>
                <a:lnTo>
                  <a:pt x="0" y="237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1"/>
          <p:cNvSpPr/>
          <p:nvPr/>
        </p:nvSpPr>
        <p:spPr>
          <a:xfrm>
            <a:off x="952560" y="1782720"/>
            <a:ext cx="2084040" cy="942480"/>
          </a:xfrm>
          <a:custGeom>
            <a:avLst/>
            <a:gdLst>
              <a:gd name="textAreaLeft" fmla="*/ 0 w 2084040"/>
              <a:gd name="textAreaRight" fmla="*/ 2084400 w 2084040"/>
              <a:gd name="textAreaTop" fmla="*/ 0 h 942480"/>
              <a:gd name="textAreaBottom" fmla="*/ 942840 h 942480"/>
            </a:gdLst>
            <a:ahLst/>
            <a:rect l="textAreaLeft" t="textAreaTop" r="textAreaRight" b="textAreaBottom"/>
            <a:pathLst>
              <a:path w="2956" h="2378">
                <a:moveTo>
                  <a:pt x="0" y="0"/>
                </a:moveTo>
                <a:lnTo>
                  <a:pt x="2427" y="0"/>
                </a:lnTo>
                <a:lnTo>
                  <a:pt x="0" y="0"/>
                </a:lnTo>
                <a:lnTo>
                  <a:pt x="2427" y="0"/>
                </a:lnTo>
                <a:lnTo>
                  <a:pt x="2956" y="0"/>
                </a:lnTo>
                <a:lnTo>
                  <a:pt x="2956" y="1539"/>
                </a:lnTo>
                <a:lnTo>
                  <a:pt x="2494" y="1539"/>
                </a:lnTo>
                <a:lnTo>
                  <a:pt x="2427" y="1489"/>
                </a:lnTo>
                <a:lnTo>
                  <a:pt x="2271" y="1489"/>
                </a:lnTo>
                <a:lnTo>
                  <a:pt x="2271" y="1608"/>
                </a:lnTo>
                <a:lnTo>
                  <a:pt x="991" y="1608"/>
                </a:lnTo>
                <a:lnTo>
                  <a:pt x="991" y="2378"/>
                </a:lnTo>
                <a:lnTo>
                  <a:pt x="0" y="2378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2"/>
          <p:cNvSpPr/>
          <p:nvPr/>
        </p:nvSpPr>
        <p:spPr>
          <a:xfrm>
            <a:off x="914400" y="1771560"/>
            <a:ext cx="2084040" cy="942480"/>
          </a:xfrm>
          <a:custGeom>
            <a:avLst/>
            <a:gdLst>
              <a:gd name="textAreaLeft" fmla="*/ 0 w 2084040"/>
              <a:gd name="textAreaRight" fmla="*/ 2084400 w 2084040"/>
              <a:gd name="textAreaTop" fmla="*/ 0 h 942480"/>
              <a:gd name="textAreaBottom" fmla="*/ 942840 h 942480"/>
            </a:gdLst>
            <a:ahLst/>
            <a:rect l="textAreaLeft" t="textAreaTop" r="textAreaRight" b="textAreaBottom"/>
            <a:pathLst>
              <a:path w="2956" h="2378">
                <a:moveTo>
                  <a:pt x="0" y="0"/>
                </a:moveTo>
                <a:lnTo>
                  <a:pt x="2427" y="0"/>
                </a:lnTo>
                <a:lnTo>
                  <a:pt x="0" y="0"/>
                </a:lnTo>
                <a:lnTo>
                  <a:pt x="2427" y="0"/>
                </a:lnTo>
                <a:lnTo>
                  <a:pt x="2956" y="0"/>
                </a:lnTo>
                <a:lnTo>
                  <a:pt x="2956" y="1539"/>
                </a:lnTo>
                <a:lnTo>
                  <a:pt x="2494" y="1539"/>
                </a:lnTo>
                <a:lnTo>
                  <a:pt x="2427" y="1489"/>
                </a:lnTo>
                <a:lnTo>
                  <a:pt x="2271" y="1489"/>
                </a:lnTo>
                <a:lnTo>
                  <a:pt x="2271" y="1608"/>
                </a:lnTo>
                <a:lnTo>
                  <a:pt x="991" y="1608"/>
                </a:lnTo>
                <a:lnTo>
                  <a:pt x="991" y="2378"/>
                </a:lnTo>
                <a:lnTo>
                  <a:pt x="0" y="2378"/>
                </a:lnTo>
                <a:lnTo>
                  <a:pt x="0" y="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33"/>
          <p:cNvSpPr/>
          <p:nvPr/>
        </p:nvSpPr>
        <p:spPr>
          <a:xfrm>
            <a:off x="3208320" y="2459160"/>
            <a:ext cx="1307880" cy="333000"/>
          </a:xfrm>
          <a:custGeom>
            <a:avLst/>
            <a:gdLst>
              <a:gd name="textAreaLeft" fmla="*/ 0 w 1307880"/>
              <a:gd name="textAreaRight" fmla="*/ 1308240 w 1307880"/>
              <a:gd name="textAreaTop" fmla="*/ 0 h 333000"/>
              <a:gd name="textAreaBottom" fmla="*/ 333360 h 333000"/>
            </a:gdLst>
            <a:ahLst/>
            <a:rect l="textAreaLeft" t="textAreaTop" r="textAreaRight" b="textAreaBottom"/>
            <a:pathLst>
              <a:path w="1852" h="840">
                <a:moveTo>
                  <a:pt x="86" y="73"/>
                </a:moveTo>
                <a:lnTo>
                  <a:pt x="0" y="0"/>
                </a:lnTo>
                <a:lnTo>
                  <a:pt x="1699" y="0"/>
                </a:lnTo>
                <a:lnTo>
                  <a:pt x="1699" y="600"/>
                </a:lnTo>
                <a:lnTo>
                  <a:pt x="1852" y="600"/>
                </a:lnTo>
                <a:lnTo>
                  <a:pt x="1852" y="769"/>
                </a:lnTo>
                <a:lnTo>
                  <a:pt x="1432" y="769"/>
                </a:lnTo>
                <a:lnTo>
                  <a:pt x="1344" y="720"/>
                </a:lnTo>
                <a:lnTo>
                  <a:pt x="926" y="720"/>
                </a:lnTo>
                <a:lnTo>
                  <a:pt x="926" y="840"/>
                </a:lnTo>
                <a:lnTo>
                  <a:pt x="551" y="840"/>
                </a:lnTo>
                <a:lnTo>
                  <a:pt x="396" y="840"/>
                </a:lnTo>
                <a:lnTo>
                  <a:pt x="286" y="674"/>
                </a:lnTo>
                <a:lnTo>
                  <a:pt x="86" y="73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34"/>
          <p:cNvSpPr/>
          <p:nvPr/>
        </p:nvSpPr>
        <p:spPr>
          <a:xfrm>
            <a:off x="3208320" y="2459160"/>
            <a:ext cx="1307880" cy="333000"/>
          </a:xfrm>
          <a:custGeom>
            <a:avLst/>
            <a:gdLst>
              <a:gd name="textAreaLeft" fmla="*/ 0 w 1307880"/>
              <a:gd name="textAreaRight" fmla="*/ 1308240 w 1307880"/>
              <a:gd name="textAreaTop" fmla="*/ 0 h 333000"/>
              <a:gd name="textAreaBottom" fmla="*/ 333360 h 333000"/>
            </a:gdLst>
            <a:ahLst/>
            <a:rect l="textAreaLeft" t="textAreaTop" r="textAreaRight" b="textAreaBottom"/>
            <a:pathLst>
              <a:path w="1852" h="840">
                <a:moveTo>
                  <a:pt x="86" y="73"/>
                </a:moveTo>
                <a:lnTo>
                  <a:pt x="0" y="0"/>
                </a:lnTo>
                <a:lnTo>
                  <a:pt x="1699" y="0"/>
                </a:lnTo>
                <a:lnTo>
                  <a:pt x="1699" y="600"/>
                </a:lnTo>
                <a:lnTo>
                  <a:pt x="1852" y="600"/>
                </a:lnTo>
                <a:lnTo>
                  <a:pt x="1852" y="769"/>
                </a:lnTo>
                <a:lnTo>
                  <a:pt x="1432" y="769"/>
                </a:lnTo>
                <a:lnTo>
                  <a:pt x="1344" y="720"/>
                </a:lnTo>
                <a:lnTo>
                  <a:pt x="926" y="720"/>
                </a:lnTo>
                <a:lnTo>
                  <a:pt x="926" y="840"/>
                </a:lnTo>
                <a:lnTo>
                  <a:pt x="551" y="840"/>
                </a:lnTo>
                <a:lnTo>
                  <a:pt x="396" y="840"/>
                </a:lnTo>
                <a:lnTo>
                  <a:pt x="286" y="674"/>
                </a:lnTo>
                <a:lnTo>
                  <a:pt x="86" y="73"/>
                </a:lnTo>
                <a:lnTo>
                  <a:pt x="86" y="73"/>
                </a:lnTo>
              </a:path>
            </a:pathLst>
          </a:custGeom>
          <a:noFill/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35"/>
          <p:cNvSpPr/>
          <p:nvPr/>
        </p:nvSpPr>
        <p:spPr>
          <a:xfrm>
            <a:off x="3251160" y="2457360"/>
            <a:ext cx="1307880" cy="333000"/>
          </a:xfrm>
          <a:custGeom>
            <a:avLst/>
            <a:gdLst>
              <a:gd name="textAreaLeft" fmla="*/ 0 w 1307880"/>
              <a:gd name="textAreaRight" fmla="*/ 1308240 w 1307880"/>
              <a:gd name="textAreaTop" fmla="*/ 0 h 333000"/>
              <a:gd name="textAreaBottom" fmla="*/ 333360 h 333000"/>
            </a:gdLst>
            <a:ahLst/>
            <a:rect l="textAreaLeft" t="textAreaTop" r="textAreaRight" b="textAreaBottom"/>
            <a:pathLst>
              <a:path w="1852" h="840">
                <a:moveTo>
                  <a:pt x="86" y="73"/>
                </a:moveTo>
                <a:lnTo>
                  <a:pt x="0" y="0"/>
                </a:lnTo>
                <a:lnTo>
                  <a:pt x="1699" y="0"/>
                </a:lnTo>
                <a:lnTo>
                  <a:pt x="1699" y="600"/>
                </a:lnTo>
                <a:lnTo>
                  <a:pt x="1852" y="600"/>
                </a:lnTo>
                <a:lnTo>
                  <a:pt x="1852" y="769"/>
                </a:lnTo>
                <a:lnTo>
                  <a:pt x="1432" y="769"/>
                </a:lnTo>
                <a:lnTo>
                  <a:pt x="1344" y="720"/>
                </a:lnTo>
                <a:lnTo>
                  <a:pt x="926" y="720"/>
                </a:lnTo>
                <a:lnTo>
                  <a:pt x="926" y="840"/>
                </a:lnTo>
                <a:lnTo>
                  <a:pt x="551" y="840"/>
                </a:lnTo>
                <a:lnTo>
                  <a:pt x="396" y="840"/>
                </a:lnTo>
                <a:lnTo>
                  <a:pt x="286" y="674"/>
                </a:lnTo>
                <a:lnTo>
                  <a:pt x="86" y="73"/>
                </a:lnTo>
              </a:path>
            </a:pathLst>
          </a:cu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36"/>
          <p:cNvSpPr/>
          <p:nvPr/>
        </p:nvSpPr>
        <p:spPr>
          <a:xfrm>
            <a:off x="4979880" y="1846440"/>
            <a:ext cx="2568240" cy="775800"/>
          </a:xfrm>
          <a:custGeom>
            <a:avLst/>
            <a:gdLst>
              <a:gd name="textAreaLeft" fmla="*/ 0 w 2568240"/>
              <a:gd name="textAreaRight" fmla="*/ 2568600 w 2568240"/>
              <a:gd name="textAreaTop" fmla="*/ 0 h 775800"/>
              <a:gd name="textAreaBottom" fmla="*/ 776160 h 775800"/>
            </a:gdLst>
            <a:ahLst/>
            <a:rect l="textAreaLeft" t="textAreaTop" r="textAreaRight" b="textAreaBottom"/>
            <a:pathLst>
              <a:path w="3641" h="1953">
                <a:moveTo>
                  <a:pt x="2867" y="1543"/>
                </a:moveTo>
                <a:lnTo>
                  <a:pt x="2867" y="1427"/>
                </a:lnTo>
                <a:lnTo>
                  <a:pt x="861" y="1427"/>
                </a:lnTo>
                <a:lnTo>
                  <a:pt x="861" y="1953"/>
                </a:lnTo>
                <a:lnTo>
                  <a:pt x="180" y="1953"/>
                </a:lnTo>
                <a:lnTo>
                  <a:pt x="180" y="535"/>
                </a:lnTo>
                <a:lnTo>
                  <a:pt x="0" y="247"/>
                </a:lnTo>
                <a:lnTo>
                  <a:pt x="0" y="32"/>
                </a:lnTo>
                <a:lnTo>
                  <a:pt x="714" y="32"/>
                </a:lnTo>
                <a:lnTo>
                  <a:pt x="1154" y="270"/>
                </a:lnTo>
                <a:lnTo>
                  <a:pt x="1243" y="108"/>
                </a:lnTo>
                <a:lnTo>
                  <a:pt x="2934" y="108"/>
                </a:lnTo>
                <a:lnTo>
                  <a:pt x="3003" y="0"/>
                </a:lnTo>
                <a:lnTo>
                  <a:pt x="3508" y="847"/>
                </a:lnTo>
                <a:lnTo>
                  <a:pt x="3641" y="847"/>
                </a:lnTo>
                <a:lnTo>
                  <a:pt x="3641" y="1234"/>
                </a:lnTo>
                <a:lnTo>
                  <a:pt x="3266" y="1234"/>
                </a:lnTo>
                <a:lnTo>
                  <a:pt x="2867" y="1543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37"/>
          <p:cNvSpPr/>
          <p:nvPr/>
        </p:nvSpPr>
        <p:spPr>
          <a:xfrm>
            <a:off x="4979880" y="1846440"/>
            <a:ext cx="2568240" cy="775800"/>
          </a:xfrm>
          <a:custGeom>
            <a:avLst/>
            <a:gdLst>
              <a:gd name="textAreaLeft" fmla="*/ 0 w 2568240"/>
              <a:gd name="textAreaRight" fmla="*/ 2568600 w 2568240"/>
              <a:gd name="textAreaTop" fmla="*/ 0 h 775800"/>
              <a:gd name="textAreaBottom" fmla="*/ 776160 h 775800"/>
            </a:gdLst>
            <a:ahLst/>
            <a:rect l="textAreaLeft" t="textAreaTop" r="textAreaRight" b="textAreaBottom"/>
            <a:pathLst>
              <a:path w="3641" h="1953">
                <a:moveTo>
                  <a:pt x="2867" y="1543"/>
                </a:moveTo>
                <a:lnTo>
                  <a:pt x="2867" y="1427"/>
                </a:lnTo>
                <a:lnTo>
                  <a:pt x="861" y="1427"/>
                </a:lnTo>
                <a:lnTo>
                  <a:pt x="861" y="1953"/>
                </a:lnTo>
                <a:lnTo>
                  <a:pt x="180" y="1953"/>
                </a:lnTo>
                <a:lnTo>
                  <a:pt x="180" y="535"/>
                </a:lnTo>
                <a:lnTo>
                  <a:pt x="0" y="247"/>
                </a:lnTo>
                <a:lnTo>
                  <a:pt x="0" y="32"/>
                </a:lnTo>
                <a:lnTo>
                  <a:pt x="714" y="32"/>
                </a:lnTo>
                <a:lnTo>
                  <a:pt x="1154" y="270"/>
                </a:lnTo>
                <a:lnTo>
                  <a:pt x="1243" y="108"/>
                </a:lnTo>
                <a:lnTo>
                  <a:pt x="2934" y="108"/>
                </a:lnTo>
                <a:lnTo>
                  <a:pt x="3003" y="0"/>
                </a:lnTo>
                <a:lnTo>
                  <a:pt x="3508" y="847"/>
                </a:lnTo>
                <a:lnTo>
                  <a:pt x="3641" y="847"/>
                </a:lnTo>
                <a:lnTo>
                  <a:pt x="3641" y="1234"/>
                </a:lnTo>
                <a:lnTo>
                  <a:pt x="3266" y="1234"/>
                </a:lnTo>
                <a:lnTo>
                  <a:pt x="2867" y="1543"/>
                </a:lnTo>
                <a:lnTo>
                  <a:pt x="2867" y="1543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38"/>
          <p:cNvSpPr/>
          <p:nvPr/>
        </p:nvSpPr>
        <p:spPr>
          <a:xfrm>
            <a:off x="4979880" y="1846440"/>
            <a:ext cx="2568240" cy="775800"/>
          </a:xfrm>
          <a:custGeom>
            <a:avLst/>
            <a:gdLst>
              <a:gd name="textAreaLeft" fmla="*/ 0 w 2568240"/>
              <a:gd name="textAreaRight" fmla="*/ 2568600 w 2568240"/>
              <a:gd name="textAreaTop" fmla="*/ 0 h 775800"/>
              <a:gd name="textAreaBottom" fmla="*/ 776160 h 775800"/>
            </a:gdLst>
            <a:ahLst/>
            <a:rect l="textAreaLeft" t="textAreaTop" r="textAreaRight" b="textAreaBottom"/>
            <a:pathLst>
              <a:path w="3641" h="1953">
                <a:moveTo>
                  <a:pt x="2867" y="1543"/>
                </a:moveTo>
                <a:lnTo>
                  <a:pt x="2867" y="1427"/>
                </a:lnTo>
                <a:lnTo>
                  <a:pt x="861" y="1427"/>
                </a:lnTo>
                <a:lnTo>
                  <a:pt x="861" y="1953"/>
                </a:lnTo>
                <a:lnTo>
                  <a:pt x="180" y="1953"/>
                </a:lnTo>
                <a:lnTo>
                  <a:pt x="180" y="535"/>
                </a:lnTo>
                <a:lnTo>
                  <a:pt x="0" y="247"/>
                </a:lnTo>
                <a:lnTo>
                  <a:pt x="0" y="32"/>
                </a:lnTo>
                <a:lnTo>
                  <a:pt x="714" y="32"/>
                </a:lnTo>
                <a:lnTo>
                  <a:pt x="1154" y="270"/>
                </a:lnTo>
                <a:lnTo>
                  <a:pt x="1243" y="108"/>
                </a:lnTo>
                <a:lnTo>
                  <a:pt x="2934" y="108"/>
                </a:lnTo>
                <a:lnTo>
                  <a:pt x="3003" y="0"/>
                </a:lnTo>
                <a:lnTo>
                  <a:pt x="3508" y="847"/>
                </a:lnTo>
                <a:lnTo>
                  <a:pt x="3641" y="847"/>
                </a:lnTo>
                <a:lnTo>
                  <a:pt x="3641" y="1234"/>
                </a:lnTo>
                <a:lnTo>
                  <a:pt x="3266" y="1234"/>
                </a:lnTo>
                <a:lnTo>
                  <a:pt x="2867" y="1543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9"/>
          <p:cNvSpPr/>
          <p:nvPr/>
        </p:nvSpPr>
        <p:spPr>
          <a:xfrm>
            <a:off x="7004160" y="1917720"/>
            <a:ext cx="1352160" cy="1017360"/>
          </a:xfrm>
          <a:custGeom>
            <a:avLst/>
            <a:gdLst>
              <a:gd name="textAreaLeft" fmla="*/ 0 w 1352160"/>
              <a:gd name="textAreaRight" fmla="*/ 1352520 w 1352160"/>
              <a:gd name="textAreaTop" fmla="*/ 0 h 1017360"/>
              <a:gd name="textAreaBottom" fmla="*/ 1017720 h 1017360"/>
            </a:gdLst>
            <a:ahLst/>
            <a:rect l="textAreaLeft" t="textAreaTop" r="textAreaRight" b="textAreaBottom"/>
            <a:pathLst>
              <a:path w="1918" h="2566">
                <a:moveTo>
                  <a:pt x="1918" y="1703"/>
                </a:moveTo>
                <a:lnTo>
                  <a:pt x="1436" y="1703"/>
                </a:lnTo>
                <a:lnTo>
                  <a:pt x="1436" y="1942"/>
                </a:lnTo>
                <a:lnTo>
                  <a:pt x="1280" y="1942"/>
                </a:lnTo>
                <a:lnTo>
                  <a:pt x="1280" y="2135"/>
                </a:lnTo>
                <a:lnTo>
                  <a:pt x="1080" y="2135"/>
                </a:lnTo>
                <a:lnTo>
                  <a:pt x="1080" y="2401"/>
                </a:lnTo>
                <a:lnTo>
                  <a:pt x="751" y="2401"/>
                </a:lnTo>
                <a:lnTo>
                  <a:pt x="751" y="2566"/>
                </a:lnTo>
                <a:lnTo>
                  <a:pt x="0" y="2566"/>
                </a:lnTo>
                <a:lnTo>
                  <a:pt x="0" y="1365"/>
                </a:lnTo>
                <a:lnTo>
                  <a:pt x="399" y="1056"/>
                </a:lnTo>
                <a:lnTo>
                  <a:pt x="774" y="1056"/>
                </a:lnTo>
                <a:lnTo>
                  <a:pt x="774" y="669"/>
                </a:lnTo>
                <a:lnTo>
                  <a:pt x="1147" y="669"/>
                </a:lnTo>
                <a:lnTo>
                  <a:pt x="1147" y="0"/>
                </a:lnTo>
                <a:lnTo>
                  <a:pt x="1918" y="0"/>
                </a:lnTo>
                <a:lnTo>
                  <a:pt x="1918" y="1703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40"/>
          <p:cNvSpPr/>
          <p:nvPr/>
        </p:nvSpPr>
        <p:spPr>
          <a:xfrm>
            <a:off x="7004160" y="1917720"/>
            <a:ext cx="1352160" cy="1017360"/>
          </a:xfrm>
          <a:custGeom>
            <a:avLst/>
            <a:gdLst>
              <a:gd name="textAreaLeft" fmla="*/ 0 w 1352160"/>
              <a:gd name="textAreaRight" fmla="*/ 1352520 w 1352160"/>
              <a:gd name="textAreaTop" fmla="*/ 0 h 1017360"/>
              <a:gd name="textAreaBottom" fmla="*/ 1017720 h 1017360"/>
            </a:gdLst>
            <a:ahLst/>
            <a:rect l="textAreaLeft" t="textAreaTop" r="textAreaRight" b="textAreaBottom"/>
            <a:pathLst>
              <a:path w="1918" h="2566">
                <a:moveTo>
                  <a:pt x="1918" y="1703"/>
                </a:moveTo>
                <a:lnTo>
                  <a:pt x="1436" y="1703"/>
                </a:lnTo>
                <a:lnTo>
                  <a:pt x="1436" y="1942"/>
                </a:lnTo>
                <a:lnTo>
                  <a:pt x="1280" y="1942"/>
                </a:lnTo>
                <a:lnTo>
                  <a:pt x="1280" y="2135"/>
                </a:lnTo>
                <a:lnTo>
                  <a:pt x="1080" y="2135"/>
                </a:lnTo>
                <a:lnTo>
                  <a:pt x="1080" y="2401"/>
                </a:lnTo>
                <a:lnTo>
                  <a:pt x="751" y="2401"/>
                </a:lnTo>
                <a:lnTo>
                  <a:pt x="751" y="2566"/>
                </a:lnTo>
                <a:lnTo>
                  <a:pt x="0" y="2566"/>
                </a:lnTo>
                <a:lnTo>
                  <a:pt x="0" y="1365"/>
                </a:lnTo>
                <a:lnTo>
                  <a:pt x="399" y="1056"/>
                </a:lnTo>
                <a:lnTo>
                  <a:pt x="774" y="1056"/>
                </a:lnTo>
                <a:lnTo>
                  <a:pt x="774" y="669"/>
                </a:lnTo>
                <a:lnTo>
                  <a:pt x="1147" y="669"/>
                </a:lnTo>
                <a:lnTo>
                  <a:pt x="1147" y="0"/>
                </a:lnTo>
                <a:lnTo>
                  <a:pt x="1918" y="0"/>
                </a:lnTo>
                <a:lnTo>
                  <a:pt x="1918" y="1703"/>
                </a:lnTo>
                <a:lnTo>
                  <a:pt x="1918" y="1703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41"/>
          <p:cNvSpPr/>
          <p:nvPr/>
        </p:nvSpPr>
        <p:spPr>
          <a:xfrm>
            <a:off x="7004160" y="1917720"/>
            <a:ext cx="1352160" cy="1017360"/>
          </a:xfrm>
          <a:custGeom>
            <a:avLst/>
            <a:gdLst>
              <a:gd name="textAreaLeft" fmla="*/ 0 w 1352160"/>
              <a:gd name="textAreaRight" fmla="*/ 1352520 w 1352160"/>
              <a:gd name="textAreaTop" fmla="*/ 0 h 1017360"/>
              <a:gd name="textAreaBottom" fmla="*/ 1017720 h 1017360"/>
            </a:gdLst>
            <a:ahLst/>
            <a:rect l="textAreaLeft" t="textAreaTop" r="textAreaRight" b="textAreaBottom"/>
            <a:pathLst>
              <a:path w="1918" h="2566">
                <a:moveTo>
                  <a:pt x="1918" y="1703"/>
                </a:moveTo>
                <a:lnTo>
                  <a:pt x="1436" y="1703"/>
                </a:lnTo>
                <a:lnTo>
                  <a:pt x="1436" y="1942"/>
                </a:lnTo>
                <a:lnTo>
                  <a:pt x="1280" y="1942"/>
                </a:lnTo>
                <a:lnTo>
                  <a:pt x="1280" y="2135"/>
                </a:lnTo>
                <a:lnTo>
                  <a:pt x="1080" y="2135"/>
                </a:lnTo>
                <a:lnTo>
                  <a:pt x="1080" y="2401"/>
                </a:lnTo>
                <a:lnTo>
                  <a:pt x="751" y="2401"/>
                </a:lnTo>
                <a:lnTo>
                  <a:pt x="751" y="2566"/>
                </a:lnTo>
                <a:lnTo>
                  <a:pt x="0" y="2566"/>
                </a:lnTo>
                <a:lnTo>
                  <a:pt x="0" y="1365"/>
                </a:lnTo>
                <a:lnTo>
                  <a:pt x="399" y="1056"/>
                </a:lnTo>
                <a:lnTo>
                  <a:pt x="774" y="1056"/>
                </a:lnTo>
                <a:lnTo>
                  <a:pt x="774" y="669"/>
                </a:lnTo>
                <a:lnTo>
                  <a:pt x="1147" y="669"/>
                </a:lnTo>
                <a:lnTo>
                  <a:pt x="1147" y="0"/>
                </a:lnTo>
                <a:lnTo>
                  <a:pt x="1918" y="0"/>
                </a:lnTo>
                <a:lnTo>
                  <a:pt x="1918" y="1703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42"/>
          <p:cNvSpPr/>
          <p:nvPr/>
        </p:nvSpPr>
        <p:spPr>
          <a:xfrm>
            <a:off x="5587920" y="2411280"/>
            <a:ext cx="1417320" cy="801360"/>
          </a:xfrm>
          <a:custGeom>
            <a:avLst/>
            <a:gdLst>
              <a:gd name="textAreaLeft" fmla="*/ 0 w 1417320"/>
              <a:gd name="textAreaRight" fmla="*/ 1417680 w 1417320"/>
              <a:gd name="textAreaTop" fmla="*/ 0 h 801360"/>
              <a:gd name="textAreaBottom" fmla="*/ 801720 h 801360"/>
            </a:gdLst>
            <a:ahLst/>
            <a:rect l="textAreaLeft" t="textAreaTop" r="textAreaRight" b="textAreaBottom"/>
            <a:pathLst>
              <a:path w="2009" h="2019">
                <a:moveTo>
                  <a:pt x="0" y="2019"/>
                </a:moveTo>
                <a:lnTo>
                  <a:pt x="792" y="2019"/>
                </a:lnTo>
                <a:lnTo>
                  <a:pt x="792" y="1467"/>
                </a:lnTo>
                <a:lnTo>
                  <a:pt x="1478" y="1467"/>
                </a:lnTo>
                <a:lnTo>
                  <a:pt x="1478" y="1181"/>
                </a:lnTo>
                <a:lnTo>
                  <a:pt x="1654" y="1181"/>
                </a:lnTo>
                <a:lnTo>
                  <a:pt x="1654" y="963"/>
                </a:lnTo>
                <a:lnTo>
                  <a:pt x="2009" y="963"/>
                </a:lnTo>
                <a:lnTo>
                  <a:pt x="2009" y="0"/>
                </a:lnTo>
                <a:lnTo>
                  <a:pt x="0" y="0"/>
                </a:lnTo>
                <a:lnTo>
                  <a:pt x="0" y="2019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43"/>
          <p:cNvSpPr/>
          <p:nvPr/>
        </p:nvSpPr>
        <p:spPr>
          <a:xfrm>
            <a:off x="5587920" y="2411280"/>
            <a:ext cx="1417320" cy="801360"/>
          </a:xfrm>
          <a:custGeom>
            <a:avLst/>
            <a:gdLst>
              <a:gd name="textAreaLeft" fmla="*/ 0 w 1417320"/>
              <a:gd name="textAreaRight" fmla="*/ 1417680 w 1417320"/>
              <a:gd name="textAreaTop" fmla="*/ 0 h 801360"/>
              <a:gd name="textAreaBottom" fmla="*/ 801720 h 801360"/>
            </a:gdLst>
            <a:ahLst/>
            <a:rect l="textAreaLeft" t="textAreaTop" r="textAreaRight" b="textAreaBottom"/>
            <a:pathLst>
              <a:path w="2009" h="2019">
                <a:moveTo>
                  <a:pt x="0" y="2019"/>
                </a:moveTo>
                <a:lnTo>
                  <a:pt x="792" y="2019"/>
                </a:lnTo>
                <a:lnTo>
                  <a:pt x="792" y="1467"/>
                </a:lnTo>
                <a:lnTo>
                  <a:pt x="1478" y="1467"/>
                </a:lnTo>
                <a:lnTo>
                  <a:pt x="1478" y="1181"/>
                </a:lnTo>
                <a:lnTo>
                  <a:pt x="1654" y="1181"/>
                </a:lnTo>
                <a:lnTo>
                  <a:pt x="1654" y="963"/>
                </a:lnTo>
                <a:lnTo>
                  <a:pt x="2009" y="963"/>
                </a:lnTo>
                <a:lnTo>
                  <a:pt x="2009" y="0"/>
                </a:lnTo>
                <a:lnTo>
                  <a:pt x="0" y="0"/>
                </a:lnTo>
                <a:lnTo>
                  <a:pt x="0" y="2019"/>
                </a:lnTo>
                <a:lnTo>
                  <a:pt x="0" y="2019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44"/>
          <p:cNvSpPr/>
          <p:nvPr/>
        </p:nvSpPr>
        <p:spPr>
          <a:xfrm>
            <a:off x="5587920" y="2411280"/>
            <a:ext cx="1417320" cy="801360"/>
          </a:xfrm>
          <a:custGeom>
            <a:avLst/>
            <a:gdLst>
              <a:gd name="textAreaLeft" fmla="*/ 0 w 1417320"/>
              <a:gd name="textAreaRight" fmla="*/ 1417680 w 1417320"/>
              <a:gd name="textAreaTop" fmla="*/ 0 h 801360"/>
              <a:gd name="textAreaBottom" fmla="*/ 801720 h 801360"/>
            </a:gdLst>
            <a:ahLst/>
            <a:rect l="textAreaLeft" t="textAreaTop" r="textAreaRight" b="textAreaBottom"/>
            <a:pathLst>
              <a:path w="2009" h="2019">
                <a:moveTo>
                  <a:pt x="0" y="2019"/>
                </a:moveTo>
                <a:lnTo>
                  <a:pt x="792" y="2019"/>
                </a:lnTo>
                <a:lnTo>
                  <a:pt x="792" y="1467"/>
                </a:lnTo>
                <a:lnTo>
                  <a:pt x="1478" y="1467"/>
                </a:lnTo>
                <a:lnTo>
                  <a:pt x="1478" y="1181"/>
                </a:lnTo>
                <a:lnTo>
                  <a:pt x="1654" y="1181"/>
                </a:lnTo>
                <a:lnTo>
                  <a:pt x="1654" y="963"/>
                </a:lnTo>
                <a:lnTo>
                  <a:pt x="2009" y="963"/>
                </a:lnTo>
                <a:lnTo>
                  <a:pt x="2009" y="0"/>
                </a:lnTo>
                <a:lnTo>
                  <a:pt x="0" y="0"/>
                </a:lnTo>
                <a:lnTo>
                  <a:pt x="0" y="2019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45"/>
          <p:cNvSpPr/>
          <p:nvPr/>
        </p:nvSpPr>
        <p:spPr>
          <a:xfrm>
            <a:off x="4165560" y="2629080"/>
            <a:ext cx="1464840" cy="685440"/>
          </a:xfrm>
          <a:custGeom>
            <a:avLst/>
            <a:gdLst>
              <a:gd name="textAreaLeft" fmla="*/ 0 w 1464840"/>
              <a:gd name="textAreaRight" fmla="*/ 1465200 w 146484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2076" h="1728">
                <a:moveTo>
                  <a:pt x="111" y="359"/>
                </a:moveTo>
                <a:lnTo>
                  <a:pt x="111" y="912"/>
                </a:lnTo>
                <a:lnTo>
                  <a:pt x="0" y="912"/>
                </a:lnTo>
                <a:lnTo>
                  <a:pt x="0" y="1200"/>
                </a:lnTo>
                <a:lnTo>
                  <a:pt x="156" y="1200"/>
                </a:lnTo>
                <a:lnTo>
                  <a:pt x="156" y="1728"/>
                </a:lnTo>
                <a:lnTo>
                  <a:pt x="1040" y="1728"/>
                </a:lnTo>
                <a:lnTo>
                  <a:pt x="1040" y="1632"/>
                </a:lnTo>
                <a:lnTo>
                  <a:pt x="2076" y="1632"/>
                </a:lnTo>
                <a:lnTo>
                  <a:pt x="2076" y="0"/>
                </a:lnTo>
                <a:lnTo>
                  <a:pt x="400" y="0"/>
                </a:lnTo>
                <a:lnTo>
                  <a:pt x="400" y="190"/>
                </a:lnTo>
                <a:lnTo>
                  <a:pt x="552" y="190"/>
                </a:lnTo>
                <a:lnTo>
                  <a:pt x="552" y="359"/>
                </a:lnTo>
                <a:lnTo>
                  <a:pt x="111" y="359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46"/>
          <p:cNvSpPr/>
          <p:nvPr/>
        </p:nvSpPr>
        <p:spPr>
          <a:xfrm>
            <a:off x="4122720" y="2622600"/>
            <a:ext cx="1464840" cy="685440"/>
          </a:xfrm>
          <a:custGeom>
            <a:avLst/>
            <a:gdLst>
              <a:gd name="textAreaLeft" fmla="*/ 0 w 1464840"/>
              <a:gd name="textAreaRight" fmla="*/ 1465200 w 146484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2076" h="1728">
                <a:moveTo>
                  <a:pt x="111" y="359"/>
                </a:moveTo>
                <a:lnTo>
                  <a:pt x="111" y="912"/>
                </a:lnTo>
                <a:lnTo>
                  <a:pt x="0" y="912"/>
                </a:lnTo>
                <a:lnTo>
                  <a:pt x="0" y="1200"/>
                </a:lnTo>
                <a:lnTo>
                  <a:pt x="156" y="1200"/>
                </a:lnTo>
                <a:lnTo>
                  <a:pt x="156" y="1728"/>
                </a:lnTo>
                <a:lnTo>
                  <a:pt x="1040" y="1728"/>
                </a:lnTo>
                <a:lnTo>
                  <a:pt x="1040" y="1632"/>
                </a:lnTo>
                <a:lnTo>
                  <a:pt x="2076" y="1632"/>
                </a:lnTo>
                <a:lnTo>
                  <a:pt x="2076" y="0"/>
                </a:lnTo>
                <a:lnTo>
                  <a:pt x="400" y="0"/>
                </a:lnTo>
                <a:lnTo>
                  <a:pt x="400" y="190"/>
                </a:lnTo>
                <a:lnTo>
                  <a:pt x="552" y="190"/>
                </a:lnTo>
                <a:lnTo>
                  <a:pt x="552" y="359"/>
                </a:lnTo>
                <a:lnTo>
                  <a:pt x="111" y="359"/>
                </a:lnTo>
                <a:lnTo>
                  <a:pt x="111" y="359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47"/>
          <p:cNvSpPr/>
          <p:nvPr/>
        </p:nvSpPr>
        <p:spPr>
          <a:xfrm>
            <a:off x="4122720" y="2622600"/>
            <a:ext cx="1464840" cy="685440"/>
          </a:xfrm>
          <a:custGeom>
            <a:avLst/>
            <a:gdLst>
              <a:gd name="textAreaLeft" fmla="*/ 0 w 1464840"/>
              <a:gd name="textAreaRight" fmla="*/ 1465200 w 146484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2076" h="1728">
                <a:moveTo>
                  <a:pt x="111" y="359"/>
                </a:moveTo>
                <a:lnTo>
                  <a:pt x="111" y="912"/>
                </a:lnTo>
                <a:lnTo>
                  <a:pt x="0" y="912"/>
                </a:lnTo>
                <a:lnTo>
                  <a:pt x="0" y="1200"/>
                </a:lnTo>
                <a:lnTo>
                  <a:pt x="156" y="1200"/>
                </a:lnTo>
                <a:lnTo>
                  <a:pt x="156" y="1728"/>
                </a:lnTo>
                <a:lnTo>
                  <a:pt x="1040" y="1728"/>
                </a:lnTo>
                <a:lnTo>
                  <a:pt x="1040" y="1632"/>
                </a:lnTo>
                <a:lnTo>
                  <a:pt x="2076" y="1632"/>
                </a:lnTo>
                <a:lnTo>
                  <a:pt x="2076" y="0"/>
                </a:lnTo>
                <a:lnTo>
                  <a:pt x="400" y="0"/>
                </a:lnTo>
                <a:lnTo>
                  <a:pt x="400" y="190"/>
                </a:lnTo>
                <a:lnTo>
                  <a:pt x="552" y="190"/>
                </a:lnTo>
                <a:lnTo>
                  <a:pt x="552" y="359"/>
                </a:lnTo>
                <a:lnTo>
                  <a:pt x="111" y="359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8"/>
          <p:cNvSpPr/>
          <p:nvPr/>
        </p:nvSpPr>
        <p:spPr>
          <a:xfrm>
            <a:off x="2611440" y="3081240"/>
            <a:ext cx="2239560" cy="964800"/>
          </a:xfrm>
          <a:custGeom>
            <a:avLst/>
            <a:gdLst>
              <a:gd name="textAreaLeft" fmla="*/ 0 w 2239560"/>
              <a:gd name="textAreaRight" fmla="*/ 2239920 w 2239560"/>
              <a:gd name="textAreaTop" fmla="*/ 0 h 964800"/>
              <a:gd name="textAreaBottom" fmla="*/ 965160 h 964800"/>
            </a:gdLst>
            <a:ahLst/>
            <a:rect l="textAreaLeft" t="textAreaTop" r="textAreaRight" b="textAreaBottom"/>
            <a:pathLst>
              <a:path w="3173" h="2429">
                <a:moveTo>
                  <a:pt x="2289" y="311"/>
                </a:moveTo>
                <a:lnTo>
                  <a:pt x="1561" y="0"/>
                </a:lnTo>
                <a:lnTo>
                  <a:pt x="878" y="0"/>
                </a:lnTo>
                <a:lnTo>
                  <a:pt x="0" y="0"/>
                </a:lnTo>
                <a:lnTo>
                  <a:pt x="0" y="2429"/>
                </a:lnTo>
                <a:lnTo>
                  <a:pt x="2442" y="2429"/>
                </a:lnTo>
                <a:lnTo>
                  <a:pt x="2442" y="1945"/>
                </a:lnTo>
                <a:lnTo>
                  <a:pt x="2976" y="1945"/>
                </a:lnTo>
                <a:lnTo>
                  <a:pt x="2973" y="1536"/>
                </a:lnTo>
                <a:lnTo>
                  <a:pt x="3173" y="1536"/>
                </a:lnTo>
                <a:lnTo>
                  <a:pt x="3173" y="577"/>
                </a:lnTo>
                <a:lnTo>
                  <a:pt x="2289" y="577"/>
                </a:lnTo>
                <a:lnTo>
                  <a:pt x="2289" y="311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49"/>
          <p:cNvSpPr/>
          <p:nvPr/>
        </p:nvSpPr>
        <p:spPr>
          <a:xfrm>
            <a:off x="2620800" y="3076560"/>
            <a:ext cx="2238120" cy="964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64800"/>
              <a:gd name="textAreaBottom" fmla="*/ 965160 h 964800"/>
            </a:gdLst>
            <a:ahLst/>
            <a:rect l="textAreaLeft" t="textAreaTop" r="textAreaRight" b="textAreaBottom"/>
            <a:pathLst>
              <a:path w="3173" h="2429">
                <a:moveTo>
                  <a:pt x="2289" y="311"/>
                </a:moveTo>
                <a:lnTo>
                  <a:pt x="1561" y="0"/>
                </a:lnTo>
                <a:lnTo>
                  <a:pt x="878" y="0"/>
                </a:lnTo>
                <a:lnTo>
                  <a:pt x="0" y="0"/>
                </a:lnTo>
                <a:lnTo>
                  <a:pt x="0" y="2429"/>
                </a:lnTo>
                <a:lnTo>
                  <a:pt x="2442" y="2429"/>
                </a:lnTo>
                <a:lnTo>
                  <a:pt x="2442" y="1945"/>
                </a:lnTo>
                <a:lnTo>
                  <a:pt x="2976" y="1945"/>
                </a:lnTo>
                <a:lnTo>
                  <a:pt x="2973" y="1536"/>
                </a:lnTo>
                <a:lnTo>
                  <a:pt x="3173" y="1536"/>
                </a:lnTo>
                <a:lnTo>
                  <a:pt x="3173" y="577"/>
                </a:lnTo>
                <a:lnTo>
                  <a:pt x="2289" y="577"/>
                </a:lnTo>
                <a:lnTo>
                  <a:pt x="2289" y="311"/>
                </a:lnTo>
                <a:lnTo>
                  <a:pt x="2289" y="311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50"/>
          <p:cNvSpPr/>
          <p:nvPr/>
        </p:nvSpPr>
        <p:spPr>
          <a:xfrm>
            <a:off x="2611440" y="3076560"/>
            <a:ext cx="2239560" cy="964800"/>
          </a:xfrm>
          <a:custGeom>
            <a:avLst/>
            <a:gdLst>
              <a:gd name="textAreaLeft" fmla="*/ 0 w 2239560"/>
              <a:gd name="textAreaRight" fmla="*/ 2239920 w 2239560"/>
              <a:gd name="textAreaTop" fmla="*/ 0 h 964800"/>
              <a:gd name="textAreaBottom" fmla="*/ 965160 h 964800"/>
            </a:gdLst>
            <a:ahLst/>
            <a:rect l="textAreaLeft" t="textAreaTop" r="textAreaRight" b="textAreaBottom"/>
            <a:pathLst>
              <a:path w="3173" h="2429">
                <a:moveTo>
                  <a:pt x="2289" y="311"/>
                </a:moveTo>
                <a:lnTo>
                  <a:pt x="1561" y="0"/>
                </a:lnTo>
                <a:lnTo>
                  <a:pt x="878" y="0"/>
                </a:lnTo>
                <a:lnTo>
                  <a:pt x="0" y="0"/>
                </a:lnTo>
                <a:lnTo>
                  <a:pt x="0" y="2429"/>
                </a:lnTo>
                <a:lnTo>
                  <a:pt x="2442" y="2429"/>
                </a:lnTo>
                <a:lnTo>
                  <a:pt x="2442" y="1945"/>
                </a:lnTo>
                <a:lnTo>
                  <a:pt x="2976" y="1945"/>
                </a:lnTo>
                <a:lnTo>
                  <a:pt x="2973" y="1536"/>
                </a:lnTo>
                <a:lnTo>
                  <a:pt x="3173" y="1536"/>
                </a:lnTo>
                <a:lnTo>
                  <a:pt x="3173" y="577"/>
                </a:lnTo>
                <a:lnTo>
                  <a:pt x="2289" y="577"/>
                </a:lnTo>
                <a:lnTo>
                  <a:pt x="2289" y="311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51"/>
          <p:cNvSpPr/>
          <p:nvPr/>
        </p:nvSpPr>
        <p:spPr>
          <a:xfrm>
            <a:off x="952560" y="3076560"/>
            <a:ext cx="1665000" cy="1239480"/>
          </a:xfrm>
          <a:custGeom>
            <a:avLst/>
            <a:gdLst>
              <a:gd name="textAreaLeft" fmla="*/ 0 w 1665000"/>
              <a:gd name="textAreaRight" fmla="*/ 1665360 w 1665000"/>
              <a:gd name="textAreaTop" fmla="*/ 0 h 1239480"/>
              <a:gd name="textAreaBottom" fmla="*/ 1239840 h 1239480"/>
            </a:gdLst>
            <a:ahLst/>
            <a:rect l="textAreaLeft" t="textAreaTop" r="textAreaRight" b="textAreaBottom"/>
            <a:pathLst>
              <a:path w="2363" h="3122">
                <a:moveTo>
                  <a:pt x="1854" y="3122"/>
                </a:moveTo>
                <a:lnTo>
                  <a:pt x="1854" y="2425"/>
                </a:lnTo>
                <a:lnTo>
                  <a:pt x="2363" y="2425"/>
                </a:lnTo>
                <a:lnTo>
                  <a:pt x="2363" y="0"/>
                </a:lnTo>
                <a:lnTo>
                  <a:pt x="0" y="0"/>
                </a:lnTo>
                <a:lnTo>
                  <a:pt x="0" y="3122"/>
                </a:lnTo>
                <a:lnTo>
                  <a:pt x="1854" y="3122"/>
                </a:lnTo>
                <a:lnTo>
                  <a:pt x="1854" y="3122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52"/>
          <p:cNvSpPr/>
          <p:nvPr/>
        </p:nvSpPr>
        <p:spPr>
          <a:xfrm>
            <a:off x="952560" y="3076560"/>
            <a:ext cx="1665000" cy="1239480"/>
          </a:xfrm>
          <a:custGeom>
            <a:avLst/>
            <a:gdLst>
              <a:gd name="textAreaLeft" fmla="*/ 0 w 1665000"/>
              <a:gd name="textAreaRight" fmla="*/ 1665360 w 1665000"/>
              <a:gd name="textAreaTop" fmla="*/ 0 h 1239480"/>
              <a:gd name="textAreaBottom" fmla="*/ 1239840 h 1239480"/>
            </a:gdLst>
            <a:ahLst/>
            <a:rect l="textAreaLeft" t="textAreaTop" r="textAreaRight" b="textAreaBottom"/>
            <a:pathLst>
              <a:path w="2363" h="3122">
                <a:moveTo>
                  <a:pt x="1854" y="3122"/>
                </a:moveTo>
                <a:lnTo>
                  <a:pt x="1854" y="2425"/>
                </a:lnTo>
                <a:lnTo>
                  <a:pt x="2363" y="2425"/>
                </a:lnTo>
                <a:lnTo>
                  <a:pt x="2363" y="0"/>
                </a:lnTo>
                <a:lnTo>
                  <a:pt x="0" y="0"/>
                </a:lnTo>
                <a:lnTo>
                  <a:pt x="0" y="3122"/>
                </a:lnTo>
                <a:lnTo>
                  <a:pt x="1854" y="3122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53"/>
          <p:cNvSpPr/>
          <p:nvPr/>
        </p:nvSpPr>
        <p:spPr>
          <a:xfrm>
            <a:off x="2260440" y="4040280"/>
            <a:ext cx="2145960" cy="801360"/>
          </a:xfrm>
          <a:custGeom>
            <a:avLst/>
            <a:gdLst>
              <a:gd name="textAreaLeft" fmla="*/ 0 w 2145960"/>
              <a:gd name="textAreaRight" fmla="*/ 2146320 w 2145960"/>
              <a:gd name="textAreaTop" fmla="*/ 0 h 801360"/>
              <a:gd name="textAreaBottom" fmla="*/ 801720 h 801360"/>
            </a:gdLst>
            <a:ahLst/>
            <a:rect l="textAreaLeft" t="textAreaTop" r="textAreaRight" b="textAreaBottom"/>
            <a:pathLst>
              <a:path w="3044" h="2019">
                <a:moveTo>
                  <a:pt x="0" y="696"/>
                </a:moveTo>
                <a:lnTo>
                  <a:pt x="0" y="0"/>
                </a:lnTo>
                <a:lnTo>
                  <a:pt x="2953" y="3"/>
                </a:lnTo>
                <a:lnTo>
                  <a:pt x="2956" y="242"/>
                </a:lnTo>
                <a:lnTo>
                  <a:pt x="3044" y="242"/>
                </a:lnTo>
                <a:lnTo>
                  <a:pt x="3044" y="935"/>
                </a:lnTo>
                <a:lnTo>
                  <a:pt x="1983" y="1632"/>
                </a:lnTo>
                <a:lnTo>
                  <a:pt x="1389" y="1632"/>
                </a:lnTo>
                <a:lnTo>
                  <a:pt x="1389" y="2019"/>
                </a:lnTo>
                <a:lnTo>
                  <a:pt x="594" y="2019"/>
                </a:lnTo>
                <a:lnTo>
                  <a:pt x="594" y="1655"/>
                </a:lnTo>
                <a:lnTo>
                  <a:pt x="461" y="1515"/>
                </a:lnTo>
                <a:lnTo>
                  <a:pt x="404" y="1345"/>
                </a:lnTo>
                <a:lnTo>
                  <a:pt x="307" y="1345"/>
                </a:lnTo>
                <a:lnTo>
                  <a:pt x="284" y="1128"/>
                </a:lnTo>
                <a:lnTo>
                  <a:pt x="351" y="1032"/>
                </a:lnTo>
                <a:lnTo>
                  <a:pt x="198" y="696"/>
                </a:lnTo>
                <a:lnTo>
                  <a:pt x="0" y="696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54"/>
          <p:cNvSpPr/>
          <p:nvPr/>
        </p:nvSpPr>
        <p:spPr>
          <a:xfrm>
            <a:off x="2260440" y="4040280"/>
            <a:ext cx="2145960" cy="801360"/>
          </a:xfrm>
          <a:custGeom>
            <a:avLst/>
            <a:gdLst>
              <a:gd name="textAreaLeft" fmla="*/ 0 w 2145960"/>
              <a:gd name="textAreaRight" fmla="*/ 2146320 w 2145960"/>
              <a:gd name="textAreaTop" fmla="*/ 0 h 801360"/>
              <a:gd name="textAreaBottom" fmla="*/ 801720 h 801360"/>
            </a:gdLst>
            <a:ahLst/>
            <a:rect l="textAreaLeft" t="textAreaTop" r="textAreaRight" b="textAreaBottom"/>
            <a:pathLst>
              <a:path w="3044" h="2019">
                <a:moveTo>
                  <a:pt x="0" y="696"/>
                </a:moveTo>
                <a:lnTo>
                  <a:pt x="0" y="0"/>
                </a:lnTo>
                <a:lnTo>
                  <a:pt x="2953" y="3"/>
                </a:lnTo>
                <a:lnTo>
                  <a:pt x="2956" y="242"/>
                </a:lnTo>
                <a:lnTo>
                  <a:pt x="3044" y="242"/>
                </a:lnTo>
                <a:lnTo>
                  <a:pt x="3044" y="935"/>
                </a:lnTo>
                <a:lnTo>
                  <a:pt x="1983" y="1632"/>
                </a:lnTo>
                <a:lnTo>
                  <a:pt x="1389" y="1632"/>
                </a:lnTo>
                <a:lnTo>
                  <a:pt x="1389" y="2019"/>
                </a:lnTo>
                <a:lnTo>
                  <a:pt x="594" y="2019"/>
                </a:lnTo>
                <a:lnTo>
                  <a:pt x="594" y="1655"/>
                </a:lnTo>
                <a:lnTo>
                  <a:pt x="461" y="1515"/>
                </a:lnTo>
                <a:lnTo>
                  <a:pt x="404" y="1345"/>
                </a:lnTo>
                <a:lnTo>
                  <a:pt x="307" y="1345"/>
                </a:lnTo>
                <a:lnTo>
                  <a:pt x="284" y="1128"/>
                </a:lnTo>
                <a:lnTo>
                  <a:pt x="351" y="1032"/>
                </a:lnTo>
                <a:lnTo>
                  <a:pt x="198" y="696"/>
                </a:lnTo>
                <a:lnTo>
                  <a:pt x="0" y="696"/>
                </a:lnTo>
                <a:lnTo>
                  <a:pt x="0" y="696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5"/>
          <p:cNvSpPr/>
          <p:nvPr/>
        </p:nvSpPr>
        <p:spPr>
          <a:xfrm>
            <a:off x="2260440" y="4040280"/>
            <a:ext cx="2145960" cy="801360"/>
          </a:xfrm>
          <a:custGeom>
            <a:avLst/>
            <a:gdLst>
              <a:gd name="textAreaLeft" fmla="*/ 0 w 2145960"/>
              <a:gd name="textAreaRight" fmla="*/ 2146320 w 2145960"/>
              <a:gd name="textAreaTop" fmla="*/ 0 h 801360"/>
              <a:gd name="textAreaBottom" fmla="*/ 801720 h 801360"/>
            </a:gdLst>
            <a:ahLst/>
            <a:rect l="textAreaLeft" t="textAreaTop" r="textAreaRight" b="textAreaBottom"/>
            <a:pathLst>
              <a:path w="3044" h="2019">
                <a:moveTo>
                  <a:pt x="0" y="696"/>
                </a:moveTo>
                <a:lnTo>
                  <a:pt x="0" y="0"/>
                </a:lnTo>
                <a:lnTo>
                  <a:pt x="2953" y="3"/>
                </a:lnTo>
                <a:lnTo>
                  <a:pt x="2956" y="242"/>
                </a:lnTo>
                <a:lnTo>
                  <a:pt x="3044" y="242"/>
                </a:lnTo>
                <a:lnTo>
                  <a:pt x="3044" y="935"/>
                </a:lnTo>
                <a:lnTo>
                  <a:pt x="1983" y="1632"/>
                </a:lnTo>
                <a:lnTo>
                  <a:pt x="1389" y="1632"/>
                </a:lnTo>
                <a:lnTo>
                  <a:pt x="1389" y="2019"/>
                </a:lnTo>
                <a:lnTo>
                  <a:pt x="594" y="2019"/>
                </a:lnTo>
                <a:lnTo>
                  <a:pt x="594" y="1655"/>
                </a:lnTo>
                <a:lnTo>
                  <a:pt x="461" y="1515"/>
                </a:lnTo>
                <a:lnTo>
                  <a:pt x="404" y="1345"/>
                </a:lnTo>
                <a:lnTo>
                  <a:pt x="307" y="1345"/>
                </a:lnTo>
                <a:lnTo>
                  <a:pt x="284" y="1128"/>
                </a:lnTo>
                <a:lnTo>
                  <a:pt x="351" y="1032"/>
                </a:lnTo>
                <a:lnTo>
                  <a:pt x="198" y="696"/>
                </a:lnTo>
                <a:lnTo>
                  <a:pt x="0" y="696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56"/>
          <p:cNvSpPr/>
          <p:nvPr/>
        </p:nvSpPr>
        <p:spPr>
          <a:xfrm>
            <a:off x="914400" y="4343400"/>
            <a:ext cx="1726920" cy="122688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1226880"/>
              <a:gd name="textAreaBottom" fmla="*/ 1227240 h 1226880"/>
            </a:gdLst>
            <a:ahLst/>
            <a:rect l="textAreaLeft" t="textAreaTop" r="textAreaRight" b="textAreaBottom"/>
            <a:pathLst>
              <a:path w="2450" h="3094">
                <a:moveTo>
                  <a:pt x="2450" y="1322"/>
                </a:moveTo>
                <a:lnTo>
                  <a:pt x="2450" y="959"/>
                </a:lnTo>
                <a:lnTo>
                  <a:pt x="2316" y="817"/>
                </a:lnTo>
                <a:lnTo>
                  <a:pt x="2259" y="648"/>
                </a:lnTo>
                <a:lnTo>
                  <a:pt x="2162" y="648"/>
                </a:lnTo>
                <a:lnTo>
                  <a:pt x="2138" y="431"/>
                </a:lnTo>
                <a:lnTo>
                  <a:pt x="2206" y="335"/>
                </a:lnTo>
                <a:lnTo>
                  <a:pt x="2053" y="0"/>
                </a:lnTo>
                <a:lnTo>
                  <a:pt x="0" y="0"/>
                </a:lnTo>
                <a:lnTo>
                  <a:pt x="0" y="1126"/>
                </a:lnTo>
                <a:lnTo>
                  <a:pt x="349" y="1126"/>
                </a:lnTo>
                <a:lnTo>
                  <a:pt x="349" y="1467"/>
                </a:lnTo>
                <a:lnTo>
                  <a:pt x="748" y="1467"/>
                </a:lnTo>
                <a:lnTo>
                  <a:pt x="748" y="1655"/>
                </a:lnTo>
                <a:lnTo>
                  <a:pt x="1014" y="1655"/>
                </a:lnTo>
                <a:lnTo>
                  <a:pt x="1014" y="3094"/>
                </a:lnTo>
                <a:lnTo>
                  <a:pt x="1562" y="3094"/>
                </a:lnTo>
                <a:lnTo>
                  <a:pt x="1562" y="2618"/>
                </a:lnTo>
                <a:lnTo>
                  <a:pt x="1503" y="2546"/>
                </a:lnTo>
                <a:lnTo>
                  <a:pt x="1503" y="1584"/>
                </a:lnTo>
                <a:lnTo>
                  <a:pt x="2097" y="1584"/>
                </a:lnTo>
                <a:lnTo>
                  <a:pt x="2097" y="1324"/>
                </a:lnTo>
                <a:lnTo>
                  <a:pt x="2450" y="1322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57"/>
          <p:cNvSpPr/>
          <p:nvPr/>
        </p:nvSpPr>
        <p:spPr>
          <a:xfrm>
            <a:off x="952560" y="4316400"/>
            <a:ext cx="1726920" cy="122688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1226880"/>
              <a:gd name="textAreaBottom" fmla="*/ 1227240 h 1226880"/>
            </a:gdLst>
            <a:ahLst/>
            <a:rect l="textAreaLeft" t="textAreaTop" r="textAreaRight" b="textAreaBottom"/>
            <a:pathLst>
              <a:path w="2450" h="3094">
                <a:moveTo>
                  <a:pt x="2450" y="1322"/>
                </a:moveTo>
                <a:lnTo>
                  <a:pt x="2450" y="959"/>
                </a:lnTo>
                <a:lnTo>
                  <a:pt x="2316" y="817"/>
                </a:lnTo>
                <a:lnTo>
                  <a:pt x="2259" y="648"/>
                </a:lnTo>
                <a:lnTo>
                  <a:pt x="2162" y="648"/>
                </a:lnTo>
                <a:lnTo>
                  <a:pt x="2138" y="431"/>
                </a:lnTo>
                <a:lnTo>
                  <a:pt x="2206" y="335"/>
                </a:lnTo>
                <a:lnTo>
                  <a:pt x="2053" y="0"/>
                </a:lnTo>
                <a:lnTo>
                  <a:pt x="0" y="0"/>
                </a:lnTo>
                <a:lnTo>
                  <a:pt x="0" y="1126"/>
                </a:lnTo>
                <a:lnTo>
                  <a:pt x="349" y="1126"/>
                </a:lnTo>
                <a:lnTo>
                  <a:pt x="349" y="1467"/>
                </a:lnTo>
                <a:lnTo>
                  <a:pt x="748" y="1467"/>
                </a:lnTo>
                <a:lnTo>
                  <a:pt x="748" y="1655"/>
                </a:lnTo>
                <a:lnTo>
                  <a:pt x="1014" y="1655"/>
                </a:lnTo>
                <a:lnTo>
                  <a:pt x="1014" y="3094"/>
                </a:lnTo>
                <a:lnTo>
                  <a:pt x="1562" y="3094"/>
                </a:lnTo>
                <a:lnTo>
                  <a:pt x="1562" y="2618"/>
                </a:lnTo>
                <a:lnTo>
                  <a:pt x="1503" y="2546"/>
                </a:lnTo>
                <a:lnTo>
                  <a:pt x="1503" y="1584"/>
                </a:lnTo>
                <a:lnTo>
                  <a:pt x="2097" y="1584"/>
                </a:lnTo>
                <a:lnTo>
                  <a:pt x="2097" y="1324"/>
                </a:lnTo>
                <a:lnTo>
                  <a:pt x="2450" y="1322"/>
                </a:lnTo>
                <a:lnTo>
                  <a:pt x="2450" y="1322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58"/>
          <p:cNvSpPr/>
          <p:nvPr/>
        </p:nvSpPr>
        <p:spPr>
          <a:xfrm>
            <a:off x="952560" y="4316400"/>
            <a:ext cx="1726920" cy="122688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1226880"/>
              <a:gd name="textAreaBottom" fmla="*/ 1227240 h 1226880"/>
            </a:gdLst>
            <a:ahLst/>
            <a:rect l="textAreaLeft" t="textAreaTop" r="textAreaRight" b="textAreaBottom"/>
            <a:pathLst>
              <a:path w="2450" h="3094">
                <a:moveTo>
                  <a:pt x="2450" y="1322"/>
                </a:moveTo>
                <a:lnTo>
                  <a:pt x="2450" y="959"/>
                </a:lnTo>
                <a:lnTo>
                  <a:pt x="2316" y="817"/>
                </a:lnTo>
                <a:lnTo>
                  <a:pt x="2259" y="648"/>
                </a:lnTo>
                <a:lnTo>
                  <a:pt x="2162" y="648"/>
                </a:lnTo>
                <a:lnTo>
                  <a:pt x="2138" y="431"/>
                </a:lnTo>
                <a:lnTo>
                  <a:pt x="2206" y="335"/>
                </a:lnTo>
                <a:lnTo>
                  <a:pt x="2053" y="0"/>
                </a:lnTo>
                <a:lnTo>
                  <a:pt x="0" y="0"/>
                </a:lnTo>
                <a:lnTo>
                  <a:pt x="0" y="1126"/>
                </a:lnTo>
                <a:lnTo>
                  <a:pt x="349" y="1126"/>
                </a:lnTo>
                <a:lnTo>
                  <a:pt x="349" y="1467"/>
                </a:lnTo>
                <a:lnTo>
                  <a:pt x="748" y="1467"/>
                </a:lnTo>
                <a:lnTo>
                  <a:pt x="748" y="1655"/>
                </a:lnTo>
                <a:lnTo>
                  <a:pt x="1014" y="1655"/>
                </a:lnTo>
                <a:lnTo>
                  <a:pt x="1014" y="3094"/>
                </a:lnTo>
                <a:lnTo>
                  <a:pt x="1562" y="3094"/>
                </a:lnTo>
                <a:lnTo>
                  <a:pt x="1562" y="2618"/>
                </a:lnTo>
                <a:lnTo>
                  <a:pt x="1503" y="2546"/>
                </a:lnTo>
                <a:lnTo>
                  <a:pt x="1503" y="1584"/>
                </a:lnTo>
                <a:lnTo>
                  <a:pt x="2097" y="1584"/>
                </a:lnTo>
                <a:lnTo>
                  <a:pt x="2097" y="1324"/>
                </a:lnTo>
                <a:lnTo>
                  <a:pt x="2450" y="1322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9"/>
          <p:cNvSpPr/>
          <p:nvPr/>
        </p:nvSpPr>
        <p:spPr>
          <a:xfrm>
            <a:off x="2013120" y="4840200"/>
            <a:ext cx="1226880" cy="80136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801360"/>
              <a:gd name="textAreaBottom" fmla="*/ 801720 h 801360"/>
            </a:gdLst>
            <a:ahLst/>
            <a:rect l="textAreaLeft" t="textAreaTop" r="textAreaRight" b="textAreaBottom"/>
            <a:pathLst>
              <a:path w="1741" h="2020">
                <a:moveTo>
                  <a:pt x="1741" y="0"/>
                </a:moveTo>
                <a:lnTo>
                  <a:pt x="594" y="0"/>
                </a:lnTo>
                <a:lnTo>
                  <a:pt x="594" y="262"/>
                </a:lnTo>
                <a:lnTo>
                  <a:pt x="0" y="262"/>
                </a:lnTo>
                <a:lnTo>
                  <a:pt x="0" y="1224"/>
                </a:lnTo>
                <a:lnTo>
                  <a:pt x="63" y="1296"/>
                </a:lnTo>
                <a:lnTo>
                  <a:pt x="63" y="1945"/>
                </a:lnTo>
                <a:lnTo>
                  <a:pt x="176" y="2020"/>
                </a:lnTo>
                <a:lnTo>
                  <a:pt x="1741" y="2020"/>
                </a:lnTo>
                <a:lnTo>
                  <a:pt x="1741" y="0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60"/>
          <p:cNvSpPr/>
          <p:nvPr/>
        </p:nvSpPr>
        <p:spPr>
          <a:xfrm>
            <a:off x="2013120" y="4840200"/>
            <a:ext cx="1226880" cy="80136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801360"/>
              <a:gd name="textAreaBottom" fmla="*/ 801720 h 801360"/>
            </a:gdLst>
            <a:ahLst/>
            <a:rect l="textAreaLeft" t="textAreaTop" r="textAreaRight" b="textAreaBottom"/>
            <a:pathLst>
              <a:path w="1741" h="2020">
                <a:moveTo>
                  <a:pt x="1741" y="0"/>
                </a:moveTo>
                <a:lnTo>
                  <a:pt x="594" y="0"/>
                </a:lnTo>
                <a:lnTo>
                  <a:pt x="594" y="262"/>
                </a:lnTo>
                <a:lnTo>
                  <a:pt x="0" y="262"/>
                </a:lnTo>
                <a:lnTo>
                  <a:pt x="0" y="1224"/>
                </a:lnTo>
                <a:lnTo>
                  <a:pt x="63" y="1296"/>
                </a:lnTo>
                <a:lnTo>
                  <a:pt x="63" y="1945"/>
                </a:lnTo>
                <a:lnTo>
                  <a:pt x="176" y="2020"/>
                </a:lnTo>
                <a:lnTo>
                  <a:pt x="1741" y="2020"/>
                </a:lnTo>
                <a:lnTo>
                  <a:pt x="1741" y="0"/>
                </a:lnTo>
                <a:lnTo>
                  <a:pt x="1741" y="0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61"/>
          <p:cNvSpPr/>
          <p:nvPr/>
        </p:nvSpPr>
        <p:spPr>
          <a:xfrm>
            <a:off x="2013120" y="4840200"/>
            <a:ext cx="1226880" cy="80136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801360"/>
              <a:gd name="textAreaBottom" fmla="*/ 801720 h 801360"/>
            </a:gdLst>
            <a:ahLst/>
            <a:rect l="textAreaLeft" t="textAreaTop" r="textAreaRight" b="textAreaBottom"/>
            <a:pathLst>
              <a:path w="1741" h="2020">
                <a:moveTo>
                  <a:pt x="1741" y="0"/>
                </a:moveTo>
                <a:lnTo>
                  <a:pt x="594" y="0"/>
                </a:lnTo>
                <a:lnTo>
                  <a:pt x="594" y="262"/>
                </a:lnTo>
                <a:lnTo>
                  <a:pt x="0" y="262"/>
                </a:lnTo>
                <a:lnTo>
                  <a:pt x="0" y="1224"/>
                </a:lnTo>
                <a:lnTo>
                  <a:pt x="63" y="1296"/>
                </a:lnTo>
                <a:lnTo>
                  <a:pt x="63" y="1945"/>
                </a:lnTo>
                <a:lnTo>
                  <a:pt x="176" y="2020"/>
                </a:lnTo>
                <a:lnTo>
                  <a:pt x="1741" y="2020"/>
                </a:lnTo>
                <a:lnTo>
                  <a:pt x="1741" y="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62"/>
          <p:cNvSpPr/>
          <p:nvPr/>
        </p:nvSpPr>
        <p:spPr>
          <a:xfrm>
            <a:off x="952560" y="4764240"/>
            <a:ext cx="1179000" cy="1296720"/>
          </a:xfrm>
          <a:custGeom>
            <a:avLst/>
            <a:gdLst>
              <a:gd name="textAreaLeft" fmla="*/ 0 w 1179000"/>
              <a:gd name="textAreaRight" fmla="*/ 1179360 w 117900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1672" h="3266">
                <a:moveTo>
                  <a:pt x="0" y="0"/>
                </a:moveTo>
                <a:lnTo>
                  <a:pt x="353" y="0"/>
                </a:lnTo>
                <a:lnTo>
                  <a:pt x="353" y="338"/>
                </a:lnTo>
                <a:lnTo>
                  <a:pt x="750" y="338"/>
                </a:lnTo>
                <a:lnTo>
                  <a:pt x="750" y="526"/>
                </a:lnTo>
                <a:lnTo>
                  <a:pt x="1013" y="526"/>
                </a:lnTo>
                <a:lnTo>
                  <a:pt x="1013" y="1966"/>
                </a:lnTo>
                <a:lnTo>
                  <a:pt x="1562" y="1966"/>
                </a:lnTo>
                <a:lnTo>
                  <a:pt x="1562" y="2138"/>
                </a:lnTo>
                <a:lnTo>
                  <a:pt x="1672" y="2207"/>
                </a:lnTo>
                <a:lnTo>
                  <a:pt x="1672" y="3266"/>
                </a:lnTo>
                <a:lnTo>
                  <a:pt x="0" y="326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63"/>
          <p:cNvSpPr/>
          <p:nvPr/>
        </p:nvSpPr>
        <p:spPr>
          <a:xfrm>
            <a:off x="952560" y="4764240"/>
            <a:ext cx="1179000" cy="1296720"/>
          </a:xfrm>
          <a:custGeom>
            <a:avLst/>
            <a:gdLst>
              <a:gd name="textAreaLeft" fmla="*/ 0 w 1179000"/>
              <a:gd name="textAreaRight" fmla="*/ 1179360 w 117900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1672" h="3266">
                <a:moveTo>
                  <a:pt x="0" y="0"/>
                </a:moveTo>
                <a:lnTo>
                  <a:pt x="353" y="0"/>
                </a:lnTo>
                <a:lnTo>
                  <a:pt x="353" y="338"/>
                </a:lnTo>
                <a:lnTo>
                  <a:pt x="750" y="338"/>
                </a:lnTo>
                <a:lnTo>
                  <a:pt x="750" y="526"/>
                </a:lnTo>
                <a:lnTo>
                  <a:pt x="1013" y="526"/>
                </a:lnTo>
                <a:lnTo>
                  <a:pt x="1013" y="1966"/>
                </a:lnTo>
                <a:lnTo>
                  <a:pt x="1562" y="1966"/>
                </a:lnTo>
                <a:lnTo>
                  <a:pt x="1562" y="2138"/>
                </a:lnTo>
                <a:lnTo>
                  <a:pt x="1672" y="2207"/>
                </a:lnTo>
                <a:lnTo>
                  <a:pt x="1672" y="3266"/>
                </a:lnTo>
                <a:lnTo>
                  <a:pt x="0" y="3266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64"/>
          <p:cNvSpPr/>
          <p:nvPr/>
        </p:nvSpPr>
        <p:spPr>
          <a:xfrm>
            <a:off x="952560" y="4764240"/>
            <a:ext cx="1179000" cy="1296720"/>
          </a:xfrm>
          <a:custGeom>
            <a:avLst/>
            <a:gdLst>
              <a:gd name="textAreaLeft" fmla="*/ 0 w 1179000"/>
              <a:gd name="textAreaRight" fmla="*/ 1179360 w 117900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1672" h="3266">
                <a:moveTo>
                  <a:pt x="0" y="0"/>
                </a:moveTo>
                <a:lnTo>
                  <a:pt x="353" y="0"/>
                </a:lnTo>
                <a:lnTo>
                  <a:pt x="353" y="338"/>
                </a:lnTo>
                <a:lnTo>
                  <a:pt x="750" y="338"/>
                </a:lnTo>
                <a:lnTo>
                  <a:pt x="750" y="526"/>
                </a:lnTo>
                <a:lnTo>
                  <a:pt x="1013" y="526"/>
                </a:lnTo>
                <a:lnTo>
                  <a:pt x="1013" y="1966"/>
                </a:lnTo>
                <a:lnTo>
                  <a:pt x="1562" y="1966"/>
                </a:lnTo>
                <a:lnTo>
                  <a:pt x="1562" y="2138"/>
                </a:lnTo>
                <a:lnTo>
                  <a:pt x="1672" y="2207"/>
                </a:lnTo>
                <a:lnTo>
                  <a:pt x="1672" y="3266"/>
                </a:lnTo>
                <a:lnTo>
                  <a:pt x="0" y="3266"/>
                </a:lnTo>
                <a:lnTo>
                  <a:pt x="0" y="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65"/>
          <p:cNvSpPr/>
          <p:nvPr/>
        </p:nvSpPr>
        <p:spPr>
          <a:xfrm>
            <a:off x="4406760" y="4135320"/>
            <a:ext cx="1910880" cy="1201320"/>
          </a:xfrm>
          <a:custGeom>
            <a:avLst/>
            <a:gdLst>
              <a:gd name="textAreaLeft" fmla="*/ 0 w 1910880"/>
              <a:gd name="textAreaRight" fmla="*/ 1911240 w 1910880"/>
              <a:gd name="textAreaTop" fmla="*/ 0 h 1201320"/>
              <a:gd name="textAreaBottom" fmla="*/ 1201680 h 1201320"/>
            </a:gdLst>
            <a:ahLst/>
            <a:rect l="textAreaLeft" t="textAreaTop" r="textAreaRight" b="textAreaBottom"/>
            <a:pathLst>
              <a:path w="2710" h="3027">
                <a:moveTo>
                  <a:pt x="0" y="3027"/>
                </a:moveTo>
                <a:lnTo>
                  <a:pt x="0" y="0"/>
                </a:lnTo>
                <a:lnTo>
                  <a:pt x="1017" y="0"/>
                </a:lnTo>
                <a:lnTo>
                  <a:pt x="1017" y="143"/>
                </a:lnTo>
                <a:lnTo>
                  <a:pt x="1765" y="143"/>
                </a:lnTo>
                <a:lnTo>
                  <a:pt x="1765" y="1821"/>
                </a:lnTo>
                <a:lnTo>
                  <a:pt x="2710" y="1821"/>
                </a:lnTo>
                <a:lnTo>
                  <a:pt x="2710" y="3025"/>
                </a:lnTo>
                <a:lnTo>
                  <a:pt x="0" y="3027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66"/>
          <p:cNvSpPr/>
          <p:nvPr/>
        </p:nvSpPr>
        <p:spPr>
          <a:xfrm>
            <a:off x="4406760" y="4135320"/>
            <a:ext cx="1910880" cy="1201320"/>
          </a:xfrm>
          <a:custGeom>
            <a:avLst/>
            <a:gdLst>
              <a:gd name="textAreaLeft" fmla="*/ 0 w 1910880"/>
              <a:gd name="textAreaRight" fmla="*/ 1911240 w 1910880"/>
              <a:gd name="textAreaTop" fmla="*/ 0 h 1201320"/>
              <a:gd name="textAreaBottom" fmla="*/ 1201680 h 1201320"/>
            </a:gdLst>
            <a:ahLst/>
            <a:rect l="textAreaLeft" t="textAreaTop" r="textAreaRight" b="textAreaBottom"/>
            <a:pathLst>
              <a:path w="2710" h="3027">
                <a:moveTo>
                  <a:pt x="0" y="3027"/>
                </a:moveTo>
                <a:lnTo>
                  <a:pt x="0" y="0"/>
                </a:lnTo>
                <a:lnTo>
                  <a:pt x="1017" y="0"/>
                </a:lnTo>
                <a:lnTo>
                  <a:pt x="1017" y="143"/>
                </a:lnTo>
                <a:lnTo>
                  <a:pt x="1765" y="143"/>
                </a:lnTo>
                <a:lnTo>
                  <a:pt x="1765" y="1821"/>
                </a:lnTo>
                <a:lnTo>
                  <a:pt x="2710" y="1821"/>
                </a:lnTo>
                <a:lnTo>
                  <a:pt x="2710" y="3025"/>
                </a:lnTo>
                <a:lnTo>
                  <a:pt x="0" y="3027"/>
                </a:lnTo>
                <a:lnTo>
                  <a:pt x="0" y="3027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67"/>
          <p:cNvSpPr/>
          <p:nvPr/>
        </p:nvSpPr>
        <p:spPr>
          <a:xfrm>
            <a:off x="4406760" y="4135320"/>
            <a:ext cx="1910880" cy="1201320"/>
          </a:xfrm>
          <a:custGeom>
            <a:avLst/>
            <a:gdLst>
              <a:gd name="textAreaLeft" fmla="*/ 0 w 1910880"/>
              <a:gd name="textAreaRight" fmla="*/ 1911240 w 1910880"/>
              <a:gd name="textAreaTop" fmla="*/ 0 h 1201320"/>
              <a:gd name="textAreaBottom" fmla="*/ 1201680 h 1201320"/>
            </a:gdLst>
            <a:ahLst/>
            <a:rect l="textAreaLeft" t="textAreaTop" r="textAreaRight" b="textAreaBottom"/>
            <a:pathLst>
              <a:path w="2710" h="3027">
                <a:moveTo>
                  <a:pt x="0" y="3027"/>
                </a:moveTo>
                <a:lnTo>
                  <a:pt x="0" y="0"/>
                </a:lnTo>
                <a:lnTo>
                  <a:pt x="1017" y="0"/>
                </a:lnTo>
                <a:lnTo>
                  <a:pt x="1017" y="143"/>
                </a:lnTo>
                <a:lnTo>
                  <a:pt x="1765" y="143"/>
                </a:lnTo>
                <a:lnTo>
                  <a:pt x="1765" y="1821"/>
                </a:lnTo>
                <a:lnTo>
                  <a:pt x="2710" y="1821"/>
                </a:lnTo>
                <a:lnTo>
                  <a:pt x="2710" y="3025"/>
                </a:lnTo>
                <a:lnTo>
                  <a:pt x="0" y="3027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68"/>
          <p:cNvSpPr/>
          <p:nvPr/>
        </p:nvSpPr>
        <p:spPr>
          <a:xfrm>
            <a:off x="4338720" y="3209760"/>
            <a:ext cx="1807920" cy="1106280"/>
          </a:xfrm>
          <a:custGeom>
            <a:avLst/>
            <a:gdLst>
              <a:gd name="textAreaLeft" fmla="*/ 0 w 1807920"/>
              <a:gd name="textAreaRight" fmla="*/ 1808280 w 1807920"/>
              <a:gd name="textAreaTop" fmla="*/ 0 h 1106280"/>
              <a:gd name="textAreaBottom" fmla="*/ 1106640 h 1106280"/>
            </a:gdLst>
            <a:ahLst/>
            <a:rect l="textAreaLeft" t="textAreaTop" r="textAreaRight" b="textAreaBottom"/>
            <a:pathLst>
              <a:path w="2561" h="2787">
                <a:moveTo>
                  <a:pt x="0" y="1610"/>
                </a:moveTo>
                <a:lnTo>
                  <a:pt x="3" y="2333"/>
                </a:lnTo>
                <a:lnTo>
                  <a:pt x="1109" y="2333"/>
                </a:lnTo>
                <a:lnTo>
                  <a:pt x="1109" y="2474"/>
                </a:lnTo>
                <a:lnTo>
                  <a:pt x="1858" y="2474"/>
                </a:lnTo>
                <a:lnTo>
                  <a:pt x="1858" y="2787"/>
                </a:lnTo>
                <a:lnTo>
                  <a:pt x="2561" y="2787"/>
                </a:lnTo>
                <a:lnTo>
                  <a:pt x="2561" y="0"/>
                </a:lnTo>
                <a:lnTo>
                  <a:pt x="1769" y="0"/>
                </a:lnTo>
                <a:lnTo>
                  <a:pt x="1769" y="145"/>
                </a:lnTo>
                <a:lnTo>
                  <a:pt x="733" y="145"/>
                </a:lnTo>
                <a:lnTo>
                  <a:pt x="733" y="1201"/>
                </a:lnTo>
                <a:lnTo>
                  <a:pt x="532" y="1201"/>
                </a:lnTo>
                <a:lnTo>
                  <a:pt x="535" y="1610"/>
                </a:lnTo>
                <a:lnTo>
                  <a:pt x="0" y="1610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69"/>
          <p:cNvSpPr/>
          <p:nvPr/>
        </p:nvSpPr>
        <p:spPr>
          <a:xfrm>
            <a:off x="4338720" y="3209760"/>
            <a:ext cx="1807920" cy="1106280"/>
          </a:xfrm>
          <a:custGeom>
            <a:avLst/>
            <a:gdLst>
              <a:gd name="textAreaLeft" fmla="*/ 0 w 1807920"/>
              <a:gd name="textAreaRight" fmla="*/ 1808280 w 1807920"/>
              <a:gd name="textAreaTop" fmla="*/ 0 h 1106280"/>
              <a:gd name="textAreaBottom" fmla="*/ 1106640 h 1106280"/>
            </a:gdLst>
            <a:ahLst/>
            <a:rect l="textAreaLeft" t="textAreaTop" r="textAreaRight" b="textAreaBottom"/>
            <a:pathLst>
              <a:path w="2561" h="2787">
                <a:moveTo>
                  <a:pt x="0" y="1610"/>
                </a:moveTo>
                <a:lnTo>
                  <a:pt x="3" y="2333"/>
                </a:lnTo>
                <a:lnTo>
                  <a:pt x="1109" y="2333"/>
                </a:lnTo>
                <a:lnTo>
                  <a:pt x="1109" y="2474"/>
                </a:lnTo>
                <a:lnTo>
                  <a:pt x="1858" y="2474"/>
                </a:lnTo>
                <a:lnTo>
                  <a:pt x="1858" y="2787"/>
                </a:lnTo>
                <a:lnTo>
                  <a:pt x="2561" y="2787"/>
                </a:lnTo>
                <a:lnTo>
                  <a:pt x="2561" y="0"/>
                </a:lnTo>
                <a:lnTo>
                  <a:pt x="1769" y="0"/>
                </a:lnTo>
                <a:lnTo>
                  <a:pt x="1769" y="145"/>
                </a:lnTo>
                <a:lnTo>
                  <a:pt x="733" y="145"/>
                </a:lnTo>
                <a:lnTo>
                  <a:pt x="733" y="1201"/>
                </a:lnTo>
                <a:lnTo>
                  <a:pt x="532" y="1201"/>
                </a:lnTo>
                <a:lnTo>
                  <a:pt x="535" y="1610"/>
                </a:lnTo>
                <a:lnTo>
                  <a:pt x="0" y="1610"/>
                </a:lnTo>
                <a:lnTo>
                  <a:pt x="0" y="1610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70"/>
          <p:cNvSpPr/>
          <p:nvPr/>
        </p:nvSpPr>
        <p:spPr>
          <a:xfrm>
            <a:off x="4338720" y="3209760"/>
            <a:ext cx="1807920" cy="1106280"/>
          </a:xfrm>
          <a:custGeom>
            <a:avLst/>
            <a:gdLst>
              <a:gd name="textAreaLeft" fmla="*/ 0 w 1807920"/>
              <a:gd name="textAreaRight" fmla="*/ 1808280 w 1807920"/>
              <a:gd name="textAreaTop" fmla="*/ 0 h 1106280"/>
              <a:gd name="textAreaBottom" fmla="*/ 1106640 h 1106280"/>
            </a:gdLst>
            <a:ahLst/>
            <a:rect l="textAreaLeft" t="textAreaTop" r="textAreaRight" b="textAreaBottom"/>
            <a:pathLst>
              <a:path w="2561" h="2787">
                <a:moveTo>
                  <a:pt x="0" y="1610"/>
                </a:moveTo>
                <a:lnTo>
                  <a:pt x="3" y="2333"/>
                </a:lnTo>
                <a:lnTo>
                  <a:pt x="1109" y="2333"/>
                </a:lnTo>
                <a:lnTo>
                  <a:pt x="1109" y="2474"/>
                </a:lnTo>
                <a:lnTo>
                  <a:pt x="1858" y="2474"/>
                </a:lnTo>
                <a:lnTo>
                  <a:pt x="1858" y="2787"/>
                </a:lnTo>
                <a:lnTo>
                  <a:pt x="2561" y="2787"/>
                </a:lnTo>
                <a:lnTo>
                  <a:pt x="2561" y="0"/>
                </a:lnTo>
                <a:lnTo>
                  <a:pt x="1769" y="0"/>
                </a:lnTo>
                <a:lnTo>
                  <a:pt x="1769" y="145"/>
                </a:lnTo>
                <a:lnTo>
                  <a:pt x="733" y="145"/>
                </a:lnTo>
                <a:lnTo>
                  <a:pt x="733" y="1201"/>
                </a:lnTo>
                <a:lnTo>
                  <a:pt x="532" y="1201"/>
                </a:lnTo>
                <a:lnTo>
                  <a:pt x="535" y="1610"/>
                </a:lnTo>
                <a:lnTo>
                  <a:pt x="0" y="161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71"/>
          <p:cNvSpPr/>
          <p:nvPr/>
        </p:nvSpPr>
        <p:spPr>
          <a:xfrm>
            <a:off x="5892840" y="3543480"/>
            <a:ext cx="2239560" cy="1456920"/>
          </a:xfrm>
          <a:custGeom>
            <a:avLst/>
            <a:gdLst>
              <a:gd name="textAreaLeft" fmla="*/ 0 w 2239560"/>
              <a:gd name="textAreaRight" fmla="*/ 2239920 w 2239560"/>
              <a:gd name="textAreaTop" fmla="*/ 0 h 1456920"/>
              <a:gd name="textAreaBottom" fmla="*/ 1457280 h 1456920"/>
            </a:gdLst>
            <a:ahLst/>
            <a:rect l="textAreaLeft" t="textAreaTop" r="textAreaRight" b="textAreaBottom"/>
            <a:pathLst>
              <a:path w="3174" h="3672">
                <a:moveTo>
                  <a:pt x="946" y="3672"/>
                </a:moveTo>
                <a:lnTo>
                  <a:pt x="0" y="3672"/>
                </a:lnTo>
                <a:lnTo>
                  <a:pt x="0" y="2304"/>
                </a:lnTo>
                <a:lnTo>
                  <a:pt x="702" y="2304"/>
                </a:lnTo>
                <a:lnTo>
                  <a:pt x="702" y="71"/>
                </a:lnTo>
                <a:lnTo>
                  <a:pt x="900" y="71"/>
                </a:lnTo>
                <a:lnTo>
                  <a:pt x="900" y="239"/>
                </a:lnTo>
                <a:lnTo>
                  <a:pt x="1961" y="239"/>
                </a:lnTo>
                <a:lnTo>
                  <a:pt x="1961" y="0"/>
                </a:lnTo>
                <a:lnTo>
                  <a:pt x="2534" y="0"/>
                </a:lnTo>
                <a:lnTo>
                  <a:pt x="2534" y="578"/>
                </a:lnTo>
                <a:lnTo>
                  <a:pt x="2822" y="578"/>
                </a:lnTo>
                <a:lnTo>
                  <a:pt x="2822" y="887"/>
                </a:lnTo>
                <a:lnTo>
                  <a:pt x="3174" y="887"/>
                </a:lnTo>
                <a:lnTo>
                  <a:pt x="3174" y="1127"/>
                </a:lnTo>
                <a:lnTo>
                  <a:pt x="2867" y="1127"/>
                </a:lnTo>
                <a:lnTo>
                  <a:pt x="2867" y="1487"/>
                </a:lnTo>
                <a:lnTo>
                  <a:pt x="2800" y="1487"/>
                </a:lnTo>
                <a:lnTo>
                  <a:pt x="2800" y="2498"/>
                </a:lnTo>
                <a:lnTo>
                  <a:pt x="2744" y="2556"/>
                </a:lnTo>
                <a:lnTo>
                  <a:pt x="2744" y="2640"/>
                </a:lnTo>
                <a:lnTo>
                  <a:pt x="946" y="2640"/>
                </a:lnTo>
                <a:lnTo>
                  <a:pt x="946" y="3672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72"/>
          <p:cNvSpPr/>
          <p:nvPr/>
        </p:nvSpPr>
        <p:spPr>
          <a:xfrm>
            <a:off x="5651640" y="3402000"/>
            <a:ext cx="2239560" cy="1456920"/>
          </a:xfrm>
          <a:custGeom>
            <a:avLst/>
            <a:gdLst>
              <a:gd name="textAreaLeft" fmla="*/ 0 w 2239560"/>
              <a:gd name="textAreaRight" fmla="*/ 2239920 w 2239560"/>
              <a:gd name="textAreaTop" fmla="*/ 0 h 1456920"/>
              <a:gd name="textAreaBottom" fmla="*/ 1457280 h 1456920"/>
            </a:gdLst>
            <a:ahLst/>
            <a:rect l="textAreaLeft" t="textAreaTop" r="textAreaRight" b="textAreaBottom"/>
            <a:pathLst>
              <a:path w="3174" h="3672">
                <a:moveTo>
                  <a:pt x="946" y="3672"/>
                </a:moveTo>
                <a:lnTo>
                  <a:pt x="0" y="3672"/>
                </a:lnTo>
                <a:lnTo>
                  <a:pt x="0" y="2304"/>
                </a:lnTo>
                <a:lnTo>
                  <a:pt x="702" y="2304"/>
                </a:lnTo>
                <a:lnTo>
                  <a:pt x="702" y="71"/>
                </a:lnTo>
                <a:lnTo>
                  <a:pt x="900" y="71"/>
                </a:lnTo>
                <a:lnTo>
                  <a:pt x="900" y="239"/>
                </a:lnTo>
                <a:lnTo>
                  <a:pt x="1961" y="239"/>
                </a:lnTo>
                <a:lnTo>
                  <a:pt x="1961" y="0"/>
                </a:lnTo>
                <a:lnTo>
                  <a:pt x="2534" y="0"/>
                </a:lnTo>
                <a:lnTo>
                  <a:pt x="2534" y="578"/>
                </a:lnTo>
                <a:lnTo>
                  <a:pt x="2822" y="578"/>
                </a:lnTo>
                <a:lnTo>
                  <a:pt x="2822" y="887"/>
                </a:lnTo>
                <a:lnTo>
                  <a:pt x="3174" y="887"/>
                </a:lnTo>
                <a:lnTo>
                  <a:pt x="3174" y="1127"/>
                </a:lnTo>
                <a:lnTo>
                  <a:pt x="2867" y="1127"/>
                </a:lnTo>
                <a:lnTo>
                  <a:pt x="2867" y="1487"/>
                </a:lnTo>
                <a:lnTo>
                  <a:pt x="2800" y="1487"/>
                </a:lnTo>
                <a:lnTo>
                  <a:pt x="2800" y="2498"/>
                </a:lnTo>
                <a:lnTo>
                  <a:pt x="2744" y="2556"/>
                </a:lnTo>
                <a:lnTo>
                  <a:pt x="2744" y="2640"/>
                </a:lnTo>
                <a:lnTo>
                  <a:pt x="946" y="2640"/>
                </a:lnTo>
                <a:lnTo>
                  <a:pt x="946" y="3672"/>
                </a:lnTo>
                <a:lnTo>
                  <a:pt x="946" y="3672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73"/>
          <p:cNvSpPr/>
          <p:nvPr/>
        </p:nvSpPr>
        <p:spPr>
          <a:xfrm>
            <a:off x="5651640" y="3402000"/>
            <a:ext cx="2239560" cy="1456920"/>
          </a:xfrm>
          <a:custGeom>
            <a:avLst/>
            <a:gdLst>
              <a:gd name="textAreaLeft" fmla="*/ 0 w 2239560"/>
              <a:gd name="textAreaRight" fmla="*/ 2239920 w 2239560"/>
              <a:gd name="textAreaTop" fmla="*/ 0 h 1456920"/>
              <a:gd name="textAreaBottom" fmla="*/ 1457280 h 1456920"/>
            </a:gdLst>
            <a:ahLst/>
            <a:rect l="textAreaLeft" t="textAreaTop" r="textAreaRight" b="textAreaBottom"/>
            <a:pathLst>
              <a:path w="3174" h="3672">
                <a:moveTo>
                  <a:pt x="946" y="3672"/>
                </a:moveTo>
                <a:lnTo>
                  <a:pt x="0" y="3672"/>
                </a:lnTo>
                <a:lnTo>
                  <a:pt x="0" y="2304"/>
                </a:lnTo>
                <a:lnTo>
                  <a:pt x="702" y="2304"/>
                </a:lnTo>
                <a:lnTo>
                  <a:pt x="702" y="71"/>
                </a:lnTo>
                <a:lnTo>
                  <a:pt x="900" y="71"/>
                </a:lnTo>
                <a:lnTo>
                  <a:pt x="900" y="239"/>
                </a:lnTo>
                <a:lnTo>
                  <a:pt x="1961" y="239"/>
                </a:lnTo>
                <a:lnTo>
                  <a:pt x="1961" y="0"/>
                </a:lnTo>
                <a:lnTo>
                  <a:pt x="2534" y="0"/>
                </a:lnTo>
                <a:lnTo>
                  <a:pt x="2534" y="578"/>
                </a:lnTo>
                <a:lnTo>
                  <a:pt x="2822" y="578"/>
                </a:lnTo>
                <a:lnTo>
                  <a:pt x="2822" y="887"/>
                </a:lnTo>
                <a:lnTo>
                  <a:pt x="3174" y="887"/>
                </a:lnTo>
                <a:lnTo>
                  <a:pt x="3174" y="1127"/>
                </a:lnTo>
                <a:lnTo>
                  <a:pt x="2867" y="1127"/>
                </a:lnTo>
                <a:lnTo>
                  <a:pt x="2867" y="1487"/>
                </a:lnTo>
                <a:lnTo>
                  <a:pt x="2800" y="1487"/>
                </a:lnTo>
                <a:lnTo>
                  <a:pt x="2800" y="2498"/>
                </a:lnTo>
                <a:lnTo>
                  <a:pt x="2744" y="2556"/>
                </a:lnTo>
                <a:lnTo>
                  <a:pt x="2744" y="2640"/>
                </a:lnTo>
                <a:lnTo>
                  <a:pt x="946" y="2640"/>
                </a:lnTo>
                <a:lnTo>
                  <a:pt x="946" y="3672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74"/>
          <p:cNvSpPr/>
          <p:nvPr/>
        </p:nvSpPr>
        <p:spPr>
          <a:xfrm>
            <a:off x="7518240" y="3828960"/>
            <a:ext cx="769680" cy="1488600"/>
          </a:xfrm>
          <a:custGeom>
            <a:avLst/>
            <a:gdLst>
              <a:gd name="textAreaLeft" fmla="*/ 0 w 769680"/>
              <a:gd name="textAreaRight" fmla="*/ 770040 w 769680"/>
              <a:gd name="textAreaTop" fmla="*/ 0 h 1488600"/>
              <a:gd name="textAreaBottom" fmla="*/ 1488960 h 1488600"/>
            </a:gdLst>
            <a:ahLst/>
            <a:rect l="textAreaLeft" t="textAreaTop" r="textAreaRight" b="textAreaBottom"/>
            <a:pathLst>
              <a:path w="1091" h="3749">
                <a:moveTo>
                  <a:pt x="233" y="3749"/>
                </a:moveTo>
                <a:lnTo>
                  <a:pt x="233" y="2401"/>
                </a:lnTo>
                <a:lnTo>
                  <a:pt x="0" y="2401"/>
                </a:lnTo>
                <a:lnTo>
                  <a:pt x="2" y="1428"/>
                </a:lnTo>
                <a:lnTo>
                  <a:pt x="57" y="1370"/>
                </a:lnTo>
                <a:lnTo>
                  <a:pt x="57" y="359"/>
                </a:lnTo>
                <a:lnTo>
                  <a:pt x="124" y="359"/>
                </a:lnTo>
                <a:lnTo>
                  <a:pt x="124" y="0"/>
                </a:lnTo>
                <a:lnTo>
                  <a:pt x="1091" y="0"/>
                </a:lnTo>
                <a:lnTo>
                  <a:pt x="1091" y="3747"/>
                </a:lnTo>
                <a:lnTo>
                  <a:pt x="233" y="3749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75"/>
          <p:cNvSpPr/>
          <p:nvPr/>
        </p:nvSpPr>
        <p:spPr>
          <a:xfrm>
            <a:off x="7586640" y="3848040"/>
            <a:ext cx="769680" cy="1488600"/>
          </a:xfrm>
          <a:custGeom>
            <a:avLst/>
            <a:gdLst>
              <a:gd name="textAreaLeft" fmla="*/ 0 w 769680"/>
              <a:gd name="textAreaRight" fmla="*/ 770040 w 769680"/>
              <a:gd name="textAreaTop" fmla="*/ 0 h 1488600"/>
              <a:gd name="textAreaBottom" fmla="*/ 1488960 h 1488600"/>
            </a:gdLst>
            <a:ahLst/>
            <a:rect l="textAreaLeft" t="textAreaTop" r="textAreaRight" b="textAreaBottom"/>
            <a:pathLst>
              <a:path w="1091" h="3749">
                <a:moveTo>
                  <a:pt x="233" y="3749"/>
                </a:moveTo>
                <a:lnTo>
                  <a:pt x="233" y="2401"/>
                </a:lnTo>
                <a:lnTo>
                  <a:pt x="0" y="2401"/>
                </a:lnTo>
                <a:lnTo>
                  <a:pt x="2" y="1428"/>
                </a:lnTo>
                <a:lnTo>
                  <a:pt x="57" y="1370"/>
                </a:lnTo>
                <a:lnTo>
                  <a:pt x="57" y="359"/>
                </a:lnTo>
                <a:lnTo>
                  <a:pt x="124" y="359"/>
                </a:lnTo>
                <a:lnTo>
                  <a:pt x="124" y="0"/>
                </a:lnTo>
                <a:lnTo>
                  <a:pt x="1091" y="0"/>
                </a:lnTo>
                <a:lnTo>
                  <a:pt x="1091" y="3747"/>
                </a:lnTo>
                <a:lnTo>
                  <a:pt x="233" y="3749"/>
                </a:lnTo>
                <a:lnTo>
                  <a:pt x="233" y="3749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76"/>
          <p:cNvSpPr/>
          <p:nvPr/>
        </p:nvSpPr>
        <p:spPr>
          <a:xfrm>
            <a:off x="7586640" y="3848040"/>
            <a:ext cx="769680" cy="1488600"/>
          </a:xfrm>
          <a:custGeom>
            <a:avLst/>
            <a:gdLst>
              <a:gd name="textAreaLeft" fmla="*/ 0 w 769680"/>
              <a:gd name="textAreaRight" fmla="*/ 770040 w 769680"/>
              <a:gd name="textAreaTop" fmla="*/ 0 h 1488600"/>
              <a:gd name="textAreaBottom" fmla="*/ 1488960 h 1488600"/>
            </a:gdLst>
            <a:ahLst/>
            <a:rect l="textAreaLeft" t="textAreaTop" r="textAreaRight" b="textAreaBottom"/>
            <a:pathLst>
              <a:path w="1091" h="3749">
                <a:moveTo>
                  <a:pt x="233" y="3749"/>
                </a:moveTo>
                <a:lnTo>
                  <a:pt x="233" y="2401"/>
                </a:lnTo>
                <a:lnTo>
                  <a:pt x="0" y="2401"/>
                </a:lnTo>
                <a:lnTo>
                  <a:pt x="2" y="1428"/>
                </a:lnTo>
                <a:lnTo>
                  <a:pt x="57" y="1370"/>
                </a:lnTo>
                <a:lnTo>
                  <a:pt x="57" y="359"/>
                </a:lnTo>
                <a:lnTo>
                  <a:pt x="124" y="359"/>
                </a:lnTo>
                <a:lnTo>
                  <a:pt x="124" y="0"/>
                </a:lnTo>
                <a:lnTo>
                  <a:pt x="1091" y="0"/>
                </a:lnTo>
                <a:lnTo>
                  <a:pt x="1091" y="3747"/>
                </a:lnTo>
                <a:lnTo>
                  <a:pt x="233" y="3749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77"/>
          <p:cNvSpPr/>
          <p:nvPr/>
        </p:nvSpPr>
        <p:spPr>
          <a:xfrm>
            <a:off x="6316560" y="4449600"/>
            <a:ext cx="1434600" cy="887040"/>
          </a:xfrm>
          <a:custGeom>
            <a:avLst/>
            <a:gdLst>
              <a:gd name="textAreaLeft" fmla="*/ 0 w 1434600"/>
              <a:gd name="textAreaRight" fmla="*/ 1434960 w 1434600"/>
              <a:gd name="textAreaTop" fmla="*/ 0 h 887040"/>
              <a:gd name="textAreaBottom" fmla="*/ 887400 h 887040"/>
            </a:gdLst>
            <a:ahLst/>
            <a:rect l="textAreaLeft" t="textAreaTop" r="textAreaRight" b="textAreaBottom"/>
            <a:pathLst>
              <a:path w="2032" h="2237">
                <a:moveTo>
                  <a:pt x="1800" y="0"/>
                </a:moveTo>
                <a:lnTo>
                  <a:pt x="2" y="0"/>
                </a:lnTo>
                <a:lnTo>
                  <a:pt x="0" y="2235"/>
                </a:lnTo>
                <a:lnTo>
                  <a:pt x="2032" y="2237"/>
                </a:lnTo>
                <a:lnTo>
                  <a:pt x="2032" y="889"/>
                </a:lnTo>
                <a:lnTo>
                  <a:pt x="1798" y="889"/>
                </a:lnTo>
                <a:lnTo>
                  <a:pt x="1800" y="0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78"/>
          <p:cNvSpPr/>
          <p:nvPr/>
        </p:nvSpPr>
        <p:spPr>
          <a:xfrm>
            <a:off x="6316560" y="4449600"/>
            <a:ext cx="1434600" cy="887040"/>
          </a:xfrm>
          <a:custGeom>
            <a:avLst/>
            <a:gdLst>
              <a:gd name="textAreaLeft" fmla="*/ 0 w 1434600"/>
              <a:gd name="textAreaRight" fmla="*/ 1434960 w 1434600"/>
              <a:gd name="textAreaTop" fmla="*/ 0 h 887040"/>
              <a:gd name="textAreaBottom" fmla="*/ 887400 h 887040"/>
            </a:gdLst>
            <a:ahLst/>
            <a:rect l="textAreaLeft" t="textAreaTop" r="textAreaRight" b="textAreaBottom"/>
            <a:pathLst>
              <a:path w="2032" h="2237">
                <a:moveTo>
                  <a:pt x="1800" y="0"/>
                </a:moveTo>
                <a:lnTo>
                  <a:pt x="2" y="0"/>
                </a:lnTo>
                <a:lnTo>
                  <a:pt x="0" y="2235"/>
                </a:lnTo>
                <a:lnTo>
                  <a:pt x="2032" y="2237"/>
                </a:lnTo>
                <a:lnTo>
                  <a:pt x="2032" y="889"/>
                </a:lnTo>
                <a:lnTo>
                  <a:pt x="1798" y="889"/>
                </a:lnTo>
                <a:lnTo>
                  <a:pt x="1800" y="0"/>
                </a:lnTo>
                <a:lnTo>
                  <a:pt x="1800" y="0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79"/>
          <p:cNvSpPr/>
          <p:nvPr/>
        </p:nvSpPr>
        <p:spPr>
          <a:xfrm>
            <a:off x="6316560" y="4449600"/>
            <a:ext cx="1434600" cy="887040"/>
          </a:xfrm>
          <a:custGeom>
            <a:avLst/>
            <a:gdLst>
              <a:gd name="textAreaLeft" fmla="*/ 0 w 1434600"/>
              <a:gd name="textAreaRight" fmla="*/ 1434960 w 1434600"/>
              <a:gd name="textAreaTop" fmla="*/ 0 h 887040"/>
              <a:gd name="textAreaBottom" fmla="*/ 887400 h 887040"/>
            </a:gdLst>
            <a:ahLst/>
            <a:rect l="textAreaLeft" t="textAreaTop" r="textAreaRight" b="textAreaBottom"/>
            <a:pathLst>
              <a:path w="2032" h="2237">
                <a:moveTo>
                  <a:pt x="1800" y="0"/>
                </a:moveTo>
                <a:lnTo>
                  <a:pt x="2" y="0"/>
                </a:lnTo>
                <a:lnTo>
                  <a:pt x="0" y="2235"/>
                </a:lnTo>
                <a:lnTo>
                  <a:pt x="2032" y="2237"/>
                </a:lnTo>
                <a:lnTo>
                  <a:pt x="2032" y="889"/>
                </a:lnTo>
                <a:lnTo>
                  <a:pt x="1798" y="889"/>
                </a:lnTo>
                <a:lnTo>
                  <a:pt x="1800" y="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80"/>
          <p:cNvSpPr/>
          <p:nvPr/>
        </p:nvSpPr>
        <p:spPr>
          <a:xfrm>
            <a:off x="6146640" y="2792520"/>
            <a:ext cx="1153800" cy="705960"/>
          </a:xfrm>
          <a:custGeom>
            <a:avLst/>
            <a:gdLst>
              <a:gd name="textAreaLeft" fmla="*/ 0 w 1153800"/>
              <a:gd name="textAreaRight" fmla="*/ 1154160 w 1153800"/>
              <a:gd name="textAreaTop" fmla="*/ 0 h 705960"/>
              <a:gd name="textAreaBottom" fmla="*/ 706320 h 705960"/>
            </a:gdLst>
            <a:ahLst/>
            <a:rect l="textAreaLeft" t="textAreaTop" r="textAreaRight" b="textAreaBottom"/>
            <a:pathLst>
              <a:path w="1635" h="1778">
                <a:moveTo>
                  <a:pt x="1635" y="1540"/>
                </a:moveTo>
                <a:lnTo>
                  <a:pt x="1635" y="360"/>
                </a:lnTo>
                <a:lnTo>
                  <a:pt x="1214" y="360"/>
                </a:lnTo>
                <a:lnTo>
                  <a:pt x="1217" y="0"/>
                </a:lnTo>
                <a:lnTo>
                  <a:pt x="862" y="0"/>
                </a:lnTo>
                <a:lnTo>
                  <a:pt x="862" y="219"/>
                </a:lnTo>
                <a:lnTo>
                  <a:pt x="685" y="219"/>
                </a:lnTo>
                <a:lnTo>
                  <a:pt x="685" y="501"/>
                </a:lnTo>
                <a:lnTo>
                  <a:pt x="0" y="501"/>
                </a:lnTo>
                <a:lnTo>
                  <a:pt x="0" y="1609"/>
                </a:lnTo>
                <a:lnTo>
                  <a:pt x="199" y="1609"/>
                </a:lnTo>
                <a:lnTo>
                  <a:pt x="199" y="1778"/>
                </a:lnTo>
                <a:lnTo>
                  <a:pt x="1258" y="1778"/>
                </a:lnTo>
                <a:lnTo>
                  <a:pt x="1258" y="1540"/>
                </a:lnTo>
                <a:lnTo>
                  <a:pt x="1635" y="1540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81"/>
          <p:cNvSpPr/>
          <p:nvPr/>
        </p:nvSpPr>
        <p:spPr>
          <a:xfrm>
            <a:off x="6146640" y="2792520"/>
            <a:ext cx="1153800" cy="705960"/>
          </a:xfrm>
          <a:custGeom>
            <a:avLst/>
            <a:gdLst>
              <a:gd name="textAreaLeft" fmla="*/ 0 w 1153800"/>
              <a:gd name="textAreaRight" fmla="*/ 1154160 w 1153800"/>
              <a:gd name="textAreaTop" fmla="*/ 0 h 705960"/>
              <a:gd name="textAreaBottom" fmla="*/ 706320 h 705960"/>
            </a:gdLst>
            <a:ahLst/>
            <a:rect l="textAreaLeft" t="textAreaTop" r="textAreaRight" b="textAreaBottom"/>
            <a:pathLst>
              <a:path w="1635" h="1778">
                <a:moveTo>
                  <a:pt x="1635" y="1540"/>
                </a:moveTo>
                <a:lnTo>
                  <a:pt x="1635" y="360"/>
                </a:lnTo>
                <a:lnTo>
                  <a:pt x="1214" y="360"/>
                </a:lnTo>
                <a:lnTo>
                  <a:pt x="1217" y="0"/>
                </a:lnTo>
                <a:lnTo>
                  <a:pt x="862" y="0"/>
                </a:lnTo>
                <a:lnTo>
                  <a:pt x="862" y="219"/>
                </a:lnTo>
                <a:lnTo>
                  <a:pt x="685" y="219"/>
                </a:lnTo>
                <a:lnTo>
                  <a:pt x="685" y="501"/>
                </a:lnTo>
                <a:lnTo>
                  <a:pt x="0" y="501"/>
                </a:lnTo>
                <a:lnTo>
                  <a:pt x="0" y="1609"/>
                </a:lnTo>
                <a:lnTo>
                  <a:pt x="199" y="1609"/>
                </a:lnTo>
                <a:lnTo>
                  <a:pt x="199" y="1778"/>
                </a:lnTo>
                <a:lnTo>
                  <a:pt x="1258" y="1778"/>
                </a:lnTo>
                <a:lnTo>
                  <a:pt x="1258" y="1540"/>
                </a:lnTo>
                <a:lnTo>
                  <a:pt x="1635" y="1540"/>
                </a:lnTo>
                <a:lnTo>
                  <a:pt x="1635" y="1540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82"/>
          <p:cNvSpPr/>
          <p:nvPr/>
        </p:nvSpPr>
        <p:spPr>
          <a:xfrm>
            <a:off x="6146640" y="2792520"/>
            <a:ext cx="1153800" cy="705960"/>
          </a:xfrm>
          <a:custGeom>
            <a:avLst/>
            <a:gdLst>
              <a:gd name="textAreaLeft" fmla="*/ 0 w 1153800"/>
              <a:gd name="textAreaRight" fmla="*/ 1154160 w 1153800"/>
              <a:gd name="textAreaTop" fmla="*/ 0 h 705960"/>
              <a:gd name="textAreaBottom" fmla="*/ 706320 h 705960"/>
            </a:gdLst>
            <a:ahLst/>
            <a:rect l="textAreaLeft" t="textAreaTop" r="textAreaRight" b="textAreaBottom"/>
            <a:pathLst>
              <a:path w="1635" h="1778">
                <a:moveTo>
                  <a:pt x="1635" y="1540"/>
                </a:moveTo>
                <a:lnTo>
                  <a:pt x="1635" y="360"/>
                </a:lnTo>
                <a:lnTo>
                  <a:pt x="1214" y="360"/>
                </a:lnTo>
                <a:lnTo>
                  <a:pt x="1217" y="0"/>
                </a:lnTo>
                <a:lnTo>
                  <a:pt x="862" y="0"/>
                </a:lnTo>
                <a:lnTo>
                  <a:pt x="862" y="219"/>
                </a:lnTo>
                <a:lnTo>
                  <a:pt x="685" y="219"/>
                </a:lnTo>
                <a:lnTo>
                  <a:pt x="685" y="501"/>
                </a:lnTo>
                <a:lnTo>
                  <a:pt x="0" y="501"/>
                </a:lnTo>
                <a:lnTo>
                  <a:pt x="0" y="1609"/>
                </a:lnTo>
                <a:lnTo>
                  <a:pt x="199" y="1609"/>
                </a:lnTo>
                <a:lnTo>
                  <a:pt x="199" y="1778"/>
                </a:lnTo>
                <a:lnTo>
                  <a:pt x="1258" y="1778"/>
                </a:lnTo>
                <a:lnTo>
                  <a:pt x="1258" y="1540"/>
                </a:lnTo>
                <a:lnTo>
                  <a:pt x="1635" y="154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83"/>
          <p:cNvSpPr/>
          <p:nvPr/>
        </p:nvSpPr>
        <p:spPr>
          <a:xfrm>
            <a:off x="7315200" y="2971800"/>
            <a:ext cx="1055160" cy="914040"/>
          </a:xfrm>
          <a:custGeom>
            <a:avLst/>
            <a:gdLst>
              <a:gd name="textAreaLeft" fmla="*/ 0 w 1055160"/>
              <a:gd name="textAreaRight" fmla="*/ 1055520 w 1055160"/>
              <a:gd name="textAreaTop" fmla="*/ 0 h 914040"/>
              <a:gd name="textAreaBottom" fmla="*/ 914400 h 914040"/>
            </a:gdLst>
            <a:ahLst/>
            <a:rect l="textAreaLeft" t="textAreaTop" r="textAreaRight" b="textAreaBottom"/>
            <a:pathLst>
              <a:path w="1497" h="2305">
                <a:moveTo>
                  <a:pt x="0" y="1179"/>
                </a:moveTo>
                <a:lnTo>
                  <a:pt x="197" y="1179"/>
                </a:lnTo>
                <a:lnTo>
                  <a:pt x="197" y="1756"/>
                </a:lnTo>
                <a:lnTo>
                  <a:pt x="485" y="1756"/>
                </a:lnTo>
                <a:lnTo>
                  <a:pt x="485" y="2065"/>
                </a:lnTo>
                <a:lnTo>
                  <a:pt x="837" y="2065"/>
                </a:lnTo>
                <a:lnTo>
                  <a:pt x="837" y="2305"/>
                </a:lnTo>
                <a:lnTo>
                  <a:pt x="1497" y="2305"/>
                </a:lnTo>
                <a:lnTo>
                  <a:pt x="1497" y="648"/>
                </a:lnTo>
                <a:lnTo>
                  <a:pt x="329" y="648"/>
                </a:lnTo>
                <a:lnTo>
                  <a:pt x="329" y="0"/>
                </a:lnTo>
                <a:lnTo>
                  <a:pt x="0" y="0"/>
                </a:lnTo>
                <a:lnTo>
                  <a:pt x="0" y="1179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84"/>
          <p:cNvSpPr/>
          <p:nvPr/>
        </p:nvSpPr>
        <p:spPr>
          <a:xfrm>
            <a:off x="7300800" y="2935440"/>
            <a:ext cx="1055160" cy="914040"/>
          </a:xfrm>
          <a:custGeom>
            <a:avLst/>
            <a:gdLst>
              <a:gd name="textAreaLeft" fmla="*/ 0 w 1055160"/>
              <a:gd name="textAreaRight" fmla="*/ 1055520 w 1055160"/>
              <a:gd name="textAreaTop" fmla="*/ 0 h 914040"/>
              <a:gd name="textAreaBottom" fmla="*/ 914400 h 914040"/>
            </a:gdLst>
            <a:ahLst/>
            <a:rect l="textAreaLeft" t="textAreaTop" r="textAreaRight" b="textAreaBottom"/>
            <a:pathLst>
              <a:path w="1497" h="2305">
                <a:moveTo>
                  <a:pt x="0" y="1179"/>
                </a:moveTo>
                <a:lnTo>
                  <a:pt x="197" y="1179"/>
                </a:lnTo>
                <a:lnTo>
                  <a:pt x="197" y="1756"/>
                </a:lnTo>
                <a:lnTo>
                  <a:pt x="485" y="1756"/>
                </a:lnTo>
                <a:lnTo>
                  <a:pt x="485" y="2065"/>
                </a:lnTo>
                <a:lnTo>
                  <a:pt x="837" y="2065"/>
                </a:lnTo>
                <a:lnTo>
                  <a:pt x="837" y="2305"/>
                </a:lnTo>
                <a:lnTo>
                  <a:pt x="1497" y="2305"/>
                </a:lnTo>
                <a:lnTo>
                  <a:pt x="1497" y="648"/>
                </a:lnTo>
                <a:lnTo>
                  <a:pt x="329" y="648"/>
                </a:lnTo>
                <a:lnTo>
                  <a:pt x="329" y="0"/>
                </a:lnTo>
                <a:lnTo>
                  <a:pt x="0" y="0"/>
                </a:lnTo>
                <a:lnTo>
                  <a:pt x="0" y="1179"/>
                </a:lnTo>
                <a:lnTo>
                  <a:pt x="0" y="1179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85"/>
          <p:cNvSpPr/>
          <p:nvPr/>
        </p:nvSpPr>
        <p:spPr>
          <a:xfrm>
            <a:off x="7300800" y="2935440"/>
            <a:ext cx="1055160" cy="914040"/>
          </a:xfrm>
          <a:custGeom>
            <a:avLst/>
            <a:gdLst>
              <a:gd name="textAreaLeft" fmla="*/ 0 w 1055160"/>
              <a:gd name="textAreaRight" fmla="*/ 1055520 w 1055160"/>
              <a:gd name="textAreaTop" fmla="*/ 0 h 914040"/>
              <a:gd name="textAreaBottom" fmla="*/ 914400 h 914040"/>
            </a:gdLst>
            <a:ahLst/>
            <a:rect l="textAreaLeft" t="textAreaTop" r="textAreaRight" b="textAreaBottom"/>
            <a:pathLst>
              <a:path w="1497" h="2305">
                <a:moveTo>
                  <a:pt x="0" y="1179"/>
                </a:moveTo>
                <a:lnTo>
                  <a:pt x="197" y="1179"/>
                </a:lnTo>
                <a:lnTo>
                  <a:pt x="197" y="1756"/>
                </a:lnTo>
                <a:lnTo>
                  <a:pt x="485" y="1756"/>
                </a:lnTo>
                <a:lnTo>
                  <a:pt x="485" y="2065"/>
                </a:lnTo>
                <a:lnTo>
                  <a:pt x="837" y="2065"/>
                </a:lnTo>
                <a:lnTo>
                  <a:pt x="837" y="2305"/>
                </a:lnTo>
                <a:lnTo>
                  <a:pt x="1497" y="2305"/>
                </a:lnTo>
                <a:lnTo>
                  <a:pt x="1497" y="648"/>
                </a:lnTo>
                <a:lnTo>
                  <a:pt x="329" y="648"/>
                </a:lnTo>
                <a:lnTo>
                  <a:pt x="329" y="0"/>
                </a:lnTo>
                <a:lnTo>
                  <a:pt x="0" y="0"/>
                </a:lnTo>
                <a:lnTo>
                  <a:pt x="0" y="1179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86"/>
          <p:cNvSpPr/>
          <p:nvPr/>
        </p:nvSpPr>
        <p:spPr>
          <a:xfrm>
            <a:off x="7532640" y="2592360"/>
            <a:ext cx="823680" cy="599760"/>
          </a:xfrm>
          <a:custGeom>
            <a:avLst/>
            <a:gdLst>
              <a:gd name="textAreaLeft" fmla="*/ 0 w 823680"/>
              <a:gd name="textAreaRight" fmla="*/ 824040 w 823680"/>
              <a:gd name="textAreaTop" fmla="*/ 0 h 599760"/>
              <a:gd name="textAreaBottom" fmla="*/ 600120 h 599760"/>
            </a:gdLst>
            <a:ahLst/>
            <a:rect l="textAreaLeft" t="textAreaTop" r="textAreaRight" b="textAreaBottom"/>
            <a:pathLst>
              <a:path w="1167" h="1510">
                <a:moveTo>
                  <a:pt x="1167" y="0"/>
                </a:moveTo>
                <a:lnTo>
                  <a:pt x="685" y="0"/>
                </a:lnTo>
                <a:lnTo>
                  <a:pt x="685" y="238"/>
                </a:lnTo>
                <a:lnTo>
                  <a:pt x="529" y="238"/>
                </a:lnTo>
                <a:lnTo>
                  <a:pt x="529" y="431"/>
                </a:lnTo>
                <a:lnTo>
                  <a:pt x="330" y="431"/>
                </a:lnTo>
                <a:lnTo>
                  <a:pt x="330" y="697"/>
                </a:lnTo>
                <a:lnTo>
                  <a:pt x="0" y="697"/>
                </a:lnTo>
                <a:lnTo>
                  <a:pt x="0" y="1510"/>
                </a:lnTo>
                <a:lnTo>
                  <a:pt x="1167" y="1510"/>
                </a:lnTo>
                <a:lnTo>
                  <a:pt x="1167" y="0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87"/>
          <p:cNvSpPr/>
          <p:nvPr/>
        </p:nvSpPr>
        <p:spPr>
          <a:xfrm>
            <a:off x="7532640" y="2592360"/>
            <a:ext cx="823680" cy="599760"/>
          </a:xfrm>
          <a:custGeom>
            <a:avLst/>
            <a:gdLst>
              <a:gd name="textAreaLeft" fmla="*/ 0 w 823680"/>
              <a:gd name="textAreaRight" fmla="*/ 824040 w 823680"/>
              <a:gd name="textAreaTop" fmla="*/ 0 h 599760"/>
              <a:gd name="textAreaBottom" fmla="*/ 600120 h 599760"/>
            </a:gdLst>
            <a:ahLst/>
            <a:rect l="textAreaLeft" t="textAreaTop" r="textAreaRight" b="textAreaBottom"/>
            <a:pathLst>
              <a:path w="1167" h="1510">
                <a:moveTo>
                  <a:pt x="1167" y="0"/>
                </a:moveTo>
                <a:lnTo>
                  <a:pt x="685" y="0"/>
                </a:lnTo>
                <a:lnTo>
                  <a:pt x="685" y="238"/>
                </a:lnTo>
                <a:lnTo>
                  <a:pt x="529" y="238"/>
                </a:lnTo>
                <a:lnTo>
                  <a:pt x="529" y="431"/>
                </a:lnTo>
                <a:lnTo>
                  <a:pt x="330" y="431"/>
                </a:lnTo>
                <a:lnTo>
                  <a:pt x="330" y="697"/>
                </a:lnTo>
                <a:lnTo>
                  <a:pt x="0" y="697"/>
                </a:lnTo>
                <a:lnTo>
                  <a:pt x="0" y="1510"/>
                </a:lnTo>
                <a:lnTo>
                  <a:pt x="1167" y="1510"/>
                </a:lnTo>
                <a:lnTo>
                  <a:pt x="1167" y="0"/>
                </a:lnTo>
                <a:lnTo>
                  <a:pt x="1167" y="0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88"/>
          <p:cNvSpPr/>
          <p:nvPr/>
        </p:nvSpPr>
        <p:spPr>
          <a:xfrm>
            <a:off x="7532640" y="2592360"/>
            <a:ext cx="823680" cy="599760"/>
          </a:xfrm>
          <a:custGeom>
            <a:avLst/>
            <a:gdLst>
              <a:gd name="textAreaLeft" fmla="*/ 0 w 823680"/>
              <a:gd name="textAreaRight" fmla="*/ 824040 w 823680"/>
              <a:gd name="textAreaTop" fmla="*/ 0 h 599760"/>
              <a:gd name="textAreaBottom" fmla="*/ 600120 h 599760"/>
            </a:gdLst>
            <a:ahLst/>
            <a:rect l="textAreaLeft" t="textAreaTop" r="textAreaRight" b="textAreaBottom"/>
            <a:pathLst>
              <a:path w="1167" h="1510">
                <a:moveTo>
                  <a:pt x="1167" y="0"/>
                </a:moveTo>
                <a:lnTo>
                  <a:pt x="685" y="0"/>
                </a:lnTo>
                <a:lnTo>
                  <a:pt x="685" y="238"/>
                </a:lnTo>
                <a:lnTo>
                  <a:pt x="529" y="238"/>
                </a:lnTo>
                <a:lnTo>
                  <a:pt x="529" y="431"/>
                </a:lnTo>
                <a:lnTo>
                  <a:pt x="330" y="431"/>
                </a:lnTo>
                <a:lnTo>
                  <a:pt x="330" y="697"/>
                </a:lnTo>
                <a:lnTo>
                  <a:pt x="0" y="697"/>
                </a:lnTo>
                <a:lnTo>
                  <a:pt x="0" y="1510"/>
                </a:lnTo>
                <a:lnTo>
                  <a:pt x="1167" y="1510"/>
                </a:lnTo>
                <a:lnTo>
                  <a:pt x="1167" y="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89"/>
          <p:cNvSpPr/>
          <p:nvPr/>
        </p:nvSpPr>
        <p:spPr>
          <a:xfrm>
            <a:off x="3240000" y="2727360"/>
            <a:ext cx="995040" cy="474480"/>
          </a:xfrm>
          <a:custGeom>
            <a:avLst/>
            <a:gdLst>
              <a:gd name="textAreaLeft" fmla="*/ 0 w 995040"/>
              <a:gd name="textAreaRight" fmla="*/ 995400 w 99504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1411" h="1199">
                <a:moveTo>
                  <a:pt x="0" y="889"/>
                </a:moveTo>
                <a:lnTo>
                  <a:pt x="0" y="0"/>
                </a:lnTo>
                <a:lnTo>
                  <a:pt x="243" y="0"/>
                </a:lnTo>
                <a:lnTo>
                  <a:pt x="352" y="168"/>
                </a:lnTo>
                <a:lnTo>
                  <a:pt x="882" y="168"/>
                </a:lnTo>
                <a:lnTo>
                  <a:pt x="882" y="47"/>
                </a:lnTo>
                <a:lnTo>
                  <a:pt x="1320" y="50"/>
                </a:lnTo>
                <a:lnTo>
                  <a:pt x="1366" y="96"/>
                </a:lnTo>
                <a:lnTo>
                  <a:pt x="1366" y="649"/>
                </a:lnTo>
                <a:lnTo>
                  <a:pt x="1255" y="649"/>
                </a:lnTo>
                <a:lnTo>
                  <a:pt x="1255" y="937"/>
                </a:lnTo>
                <a:lnTo>
                  <a:pt x="1411" y="937"/>
                </a:lnTo>
                <a:lnTo>
                  <a:pt x="1411" y="1199"/>
                </a:lnTo>
                <a:lnTo>
                  <a:pt x="683" y="889"/>
                </a:lnTo>
                <a:lnTo>
                  <a:pt x="0" y="889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90"/>
          <p:cNvSpPr/>
          <p:nvPr/>
        </p:nvSpPr>
        <p:spPr>
          <a:xfrm>
            <a:off x="3240000" y="2727360"/>
            <a:ext cx="995040" cy="474480"/>
          </a:xfrm>
          <a:custGeom>
            <a:avLst/>
            <a:gdLst>
              <a:gd name="textAreaLeft" fmla="*/ 0 w 995040"/>
              <a:gd name="textAreaRight" fmla="*/ 995400 w 99504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1411" h="1199">
                <a:moveTo>
                  <a:pt x="0" y="889"/>
                </a:moveTo>
                <a:lnTo>
                  <a:pt x="0" y="0"/>
                </a:lnTo>
                <a:lnTo>
                  <a:pt x="243" y="0"/>
                </a:lnTo>
                <a:lnTo>
                  <a:pt x="352" y="168"/>
                </a:lnTo>
                <a:lnTo>
                  <a:pt x="882" y="168"/>
                </a:lnTo>
                <a:lnTo>
                  <a:pt x="882" y="47"/>
                </a:lnTo>
                <a:lnTo>
                  <a:pt x="1320" y="50"/>
                </a:lnTo>
                <a:lnTo>
                  <a:pt x="1366" y="96"/>
                </a:lnTo>
                <a:lnTo>
                  <a:pt x="1366" y="649"/>
                </a:lnTo>
                <a:lnTo>
                  <a:pt x="1255" y="649"/>
                </a:lnTo>
                <a:lnTo>
                  <a:pt x="1255" y="937"/>
                </a:lnTo>
                <a:lnTo>
                  <a:pt x="1411" y="937"/>
                </a:lnTo>
                <a:lnTo>
                  <a:pt x="1411" y="1199"/>
                </a:lnTo>
                <a:lnTo>
                  <a:pt x="683" y="889"/>
                </a:lnTo>
                <a:lnTo>
                  <a:pt x="0" y="889"/>
                </a:lnTo>
                <a:lnTo>
                  <a:pt x="0" y="889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91"/>
          <p:cNvSpPr/>
          <p:nvPr/>
        </p:nvSpPr>
        <p:spPr>
          <a:xfrm>
            <a:off x="3240000" y="2727360"/>
            <a:ext cx="995040" cy="474480"/>
          </a:xfrm>
          <a:custGeom>
            <a:avLst/>
            <a:gdLst>
              <a:gd name="textAreaLeft" fmla="*/ 0 w 995040"/>
              <a:gd name="textAreaRight" fmla="*/ 995400 w 99504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1411" h="1199">
                <a:moveTo>
                  <a:pt x="0" y="889"/>
                </a:moveTo>
                <a:lnTo>
                  <a:pt x="0" y="0"/>
                </a:lnTo>
                <a:lnTo>
                  <a:pt x="243" y="0"/>
                </a:lnTo>
                <a:lnTo>
                  <a:pt x="352" y="168"/>
                </a:lnTo>
                <a:lnTo>
                  <a:pt x="882" y="168"/>
                </a:lnTo>
                <a:lnTo>
                  <a:pt x="882" y="47"/>
                </a:lnTo>
                <a:lnTo>
                  <a:pt x="1320" y="50"/>
                </a:lnTo>
                <a:lnTo>
                  <a:pt x="1366" y="96"/>
                </a:lnTo>
                <a:lnTo>
                  <a:pt x="1366" y="649"/>
                </a:lnTo>
                <a:lnTo>
                  <a:pt x="1255" y="649"/>
                </a:lnTo>
                <a:lnTo>
                  <a:pt x="1255" y="937"/>
                </a:lnTo>
                <a:lnTo>
                  <a:pt x="1411" y="937"/>
                </a:lnTo>
                <a:lnTo>
                  <a:pt x="1411" y="1199"/>
                </a:lnTo>
                <a:lnTo>
                  <a:pt x="683" y="889"/>
                </a:lnTo>
                <a:lnTo>
                  <a:pt x="0" y="889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92"/>
          <p:cNvSpPr/>
          <p:nvPr/>
        </p:nvSpPr>
        <p:spPr>
          <a:xfrm>
            <a:off x="3251160" y="4400640"/>
            <a:ext cx="1257120" cy="123156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231560"/>
              <a:gd name="textAreaBottom" fmla="*/ 1231920 h 1231560"/>
            </a:gdLst>
            <a:ahLst/>
            <a:rect l="textAreaLeft" t="textAreaTop" r="textAreaRight" b="textAreaBottom"/>
            <a:pathLst>
              <a:path w="1782" h="3103">
                <a:moveTo>
                  <a:pt x="1655" y="0"/>
                </a:moveTo>
                <a:lnTo>
                  <a:pt x="593" y="698"/>
                </a:lnTo>
                <a:lnTo>
                  <a:pt x="0" y="698"/>
                </a:lnTo>
                <a:lnTo>
                  <a:pt x="0" y="3103"/>
                </a:lnTo>
                <a:lnTo>
                  <a:pt x="1782" y="3103"/>
                </a:lnTo>
                <a:lnTo>
                  <a:pt x="1276" y="2719"/>
                </a:lnTo>
                <a:lnTo>
                  <a:pt x="1312" y="2625"/>
                </a:lnTo>
                <a:lnTo>
                  <a:pt x="1278" y="2335"/>
                </a:lnTo>
                <a:lnTo>
                  <a:pt x="1655" y="2335"/>
                </a:lnTo>
                <a:lnTo>
                  <a:pt x="1655" y="0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93"/>
          <p:cNvSpPr/>
          <p:nvPr/>
        </p:nvSpPr>
        <p:spPr>
          <a:xfrm>
            <a:off x="3240000" y="4410000"/>
            <a:ext cx="1257120" cy="123156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231560"/>
              <a:gd name="textAreaBottom" fmla="*/ 1231920 h 1231560"/>
            </a:gdLst>
            <a:ahLst/>
            <a:rect l="textAreaLeft" t="textAreaTop" r="textAreaRight" b="textAreaBottom"/>
            <a:pathLst>
              <a:path w="1782" h="3103">
                <a:moveTo>
                  <a:pt x="1655" y="0"/>
                </a:moveTo>
                <a:lnTo>
                  <a:pt x="593" y="698"/>
                </a:lnTo>
                <a:lnTo>
                  <a:pt x="0" y="698"/>
                </a:lnTo>
                <a:lnTo>
                  <a:pt x="0" y="3103"/>
                </a:lnTo>
                <a:lnTo>
                  <a:pt x="1782" y="3103"/>
                </a:lnTo>
                <a:lnTo>
                  <a:pt x="1276" y="2719"/>
                </a:lnTo>
                <a:lnTo>
                  <a:pt x="1312" y="2625"/>
                </a:lnTo>
                <a:lnTo>
                  <a:pt x="1278" y="2335"/>
                </a:lnTo>
                <a:lnTo>
                  <a:pt x="1655" y="2335"/>
                </a:lnTo>
                <a:lnTo>
                  <a:pt x="1655" y="0"/>
                </a:lnTo>
                <a:lnTo>
                  <a:pt x="1655" y="0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94"/>
          <p:cNvSpPr/>
          <p:nvPr/>
        </p:nvSpPr>
        <p:spPr>
          <a:xfrm>
            <a:off x="3240000" y="4410000"/>
            <a:ext cx="1257120" cy="123156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231560"/>
              <a:gd name="textAreaBottom" fmla="*/ 1231920 h 1231560"/>
            </a:gdLst>
            <a:ahLst/>
            <a:rect l="textAreaLeft" t="textAreaTop" r="textAreaRight" b="textAreaBottom"/>
            <a:pathLst>
              <a:path w="1782" h="3103">
                <a:moveTo>
                  <a:pt x="1655" y="0"/>
                </a:moveTo>
                <a:lnTo>
                  <a:pt x="593" y="698"/>
                </a:lnTo>
                <a:lnTo>
                  <a:pt x="0" y="698"/>
                </a:lnTo>
                <a:lnTo>
                  <a:pt x="0" y="3103"/>
                </a:lnTo>
                <a:lnTo>
                  <a:pt x="1782" y="3103"/>
                </a:lnTo>
                <a:lnTo>
                  <a:pt x="1276" y="2719"/>
                </a:lnTo>
                <a:lnTo>
                  <a:pt x="1312" y="2625"/>
                </a:lnTo>
                <a:lnTo>
                  <a:pt x="1278" y="2335"/>
                </a:lnTo>
                <a:lnTo>
                  <a:pt x="1655" y="2335"/>
                </a:lnTo>
                <a:lnTo>
                  <a:pt x="1655" y="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95"/>
          <p:cNvSpPr/>
          <p:nvPr/>
        </p:nvSpPr>
        <p:spPr>
          <a:xfrm>
            <a:off x="932040" y="866880"/>
            <a:ext cx="7527600" cy="5184360"/>
          </a:xfrm>
          <a:custGeom>
            <a:avLst/>
            <a:gdLst>
              <a:gd name="textAreaLeft" fmla="*/ 0 w 7527600"/>
              <a:gd name="textAreaRight" fmla="*/ 7527960 w 7527600"/>
              <a:gd name="textAreaTop" fmla="*/ 0 h 5184360"/>
              <a:gd name="textAreaBottom" fmla="*/ 5184720 h 5184360"/>
            </a:gdLst>
            <a:ahLst/>
            <a:rect l="textAreaLeft" t="textAreaTop" r="textAreaRight" b="textAreaBottom"/>
            <a:pathLst>
              <a:path w="10673" h="13063">
                <a:moveTo>
                  <a:pt x="10498" y="1296"/>
                </a:moveTo>
                <a:lnTo>
                  <a:pt x="10498" y="11240"/>
                </a:lnTo>
                <a:lnTo>
                  <a:pt x="4520" y="11238"/>
                </a:lnTo>
                <a:lnTo>
                  <a:pt x="4553" y="11534"/>
                </a:lnTo>
                <a:lnTo>
                  <a:pt x="4520" y="11624"/>
                </a:lnTo>
                <a:lnTo>
                  <a:pt x="5023" y="12007"/>
                </a:lnTo>
                <a:lnTo>
                  <a:pt x="1673" y="12007"/>
                </a:lnTo>
                <a:lnTo>
                  <a:pt x="1673" y="13063"/>
                </a:lnTo>
                <a:lnTo>
                  <a:pt x="6" y="13063"/>
                </a:lnTo>
                <a:lnTo>
                  <a:pt x="0" y="0"/>
                </a:lnTo>
                <a:lnTo>
                  <a:pt x="10673" y="0"/>
                </a:lnTo>
                <a:lnTo>
                  <a:pt x="10673" y="1296"/>
                </a:lnTo>
                <a:lnTo>
                  <a:pt x="10498" y="1296"/>
                </a:lnTo>
              </a:path>
            </a:pathLst>
          </a:cu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96"/>
          <p:cNvSpPr/>
          <p:nvPr/>
        </p:nvSpPr>
        <p:spPr>
          <a:xfrm flipH="1">
            <a:off x="4236840" y="1714320"/>
            <a:ext cx="30240" cy="14436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97"/>
          <p:cNvSpPr/>
          <p:nvPr/>
        </p:nvSpPr>
        <p:spPr>
          <a:xfrm>
            <a:off x="4214880" y="1851120"/>
            <a:ext cx="47160" cy="52200"/>
          </a:xfrm>
          <a:custGeom>
            <a:avLst/>
            <a:gdLst>
              <a:gd name="textAreaLeft" fmla="*/ 0 w 47160"/>
              <a:gd name="textAreaRight" fmla="*/ 47520 w 471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69" h="132">
                <a:moveTo>
                  <a:pt x="35" y="68"/>
                </a:moveTo>
                <a:lnTo>
                  <a:pt x="69" y="14"/>
                </a:lnTo>
                <a:lnTo>
                  <a:pt x="0" y="0"/>
                </a:lnTo>
                <a:lnTo>
                  <a:pt x="6" y="62"/>
                </a:lnTo>
                <a:lnTo>
                  <a:pt x="11" y="132"/>
                </a:lnTo>
                <a:lnTo>
                  <a:pt x="35" y="68"/>
                </a:lnTo>
                <a:close/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98"/>
          <p:cNvSpPr/>
          <p:nvPr/>
        </p:nvSpPr>
        <p:spPr>
          <a:xfrm>
            <a:off x="3323160" y="3429000"/>
            <a:ext cx="43992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cor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99"/>
          <p:cNvSpPr/>
          <p:nvPr/>
        </p:nvSpPr>
        <p:spPr>
          <a:xfrm>
            <a:off x="1454400" y="1198440"/>
            <a:ext cx="51156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 Ju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00"/>
          <p:cNvSpPr/>
          <p:nvPr/>
        </p:nvSpPr>
        <p:spPr>
          <a:xfrm>
            <a:off x="4836960" y="1214280"/>
            <a:ext cx="26028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a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1"/>
          <p:cNvSpPr/>
          <p:nvPr/>
        </p:nvSpPr>
        <p:spPr>
          <a:xfrm>
            <a:off x="1546920" y="2000160"/>
            <a:ext cx="50400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cKinl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02"/>
          <p:cNvSpPr/>
          <p:nvPr/>
        </p:nvSpPr>
        <p:spPr>
          <a:xfrm>
            <a:off x="3295800" y="2049480"/>
            <a:ext cx="51156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do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3"/>
          <p:cNvSpPr/>
          <p:nvPr/>
        </p:nvSpPr>
        <p:spPr>
          <a:xfrm>
            <a:off x="3708360" y="1600200"/>
            <a:ext cx="86328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os Alam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4"/>
          <p:cNvSpPr/>
          <p:nvPr/>
        </p:nvSpPr>
        <p:spPr>
          <a:xfrm>
            <a:off x="4427640" y="2057400"/>
            <a:ext cx="78696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ta F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5"/>
          <p:cNvSpPr/>
          <p:nvPr/>
        </p:nvSpPr>
        <p:spPr>
          <a:xfrm>
            <a:off x="2071800" y="2643120"/>
            <a:ext cx="35172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ibo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6"/>
          <p:cNvSpPr/>
          <p:nvPr/>
        </p:nvSpPr>
        <p:spPr>
          <a:xfrm>
            <a:off x="3016440" y="4295880"/>
            <a:ext cx="32580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er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7"/>
          <p:cNvSpPr/>
          <p:nvPr/>
        </p:nvSpPr>
        <p:spPr>
          <a:xfrm>
            <a:off x="1394640" y="4537080"/>
            <a:ext cx="30600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08"/>
          <p:cNvSpPr/>
          <p:nvPr/>
        </p:nvSpPr>
        <p:spPr>
          <a:xfrm>
            <a:off x="2525040" y="5086440"/>
            <a:ext cx="27540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u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09"/>
          <p:cNvSpPr/>
          <p:nvPr/>
        </p:nvSpPr>
        <p:spPr>
          <a:xfrm>
            <a:off x="1084320" y="5486400"/>
            <a:ext cx="42156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d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10"/>
          <p:cNvSpPr/>
          <p:nvPr/>
        </p:nvSpPr>
        <p:spPr>
          <a:xfrm>
            <a:off x="3544200" y="4971960"/>
            <a:ext cx="53136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na A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11"/>
          <p:cNvSpPr/>
          <p:nvPr/>
        </p:nvSpPr>
        <p:spPr>
          <a:xfrm>
            <a:off x="6050880" y="1143000"/>
            <a:ext cx="35172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lf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12"/>
          <p:cNvSpPr/>
          <p:nvPr/>
        </p:nvSpPr>
        <p:spPr>
          <a:xfrm>
            <a:off x="7493040" y="1238400"/>
            <a:ext cx="32580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13"/>
          <p:cNvSpPr/>
          <p:nvPr/>
        </p:nvSpPr>
        <p:spPr>
          <a:xfrm>
            <a:off x="5937480" y="1600200"/>
            <a:ext cx="27396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14"/>
          <p:cNvSpPr/>
          <p:nvPr/>
        </p:nvSpPr>
        <p:spPr>
          <a:xfrm>
            <a:off x="7024320" y="1655640"/>
            <a:ext cx="43380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rd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15"/>
          <p:cNvSpPr/>
          <p:nvPr/>
        </p:nvSpPr>
        <p:spPr>
          <a:xfrm>
            <a:off x="5587920" y="2057400"/>
            <a:ext cx="101556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 Migu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16"/>
          <p:cNvSpPr/>
          <p:nvPr/>
        </p:nvSpPr>
        <p:spPr>
          <a:xfrm>
            <a:off x="3522240" y="2514600"/>
            <a:ext cx="52380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alil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17"/>
          <p:cNvSpPr/>
          <p:nvPr/>
        </p:nvSpPr>
        <p:spPr>
          <a:xfrm>
            <a:off x="3532320" y="2800440"/>
            <a:ext cx="46116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al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18"/>
          <p:cNvSpPr/>
          <p:nvPr/>
        </p:nvSpPr>
        <p:spPr>
          <a:xfrm>
            <a:off x="4622400" y="2868480"/>
            <a:ext cx="48276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rr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19"/>
          <p:cNvSpPr/>
          <p:nvPr/>
        </p:nvSpPr>
        <p:spPr>
          <a:xfrm>
            <a:off x="5204880" y="3598920"/>
            <a:ext cx="40968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ncol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20"/>
          <p:cNvSpPr/>
          <p:nvPr/>
        </p:nvSpPr>
        <p:spPr>
          <a:xfrm>
            <a:off x="4926960" y="4629240"/>
            <a:ext cx="30600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e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21"/>
          <p:cNvSpPr/>
          <p:nvPr/>
        </p:nvSpPr>
        <p:spPr>
          <a:xfrm>
            <a:off x="6759000" y="4743360"/>
            <a:ext cx="28152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22"/>
          <p:cNvSpPr/>
          <p:nvPr/>
        </p:nvSpPr>
        <p:spPr>
          <a:xfrm>
            <a:off x="6771240" y="3886200"/>
            <a:ext cx="40968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av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23"/>
          <p:cNvSpPr/>
          <p:nvPr/>
        </p:nvSpPr>
        <p:spPr>
          <a:xfrm>
            <a:off x="7863120" y="4352760"/>
            <a:ext cx="19908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e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24"/>
          <p:cNvSpPr/>
          <p:nvPr/>
        </p:nvSpPr>
        <p:spPr>
          <a:xfrm>
            <a:off x="7586280" y="3270240"/>
            <a:ext cx="54972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ooseve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125"/>
          <p:cNvSpPr/>
          <p:nvPr/>
        </p:nvSpPr>
        <p:spPr>
          <a:xfrm>
            <a:off x="6474600" y="3086280"/>
            <a:ext cx="45360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 Ba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26"/>
          <p:cNvSpPr/>
          <p:nvPr/>
        </p:nvSpPr>
        <p:spPr>
          <a:xfrm>
            <a:off x="5974920" y="2690640"/>
            <a:ext cx="59400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uadalu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27"/>
          <p:cNvSpPr/>
          <p:nvPr/>
        </p:nvSpPr>
        <p:spPr>
          <a:xfrm>
            <a:off x="7666560" y="2343240"/>
            <a:ext cx="28764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Qu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28"/>
          <p:cNvSpPr/>
          <p:nvPr/>
        </p:nvSpPr>
        <p:spPr>
          <a:xfrm>
            <a:off x="7873200" y="2857680"/>
            <a:ext cx="30600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r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29"/>
          <p:cNvSpPr/>
          <p:nvPr/>
        </p:nvSpPr>
        <p:spPr>
          <a:xfrm>
            <a:off x="3445920" y="1143000"/>
            <a:ext cx="54972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io Arrib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30"/>
          <p:cNvSpPr/>
          <p:nvPr/>
        </p:nvSpPr>
        <p:spPr>
          <a:xfrm>
            <a:off x="1482480" y="3543480"/>
            <a:ext cx="36972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tr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131"/>
          <p:cNvSpPr/>
          <p:nvPr/>
        </p:nvSpPr>
        <p:spPr>
          <a:xfrm>
            <a:off x="4673520" y="565776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32"/>
          <p:cNvSpPr/>
          <p:nvPr/>
        </p:nvSpPr>
        <p:spPr>
          <a:xfrm>
            <a:off x="4876920" y="5600880"/>
            <a:ext cx="40636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Corr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133"/>
          <p:cNvSpPr/>
          <p:nvPr/>
        </p:nvSpPr>
        <p:spPr>
          <a:xfrm>
            <a:off x="4572000" y="217188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134"/>
          <p:cNvSpPr/>
          <p:nvPr/>
        </p:nvSpPr>
        <p:spPr>
          <a:xfrm>
            <a:off x="3657600" y="291456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135"/>
          <p:cNvSpPr/>
          <p:nvPr/>
        </p:nvSpPr>
        <p:spPr>
          <a:xfrm>
            <a:off x="2336760" y="274320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136"/>
          <p:cNvSpPr/>
          <p:nvPr/>
        </p:nvSpPr>
        <p:spPr>
          <a:xfrm>
            <a:off x="7924680" y="485784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37"/>
          <p:cNvSpPr/>
          <p:nvPr/>
        </p:nvSpPr>
        <p:spPr>
          <a:xfrm>
            <a:off x="6299280" y="257184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38"/>
          <p:cNvSpPr/>
          <p:nvPr/>
        </p:nvSpPr>
        <p:spPr>
          <a:xfrm>
            <a:off x="3860640" y="485784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39"/>
          <p:cNvSpPr/>
          <p:nvPr/>
        </p:nvSpPr>
        <p:spPr>
          <a:xfrm>
            <a:off x="7010280" y="411480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40"/>
          <p:cNvSpPr/>
          <p:nvPr/>
        </p:nvSpPr>
        <p:spPr>
          <a:xfrm>
            <a:off x="4673520" y="228600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41"/>
          <p:cNvSpPr/>
          <p:nvPr/>
        </p:nvSpPr>
        <p:spPr>
          <a:xfrm>
            <a:off x="4673520" y="582948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42"/>
          <p:cNvSpPr/>
          <p:nvPr/>
        </p:nvSpPr>
        <p:spPr>
          <a:xfrm>
            <a:off x="5154480" y="5772240"/>
            <a:ext cx="16776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  Health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43"/>
          <p:cNvSpPr/>
          <p:nvPr/>
        </p:nvSpPr>
        <p:spPr>
          <a:xfrm>
            <a:off x="7721640" y="6172200"/>
            <a:ext cx="731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144"/>
          <p:cNvSpPr/>
          <p:nvPr/>
        </p:nvSpPr>
        <p:spPr>
          <a:xfrm>
            <a:off x="4368960" y="148608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145"/>
          <p:cNvSpPr/>
          <p:nvPr/>
        </p:nvSpPr>
        <p:spPr>
          <a:xfrm>
            <a:off x="4673520" y="548640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146"/>
          <p:cNvSpPr/>
          <p:nvPr/>
        </p:nvSpPr>
        <p:spPr>
          <a:xfrm>
            <a:off x="5384880" y="211464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47"/>
          <p:cNvSpPr/>
          <p:nvPr/>
        </p:nvSpPr>
        <p:spPr>
          <a:xfrm>
            <a:off x="4876920" y="5429160"/>
            <a:ext cx="44334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ly Qualified Health Centers ( FQHC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48"/>
          <p:cNvSpPr/>
          <p:nvPr/>
        </p:nvSpPr>
        <p:spPr>
          <a:xfrm>
            <a:off x="7721640" y="320040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149"/>
          <p:cNvSpPr/>
          <p:nvPr/>
        </p:nvSpPr>
        <p:spPr>
          <a:xfrm>
            <a:off x="3454560" y="257184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150"/>
          <p:cNvSpPr/>
          <p:nvPr/>
        </p:nvSpPr>
        <p:spPr>
          <a:xfrm>
            <a:off x="7213680" y="497196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151"/>
          <p:cNvSpPr/>
          <p:nvPr/>
        </p:nvSpPr>
        <p:spPr>
          <a:xfrm>
            <a:off x="1625760" y="485784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152"/>
          <p:cNvSpPr/>
          <p:nvPr/>
        </p:nvSpPr>
        <p:spPr>
          <a:xfrm>
            <a:off x="3556080" y="480060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153"/>
          <p:cNvSpPr/>
          <p:nvPr/>
        </p:nvSpPr>
        <p:spPr>
          <a:xfrm>
            <a:off x="4064040" y="257184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54"/>
          <p:cNvSpPr/>
          <p:nvPr/>
        </p:nvSpPr>
        <p:spPr>
          <a:xfrm>
            <a:off x="2139480" y="0"/>
            <a:ext cx="47775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ECHO RURAL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155"/>
          <p:cNvSpPr/>
          <p:nvPr/>
        </p:nvSpPr>
        <p:spPr>
          <a:xfrm>
            <a:off x="3454560" y="520056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56"/>
          <p:cNvSpPr/>
          <p:nvPr/>
        </p:nvSpPr>
        <p:spPr>
          <a:xfrm>
            <a:off x="4165560" y="6058080"/>
            <a:ext cx="245880" cy="20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157"/>
          <p:cNvSpPr/>
          <p:nvPr/>
        </p:nvSpPr>
        <p:spPr>
          <a:xfrm>
            <a:off x="3962520" y="514368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ff00"/>
          </a:solidFill>
          <a:ln w="9525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158"/>
          <p:cNvSpPr/>
          <p:nvPr/>
        </p:nvSpPr>
        <p:spPr>
          <a:xfrm>
            <a:off x="4673520" y="600084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ff00"/>
          </a:solidFill>
          <a:ln w="9525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159"/>
          <p:cNvSpPr/>
          <p:nvPr/>
        </p:nvSpPr>
        <p:spPr>
          <a:xfrm>
            <a:off x="7823160" y="308628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160"/>
          <p:cNvSpPr/>
          <p:nvPr/>
        </p:nvSpPr>
        <p:spPr>
          <a:xfrm>
            <a:off x="4673520" y="617220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ccffff"/>
          </a:solidFill>
          <a:ln w="9525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161"/>
          <p:cNvSpPr/>
          <p:nvPr/>
        </p:nvSpPr>
        <p:spPr>
          <a:xfrm>
            <a:off x="5163120" y="6114960"/>
            <a:ext cx="10954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62"/>
          <p:cNvSpPr/>
          <p:nvPr/>
        </p:nvSpPr>
        <p:spPr>
          <a:xfrm>
            <a:off x="7095600" y="5797440"/>
            <a:ext cx="6213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IH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63"/>
          <p:cNvSpPr/>
          <p:nvPr/>
        </p:nvSpPr>
        <p:spPr>
          <a:xfrm>
            <a:off x="5221800" y="5969160"/>
            <a:ext cx="22017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Health ( DO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164"/>
          <p:cNvSpPr/>
          <p:nvPr/>
        </p:nvSpPr>
        <p:spPr>
          <a:xfrm>
            <a:off x="4957920" y="6140520"/>
            <a:ext cx="244080" cy="20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165"/>
          <p:cNvSpPr/>
          <p:nvPr/>
        </p:nvSpPr>
        <p:spPr>
          <a:xfrm>
            <a:off x="5131080" y="6140520"/>
            <a:ext cx="16592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ing FQHC &amp; I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166"/>
          <p:cNvSpPr/>
          <p:nvPr/>
        </p:nvSpPr>
        <p:spPr>
          <a:xfrm>
            <a:off x="2031840" y="125748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ccffff"/>
          </a:solidFill>
          <a:ln w="9525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167"/>
          <p:cNvSpPr/>
          <p:nvPr/>
        </p:nvSpPr>
        <p:spPr>
          <a:xfrm>
            <a:off x="2844720" y="417204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168"/>
          <p:cNvSpPr/>
          <p:nvPr/>
        </p:nvSpPr>
        <p:spPr>
          <a:xfrm>
            <a:off x="7823160" y="422928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ccffff"/>
          </a:solidFill>
          <a:ln w="9525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169"/>
          <p:cNvSpPr/>
          <p:nvPr/>
        </p:nvSpPr>
        <p:spPr>
          <a:xfrm>
            <a:off x="1015920" y="114300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ccffff"/>
          </a:solidFill>
          <a:ln w="9525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70"/>
          <p:cNvSpPr/>
          <p:nvPr/>
        </p:nvSpPr>
        <p:spPr>
          <a:xfrm>
            <a:off x="3771720" y="552600"/>
            <a:ext cx="6076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/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171"/>
          <p:cNvSpPr/>
          <p:nvPr/>
        </p:nvSpPr>
        <p:spPr>
          <a:xfrm>
            <a:off x="1930320" y="217188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172"/>
          <p:cNvSpPr/>
          <p:nvPr/>
        </p:nvSpPr>
        <p:spPr>
          <a:xfrm>
            <a:off x="3759120" y="257184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1600200" y="304920"/>
            <a:ext cx="4723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0" y="1219320"/>
            <a:ext cx="9143640" cy="151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600200" y="2697120"/>
            <a:ext cx="6476760" cy="264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/>
                </a:solidFill>
                <a:latin typeface="Tw Cen MT"/>
              </a:rPr>
              <a:t>The mission of Project ECHO i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/>
                </a:solidFill>
                <a:latin typeface="Tw Cen MT"/>
              </a:rPr>
              <a:t>develop the capacity to safely and effectively treat chronic, common and complex diseases in rural and underserved areas and to monitor outc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2209680" y="5867280"/>
            <a:ext cx="525744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143000" y="5791320"/>
            <a:ext cx="6857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Supported by Agency for Health Research and Quality grant   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1 UC1 HS015135-03 and New Mexico Legisl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7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9"/>
          <p:cNvSpPr/>
          <p:nvPr/>
        </p:nvSpPr>
        <p:spPr>
          <a:xfrm>
            <a:off x="914400" y="380880"/>
            <a:ext cx="44953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2"/>
          <p:cNvSpPr/>
          <p:nvPr/>
        </p:nvSpPr>
        <p:spPr>
          <a:xfrm>
            <a:off x="533520" y="457200"/>
            <a:ext cx="8305560" cy="586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chemeClr val="accent2"/>
                </a:solidFill>
                <a:latin typeface="Tahoma"/>
              </a:rPr>
              <a:t>How well has model work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400" spc="-1" strike="noStrike">
                <a:solidFill>
                  <a:schemeClr val="accent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Tahoma"/>
              </a:rPr>
              <a:t>173 HCV Telehealth Clinics have been cond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40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chemeClr val="accent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Tahoma"/>
              </a:rPr>
              <a:t>3016 patients manag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 u="sng">
                <a:solidFill>
                  <a:schemeClr val="accent2"/>
                </a:solidFill>
                <a:uFillTx/>
                <a:latin typeface="Arial"/>
              </a:rPr>
              <a:t>CME’s/CE’s issu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2"/>
                </a:solidFill>
                <a:latin typeface="Arial"/>
              </a:rPr>
              <a:t>2917 CME/CE hours issued to ECHO providers 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chemeClr val="accent2"/>
                </a:solidFill>
                <a:latin typeface="Arial"/>
              </a:rPr>
              <a:t>no-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2"/>
                </a:solidFill>
                <a:latin typeface="Arial"/>
              </a:rPr>
              <a:t>205 hours of HCV Training conducted at rur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6 Million Dollars of No Cost Drug Obt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ational Recognition as Model for Complex Diseas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811" name="Text Box 3"/>
          <p:cNvSpPr/>
          <p:nvPr/>
        </p:nvSpPr>
        <p:spPr>
          <a:xfrm>
            <a:off x="685800" y="304920"/>
            <a:ext cx="56383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KNOWLEDGE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5"/>
          <p:cNvSpPr/>
          <p:nvPr/>
        </p:nvSpPr>
        <p:spPr>
          <a:xfrm>
            <a:off x="0" y="649116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6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8" descr=""/>
          <p:cNvPicPr/>
          <p:nvPr/>
        </p:nvPicPr>
        <p:blipFill>
          <a:blip r:embed="rId3"/>
          <a:stretch/>
        </p:blipFill>
        <p:spPr>
          <a:xfrm>
            <a:off x="76320" y="632448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9"/>
          <p:cNvSpPr/>
          <p:nvPr/>
        </p:nvSpPr>
        <p:spPr>
          <a:xfrm>
            <a:off x="838080" y="0"/>
            <a:ext cx="510516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Wood Johnson Changemaker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 sought for Disruptive Innovations in Healthcare – New Models that would change healthcare nationally and glob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7 Applications from 27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finalists selected by a panel of Ju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ECHO selected a winner by worldwide online v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820" name="Text Box 3"/>
          <p:cNvSpPr/>
          <p:nvPr/>
        </p:nvSpPr>
        <p:spPr>
          <a:xfrm>
            <a:off x="76320" y="304920"/>
            <a:ext cx="62481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VISION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Group 4"/>
          <p:cNvGraphicFramePr/>
          <p:nvPr/>
        </p:nvGraphicFramePr>
        <p:xfrm>
          <a:off x="228600" y="1600200"/>
          <a:ext cx="8762760" cy="4831920"/>
        </p:xfrm>
        <a:graphic>
          <a:graphicData uri="http://schemas.openxmlformats.org/drawingml/2006/table">
            <a:tbl>
              <a:tblPr/>
              <a:tblGrid>
                <a:gridCol w="1218960"/>
                <a:gridCol w="1295280"/>
                <a:gridCol w="1523880"/>
                <a:gridCol w="1523880"/>
                <a:gridCol w="1447560"/>
                <a:gridCol w="1752480"/>
              </a:tblGrid>
              <a:tr h="113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1" lang="en-US" sz="2800" spc="-1" strike="noStrike">
                        <a:solidFill>
                          <a:schemeClr val="accent2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M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T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W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Th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F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8-10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w Cen MT"/>
                        </a:rPr>
                        <a:t>Hepatiti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w Cen MT"/>
                        </a:rPr>
                        <a:t>Cardiac Risk Reduction Cl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Asth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w Cen MT"/>
                        </a:rPr>
                        <a:t>Prevention of Teenage Suic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w Cen MT"/>
                        </a:rPr>
                        <a:t>Mental Health Disor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10-12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w Cen MT"/>
                        </a:rPr>
                        <a:t>Rhuema-t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Neur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w Cen MT"/>
                        </a:rPr>
                        <a:t>Substance Ab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Geriatr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Endoc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2-4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Gast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Cardi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He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Fail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w Cen MT"/>
                        </a:rPr>
                        <a:t>Childh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w Cen MT"/>
                        </a:rPr>
                        <a:t>Obes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Orthoped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2" name="Text Box 41"/>
          <p:cNvSpPr/>
          <p:nvPr/>
        </p:nvSpPr>
        <p:spPr>
          <a:xfrm>
            <a:off x="1800" y="6491160"/>
            <a:ext cx="434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42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44" descr=""/>
          <p:cNvPicPr/>
          <p:nvPr/>
        </p:nvPicPr>
        <p:blipFill>
          <a:blip r:embed="rId3"/>
          <a:stretch/>
        </p:blipFill>
        <p:spPr>
          <a:xfrm>
            <a:off x="76320" y="632448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826" name="Text Box 45"/>
          <p:cNvSpPr/>
          <p:nvPr/>
        </p:nvSpPr>
        <p:spPr>
          <a:xfrm>
            <a:off x="762120" y="304920"/>
            <a:ext cx="54097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ON FOR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rceived Benefits to Providers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cale:  1 = none or no skill at all 7= expert-can teach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8" name="Group 3"/>
          <p:cNvGraphicFramePr/>
          <p:nvPr/>
        </p:nvGraphicFramePr>
        <p:xfrm>
          <a:off x="609480" y="1676520"/>
          <a:ext cx="8229240" cy="4313520"/>
        </p:xfrm>
        <a:graphic>
          <a:graphicData uri="http://schemas.openxmlformats.org/drawingml/2006/table">
            <a:tbl>
              <a:tblPr/>
              <a:tblGrid>
                <a:gridCol w="2743200"/>
                <a:gridCol w="1828800"/>
                <a:gridCol w="1218960"/>
                <a:gridCol w="1371600"/>
                <a:gridCol w="106668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=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Participa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    (S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D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    (S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i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    (S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Ability to identify suitable candidates for treatment for HCV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2     (1.3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7     (0.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    (1.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0.0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Ability to assess severity of liver disease in patients with Hepatitis 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7     (1.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6     (0.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9     (0.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Ability to treat HCV patients and manage side effec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3     (1.3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5     (0.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2     (1.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0.0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erceived Benefits to Provider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scale:  1 = none or no skill at all 7= expert-can teach ot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0" name="Group 3"/>
          <p:cNvGraphicFramePr/>
          <p:nvPr/>
        </p:nvGraphicFramePr>
        <p:xfrm>
          <a:off x="533520" y="1143000"/>
          <a:ext cx="8381520" cy="4877280"/>
        </p:xfrm>
        <a:graphic>
          <a:graphicData uri="http://schemas.openxmlformats.org/drawingml/2006/table">
            <a:tbl>
              <a:tblPr/>
              <a:tblGrid>
                <a:gridCol w="2819160"/>
                <a:gridCol w="1774800"/>
                <a:gridCol w="1272960"/>
                <a:gridCol w="1447560"/>
                <a:gridCol w="1066680"/>
              </a:tblGrid>
              <a:tr h="114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FORE Participa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    (S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D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    (S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i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    (S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 Ability to assess and manage psychiatric co-morbidities in patients with Hepatitis 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7     (1.3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3     (0.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     (1.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0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 Serve as local consultant within my clinic and in my area for HCV questions and issu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8     (1.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0     (0.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2     (1.3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0.0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verall  Competen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average of 9 items abov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2*    (1.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7*    (0.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     (1.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0.0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1" name="Rectangle 35"/>
          <p:cNvSpPr/>
          <p:nvPr/>
        </p:nvSpPr>
        <p:spPr>
          <a:xfrm>
            <a:off x="838080" y="6341040"/>
            <a:ext cx="7391160" cy="515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onbach’s alpha for the  BEFORE ratings = 0.93 and Cronbach’s alpha for the TODAY ratings = 0.90 indicating a high degree of consistency in the ratings on the 9 item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oject ECHO Annual Meeting Surv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3" name="Group 3"/>
          <p:cNvGraphicFramePr/>
          <p:nvPr/>
        </p:nvGraphicFramePr>
        <p:xfrm>
          <a:off x="457200" y="1600200"/>
          <a:ext cx="8152920" cy="467820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4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 Sco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ge 1-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ECHO has diminished my professional isol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 participation in Project ECHO has enhanced my professional satisfa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laboration among agencies in Project ECHO is a benefit to my clin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ECHO has expanded access to HCV treatment for patients in our commun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genera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pecialist expertise and consultation is a major area of need for you and your clin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CV specialis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pertise and consultation is a major are of need for you and your clin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4" name="Text Box 29"/>
          <p:cNvSpPr/>
          <p:nvPr/>
        </p:nvSpPr>
        <p:spPr>
          <a:xfrm>
            <a:off x="6934320" y="6248520"/>
            <a:ext cx="137124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ptember 23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s-Disease 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314840" cy="358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1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how that hepatitis C treatment delivered through Project ECHO is as safe and effective as care given at the University of New Me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2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how that Project ECHO improves delivery of hepatitis C care to minority pop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3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mpare treatment outcomes for minority and non-Hispanic white su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666880" y="838080"/>
            <a:ext cx="403812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6957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SzPct val="100000"/>
              <a:buBlip>
                <a:blip r:embed="rId1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desig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pective cohort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e effect adjusted for patient covari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SzPct val="100000"/>
              <a:buBlip>
                <a:blip r:embed="rId2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 community cli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SzPct val="100000"/>
              <a:buBlip>
                <a:blip r:embed="rId4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M Department of Cor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 of New Mexico Liver 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SzPct val="100000"/>
              <a:buBlip>
                <a:blip r:embed="rId5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s: referred by their primary car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472392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</a:rPr>
              <a:t>Interim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Group 3"/>
          <p:cNvGraphicFramePr/>
          <p:nvPr/>
        </p:nvGraphicFramePr>
        <p:xfrm>
          <a:off x="457200" y="1219320"/>
          <a:ext cx="8229240" cy="4525560"/>
        </p:xfrm>
        <a:graphic>
          <a:graphicData uri="http://schemas.openxmlformats.org/drawingml/2006/table">
            <a:tbl>
              <a:tblPr/>
              <a:tblGrid>
                <a:gridCol w="4800600"/>
                <a:gridCol w="1676160"/>
                <a:gridCol w="1752480"/>
              </a:tblGrid>
              <a:tr h="64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Gro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Percent 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ll pati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Enrolled to tr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reatment e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Full course of trea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-month follow-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.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Sustained viral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1" name="Text Box 37"/>
          <p:cNvSpPr/>
          <p:nvPr/>
        </p:nvSpPr>
        <p:spPr>
          <a:xfrm>
            <a:off x="380880" y="5791320"/>
            <a:ext cx="38095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* Of the preceding 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90720" y="1265400"/>
            <a:ext cx="693396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</a:rPr>
              <a:t>ECHO Sites Serve Min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3" name="Group 3"/>
          <p:cNvGraphicFramePr/>
          <p:nvPr/>
        </p:nvGraphicFramePr>
        <p:xfrm>
          <a:off x="457200" y="2362320"/>
          <a:ext cx="8229240" cy="2361960"/>
        </p:xfrm>
        <a:graphic>
          <a:graphicData uri="http://schemas.openxmlformats.org/drawingml/2006/table">
            <a:tbl>
              <a:tblPr/>
              <a:tblGrid>
                <a:gridCol w="2590560"/>
                <a:gridCol w="1904760"/>
                <a:gridCol w="1904760"/>
                <a:gridCol w="1828800"/>
              </a:tblGrid>
              <a:tr h="78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ECH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UN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P-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Minor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Hispan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1219320"/>
            <a:ext cx="9143640" cy="151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 rot="10800000">
            <a:off x="685800" y="1752480"/>
            <a:ext cx="7772040" cy="75960"/>
          </a:xfrm>
          <a:prstGeom prst="rect">
            <a:avLst/>
          </a:prstGeom>
          <a:noFill/>
          <a:ln w="9360">
            <a:noFill/>
          </a:ln>
        </p:spPr>
        <p:txBody>
          <a:bodyPr numCol="1" spcCol="0" tIns="37800" bIns="3780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685800" y="1447920"/>
            <a:ext cx="7772040" cy="456840"/>
          </a:xfrm>
          <a:prstGeom prst="rect">
            <a:avLst/>
          </a:prstGeom>
          <a:solidFill>
            <a:schemeClr val="bg1"/>
          </a:solidFill>
          <a:ln w="9525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743040" indent="-28584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erved Area for Healthcar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990720" y="228600"/>
            <a:ext cx="51051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ral New Mexic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593640" y="2233440"/>
            <a:ext cx="3978000" cy="432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1,356 sq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83 millio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.1% Hisp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5% Native Ameri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7% poverty rate compared to 11.7% 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22% lack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"/>
          <p:cNvSpPr/>
          <p:nvPr/>
        </p:nvSpPr>
        <p:spPr>
          <a:xfrm>
            <a:off x="4800600" y="2209680"/>
            <a:ext cx="3809520" cy="4929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of 33 New Mexico counties are listed as Medically Underserved Areas (MUA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counties designated as Health Professional Shortage Areas (HPSA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8"/>
          <p:cNvSpPr/>
          <p:nvPr/>
        </p:nvSpPr>
        <p:spPr>
          <a:xfrm>
            <a:off x="0" y="649116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9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1" descr=""/>
          <p:cNvPicPr/>
          <p:nvPr/>
        </p:nvPicPr>
        <p:blipFill>
          <a:blip r:embed="rId3"/>
          <a:stretch/>
        </p:blipFill>
        <p:spPr>
          <a:xfrm>
            <a:off x="76320" y="632448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2"/>
          <p:cNvSpPr/>
          <p:nvPr/>
        </p:nvSpPr>
        <p:spPr>
          <a:xfrm>
            <a:off x="762120" y="380880"/>
            <a:ext cx="51811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URAL NEW 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676520" y="852480"/>
            <a:ext cx="5790960" cy="837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</a:rPr>
              <a:t>Outcomes by 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5" name="Group 3"/>
          <p:cNvGraphicFramePr/>
          <p:nvPr/>
        </p:nvGraphicFramePr>
        <p:xfrm>
          <a:off x="457200" y="1843200"/>
          <a:ext cx="8229240" cy="2816640"/>
        </p:xfrm>
        <a:graphic>
          <a:graphicData uri="http://schemas.openxmlformats.org/drawingml/2006/table">
            <a:tbl>
              <a:tblPr/>
              <a:tblGrid>
                <a:gridCol w="3657600"/>
                <a:gridCol w="1523880"/>
                <a:gridCol w="1523880"/>
                <a:gridCol w="1523880"/>
              </a:tblGrid>
              <a:tr h="77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ECH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UN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P-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on-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SAE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1" lang="en-US" sz="28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6" name="Text Box 30"/>
          <p:cNvSpPr/>
          <p:nvPr/>
        </p:nvSpPr>
        <p:spPr>
          <a:xfrm>
            <a:off x="380880" y="5424480"/>
            <a:ext cx="83055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* Excludes subjects stopping treatment for other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143000" y="838080"/>
            <a:ext cx="678132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</a:rPr>
              <a:t>Outcomes by Minority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8" name="Group 3"/>
          <p:cNvGraphicFramePr/>
          <p:nvPr/>
        </p:nvGraphicFramePr>
        <p:xfrm>
          <a:off x="457200" y="1905120"/>
          <a:ext cx="8229240" cy="2961720"/>
        </p:xfrm>
        <a:graphic>
          <a:graphicData uri="http://schemas.openxmlformats.org/drawingml/2006/table">
            <a:tbl>
              <a:tblPr/>
              <a:tblGrid>
                <a:gridCol w="3581280"/>
                <a:gridCol w="1600200"/>
                <a:gridCol w="1523880"/>
                <a:gridCol w="1523880"/>
              </a:tblGrid>
              <a:tr h="82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Minori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NH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P-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on-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SAE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1" lang="en-US" sz="28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9" name="Text Box 30"/>
          <p:cNvSpPr/>
          <p:nvPr/>
        </p:nvSpPr>
        <p:spPr>
          <a:xfrm>
            <a:off x="380880" y="5424480"/>
            <a:ext cx="83055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* Excludes subjects stopping treatment for other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400440" cy="94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</a:rPr>
              <a:t>Factors Affecting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1" name="Group 3"/>
          <p:cNvGraphicFramePr/>
          <p:nvPr/>
        </p:nvGraphicFramePr>
        <p:xfrm>
          <a:off x="457200" y="1447920"/>
          <a:ext cx="8229240" cy="4649760"/>
        </p:xfrm>
        <a:graphic>
          <a:graphicData uri="http://schemas.openxmlformats.org/drawingml/2006/table">
            <a:tbl>
              <a:tblPr/>
              <a:tblGrid>
                <a:gridCol w="2057400"/>
                <a:gridCol w="2361960"/>
                <a:gridCol w="2057400"/>
                <a:gridCol w="1752480"/>
              </a:tblGrid>
              <a:tr h="75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Non-response (n=4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All others (n=19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P-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Genotype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0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SG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± 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± 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U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7 ± 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 ±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latel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 ± 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 ± 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MC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 ±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 ±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905120" y="503280"/>
            <a:ext cx="548604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</a:rPr>
              <a:t>Factors Affecting SA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3" name="Group 3"/>
          <p:cNvGraphicFramePr/>
          <p:nvPr/>
        </p:nvGraphicFramePr>
        <p:xfrm>
          <a:off x="457200" y="1457280"/>
          <a:ext cx="8229240" cy="4495320"/>
        </p:xfrm>
        <a:graphic>
          <a:graphicData uri="http://schemas.openxmlformats.org/drawingml/2006/table">
            <a:tbl>
              <a:tblPr/>
              <a:tblGrid>
                <a:gridCol w="2743200"/>
                <a:gridCol w="1676160"/>
                <a:gridCol w="2438280"/>
                <a:gridCol w="1371600"/>
              </a:tblGrid>
              <a:tr h="64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SAE (n=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Rx Completed (n=1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P-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ge (year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9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± 9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.7 ± 9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Wo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High schoo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IV drug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Liver dis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epr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556236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</a:rPr>
              <a:t>Factors Affecting SA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5" name="Group 3"/>
          <p:cNvGraphicFramePr/>
          <p:nvPr/>
        </p:nvGraphicFramePr>
        <p:xfrm>
          <a:off x="457200" y="1600200"/>
          <a:ext cx="8229240" cy="4497120"/>
        </p:xfrm>
        <a:graphic>
          <a:graphicData uri="http://schemas.openxmlformats.org/drawingml/2006/table">
            <a:tbl>
              <a:tblPr/>
              <a:tblGrid>
                <a:gridCol w="2209680"/>
                <a:gridCol w="1828800"/>
                <a:gridCol w="2438280"/>
                <a:gridCol w="1752480"/>
              </a:tblGrid>
              <a:tr h="75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SAE (n=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Rx Completed (n=1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P-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lbu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7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± 0.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6 ± 0.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Creatin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8 ± 0.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 ± 0.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Hg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9 ±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6 ±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H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6 ± 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0 ± 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RB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63 ± 0.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2 ± 0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000640" cy="94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</a:rPr>
              <a:t>Disease Outcome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24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ECHO provides hepatitis C treatment that is as safe as care delivered at UN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liminary data suggests that Project ECHO delivers hepatitis C treatment that is just as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ECHO treats a larger proportion of minorities than UN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utcomes of treatment for minority and non-Hispanic white subjects are simi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2"/>
          <p:cNvSpPr/>
          <p:nvPr/>
        </p:nvSpPr>
        <p:spPr>
          <a:xfrm>
            <a:off x="1143000" y="5791320"/>
            <a:ext cx="6857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Supported by Agency for Health Research and Quality grant   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1 UC1 HS015135-03 and New Mexico Legisl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3"/>
          <p:cNvSpPr/>
          <p:nvPr/>
        </p:nvSpPr>
        <p:spPr>
          <a:xfrm>
            <a:off x="1736640" y="125568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4"/>
          <p:cNvSpPr/>
          <p:nvPr/>
        </p:nvSpPr>
        <p:spPr>
          <a:xfrm>
            <a:off x="1523880" y="1600200"/>
            <a:ext cx="6476760" cy="3929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/>
                </a:solidFill>
                <a:latin typeface="Tw Cen MT"/>
              </a:rPr>
              <a:t>Use of telemedicine, best practice protocols, co-management of patients with case based learning (the ECHO model) is a robust method to to safely and effectively treat chronic, common and complex diseases in rural and underserved areas and to monitor outc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914400" y="0"/>
            <a:ext cx="54097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HEALTHCARE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NEW 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1066680" y="1476360"/>
            <a:ext cx="7619760" cy="3136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4800" spc="-1" strike="noStrike">
                <a:solidFill>
                  <a:srgbClr val="008193"/>
                </a:solidFill>
                <a:latin typeface="Tw Cen MT"/>
              </a:rPr>
              <a:t>20% practice in rural or frontier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5410080" y="6521400"/>
            <a:ext cx="36572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w Cen MT"/>
              </a:rPr>
              <a:t>New Mexico Physician Survey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0" y="6491160"/>
            <a:ext cx="45684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7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9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426600" cy="38052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"/>
          <p:cNvSpPr/>
          <p:nvPr/>
        </p:nvSpPr>
        <p:spPr>
          <a:xfrm>
            <a:off x="609480" y="0"/>
            <a:ext cx="556236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LTH CARE IN NEW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1440" y="6445080"/>
            <a:ext cx="2343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8193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762120" y="0"/>
            <a:ext cx="55623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HEPATITIS C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NEW 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1219320" y="1476360"/>
            <a:ext cx="7467120" cy="5600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Arial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Estimated number is greater than 32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Arial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Less than 5% have been t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Arial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Without treatment 8,000 patients will develop cirrhosis between 2010-2015 with several thousand de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Arial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1978 prisoners diagnosed in corrections system (expected number is greater than 2400) - None t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Arial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Highest rate of chronic liver disease/cirrhosis deaths in the 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0" y="649116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"/>
          <p:cNvPicPr/>
          <p:nvPr/>
        </p:nvPicPr>
        <p:blipFill>
          <a:blip r:embed="rId3"/>
          <a:stretch/>
        </p:blipFill>
        <p:spPr>
          <a:xfrm>
            <a:off x="76320" y="632448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9"/>
          <p:cNvSpPr/>
          <p:nvPr/>
        </p:nvSpPr>
        <p:spPr>
          <a:xfrm>
            <a:off x="914400" y="0"/>
            <a:ext cx="449532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PATITIS C IN NEW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1066680" y="304920"/>
            <a:ext cx="5257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066680" y="1476360"/>
            <a:ext cx="7619760" cy="307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8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008193"/>
                </a:solidFill>
                <a:latin typeface="Tw Cen MT"/>
              </a:rPr>
              <a:t>Develop capacity to safely and effectively treat Hepatitis C in all areas of New Mexico and to monitor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8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008193"/>
                </a:solidFill>
                <a:latin typeface="Tw Cen MT"/>
              </a:rPr>
              <a:t>Develop a model to treat complex diseases in rural locations and develop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-92160" y="643716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6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8" descr=""/>
          <p:cNvPicPr/>
          <p:nvPr/>
        </p:nvPicPr>
        <p:blipFill>
          <a:blip r:embed="rId3"/>
          <a:stretch/>
        </p:blipFill>
        <p:spPr>
          <a:xfrm>
            <a:off x="76320" y="632448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9"/>
          <p:cNvSpPr/>
          <p:nvPr/>
        </p:nvSpPr>
        <p:spPr>
          <a:xfrm>
            <a:off x="1600200" y="228600"/>
            <a:ext cx="41144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OA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1066680" y="304920"/>
            <a:ext cx="5409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PROJECT 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1066680" y="1219320"/>
            <a:ext cx="7772040" cy="408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8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University of New Mexico School of Medicine Dept of Medicine and Tele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NM Department of Cor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NM State Health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Indian Health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Community Providers with interest in Hepatitis C and Primary Care 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"/>
          <p:cNvPicPr/>
          <p:nvPr/>
        </p:nvPicPr>
        <p:blipFill>
          <a:blip r:embed="rId3"/>
          <a:stretch/>
        </p:blipFill>
        <p:spPr>
          <a:xfrm>
            <a:off x="76320" y="632448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8"/>
          <p:cNvSpPr/>
          <p:nvPr/>
        </p:nvSpPr>
        <p:spPr>
          <a:xfrm>
            <a:off x="990720" y="304920"/>
            <a:ext cx="5562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1066680" y="304920"/>
            <a:ext cx="5257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1066680" y="1476360"/>
            <a:ext cx="7619760" cy="5427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8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Use Technology (telemedicine and internet) to leverage scarce healthcar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Disease Management Model focused on improving outcomes by reducing variation in processes of care and sharing “best practic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Case based learning: Co-management of patients with UNMHSC 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Centralized database HIPAA compliant to monitor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0" y="6491160"/>
            <a:ext cx="4377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6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8" descr=""/>
          <p:cNvPicPr/>
          <p:nvPr/>
        </p:nvPicPr>
        <p:blipFill>
          <a:blip r:embed="rId3"/>
          <a:stretch/>
        </p:blipFill>
        <p:spPr>
          <a:xfrm>
            <a:off x="76320" y="632448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9"/>
          <p:cNvSpPr/>
          <p:nvPr/>
        </p:nvSpPr>
        <p:spPr>
          <a:xfrm>
            <a:off x="914400" y="228600"/>
            <a:ext cx="52574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1066680" y="304920"/>
            <a:ext cx="5257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1066680" y="1476360"/>
            <a:ext cx="7619760" cy="4905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Arial"/>
              <a:buChar char="~"/>
            </a:pPr>
            <a:r>
              <a:rPr b="1" lang="en-US" sz="28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Train providers, nurses, pharmacists, educators in Hepatiti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Arial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Install protocols and software on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Arial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Conduct telemedicine clinics – “Knowledge Networ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Arial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Initiate co-management – “Learning loo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Arial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Collect data and monitor outcomes cent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Arial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Assess cost and effectiveness of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0" y="649116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6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"/>
          <p:cNvPicPr/>
          <p:nvPr/>
        </p:nvPicPr>
        <p:blipFill>
          <a:blip r:embed="rId3"/>
          <a:stretch/>
        </p:blipFill>
        <p:spPr>
          <a:xfrm>
            <a:off x="76320" y="632448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9"/>
          <p:cNvSpPr/>
          <p:nvPr/>
        </p:nvSpPr>
        <p:spPr>
          <a:xfrm>
            <a:off x="1295280" y="228600"/>
            <a:ext cx="41144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2_Default Design">
  <a:themeElements>
    <a:clrScheme name="2_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3_Default Design">
  <a:themeElements>
    <a:clrScheme name="3_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1_Default Design">
  <a:themeElements>
    <a:clrScheme name="1_Default Design 8">
      <a:dk1>
        <a:srgbClr val="003366"/>
      </a:dk1>
      <a:lt1>
        <a:srgbClr val="ffffff"/>
      </a:lt1>
      <a:dk2>
        <a:srgbClr val="000099"/>
      </a:dk2>
      <a:lt2>
        <a:srgbClr val="ccffff"/>
      </a:lt2>
      <a:accent1>
        <a:srgbClr val="3366cc"/>
      </a:accent1>
      <a:accent2>
        <a:srgbClr val="00b000"/>
      </a:accent2>
      <a:accent3>
        <a:srgbClr val="aaaaca"/>
      </a:accent3>
      <a:accent4>
        <a:srgbClr val="dadada"/>
      </a:accent4>
      <a:accent5>
        <a:srgbClr val="adb8e2"/>
      </a:accent5>
      <a:accent6>
        <a:srgbClr val="009f00"/>
      </a:accent6>
      <a:hlink>
        <a:srgbClr val="66ccff"/>
      </a:hlink>
      <a:folHlink>
        <a:srgbClr val="ffe70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2_Default Design">
  <a:themeElements>
    <a:clrScheme name="2_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5</TotalTime>
  <Application>LibreOffice/7.4.7.2$Linux_X86_64 LibreOffice_project/40$Build-2</Application>
  <AppVersion>15.0000</AppVersion>
  <Words>1614</Words>
  <Paragraphs>469</Paragraphs>
  <Company>UN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5T16:34:50Z</dcterms:created>
  <dc:creator>HSC</dc:creator>
  <dc:description/>
  <dc:language>en-US</dc:language>
  <cp:lastModifiedBy>DHHS</cp:lastModifiedBy>
  <dcterms:modified xsi:type="dcterms:W3CDTF">2012-10-16T19:23:08Z</dcterms:modified>
  <cp:revision>37</cp:revision>
  <dc:subject/>
  <dc:title>ACG 200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36</vt:r8>
  </property>
</Properties>
</file>