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3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EA34A-D08F-4260-93E3-92339D7D9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64BDAC-D5F5-4AAE-B058-EECF08669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CC40D0-12B2-4157-ADE0-F555C6F9A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E53-3E84-434D-9064-603ACAF7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6210-C76A-4DC5-8359-7133E54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28E51-6C86-4D11-8991-5C732CC7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7CD29-BA6D-4764-9084-D312B24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9A388-0FFD-4049-82C4-39F3871B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DC853-2B9F-486A-954C-D93A2B2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22DEF-74D2-4DAD-BEDE-C431D99B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7265B-ED7D-4015-8A5A-DD70DD87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7B51A-1659-4BA3-B12F-F0170088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511EE-382B-4E44-B13D-92587A2F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4D10B-6818-46CC-97C6-F90E9380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13FE1-C65E-4E07-8183-B93B200F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60A-74C6-47DE-A623-0C247D70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2145E-EDF4-4CD9-90AB-478C8A4C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65B6E-A206-47D6-9CF7-12943F4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2D801-68E2-440B-9615-CFF9FA50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6958B-B619-4A69-A8A5-7C2C96DA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9F87D-5840-45EA-BCB6-45897166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46E4D-7700-4965-969D-0A91F237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09713-8DEA-4A20-A785-1527060A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F0DEA-0D95-4800-B9C7-3939FBD5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8A9CE-871D-483C-A62A-86334A69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9E6741-737C-4174-914F-F3FD49EF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873-5C12-4592-AD4E-E0C7D14F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2D3D3-6354-4E29-95F2-05A5A14F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AC43-B9BD-4F2D-A67A-19B37C5B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C7C0-CBE8-41DD-8CF3-4B6FD48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55CA-DC36-46A2-9F5A-94D68BF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9CEA-6FA7-42E6-9B5E-9967ED7A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F02C-08B1-4506-9D72-E970DB59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ADE9-EBC3-4A61-B9AE-7E7FDE60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BAD1-B508-405C-B35F-E59283A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FCCA-3ADB-4A33-A156-D6D67ABB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C270-1FEC-4E6B-8EFA-2522C114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C1A6-7EB2-4418-A32A-4A96D79E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07A8-9D3A-4245-B7EE-4C29576B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79C1-5413-46A0-9184-8E5A3A46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4582-5448-459F-BB21-F7233ED6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155B-8C0F-4978-A3EF-23B46F3F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C8AA9-D461-4A53-8AD0-711256A6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69163-DD59-4162-A8CA-804DB3C7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E65D-B27C-4E0D-BDBC-6D834E88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BF645-0C2D-4A5E-982C-D19133E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20A5-8858-4A26-9830-8FC305A7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0D77-5E6C-4615-9B9F-3045C0E8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763EC-2C77-4E48-BE3D-CF5C44A0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8B9C-1D15-4E38-95F9-FDBA55B6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0E7F-C1D9-4A76-9CD1-5D631657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B252-46CC-4698-8414-FCE8EC1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AFA4-2839-4F19-B99C-25180211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8EE80-3CE1-4470-AADE-415B58F9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B606-016C-44E4-96CD-A2A92EBD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20CB0-AE0A-4801-AEF0-C2003CE3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1C58-73FF-439A-98BB-929E6BD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E833-D0C6-4184-B307-F63647DF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44B1C-1CB9-4BE6-B0F9-AD1ACF2A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96AFE-0092-48D9-8BA3-B860C0DC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767D8-7FB3-414C-9E5A-C0C7C8D4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7EAE-CC2C-41A4-8442-4A18FEBA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5202-F2EB-4357-A57C-264A7EDE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2B62A-C762-4B9E-9A29-E7F5BCD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69C04-2230-4B7D-BA0F-E42D8A7B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80D61-E496-4C49-A1C2-44017CF1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1E3A-21D4-43C5-AA8F-CA0D2AAC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7B931-4C3F-4E0F-8EE9-A09479F2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910-D02A-458F-8E84-989B5E0C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45B0-AD57-4D81-96E7-ED875691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AF17-BF47-42BF-A720-9ED03B5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A372B-583C-4CB9-BC58-4D676232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91EF7-7EDF-46AF-87F7-4503D9B8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A5BAC-D3B0-4BA5-9C02-AE3D27F3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3859C-2F06-4A11-A980-4ECF7BB1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B451A-CF62-4756-B7AB-B292C7EF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3A676-4895-4FD0-AB3E-0E49580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52880-BD4D-43E4-8DBC-21B964A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B71E-AD69-4515-84AC-8549EAA18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1B1-9959-464E-B9B5-524D2A8E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F0EC4-C37C-4AB0-916B-97F60FEDD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C07E-4EBC-43D1-96CA-DE35CBCE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3EDDF-3041-405B-8EFC-DFE04739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D15BE-91B2-4E9E-8597-6DF44847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48E3C-B33B-4C8B-A32A-2ADC418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F105-622B-4117-83C5-0CC70D65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3E2D9-5071-4BD6-86DA-F483D5CA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B6AF6-4163-41A3-B75A-2EB99019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DF21F-A615-4B1C-91DB-F44723B5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72001-70FB-4355-9A0D-FA349C7B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132-7FB3-4683-908F-E04A18EB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2044-11C5-4624-A348-1D25E6D3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1E983-4D46-4FA2-B11D-046DFF8D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EDE1-8746-4623-9404-EF5D7703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59F96-378D-468F-BC7A-29B82047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0BCB8-DD00-4989-ACEC-8A440E7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68207-879D-4EC8-9187-624A2BF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8A60B-9387-46A5-9C5D-4CFECDA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AF0D7-85BF-462F-8A2C-EB41E8B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A9842-810E-4803-B778-CEB47D80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28455-8F5A-45C1-BEC7-F4E4BBDF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339-075B-44AE-B276-398D006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9A90E-2752-4EC2-B905-36BB202F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6F05-615C-4555-991A-39E9EAF3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244F-E695-4A67-B697-8ABC09E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B626B-CEFE-4A55-ADEC-95F4C540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2CBA0-D65A-4180-9823-37D7E12E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B264C-2F46-408B-B168-BF6C1F31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8796D-1C61-4144-9B2B-C0DA755B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DDBD9-51D5-474D-9FDB-3B8FC12B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66CEF-1BD2-4240-A2EE-2239E520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58598-0043-4E17-810D-EFFE28E3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D48-0CB6-421B-9266-049A8D90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DD761-BB04-4494-B0A3-ACB3A482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9A45D-A47F-4B33-A50A-A6A38C11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16CCC-94E2-4BAE-A9D9-30F4564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68B41-6E64-4F74-9A85-9E426C6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62E72-EBB1-4DB9-901A-0EB80BBF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FF5BB-109F-486D-8771-738582CC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B70F-28A7-47A0-9ED7-4FC58D2D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FA08E-7A8A-43C2-90F5-D962352D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4E14C-DC95-4274-9681-A17E5301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9E4C8-C548-4796-94B7-937907FA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E539F-E33D-428A-A212-44147EB8B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3300"/>
              </a:buClr>
              <a:buSzPct val="150000"/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561"/>
              </a:spcBef>
              <a:buClr>
                <a:srgbClr val="6600cc"/>
              </a:buClr>
              <a:buFont typeface="Arial"/>
              <a:buChar char="♦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C18EF3-FC3F-4B89-88E6-20798CFCC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8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9DAA4B-62AD-4F39-968A-AE2A95011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218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4648320" y="3938760"/>
            <a:ext cx="4038120" cy="2187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52AB79-4AD4-4184-A45E-B493B1979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  <a:ea typeface="Gulim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  <a:ea typeface="Gulim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  <a:ea typeface="Gulim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  <a:ea typeface="Gulim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  <a:ea typeface="Gulim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2E8EFF-1E46-4A20-A080-57EA81B3B9CC}" type="slidenum">
              <a:rPr b="0" lang="en-US" sz="14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1C9429-EBF8-4B83-B415-6E537982C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AC217D-B67B-4BDA-BB86-5ABA2A77B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6169FC-2C22-4189-9DA2-566E436367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293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9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30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Master title sty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573BEB-289D-4224-9BD4-97B7D7FDE4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B03337-08D2-4422-8A60-710D2DAC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2971800"/>
            <a:ext cx="9143640" cy="5428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chemeClr val="accent2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jeev Arora M.D., FA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of Medic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ve Vice Chai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New Mexico School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61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32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04920" y="304920"/>
            <a:ext cx="60195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COMMUNITY PART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457200" y="1143000"/>
            <a:ext cx="8686440" cy="5636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No cost CME’s  and Nursing CEU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Professional interaction with colleagues with simila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terest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–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Less isolation with improved recruitment and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A mix of work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Obtain HCV cert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Access to specialty consultation with GI, hepatolog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psychiatry, infectious diseases, addiction specialist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pharmacist, patient educator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8" descr=""/>
          <p:cNvPicPr/>
          <p:nvPr/>
        </p:nvPicPr>
        <p:blipFill>
          <a:blip r:embed="rId3"/>
          <a:stretch/>
        </p:blipFill>
        <p:spPr>
          <a:xfrm>
            <a:off x="152280" y="640080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9"/>
          <p:cNvSpPr/>
          <p:nvPr/>
        </p:nvSpPr>
        <p:spPr>
          <a:xfrm>
            <a:off x="838080" y="0"/>
            <a:ext cx="525744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 TO RURAL 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IMG_570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IMG_5815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304920"/>
            <a:ext cx="5562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DISEASE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066680" y="1752480"/>
            <a:ext cx="7619760" cy="4966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mmon dis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Management is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Evolving treatments and medi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High societal impact (health and econo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Serious outcomes of untreated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mproved outcomes with dise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0" y="63244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838080" y="228600"/>
            <a:ext cx="4952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ASE 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6324480" y="243828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76320" y="304920"/>
            <a:ext cx="624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ALTHCARE IN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493092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77500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6"/>
          <p:cNvSpPr/>
          <p:nvPr/>
        </p:nvSpPr>
        <p:spPr>
          <a:xfrm>
            <a:off x="34066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 rot="16200000">
            <a:off x="4579920" y="-307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 rot="16200000">
            <a:off x="4579920" y="9878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3276720" y="1600200"/>
            <a:ext cx="12949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UNM H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0"/>
          <p:cNvSpPr/>
          <p:nvPr/>
        </p:nvSpPr>
        <p:spPr>
          <a:xfrm>
            <a:off x="4848120" y="1224000"/>
            <a:ext cx="1095120" cy="1552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State Health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1"/>
          <p:cNvSpPr/>
          <p:nvPr/>
        </p:nvSpPr>
        <p:spPr>
          <a:xfrm>
            <a:off x="6019920" y="1447920"/>
            <a:ext cx="144756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Private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7391520" y="1224000"/>
            <a:ext cx="17521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Community Health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3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60" name="Text Box 14"/>
          <p:cNvSpPr/>
          <p:nvPr/>
        </p:nvSpPr>
        <p:spPr>
          <a:xfrm>
            <a:off x="1143000" y="312408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5"/>
          <p:cNvSpPr/>
          <p:nvPr/>
        </p:nvSpPr>
        <p:spPr>
          <a:xfrm>
            <a:off x="1143000" y="4419720"/>
            <a:ext cx="4343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6"/>
          <p:cNvSpPr/>
          <p:nvPr/>
        </p:nvSpPr>
        <p:spPr>
          <a:xfrm rot="16200000">
            <a:off x="4579920" y="2278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7"/>
          <p:cNvSpPr/>
          <p:nvPr/>
        </p:nvSpPr>
        <p:spPr>
          <a:xfrm>
            <a:off x="1143000" y="5715000"/>
            <a:ext cx="5866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epatiti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8"/>
          <p:cNvSpPr/>
          <p:nvPr/>
        </p:nvSpPr>
        <p:spPr>
          <a:xfrm>
            <a:off x="762120" y="304920"/>
            <a:ext cx="5028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BUILDING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9"/>
          <p:cNvSpPr/>
          <p:nvPr/>
        </p:nvSpPr>
        <p:spPr>
          <a:xfrm>
            <a:off x="-92160" y="636120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0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2" descr=""/>
          <p:cNvPicPr/>
          <p:nvPr/>
        </p:nvPicPr>
        <p:blipFill>
          <a:blip r:embed="rId3"/>
          <a:stretch/>
        </p:blipFill>
        <p:spPr>
          <a:xfrm>
            <a:off x="152280" y="624852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23"/>
          <p:cNvSpPr/>
          <p:nvPr/>
        </p:nvSpPr>
        <p:spPr>
          <a:xfrm>
            <a:off x="914400" y="152280"/>
            <a:ext cx="51051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ILDING BRID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4"/>
          <p:cNvSpPr/>
          <p:nvPr/>
        </p:nvSpPr>
        <p:spPr>
          <a:xfrm>
            <a:off x="152280" y="1143000"/>
            <a:ext cx="2819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PARETTO’S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6324480" y="243828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"/>
          <p:cNvSpPr/>
          <p:nvPr/>
        </p:nvSpPr>
        <p:spPr>
          <a:xfrm>
            <a:off x="76320" y="304920"/>
            <a:ext cx="62481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ALTHCARE IN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493092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77500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3406680" y="2443320"/>
            <a:ext cx="479160" cy="410976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7"/>
          <p:cNvSpPr/>
          <p:nvPr/>
        </p:nvSpPr>
        <p:spPr>
          <a:xfrm rot="16200000">
            <a:off x="4579920" y="-307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8"/>
          <p:cNvSpPr/>
          <p:nvPr/>
        </p:nvSpPr>
        <p:spPr>
          <a:xfrm rot="16200000">
            <a:off x="4579920" y="9878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9"/>
          <p:cNvSpPr/>
          <p:nvPr/>
        </p:nvSpPr>
        <p:spPr>
          <a:xfrm>
            <a:off x="2362320" y="1600200"/>
            <a:ext cx="16761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4419720" y="1224000"/>
            <a:ext cx="152352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Primar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1"/>
          <p:cNvSpPr/>
          <p:nvPr/>
        </p:nvSpPr>
        <p:spPr>
          <a:xfrm>
            <a:off x="5486400" y="1600200"/>
            <a:ext cx="1904760" cy="1339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Pharmac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7315200" y="1224000"/>
            <a:ext cx="1980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w Cen MT"/>
              </a:rPr>
              <a:t>Nurse Practiti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83" name="Text Box 14"/>
          <p:cNvSpPr/>
          <p:nvPr/>
        </p:nvSpPr>
        <p:spPr>
          <a:xfrm>
            <a:off x="1143000" y="3124080"/>
            <a:ext cx="1980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epatitis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5"/>
          <p:cNvSpPr/>
          <p:nvPr/>
        </p:nvSpPr>
        <p:spPr>
          <a:xfrm>
            <a:off x="1143000" y="4419720"/>
            <a:ext cx="4419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H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6"/>
          <p:cNvSpPr/>
          <p:nvPr/>
        </p:nvSpPr>
        <p:spPr>
          <a:xfrm rot="16200000">
            <a:off x="4579920" y="2278440"/>
            <a:ext cx="479160" cy="7353000"/>
          </a:xfrm>
          <a:prstGeom prst="rect">
            <a:avLst/>
          </a:prstGeom>
          <a:solidFill>
            <a:srgbClr val="6699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7"/>
          <p:cNvSpPr/>
          <p:nvPr/>
        </p:nvSpPr>
        <p:spPr>
          <a:xfrm>
            <a:off x="1143000" y="5715000"/>
            <a:ext cx="5638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patiti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8"/>
          <p:cNvSpPr/>
          <p:nvPr/>
        </p:nvSpPr>
        <p:spPr>
          <a:xfrm>
            <a:off x="457200" y="0"/>
            <a:ext cx="59432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KNOWLEDGE  IMPORTANT -  NO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9"/>
          <p:cNvSpPr/>
          <p:nvPr/>
        </p:nvSpPr>
        <p:spPr>
          <a:xfrm>
            <a:off x="0" y="63244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0"/>
          <p:cNvSpPr/>
          <p:nvPr/>
        </p:nvSpPr>
        <p:spPr>
          <a:xfrm>
            <a:off x="0" y="1143000"/>
            <a:ext cx="6095520" cy="36396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chemeClr val="accent2"/>
                </a:solidFill>
                <a:latin typeface="Arial"/>
              </a:rPr>
              <a:t>Use Existing Community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1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2" descr=""/>
          <p:cNvPicPr/>
          <p:nvPr/>
        </p:nvPicPr>
        <p:blipFill>
          <a:blip r:embed="rId2"/>
          <a:stretch/>
        </p:blipFill>
        <p:spPr>
          <a:xfrm>
            <a:off x="0" y="0"/>
            <a:ext cx="6400440" cy="1142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3" descr=""/>
          <p:cNvPicPr/>
          <p:nvPr/>
        </p:nvPicPr>
        <p:blipFill>
          <a:blip r:embed="rId3"/>
          <a:stretch/>
        </p:blipFill>
        <p:spPr>
          <a:xfrm>
            <a:off x="228600" y="617220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24"/>
          <p:cNvSpPr/>
          <p:nvPr/>
        </p:nvSpPr>
        <p:spPr>
          <a:xfrm>
            <a:off x="762120" y="0"/>
            <a:ext cx="525744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 IMPORTANT -  NOT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762120" y="-92160"/>
            <a:ext cx="5562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COMMUNITY HEALTH EXTENSION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/>
          <p:cNvSpPr/>
          <p:nvPr/>
        </p:nvSpPr>
        <p:spPr>
          <a:xfrm>
            <a:off x="4191120" y="3809880"/>
            <a:ext cx="914040" cy="685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_s1033"/>
          <p:cNvSpPr/>
          <p:nvPr/>
        </p:nvSpPr>
        <p:spPr>
          <a:xfrm>
            <a:off x="3733920" y="4038480"/>
            <a:ext cx="1752120" cy="52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3400" rIns="113400" tIns="56520" bIns="5652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chemeClr val="accent2"/>
                </a:solidFill>
                <a:latin typeface="Tw Cen MT"/>
              </a:rPr>
              <a:t> </a:t>
            </a:r>
            <a:r>
              <a:rPr b="1" lang="en-US" sz="1600" spc="-1" strike="noStrike">
                <a:solidFill>
                  <a:schemeClr val="accent2"/>
                </a:solidFill>
                <a:latin typeface="Tw Cen MT"/>
              </a:rPr>
              <a:t>CH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-92160" y="636120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5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6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2189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7" descr=""/>
          <p:cNvPicPr/>
          <p:nvPr/>
        </p:nvPicPr>
        <p:blipFill>
          <a:blip r:embed="rId3"/>
          <a:stretch/>
        </p:blipFill>
        <p:spPr>
          <a:xfrm>
            <a:off x="0" y="624852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18"/>
          <p:cNvSpPr/>
          <p:nvPr/>
        </p:nvSpPr>
        <p:spPr>
          <a:xfrm>
            <a:off x="609480" y="0"/>
            <a:ext cx="548604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MUNITY HEALTH EXTENSION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-304560" y="1447920"/>
            <a:ext cx="10591920" cy="5805360"/>
            <a:chOff x="-304560" y="1447920"/>
            <a:chExt cx="10591920" cy="5805360"/>
          </a:xfrm>
        </p:grpSpPr>
        <p:sp>
          <p:nvSpPr>
            <p:cNvPr id="604" name=""/>
            <p:cNvSpPr/>
            <p:nvPr/>
          </p:nvSpPr>
          <p:spPr>
            <a:xfrm>
              <a:off x="-304560" y="1447920"/>
              <a:ext cx="10591920" cy="58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_s976902"/>
            <p:cNvSpPr/>
            <p:nvPr/>
          </p:nvSpPr>
          <p:spPr>
            <a:xfrm>
              <a:off x="3200400" y="1827360"/>
              <a:ext cx="2894040" cy="2746440"/>
            </a:xfrm>
            <a:prstGeom prst="ellipse">
              <a:avLst/>
            </a:prstGeom>
            <a:solidFill>
              <a:srgbClr val="3399ff">
                <a:alpha val="50000"/>
              </a:srgbClr>
            </a:solidFill>
            <a:ln w="4680">
              <a:solidFill>
                <a:srgbClr val="333399"/>
              </a:solidFill>
              <a:round/>
            </a:ln>
          </p:spPr>
          <p:txBody>
            <a:bodyPr lIns="92160" rIns="92160" tIns="47160" bIns="471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976903"/>
            <p:cNvSpPr/>
            <p:nvPr/>
          </p:nvSpPr>
          <p:spPr>
            <a:xfrm>
              <a:off x="3429000" y="2590920"/>
              <a:ext cx="243828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13400" rIns="113400" tIns="56520" bIns="565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976904"/>
            <p:cNvSpPr/>
            <p:nvPr/>
          </p:nvSpPr>
          <p:spPr>
            <a:xfrm>
              <a:off x="4114800" y="3517920"/>
              <a:ext cx="2895480" cy="2747880"/>
            </a:xfrm>
            <a:prstGeom prst="ellipse">
              <a:avLst/>
            </a:prstGeom>
            <a:solidFill>
              <a:srgbClr val="66ff66">
                <a:alpha val="50000"/>
              </a:srgbClr>
            </a:solidFill>
            <a:ln w="4680">
              <a:solidFill>
                <a:srgbClr val="009999"/>
              </a:solidFill>
              <a:round/>
            </a:ln>
          </p:spPr>
          <p:txBody>
            <a:bodyPr lIns="92160" rIns="92160" tIns="47160" bIns="471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976905"/>
            <p:cNvSpPr/>
            <p:nvPr/>
          </p:nvSpPr>
          <p:spPr>
            <a:xfrm>
              <a:off x="5181480" y="4800600"/>
              <a:ext cx="190512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13400" rIns="113400" tIns="56520" bIns="565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976906"/>
            <p:cNvSpPr/>
            <p:nvPr/>
          </p:nvSpPr>
          <p:spPr>
            <a:xfrm>
              <a:off x="2286000" y="3505320"/>
              <a:ext cx="2895480" cy="2747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99cc00"/>
              </a:solidFill>
              <a:round/>
            </a:ln>
          </p:spPr>
          <p:txBody>
            <a:bodyPr lIns="92160" rIns="92160" tIns="47160" bIns="471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976907"/>
            <p:cNvSpPr/>
            <p:nvPr/>
          </p:nvSpPr>
          <p:spPr>
            <a:xfrm>
              <a:off x="2361960" y="4724280"/>
              <a:ext cx="1752480" cy="52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13400" rIns="113400" tIns="56520" bIns="5652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914400" y="0"/>
            <a:ext cx="5409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ROLE OF KNOWLEDG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1066680" y="2895480"/>
            <a:ext cx="7619760" cy="1031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2286000" y="4647960"/>
            <a:ext cx="4419360" cy="36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2286000" y="1752480"/>
            <a:ext cx="360" cy="289548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rc 7"/>
          <p:cNvSpPr/>
          <p:nvPr/>
        </p:nvSpPr>
        <p:spPr>
          <a:xfrm flipV="1" rot="21360000">
            <a:off x="2590560" y="2666520"/>
            <a:ext cx="3419280" cy="1370880"/>
          </a:xfrm>
          <a:custGeom>
            <a:avLst/>
            <a:gdLst>
              <a:gd name="textAreaLeft" fmla="*/ 0 w 3419280"/>
              <a:gd name="textAreaRight" fmla="*/ 3419640 w 3419280"/>
              <a:gd name="textAreaTop" fmla="*/ 360 h 1370880"/>
              <a:gd name="textAreaBottom" fmla="*/ 1371600 h 1370880"/>
            </a:gdLst>
            <a:ahLst/>
            <a:rect l="textAreaLeft" t="textAreaTop" r="textAreaRight" b="textAreaBottom"/>
            <a:pathLst>
              <a:path fill="none" w="26199" h="21600">
                <a:moveTo>
                  <a:pt x="0" y="495"/>
                </a:moveTo>
                <a:cubicBezTo>
                  <a:pt x="1511" y="166"/>
                  <a:pt x="3053" y="-1"/>
                  <a:pt x="4600" y="0"/>
                </a:cubicBezTo>
                <a:cubicBezTo>
                  <a:pt x="16445" y="0"/>
                  <a:pt x="26081" y="9540"/>
                  <a:pt x="26198" y="21385"/>
                </a:cubicBezTo>
              </a:path>
              <a:path stroke="0" w="26199" h="21600">
                <a:moveTo>
                  <a:pt x="0" y="495"/>
                </a:moveTo>
                <a:cubicBezTo>
                  <a:pt x="1511" y="166"/>
                  <a:pt x="3053" y="-1"/>
                  <a:pt x="4600" y="0"/>
                </a:cubicBezTo>
                <a:cubicBezTo>
                  <a:pt x="16445" y="0"/>
                  <a:pt x="26081" y="9540"/>
                  <a:pt x="26198" y="21385"/>
                </a:cubicBezTo>
                <a:lnTo>
                  <a:pt x="4600" y="21600"/>
                </a:lnTo>
                <a:close/>
              </a:path>
            </a:pathLst>
          </a:cu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8"/>
          <p:cNvSpPr/>
          <p:nvPr/>
        </p:nvSpPr>
        <p:spPr>
          <a:xfrm flipV="1">
            <a:off x="2589840" y="4074120"/>
            <a:ext cx="3497400" cy="233640"/>
          </a:xfrm>
          <a:prstGeom prst="line">
            <a:avLst/>
          </a:prstGeom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 rot="21386400">
            <a:off x="4571640" y="4114800"/>
            <a:ext cx="24127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ing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0"/>
          <p:cNvSpPr/>
          <p:nvPr/>
        </p:nvSpPr>
        <p:spPr>
          <a:xfrm>
            <a:off x="3886200" y="5105160"/>
            <a:ext cx="1981080" cy="360"/>
          </a:xfrm>
          <a:prstGeom prst="line">
            <a:avLst/>
          </a:prstGeom>
          <a:ln w="2857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4495680" y="5181480"/>
            <a:ext cx="91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WordArt 12"/>
          <p:cNvSpPr txBox="1"/>
          <p:nvPr/>
        </p:nvSpPr>
        <p:spPr>
          <a:xfrm rot="20045400">
            <a:off x="4038120" y="3352680"/>
            <a:ext cx="1571400" cy="2440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Medical Knowledge</a:t>
            </a:r>
            <a:endParaRPr b="0" lang="en-US" sz="1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3"/>
          <p:cNvSpPr/>
          <p:nvPr/>
        </p:nvSpPr>
        <p:spPr>
          <a:xfrm>
            <a:off x="6400800" y="2666880"/>
            <a:ext cx="360" cy="1219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6629400" y="3048120"/>
            <a:ext cx="1980720" cy="71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5"/>
          <p:cNvSpPr/>
          <p:nvPr/>
        </p:nvSpPr>
        <p:spPr>
          <a:xfrm>
            <a:off x="2057400" y="6095880"/>
            <a:ext cx="57909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ing the  Definition of Underserved  Popul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8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9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20"/>
          <p:cNvSpPr/>
          <p:nvPr/>
        </p:nvSpPr>
        <p:spPr>
          <a:xfrm>
            <a:off x="914400" y="0"/>
            <a:ext cx="5105160" cy="94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KNOWLEDGE NETWORK I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685800" y="304920"/>
            <a:ext cx="5638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KNOWLEDG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762120" y="1752480"/>
            <a:ext cx="7619760" cy="2934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Patient specific knowledg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Access to Case-Specific Information like Access to 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9"/>
          <p:cNvSpPr/>
          <p:nvPr/>
        </p:nvSpPr>
        <p:spPr>
          <a:xfrm>
            <a:off x="838080" y="304920"/>
            <a:ext cx="51051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LEDG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reeform 2"/>
          <p:cNvSpPr/>
          <p:nvPr/>
        </p:nvSpPr>
        <p:spPr>
          <a:xfrm>
            <a:off x="1015920" y="915840"/>
            <a:ext cx="7529040" cy="518292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2920"/>
              <a:gd name="textAreaBottom" fmla="*/ 5183280 h 5182920"/>
            </a:gdLst>
            <a:ahLst/>
            <a:rect l="textAreaLeft" t="textAreaTop" r="textAreaRight" b="textAreaBottom"/>
            <a:pathLst>
              <a:path w="10671" h="13061">
                <a:moveTo>
                  <a:pt x="10497" y="1296"/>
                </a:moveTo>
                <a:lnTo>
                  <a:pt x="10497" y="11240"/>
                </a:lnTo>
                <a:lnTo>
                  <a:pt x="4517" y="11238"/>
                </a:lnTo>
                <a:lnTo>
                  <a:pt x="4551" y="11532"/>
                </a:lnTo>
                <a:lnTo>
                  <a:pt x="4517" y="11622"/>
                </a:lnTo>
                <a:lnTo>
                  <a:pt x="5022" y="12005"/>
                </a:lnTo>
                <a:lnTo>
                  <a:pt x="1672" y="12005"/>
                </a:lnTo>
                <a:lnTo>
                  <a:pt x="1672" y="13061"/>
                </a:lnTo>
                <a:lnTo>
                  <a:pt x="4" y="13061"/>
                </a:lnTo>
                <a:lnTo>
                  <a:pt x="0" y="0"/>
                </a:lnTo>
                <a:lnTo>
                  <a:pt x="10671" y="0"/>
                </a:lnTo>
                <a:lnTo>
                  <a:pt x="10671" y="1296"/>
                </a:lnTo>
                <a:lnTo>
                  <a:pt x="10497" y="1296"/>
                </a:lnTo>
                <a:lnTo>
                  <a:pt x="10497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3"/>
          <p:cNvSpPr/>
          <p:nvPr/>
        </p:nvSpPr>
        <p:spPr>
          <a:xfrm>
            <a:off x="1015920" y="914400"/>
            <a:ext cx="7529040" cy="518436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4360"/>
              <a:gd name="textAreaBottom" fmla="*/ 5184720 h 5184360"/>
            </a:gdLst>
            <a:ahLst/>
            <a:rect l="textAreaLeft" t="textAreaTop" r="textAreaRight" b="textAreaBottom"/>
            <a:pathLst>
              <a:path w="10671" h="13061">
                <a:moveTo>
                  <a:pt x="10497" y="1296"/>
                </a:moveTo>
                <a:lnTo>
                  <a:pt x="10497" y="11240"/>
                </a:lnTo>
                <a:lnTo>
                  <a:pt x="4517" y="11238"/>
                </a:lnTo>
                <a:lnTo>
                  <a:pt x="4551" y="11532"/>
                </a:lnTo>
                <a:lnTo>
                  <a:pt x="4517" y="11622"/>
                </a:lnTo>
                <a:lnTo>
                  <a:pt x="5022" y="12005"/>
                </a:lnTo>
                <a:lnTo>
                  <a:pt x="1672" y="12005"/>
                </a:lnTo>
                <a:lnTo>
                  <a:pt x="1672" y="13061"/>
                </a:lnTo>
                <a:lnTo>
                  <a:pt x="4" y="13061"/>
                </a:lnTo>
                <a:lnTo>
                  <a:pt x="0" y="0"/>
                </a:lnTo>
                <a:lnTo>
                  <a:pt x="10671" y="0"/>
                </a:lnTo>
                <a:lnTo>
                  <a:pt x="10671" y="1296"/>
                </a:lnTo>
                <a:lnTo>
                  <a:pt x="10497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4"/>
          <p:cNvSpPr/>
          <p:nvPr/>
        </p:nvSpPr>
        <p:spPr>
          <a:xfrm>
            <a:off x="1614600" y="914400"/>
            <a:ext cx="7529040" cy="518436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4360"/>
              <a:gd name="textAreaBottom" fmla="*/ 5184720 h 518436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38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6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0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"/>
          <p:cNvSpPr/>
          <p:nvPr/>
        </p:nvSpPr>
        <p:spPr>
          <a:xfrm>
            <a:off x="952560" y="878040"/>
            <a:ext cx="7529040" cy="518292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2920"/>
              <a:gd name="textAreaBottom" fmla="*/ 5183280 h 518292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38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6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0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  <a:lnTo>
                  <a:pt x="10498" y="1296"/>
                </a:lnTo>
              </a:path>
            </a:pathLst>
          </a:custGeom>
          <a:noFill/>
          <a:ln w="1587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6"/>
          <p:cNvSpPr/>
          <p:nvPr/>
        </p:nvSpPr>
        <p:spPr>
          <a:xfrm>
            <a:off x="952560" y="878040"/>
            <a:ext cx="7529040" cy="5182920"/>
          </a:xfrm>
          <a:custGeom>
            <a:avLst/>
            <a:gdLst>
              <a:gd name="textAreaLeft" fmla="*/ 0 w 7529040"/>
              <a:gd name="textAreaRight" fmla="*/ 7529400 w 7529040"/>
              <a:gd name="textAreaTop" fmla="*/ 0 h 5182920"/>
              <a:gd name="textAreaBottom" fmla="*/ 5183280 h 518292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38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6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0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reeform 7"/>
          <p:cNvSpPr/>
          <p:nvPr/>
        </p:nvSpPr>
        <p:spPr>
          <a:xfrm>
            <a:off x="914400" y="857160"/>
            <a:ext cx="1879200" cy="904680"/>
          </a:xfrm>
          <a:custGeom>
            <a:avLst/>
            <a:gdLst>
              <a:gd name="textAreaLeft" fmla="*/ 0 w 1879200"/>
              <a:gd name="textAreaRight" fmla="*/ 1879560 w 1879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663" h="2279">
                <a:moveTo>
                  <a:pt x="2663" y="0"/>
                </a:moveTo>
                <a:lnTo>
                  <a:pt x="2655" y="214"/>
                </a:lnTo>
                <a:lnTo>
                  <a:pt x="2411" y="479"/>
                </a:lnTo>
                <a:lnTo>
                  <a:pt x="2411" y="2279"/>
                </a:lnTo>
                <a:lnTo>
                  <a:pt x="0" y="2279"/>
                </a:lnTo>
                <a:lnTo>
                  <a:pt x="0" y="0"/>
                </a:lnTo>
                <a:lnTo>
                  <a:pt x="2663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Freeform 8"/>
          <p:cNvSpPr/>
          <p:nvPr/>
        </p:nvSpPr>
        <p:spPr>
          <a:xfrm>
            <a:off x="950760" y="878040"/>
            <a:ext cx="1879200" cy="904680"/>
          </a:xfrm>
          <a:custGeom>
            <a:avLst/>
            <a:gdLst>
              <a:gd name="textAreaLeft" fmla="*/ 0 w 1879200"/>
              <a:gd name="textAreaRight" fmla="*/ 1879560 w 1879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663" h="2279">
                <a:moveTo>
                  <a:pt x="2663" y="0"/>
                </a:moveTo>
                <a:lnTo>
                  <a:pt x="2655" y="214"/>
                </a:lnTo>
                <a:lnTo>
                  <a:pt x="2411" y="479"/>
                </a:lnTo>
                <a:lnTo>
                  <a:pt x="2411" y="2279"/>
                </a:lnTo>
                <a:lnTo>
                  <a:pt x="0" y="2279"/>
                </a:lnTo>
                <a:lnTo>
                  <a:pt x="0" y="0"/>
                </a:lnTo>
                <a:lnTo>
                  <a:pt x="2663" y="0"/>
                </a:lnTo>
                <a:lnTo>
                  <a:pt x="2663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reeform 9"/>
          <p:cNvSpPr/>
          <p:nvPr/>
        </p:nvSpPr>
        <p:spPr>
          <a:xfrm>
            <a:off x="950760" y="878040"/>
            <a:ext cx="1879200" cy="904680"/>
          </a:xfrm>
          <a:custGeom>
            <a:avLst/>
            <a:gdLst>
              <a:gd name="textAreaLeft" fmla="*/ 0 w 1879200"/>
              <a:gd name="textAreaRight" fmla="*/ 1879560 w 187920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2663" h="2279">
                <a:moveTo>
                  <a:pt x="2663" y="0"/>
                </a:moveTo>
                <a:lnTo>
                  <a:pt x="2655" y="214"/>
                </a:lnTo>
                <a:lnTo>
                  <a:pt x="2411" y="479"/>
                </a:lnTo>
                <a:lnTo>
                  <a:pt x="2411" y="2279"/>
                </a:lnTo>
                <a:lnTo>
                  <a:pt x="0" y="2279"/>
                </a:lnTo>
                <a:lnTo>
                  <a:pt x="0" y="0"/>
                </a:lnTo>
                <a:lnTo>
                  <a:pt x="2663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0"/>
          <p:cNvSpPr/>
          <p:nvPr/>
        </p:nvSpPr>
        <p:spPr>
          <a:xfrm>
            <a:off x="2654280" y="878040"/>
            <a:ext cx="2531880" cy="8949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3590" h="2256">
                <a:moveTo>
                  <a:pt x="0" y="1753"/>
                </a:moveTo>
                <a:lnTo>
                  <a:pt x="0" y="479"/>
                </a:lnTo>
                <a:lnTo>
                  <a:pt x="244" y="214"/>
                </a:lnTo>
                <a:lnTo>
                  <a:pt x="251" y="0"/>
                </a:lnTo>
                <a:lnTo>
                  <a:pt x="2729" y="0"/>
                </a:lnTo>
                <a:lnTo>
                  <a:pt x="2751" y="742"/>
                </a:lnTo>
                <a:lnTo>
                  <a:pt x="2884" y="1273"/>
                </a:lnTo>
                <a:lnTo>
                  <a:pt x="2707" y="1463"/>
                </a:lnTo>
                <a:lnTo>
                  <a:pt x="3039" y="1632"/>
                </a:lnTo>
                <a:lnTo>
                  <a:pt x="3151" y="1873"/>
                </a:lnTo>
                <a:lnTo>
                  <a:pt x="3590" y="2135"/>
                </a:lnTo>
                <a:lnTo>
                  <a:pt x="3302" y="2256"/>
                </a:lnTo>
                <a:lnTo>
                  <a:pt x="2361" y="2256"/>
                </a:lnTo>
                <a:lnTo>
                  <a:pt x="1257" y="2256"/>
                </a:lnTo>
                <a:lnTo>
                  <a:pt x="1257" y="1753"/>
                </a:lnTo>
                <a:lnTo>
                  <a:pt x="0" y="1753"/>
                </a:lnTo>
                <a:lnTo>
                  <a:pt x="1257" y="1753"/>
                </a:lnTo>
                <a:lnTo>
                  <a:pt x="0" y="175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>
            <a:off x="2654280" y="878040"/>
            <a:ext cx="2531880" cy="8949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3590" h="2256">
                <a:moveTo>
                  <a:pt x="0" y="1753"/>
                </a:moveTo>
                <a:lnTo>
                  <a:pt x="0" y="479"/>
                </a:lnTo>
                <a:lnTo>
                  <a:pt x="244" y="214"/>
                </a:lnTo>
                <a:lnTo>
                  <a:pt x="251" y="0"/>
                </a:lnTo>
                <a:lnTo>
                  <a:pt x="2729" y="0"/>
                </a:lnTo>
                <a:lnTo>
                  <a:pt x="2751" y="742"/>
                </a:lnTo>
                <a:lnTo>
                  <a:pt x="2884" y="1273"/>
                </a:lnTo>
                <a:lnTo>
                  <a:pt x="2707" y="1463"/>
                </a:lnTo>
                <a:lnTo>
                  <a:pt x="3039" y="1632"/>
                </a:lnTo>
                <a:lnTo>
                  <a:pt x="3151" y="1873"/>
                </a:lnTo>
                <a:lnTo>
                  <a:pt x="3590" y="2135"/>
                </a:lnTo>
                <a:lnTo>
                  <a:pt x="3302" y="2256"/>
                </a:lnTo>
                <a:lnTo>
                  <a:pt x="2361" y="2256"/>
                </a:lnTo>
                <a:lnTo>
                  <a:pt x="1257" y="2256"/>
                </a:lnTo>
                <a:lnTo>
                  <a:pt x="1257" y="1753"/>
                </a:lnTo>
                <a:lnTo>
                  <a:pt x="0" y="1753"/>
                </a:lnTo>
                <a:lnTo>
                  <a:pt x="1257" y="1753"/>
                </a:lnTo>
                <a:lnTo>
                  <a:pt x="0" y="1753"/>
                </a:lnTo>
                <a:lnTo>
                  <a:pt x="0" y="1753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12"/>
          <p:cNvSpPr/>
          <p:nvPr/>
        </p:nvSpPr>
        <p:spPr>
          <a:xfrm>
            <a:off x="2654280" y="878040"/>
            <a:ext cx="2531880" cy="894960"/>
          </a:xfrm>
          <a:custGeom>
            <a:avLst/>
            <a:gdLst>
              <a:gd name="textAreaLeft" fmla="*/ 0 w 2531880"/>
              <a:gd name="textAreaRight" fmla="*/ 2532240 w 2531880"/>
              <a:gd name="textAreaTop" fmla="*/ 0 h 894960"/>
              <a:gd name="textAreaBottom" fmla="*/ 895320 h 894960"/>
            </a:gdLst>
            <a:ahLst/>
            <a:rect l="textAreaLeft" t="textAreaTop" r="textAreaRight" b="textAreaBottom"/>
            <a:pathLst>
              <a:path w="3590" h="2256">
                <a:moveTo>
                  <a:pt x="0" y="1753"/>
                </a:moveTo>
                <a:lnTo>
                  <a:pt x="0" y="479"/>
                </a:lnTo>
                <a:lnTo>
                  <a:pt x="244" y="214"/>
                </a:lnTo>
                <a:lnTo>
                  <a:pt x="251" y="0"/>
                </a:lnTo>
                <a:lnTo>
                  <a:pt x="2729" y="0"/>
                </a:lnTo>
                <a:lnTo>
                  <a:pt x="2751" y="742"/>
                </a:lnTo>
                <a:lnTo>
                  <a:pt x="2884" y="1273"/>
                </a:lnTo>
                <a:lnTo>
                  <a:pt x="2707" y="1463"/>
                </a:lnTo>
                <a:lnTo>
                  <a:pt x="3039" y="1632"/>
                </a:lnTo>
                <a:lnTo>
                  <a:pt x="3151" y="1873"/>
                </a:lnTo>
                <a:lnTo>
                  <a:pt x="3590" y="2135"/>
                </a:lnTo>
                <a:lnTo>
                  <a:pt x="3302" y="2256"/>
                </a:lnTo>
                <a:lnTo>
                  <a:pt x="2361" y="2256"/>
                </a:lnTo>
                <a:lnTo>
                  <a:pt x="1257" y="2256"/>
                </a:lnTo>
                <a:lnTo>
                  <a:pt x="1257" y="1753"/>
                </a:lnTo>
                <a:lnTo>
                  <a:pt x="0" y="1753"/>
                </a:lnTo>
                <a:lnTo>
                  <a:pt x="1257" y="1753"/>
                </a:lnTo>
                <a:lnTo>
                  <a:pt x="0" y="1753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13"/>
          <p:cNvSpPr/>
          <p:nvPr/>
        </p:nvSpPr>
        <p:spPr>
          <a:xfrm>
            <a:off x="4559400" y="878040"/>
            <a:ext cx="950400" cy="847440"/>
          </a:xfrm>
          <a:custGeom>
            <a:avLst/>
            <a:gdLst>
              <a:gd name="textAreaLeft" fmla="*/ 0 w 950400"/>
              <a:gd name="textAreaRight" fmla="*/ 950760 w 950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346" h="2135">
                <a:moveTo>
                  <a:pt x="1346" y="0"/>
                </a:moveTo>
                <a:lnTo>
                  <a:pt x="1346" y="503"/>
                </a:lnTo>
                <a:lnTo>
                  <a:pt x="1125" y="503"/>
                </a:lnTo>
                <a:lnTo>
                  <a:pt x="1125" y="839"/>
                </a:lnTo>
                <a:lnTo>
                  <a:pt x="1237" y="960"/>
                </a:lnTo>
                <a:lnTo>
                  <a:pt x="1191" y="1127"/>
                </a:lnTo>
                <a:lnTo>
                  <a:pt x="1237" y="1273"/>
                </a:lnTo>
                <a:lnTo>
                  <a:pt x="1237" y="1559"/>
                </a:lnTo>
                <a:lnTo>
                  <a:pt x="1125" y="1825"/>
                </a:lnTo>
                <a:lnTo>
                  <a:pt x="883" y="2135"/>
                </a:lnTo>
                <a:lnTo>
                  <a:pt x="444" y="1873"/>
                </a:lnTo>
                <a:lnTo>
                  <a:pt x="333" y="1632"/>
                </a:lnTo>
                <a:lnTo>
                  <a:pt x="0" y="1463"/>
                </a:lnTo>
                <a:lnTo>
                  <a:pt x="178" y="1273"/>
                </a:lnTo>
                <a:lnTo>
                  <a:pt x="45" y="742"/>
                </a:lnTo>
                <a:lnTo>
                  <a:pt x="22" y="0"/>
                </a:lnTo>
                <a:lnTo>
                  <a:pt x="1346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14"/>
          <p:cNvSpPr/>
          <p:nvPr/>
        </p:nvSpPr>
        <p:spPr>
          <a:xfrm>
            <a:off x="4559400" y="878040"/>
            <a:ext cx="950400" cy="847440"/>
          </a:xfrm>
          <a:custGeom>
            <a:avLst/>
            <a:gdLst>
              <a:gd name="textAreaLeft" fmla="*/ 0 w 950400"/>
              <a:gd name="textAreaRight" fmla="*/ 950760 w 950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346" h="2135">
                <a:moveTo>
                  <a:pt x="1346" y="0"/>
                </a:moveTo>
                <a:lnTo>
                  <a:pt x="1346" y="503"/>
                </a:lnTo>
                <a:lnTo>
                  <a:pt x="1125" y="503"/>
                </a:lnTo>
                <a:lnTo>
                  <a:pt x="1125" y="839"/>
                </a:lnTo>
                <a:lnTo>
                  <a:pt x="1237" y="960"/>
                </a:lnTo>
                <a:lnTo>
                  <a:pt x="1191" y="1127"/>
                </a:lnTo>
                <a:lnTo>
                  <a:pt x="1237" y="1273"/>
                </a:lnTo>
                <a:lnTo>
                  <a:pt x="1237" y="1559"/>
                </a:lnTo>
                <a:lnTo>
                  <a:pt x="1125" y="1825"/>
                </a:lnTo>
                <a:lnTo>
                  <a:pt x="883" y="2135"/>
                </a:lnTo>
                <a:lnTo>
                  <a:pt x="444" y="1873"/>
                </a:lnTo>
                <a:lnTo>
                  <a:pt x="333" y="1632"/>
                </a:lnTo>
                <a:lnTo>
                  <a:pt x="0" y="1463"/>
                </a:lnTo>
                <a:lnTo>
                  <a:pt x="178" y="1273"/>
                </a:lnTo>
                <a:lnTo>
                  <a:pt x="45" y="742"/>
                </a:lnTo>
                <a:lnTo>
                  <a:pt x="22" y="0"/>
                </a:lnTo>
                <a:lnTo>
                  <a:pt x="1346" y="0"/>
                </a:lnTo>
                <a:lnTo>
                  <a:pt x="1346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5"/>
          <p:cNvSpPr/>
          <p:nvPr/>
        </p:nvSpPr>
        <p:spPr>
          <a:xfrm>
            <a:off x="4559400" y="878040"/>
            <a:ext cx="950400" cy="847440"/>
          </a:xfrm>
          <a:custGeom>
            <a:avLst/>
            <a:gdLst>
              <a:gd name="textAreaLeft" fmla="*/ 0 w 950400"/>
              <a:gd name="textAreaRight" fmla="*/ 950760 w 950400"/>
              <a:gd name="textAreaTop" fmla="*/ 0 h 847440"/>
              <a:gd name="textAreaBottom" fmla="*/ 847800 h 847440"/>
            </a:gdLst>
            <a:ahLst/>
            <a:rect l="textAreaLeft" t="textAreaTop" r="textAreaRight" b="textAreaBottom"/>
            <a:pathLst>
              <a:path w="1346" h="2135">
                <a:moveTo>
                  <a:pt x="1346" y="0"/>
                </a:moveTo>
                <a:lnTo>
                  <a:pt x="1346" y="503"/>
                </a:lnTo>
                <a:lnTo>
                  <a:pt x="1125" y="503"/>
                </a:lnTo>
                <a:lnTo>
                  <a:pt x="1125" y="839"/>
                </a:lnTo>
                <a:lnTo>
                  <a:pt x="1237" y="960"/>
                </a:lnTo>
                <a:lnTo>
                  <a:pt x="1191" y="1127"/>
                </a:lnTo>
                <a:lnTo>
                  <a:pt x="1237" y="1273"/>
                </a:lnTo>
                <a:lnTo>
                  <a:pt x="1237" y="1559"/>
                </a:lnTo>
                <a:lnTo>
                  <a:pt x="1125" y="1825"/>
                </a:lnTo>
                <a:lnTo>
                  <a:pt x="883" y="2135"/>
                </a:lnTo>
                <a:lnTo>
                  <a:pt x="444" y="1873"/>
                </a:lnTo>
                <a:lnTo>
                  <a:pt x="333" y="1632"/>
                </a:lnTo>
                <a:lnTo>
                  <a:pt x="0" y="1463"/>
                </a:lnTo>
                <a:lnTo>
                  <a:pt x="178" y="1273"/>
                </a:lnTo>
                <a:lnTo>
                  <a:pt x="45" y="742"/>
                </a:lnTo>
                <a:lnTo>
                  <a:pt x="22" y="0"/>
                </a:lnTo>
                <a:lnTo>
                  <a:pt x="1346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Freeform 16"/>
          <p:cNvSpPr/>
          <p:nvPr/>
        </p:nvSpPr>
        <p:spPr>
          <a:xfrm>
            <a:off x="5353200" y="878040"/>
            <a:ext cx="1696680" cy="620280"/>
          </a:xfrm>
          <a:custGeom>
            <a:avLst/>
            <a:gdLst>
              <a:gd name="textAreaLeft" fmla="*/ 0 w 1696680"/>
              <a:gd name="textAreaRight" fmla="*/ 1697040 w 1696680"/>
              <a:gd name="textAreaTop" fmla="*/ 0 h 620280"/>
              <a:gd name="textAreaBottom" fmla="*/ 620640 h 620280"/>
            </a:gdLst>
            <a:ahLst/>
            <a:rect l="textAreaLeft" t="textAreaTop" r="textAreaRight" b="textAreaBottom"/>
            <a:pathLst>
              <a:path w="2406" h="1563">
                <a:moveTo>
                  <a:pt x="221" y="0"/>
                </a:moveTo>
                <a:lnTo>
                  <a:pt x="221" y="503"/>
                </a:lnTo>
                <a:lnTo>
                  <a:pt x="0" y="503"/>
                </a:lnTo>
                <a:lnTo>
                  <a:pt x="0" y="841"/>
                </a:lnTo>
                <a:lnTo>
                  <a:pt x="112" y="960"/>
                </a:lnTo>
                <a:lnTo>
                  <a:pt x="66" y="1127"/>
                </a:lnTo>
                <a:lnTo>
                  <a:pt x="112" y="1273"/>
                </a:lnTo>
                <a:lnTo>
                  <a:pt x="112" y="1563"/>
                </a:lnTo>
                <a:lnTo>
                  <a:pt x="1870" y="1559"/>
                </a:lnTo>
                <a:lnTo>
                  <a:pt x="2406" y="1559"/>
                </a:lnTo>
                <a:lnTo>
                  <a:pt x="2406" y="0"/>
                </a:lnTo>
                <a:lnTo>
                  <a:pt x="221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17"/>
          <p:cNvSpPr/>
          <p:nvPr/>
        </p:nvSpPr>
        <p:spPr>
          <a:xfrm>
            <a:off x="4979880" y="1495440"/>
            <a:ext cx="1726920" cy="45684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456840"/>
              <a:gd name="textAreaBottom" fmla="*/ 457200 h 456840"/>
            </a:gdLst>
            <a:ahLst/>
            <a:rect l="textAreaLeft" t="textAreaTop" r="textAreaRight" b="textAreaBottom"/>
            <a:pathLst>
              <a:path w="2449" h="1152">
                <a:moveTo>
                  <a:pt x="287" y="576"/>
                </a:moveTo>
                <a:lnTo>
                  <a:pt x="0" y="697"/>
                </a:lnTo>
                <a:lnTo>
                  <a:pt x="0" y="914"/>
                </a:lnTo>
                <a:lnTo>
                  <a:pt x="714" y="914"/>
                </a:lnTo>
                <a:lnTo>
                  <a:pt x="1155" y="1152"/>
                </a:lnTo>
                <a:lnTo>
                  <a:pt x="1243" y="986"/>
                </a:lnTo>
                <a:lnTo>
                  <a:pt x="2449" y="986"/>
                </a:lnTo>
                <a:lnTo>
                  <a:pt x="2391" y="0"/>
                </a:lnTo>
                <a:lnTo>
                  <a:pt x="637" y="3"/>
                </a:lnTo>
                <a:lnTo>
                  <a:pt x="529" y="265"/>
                </a:lnTo>
                <a:lnTo>
                  <a:pt x="287" y="576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18"/>
          <p:cNvSpPr/>
          <p:nvPr/>
        </p:nvSpPr>
        <p:spPr>
          <a:xfrm>
            <a:off x="7050240" y="878040"/>
            <a:ext cx="1428480" cy="103932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2027" h="2618">
                <a:moveTo>
                  <a:pt x="1851" y="2618"/>
                </a:moveTo>
                <a:lnTo>
                  <a:pt x="1080" y="2618"/>
                </a:lnTo>
                <a:lnTo>
                  <a:pt x="1080" y="1849"/>
                </a:lnTo>
                <a:lnTo>
                  <a:pt x="333" y="1849"/>
                </a:lnTo>
                <a:lnTo>
                  <a:pt x="333" y="1655"/>
                </a:lnTo>
                <a:lnTo>
                  <a:pt x="0" y="1655"/>
                </a:lnTo>
                <a:lnTo>
                  <a:pt x="0" y="1558"/>
                </a:lnTo>
                <a:lnTo>
                  <a:pt x="0" y="0"/>
                </a:lnTo>
                <a:lnTo>
                  <a:pt x="2027" y="0"/>
                </a:lnTo>
                <a:lnTo>
                  <a:pt x="2027" y="1301"/>
                </a:lnTo>
                <a:lnTo>
                  <a:pt x="1851" y="1301"/>
                </a:lnTo>
                <a:lnTo>
                  <a:pt x="1851" y="2618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19"/>
          <p:cNvSpPr/>
          <p:nvPr/>
        </p:nvSpPr>
        <p:spPr>
          <a:xfrm>
            <a:off x="7050240" y="878040"/>
            <a:ext cx="1428480" cy="103932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2027" h="2618">
                <a:moveTo>
                  <a:pt x="1851" y="2618"/>
                </a:moveTo>
                <a:lnTo>
                  <a:pt x="1080" y="2618"/>
                </a:lnTo>
                <a:lnTo>
                  <a:pt x="1080" y="1849"/>
                </a:lnTo>
                <a:lnTo>
                  <a:pt x="333" y="1849"/>
                </a:lnTo>
                <a:lnTo>
                  <a:pt x="333" y="1655"/>
                </a:lnTo>
                <a:lnTo>
                  <a:pt x="0" y="1655"/>
                </a:lnTo>
                <a:lnTo>
                  <a:pt x="0" y="1558"/>
                </a:lnTo>
                <a:lnTo>
                  <a:pt x="0" y="0"/>
                </a:lnTo>
                <a:lnTo>
                  <a:pt x="2027" y="0"/>
                </a:lnTo>
                <a:lnTo>
                  <a:pt x="2027" y="1301"/>
                </a:lnTo>
                <a:lnTo>
                  <a:pt x="1851" y="1301"/>
                </a:lnTo>
                <a:lnTo>
                  <a:pt x="1851" y="2618"/>
                </a:lnTo>
                <a:lnTo>
                  <a:pt x="1851" y="2618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20"/>
          <p:cNvSpPr/>
          <p:nvPr/>
        </p:nvSpPr>
        <p:spPr>
          <a:xfrm>
            <a:off x="7050240" y="878040"/>
            <a:ext cx="1428480" cy="103932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2027" h="2618">
                <a:moveTo>
                  <a:pt x="1851" y="2618"/>
                </a:moveTo>
                <a:lnTo>
                  <a:pt x="1080" y="2618"/>
                </a:lnTo>
                <a:lnTo>
                  <a:pt x="1080" y="1849"/>
                </a:lnTo>
                <a:lnTo>
                  <a:pt x="333" y="1849"/>
                </a:lnTo>
                <a:lnTo>
                  <a:pt x="333" y="1655"/>
                </a:lnTo>
                <a:lnTo>
                  <a:pt x="0" y="1655"/>
                </a:lnTo>
                <a:lnTo>
                  <a:pt x="0" y="1558"/>
                </a:lnTo>
                <a:lnTo>
                  <a:pt x="0" y="0"/>
                </a:lnTo>
                <a:lnTo>
                  <a:pt x="2027" y="0"/>
                </a:lnTo>
                <a:lnTo>
                  <a:pt x="2027" y="1301"/>
                </a:lnTo>
                <a:lnTo>
                  <a:pt x="1851" y="1301"/>
                </a:lnTo>
                <a:lnTo>
                  <a:pt x="1851" y="2618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21"/>
          <p:cNvSpPr/>
          <p:nvPr/>
        </p:nvSpPr>
        <p:spPr>
          <a:xfrm>
            <a:off x="6667560" y="1495440"/>
            <a:ext cx="1144080" cy="685440"/>
          </a:xfrm>
          <a:custGeom>
            <a:avLst/>
            <a:gdLst>
              <a:gd name="textAreaLeft" fmla="*/ 0 w 1144080"/>
              <a:gd name="textAreaRight" fmla="*/ 1144440 w 114408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1623" h="1728">
                <a:moveTo>
                  <a:pt x="1250" y="1728"/>
                </a:moveTo>
                <a:lnTo>
                  <a:pt x="1117" y="1728"/>
                </a:lnTo>
                <a:lnTo>
                  <a:pt x="610" y="890"/>
                </a:lnTo>
                <a:lnTo>
                  <a:pt x="543" y="986"/>
                </a:lnTo>
                <a:lnTo>
                  <a:pt x="57" y="986"/>
                </a:lnTo>
                <a:lnTo>
                  <a:pt x="0" y="0"/>
                </a:lnTo>
                <a:lnTo>
                  <a:pt x="543" y="0"/>
                </a:lnTo>
                <a:lnTo>
                  <a:pt x="543" y="96"/>
                </a:lnTo>
                <a:lnTo>
                  <a:pt x="876" y="96"/>
                </a:lnTo>
                <a:lnTo>
                  <a:pt x="876" y="290"/>
                </a:lnTo>
                <a:lnTo>
                  <a:pt x="1623" y="290"/>
                </a:lnTo>
                <a:lnTo>
                  <a:pt x="1623" y="1728"/>
                </a:lnTo>
                <a:lnTo>
                  <a:pt x="1250" y="1728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22"/>
          <p:cNvSpPr/>
          <p:nvPr/>
        </p:nvSpPr>
        <p:spPr>
          <a:xfrm>
            <a:off x="4140360" y="1803240"/>
            <a:ext cx="280800" cy="169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397" h="425">
                <a:moveTo>
                  <a:pt x="375" y="425"/>
                </a:moveTo>
                <a:lnTo>
                  <a:pt x="241" y="425"/>
                </a:lnTo>
                <a:lnTo>
                  <a:pt x="153" y="353"/>
                </a:lnTo>
                <a:lnTo>
                  <a:pt x="0" y="330"/>
                </a:lnTo>
                <a:lnTo>
                  <a:pt x="0" y="67"/>
                </a:lnTo>
                <a:lnTo>
                  <a:pt x="59" y="0"/>
                </a:lnTo>
                <a:lnTo>
                  <a:pt x="267" y="2"/>
                </a:lnTo>
                <a:lnTo>
                  <a:pt x="265" y="183"/>
                </a:lnTo>
                <a:lnTo>
                  <a:pt x="397" y="330"/>
                </a:lnTo>
                <a:lnTo>
                  <a:pt x="375" y="425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23"/>
          <p:cNvSpPr/>
          <p:nvPr/>
        </p:nvSpPr>
        <p:spPr>
          <a:xfrm>
            <a:off x="4140360" y="1803240"/>
            <a:ext cx="280800" cy="169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397" h="425">
                <a:moveTo>
                  <a:pt x="375" y="425"/>
                </a:moveTo>
                <a:lnTo>
                  <a:pt x="241" y="425"/>
                </a:lnTo>
                <a:lnTo>
                  <a:pt x="153" y="353"/>
                </a:lnTo>
                <a:lnTo>
                  <a:pt x="0" y="330"/>
                </a:lnTo>
                <a:lnTo>
                  <a:pt x="0" y="67"/>
                </a:lnTo>
                <a:lnTo>
                  <a:pt x="59" y="0"/>
                </a:lnTo>
                <a:lnTo>
                  <a:pt x="267" y="2"/>
                </a:lnTo>
                <a:lnTo>
                  <a:pt x="265" y="183"/>
                </a:lnTo>
                <a:lnTo>
                  <a:pt x="397" y="330"/>
                </a:lnTo>
                <a:lnTo>
                  <a:pt x="375" y="425"/>
                </a:lnTo>
                <a:lnTo>
                  <a:pt x="375" y="425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reeform 24"/>
          <p:cNvSpPr/>
          <p:nvPr/>
        </p:nvSpPr>
        <p:spPr>
          <a:xfrm>
            <a:off x="4140360" y="1803240"/>
            <a:ext cx="280800" cy="169560"/>
          </a:xfrm>
          <a:custGeom>
            <a:avLst/>
            <a:gdLst>
              <a:gd name="textAreaLeft" fmla="*/ 0 w 280800"/>
              <a:gd name="textAreaRight" fmla="*/ 281160 w 280800"/>
              <a:gd name="textAreaTop" fmla="*/ 0 h 169560"/>
              <a:gd name="textAreaBottom" fmla="*/ 169920 h 169560"/>
            </a:gdLst>
            <a:ahLst/>
            <a:rect l="textAreaLeft" t="textAreaTop" r="textAreaRight" b="textAreaBottom"/>
            <a:pathLst>
              <a:path w="397" h="425">
                <a:moveTo>
                  <a:pt x="375" y="425"/>
                </a:moveTo>
                <a:lnTo>
                  <a:pt x="241" y="425"/>
                </a:lnTo>
                <a:lnTo>
                  <a:pt x="153" y="353"/>
                </a:lnTo>
                <a:lnTo>
                  <a:pt x="0" y="330"/>
                </a:lnTo>
                <a:lnTo>
                  <a:pt x="0" y="67"/>
                </a:lnTo>
                <a:lnTo>
                  <a:pt x="59" y="0"/>
                </a:lnTo>
                <a:lnTo>
                  <a:pt x="267" y="2"/>
                </a:lnTo>
                <a:lnTo>
                  <a:pt x="265" y="183"/>
                </a:lnTo>
                <a:lnTo>
                  <a:pt x="397" y="330"/>
                </a:lnTo>
                <a:lnTo>
                  <a:pt x="375" y="425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25"/>
          <p:cNvSpPr/>
          <p:nvPr/>
        </p:nvSpPr>
        <p:spPr>
          <a:xfrm>
            <a:off x="2652840" y="1573200"/>
            <a:ext cx="1755360" cy="885600"/>
          </a:xfrm>
          <a:custGeom>
            <a:avLst/>
            <a:gdLst>
              <a:gd name="textAreaLeft" fmla="*/ 0 w 1755360"/>
              <a:gd name="textAreaRight" fmla="*/ 1755720 w 17553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488" h="2231">
                <a:moveTo>
                  <a:pt x="0" y="0"/>
                </a:moveTo>
                <a:lnTo>
                  <a:pt x="0" y="527"/>
                </a:lnTo>
                <a:lnTo>
                  <a:pt x="545" y="527"/>
                </a:lnTo>
                <a:lnTo>
                  <a:pt x="545" y="2066"/>
                </a:lnTo>
                <a:lnTo>
                  <a:pt x="674" y="2140"/>
                </a:lnTo>
                <a:lnTo>
                  <a:pt x="789" y="2231"/>
                </a:lnTo>
                <a:lnTo>
                  <a:pt x="2488" y="2231"/>
                </a:lnTo>
                <a:lnTo>
                  <a:pt x="2488" y="1006"/>
                </a:lnTo>
                <a:lnTo>
                  <a:pt x="2352" y="1006"/>
                </a:lnTo>
                <a:lnTo>
                  <a:pt x="2262" y="935"/>
                </a:lnTo>
                <a:lnTo>
                  <a:pt x="2109" y="911"/>
                </a:lnTo>
                <a:lnTo>
                  <a:pt x="2109" y="649"/>
                </a:lnTo>
                <a:lnTo>
                  <a:pt x="2169" y="580"/>
                </a:lnTo>
                <a:lnTo>
                  <a:pt x="2378" y="584"/>
                </a:lnTo>
                <a:lnTo>
                  <a:pt x="2378" y="503"/>
                </a:lnTo>
                <a:lnTo>
                  <a:pt x="1258" y="503"/>
                </a:lnTo>
                <a:lnTo>
                  <a:pt x="125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26"/>
          <p:cNvSpPr/>
          <p:nvPr/>
        </p:nvSpPr>
        <p:spPr>
          <a:xfrm>
            <a:off x="2652840" y="1573200"/>
            <a:ext cx="1755360" cy="885600"/>
          </a:xfrm>
          <a:custGeom>
            <a:avLst/>
            <a:gdLst>
              <a:gd name="textAreaLeft" fmla="*/ 0 w 1755360"/>
              <a:gd name="textAreaRight" fmla="*/ 1755720 w 17553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488" h="2231">
                <a:moveTo>
                  <a:pt x="0" y="0"/>
                </a:moveTo>
                <a:lnTo>
                  <a:pt x="0" y="527"/>
                </a:lnTo>
                <a:lnTo>
                  <a:pt x="545" y="527"/>
                </a:lnTo>
                <a:lnTo>
                  <a:pt x="545" y="2066"/>
                </a:lnTo>
                <a:lnTo>
                  <a:pt x="674" y="2140"/>
                </a:lnTo>
                <a:lnTo>
                  <a:pt x="789" y="2231"/>
                </a:lnTo>
                <a:lnTo>
                  <a:pt x="2488" y="2231"/>
                </a:lnTo>
                <a:lnTo>
                  <a:pt x="2488" y="1006"/>
                </a:lnTo>
                <a:lnTo>
                  <a:pt x="2352" y="1006"/>
                </a:lnTo>
                <a:lnTo>
                  <a:pt x="2262" y="935"/>
                </a:lnTo>
                <a:lnTo>
                  <a:pt x="2109" y="911"/>
                </a:lnTo>
                <a:lnTo>
                  <a:pt x="2109" y="649"/>
                </a:lnTo>
                <a:lnTo>
                  <a:pt x="2169" y="580"/>
                </a:lnTo>
                <a:lnTo>
                  <a:pt x="2378" y="584"/>
                </a:lnTo>
                <a:lnTo>
                  <a:pt x="2378" y="503"/>
                </a:lnTo>
                <a:lnTo>
                  <a:pt x="1258" y="503"/>
                </a:lnTo>
                <a:lnTo>
                  <a:pt x="125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27"/>
          <p:cNvSpPr/>
          <p:nvPr/>
        </p:nvSpPr>
        <p:spPr>
          <a:xfrm>
            <a:off x="2652840" y="1573200"/>
            <a:ext cx="383760" cy="820440"/>
          </a:xfrm>
          <a:custGeom>
            <a:avLst/>
            <a:gdLst>
              <a:gd name="textAreaLeft" fmla="*/ 0 w 383760"/>
              <a:gd name="textAreaRight" fmla="*/ 384120 w 383760"/>
              <a:gd name="textAreaTop" fmla="*/ 0 h 820440"/>
              <a:gd name="textAreaBottom" fmla="*/ 820800 h 820440"/>
            </a:gdLst>
            <a:ahLst/>
            <a:rect l="textAreaLeft" t="textAreaTop" r="textAreaRight" b="textAreaBottom"/>
            <a:pathLst>
              <a:path w="546" h="2065">
                <a:moveTo>
                  <a:pt x="0" y="0"/>
                </a:moveTo>
                <a:lnTo>
                  <a:pt x="0" y="526"/>
                </a:lnTo>
                <a:lnTo>
                  <a:pt x="546" y="526"/>
                </a:lnTo>
                <a:lnTo>
                  <a:pt x="546" y="2065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28"/>
          <p:cNvSpPr/>
          <p:nvPr/>
        </p:nvSpPr>
        <p:spPr>
          <a:xfrm>
            <a:off x="3036960" y="2392200"/>
            <a:ext cx="91800" cy="29880"/>
          </a:xfrm>
          <a:custGeom>
            <a:avLst/>
            <a:gdLst>
              <a:gd name="textAreaLeft" fmla="*/ 0 w 91800"/>
              <a:gd name="textAreaRight" fmla="*/ 92160 w 918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128" h="74">
                <a:moveTo>
                  <a:pt x="0" y="0"/>
                </a:moveTo>
                <a:lnTo>
                  <a:pt x="73" y="42"/>
                </a:lnTo>
                <a:lnTo>
                  <a:pt x="128" y="74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29"/>
          <p:cNvSpPr/>
          <p:nvPr/>
        </p:nvSpPr>
        <p:spPr>
          <a:xfrm>
            <a:off x="2652840" y="1573200"/>
            <a:ext cx="1755360" cy="885600"/>
          </a:xfrm>
          <a:custGeom>
            <a:avLst/>
            <a:gdLst>
              <a:gd name="textAreaLeft" fmla="*/ 0 w 1755360"/>
              <a:gd name="textAreaRight" fmla="*/ 1755720 w 1755360"/>
              <a:gd name="textAreaTop" fmla="*/ 0 h 885600"/>
              <a:gd name="textAreaBottom" fmla="*/ 885960 h 885600"/>
            </a:gdLst>
            <a:ahLst/>
            <a:rect l="textAreaLeft" t="textAreaTop" r="textAreaRight" b="textAreaBottom"/>
            <a:pathLst>
              <a:path w="2488" h="2231">
                <a:moveTo>
                  <a:pt x="674" y="2140"/>
                </a:moveTo>
                <a:lnTo>
                  <a:pt x="789" y="2231"/>
                </a:lnTo>
                <a:lnTo>
                  <a:pt x="2488" y="2231"/>
                </a:lnTo>
                <a:lnTo>
                  <a:pt x="2488" y="1006"/>
                </a:lnTo>
                <a:lnTo>
                  <a:pt x="2352" y="1006"/>
                </a:lnTo>
                <a:lnTo>
                  <a:pt x="2262" y="935"/>
                </a:lnTo>
                <a:lnTo>
                  <a:pt x="2109" y="911"/>
                </a:lnTo>
                <a:lnTo>
                  <a:pt x="2109" y="649"/>
                </a:lnTo>
                <a:lnTo>
                  <a:pt x="2169" y="580"/>
                </a:lnTo>
                <a:lnTo>
                  <a:pt x="2378" y="584"/>
                </a:lnTo>
                <a:lnTo>
                  <a:pt x="2378" y="503"/>
                </a:lnTo>
                <a:lnTo>
                  <a:pt x="1258" y="503"/>
                </a:lnTo>
                <a:lnTo>
                  <a:pt x="1258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0"/>
          <p:cNvSpPr/>
          <p:nvPr/>
        </p:nvSpPr>
        <p:spPr>
          <a:xfrm>
            <a:off x="1015920" y="1771560"/>
            <a:ext cx="2084040" cy="94248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956" h="2378">
                <a:moveTo>
                  <a:pt x="0" y="0"/>
                </a:moveTo>
                <a:lnTo>
                  <a:pt x="2427" y="0"/>
                </a:lnTo>
                <a:lnTo>
                  <a:pt x="0" y="0"/>
                </a:lnTo>
                <a:lnTo>
                  <a:pt x="2427" y="0"/>
                </a:lnTo>
                <a:lnTo>
                  <a:pt x="2956" y="0"/>
                </a:lnTo>
                <a:lnTo>
                  <a:pt x="2956" y="1539"/>
                </a:lnTo>
                <a:lnTo>
                  <a:pt x="2494" y="1539"/>
                </a:lnTo>
                <a:lnTo>
                  <a:pt x="2427" y="1489"/>
                </a:lnTo>
                <a:lnTo>
                  <a:pt x="2271" y="1489"/>
                </a:lnTo>
                <a:lnTo>
                  <a:pt x="2271" y="1608"/>
                </a:lnTo>
                <a:lnTo>
                  <a:pt x="991" y="1608"/>
                </a:lnTo>
                <a:lnTo>
                  <a:pt x="991" y="2378"/>
                </a:lnTo>
                <a:lnTo>
                  <a:pt x="0" y="237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1"/>
          <p:cNvSpPr/>
          <p:nvPr/>
        </p:nvSpPr>
        <p:spPr>
          <a:xfrm>
            <a:off x="952560" y="1782720"/>
            <a:ext cx="2084040" cy="94248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956" h="2378">
                <a:moveTo>
                  <a:pt x="0" y="0"/>
                </a:moveTo>
                <a:lnTo>
                  <a:pt x="2427" y="0"/>
                </a:lnTo>
                <a:lnTo>
                  <a:pt x="0" y="0"/>
                </a:lnTo>
                <a:lnTo>
                  <a:pt x="2427" y="0"/>
                </a:lnTo>
                <a:lnTo>
                  <a:pt x="2956" y="0"/>
                </a:lnTo>
                <a:lnTo>
                  <a:pt x="2956" y="1539"/>
                </a:lnTo>
                <a:lnTo>
                  <a:pt x="2494" y="1539"/>
                </a:lnTo>
                <a:lnTo>
                  <a:pt x="2427" y="1489"/>
                </a:lnTo>
                <a:lnTo>
                  <a:pt x="2271" y="1489"/>
                </a:lnTo>
                <a:lnTo>
                  <a:pt x="2271" y="1608"/>
                </a:lnTo>
                <a:lnTo>
                  <a:pt x="991" y="1608"/>
                </a:lnTo>
                <a:lnTo>
                  <a:pt x="991" y="2378"/>
                </a:lnTo>
                <a:lnTo>
                  <a:pt x="0" y="237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2"/>
          <p:cNvSpPr/>
          <p:nvPr/>
        </p:nvSpPr>
        <p:spPr>
          <a:xfrm>
            <a:off x="914400" y="1771560"/>
            <a:ext cx="2084040" cy="942480"/>
          </a:xfrm>
          <a:custGeom>
            <a:avLst/>
            <a:gdLst>
              <a:gd name="textAreaLeft" fmla="*/ 0 w 2084040"/>
              <a:gd name="textAreaRight" fmla="*/ 2084400 w 2084040"/>
              <a:gd name="textAreaTop" fmla="*/ 0 h 942480"/>
              <a:gd name="textAreaBottom" fmla="*/ 942840 h 942480"/>
            </a:gdLst>
            <a:ahLst/>
            <a:rect l="textAreaLeft" t="textAreaTop" r="textAreaRight" b="textAreaBottom"/>
            <a:pathLst>
              <a:path w="2956" h="2378">
                <a:moveTo>
                  <a:pt x="0" y="0"/>
                </a:moveTo>
                <a:lnTo>
                  <a:pt x="2427" y="0"/>
                </a:lnTo>
                <a:lnTo>
                  <a:pt x="0" y="0"/>
                </a:lnTo>
                <a:lnTo>
                  <a:pt x="2427" y="0"/>
                </a:lnTo>
                <a:lnTo>
                  <a:pt x="2956" y="0"/>
                </a:lnTo>
                <a:lnTo>
                  <a:pt x="2956" y="1539"/>
                </a:lnTo>
                <a:lnTo>
                  <a:pt x="2494" y="1539"/>
                </a:lnTo>
                <a:lnTo>
                  <a:pt x="2427" y="1489"/>
                </a:lnTo>
                <a:lnTo>
                  <a:pt x="2271" y="1489"/>
                </a:lnTo>
                <a:lnTo>
                  <a:pt x="2271" y="1608"/>
                </a:lnTo>
                <a:lnTo>
                  <a:pt x="991" y="1608"/>
                </a:lnTo>
                <a:lnTo>
                  <a:pt x="991" y="2378"/>
                </a:lnTo>
                <a:lnTo>
                  <a:pt x="0" y="2378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3"/>
          <p:cNvSpPr/>
          <p:nvPr/>
        </p:nvSpPr>
        <p:spPr>
          <a:xfrm>
            <a:off x="3208320" y="2459160"/>
            <a:ext cx="1307880" cy="3330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1852" h="840">
                <a:moveTo>
                  <a:pt x="86" y="73"/>
                </a:moveTo>
                <a:lnTo>
                  <a:pt x="0" y="0"/>
                </a:lnTo>
                <a:lnTo>
                  <a:pt x="1699" y="0"/>
                </a:lnTo>
                <a:lnTo>
                  <a:pt x="1699" y="600"/>
                </a:lnTo>
                <a:lnTo>
                  <a:pt x="1852" y="600"/>
                </a:lnTo>
                <a:lnTo>
                  <a:pt x="1852" y="769"/>
                </a:lnTo>
                <a:lnTo>
                  <a:pt x="1432" y="769"/>
                </a:lnTo>
                <a:lnTo>
                  <a:pt x="1344" y="720"/>
                </a:lnTo>
                <a:lnTo>
                  <a:pt x="926" y="720"/>
                </a:lnTo>
                <a:lnTo>
                  <a:pt x="926" y="840"/>
                </a:lnTo>
                <a:lnTo>
                  <a:pt x="551" y="840"/>
                </a:lnTo>
                <a:lnTo>
                  <a:pt x="396" y="840"/>
                </a:lnTo>
                <a:lnTo>
                  <a:pt x="286" y="674"/>
                </a:lnTo>
                <a:lnTo>
                  <a:pt x="86" y="7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34"/>
          <p:cNvSpPr/>
          <p:nvPr/>
        </p:nvSpPr>
        <p:spPr>
          <a:xfrm>
            <a:off x="3208320" y="2459160"/>
            <a:ext cx="1307880" cy="3330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1852" h="840">
                <a:moveTo>
                  <a:pt x="86" y="73"/>
                </a:moveTo>
                <a:lnTo>
                  <a:pt x="0" y="0"/>
                </a:lnTo>
                <a:lnTo>
                  <a:pt x="1699" y="0"/>
                </a:lnTo>
                <a:lnTo>
                  <a:pt x="1699" y="600"/>
                </a:lnTo>
                <a:lnTo>
                  <a:pt x="1852" y="600"/>
                </a:lnTo>
                <a:lnTo>
                  <a:pt x="1852" y="769"/>
                </a:lnTo>
                <a:lnTo>
                  <a:pt x="1432" y="769"/>
                </a:lnTo>
                <a:lnTo>
                  <a:pt x="1344" y="720"/>
                </a:lnTo>
                <a:lnTo>
                  <a:pt x="926" y="720"/>
                </a:lnTo>
                <a:lnTo>
                  <a:pt x="926" y="840"/>
                </a:lnTo>
                <a:lnTo>
                  <a:pt x="551" y="840"/>
                </a:lnTo>
                <a:lnTo>
                  <a:pt x="396" y="840"/>
                </a:lnTo>
                <a:lnTo>
                  <a:pt x="286" y="674"/>
                </a:lnTo>
                <a:lnTo>
                  <a:pt x="86" y="73"/>
                </a:lnTo>
                <a:lnTo>
                  <a:pt x="86" y="73"/>
                </a:lnTo>
              </a:path>
            </a:pathLst>
          </a:custGeom>
          <a:noFill/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35"/>
          <p:cNvSpPr/>
          <p:nvPr/>
        </p:nvSpPr>
        <p:spPr>
          <a:xfrm>
            <a:off x="3251160" y="2457360"/>
            <a:ext cx="1307880" cy="333000"/>
          </a:xfrm>
          <a:custGeom>
            <a:avLst/>
            <a:gdLst>
              <a:gd name="textAreaLeft" fmla="*/ 0 w 1307880"/>
              <a:gd name="textAreaRight" fmla="*/ 1308240 w 130788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1852" h="840">
                <a:moveTo>
                  <a:pt x="86" y="73"/>
                </a:moveTo>
                <a:lnTo>
                  <a:pt x="0" y="0"/>
                </a:lnTo>
                <a:lnTo>
                  <a:pt x="1699" y="0"/>
                </a:lnTo>
                <a:lnTo>
                  <a:pt x="1699" y="600"/>
                </a:lnTo>
                <a:lnTo>
                  <a:pt x="1852" y="600"/>
                </a:lnTo>
                <a:lnTo>
                  <a:pt x="1852" y="769"/>
                </a:lnTo>
                <a:lnTo>
                  <a:pt x="1432" y="769"/>
                </a:lnTo>
                <a:lnTo>
                  <a:pt x="1344" y="720"/>
                </a:lnTo>
                <a:lnTo>
                  <a:pt x="926" y="720"/>
                </a:lnTo>
                <a:lnTo>
                  <a:pt x="926" y="840"/>
                </a:lnTo>
                <a:lnTo>
                  <a:pt x="551" y="840"/>
                </a:lnTo>
                <a:lnTo>
                  <a:pt x="396" y="840"/>
                </a:lnTo>
                <a:lnTo>
                  <a:pt x="286" y="674"/>
                </a:lnTo>
                <a:lnTo>
                  <a:pt x="86" y="73"/>
                </a:lnTo>
              </a:path>
            </a:pathLst>
          </a:cu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36"/>
          <p:cNvSpPr/>
          <p:nvPr/>
        </p:nvSpPr>
        <p:spPr>
          <a:xfrm>
            <a:off x="4979880" y="1846440"/>
            <a:ext cx="2568240" cy="77580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3641" h="1953">
                <a:moveTo>
                  <a:pt x="2867" y="1543"/>
                </a:moveTo>
                <a:lnTo>
                  <a:pt x="2867" y="1427"/>
                </a:lnTo>
                <a:lnTo>
                  <a:pt x="861" y="1427"/>
                </a:lnTo>
                <a:lnTo>
                  <a:pt x="861" y="1953"/>
                </a:lnTo>
                <a:lnTo>
                  <a:pt x="180" y="1953"/>
                </a:lnTo>
                <a:lnTo>
                  <a:pt x="180" y="535"/>
                </a:lnTo>
                <a:lnTo>
                  <a:pt x="0" y="247"/>
                </a:lnTo>
                <a:lnTo>
                  <a:pt x="0" y="32"/>
                </a:lnTo>
                <a:lnTo>
                  <a:pt x="714" y="32"/>
                </a:lnTo>
                <a:lnTo>
                  <a:pt x="1154" y="270"/>
                </a:lnTo>
                <a:lnTo>
                  <a:pt x="1243" y="108"/>
                </a:lnTo>
                <a:lnTo>
                  <a:pt x="2934" y="108"/>
                </a:lnTo>
                <a:lnTo>
                  <a:pt x="3003" y="0"/>
                </a:lnTo>
                <a:lnTo>
                  <a:pt x="3508" y="847"/>
                </a:lnTo>
                <a:lnTo>
                  <a:pt x="3641" y="847"/>
                </a:lnTo>
                <a:lnTo>
                  <a:pt x="3641" y="1234"/>
                </a:lnTo>
                <a:lnTo>
                  <a:pt x="3266" y="1234"/>
                </a:lnTo>
                <a:lnTo>
                  <a:pt x="2867" y="154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37"/>
          <p:cNvSpPr/>
          <p:nvPr/>
        </p:nvSpPr>
        <p:spPr>
          <a:xfrm>
            <a:off x="4979880" y="1846440"/>
            <a:ext cx="2568240" cy="77580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3641" h="1953">
                <a:moveTo>
                  <a:pt x="2867" y="1543"/>
                </a:moveTo>
                <a:lnTo>
                  <a:pt x="2867" y="1427"/>
                </a:lnTo>
                <a:lnTo>
                  <a:pt x="861" y="1427"/>
                </a:lnTo>
                <a:lnTo>
                  <a:pt x="861" y="1953"/>
                </a:lnTo>
                <a:lnTo>
                  <a:pt x="180" y="1953"/>
                </a:lnTo>
                <a:lnTo>
                  <a:pt x="180" y="535"/>
                </a:lnTo>
                <a:lnTo>
                  <a:pt x="0" y="247"/>
                </a:lnTo>
                <a:lnTo>
                  <a:pt x="0" y="32"/>
                </a:lnTo>
                <a:lnTo>
                  <a:pt x="714" y="32"/>
                </a:lnTo>
                <a:lnTo>
                  <a:pt x="1154" y="270"/>
                </a:lnTo>
                <a:lnTo>
                  <a:pt x="1243" y="108"/>
                </a:lnTo>
                <a:lnTo>
                  <a:pt x="2934" y="108"/>
                </a:lnTo>
                <a:lnTo>
                  <a:pt x="3003" y="0"/>
                </a:lnTo>
                <a:lnTo>
                  <a:pt x="3508" y="847"/>
                </a:lnTo>
                <a:lnTo>
                  <a:pt x="3641" y="847"/>
                </a:lnTo>
                <a:lnTo>
                  <a:pt x="3641" y="1234"/>
                </a:lnTo>
                <a:lnTo>
                  <a:pt x="3266" y="1234"/>
                </a:lnTo>
                <a:lnTo>
                  <a:pt x="2867" y="1543"/>
                </a:lnTo>
                <a:lnTo>
                  <a:pt x="2867" y="1543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38"/>
          <p:cNvSpPr/>
          <p:nvPr/>
        </p:nvSpPr>
        <p:spPr>
          <a:xfrm>
            <a:off x="4979880" y="1846440"/>
            <a:ext cx="2568240" cy="775800"/>
          </a:xfrm>
          <a:custGeom>
            <a:avLst/>
            <a:gdLst>
              <a:gd name="textAreaLeft" fmla="*/ 0 w 2568240"/>
              <a:gd name="textAreaRight" fmla="*/ 2568600 w 2568240"/>
              <a:gd name="textAreaTop" fmla="*/ 0 h 775800"/>
              <a:gd name="textAreaBottom" fmla="*/ 776160 h 775800"/>
            </a:gdLst>
            <a:ahLst/>
            <a:rect l="textAreaLeft" t="textAreaTop" r="textAreaRight" b="textAreaBottom"/>
            <a:pathLst>
              <a:path w="3641" h="1953">
                <a:moveTo>
                  <a:pt x="2867" y="1543"/>
                </a:moveTo>
                <a:lnTo>
                  <a:pt x="2867" y="1427"/>
                </a:lnTo>
                <a:lnTo>
                  <a:pt x="861" y="1427"/>
                </a:lnTo>
                <a:lnTo>
                  <a:pt x="861" y="1953"/>
                </a:lnTo>
                <a:lnTo>
                  <a:pt x="180" y="1953"/>
                </a:lnTo>
                <a:lnTo>
                  <a:pt x="180" y="535"/>
                </a:lnTo>
                <a:lnTo>
                  <a:pt x="0" y="247"/>
                </a:lnTo>
                <a:lnTo>
                  <a:pt x="0" y="32"/>
                </a:lnTo>
                <a:lnTo>
                  <a:pt x="714" y="32"/>
                </a:lnTo>
                <a:lnTo>
                  <a:pt x="1154" y="270"/>
                </a:lnTo>
                <a:lnTo>
                  <a:pt x="1243" y="108"/>
                </a:lnTo>
                <a:lnTo>
                  <a:pt x="2934" y="108"/>
                </a:lnTo>
                <a:lnTo>
                  <a:pt x="3003" y="0"/>
                </a:lnTo>
                <a:lnTo>
                  <a:pt x="3508" y="847"/>
                </a:lnTo>
                <a:lnTo>
                  <a:pt x="3641" y="847"/>
                </a:lnTo>
                <a:lnTo>
                  <a:pt x="3641" y="1234"/>
                </a:lnTo>
                <a:lnTo>
                  <a:pt x="3266" y="1234"/>
                </a:lnTo>
                <a:lnTo>
                  <a:pt x="2867" y="1543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39"/>
          <p:cNvSpPr/>
          <p:nvPr/>
        </p:nvSpPr>
        <p:spPr>
          <a:xfrm>
            <a:off x="7004160" y="1917720"/>
            <a:ext cx="1352160" cy="1017360"/>
          </a:xfrm>
          <a:custGeom>
            <a:avLst/>
            <a:gdLst>
              <a:gd name="textAreaLeft" fmla="*/ 0 w 1352160"/>
              <a:gd name="textAreaRight" fmla="*/ 1352520 w 135216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918" h="2566">
                <a:moveTo>
                  <a:pt x="1918" y="1703"/>
                </a:moveTo>
                <a:lnTo>
                  <a:pt x="1436" y="1703"/>
                </a:lnTo>
                <a:lnTo>
                  <a:pt x="1436" y="1942"/>
                </a:lnTo>
                <a:lnTo>
                  <a:pt x="1280" y="1942"/>
                </a:lnTo>
                <a:lnTo>
                  <a:pt x="1280" y="2135"/>
                </a:lnTo>
                <a:lnTo>
                  <a:pt x="1080" y="2135"/>
                </a:lnTo>
                <a:lnTo>
                  <a:pt x="1080" y="2401"/>
                </a:lnTo>
                <a:lnTo>
                  <a:pt x="751" y="2401"/>
                </a:lnTo>
                <a:lnTo>
                  <a:pt x="751" y="2566"/>
                </a:lnTo>
                <a:lnTo>
                  <a:pt x="0" y="2566"/>
                </a:lnTo>
                <a:lnTo>
                  <a:pt x="0" y="1365"/>
                </a:lnTo>
                <a:lnTo>
                  <a:pt x="399" y="1056"/>
                </a:lnTo>
                <a:lnTo>
                  <a:pt x="774" y="1056"/>
                </a:lnTo>
                <a:lnTo>
                  <a:pt x="774" y="669"/>
                </a:lnTo>
                <a:lnTo>
                  <a:pt x="1147" y="669"/>
                </a:lnTo>
                <a:lnTo>
                  <a:pt x="1147" y="0"/>
                </a:lnTo>
                <a:lnTo>
                  <a:pt x="1918" y="0"/>
                </a:lnTo>
                <a:lnTo>
                  <a:pt x="1918" y="1703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40"/>
          <p:cNvSpPr/>
          <p:nvPr/>
        </p:nvSpPr>
        <p:spPr>
          <a:xfrm>
            <a:off x="7004160" y="1917720"/>
            <a:ext cx="1352160" cy="1017360"/>
          </a:xfrm>
          <a:custGeom>
            <a:avLst/>
            <a:gdLst>
              <a:gd name="textAreaLeft" fmla="*/ 0 w 1352160"/>
              <a:gd name="textAreaRight" fmla="*/ 1352520 w 135216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918" h="2566">
                <a:moveTo>
                  <a:pt x="1918" y="1703"/>
                </a:moveTo>
                <a:lnTo>
                  <a:pt x="1436" y="1703"/>
                </a:lnTo>
                <a:lnTo>
                  <a:pt x="1436" y="1942"/>
                </a:lnTo>
                <a:lnTo>
                  <a:pt x="1280" y="1942"/>
                </a:lnTo>
                <a:lnTo>
                  <a:pt x="1280" y="2135"/>
                </a:lnTo>
                <a:lnTo>
                  <a:pt x="1080" y="2135"/>
                </a:lnTo>
                <a:lnTo>
                  <a:pt x="1080" y="2401"/>
                </a:lnTo>
                <a:lnTo>
                  <a:pt x="751" y="2401"/>
                </a:lnTo>
                <a:lnTo>
                  <a:pt x="751" y="2566"/>
                </a:lnTo>
                <a:lnTo>
                  <a:pt x="0" y="2566"/>
                </a:lnTo>
                <a:lnTo>
                  <a:pt x="0" y="1365"/>
                </a:lnTo>
                <a:lnTo>
                  <a:pt x="399" y="1056"/>
                </a:lnTo>
                <a:lnTo>
                  <a:pt x="774" y="1056"/>
                </a:lnTo>
                <a:lnTo>
                  <a:pt x="774" y="669"/>
                </a:lnTo>
                <a:lnTo>
                  <a:pt x="1147" y="669"/>
                </a:lnTo>
                <a:lnTo>
                  <a:pt x="1147" y="0"/>
                </a:lnTo>
                <a:lnTo>
                  <a:pt x="1918" y="0"/>
                </a:lnTo>
                <a:lnTo>
                  <a:pt x="1918" y="1703"/>
                </a:lnTo>
                <a:lnTo>
                  <a:pt x="1918" y="1703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41"/>
          <p:cNvSpPr/>
          <p:nvPr/>
        </p:nvSpPr>
        <p:spPr>
          <a:xfrm>
            <a:off x="7004160" y="1917720"/>
            <a:ext cx="1352160" cy="1017360"/>
          </a:xfrm>
          <a:custGeom>
            <a:avLst/>
            <a:gdLst>
              <a:gd name="textAreaLeft" fmla="*/ 0 w 1352160"/>
              <a:gd name="textAreaRight" fmla="*/ 1352520 w 135216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918" h="2566">
                <a:moveTo>
                  <a:pt x="1918" y="1703"/>
                </a:moveTo>
                <a:lnTo>
                  <a:pt x="1436" y="1703"/>
                </a:lnTo>
                <a:lnTo>
                  <a:pt x="1436" y="1942"/>
                </a:lnTo>
                <a:lnTo>
                  <a:pt x="1280" y="1942"/>
                </a:lnTo>
                <a:lnTo>
                  <a:pt x="1280" y="2135"/>
                </a:lnTo>
                <a:lnTo>
                  <a:pt x="1080" y="2135"/>
                </a:lnTo>
                <a:lnTo>
                  <a:pt x="1080" y="2401"/>
                </a:lnTo>
                <a:lnTo>
                  <a:pt x="751" y="2401"/>
                </a:lnTo>
                <a:lnTo>
                  <a:pt x="751" y="2566"/>
                </a:lnTo>
                <a:lnTo>
                  <a:pt x="0" y="2566"/>
                </a:lnTo>
                <a:lnTo>
                  <a:pt x="0" y="1365"/>
                </a:lnTo>
                <a:lnTo>
                  <a:pt x="399" y="1056"/>
                </a:lnTo>
                <a:lnTo>
                  <a:pt x="774" y="1056"/>
                </a:lnTo>
                <a:lnTo>
                  <a:pt x="774" y="669"/>
                </a:lnTo>
                <a:lnTo>
                  <a:pt x="1147" y="669"/>
                </a:lnTo>
                <a:lnTo>
                  <a:pt x="1147" y="0"/>
                </a:lnTo>
                <a:lnTo>
                  <a:pt x="1918" y="0"/>
                </a:lnTo>
                <a:lnTo>
                  <a:pt x="1918" y="1703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42"/>
          <p:cNvSpPr/>
          <p:nvPr/>
        </p:nvSpPr>
        <p:spPr>
          <a:xfrm>
            <a:off x="5587920" y="2411280"/>
            <a:ext cx="1417320" cy="801360"/>
          </a:xfrm>
          <a:custGeom>
            <a:avLst/>
            <a:gdLst>
              <a:gd name="textAreaLeft" fmla="*/ 0 w 1417320"/>
              <a:gd name="textAreaRight" fmla="*/ 1417680 w 14173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2009" h="2019">
                <a:moveTo>
                  <a:pt x="0" y="2019"/>
                </a:moveTo>
                <a:lnTo>
                  <a:pt x="792" y="2019"/>
                </a:lnTo>
                <a:lnTo>
                  <a:pt x="792" y="1467"/>
                </a:lnTo>
                <a:lnTo>
                  <a:pt x="1478" y="1467"/>
                </a:lnTo>
                <a:lnTo>
                  <a:pt x="1478" y="1181"/>
                </a:lnTo>
                <a:lnTo>
                  <a:pt x="1654" y="1181"/>
                </a:lnTo>
                <a:lnTo>
                  <a:pt x="1654" y="963"/>
                </a:lnTo>
                <a:lnTo>
                  <a:pt x="2009" y="963"/>
                </a:lnTo>
                <a:lnTo>
                  <a:pt x="2009" y="0"/>
                </a:lnTo>
                <a:lnTo>
                  <a:pt x="0" y="0"/>
                </a:lnTo>
                <a:lnTo>
                  <a:pt x="0" y="201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43"/>
          <p:cNvSpPr/>
          <p:nvPr/>
        </p:nvSpPr>
        <p:spPr>
          <a:xfrm>
            <a:off x="5587920" y="2411280"/>
            <a:ext cx="1417320" cy="801360"/>
          </a:xfrm>
          <a:custGeom>
            <a:avLst/>
            <a:gdLst>
              <a:gd name="textAreaLeft" fmla="*/ 0 w 1417320"/>
              <a:gd name="textAreaRight" fmla="*/ 1417680 w 14173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2009" h="2019">
                <a:moveTo>
                  <a:pt x="0" y="2019"/>
                </a:moveTo>
                <a:lnTo>
                  <a:pt x="792" y="2019"/>
                </a:lnTo>
                <a:lnTo>
                  <a:pt x="792" y="1467"/>
                </a:lnTo>
                <a:lnTo>
                  <a:pt x="1478" y="1467"/>
                </a:lnTo>
                <a:lnTo>
                  <a:pt x="1478" y="1181"/>
                </a:lnTo>
                <a:lnTo>
                  <a:pt x="1654" y="1181"/>
                </a:lnTo>
                <a:lnTo>
                  <a:pt x="1654" y="963"/>
                </a:lnTo>
                <a:lnTo>
                  <a:pt x="2009" y="963"/>
                </a:lnTo>
                <a:lnTo>
                  <a:pt x="2009" y="0"/>
                </a:lnTo>
                <a:lnTo>
                  <a:pt x="0" y="0"/>
                </a:lnTo>
                <a:lnTo>
                  <a:pt x="0" y="2019"/>
                </a:lnTo>
                <a:lnTo>
                  <a:pt x="0" y="201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44"/>
          <p:cNvSpPr/>
          <p:nvPr/>
        </p:nvSpPr>
        <p:spPr>
          <a:xfrm>
            <a:off x="5587920" y="2411280"/>
            <a:ext cx="1417320" cy="801360"/>
          </a:xfrm>
          <a:custGeom>
            <a:avLst/>
            <a:gdLst>
              <a:gd name="textAreaLeft" fmla="*/ 0 w 1417320"/>
              <a:gd name="textAreaRight" fmla="*/ 1417680 w 141732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2009" h="2019">
                <a:moveTo>
                  <a:pt x="0" y="2019"/>
                </a:moveTo>
                <a:lnTo>
                  <a:pt x="792" y="2019"/>
                </a:lnTo>
                <a:lnTo>
                  <a:pt x="792" y="1467"/>
                </a:lnTo>
                <a:lnTo>
                  <a:pt x="1478" y="1467"/>
                </a:lnTo>
                <a:lnTo>
                  <a:pt x="1478" y="1181"/>
                </a:lnTo>
                <a:lnTo>
                  <a:pt x="1654" y="1181"/>
                </a:lnTo>
                <a:lnTo>
                  <a:pt x="1654" y="963"/>
                </a:lnTo>
                <a:lnTo>
                  <a:pt x="2009" y="963"/>
                </a:lnTo>
                <a:lnTo>
                  <a:pt x="2009" y="0"/>
                </a:lnTo>
                <a:lnTo>
                  <a:pt x="0" y="0"/>
                </a:lnTo>
                <a:lnTo>
                  <a:pt x="0" y="201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45"/>
          <p:cNvSpPr/>
          <p:nvPr/>
        </p:nvSpPr>
        <p:spPr>
          <a:xfrm>
            <a:off x="4165560" y="2629080"/>
            <a:ext cx="1464840" cy="685440"/>
          </a:xfrm>
          <a:custGeom>
            <a:avLst/>
            <a:gdLst>
              <a:gd name="textAreaLeft" fmla="*/ 0 w 1464840"/>
              <a:gd name="textAreaRight" fmla="*/ 1465200 w 14648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2076" h="1728">
                <a:moveTo>
                  <a:pt x="111" y="359"/>
                </a:moveTo>
                <a:lnTo>
                  <a:pt x="111" y="912"/>
                </a:lnTo>
                <a:lnTo>
                  <a:pt x="0" y="912"/>
                </a:lnTo>
                <a:lnTo>
                  <a:pt x="0" y="1200"/>
                </a:lnTo>
                <a:lnTo>
                  <a:pt x="156" y="1200"/>
                </a:lnTo>
                <a:lnTo>
                  <a:pt x="156" y="1728"/>
                </a:lnTo>
                <a:lnTo>
                  <a:pt x="1040" y="1728"/>
                </a:lnTo>
                <a:lnTo>
                  <a:pt x="1040" y="1632"/>
                </a:lnTo>
                <a:lnTo>
                  <a:pt x="2076" y="1632"/>
                </a:lnTo>
                <a:lnTo>
                  <a:pt x="2076" y="0"/>
                </a:lnTo>
                <a:lnTo>
                  <a:pt x="400" y="0"/>
                </a:lnTo>
                <a:lnTo>
                  <a:pt x="400" y="190"/>
                </a:lnTo>
                <a:lnTo>
                  <a:pt x="552" y="190"/>
                </a:lnTo>
                <a:lnTo>
                  <a:pt x="552" y="359"/>
                </a:lnTo>
                <a:lnTo>
                  <a:pt x="111" y="35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46"/>
          <p:cNvSpPr/>
          <p:nvPr/>
        </p:nvSpPr>
        <p:spPr>
          <a:xfrm>
            <a:off x="4122720" y="2622600"/>
            <a:ext cx="1464840" cy="685440"/>
          </a:xfrm>
          <a:custGeom>
            <a:avLst/>
            <a:gdLst>
              <a:gd name="textAreaLeft" fmla="*/ 0 w 1464840"/>
              <a:gd name="textAreaRight" fmla="*/ 1465200 w 14648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2076" h="1728">
                <a:moveTo>
                  <a:pt x="111" y="359"/>
                </a:moveTo>
                <a:lnTo>
                  <a:pt x="111" y="912"/>
                </a:lnTo>
                <a:lnTo>
                  <a:pt x="0" y="912"/>
                </a:lnTo>
                <a:lnTo>
                  <a:pt x="0" y="1200"/>
                </a:lnTo>
                <a:lnTo>
                  <a:pt x="156" y="1200"/>
                </a:lnTo>
                <a:lnTo>
                  <a:pt x="156" y="1728"/>
                </a:lnTo>
                <a:lnTo>
                  <a:pt x="1040" y="1728"/>
                </a:lnTo>
                <a:lnTo>
                  <a:pt x="1040" y="1632"/>
                </a:lnTo>
                <a:lnTo>
                  <a:pt x="2076" y="1632"/>
                </a:lnTo>
                <a:lnTo>
                  <a:pt x="2076" y="0"/>
                </a:lnTo>
                <a:lnTo>
                  <a:pt x="400" y="0"/>
                </a:lnTo>
                <a:lnTo>
                  <a:pt x="400" y="190"/>
                </a:lnTo>
                <a:lnTo>
                  <a:pt x="552" y="190"/>
                </a:lnTo>
                <a:lnTo>
                  <a:pt x="552" y="359"/>
                </a:lnTo>
                <a:lnTo>
                  <a:pt x="111" y="359"/>
                </a:lnTo>
                <a:lnTo>
                  <a:pt x="111" y="35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7"/>
          <p:cNvSpPr/>
          <p:nvPr/>
        </p:nvSpPr>
        <p:spPr>
          <a:xfrm>
            <a:off x="4122720" y="2622600"/>
            <a:ext cx="1464840" cy="685440"/>
          </a:xfrm>
          <a:custGeom>
            <a:avLst/>
            <a:gdLst>
              <a:gd name="textAreaLeft" fmla="*/ 0 w 1464840"/>
              <a:gd name="textAreaRight" fmla="*/ 1465200 w 1464840"/>
              <a:gd name="textAreaTop" fmla="*/ 0 h 685440"/>
              <a:gd name="textAreaBottom" fmla="*/ 685800 h 685440"/>
            </a:gdLst>
            <a:ahLst/>
            <a:rect l="textAreaLeft" t="textAreaTop" r="textAreaRight" b="textAreaBottom"/>
            <a:pathLst>
              <a:path w="2076" h="1728">
                <a:moveTo>
                  <a:pt x="111" y="359"/>
                </a:moveTo>
                <a:lnTo>
                  <a:pt x="111" y="912"/>
                </a:lnTo>
                <a:lnTo>
                  <a:pt x="0" y="912"/>
                </a:lnTo>
                <a:lnTo>
                  <a:pt x="0" y="1200"/>
                </a:lnTo>
                <a:lnTo>
                  <a:pt x="156" y="1200"/>
                </a:lnTo>
                <a:lnTo>
                  <a:pt x="156" y="1728"/>
                </a:lnTo>
                <a:lnTo>
                  <a:pt x="1040" y="1728"/>
                </a:lnTo>
                <a:lnTo>
                  <a:pt x="1040" y="1632"/>
                </a:lnTo>
                <a:lnTo>
                  <a:pt x="2076" y="1632"/>
                </a:lnTo>
                <a:lnTo>
                  <a:pt x="2076" y="0"/>
                </a:lnTo>
                <a:lnTo>
                  <a:pt x="400" y="0"/>
                </a:lnTo>
                <a:lnTo>
                  <a:pt x="400" y="190"/>
                </a:lnTo>
                <a:lnTo>
                  <a:pt x="552" y="190"/>
                </a:lnTo>
                <a:lnTo>
                  <a:pt x="552" y="359"/>
                </a:lnTo>
                <a:lnTo>
                  <a:pt x="111" y="35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48"/>
          <p:cNvSpPr/>
          <p:nvPr/>
        </p:nvSpPr>
        <p:spPr>
          <a:xfrm>
            <a:off x="2611440" y="3081240"/>
            <a:ext cx="2239560" cy="96480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3173" h="2429">
                <a:moveTo>
                  <a:pt x="2289" y="311"/>
                </a:moveTo>
                <a:lnTo>
                  <a:pt x="1561" y="0"/>
                </a:lnTo>
                <a:lnTo>
                  <a:pt x="878" y="0"/>
                </a:lnTo>
                <a:lnTo>
                  <a:pt x="0" y="0"/>
                </a:lnTo>
                <a:lnTo>
                  <a:pt x="0" y="2429"/>
                </a:lnTo>
                <a:lnTo>
                  <a:pt x="2442" y="2429"/>
                </a:lnTo>
                <a:lnTo>
                  <a:pt x="2442" y="1945"/>
                </a:lnTo>
                <a:lnTo>
                  <a:pt x="2976" y="1945"/>
                </a:lnTo>
                <a:lnTo>
                  <a:pt x="2973" y="1536"/>
                </a:lnTo>
                <a:lnTo>
                  <a:pt x="3173" y="1536"/>
                </a:lnTo>
                <a:lnTo>
                  <a:pt x="3173" y="577"/>
                </a:lnTo>
                <a:lnTo>
                  <a:pt x="2289" y="577"/>
                </a:lnTo>
                <a:lnTo>
                  <a:pt x="2289" y="311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49"/>
          <p:cNvSpPr/>
          <p:nvPr/>
        </p:nvSpPr>
        <p:spPr>
          <a:xfrm>
            <a:off x="2620800" y="3076560"/>
            <a:ext cx="2238120" cy="964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3173" h="2429">
                <a:moveTo>
                  <a:pt x="2289" y="311"/>
                </a:moveTo>
                <a:lnTo>
                  <a:pt x="1561" y="0"/>
                </a:lnTo>
                <a:lnTo>
                  <a:pt x="878" y="0"/>
                </a:lnTo>
                <a:lnTo>
                  <a:pt x="0" y="0"/>
                </a:lnTo>
                <a:lnTo>
                  <a:pt x="0" y="2429"/>
                </a:lnTo>
                <a:lnTo>
                  <a:pt x="2442" y="2429"/>
                </a:lnTo>
                <a:lnTo>
                  <a:pt x="2442" y="1945"/>
                </a:lnTo>
                <a:lnTo>
                  <a:pt x="2976" y="1945"/>
                </a:lnTo>
                <a:lnTo>
                  <a:pt x="2973" y="1536"/>
                </a:lnTo>
                <a:lnTo>
                  <a:pt x="3173" y="1536"/>
                </a:lnTo>
                <a:lnTo>
                  <a:pt x="3173" y="577"/>
                </a:lnTo>
                <a:lnTo>
                  <a:pt x="2289" y="577"/>
                </a:lnTo>
                <a:lnTo>
                  <a:pt x="2289" y="311"/>
                </a:lnTo>
                <a:lnTo>
                  <a:pt x="2289" y="311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50"/>
          <p:cNvSpPr/>
          <p:nvPr/>
        </p:nvSpPr>
        <p:spPr>
          <a:xfrm>
            <a:off x="2611440" y="3076560"/>
            <a:ext cx="2239560" cy="96480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964800"/>
              <a:gd name="textAreaBottom" fmla="*/ 965160 h 964800"/>
            </a:gdLst>
            <a:ahLst/>
            <a:rect l="textAreaLeft" t="textAreaTop" r="textAreaRight" b="textAreaBottom"/>
            <a:pathLst>
              <a:path w="3173" h="2429">
                <a:moveTo>
                  <a:pt x="2289" y="311"/>
                </a:moveTo>
                <a:lnTo>
                  <a:pt x="1561" y="0"/>
                </a:lnTo>
                <a:lnTo>
                  <a:pt x="878" y="0"/>
                </a:lnTo>
                <a:lnTo>
                  <a:pt x="0" y="0"/>
                </a:lnTo>
                <a:lnTo>
                  <a:pt x="0" y="2429"/>
                </a:lnTo>
                <a:lnTo>
                  <a:pt x="2442" y="2429"/>
                </a:lnTo>
                <a:lnTo>
                  <a:pt x="2442" y="1945"/>
                </a:lnTo>
                <a:lnTo>
                  <a:pt x="2976" y="1945"/>
                </a:lnTo>
                <a:lnTo>
                  <a:pt x="2973" y="1536"/>
                </a:lnTo>
                <a:lnTo>
                  <a:pt x="3173" y="1536"/>
                </a:lnTo>
                <a:lnTo>
                  <a:pt x="3173" y="577"/>
                </a:lnTo>
                <a:lnTo>
                  <a:pt x="2289" y="577"/>
                </a:lnTo>
                <a:lnTo>
                  <a:pt x="2289" y="311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51"/>
          <p:cNvSpPr/>
          <p:nvPr/>
        </p:nvSpPr>
        <p:spPr>
          <a:xfrm>
            <a:off x="952560" y="3076560"/>
            <a:ext cx="1665000" cy="1239480"/>
          </a:xfrm>
          <a:custGeom>
            <a:avLst/>
            <a:gdLst>
              <a:gd name="textAreaLeft" fmla="*/ 0 w 1665000"/>
              <a:gd name="textAreaRight" fmla="*/ 1665360 w 1665000"/>
              <a:gd name="textAreaTop" fmla="*/ 0 h 1239480"/>
              <a:gd name="textAreaBottom" fmla="*/ 1239840 h 1239480"/>
            </a:gdLst>
            <a:ahLst/>
            <a:rect l="textAreaLeft" t="textAreaTop" r="textAreaRight" b="textAreaBottom"/>
            <a:pathLst>
              <a:path w="2363" h="3122">
                <a:moveTo>
                  <a:pt x="1854" y="3122"/>
                </a:moveTo>
                <a:lnTo>
                  <a:pt x="1854" y="2425"/>
                </a:lnTo>
                <a:lnTo>
                  <a:pt x="2363" y="2425"/>
                </a:lnTo>
                <a:lnTo>
                  <a:pt x="2363" y="0"/>
                </a:lnTo>
                <a:lnTo>
                  <a:pt x="0" y="0"/>
                </a:lnTo>
                <a:lnTo>
                  <a:pt x="0" y="3122"/>
                </a:lnTo>
                <a:lnTo>
                  <a:pt x="1854" y="3122"/>
                </a:lnTo>
                <a:lnTo>
                  <a:pt x="1854" y="3122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52"/>
          <p:cNvSpPr/>
          <p:nvPr/>
        </p:nvSpPr>
        <p:spPr>
          <a:xfrm>
            <a:off x="952560" y="3076560"/>
            <a:ext cx="1665000" cy="1239480"/>
          </a:xfrm>
          <a:custGeom>
            <a:avLst/>
            <a:gdLst>
              <a:gd name="textAreaLeft" fmla="*/ 0 w 1665000"/>
              <a:gd name="textAreaRight" fmla="*/ 1665360 w 1665000"/>
              <a:gd name="textAreaTop" fmla="*/ 0 h 1239480"/>
              <a:gd name="textAreaBottom" fmla="*/ 1239840 h 1239480"/>
            </a:gdLst>
            <a:ahLst/>
            <a:rect l="textAreaLeft" t="textAreaTop" r="textAreaRight" b="textAreaBottom"/>
            <a:pathLst>
              <a:path w="2363" h="3122">
                <a:moveTo>
                  <a:pt x="1854" y="3122"/>
                </a:moveTo>
                <a:lnTo>
                  <a:pt x="1854" y="2425"/>
                </a:lnTo>
                <a:lnTo>
                  <a:pt x="2363" y="2425"/>
                </a:lnTo>
                <a:lnTo>
                  <a:pt x="2363" y="0"/>
                </a:lnTo>
                <a:lnTo>
                  <a:pt x="0" y="0"/>
                </a:lnTo>
                <a:lnTo>
                  <a:pt x="0" y="3122"/>
                </a:lnTo>
                <a:lnTo>
                  <a:pt x="1854" y="3122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53"/>
          <p:cNvSpPr/>
          <p:nvPr/>
        </p:nvSpPr>
        <p:spPr>
          <a:xfrm>
            <a:off x="2260440" y="4040280"/>
            <a:ext cx="2145960" cy="801360"/>
          </a:xfrm>
          <a:custGeom>
            <a:avLst/>
            <a:gdLst>
              <a:gd name="textAreaLeft" fmla="*/ 0 w 2145960"/>
              <a:gd name="textAreaRight" fmla="*/ 2146320 w 214596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3044" h="2019">
                <a:moveTo>
                  <a:pt x="0" y="696"/>
                </a:moveTo>
                <a:lnTo>
                  <a:pt x="0" y="0"/>
                </a:lnTo>
                <a:lnTo>
                  <a:pt x="2953" y="3"/>
                </a:lnTo>
                <a:lnTo>
                  <a:pt x="2956" y="242"/>
                </a:lnTo>
                <a:lnTo>
                  <a:pt x="3044" y="242"/>
                </a:lnTo>
                <a:lnTo>
                  <a:pt x="3044" y="935"/>
                </a:lnTo>
                <a:lnTo>
                  <a:pt x="1983" y="1632"/>
                </a:lnTo>
                <a:lnTo>
                  <a:pt x="1389" y="1632"/>
                </a:lnTo>
                <a:lnTo>
                  <a:pt x="1389" y="2019"/>
                </a:lnTo>
                <a:lnTo>
                  <a:pt x="594" y="2019"/>
                </a:lnTo>
                <a:lnTo>
                  <a:pt x="594" y="1655"/>
                </a:lnTo>
                <a:lnTo>
                  <a:pt x="461" y="1515"/>
                </a:lnTo>
                <a:lnTo>
                  <a:pt x="404" y="1345"/>
                </a:lnTo>
                <a:lnTo>
                  <a:pt x="307" y="1345"/>
                </a:lnTo>
                <a:lnTo>
                  <a:pt x="284" y="1128"/>
                </a:lnTo>
                <a:lnTo>
                  <a:pt x="351" y="1032"/>
                </a:lnTo>
                <a:lnTo>
                  <a:pt x="198" y="696"/>
                </a:lnTo>
                <a:lnTo>
                  <a:pt x="0" y="696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54"/>
          <p:cNvSpPr/>
          <p:nvPr/>
        </p:nvSpPr>
        <p:spPr>
          <a:xfrm>
            <a:off x="2260440" y="4040280"/>
            <a:ext cx="2145960" cy="801360"/>
          </a:xfrm>
          <a:custGeom>
            <a:avLst/>
            <a:gdLst>
              <a:gd name="textAreaLeft" fmla="*/ 0 w 2145960"/>
              <a:gd name="textAreaRight" fmla="*/ 2146320 w 214596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3044" h="2019">
                <a:moveTo>
                  <a:pt x="0" y="696"/>
                </a:moveTo>
                <a:lnTo>
                  <a:pt x="0" y="0"/>
                </a:lnTo>
                <a:lnTo>
                  <a:pt x="2953" y="3"/>
                </a:lnTo>
                <a:lnTo>
                  <a:pt x="2956" y="242"/>
                </a:lnTo>
                <a:lnTo>
                  <a:pt x="3044" y="242"/>
                </a:lnTo>
                <a:lnTo>
                  <a:pt x="3044" y="935"/>
                </a:lnTo>
                <a:lnTo>
                  <a:pt x="1983" y="1632"/>
                </a:lnTo>
                <a:lnTo>
                  <a:pt x="1389" y="1632"/>
                </a:lnTo>
                <a:lnTo>
                  <a:pt x="1389" y="2019"/>
                </a:lnTo>
                <a:lnTo>
                  <a:pt x="594" y="2019"/>
                </a:lnTo>
                <a:lnTo>
                  <a:pt x="594" y="1655"/>
                </a:lnTo>
                <a:lnTo>
                  <a:pt x="461" y="1515"/>
                </a:lnTo>
                <a:lnTo>
                  <a:pt x="404" y="1345"/>
                </a:lnTo>
                <a:lnTo>
                  <a:pt x="307" y="1345"/>
                </a:lnTo>
                <a:lnTo>
                  <a:pt x="284" y="1128"/>
                </a:lnTo>
                <a:lnTo>
                  <a:pt x="351" y="1032"/>
                </a:lnTo>
                <a:lnTo>
                  <a:pt x="198" y="696"/>
                </a:lnTo>
                <a:lnTo>
                  <a:pt x="0" y="696"/>
                </a:lnTo>
                <a:lnTo>
                  <a:pt x="0" y="696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55"/>
          <p:cNvSpPr/>
          <p:nvPr/>
        </p:nvSpPr>
        <p:spPr>
          <a:xfrm>
            <a:off x="2260440" y="4040280"/>
            <a:ext cx="2145960" cy="801360"/>
          </a:xfrm>
          <a:custGeom>
            <a:avLst/>
            <a:gdLst>
              <a:gd name="textAreaLeft" fmla="*/ 0 w 2145960"/>
              <a:gd name="textAreaRight" fmla="*/ 2146320 w 214596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3044" h="2019">
                <a:moveTo>
                  <a:pt x="0" y="696"/>
                </a:moveTo>
                <a:lnTo>
                  <a:pt x="0" y="0"/>
                </a:lnTo>
                <a:lnTo>
                  <a:pt x="2953" y="3"/>
                </a:lnTo>
                <a:lnTo>
                  <a:pt x="2956" y="242"/>
                </a:lnTo>
                <a:lnTo>
                  <a:pt x="3044" y="242"/>
                </a:lnTo>
                <a:lnTo>
                  <a:pt x="3044" y="935"/>
                </a:lnTo>
                <a:lnTo>
                  <a:pt x="1983" y="1632"/>
                </a:lnTo>
                <a:lnTo>
                  <a:pt x="1389" y="1632"/>
                </a:lnTo>
                <a:lnTo>
                  <a:pt x="1389" y="2019"/>
                </a:lnTo>
                <a:lnTo>
                  <a:pt x="594" y="2019"/>
                </a:lnTo>
                <a:lnTo>
                  <a:pt x="594" y="1655"/>
                </a:lnTo>
                <a:lnTo>
                  <a:pt x="461" y="1515"/>
                </a:lnTo>
                <a:lnTo>
                  <a:pt x="404" y="1345"/>
                </a:lnTo>
                <a:lnTo>
                  <a:pt x="307" y="1345"/>
                </a:lnTo>
                <a:lnTo>
                  <a:pt x="284" y="1128"/>
                </a:lnTo>
                <a:lnTo>
                  <a:pt x="351" y="1032"/>
                </a:lnTo>
                <a:lnTo>
                  <a:pt x="198" y="696"/>
                </a:lnTo>
                <a:lnTo>
                  <a:pt x="0" y="696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56"/>
          <p:cNvSpPr/>
          <p:nvPr/>
        </p:nvSpPr>
        <p:spPr>
          <a:xfrm>
            <a:off x="914400" y="4343400"/>
            <a:ext cx="1726920" cy="1226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50" h="3094">
                <a:moveTo>
                  <a:pt x="2450" y="1322"/>
                </a:moveTo>
                <a:lnTo>
                  <a:pt x="2450" y="959"/>
                </a:lnTo>
                <a:lnTo>
                  <a:pt x="2316" y="817"/>
                </a:lnTo>
                <a:lnTo>
                  <a:pt x="2259" y="648"/>
                </a:lnTo>
                <a:lnTo>
                  <a:pt x="2162" y="648"/>
                </a:lnTo>
                <a:lnTo>
                  <a:pt x="2138" y="431"/>
                </a:lnTo>
                <a:lnTo>
                  <a:pt x="2206" y="335"/>
                </a:lnTo>
                <a:lnTo>
                  <a:pt x="2053" y="0"/>
                </a:lnTo>
                <a:lnTo>
                  <a:pt x="0" y="0"/>
                </a:lnTo>
                <a:lnTo>
                  <a:pt x="0" y="1126"/>
                </a:lnTo>
                <a:lnTo>
                  <a:pt x="349" y="1126"/>
                </a:lnTo>
                <a:lnTo>
                  <a:pt x="349" y="1467"/>
                </a:lnTo>
                <a:lnTo>
                  <a:pt x="748" y="1467"/>
                </a:lnTo>
                <a:lnTo>
                  <a:pt x="748" y="1655"/>
                </a:lnTo>
                <a:lnTo>
                  <a:pt x="1014" y="1655"/>
                </a:lnTo>
                <a:lnTo>
                  <a:pt x="1014" y="3094"/>
                </a:lnTo>
                <a:lnTo>
                  <a:pt x="1562" y="3094"/>
                </a:lnTo>
                <a:lnTo>
                  <a:pt x="1562" y="2618"/>
                </a:lnTo>
                <a:lnTo>
                  <a:pt x="1503" y="2546"/>
                </a:lnTo>
                <a:lnTo>
                  <a:pt x="1503" y="1584"/>
                </a:lnTo>
                <a:lnTo>
                  <a:pt x="2097" y="1584"/>
                </a:lnTo>
                <a:lnTo>
                  <a:pt x="2097" y="1324"/>
                </a:lnTo>
                <a:lnTo>
                  <a:pt x="2450" y="1322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57"/>
          <p:cNvSpPr/>
          <p:nvPr/>
        </p:nvSpPr>
        <p:spPr>
          <a:xfrm>
            <a:off x="952560" y="4316400"/>
            <a:ext cx="1726920" cy="1226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50" h="3094">
                <a:moveTo>
                  <a:pt x="2450" y="1322"/>
                </a:moveTo>
                <a:lnTo>
                  <a:pt x="2450" y="959"/>
                </a:lnTo>
                <a:lnTo>
                  <a:pt x="2316" y="817"/>
                </a:lnTo>
                <a:lnTo>
                  <a:pt x="2259" y="648"/>
                </a:lnTo>
                <a:lnTo>
                  <a:pt x="2162" y="648"/>
                </a:lnTo>
                <a:lnTo>
                  <a:pt x="2138" y="431"/>
                </a:lnTo>
                <a:lnTo>
                  <a:pt x="2206" y="335"/>
                </a:lnTo>
                <a:lnTo>
                  <a:pt x="2053" y="0"/>
                </a:lnTo>
                <a:lnTo>
                  <a:pt x="0" y="0"/>
                </a:lnTo>
                <a:lnTo>
                  <a:pt x="0" y="1126"/>
                </a:lnTo>
                <a:lnTo>
                  <a:pt x="349" y="1126"/>
                </a:lnTo>
                <a:lnTo>
                  <a:pt x="349" y="1467"/>
                </a:lnTo>
                <a:lnTo>
                  <a:pt x="748" y="1467"/>
                </a:lnTo>
                <a:lnTo>
                  <a:pt x="748" y="1655"/>
                </a:lnTo>
                <a:lnTo>
                  <a:pt x="1014" y="1655"/>
                </a:lnTo>
                <a:lnTo>
                  <a:pt x="1014" y="3094"/>
                </a:lnTo>
                <a:lnTo>
                  <a:pt x="1562" y="3094"/>
                </a:lnTo>
                <a:lnTo>
                  <a:pt x="1562" y="2618"/>
                </a:lnTo>
                <a:lnTo>
                  <a:pt x="1503" y="2546"/>
                </a:lnTo>
                <a:lnTo>
                  <a:pt x="1503" y="1584"/>
                </a:lnTo>
                <a:lnTo>
                  <a:pt x="2097" y="1584"/>
                </a:lnTo>
                <a:lnTo>
                  <a:pt x="2097" y="1324"/>
                </a:lnTo>
                <a:lnTo>
                  <a:pt x="2450" y="1322"/>
                </a:lnTo>
                <a:lnTo>
                  <a:pt x="2450" y="1322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58"/>
          <p:cNvSpPr/>
          <p:nvPr/>
        </p:nvSpPr>
        <p:spPr>
          <a:xfrm>
            <a:off x="952560" y="4316400"/>
            <a:ext cx="1726920" cy="1226880"/>
          </a:xfrm>
          <a:custGeom>
            <a:avLst/>
            <a:gdLst>
              <a:gd name="textAreaLeft" fmla="*/ 0 w 1726920"/>
              <a:gd name="textAreaRight" fmla="*/ 1727280 w 1726920"/>
              <a:gd name="textAreaTop" fmla="*/ 0 h 1226880"/>
              <a:gd name="textAreaBottom" fmla="*/ 1227240 h 1226880"/>
            </a:gdLst>
            <a:ahLst/>
            <a:rect l="textAreaLeft" t="textAreaTop" r="textAreaRight" b="textAreaBottom"/>
            <a:pathLst>
              <a:path w="2450" h="3094">
                <a:moveTo>
                  <a:pt x="2450" y="1322"/>
                </a:moveTo>
                <a:lnTo>
                  <a:pt x="2450" y="959"/>
                </a:lnTo>
                <a:lnTo>
                  <a:pt x="2316" y="817"/>
                </a:lnTo>
                <a:lnTo>
                  <a:pt x="2259" y="648"/>
                </a:lnTo>
                <a:lnTo>
                  <a:pt x="2162" y="648"/>
                </a:lnTo>
                <a:lnTo>
                  <a:pt x="2138" y="431"/>
                </a:lnTo>
                <a:lnTo>
                  <a:pt x="2206" y="335"/>
                </a:lnTo>
                <a:lnTo>
                  <a:pt x="2053" y="0"/>
                </a:lnTo>
                <a:lnTo>
                  <a:pt x="0" y="0"/>
                </a:lnTo>
                <a:lnTo>
                  <a:pt x="0" y="1126"/>
                </a:lnTo>
                <a:lnTo>
                  <a:pt x="349" y="1126"/>
                </a:lnTo>
                <a:lnTo>
                  <a:pt x="349" y="1467"/>
                </a:lnTo>
                <a:lnTo>
                  <a:pt x="748" y="1467"/>
                </a:lnTo>
                <a:lnTo>
                  <a:pt x="748" y="1655"/>
                </a:lnTo>
                <a:lnTo>
                  <a:pt x="1014" y="1655"/>
                </a:lnTo>
                <a:lnTo>
                  <a:pt x="1014" y="3094"/>
                </a:lnTo>
                <a:lnTo>
                  <a:pt x="1562" y="3094"/>
                </a:lnTo>
                <a:lnTo>
                  <a:pt x="1562" y="2618"/>
                </a:lnTo>
                <a:lnTo>
                  <a:pt x="1503" y="2546"/>
                </a:lnTo>
                <a:lnTo>
                  <a:pt x="1503" y="1584"/>
                </a:lnTo>
                <a:lnTo>
                  <a:pt x="2097" y="1584"/>
                </a:lnTo>
                <a:lnTo>
                  <a:pt x="2097" y="1324"/>
                </a:lnTo>
                <a:lnTo>
                  <a:pt x="2450" y="1322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59"/>
          <p:cNvSpPr/>
          <p:nvPr/>
        </p:nvSpPr>
        <p:spPr>
          <a:xfrm>
            <a:off x="2013120" y="4840200"/>
            <a:ext cx="1226880" cy="80136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741" h="2020">
                <a:moveTo>
                  <a:pt x="1741" y="0"/>
                </a:moveTo>
                <a:lnTo>
                  <a:pt x="594" y="0"/>
                </a:lnTo>
                <a:lnTo>
                  <a:pt x="594" y="262"/>
                </a:lnTo>
                <a:lnTo>
                  <a:pt x="0" y="262"/>
                </a:lnTo>
                <a:lnTo>
                  <a:pt x="0" y="1224"/>
                </a:lnTo>
                <a:lnTo>
                  <a:pt x="63" y="1296"/>
                </a:lnTo>
                <a:lnTo>
                  <a:pt x="63" y="1945"/>
                </a:lnTo>
                <a:lnTo>
                  <a:pt x="176" y="2020"/>
                </a:lnTo>
                <a:lnTo>
                  <a:pt x="1741" y="2020"/>
                </a:lnTo>
                <a:lnTo>
                  <a:pt x="1741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60"/>
          <p:cNvSpPr/>
          <p:nvPr/>
        </p:nvSpPr>
        <p:spPr>
          <a:xfrm>
            <a:off x="2013120" y="4840200"/>
            <a:ext cx="1226880" cy="80136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741" h="2020">
                <a:moveTo>
                  <a:pt x="1741" y="0"/>
                </a:moveTo>
                <a:lnTo>
                  <a:pt x="594" y="0"/>
                </a:lnTo>
                <a:lnTo>
                  <a:pt x="594" y="262"/>
                </a:lnTo>
                <a:lnTo>
                  <a:pt x="0" y="262"/>
                </a:lnTo>
                <a:lnTo>
                  <a:pt x="0" y="1224"/>
                </a:lnTo>
                <a:lnTo>
                  <a:pt x="63" y="1296"/>
                </a:lnTo>
                <a:lnTo>
                  <a:pt x="63" y="1945"/>
                </a:lnTo>
                <a:lnTo>
                  <a:pt x="176" y="2020"/>
                </a:lnTo>
                <a:lnTo>
                  <a:pt x="1741" y="2020"/>
                </a:lnTo>
                <a:lnTo>
                  <a:pt x="1741" y="0"/>
                </a:lnTo>
                <a:lnTo>
                  <a:pt x="1741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61"/>
          <p:cNvSpPr/>
          <p:nvPr/>
        </p:nvSpPr>
        <p:spPr>
          <a:xfrm>
            <a:off x="2013120" y="4840200"/>
            <a:ext cx="1226880" cy="80136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801360"/>
              <a:gd name="textAreaBottom" fmla="*/ 801720 h 801360"/>
            </a:gdLst>
            <a:ahLst/>
            <a:rect l="textAreaLeft" t="textAreaTop" r="textAreaRight" b="textAreaBottom"/>
            <a:pathLst>
              <a:path w="1741" h="2020">
                <a:moveTo>
                  <a:pt x="1741" y="0"/>
                </a:moveTo>
                <a:lnTo>
                  <a:pt x="594" y="0"/>
                </a:lnTo>
                <a:lnTo>
                  <a:pt x="594" y="262"/>
                </a:lnTo>
                <a:lnTo>
                  <a:pt x="0" y="262"/>
                </a:lnTo>
                <a:lnTo>
                  <a:pt x="0" y="1224"/>
                </a:lnTo>
                <a:lnTo>
                  <a:pt x="63" y="1296"/>
                </a:lnTo>
                <a:lnTo>
                  <a:pt x="63" y="1945"/>
                </a:lnTo>
                <a:lnTo>
                  <a:pt x="176" y="2020"/>
                </a:lnTo>
                <a:lnTo>
                  <a:pt x="1741" y="2020"/>
                </a:lnTo>
                <a:lnTo>
                  <a:pt x="1741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62"/>
          <p:cNvSpPr/>
          <p:nvPr/>
        </p:nvSpPr>
        <p:spPr>
          <a:xfrm>
            <a:off x="952560" y="4764240"/>
            <a:ext cx="1179000" cy="12967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672" h="3266">
                <a:moveTo>
                  <a:pt x="0" y="0"/>
                </a:moveTo>
                <a:lnTo>
                  <a:pt x="353" y="0"/>
                </a:lnTo>
                <a:lnTo>
                  <a:pt x="353" y="338"/>
                </a:lnTo>
                <a:lnTo>
                  <a:pt x="750" y="338"/>
                </a:lnTo>
                <a:lnTo>
                  <a:pt x="750" y="526"/>
                </a:lnTo>
                <a:lnTo>
                  <a:pt x="1013" y="526"/>
                </a:lnTo>
                <a:lnTo>
                  <a:pt x="1013" y="1966"/>
                </a:lnTo>
                <a:lnTo>
                  <a:pt x="1562" y="1966"/>
                </a:lnTo>
                <a:lnTo>
                  <a:pt x="1562" y="2138"/>
                </a:lnTo>
                <a:lnTo>
                  <a:pt x="1672" y="2207"/>
                </a:lnTo>
                <a:lnTo>
                  <a:pt x="1672" y="3266"/>
                </a:lnTo>
                <a:lnTo>
                  <a:pt x="0" y="326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63"/>
          <p:cNvSpPr/>
          <p:nvPr/>
        </p:nvSpPr>
        <p:spPr>
          <a:xfrm>
            <a:off x="952560" y="4764240"/>
            <a:ext cx="1179000" cy="12967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672" h="3266">
                <a:moveTo>
                  <a:pt x="0" y="0"/>
                </a:moveTo>
                <a:lnTo>
                  <a:pt x="353" y="0"/>
                </a:lnTo>
                <a:lnTo>
                  <a:pt x="353" y="338"/>
                </a:lnTo>
                <a:lnTo>
                  <a:pt x="750" y="338"/>
                </a:lnTo>
                <a:lnTo>
                  <a:pt x="750" y="526"/>
                </a:lnTo>
                <a:lnTo>
                  <a:pt x="1013" y="526"/>
                </a:lnTo>
                <a:lnTo>
                  <a:pt x="1013" y="1966"/>
                </a:lnTo>
                <a:lnTo>
                  <a:pt x="1562" y="1966"/>
                </a:lnTo>
                <a:lnTo>
                  <a:pt x="1562" y="2138"/>
                </a:lnTo>
                <a:lnTo>
                  <a:pt x="1672" y="2207"/>
                </a:lnTo>
                <a:lnTo>
                  <a:pt x="1672" y="3266"/>
                </a:lnTo>
                <a:lnTo>
                  <a:pt x="0" y="3266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64"/>
          <p:cNvSpPr/>
          <p:nvPr/>
        </p:nvSpPr>
        <p:spPr>
          <a:xfrm>
            <a:off x="952560" y="4764240"/>
            <a:ext cx="1179000" cy="1296720"/>
          </a:xfrm>
          <a:custGeom>
            <a:avLst/>
            <a:gdLst>
              <a:gd name="textAreaLeft" fmla="*/ 0 w 1179000"/>
              <a:gd name="textAreaRight" fmla="*/ 1179360 w 1179000"/>
              <a:gd name="textAreaTop" fmla="*/ 0 h 1296720"/>
              <a:gd name="textAreaBottom" fmla="*/ 1297080 h 1296720"/>
            </a:gdLst>
            <a:ahLst/>
            <a:rect l="textAreaLeft" t="textAreaTop" r="textAreaRight" b="textAreaBottom"/>
            <a:pathLst>
              <a:path w="1672" h="3266">
                <a:moveTo>
                  <a:pt x="0" y="0"/>
                </a:moveTo>
                <a:lnTo>
                  <a:pt x="353" y="0"/>
                </a:lnTo>
                <a:lnTo>
                  <a:pt x="353" y="338"/>
                </a:lnTo>
                <a:lnTo>
                  <a:pt x="750" y="338"/>
                </a:lnTo>
                <a:lnTo>
                  <a:pt x="750" y="526"/>
                </a:lnTo>
                <a:lnTo>
                  <a:pt x="1013" y="526"/>
                </a:lnTo>
                <a:lnTo>
                  <a:pt x="1013" y="1966"/>
                </a:lnTo>
                <a:lnTo>
                  <a:pt x="1562" y="1966"/>
                </a:lnTo>
                <a:lnTo>
                  <a:pt x="1562" y="2138"/>
                </a:lnTo>
                <a:lnTo>
                  <a:pt x="1672" y="2207"/>
                </a:lnTo>
                <a:lnTo>
                  <a:pt x="1672" y="3266"/>
                </a:lnTo>
                <a:lnTo>
                  <a:pt x="0" y="3266"/>
                </a:lnTo>
                <a:lnTo>
                  <a:pt x="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65"/>
          <p:cNvSpPr/>
          <p:nvPr/>
        </p:nvSpPr>
        <p:spPr>
          <a:xfrm>
            <a:off x="4406760" y="4135320"/>
            <a:ext cx="1910880" cy="1201320"/>
          </a:xfrm>
          <a:custGeom>
            <a:avLst/>
            <a:gdLst>
              <a:gd name="textAreaLeft" fmla="*/ 0 w 1910880"/>
              <a:gd name="textAreaRight" fmla="*/ 1911240 w 1910880"/>
              <a:gd name="textAreaTop" fmla="*/ 0 h 1201320"/>
              <a:gd name="textAreaBottom" fmla="*/ 1201680 h 1201320"/>
            </a:gdLst>
            <a:ahLst/>
            <a:rect l="textAreaLeft" t="textAreaTop" r="textAreaRight" b="textAreaBottom"/>
            <a:pathLst>
              <a:path w="2710" h="3027">
                <a:moveTo>
                  <a:pt x="0" y="3027"/>
                </a:moveTo>
                <a:lnTo>
                  <a:pt x="0" y="0"/>
                </a:lnTo>
                <a:lnTo>
                  <a:pt x="1017" y="0"/>
                </a:lnTo>
                <a:lnTo>
                  <a:pt x="1017" y="143"/>
                </a:lnTo>
                <a:lnTo>
                  <a:pt x="1765" y="143"/>
                </a:lnTo>
                <a:lnTo>
                  <a:pt x="1765" y="1821"/>
                </a:lnTo>
                <a:lnTo>
                  <a:pt x="2710" y="1821"/>
                </a:lnTo>
                <a:lnTo>
                  <a:pt x="2710" y="3025"/>
                </a:lnTo>
                <a:lnTo>
                  <a:pt x="0" y="3027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66"/>
          <p:cNvSpPr/>
          <p:nvPr/>
        </p:nvSpPr>
        <p:spPr>
          <a:xfrm>
            <a:off x="4406760" y="4135320"/>
            <a:ext cx="1910880" cy="1201320"/>
          </a:xfrm>
          <a:custGeom>
            <a:avLst/>
            <a:gdLst>
              <a:gd name="textAreaLeft" fmla="*/ 0 w 1910880"/>
              <a:gd name="textAreaRight" fmla="*/ 1911240 w 1910880"/>
              <a:gd name="textAreaTop" fmla="*/ 0 h 1201320"/>
              <a:gd name="textAreaBottom" fmla="*/ 1201680 h 1201320"/>
            </a:gdLst>
            <a:ahLst/>
            <a:rect l="textAreaLeft" t="textAreaTop" r="textAreaRight" b="textAreaBottom"/>
            <a:pathLst>
              <a:path w="2710" h="3027">
                <a:moveTo>
                  <a:pt x="0" y="3027"/>
                </a:moveTo>
                <a:lnTo>
                  <a:pt x="0" y="0"/>
                </a:lnTo>
                <a:lnTo>
                  <a:pt x="1017" y="0"/>
                </a:lnTo>
                <a:lnTo>
                  <a:pt x="1017" y="143"/>
                </a:lnTo>
                <a:lnTo>
                  <a:pt x="1765" y="143"/>
                </a:lnTo>
                <a:lnTo>
                  <a:pt x="1765" y="1821"/>
                </a:lnTo>
                <a:lnTo>
                  <a:pt x="2710" y="1821"/>
                </a:lnTo>
                <a:lnTo>
                  <a:pt x="2710" y="3025"/>
                </a:lnTo>
                <a:lnTo>
                  <a:pt x="0" y="3027"/>
                </a:lnTo>
                <a:lnTo>
                  <a:pt x="0" y="3027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67"/>
          <p:cNvSpPr/>
          <p:nvPr/>
        </p:nvSpPr>
        <p:spPr>
          <a:xfrm>
            <a:off x="4406760" y="4135320"/>
            <a:ext cx="1910880" cy="1201320"/>
          </a:xfrm>
          <a:custGeom>
            <a:avLst/>
            <a:gdLst>
              <a:gd name="textAreaLeft" fmla="*/ 0 w 1910880"/>
              <a:gd name="textAreaRight" fmla="*/ 1911240 w 1910880"/>
              <a:gd name="textAreaTop" fmla="*/ 0 h 1201320"/>
              <a:gd name="textAreaBottom" fmla="*/ 1201680 h 1201320"/>
            </a:gdLst>
            <a:ahLst/>
            <a:rect l="textAreaLeft" t="textAreaTop" r="textAreaRight" b="textAreaBottom"/>
            <a:pathLst>
              <a:path w="2710" h="3027">
                <a:moveTo>
                  <a:pt x="0" y="3027"/>
                </a:moveTo>
                <a:lnTo>
                  <a:pt x="0" y="0"/>
                </a:lnTo>
                <a:lnTo>
                  <a:pt x="1017" y="0"/>
                </a:lnTo>
                <a:lnTo>
                  <a:pt x="1017" y="143"/>
                </a:lnTo>
                <a:lnTo>
                  <a:pt x="1765" y="143"/>
                </a:lnTo>
                <a:lnTo>
                  <a:pt x="1765" y="1821"/>
                </a:lnTo>
                <a:lnTo>
                  <a:pt x="2710" y="1821"/>
                </a:lnTo>
                <a:lnTo>
                  <a:pt x="2710" y="3025"/>
                </a:lnTo>
                <a:lnTo>
                  <a:pt x="0" y="3027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68"/>
          <p:cNvSpPr/>
          <p:nvPr/>
        </p:nvSpPr>
        <p:spPr>
          <a:xfrm>
            <a:off x="4338720" y="3209760"/>
            <a:ext cx="1807920" cy="110628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61" h="2787">
                <a:moveTo>
                  <a:pt x="0" y="1610"/>
                </a:moveTo>
                <a:lnTo>
                  <a:pt x="3" y="2333"/>
                </a:lnTo>
                <a:lnTo>
                  <a:pt x="1109" y="2333"/>
                </a:lnTo>
                <a:lnTo>
                  <a:pt x="1109" y="2474"/>
                </a:lnTo>
                <a:lnTo>
                  <a:pt x="1858" y="2474"/>
                </a:lnTo>
                <a:lnTo>
                  <a:pt x="1858" y="2787"/>
                </a:lnTo>
                <a:lnTo>
                  <a:pt x="2561" y="2787"/>
                </a:lnTo>
                <a:lnTo>
                  <a:pt x="2561" y="0"/>
                </a:lnTo>
                <a:lnTo>
                  <a:pt x="1769" y="0"/>
                </a:lnTo>
                <a:lnTo>
                  <a:pt x="1769" y="145"/>
                </a:lnTo>
                <a:lnTo>
                  <a:pt x="733" y="145"/>
                </a:lnTo>
                <a:lnTo>
                  <a:pt x="733" y="1201"/>
                </a:lnTo>
                <a:lnTo>
                  <a:pt x="532" y="1201"/>
                </a:lnTo>
                <a:lnTo>
                  <a:pt x="535" y="1610"/>
                </a:lnTo>
                <a:lnTo>
                  <a:pt x="0" y="161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69"/>
          <p:cNvSpPr/>
          <p:nvPr/>
        </p:nvSpPr>
        <p:spPr>
          <a:xfrm>
            <a:off x="4338720" y="3209760"/>
            <a:ext cx="1807920" cy="110628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61" h="2787">
                <a:moveTo>
                  <a:pt x="0" y="1610"/>
                </a:moveTo>
                <a:lnTo>
                  <a:pt x="3" y="2333"/>
                </a:lnTo>
                <a:lnTo>
                  <a:pt x="1109" y="2333"/>
                </a:lnTo>
                <a:lnTo>
                  <a:pt x="1109" y="2474"/>
                </a:lnTo>
                <a:lnTo>
                  <a:pt x="1858" y="2474"/>
                </a:lnTo>
                <a:lnTo>
                  <a:pt x="1858" y="2787"/>
                </a:lnTo>
                <a:lnTo>
                  <a:pt x="2561" y="2787"/>
                </a:lnTo>
                <a:lnTo>
                  <a:pt x="2561" y="0"/>
                </a:lnTo>
                <a:lnTo>
                  <a:pt x="1769" y="0"/>
                </a:lnTo>
                <a:lnTo>
                  <a:pt x="1769" y="145"/>
                </a:lnTo>
                <a:lnTo>
                  <a:pt x="733" y="145"/>
                </a:lnTo>
                <a:lnTo>
                  <a:pt x="733" y="1201"/>
                </a:lnTo>
                <a:lnTo>
                  <a:pt x="532" y="1201"/>
                </a:lnTo>
                <a:lnTo>
                  <a:pt x="535" y="1610"/>
                </a:lnTo>
                <a:lnTo>
                  <a:pt x="0" y="1610"/>
                </a:lnTo>
                <a:lnTo>
                  <a:pt x="0" y="161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70"/>
          <p:cNvSpPr/>
          <p:nvPr/>
        </p:nvSpPr>
        <p:spPr>
          <a:xfrm>
            <a:off x="4338720" y="3209760"/>
            <a:ext cx="1807920" cy="1106280"/>
          </a:xfrm>
          <a:custGeom>
            <a:avLst/>
            <a:gdLst>
              <a:gd name="textAreaLeft" fmla="*/ 0 w 1807920"/>
              <a:gd name="textAreaRight" fmla="*/ 1808280 w 1807920"/>
              <a:gd name="textAreaTop" fmla="*/ 0 h 1106280"/>
              <a:gd name="textAreaBottom" fmla="*/ 1106640 h 1106280"/>
            </a:gdLst>
            <a:ahLst/>
            <a:rect l="textAreaLeft" t="textAreaTop" r="textAreaRight" b="textAreaBottom"/>
            <a:pathLst>
              <a:path w="2561" h="2787">
                <a:moveTo>
                  <a:pt x="0" y="1610"/>
                </a:moveTo>
                <a:lnTo>
                  <a:pt x="3" y="2333"/>
                </a:lnTo>
                <a:lnTo>
                  <a:pt x="1109" y="2333"/>
                </a:lnTo>
                <a:lnTo>
                  <a:pt x="1109" y="2474"/>
                </a:lnTo>
                <a:lnTo>
                  <a:pt x="1858" y="2474"/>
                </a:lnTo>
                <a:lnTo>
                  <a:pt x="1858" y="2787"/>
                </a:lnTo>
                <a:lnTo>
                  <a:pt x="2561" y="2787"/>
                </a:lnTo>
                <a:lnTo>
                  <a:pt x="2561" y="0"/>
                </a:lnTo>
                <a:lnTo>
                  <a:pt x="1769" y="0"/>
                </a:lnTo>
                <a:lnTo>
                  <a:pt x="1769" y="145"/>
                </a:lnTo>
                <a:lnTo>
                  <a:pt x="733" y="145"/>
                </a:lnTo>
                <a:lnTo>
                  <a:pt x="733" y="1201"/>
                </a:lnTo>
                <a:lnTo>
                  <a:pt x="532" y="1201"/>
                </a:lnTo>
                <a:lnTo>
                  <a:pt x="535" y="1610"/>
                </a:lnTo>
                <a:lnTo>
                  <a:pt x="0" y="161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71"/>
          <p:cNvSpPr/>
          <p:nvPr/>
        </p:nvSpPr>
        <p:spPr>
          <a:xfrm>
            <a:off x="5892840" y="3543480"/>
            <a:ext cx="2239560" cy="145692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174" h="3672">
                <a:moveTo>
                  <a:pt x="946" y="3672"/>
                </a:moveTo>
                <a:lnTo>
                  <a:pt x="0" y="3672"/>
                </a:lnTo>
                <a:lnTo>
                  <a:pt x="0" y="2304"/>
                </a:lnTo>
                <a:lnTo>
                  <a:pt x="702" y="2304"/>
                </a:lnTo>
                <a:lnTo>
                  <a:pt x="702" y="71"/>
                </a:lnTo>
                <a:lnTo>
                  <a:pt x="900" y="71"/>
                </a:lnTo>
                <a:lnTo>
                  <a:pt x="900" y="239"/>
                </a:lnTo>
                <a:lnTo>
                  <a:pt x="1961" y="239"/>
                </a:lnTo>
                <a:lnTo>
                  <a:pt x="1961" y="0"/>
                </a:lnTo>
                <a:lnTo>
                  <a:pt x="2534" y="0"/>
                </a:lnTo>
                <a:lnTo>
                  <a:pt x="2534" y="578"/>
                </a:lnTo>
                <a:lnTo>
                  <a:pt x="2822" y="578"/>
                </a:lnTo>
                <a:lnTo>
                  <a:pt x="2822" y="887"/>
                </a:lnTo>
                <a:lnTo>
                  <a:pt x="3174" y="887"/>
                </a:lnTo>
                <a:lnTo>
                  <a:pt x="3174" y="1127"/>
                </a:lnTo>
                <a:lnTo>
                  <a:pt x="2867" y="1127"/>
                </a:lnTo>
                <a:lnTo>
                  <a:pt x="2867" y="1487"/>
                </a:lnTo>
                <a:lnTo>
                  <a:pt x="2800" y="1487"/>
                </a:lnTo>
                <a:lnTo>
                  <a:pt x="2800" y="2498"/>
                </a:lnTo>
                <a:lnTo>
                  <a:pt x="2744" y="2556"/>
                </a:lnTo>
                <a:lnTo>
                  <a:pt x="2744" y="2640"/>
                </a:lnTo>
                <a:lnTo>
                  <a:pt x="946" y="2640"/>
                </a:lnTo>
                <a:lnTo>
                  <a:pt x="946" y="3672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72"/>
          <p:cNvSpPr/>
          <p:nvPr/>
        </p:nvSpPr>
        <p:spPr>
          <a:xfrm>
            <a:off x="5651640" y="3402000"/>
            <a:ext cx="2239560" cy="145692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174" h="3672">
                <a:moveTo>
                  <a:pt x="946" y="3672"/>
                </a:moveTo>
                <a:lnTo>
                  <a:pt x="0" y="3672"/>
                </a:lnTo>
                <a:lnTo>
                  <a:pt x="0" y="2304"/>
                </a:lnTo>
                <a:lnTo>
                  <a:pt x="702" y="2304"/>
                </a:lnTo>
                <a:lnTo>
                  <a:pt x="702" y="71"/>
                </a:lnTo>
                <a:lnTo>
                  <a:pt x="900" y="71"/>
                </a:lnTo>
                <a:lnTo>
                  <a:pt x="900" y="239"/>
                </a:lnTo>
                <a:lnTo>
                  <a:pt x="1961" y="239"/>
                </a:lnTo>
                <a:lnTo>
                  <a:pt x="1961" y="0"/>
                </a:lnTo>
                <a:lnTo>
                  <a:pt x="2534" y="0"/>
                </a:lnTo>
                <a:lnTo>
                  <a:pt x="2534" y="578"/>
                </a:lnTo>
                <a:lnTo>
                  <a:pt x="2822" y="578"/>
                </a:lnTo>
                <a:lnTo>
                  <a:pt x="2822" y="887"/>
                </a:lnTo>
                <a:lnTo>
                  <a:pt x="3174" y="887"/>
                </a:lnTo>
                <a:lnTo>
                  <a:pt x="3174" y="1127"/>
                </a:lnTo>
                <a:lnTo>
                  <a:pt x="2867" y="1127"/>
                </a:lnTo>
                <a:lnTo>
                  <a:pt x="2867" y="1487"/>
                </a:lnTo>
                <a:lnTo>
                  <a:pt x="2800" y="1487"/>
                </a:lnTo>
                <a:lnTo>
                  <a:pt x="2800" y="2498"/>
                </a:lnTo>
                <a:lnTo>
                  <a:pt x="2744" y="2556"/>
                </a:lnTo>
                <a:lnTo>
                  <a:pt x="2744" y="2640"/>
                </a:lnTo>
                <a:lnTo>
                  <a:pt x="946" y="2640"/>
                </a:lnTo>
                <a:lnTo>
                  <a:pt x="946" y="3672"/>
                </a:lnTo>
                <a:lnTo>
                  <a:pt x="946" y="3672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73"/>
          <p:cNvSpPr/>
          <p:nvPr/>
        </p:nvSpPr>
        <p:spPr>
          <a:xfrm>
            <a:off x="5651640" y="3402000"/>
            <a:ext cx="2239560" cy="1456920"/>
          </a:xfrm>
          <a:custGeom>
            <a:avLst/>
            <a:gdLst>
              <a:gd name="textAreaLeft" fmla="*/ 0 w 2239560"/>
              <a:gd name="textAreaRight" fmla="*/ 2239920 w 2239560"/>
              <a:gd name="textAreaTop" fmla="*/ 0 h 1456920"/>
              <a:gd name="textAreaBottom" fmla="*/ 1457280 h 1456920"/>
            </a:gdLst>
            <a:ahLst/>
            <a:rect l="textAreaLeft" t="textAreaTop" r="textAreaRight" b="textAreaBottom"/>
            <a:pathLst>
              <a:path w="3174" h="3672">
                <a:moveTo>
                  <a:pt x="946" y="3672"/>
                </a:moveTo>
                <a:lnTo>
                  <a:pt x="0" y="3672"/>
                </a:lnTo>
                <a:lnTo>
                  <a:pt x="0" y="2304"/>
                </a:lnTo>
                <a:lnTo>
                  <a:pt x="702" y="2304"/>
                </a:lnTo>
                <a:lnTo>
                  <a:pt x="702" y="71"/>
                </a:lnTo>
                <a:lnTo>
                  <a:pt x="900" y="71"/>
                </a:lnTo>
                <a:lnTo>
                  <a:pt x="900" y="239"/>
                </a:lnTo>
                <a:lnTo>
                  <a:pt x="1961" y="239"/>
                </a:lnTo>
                <a:lnTo>
                  <a:pt x="1961" y="0"/>
                </a:lnTo>
                <a:lnTo>
                  <a:pt x="2534" y="0"/>
                </a:lnTo>
                <a:lnTo>
                  <a:pt x="2534" y="578"/>
                </a:lnTo>
                <a:lnTo>
                  <a:pt x="2822" y="578"/>
                </a:lnTo>
                <a:lnTo>
                  <a:pt x="2822" y="887"/>
                </a:lnTo>
                <a:lnTo>
                  <a:pt x="3174" y="887"/>
                </a:lnTo>
                <a:lnTo>
                  <a:pt x="3174" y="1127"/>
                </a:lnTo>
                <a:lnTo>
                  <a:pt x="2867" y="1127"/>
                </a:lnTo>
                <a:lnTo>
                  <a:pt x="2867" y="1487"/>
                </a:lnTo>
                <a:lnTo>
                  <a:pt x="2800" y="1487"/>
                </a:lnTo>
                <a:lnTo>
                  <a:pt x="2800" y="2498"/>
                </a:lnTo>
                <a:lnTo>
                  <a:pt x="2744" y="2556"/>
                </a:lnTo>
                <a:lnTo>
                  <a:pt x="2744" y="2640"/>
                </a:lnTo>
                <a:lnTo>
                  <a:pt x="946" y="2640"/>
                </a:lnTo>
                <a:lnTo>
                  <a:pt x="946" y="3672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74"/>
          <p:cNvSpPr/>
          <p:nvPr/>
        </p:nvSpPr>
        <p:spPr>
          <a:xfrm>
            <a:off x="7518240" y="3828960"/>
            <a:ext cx="769680" cy="1488600"/>
          </a:xfrm>
          <a:custGeom>
            <a:avLst/>
            <a:gdLst>
              <a:gd name="textAreaLeft" fmla="*/ 0 w 769680"/>
              <a:gd name="textAreaRight" fmla="*/ 770040 w 769680"/>
              <a:gd name="textAreaTop" fmla="*/ 0 h 1488600"/>
              <a:gd name="textAreaBottom" fmla="*/ 1488960 h 1488600"/>
            </a:gdLst>
            <a:ahLst/>
            <a:rect l="textAreaLeft" t="textAreaTop" r="textAreaRight" b="textAreaBottom"/>
            <a:pathLst>
              <a:path w="1091" h="3749">
                <a:moveTo>
                  <a:pt x="233" y="3749"/>
                </a:moveTo>
                <a:lnTo>
                  <a:pt x="233" y="2401"/>
                </a:lnTo>
                <a:lnTo>
                  <a:pt x="0" y="2401"/>
                </a:lnTo>
                <a:lnTo>
                  <a:pt x="2" y="1428"/>
                </a:lnTo>
                <a:lnTo>
                  <a:pt x="57" y="1370"/>
                </a:lnTo>
                <a:lnTo>
                  <a:pt x="57" y="359"/>
                </a:lnTo>
                <a:lnTo>
                  <a:pt x="124" y="359"/>
                </a:lnTo>
                <a:lnTo>
                  <a:pt x="124" y="0"/>
                </a:lnTo>
                <a:lnTo>
                  <a:pt x="1091" y="0"/>
                </a:lnTo>
                <a:lnTo>
                  <a:pt x="1091" y="3747"/>
                </a:lnTo>
                <a:lnTo>
                  <a:pt x="233" y="374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75"/>
          <p:cNvSpPr/>
          <p:nvPr/>
        </p:nvSpPr>
        <p:spPr>
          <a:xfrm>
            <a:off x="7586640" y="3848040"/>
            <a:ext cx="769680" cy="1488600"/>
          </a:xfrm>
          <a:custGeom>
            <a:avLst/>
            <a:gdLst>
              <a:gd name="textAreaLeft" fmla="*/ 0 w 769680"/>
              <a:gd name="textAreaRight" fmla="*/ 770040 w 769680"/>
              <a:gd name="textAreaTop" fmla="*/ 0 h 1488600"/>
              <a:gd name="textAreaBottom" fmla="*/ 1488960 h 1488600"/>
            </a:gdLst>
            <a:ahLst/>
            <a:rect l="textAreaLeft" t="textAreaTop" r="textAreaRight" b="textAreaBottom"/>
            <a:pathLst>
              <a:path w="1091" h="3749">
                <a:moveTo>
                  <a:pt x="233" y="3749"/>
                </a:moveTo>
                <a:lnTo>
                  <a:pt x="233" y="2401"/>
                </a:lnTo>
                <a:lnTo>
                  <a:pt x="0" y="2401"/>
                </a:lnTo>
                <a:lnTo>
                  <a:pt x="2" y="1428"/>
                </a:lnTo>
                <a:lnTo>
                  <a:pt x="57" y="1370"/>
                </a:lnTo>
                <a:lnTo>
                  <a:pt x="57" y="359"/>
                </a:lnTo>
                <a:lnTo>
                  <a:pt x="124" y="359"/>
                </a:lnTo>
                <a:lnTo>
                  <a:pt x="124" y="0"/>
                </a:lnTo>
                <a:lnTo>
                  <a:pt x="1091" y="0"/>
                </a:lnTo>
                <a:lnTo>
                  <a:pt x="1091" y="3747"/>
                </a:lnTo>
                <a:lnTo>
                  <a:pt x="233" y="3749"/>
                </a:lnTo>
                <a:lnTo>
                  <a:pt x="233" y="374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76"/>
          <p:cNvSpPr/>
          <p:nvPr/>
        </p:nvSpPr>
        <p:spPr>
          <a:xfrm>
            <a:off x="7586640" y="3848040"/>
            <a:ext cx="769680" cy="1488600"/>
          </a:xfrm>
          <a:custGeom>
            <a:avLst/>
            <a:gdLst>
              <a:gd name="textAreaLeft" fmla="*/ 0 w 769680"/>
              <a:gd name="textAreaRight" fmla="*/ 770040 w 769680"/>
              <a:gd name="textAreaTop" fmla="*/ 0 h 1488600"/>
              <a:gd name="textAreaBottom" fmla="*/ 1488960 h 1488600"/>
            </a:gdLst>
            <a:ahLst/>
            <a:rect l="textAreaLeft" t="textAreaTop" r="textAreaRight" b="textAreaBottom"/>
            <a:pathLst>
              <a:path w="1091" h="3749">
                <a:moveTo>
                  <a:pt x="233" y="3749"/>
                </a:moveTo>
                <a:lnTo>
                  <a:pt x="233" y="2401"/>
                </a:lnTo>
                <a:lnTo>
                  <a:pt x="0" y="2401"/>
                </a:lnTo>
                <a:lnTo>
                  <a:pt x="2" y="1428"/>
                </a:lnTo>
                <a:lnTo>
                  <a:pt x="57" y="1370"/>
                </a:lnTo>
                <a:lnTo>
                  <a:pt x="57" y="359"/>
                </a:lnTo>
                <a:lnTo>
                  <a:pt x="124" y="359"/>
                </a:lnTo>
                <a:lnTo>
                  <a:pt x="124" y="0"/>
                </a:lnTo>
                <a:lnTo>
                  <a:pt x="1091" y="0"/>
                </a:lnTo>
                <a:lnTo>
                  <a:pt x="1091" y="3747"/>
                </a:lnTo>
                <a:lnTo>
                  <a:pt x="233" y="374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77"/>
          <p:cNvSpPr/>
          <p:nvPr/>
        </p:nvSpPr>
        <p:spPr>
          <a:xfrm>
            <a:off x="6316560" y="4449600"/>
            <a:ext cx="1434600" cy="88704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887040"/>
              <a:gd name="textAreaBottom" fmla="*/ 887400 h 887040"/>
            </a:gdLst>
            <a:ahLst/>
            <a:rect l="textAreaLeft" t="textAreaTop" r="textAreaRight" b="textAreaBottom"/>
            <a:pathLst>
              <a:path w="2032" h="2237">
                <a:moveTo>
                  <a:pt x="1800" y="0"/>
                </a:moveTo>
                <a:lnTo>
                  <a:pt x="2" y="0"/>
                </a:lnTo>
                <a:lnTo>
                  <a:pt x="0" y="2235"/>
                </a:lnTo>
                <a:lnTo>
                  <a:pt x="2032" y="2237"/>
                </a:lnTo>
                <a:lnTo>
                  <a:pt x="2032" y="889"/>
                </a:lnTo>
                <a:lnTo>
                  <a:pt x="1798" y="889"/>
                </a:lnTo>
                <a:lnTo>
                  <a:pt x="1800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78"/>
          <p:cNvSpPr/>
          <p:nvPr/>
        </p:nvSpPr>
        <p:spPr>
          <a:xfrm>
            <a:off x="6316560" y="4449600"/>
            <a:ext cx="1434600" cy="88704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887040"/>
              <a:gd name="textAreaBottom" fmla="*/ 887400 h 887040"/>
            </a:gdLst>
            <a:ahLst/>
            <a:rect l="textAreaLeft" t="textAreaTop" r="textAreaRight" b="textAreaBottom"/>
            <a:pathLst>
              <a:path w="2032" h="2237">
                <a:moveTo>
                  <a:pt x="1800" y="0"/>
                </a:moveTo>
                <a:lnTo>
                  <a:pt x="2" y="0"/>
                </a:lnTo>
                <a:lnTo>
                  <a:pt x="0" y="2235"/>
                </a:lnTo>
                <a:lnTo>
                  <a:pt x="2032" y="2237"/>
                </a:lnTo>
                <a:lnTo>
                  <a:pt x="2032" y="889"/>
                </a:lnTo>
                <a:lnTo>
                  <a:pt x="1798" y="889"/>
                </a:lnTo>
                <a:lnTo>
                  <a:pt x="1800" y="0"/>
                </a:lnTo>
                <a:lnTo>
                  <a:pt x="1800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79"/>
          <p:cNvSpPr/>
          <p:nvPr/>
        </p:nvSpPr>
        <p:spPr>
          <a:xfrm>
            <a:off x="6316560" y="4449600"/>
            <a:ext cx="1434600" cy="887040"/>
          </a:xfrm>
          <a:custGeom>
            <a:avLst/>
            <a:gdLst>
              <a:gd name="textAreaLeft" fmla="*/ 0 w 1434600"/>
              <a:gd name="textAreaRight" fmla="*/ 1434960 w 1434600"/>
              <a:gd name="textAreaTop" fmla="*/ 0 h 887040"/>
              <a:gd name="textAreaBottom" fmla="*/ 887400 h 887040"/>
            </a:gdLst>
            <a:ahLst/>
            <a:rect l="textAreaLeft" t="textAreaTop" r="textAreaRight" b="textAreaBottom"/>
            <a:pathLst>
              <a:path w="2032" h="2237">
                <a:moveTo>
                  <a:pt x="1800" y="0"/>
                </a:moveTo>
                <a:lnTo>
                  <a:pt x="2" y="0"/>
                </a:lnTo>
                <a:lnTo>
                  <a:pt x="0" y="2235"/>
                </a:lnTo>
                <a:lnTo>
                  <a:pt x="2032" y="2237"/>
                </a:lnTo>
                <a:lnTo>
                  <a:pt x="2032" y="889"/>
                </a:lnTo>
                <a:lnTo>
                  <a:pt x="1798" y="889"/>
                </a:lnTo>
                <a:lnTo>
                  <a:pt x="1800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80"/>
          <p:cNvSpPr/>
          <p:nvPr/>
        </p:nvSpPr>
        <p:spPr>
          <a:xfrm>
            <a:off x="6146640" y="2792520"/>
            <a:ext cx="1153800" cy="7059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1635" h="1778">
                <a:moveTo>
                  <a:pt x="1635" y="1540"/>
                </a:moveTo>
                <a:lnTo>
                  <a:pt x="1635" y="360"/>
                </a:lnTo>
                <a:lnTo>
                  <a:pt x="1214" y="360"/>
                </a:lnTo>
                <a:lnTo>
                  <a:pt x="1217" y="0"/>
                </a:lnTo>
                <a:lnTo>
                  <a:pt x="862" y="0"/>
                </a:lnTo>
                <a:lnTo>
                  <a:pt x="862" y="219"/>
                </a:lnTo>
                <a:lnTo>
                  <a:pt x="685" y="219"/>
                </a:lnTo>
                <a:lnTo>
                  <a:pt x="685" y="501"/>
                </a:lnTo>
                <a:lnTo>
                  <a:pt x="0" y="501"/>
                </a:lnTo>
                <a:lnTo>
                  <a:pt x="0" y="1609"/>
                </a:lnTo>
                <a:lnTo>
                  <a:pt x="199" y="1609"/>
                </a:lnTo>
                <a:lnTo>
                  <a:pt x="199" y="1778"/>
                </a:lnTo>
                <a:lnTo>
                  <a:pt x="1258" y="1778"/>
                </a:lnTo>
                <a:lnTo>
                  <a:pt x="1258" y="1540"/>
                </a:lnTo>
                <a:lnTo>
                  <a:pt x="1635" y="154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81"/>
          <p:cNvSpPr/>
          <p:nvPr/>
        </p:nvSpPr>
        <p:spPr>
          <a:xfrm>
            <a:off x="6146640" y="2792520"/>
            <a:ext cx="1153800" cy="7059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1635" h="1778">
                <a:moveTo>
                  <a:pt x="1635" y="1540"/>
                </a:moveTo>
                <a:lnTo>
                  <a:pt x="1635" y="360"/>
                </a:lnTo>
                <a:lnTo>
                  <a:pt x="1214" y="360"/>
                </a:lnTo>
                <a:lnTo>
                  <a:pt x="1217" y="0"/>
                </a:lnTo>
                <a:lnTo>
                  <a:pt x="862" y="0"/>
                </a:lnTo>
                <a:lnTo>
                  <a:pt x="862" y="219"/>
                </a:lnTo>
                <a:lnTo>
                  <a:pt x="685" y="219"/>
                </a:lnTo>
                <a:lnTo>
                  <a:pt x="685" y="501"/>
                </a:lnTo>
                <a:lnTo>
                  <a:pt x="0" y="501"/>
                </a:lnTo>
                <a:lnTo>
                  <a:pt x="0" y="1609"/>
                </a:lnTo>
                <a:lnTo>
                  <a:pt x="199" y="1609"/>
                </a:lnTo>
                <a:lnTo>
                  <a:pt x="199" y="1778"/>
                </a:lnTo>
                <a:lnTo>
                  <a:pt x="1258" y="1778"/>
                </a:lnTo>
                <a:lnTo>
                  <a:pt x="1258" y="1540"/>
                </a:lnTo>
                <a:lnTo>
                  <a:pt x="1635" y="1540"/>
                </a:lnTo>
                <a:lnTo>
                  <a:pt x="1635" y="154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82"/>
          <p:cNvSpPr/>
          <p:nvPr/>
        </p:nvSpPr>
        <p:spPr>
          <a:xfrm>
            <a:off x="6146640" y="2792520"/>
            <a:ext cx="1153800" cy="705960"/>
          </a:xfrm>
          <a:custGeom>
            <a:avLst/>
            <a:gdLst>
              <a:gd name="textAreaLeft" fmla="*/ 0 w 1153800"/>
              <a:gd name="textAreaRight" fmla="*/ 1154160 w 1153800"/>
              <a:gd name="textAreaTop" fmla="*/ 0 h 705960"/>
              <a:gd name="textAreaBottom" fmla="*/ 706320 h 705960"/>
            </a:gdLst>
            <a:ahLst/>
            <a:rect l="textAreaLeft" t="textAreaTop" r="textAreaRight" b="textAreaBottom"/>
            <a:pathLst>
              <a:path w="1635" h="1778">
                <a:moveTo>
                  <a:pt x="1635" y="1540"/>
                </a:moveTo>
                <a:lnTo>
                  <a:pt x="1635" y="360"/>
                </a:lnTo>
                <a:lnTo>
                  <a:pt x="1214" y="360"/>
                </a:lnTo>
                <a:lnTo>
                  <a:pt x="1217" y="0"/>
                </a:lnTo>
                <a:lnTo>
                  <a:pt x="862" y="0"/>
                </a:lnTo>
                <a:lnTo>
                  <a:pt x="862" y="219"/>
                </a:lnTo>
                <a:lnTo>
                  <a:pt x="685" y="219"/>
                </a:lnTo>
                <a:lnTo>
                  <a:pt x="685" y="501"/>
                </a:lnTo>
                <a:lnTo>
                  <a:pt x="0" y="501"/>
                </a:lnTo>
                <a:lnTo>
                  <a:pt x="0" y="1609"/>
                </a:lnTo>
                <a:lnTo>
                  <a:pt x="199" y="1609"/>
                </a:lnTo>
                <a:lnTo>
                  <a:pt x="199" y="1778"/>
                </a:lnTo>
                <a:lnTo>
                  <a:pt x="1258" y="1778"/>
                </a:lnTo>
                <a:lnTo>
                  <a:pt x="1258" y="1540"/>
                </a:lnTo>
                <a:lnTo>
                  <a:pt x="1635" y="154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83"/>
          <p:cNvSpPr/>
          <p:nvPr/>
        </p:nvSpPr>
        <p:spPr>
          <a:xfrm>
            <a:off x="7315200" y="2971800"/>
            <a:ext cx="1055160" cy="91404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497" h="2305">
                <a:moveTo>
                  <a:pt x="0" y="1179"/>
                </a:moveTo>
                <a:lnTo>
                  <a:pt x="197" y="1179"/>
                </a:lnTo>
                <a:lnTo>
                  <a:pt x="197" y="1756"/>
                </a:lnTo>
                <a:lnTo>
                  <a:pt x="485" y="1756"/>
                </a:lnTo>
                <a:lnTo>
                  <a:pt x="485" y="2065"/>
                </a:lnTo>
                <a:lnTo>
                  <a:pt x="837" y="2065"/>
                </a:lnTo>
                <a:lnTo>
                  <a:pt x="837" y="2305"/>
                </a:lnTo>
                <a:lnTo>
                  <a:pt x="1497" y="2305"/>
                </a:lnTo>
                <a:lnTo>
                  <a:pt x="1497" y="648"/>
                </a:lnTo>
                <a:lnTo>
                  <a:pt x="329" y="648"/>
                </a:lnTo>
                <a:lnTo>
                  <a:pt x="329" y="0"/>
                </a:lnTo>
                <a:lnTo>
                  <a:pt x="0" y="0"/>
                </a:lnTo>
                <a:lnTo>
                  <a:pt x="0" y="117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84"/>
          <p:cNvSpPr/>
          <p:nvPr/>
        </p:nvSpPr>
        <p:spPr>
          <a:xfrm>
            <a:off x="7300800" y="2935440"/>
            <a:ext cx="1055160" cy="91404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497" h="2305">
                <a:moveTo>
                  <a:pt x="0" y="1179"/>
                </a:moveTo>
                <a:lnTo>
                  <a:pt x="197" y="1179"/>
                </a:lnTo>
                <a:lnTo>
                  <a:pt x="197" y="1756"/>
                </a:lnTo>
                <a:lnTo>
                  <a:pt x="485" y="1756"/>
                </a:lnTo>
                <a:lnTo>
                  <a:pt x="485" y="2065"/>
                </a:lnTo>
                <a:lnTo>
                  <a:pt x="837" y="2065"/>
                </a:lnTo>
                <a:lnTo>
                  <a:pt x="837" y="2305"/>
                </a:lnTo>
                <a:lnTo>
                  <a:pt x="1497" y="2305"/>
                </a:lnTo>
                <a:lnTo>
                  <a:pt x="1497" y="648"/>
                </a:lnTo>
                <a:lnTo>
                  <a:pt x="329" y="648"/>
                </a:lnTo>
                <a:lnTo>
                  <a:pt x="329" y="0"/>
                </a:lnTo>
                <a:lnTo>
                  <a:pt x="0" y="0"/>
                </a:lnTo>
                <a:lnTo>
                  <a:pt x="0" y="1179"/>
                </a:lnTo>
                <a:lnTo>
                  <a:pt x="0" y="117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5"/>
          <p:cNvSpPr/>
          <p:nvPr/>
        </p:nvSpPr>
        <p:spPr>
          <a:xfrm>
            <a:off x="7300800" y="2935440"/>
            <a:ext cx="1055160" cy="914040"/>
          </a:xfrm>
          <a:custGeom>
            <a:avLst/>
            <a:gdLst>
              <a:gd name="textAreaLeft" fmla="*/ 0 w 1055160"/>
              <a:gd name="textAreaRight" fmla="*/ 1055520 w 1055160"/>
              <a:gd name="textAreaTop" fmla="*/ 0 h 914040"/>
              <a:gd name="textAreaBottom" fmla="*/ 914400 h 914040"/>
            </a:gdLst>
            <a:ahLst/>
            <a:rect l="textAreaLeft" t="textAreaTop" r="textAreaRight" b="textAreaBottom"/>
            <a:pathLst>
              <a:path w="1497" h="2305">
                <a:moveTo>
                  <a:pt x="0" y="1179"/>
                </a:moveTo>
                <a:lnTo>
                  <a:pt x="197" y="1179"/>
                </a:lnTo>
                <a:lnTo>
                  <a:pt x="197" y="1756"/>
                </a:lnTo>
                <a:lnTo>
                  <a:pt x="485" y="1756"/>
                </a:lnTo>
                <a:lnTo>
                  <a:pt x="485" y="2065"/>
                </a:lnTo>
                <a:lnTo>
                  <a:pt x="837" y="2065"/>
                </a:lnTo>
                <a:lnTo>
                  <a:pt x="837" y="2305"/>
                </a:lnTo>
                <a:lnTo>
                  <a:pt x="1497" y="2305"/>
                </a:lnTo>
                <a:lnTo>
                  <a:pt x="1497" y="648"/>
                </a:lnTo>
                <a:lnTo>
                  <a:pt x="329" y="648"/>
                </a:lnTo>
                <a:lnTo>
                  <a:pt x="329" y="0"/>
                </a:lnTo>
                <a:lnTo>
                  <a:pt x="0" y="0"/>
                </a:lnTo>
                <a:lnTo>
                  <a:pt x="0" y="117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86"/>
          <p:cNvSpPr/>
          <p:nvPr/>
        </p:nvSpPr>
        <p:spPr>
          <a:xfrm>
            <a:off x="7532640" y="2592360"/>
            <a:ext cx="823680" cy="599760"/>
          </a:xfrm>
          <a:custGeom>
            <a:avLst/>
            <a:gdLst>
              <a:gd name="textAreaLeft" fmla="*/ 0 w 823680"/>
              <a:gd name="textAreaRight" fmla="*/ 824040 w 82368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167" h="1510">
                <a:moveTo>
                  <a:pt x="1167" y="0"/>
                </a:moveTo>
                <a:lnTo>
                  <a:pt x="685" y="0"/>
                </a:lnTo>
                <a:lnTo>
                  <a:pt x="685" y="238"/>
                </a:lnTo>
                <a:lnTo>
                  <a:pt x="529" y="238"/>
                </a:lnTo>
                <a:lnTo>
                  <a:pt x="529" y="431"/>
                </a:lnTo>
                <a:lnTo>
                  <a:pt x="330" y="431"/>
                </a:lnTo>
                <a:lnTo>
                  <a:pt x="330" y="697"/>
                </a:lnTo>
                <a:lnTo>
                  <a:pt x="0" y="697"/>
                </a:lnTo>
                <a:lnTo>
                  <a:pt x="0" y="1510"/>
                </a:lnTo>
                <a:lnTo>
                  <a:pt x="1167" y="1510"/>
                </a:lnTo>
                <a:lnTo>
                  <a:pt x="1167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87"/>
          <p:cNvSpPr/>
          <p:nvPr/>
        </p:nvSpPr>
        <p:spPr>
          <a:xfrm>
            <a:off x="7532640" y="2592360"/>
            <a:ext cx="823680" cy="599760"/>
          </a:xfrm>
          <a:custGeom>
            <a:avLst/>
            <a:gdLst>
              <a:gd name="textAreaLeft" fmla="*/ 0 w 823680"/>
              <a:gd name="textAreaRight" fmla="*/ 824040 w 82368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167" h="1510">
                <a:moveTo>
                  <a:pt x="1167" y="0"/>
                </a:moveTo>
                <a:lnTo>
                  <a:pt x="685" y="0"/>
                </a:lnTo>
                <a:lnTo>
                  <a:pt x="685" y="238"/>
                </a:lnTo>
                <a:lnTo>
                  <a:pt x="529" y="238"/>
                </a:lnTo>
                <a:lnTo>
                  <a:pt x="529" y="431"/>
                </a:lnTo>
                <a:lnTo>
                  <a:pt x="330" y="431"/>
                </a:lnTo>
                <a:lnTo>
                  <a:pt x="330" y="697"/>
                </a:lnTo>
                <a:lnTo>
                  <a:pt x="0" y="697"/>
                </a:lnTo>
                <a:lnTo>
                  <a:pt x="0" y="1510"/>
                </a:lnTo>
                <a:lnTo>
                  <a:pt x="1167" y="1510"/>
                </a:lnTo>
                <a:lnTo>
                  <a:pt x="1167" y="0"/>
                </a:lnTo>
                <a:lnTo>
                  <a:pt x="1167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88"/>
          <p:cNvSpPr/>
          <p:nvPr/>
        </p:nvSpPr>
        <p:spPr>
          <a:xfrm>
            <a:off x="7532640" y="2592360"/>
            <a:ext cx="823680" cy="599760"/>
          </a:xfrm>
          <a:custGeom>
            <a:avLst/>
            <a:gdLst>
              <a:gd name="textAreaLeft" fmla="*/ 0 w 823680"/>
              <a:gd name="textAreaRight" fmla="*/ 824040 w 823680"/>
              <a:gd name="textAreaTop" fmla="*/ 0 h 599760"/>
              <a:gd name="textAreaBottom" fmla="*/ 600120 h 599760"/>
            </a:gdLst>
            <a:ahLst/>
            <a:rect l="textAreaLeft" t="textAreaTop" r="textAreaRight" b="textAreaBottom"/>
            <a:pathLst>
              <a:path w="1167" h="1510">
                <a:moveTo>
                  <a:pt x="1167" y="0"/>
                </a:moveTo>
                <a:lnTo>
                  <a:pt x="685" y="0"/>
                </a:lnTo>
                <a:lnTo>
                  <a:pt x="685" y="238"/>
                </a:lnTo>
                <a:lnTo>
                  <a:pt x="529" y="238"/>
                </a:lnTo>
                <a:lnTo>
                  <a:pt x="529" y="431"/>
                </a:lnTo>
                <a:lnTo>
                  <a:pt x="330" y="431"/>
                </a:lnTo>
                <a:lnTo>
                  <a:pt x="330" y="697"/>
                </a:lnTo>
                <a:lnTo>
                  <a:pt x="0" y="697"/>
                </a:lnTo>
                <a:lnTo>
                  <a:pt x="0" y="1510"/>
                </a:lnTo>
                <a:lnTo>
                  <a:pt x="1167" y="1510"/>
                </a:lnTo>
                <a:lnTo>
                  <a:pt x="1167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89"/>
          <p:cNvSpPr/>
          <p:nvPr/>
        </p:nvSpPr>
        <p:spPr>
          <a:xfrm>
            <a:off x="3240000" y="2727360"/>
            <a:ext cx="995040" cy="474480"/>
          </a:xfrm>
          <a:custGeom>
            <a:avLst/>
            <a:gdLst>
              <a:gd name="textAreaLeft" fmla="*/ 0 w 995040"/>
              <a:gd name="textAreaRight" fmla="*/ 995400 w 995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11" h="1199">
                <a:moveTo>
                  <a:pt x="0" y="889"/>
                </a:moveTo>
                <a:lnTo>
                  <a:pt x="0" y="0"/>
                </a:lnTo>
                <a:lnTo>
                  <a:pt x="243" y="0"/>
                </a:lnTo>
                <a:lnTo>
                  <a:pt x="352" y="168"/>
                </a:lnTo>
                <a:lnTo>
                  <a:pt x="882" y="168"/>
                </a:lnTo>
                <a:lnTo>
                  <a:pt x="882" y="47"/>
                </a:lnTo>
                <a:lnTo>
                  <a:pt x="1320" y="50"/>
                </a:lnTo>
                <a:lnTo>
                  <a:pt x="1366" y="96"/>
                </a:lnTo>
                <a:lnTo>
                  <a:pt x="1366" y="649"/>
                </a:lnTo>
                <a:lnTo>
                  <a:pt x="1255" y="649"/>
                </a:lnTo>
                <a:lnTo>
                  <a:pt x="1255" y="937"/>
                </a:lnTo>
                <a:lnTo>
                  <a:pt x="1411" y="937"/>
                </a:lnTo>
                <a:lnTo>
                  <a:pt x="1411" y="1199"/>
                </a:lnTo>
                <a:lnTo>
                  <a:pt x="683" y="889"/>
                </a:lnTo>
                <a:lnTo>
                  <a:pt x="0" y="889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90"/>
          <p:cNvSpPr/>
          <p:nvPr/>
        </p:nvSpPr>
        <p:spPr>
          <a:xfrm>
            <a:off x="3240000" y="2727360"/>
            <a:ext cx="995040" cy="474480"/>
          </a:xfrm>
          <a:custGeom>
            <a:avLst/>
            <a:gdLst>
              <a:gd name="textAreaLeft" fmla="*/ 0 w 995040"/>
              <a:gd name="textAreaRight" fmla="*/ 995400 w 995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11" h="1199">
                <a:moveTo>
                  <a:pt x="0" y="889"/>
                </a:moveTo>
                <a:lnTo>
                  <a:pt x="0" y="0"/>
                </a:lnTo>
                <a:lnTo>
                  <a:pt x="243" y="0"/>
                </a:lnTo>
                <a:lnTo>
                  <a:pt x="352" y="168"/>
                </a:lnTo>
                <a:lnTo>
                  <a:pt x="882" y="168"/>
                </a:lnTo>
                <a:lnTo>
                  <a:pt x="882" y="47"/>
                </a:lnTo>
                <a:lnTo>
                  <a:pt x="1320" y="50"/>
                </a:lnTo>
                <a:lnTo>
                  <a:pt x="1366" y="96"/>
                </a:lnTo>
                <a:lnTo>
                  <a:pt x="1366" y="649"/>
                </a:lnTo>
                <a:lnTo>
                  <a:pt x="1255" y="649"/>
                </a:lnTo>
                <a:lnTo>
                  <a:pt x="1255" y="937"/>
                </a:lnTo>
                <a:lnTo>
                  <a:pt x="1411" y="937"/>
                </a:lnTo>
                <a:lnTo>
                  <a:pt x="1411" y="1199"/>
                </a:lnTo>
                <a:lnTo>
                  <a:pt x="683" y="889"/>
                </a:lnTo>
                <a:lnTo>
                  <a:pt x="0" y="889"/>
                </a:lnTo>
                <a:lnTo>
                  <a:pt x="0" y="889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91"/>
          <p:cNvSpPr/>
          <p:nvPr/>
        </p:nvSpPr>
        <p:spPr>
          <a:xfrm>
            <a:off x="3240000" y="2727360"/>
            <a:ext cx="995040" cy="474480"/>
          </a:xfrm>
          <a:custGeom>
            <a:avLst/>
            <a:gdLst>
              <a:gd name="textAreaLeft" fmla="*/ 0 w 995040"/>
              <a:gd name="textAreaRight" fmla="*/ 995400 w 99504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1411" h="1199">
                <a:moveTo>
                  <a:pt x="0" y="889"/>
                </a:moveTo>
                <a:lnTo>
                  <a:pt x="0" y="0"/>
                </a:lnTo>
                <a:lnTo>
                  <a:pt x="243" y="0"/>
                </a:lnTo>
                <a:lnTo>
                  <a:pt x="352" y="168"/>
                </a:lnTo>
                <a:lnTo>
                  <a:pt x="882" y="168"/>
                </a:lnTo>
                <a:lnTo>
                  <a:pt x="882" y="47"/>
                </a:lnTo>
                <a:lnTo>
                  <a:pt x="1320" y="50"/>
                </a:lnTo>
                <a:lnTo>
                  <a:pt x="1366" y="96"/>
                </a:lnTo>
                <a:lnTo>
                  <a:pt x="1366" y="649"/>
                </a:lnTo>
                <a:lnTo>
                  <a:pt x="1255" y="649"/>
                </a:lnTo>
                <a:lnTo>
                  <a:pt x="1255" y="937"/>
                </a:lnTo>
                <a:lnTo>
                  <a:pt x="1411" y="937"/>
                </a:lnTo>
                <a:lnTo>
                  <a:pt x="1411" y="1199"/>
                </a:lnTo>
                <a:lnTo>
                  <a:pt x="683" y="889"/>
                </a:lnTo>
                <a:lnTo>
                  <a:pt x="0" y="889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92"/>
          <p:cNvSpPr/>
          <p:nvPr/>
        </p:nvSpPr>
        <p:spPr>
          <a:xfrm>
            <a:off x="3251160" y="4400640"/>
            <a:ext cx="1257120" cy="12315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1782" h="3103">
                <a:moveTo>
                  <a:pt x="1655" y="0"/>
                </a:moveTo>
                <a:lnTo>
                  <a:pt x="593" y="698"/>
                </a:lnTo>
                <a:lnTo>
                  <a:pt x="0" y="698"/>
                </a:lnTo>
                <a:lnTo>
                  <a:pt x="0" y="3103"/>
                </a:lnTo>
                <a:lnTo>
                  <a:pt x="1782" y="3103"/>
                </a:lnTo>
                <a:lnTo>
                  <a:pt x="1276" y="2719"/>
                </a:lnTo>
                <a:lnTo>
                  <a:pt x="1312" y="2625"/>
                </a:lnTo>
                <a:lnTo>
                  <a:pt x="1278" y="2335"/>
                </a:lnTo>
                <a:lnTo>
                  <a:pt x="1655" y="2335"/>
                </a:lnTo>
                <a:lnTo>
                  <a:pt x="1655" y="0"/>
                </a:lnTo>
                <a:close/>
              </a:path>
            </a:pathLst>
          </a:cu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93"/>
          <p:cNvSpPr/>
          <p:nvPr/>
        </p:nvSpPr>
        <p:spPr>
          <a:xfrm>
            <a:off x="3240000" y="4410000"/>
            <a:ext cx="1257120" cy="12315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1782" h="3103">
                <a:moveTo>
                  <a:pt x="1655" y="0"/>
                </a:moveTo>
                <a:lnTo>
                  <a:pt x="593" y="698"/>
                </a:lnTo>
                <a:lnTo>
                  <a:pt x="0" y="698"/>
                </a:lnTo>
                <a:lnTo>
                  <a:pt x="0" y="3103"/>
                </a:lnTo>
                <a:lnTo>
                  <a:pt x="1782" y="3103"/>
                </a:lnTo>
                <a:lnTo>
                  <a:pt x="1276" y="2719"/>
                </a:lnTo>
                <a:lnTo>
                  <a:pt x="1312" y="2625"/>
                </a:lnTo>
                <a:lnTo>
                  <a:pt x="1278" y="2335"/>
                </a:lnTo>
                <a:lnTo>
                  <a:pt x="1655" y="2335"/>
                </a:lnTo>
                <a:lnTo>
                  <a:pt x="1655" y="0"/>
                </a:lnTo>
                <a:lnTo>
                  <a:pt x="1655" y="0"/>
                </a:lnTo>
              </a:path>
            </a:pathLst>
          </a:custGeom>
          <a:noFill/>
          <a:ln w="4763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94"/>
          <p:cNvSpPr/>
          <p:nvPr/>
        </p:nvSpPr>
        <p:spPr>
          <a:xfrm>
            <a:off x="3240000" y="4410000"/>
            <a:ext cx="1257120" cy="123156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231560"/>
              <a:gd name="textAreaBottom" fmla="*/ 1231920 h 1231560"/>
            </a:gdLst>
            <a:ahLst/>
            <a:rect l="textAreaLeft" t="textAreaTop" r="textAreaRight" b="textAreaBottom"/>
            <a:pathLst>
              <a:path w="1782" h="3103">
                <a:moveTo>
                  <a:pt x="1655" y="0"/>
                </a:moveTo>
                <a:lnTo>
                  <a:pt x="593" y="698"/>
                </a:lnTo>
                <a:lnTo>
                  <a:pt x="0" y="698"/>
                </a:lnTo>
                <a:lnTo>
                  <a:pt x="0" y="3103"/>
                </a:lnTo>
                <a:lnTo>
                  <a:pt x="1782" y="3103"/>
                </a:lnTo>
                <a:lnTo>
                  <a:pt x="1276" y="2719"/>
                </a:lnTo>
                <a:lnTo>
                  <a:pt x="1312" y="2625"/>
                </a:lnTo>
                <a:lnTo>
                  <a:pt x="1278" y="2335"/>
                </a:lnTo>
                <a:lnTo>
                  <a:pt x="1655" y="2335"/>
                </a:lnTo>
                <a:lnTo>
                  <a:pt x="1655" y="0"/>
                </a:lnTo>
              </a:path>
            </a:pathLst>
          </a:custGeom>
          <a:noFill/>
          <a:ln w="4763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95"/>
          <p:cNvSpPr/>
          <p:nvPr/>
        </p:nvSpPr>
        <p:spPr>
          <a:xfrm>
            <a:off x="932040" y="866880"/>
            <a:ext cx="7527600" cy="5184360"/>
          </a:xfrm>
          <a:custGeom>
            <a:avLst/>
            <a:gdLst>
              <a:gd name="textAreaLeft" fmla="*/ 0 w 7527600"/>
              <a:gd name="textAreaRight" fmla="*/ 7527960 w 7527600"/>
              <a:gd name="textAreaTop" fmla="*/ 0 h 5184360"/>
              <a:gd name="textAreaBottom" fmla="*/ 5184720 h 5184360"/>
            </a:gdLst>
            <a:ahLst/>
            <a:rect l="textAreaLeft" t="textAreaTop" r="textAreaRight" b="textAreaBottom"/>
            <a:pathLst>
              <a:path w="10673" h="13063">
                <a:moveTo>
                  <a:pt x="10498" y="1296"/>
                </a:moveTo>
                <a:lnTo>
                  <a:pt x="10498" y="11240"/>
                </a:lnTo>
                <a:lnTo>
                  <a:pt x="4520" y="11238"/>
                </a:lnTo>
                <a:lnTo>
                  <a:pt x="4553" y="11534"/>
                </a:lnTo>
                <a:lnTo>
                  <a:pt x="4520" y="11624"/>
                </a:lnTo>
                <a:lnTo>
                  <a:pt x="5023" y="12007"/>
                </a:lnTo>
                <a:lnTo>
                  <a:pt x="1673" y="12007"/>
                </a:lnTo>
                <a:lnTo>
                  <a:pt x="1673" y="13063"/>
                </a:lnTo>
                <a:lnTo>
                  <a:pt x="6" y="13063"/>
                </a:lnTo>
                <a:lnTo>
                  <a:pt x="0" y="0"/>
                </a:lnTo>
                <a:lnTo>
                  <a:pt x="10673" y="0"/>
                </a:lnTo>
                <a:lnTo>
                  <a:pt x="10673" y="1296"/>
                </a:lnTo>
                <a:lnTo>
                  <a:pt x="10498" y="1296"/>
                </a:lnTo>
              </a:path>
            </a:pathLst>
          </a:custGeom>
          <a:noFill/>
          <a:ln w="1587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96"/>
          <p:cNvSpPr/>
          <p:nvPr/>
        </p:nvSpPr>
        <p:spPr>
          <a:xfrm flipH="1">
            <a:off x="4236840" y="1714320"/>
            <a:ext cx="30240" cy="144360"/>
          </a:xfrm>
          <a:prstGeom prst="line">
            <a:avLst/>
          </a:prstGeom>
          <a:ln w="7938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97"/>
          <p:cNvSpPr/>
          <p:nvPr/>
        </p:nvSpPr>
        <p:spPr>
          <a:xfrm>
            <a:off x="4214880" y="1851120"/>
            <a:ext cx="47160" cy="52200"/>
          </a:xfrm>
          <a:custGeom>
            <a:avLst/>
            <a:gdLst>
              <a:gd name="textAreaLeft" fmla="*/ 0 w 47160"/>
              <a:gd name="textAreaRight" fmla="*/ 47520 w 4716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69" h="132">
                <a:moveTo>
                  <a:pt x="35" y="68"/>
                </a:moveTo>
                <a:lnTo>
                  <a:pt x="69" y="14"/>
                </a:lnTo>
                <a:lnTo>
                  <a:pt x="0" y="0"/>
                </a:lnTo>
                <a:lnTo>
                  <a:pt x="6" y="62"/>
                </a:lnTo>
                <a:lnTo>
                  <a:pt x="11" y="132"/>
                </a:lnTo>
                <a:lnTo>
                  <a:pt x="35" y="68"/>
                </a:lnTo>
                <a:close/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98"/>
          <p:cNvSpPr/>
          <p:nvPr/>
        </p:nvSpPr>
        <p:spPr>
          <a:xfrm>
            <a:off x="3323160" y="3429000"/>
            <a:ext cx="4399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cor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9"/>
          <p:cNvSpPr/>
          <p:nvPr/>
        </p:nvSpPr>
        <p:spPr>
          <a:xfrm>
            <a:off x="1454400" y="1198440"/>
            <a:ext cx="5115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 Ju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0"/>
          <p:cNvSpPr/>
          <p:nvPr/>
        </p:nvSpPr>
        <p:spPr>
          <a:xfrm>
            <a:off x="4836960" y="1214280"/>
            <a:ext cx="26028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a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1"/>
          <p:cNvSpPr/>
          <p:nvPr/>
        </p:nvSpPr>
        <p:spPr>
          <a:xfrm>
            <a:off x="1546920" y="2000160"/>
            <a:ext cx="5040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cKinl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102"/>
          <p:cNvSpPr/>
          <p:nvPr/>
        </p:nvSpPr>
        <p:spPr>
          <a:xfrm>
            <a:off x="3295800" y="2049480"/>
            <a:ext cx="5115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do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3"/>
          <p:cNvSpPr/>
          <p:nvPr/>
        </p:nvSpPr>
        <p:spPr>
          <a:xfrm>
            <a:off x="3708360" y="1600200"/>
            <a:ext cx="86328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os Alam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4"/>
          <p:cNvSpPr/>
          <p:nvPr/>
        </p:nvSpPr>
        <p:spPr>
          <a:xfrm>
            <a:off x="4427640" y="2057400"/>
            <a:ext cx="7869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 F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5"/>
          <p:cNvSpPr/>
          <p:nvPr/>
        </p:nvSpPr>
        <p:spPr>
          <a:xfrm>
            <a:off x="2071800" y="2643120"/>
            <a:ext cx="35172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ibo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6"/>
          <p:cNvSpPr/>
          <p:nvPr/>
        </p:nvSpPr>
        <p:spPr>
          <a:xfrm>
            <a:off x="3016440" y="4295880"/>
            <a:ext cx="3258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ier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7"/>
          <p:cNvSpPr/>
          <p:nvPr/>
        </p:nvSpPr>
        <p:spPr>
          <a:xfrm>
            <a:off x="1394640" y="4537080"/>
            <a:ext cx="3060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08"/>
          <p:cNvSpPr/>
          <p:nvPr/>
        </p:nvSpPr>
        <p:spPr>
          <a:xfrm>
            <a:off x="2525040" y="5086440"/>
            <a:ext cx="2754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u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9"/>
          <p:cNvSpPr/>
          <p:nvPr/>
        </p:nvSpPr>
        <p:spPr>
          <a:xfrm>
            <a:off x="1084320" y="5486400"/>
            <a:ext cx="42156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dal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10"/>
          <p:cNvSpPr/>
          <p:nvPr/>
        </p:nvSpPr>
        <p:spPr>
          <a:xfrm>
            <a:off x="3544200" y="4971960"/>
            <a:ext cx="5313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na A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1"/>
          <p:cNvSpPr/>
          <p:nvPr/>
        </p:nvSpPr>
        <p:spPr>
          <a:xfrm>
            <a:off x="6050880" y="1143000"/>
            <a:ext cx="3517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lf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12"/>
          <p:cNvSpPr/>
          <p:nvPr/>
        </p:nvSpPr>
        <p:spPr>
          <a:xfrm>
            <a:off x="7493040" y="1238400"/>
            <a:ext cx="3258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13"/>
          <p:cNvSpPr/>
          <p:nvPr/>
        </p:nvSpPr>
        <p:spPr>
          <a:xfrm>
            <a:off x="5937480" y="1600200"/>
            <a:ext cx="27396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14"/>
          <p:cNvSpPr/>
          <p:nvPr/>
        </p:nvSpPr>
        <p:spPr>
          <a:xfrm>
            <a:off x="7024320" y="1655640"/>
            <a:ext cx="4338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rd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5"/>
          <p:cNvSpPr/>
          <p:nvPr/>
        </p:nvSpPr>
        <p:spPr>
          <a:xfrm>
            <a:off x="5587920" y="2057400"/>
            <a:ext cx="10155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 Migu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6"/>
          <p:cNvSpPr/>
          <p:nvPr/>
        </p:nvSpPr>
        <p:spPr>
          <a:xfrm>
            <a:off x="3522240" y="2514600"/>
            <a:ext cx="5238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rnalill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17"/>
          <p:cNvSpPr/>
          <p:nvPr/>
        </p:nvSpPr>
        <p:spPr>
          <a:xfrm>
            <a:off x="3532320" y="2800440"/>
            <a:ext cx="4611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l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18"/>
          <p:cNvSpPr/>
          <p:nvPr/>
        </p:nvSpPr>
        <p:spPr>
          <a:xfrm>
            <a:off x="4622400" y="2868480"/>
            <a:ext cx="48276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r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19"/>
          <p:cNvSpPr/>
          <p:nvPr/>
        </p:nvSpPr>
        <p:spPr>
          <a:xfrm>
            <a:off x="5204880" y="3598920"/>
            <a:ext cx="40968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20"/>
          <p:cNvSpPr/>
          <p:nvPr/>
        </p:nvSpPr>
        <p:spPr>
          <a:xfrm>
            <a:off x="4926960" y="4629240"/>
            <a:ext cx="3060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1"/>
          <p:cNvSpPr/>
          <p:nvPr/>
        </p:nvSpPr>
        <p:spPr>
          <a:xfrm>
            <a:off x="6759000" y="4743360"/>
            <a:ext cx="2815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d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22"/>
          <p:cNvSpPr/>
          <p:nvPr/>
        </p:nvSpPr>
        <p:spPr>
          <a:xfrm>
            <a:off x="6771240" y="3886200"/>
            <a:ext cx="40968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av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23"/>
          <p:cNvSpPr/>
          <p:nvPr/>
        </p:nvSpPr>
        <p:spPr>
          <a:xfrm>
            <a:off x="7863120" y="4352760"/>
            <a:ext cx="19908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124"/>
          <p:cNvSpPr/>
          <p:nvPr/>
        </p:nvSpPr>
        <p:spPr>
          <a:xfrm>
            <a:off x="7586280" y="3270240"/>
            <a:ext cx="54972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oosevel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125"/>
          <p:cNvSpPr/>
          <p:nvPr/>
        </p:nvSpPr>
        <p:spPr>
          <a:xfrm>
            <a:off x="6474600" y="3086280"/>
            <a:ext cx="4536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 Ba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26"/>
          <p:cNvSpPr/>
          <p:nvPr/>
        </p:nvSpPr>
        <p:spPr>
          <a:xfrm>
            <a:off x="5974920" y="2690640"/>
            <a:ext cx="59400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uadalu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27"/>
          <p:cNvSpPr/>
          <p:nvPr/>
        </p:nvSpPr>
        <p:spPr>
          <a:xfrm>
            <a:off x="7666560" y="2343240"/>
            <a:ext cx="28764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u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28"/>
          <p:cNvSpPr/>
          <p:nvPr/>
        </p:nvSpPr>
        <p:spPr>
          <a:xfrm>
            <a:off x="7873200" y="2857680"/>
            <a:ext cx="30600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29"/>
          <p:cNvSpPr/>
          <p:nvPr/>
        </p:nvSpPr>
        <p:spPr>
          <a:xfrm>
            <a:off x="3445920" y="1143000"/>
            <a:ext cx="549720" cy="31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o Arrib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0"/>
          <p:cNvSpPr/>
          <p:nvPr/>
        </p:nvSpPr>
        <p:spPr>
          <a:xfrm>
            <a:off x="1482480" y="3543480"/>
            <a:ext cx="369720" cy="136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tr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31"/>
          <p:cNvSpPr/>
          <p:nvPr/>
        </p:nvSpPr>
        <p:spPr>
          <a:xfrm>
            <a:off x="4673520" y="56577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2"/>
          <p:cNvSpPr/>
          <p:nvPr/>
        </p:nvSpPr>
        <p:spPr>
          <a:xfrm>
            <a:off x="4876920" y="5600880"/>
            <a:ext cx="4063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Cor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33"/>
          <p:cNvSpPr/>
          <p:nvPr/>
        </p:nvSpPr>
        <p:spPr>
          <a:xfrm>
            <a:off x="4572000" y="21718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134"/>
          <p:cNvSpPr/>
          <p:nvPr/>
        </p:nvSpPr>
        <p:spPr>
          <a:xfrm>
            <a:off x="3657600" y="29145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135"/>
          <p:cNvSpPr/>
          <p:nvPr/>
        </p:nvSpPr>
        <p:spPr>
          <a:xfrm>
            <a:off x="2336760" y="27432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136"/>
          <p:cNvSpPr/>
          <p:nvPr/>
        </p:nvSpPr>
        <p:spPr>
          <a:xfrm>
            <a:off x="7924680" y="4857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137"/>
          <p:cNvSpPr/>
          <p:nvPr/>
        </p:nvSpPr>
        <p:spPr>
          <a:xfrm>
            <a:off x="629928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138"/>
          <p:cNvSpPr/>
          <p:nvPr/>
        </p:nvSpPr>
        <p:spPr>
          <a:xfrm>
            <a:off x="3860640" y="4857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139"/>
          <p:cNvSpPr/>
          <p:nvPr/>
        </p:nvSpPr>
        <p:spPr>
          <a:xfrm>
            <a:off x="7010280" y="41148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00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40"/>
          <p:cNvSpPr/>
          <p:nvPr/>
        </p:nvSpPr>
        <p:spPr>
          <a:xfrm>
            <a:off x="4673520" y="22860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41"/>
          <p:cNvSpPr/>
          <p:nvPr/>
        </p:nvSpPr>
        <p:spPr>
          <a:xfrm>
            <a:off x="4673520" y="58294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accent1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42"/>
          <p:cNvSpPr/>
          <p:nvPr/>
        </p:nvSpPr>
        <p:spPr>
          <a:xfrm>
            <a:off x="5154480" y="5772240"/>
            <a:ext cx="16776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 Health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43"/>
          <p:cNvSpPr/>
          <p:nvPr/>
        </p:nvSpPr>
        <p:spPr>
          <a:xfrm>
            <a:off x="7721640" y="6172200"/>
            <a:ext cx="7315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144"/>
          <p:cNvSpPr/>
          <p:nvPr/>
        </p:nvSpPr>
        <p:spPr>
          <a:xfrm>
            <a:off x="4368960" y="14860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145"/>
          <p:cNvSpPr/>
          <p:nvPr/>
        </p:nvSpPr>
        <p:spPr>
          <a:xfrm>
            <a:off x="4673520" y="54864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146"/>
          <p:cNvSpPr/>
          <p:nvPr/>
        </p:nvSpPr>
        <p:spPr>
          <a:xfrm>
            <a:off x="5384880" y="21146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47"/>
          <p:cNvSpPr/>
          <p:nvPr/>
        </p:nvSpPr>
        <p:spPr>
          <a:xfrm>
            <a:off x="4876920" y="5429160"/>
            <a:ext cx="44334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ly Qualified Health Centers ( FQHC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148"/>
          <p:cNvSpPr/>
          <p:nvPr/>
        </p:nvSpPr>
        <p:spPr>
          <a:xfrm>
            <a:off x="7721640" y="32004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149"/>
          <p:cNvSpPr/>
          <p:nvPr/>
        </p:nvSpPr>
        <p:spPr>
          <a:xfrm>
            <a:off x="345456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150"/>
          <p:cNvSpPr/>
          <p:nvPr/>
        </p:nvSpPr>
        <p:spPr>
          <a:xfrm>
            <a:off x="7213680" y="49719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151"/>
          <p:cNvSpPr/>
          <p:nvPr/>
        </p:nvSpPr>
        <p:spPr>
          <a:xfrm>
            <a:off x="1625760" y="4857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52"/>
          <p:cNvSpPr/>
          <p:nvPr/>
        </p:nvSpPr>
        <p:spPr>
          <a:xfrm>
            <a:off x="3556080" y="48006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53"/>
          <p:cNvSpPr/>
          <p:nvPr/>
        </p:nvSpPr>
        <p:spPr>
          <a:xfrm>
            <a:off x="406404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54"/>
          <p:cNvSpPr/>
          <p:nvPr/>
        </p:nvSpPr>
        <p:spPr>
          <a:xfrm>
            <a:off x="2139480" y="0"/>
            <a:ext cx="4777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ECHO RURAL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AutoShape 155"/>
          <p:cNvSpPr/>
          <p:nvPr/>
        </p:nvSpPr>
        <p:spPr>
          <a:xfrm>
            <a:off x="3454560" y="520056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56"/>
          <p:cNvSpPr/>
          <p:nvPr/>
        </p:nvSpPr>
        <p:spPr>
          <a:xfrm>
            <a:off x="4165560" y="6058080"/>
            <a:ext cx="24588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157"/>
          <p:cNvSpPr/>
          <p:nvPr/>
        </p:nvSpPr>
        <p:spPr>
          <a:xfrm>
            <a:off x="3962520" y="51436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ff00"/>
          </a:solidFill>
          <a:ln w="9525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158"/>
          <p:cNvSpPr/>
          <p:nvPr/>
        </p:nvSpPr>
        <p:spPr>
          <a:xfrm>
            <a:off x="4673520" y="6000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fff00"/>
          </a:solidFill>
          <a:ln w="9525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159"/>
          <p:cNvSpPr/>
          <p:nvPr/>
        </p:nvSpPr>
        <p:spPr>
          <a:xfrm>
            <a:off x="7823160" y="30862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160"/>
          <p:cNvSpPr/>
          <p:nvPr/>
        </p:nvSpPr>
        <p:spPr>
          <a:xfrm>
            <a:off x="4673520" y="61722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161"/>
          <p:cNvSpPr/>
          <p:nvPr/>
        </p:nvSpPr>
        <p:spPr>
          <a:xfrm>
            <a:off x="5163120" y="6114960"/>
            <a:ext cx="10954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2"/>
          <p:cNvSpPr/>
          <p:nvPr/>
        </p:nvSpPr>
        <p:spPr>
          <a:xfrm>
            <a:off x="7095600" y="5797440"/>
            <a:ext cx="6213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IH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163"/>
          <p:cNvSpPr/>
          <p:nvPr/>
        </p:nvSpPr>
        <p:spPr>
          <a:xfrm>
            <a:off x="5221800" y="5969160"/>
            <a:ext cx="22017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Health ( DOH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164"/>
          <p:cNvSpPr/>
          <p:nvPr/>
        </p:nvSpPr>
        <p:spPr>
          <a:xfrm>
            <a:off x="4957920" y="6140520"/>
            <a:ext cx="244080" cy="205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165"/>
          <p:cNvSpPr/>
          <p:nvPr/>
        </p:nvSpPr>
        <p:spPr>
          <a:xfrm>
            <a:off x="5131080" y="6140520"/>
            <a:ext cx="1659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ing FQHC &amp; I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66"/>
          <p:cNvSpPr/>
          <p:nvPr/>
        </p:nvSpPr>
        <p:spPr>
          <a:xfrm>
            <a:off x="2031840" y="12574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67"/>
          <p:cNvSpPr/>
          <p:nvPr/>
        </p:nvSpPr>
        <p:spPr>
          <a:xfrm>
            <a:off x="2844720" y="41720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utoShape 168"/>
          <p:cNvSpPr/>
          <p:nvPr/>
        </p:nvSpPr>
        <p:spPr>
          <a:xfrm>
            <a:off x="7823160" y="42292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169"/>
          <p:cNvSpPr/>
          <p:nvPr/>
        </p:nvSpPr>
        <p:spPr>
          <a:xfrm>
            <a:off x="1015920" y="114300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ccffff"/>
          </a:solidFill>
          <a:ln w="9525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70"/>
          <p:cNvSpPr/>
          <p:nvPr/>
        </p:nvSpPr>
        <p:spPr>
          <a:xfrm>
            <a:off x="3771720" y="552600"/>
            <a:ext cx="60768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171"/>
          <p:cNvSpPr/>
          <p:nvPr/>
        </p:nvSpPr>
        <p:spPr>
          <a:xfrm>
            <a:off x="1930320" y="217188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172"/>
          <p:cNvSpPr/>
          <p:nvPr/>
        </p:nvSpPr>
        <p:spPr>
          <a:xfrm>
            <a:off x="3759120" y="2571840"/>
            <a:ext cx="202680" cy="1141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741dcc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1600200" y="304920"/>
            <a:ext cx="4723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MI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0" y="1219320"/>
            <a:ext cx="9143640" cy="151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600200" y="2697120"/>
            <a:ext cx="6476760" cy="264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Tw Cen MT"/>
              </a:rPr>
              <a:t>The mission of Project ECHO 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Tw Cen MT"/>
              </a:rPr>
              <a:t>develop the capacity to safely and effectively treat chronic, common and complex diseases in rural and underserved areas and to monitor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2209680" y="5867280"/>
            <a:ext cx="52574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143000" y="5791320"/>
            <a:ext cx="6857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Supported by Agency for Health Research and Quality grant   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1 UC1 HS015135-03 and New Mexico Legisl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9"/>
          <p:cNvSpPr/>
          <p:nvPr/>
        </p:nvSpPr>
        <p:spPr>
          <a:xfrm>
            <a:off x="914400" y="380880"/>
            <a:ext cx="44953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533520" y="457200"/>
            <a:ext cx="8305560" cy="5864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chemeClr val="accent2"/>
                </a:solidFill>
                <a:latin typeface="Tahoma"/>
              </a:rPr>
              <a:t>How well has model work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400" spc="-1" strike="noStrike">
                <a:solidFill>
                  <a:schemeClr val="accent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Tahoma"/>
              </a:rPr>
              <a:t>173 HCV Telehealth Clinics have been cond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1400"/>
              </a:spcBef>
              <a:buClr>
                <a:srgbClr val="333399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chemeClr val="accent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chemeClr val="accent2"/>
                </a:solidFill>
                <a:latin typeface="Tahoma"/>
              </a:rPr>
              <a:t>3016 patients manag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 u="sng">
                <a:solidFill>
                  <a:schemeClr val="accent2"/>
                </a:solidFill>
                <a:uFillTx/>
                <a:latin typeface="Arial"/>
              </a:rPr>
              <a:t>CME’s/CE’s issu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2917 CME/CE hours issued to ECHO providers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no-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chemeClr val="accent2"/>
                </a:solidFill>
                <a:latin typeface="Arial"/>
              </a:rPr>
              <a:t>205 hours of HCV Training conducted at rur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 Million Dollars of No Cost Drug Ob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ational Recognition as Model for Complex Diseas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811" name="Text Box 3"/>
          <p:cNvSpPr/>
          <p:nvPr/>
        </p:nvSpPr>
        <p:spPr>
          <a:xfrm>
            <a:off x="685800" y="304920"/>
            <a:ext cx="56383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KNOWLEDG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816" name="Text Box 9"/>
          <p:cNvSpPr/>
          <p:nvPr/>
        </p:nvSpPr>
        <p:spPr>
          <a:xfrm>
            <a:off x="838080" y="0"/>
            <a:ext cx="51051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Wood Johnson Changemaker A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 sought for Disruptive Innovations in Healthcare – New Models that would change healthcare nationally and glob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7 Applications from 27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finalists selected by a panel of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ECHO selected a winner by worldwide online v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820" name="Text Box 3"/>
          <p:cNvSpPr/>
          <p:nvPr/>
        </p:nvSpPr>
        <p:spPr>
          <a:xfrm>
            <a:off x="76320" y="304920"/>
            <a:ext cx="6248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VISION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Group 4"/>
          <p:cNvGraphicFramePr/>
          <p:nvPr/>
        </p:nvGraphicFramePr>
        <p:xfrm>
          <a:off x="228600" y="1600200"/>
          <a:ext cx="8762760" cy="4831920"/>
        </p:xfrm>
        <a:graphic>
          <a:graphicData uri="http://schemas.openxmlformats.org/drawingml/2006/table">
            <a:tbl>
              <a:tblPr/>
              <a:tblGrid>
                <a:gridCol w="1218960"/>
                <a:gridCol w="1295280"/>
                <a:gridCol w="1523880"/>
                <a:gridCol w="1523880"/>
                <a:gridCol w="1447560"/>
                <a:gridCol w="1752480"/>
              </a:tblGrid>
              <a:tr h="113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chemeClr val="accent2"/>
                        </a:solidFill>
                        <a:latin typeface="Tw Cen MT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M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T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W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Th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F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8-10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Hepatiti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Cardiac Risk Reduction Cl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Prevention of Teenage Suic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Mental Health Disor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10-12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Rhuema-t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Neur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Substance Ab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Geriatr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Endoc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2-4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Ga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Card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He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Fail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Childh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w Cen MT"/>
                        </a:rPr>
                        <a:t>Obes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chemeClr val="accent2"/>
                          </a:solidFill>
                          <a:latin typeface="Tw Cen MT"/>
                        </a:rPr>
                        <a:t>Orthoped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2" name="Text Box 41"/>
          <p:cNvSpPr/>
          <p:nvPr/>
        </p:nvSpPr>
        <p:spPr>
          <a:xfrm>
            <a:off x="1800" y="6491160"/>
            <a:ext cx="4341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42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43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4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826" name="Text Box 45"/>
          <p:cNvSpPr/>
          <p:nvPr/>
        </p:nvSpPr>
        <p:spPr>
          <a:xfrm>
            <a:off x="762120" y="304920"/>
            <a:ext cx="54097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rceived Benefits to Providers</a:t>
            </a:r>
            <a:br>
              <a:rPr sz="4400"/>
            </a:b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cale:  1 = none or no skill at all 7= expert-can teach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8" name="Group 3"/>
          <p:cNvGraphicFramePr/>
          <p:nvPr/>
        </p:nvGraphicFramePr>
        <p:xfrm>
          <a:off x="609480" y="1676520"/>
          <a:ext cx="8229240" cy="4313520"/>
        </p:xfrm>
        <a:graphic>
          <a:graphicData uri="http://schemas.openxmlformats.org/drawingml/2006/table">
            <a:tbl>
              <a:tblPr/>
              <a:tblGrid>
                <a:gridCol w="2743200"/>
                <a:gridCol w="1828800"/>
                <a:gridCol w="1218960"/>
                <a:gridCol w="1371600"/>
                <a:gridCol w="1066680"/>
              </a:tblGrid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=1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Particip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i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Ability to identify suitable candidates for treatment for HCV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     (0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Ability to assess severity of liver disease in patients with Hepatitis 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7 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6     (0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     (0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 Ability to treat HCV patients and manage side effect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3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5     (0.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     (1.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erceived Benefits to Providers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scale:  1 = none or no skill at all 7= expert-can teach oth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0" name="Group 3"/>
          <p:cNvGraphicFramePr/>
          <p:nvPr/>
        </p:nvGraphicFramePr>
        <p:xfrm>
          <a:off x="533520" y="1143000"/>
          <a:ext cx="8381520" cy="4877280"/>
        </p:xfrm>
        <a:graphic>
          <a:graphicData uri="http://schemas.openxmlformats.org/drawingml/2006/table">
            <a:tbl>
              <a:tblPr/>
              <a:tblGrid>
                <a:gridCol w="2819160"/>
                <a:gridCol w="1774800"/>
                <a:gridCol w="1272960"/>
                <a:gridCol w="1447560"/>
                <a:gridCol w="1066680"/>
              </a:tblGrid>
              <a:tr h="114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FORE Participa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ir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ffer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AN    (S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. Ability to assess and manage psychiatric co-morbidities in patients with Hepatitis 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7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3     (0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    (1.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000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 Serve as local consultant within my clinic and in my area for HCV questions and issu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8     (1.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.0     (0.9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     (1.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all  Competen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verage of 9 items abov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2*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7*    (0.6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     (1.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&lt;0.00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1" name="Rectangle 35"/>
          <p:cNvSpPr/>
          <p:nvPr/>
        </p:nvSpPr>
        <p:spPr>
          <a:xfrm>
            <a:off x="838080" y="6341040"/>
            <a:ext cx="7391160" cy="515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onbach’s alpha for the  BEFORE ratings = 0.93 and Cronbach’s alpha for the TODAY ratings = 0.90 indicating a high degree of consistency in the ratings on the 9 item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Project ECHO Annual Meeting Surv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3" name="Group 3"/>
          <p:cNvGraphicFramePr/>
          <p:nvPr/>
        </p:nvGraphicFramePr>
        <p:xfrm>
          <a:off x="457200" y="1600200"/>
          <a:ext cx="8152920" cy="467820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 Sco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ge 1-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ECHO has diminished my professional isol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y participation in Project ECHO has enhanced my professional satisf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aboration among agencies in Project ECHO is a benefit to my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ECHO has expanded access to HCV treatment for patients in our commun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genera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pecialist expertise and consultation is a major area of need for you and your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CV specialist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xpertise and consultation is a major are of need for you and your clin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4" name="Text Box 29"/>
          <p:cNvSpPr/>
          <p:nvPr/>
        </p:nvSpPr>
        <p:spPr>
          <a:xfrm>
            <a:off x="6934320" y="6248520"/>
            <a:ext cx="137124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ptember 23,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807696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-Disease 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14840" cy="3585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ow that hepatitis C treatment delivered through Project ECHO is as safe and effective as care given at the University of New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how that Project ECHO improves delivery of hepatitis C care to minority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SzPct val="100000"/>
              <a:buBlip>
                <a:blip r:embed="rId3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mpare treatment outcomes for minority and non-Hispanic white su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666880" y="838080"/>
            <a:ext cx="4038120" cy="791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695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90000"/>
              </a:lnSpc>
              <a:spcBef>
                <a:spcPts val="641"/>
              </a:spcBef>
              <a:buSzPct val="100000"/>
              <a:buBlip>
                <a:blip r:embed="rId1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pective cohor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e effect adjusted for patient covari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SzPct val="100000"/>
              <a:buBlip>
                <a:blip r:embed="rId2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EC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 community cli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M Department of Cor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ity of New Mexico Liver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1"/>
              </a:spcBef>
              <a:buSzPct val="100000"/>
              <a:buBlip>
                <a:blip r:embed="rId5"/>
              </a:buBlip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s: referred by their primary car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4723920" cy="761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Interim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Group 3"/>
          <p:cNvGraphicFramePr/>
          <p:nvPr/>
        </p:nvGraphicFramePr>
        <p:xfrm>
          <a:off x="457200" y="1219320"/>
          <a:ext cx="8229240" cy="4525560"/>
        </p:xfrm>
        <a:graphic>
          <a:graphicData uri="http://schemas.openxmlformats.org/drawingml/2006/table">
            <a:tbl>
              <a:tblPr/>
              <a:tblGrid>
                <a:gridCol w="4800600"/>
                <a:gridCol w="1676160"/>
                <a:gridCol w="175248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ercent 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ll pati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Enrolled to 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reatment end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Full course of 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6-month follow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ustained viral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1" name="Text Box 37"/>
          <p:cNvSpPr/>
          <p:nvPr/>
        </p:nvSpPr>
        <p:spPr>
          <a:xfrm>
            <a:off x="380880" y="5791320"/>
            <a:ext cx="3809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* Of the preceding 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720" y="1265400"/>
            <a:ext cx="693396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ECHO Sites Serve Min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Group 3"/>
          <p:cNvGraphicFramePr/>
          <p:nvPr/>
        </p:nvGraphicFramePr>
        <p:xfrm>
          <a:off x="457200" y="2362320"/>
          <a:ext cx="8229240" cy="2361960"/>
        </p:xfrm>
        <a:graphic>
          <a:graphicData uri="http://schemas.openxmlformats.org/drawingml/2006/table">
            <a:tbl>
              <a:tblPr/>
              <a:tblGrid>
                <a:gridCol w="2590560"/>
                <a:gridCol w="1904760"/>
                <a:gridCol w="1904760"/>
                <a:gridCol w="1828800"/>
              </a:tblGrid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ECH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UN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Minor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ispan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1219320"/>
            <a:ext cx="9143640" cy="151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 rot="10800000">
            <a:off x="685800" y="1752480"/>
            <a:ext cx="7772040" cy="75960"/>
          </a:xfrm>
          <a:prstGeom prst="rect">
            <a:avLst/>
          </a:prstGeom>
          <a:noFill/>
          <a:ln w="9360">
            <a:noFill/>
          </a:ln>
        </p:spPr>
        <p:txBody>
          <a:bodyPr numCol="1" spcCol="0" tIns="37800" bIns="3780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685800" y="1447920"/>
            <a:ext cx="7772040" cy="456840"/>
          </a:xfrm>
          <a:prstGeom prst="rect">
            <a:avLst/>
          </a:prstGeom>
          <a:solidFill>
            <a:schemeClr val="bg1"/>
          </a:solidFill>
          <a:ln w="9525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743040" indent="-28584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erved Area for Healthcar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5"/>
          <p:cNvSpPr/>
          <p:nvPr/>
        </p:nvSpPr>
        <p:spPr>
          <a:xfrm>
            <a:off x="990720" y="228600"/>
            <a:ext cx="51051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ral New Mexic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593640" y="2233440"/>
            <a:ext cx="3978000" cy="432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,356 sq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83 millio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.1% His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5% Native Ameri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7% poverty rate compared to 11.7%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22% lack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4800600" y="2209680"/>
            <a:ext cx="3809520" cy="492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of 33 New Mexico counties are listed as Medically Underserved Areas (MUA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counties designated as Health Professional Shortage Areas (HPSA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8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9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1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12"/>
          <p:cNvSpPr/>
          <p:nvPr/>
        </p:nvSpPr>
        <p:spPr>
          <a:xfrm>
            <a:off x="762120" y="380880"/>
            <a:ext cx="51811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RAL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676520" y="852480"/>
            <a:ext cx="5790960" cy="83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Outcomes by 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5" name="Group 3"/>
          <p:cNvGraphicFramePr/>
          <p:nvPr/>
        </p:nvGraphicFramePr>
        <p:xfrm>
          <a:off x="457200" y="1843200"/>
          <a:ext cx="8229240" cy="2816640"/>
        </p:xfrm>
        <a:graphic>
          <a:graphicData uri="http://schemas.openxmlformats.org/drawingml/2006/table">
            <a:tbl>
              <a:tblPr/>
              <a:tblGrid>
                <a:gridCol w="3657600"/>
                <a:gridCol w="1523880"/>
                <a:gridCol w="1523880"/>
                <a:gridCol w="1523880"/>
              </a:tblGrid>
              <a:tr h="77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ECH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UN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on-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A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6" name="Text Box 30"/>
          <p:cNvSpPr/>
          <p:nvPr/>
        </p:nvSpPr>
        <p:spPr>
          <a:xfrm>
            <a:off x="380880" y="5424480"/>
            <a:ext cx="8305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* Excludes subjects stopping treatment for other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678132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Outcomes by Minority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Group 3"/>
          <p:cNvGraphicFramePr/>
          <p:nvPr/>
        </p:nvGraphicFramePr>
        <p:xfrm>
          <a:off x="457200" y="1905120"/>
          <a:ext cx="8229240" cy="2961720"/>
        </p:xfrm>
        <a:graphic>
          <a:graphicData uri="http://schemas.openxmlformats.org/drawingml/2006/table">
            <a:tbl>
              <a:tblPr/>
              <a:tblGrid>
                <a:gridCol w="3581280"/>
                <a:gridCol w="1600200"/>
                <a:gridCol w="1523880"/>
                <a:gridCol w="1523880"/>
              </a:tblGrid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Minor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NH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Non-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AE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1" lang="en-US" sz="2800" spc="-1" strike="noStrike">
                        <a:solidFill>
                          <a:srgbClr val="0066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30"/>
          <p:cNvSpPr/>
          <p:nvPr/>
        </p:nvSpPr>
        <p:spPr>
          <a:xfrm>
            <a:off x="380880" y="5424480"/>
            <a:ext cx="83055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* Excludes subjects stopping treatment for other r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400440" cy="94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Factors Affecting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Group 3"/>
          <p:cNvGraphicFramePr/>
          <p:nvPr/>
        </p:nvGraphicFramePr>
        <p:xfrm>
          <a:off x="457200" y="1447920"/>
          <a:ext cx="8229240" cy="4649760"/>
        </p:xfrm>
        <a:graphic>
          <a:graphicData uri="http://schemas.openxmlformats.org/drawingml/2006/table">
            <a:tbl>
              <a:tblPr/>
              <a:tblGrid>
                <a:gridCol w="2057400"/>
                <a:gridCol w="2361960"/>
                <a:gridCol w="2057400"/>
                <a:gridCol w="1752480"/>
              </a:tblGrid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Non-response (n=4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All others (n=19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Genotype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SG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 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± 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Uric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7 ± 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0 ±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Plate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 ± 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 ± 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MC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 ±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±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905120" y="503280"/>
            <a:ext cx="54860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Factors Affecting S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3" name="Group 3"/>
          <p:cNvGraphicFramePr/>
          <p:nvPr/>
        </p:nvGraphicFramePr>
        <p:xfrm>
          <a:off x="457200" y="1457280"/>
          <a:ext cx="8229240" cy="4495320"/>
        </p:xfrm>
        <a:graphic>
          <a:graphicData uri="http://schemas.openxmlformats.org/drawingml/2006/table">
            <a:tbl>
              <a:tblPr/>
              <a:tblGrid>
                <a:gridCol w="2743200"/>
                <a:gridCol w="1676160"/>
                <a:gridCol w="2438280"/>
                <a:gridCol w="1371600"/>
              </a:tblGrid>
              <a:tr h="64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AE (n=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x Completed (n=1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ge (year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9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 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7 ± 9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igh schoo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IV drug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Liver dis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De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.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5562360" cy="914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Factors Affecting SA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Group 3"/>
          <p:cNvGraphicFramePr/>
          <p:nvPr/>
        </p:nvGraphicFramePr>
        <p:xfrm>
          <a:off x="457200" y="1600200"/>
          <a:ext cx="8229240" cy="4497120"/>
        </p:xfrm>
        <a:graphic>
          <a:graphicData uri="http://schemas.openxmlformats.org/drawingml/2006/table">
            <a:tbl>
              <a:tblPr/>
              <a:tblGrid>
                <a:gridCol w="2209680"/>
                <a:gridCol w="1828800"/>
                <a:gridCol w="2438280"/>
                <a:gridCol w="1752480"/>
              </a:tblGrid>
              <a:tr h="75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Vari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SAE (n=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Rx Completed (n=1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990000"/>
                          </a:solidFill>
                          <a:latin typeface="Times New Roman"/>
                        </a:rPr>
                        <a:t>P-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Albu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7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± 0.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6 ± 0.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Creati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8 ± 0.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 ± 0.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g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.9 ±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6 ±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H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6 ± 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0 ± 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RB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63 ± 0.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2 ± 0.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000640" cy="94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chemeClr val="accent2"/>
                </a:solidFill>
                <a:latin typeface="Times New Roman"/>
              </a:rPr>
              <a:t>Disease Outcome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ECHO provides hepatitis C treatment that is as safe as care delivered at U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 data suggests that Project ECHO delivers hepatitis C treatment that is just as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ECHO treats a larger proportion of minorities than U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990000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comes of treatment for minority and non-Hispanic white subjects ar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2"/>
          <p:cNvSpPr/>
          <p:nvPr/>
        </p:nvSpPr>
        <p:spPr>
          <a:xfrm>
            <a:off x="1143000" y="5791320"/>
            <a:ext cx="68576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Supported by Agency for Health Research and Quality grant   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1 UC1 HS015135-03 and New Mexico Legisl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3"/>
          <p:cNvSpPr/>
          <p:nvPr/>
        </p:nvSpPr>
        <p:spPr>
          <a:xfrm>
            <a:off x="1736640" y="125568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1523880" y="1600200"/>
            <a:ext cx="6476760" cy="3929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chemeClr val="accent2"/>
                </a:solidFill>
                <a:latin typeface="Tw Cen MT"/>
              </a:rPr>
              <a:t>Use of telemedicine, best practice protocols, co-management of patients with case based learning (the ECHO model) is a robust method to to safely and effectively treat chronic, common and complex diseases in rural and underserved areas and to monitor outc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914400" y="0"/>
            <a:ext cx="5409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ALTHCARE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1066680" y="1476360"/>
            <a:ext cx="7619760" cy="3136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4800" spc="-1" strike="noStrike">
                <a:solidFill>
                  <a:srgbClr val="008193"/>
                </a:solidFill>
                <a:latin typeface="Tw Cen MT"/>
              </a:rPr>
              <a:t>20% practice in rural or frontier ar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1"/>
              </a:spcBef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5410080" y="6521400"/>
            <a:ext cx="3657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1600" spc="-1" strike="noStrike">
                <a:solidFill>
                  <a:srgbClr val="000000"/>
                </a:solidFill>
                <a:latin typeface="Tw Cen MT"/>
              </a:rPr>
              <a:t>New Mexico Physician Survey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0" y="6491160"/>
            <a:ext cx="45684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7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9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426600" cy="38052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"/>
          <p:cNvSpPr/>
          <p:nvPr/>
        </p:nvSpPr>
        <p:spPr>
          <a:xfrm>
            <a:off x="609480" y="0"/>
            <a:ext cx="556236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ALTH CARE IN 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2"/>
          <p:cNvSpPr/>
          <p:nvPr/>
        </p:nvSpPr>
        <p:spPr>
          <a:xfrm>
            <a:off x="1440" y="6445080"/>
            <a:ext cx="2343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8193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2120" y="0"/>
            <a:ext cx="5562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HEPATITIS C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1219320" y="1476360"/>
            <a:ext cx="7467120" cy="5600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Estimated number is greater than 32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Less than 5% have been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Without treatment 8,000 patients will develop cirrhosis between 2010-2015 with several thousand de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1978 prisoners diagnosed in corrections system (expected number is greater than 2400) - None t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Highest rate of chronic liver disease/cirrhosis deaths in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9"/>
          <p:cNvSpPr/>
          <p:nvPr/>
        </p:nvSpPr>
        <p:spPr>
          <a:xfrm>
            <a:off x="914400" y="0"/>
            <a:ext cx="449532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PATITIS C IN 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066680" y="304920"/>
            <a:ext cx="52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1066680" y="1476360"/>
            <a:ext cx="7619760" cy="307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Develop capacity to safely and effectively treat Hepatitis C in all areas of New Mexico and to monitor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Develop a model to treat complex diseases in rural locations and develop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-92160" y="6437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9"/>
          <p:cNvSpPr/>
          <p:nvPr/>
        </p:nvSpPr>
        <p:spPr>
          <a:xfrm>
            <a:off x="1600200" y="228600"/>
            <a:ext cx="4114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OA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066680" y="304920"/>
            <a:ext cx="54097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PROJECT E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1066680" y="1219320"/>
            <a:ext cx="7772040" cy="408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University of New Mexico School of Medicine Dept of Medicine and Tele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NM Department of 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NM State Health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dian Health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mmunity Providers with interest in Hepatitis C and Primary Care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8"/>
          <p:cNvSpPr/>
          <p:nvPr/>
        </p:nvSpPr>
        <p:spPr>
          <a:xfrm>
            <a:off x="990720" y="304920"/>
            <a:ext cx="5562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1066680" y="304920"/>
            <a:ext cx="52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1066680" y="1476360"/>
            <a:ext cx="7619760" cy="5427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Use Technology (telemedicine and internet) to leverage scarce healthca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Disease Management Model focused on improving outcomes by reducing variation in processes of care and sharing “best practic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ase based learning: Co-management of patients with UNMHSC 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Tw Cen MT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entralized database HIPAA compliant to monitor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0" y="6491160"/>
            <a:ext cx="4377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9"/>
          <p:cNvSpPr/>
          <p:nvPr/>
        </p:nvSpPr>
        <p:spPr>
          <a:xfrm>
            <a:off x="914400" y="228600"/>
            <a:ext cx="5257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0" y="6445080"/>
            <a:ext cx="183960" cy="33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1" lang="en-US" sz="1600" spc="-1" strike="noStrike">
              <a:solidFill>
                <a:srgbClr val="008193"/>
              </a:solidFill>
              <a:latin typeface="Tw Cen MT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1066680" y="304920"/>
            <a:ext cx="52574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w Cen MT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1066680" y="1476360"/>
            <a:ext cx="7619760" cy="4905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8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Train providers, nurses, pharmacists, educators in Hepatiti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stall protocols and software on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nduct telemedicine clinics – “Knowledge Networ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Initiate co-management – “Learning loo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Collect data and monitor outcomes c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8193"/>
              </a:buClr>
              <a:buFont typeface="Arial"/>
              <a:buChar char="~"/>
            </a:pP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8193"/>
                </a:solidFill>
                <a:latin typeface="Tw Cen MT"/>
              </a:rPr>
              <a:t>Assess cost and effectiveness of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"/>
          <p:cNvSpPr/>
          <p:nvPr/>
        </p:nvSpPr>
        <p:spPr>
          <a:xfrm>
            <a:off x="0" y="6491160"/>
            <a:ext cx="183960" cy="36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160" cy="11221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6248160" cy="1082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"/>
          <p:cNvPicPr/>
          <p:nvPr/>
        </p:nvPicPr>
        <p:blipFill>
          <a:blip r:embed="rId3"/>
          <a:stretch/>
        </p:blipFill>
        <p:spPr>
          <a:xfrm>
            <a:off x="76320" y="6324480"/>
            <a:ext cx="426600" cy="45684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9"/>
          <p:cNvSpPr/>
          <p:nvPr/>
        </p:nvSpPr>
        <p:spPr>
          <a:xfrm>
            <a:off x="1295280" y="228600"/>
            <a:ext cx="41144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2_Default Design">
  <a:themeElements>
    <a:clrScheme name="2_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3_Default Design">
  <a:themeElements>
    <a:clrScheme name="3_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Default Design">
  <a:themeElements>
    <a:clrScheme name="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1_Default Design">
  <a:themeElements>
    <a:clrScheme name="1_Default Design 8">
      <a:dk1>
        <a:srgbClr val="003366"/>
      </a:dk1>
      <a:lt1>
        <a:srgbClr val="ffffff"/>
      </a:lt1>
      <a:dk2>
        <a:srgbClr val="000099"/>
      </a:dk2>
      <a:lt2>
        <a:srgbClr val="ccffff"/>
      </a:lt2>
      <a:accent1>
        <a:srgbClr val="3366cc"/>
      </a:accent1>
      <a:accent2>
        <a:srgbClr val="00b000"/>
      </a:accent2>
      <a:accent3>
        <a:srgbClr val="aaaaca"/>
      </a:accent3>
      <a:accent4>
        <a:srgbClr val="dadada"/>
      </a:accent4>
      <a:accent5>
        <a:srgbClr val="adb8e2"/>
      </a:accent5>
      <a:accent6>
        <a:srgbClr val="009f00"/>
      </a:accent6>
      <a:hlink>
        <a:srgbClr val="66ccff"/>
      </a:hlink>
      <a:folHlink>
        <a:srgbClr val="ffe70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2_Default Design">
  <a:themeElements>
    <a:clrScheme name="2_Default Design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5</TotalTime>
  <Application>LibreOffice/7.4.7.2$Linux_X86_64 LibreOffice_project/40$Build-2</Application>
  <AppVersion>15.0000</AppVersion>
  <Words>1614</Words>
  <Paragraphs>469</Paragraphs>
  <Company>UNM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5T16:34:50Z</dcterms:created>
  <dc:creator>HSC</dc:creator>
  <dc:description/>
  <dc:language>en-US</dc:language>
  <cp:lastModifiedBy>DHHS</cp:lastModifiedBy>
  <dcterms:modified xsi:type="dcterms:W3CDTF">2012-10-16T19:23:08Z</dcterms:modified>
  <cp:revision>37</cp:revision>
  <dc:subject/>
  <dc:title>ACG 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On-screen Show (4:3)</vt:lpwstr>
  </property>
  <property fmtid="{D5CDD505-2E9C-101B-9397-08002B2CF9AE}" pid="4" name="Slides">
    <vt:r8>36</vt:r8>
  </property>
</Properties>
</file>