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599C-D6BD-4644-909F-FFE381BBD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06FD-9D13-48F8-A59C-15EF81DB6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0916-0F4A-4A84-A6F3-C6A521DDD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641D-F6B7-4018-A640-A6B35C845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E3AF-C844-448C-A0AB-790960317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elements with definitions (e.g., SNOMED, CPT, LOINC, RxN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ets required by specific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1DFC-2190-4D99-85EE-1A5A1E8D8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E4C3-4FE2-4138-BAB7-AF4B73683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E0E7-D4DF-46DD-97E1-90385FDEA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A7DE-D85E-4000-9F81-30492532A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7320-4DFF-4B86-A0B0-D207110DA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B48C-4083-43BC-9055-64C983255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9FAB-CAE9-48CA-A646-A6E56FA54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3620-E75A-4A1E-9E2A-21E0296A9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F710-8B55-4FE0-94F9-D5E313236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3574-461D-423E-9416-0C4DC1C3B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C4F3-14B2-45A7-BC52-F71F14EB6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EB3-381B-4B88-887D-E03FF8FA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29F-4EC3-49A2-AABF-86D9847F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9AB-AE24-4387-B46D-58BE5AA9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5F1-0395-4FFF-805B-48EAF007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595-1389-4D8F-B55A-AB28216B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080-25AA-4CED-8DF5-8C073C53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86B-CB2D-4247-A766-1C2B29A7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469-1035-45AF-9091-7009E2A4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47A-47D4-4DC1-858C-82E15D3B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EC85-35C5-45EE-8C50-1FF4FE0F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CCA-E239-4110-946B-02A88E57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0D2-C004-4A99-B08D-FBB3BA10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Macintosh HD:Users:bfoelsch:NEWBRANDING 2006:PWR POINT SLIDES:NEWpwrpnt_ligh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B29E-131A-4FD0-A476-620BDD881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HIT to (Help) Measure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M. Walker, MD, FA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isinger Health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nical-Process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and Acute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internal consensus on performance standards and metr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design processes to capture structured data for metr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internal consensus on reports (internal and extern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tric-Selection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Arial"/>
              </a:rPr>
              <a:t>Legac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Arial"/>
              </a:rPr>
              <a:t>Clinical-process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Review (inpat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tandards and Applications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ata Standards and Applications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unified reporting needs (internal and extern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necessary database (and data-warehouse) chan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development of information-capture prompts and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 needs forward to policyma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essons Learned (intern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ze internal and extern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rganizational atten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voice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pping point on the business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rganizational set of quality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the report, the databases, and the captur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essons Learned (extern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national set of quality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lace to send the one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Rs designed to prompt for and report the righ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jmwalker@geisinger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isinger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es used to select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eisinger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33480" y="2138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counties (mostly poor, elderly, and under-ser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hospitals; 30,000 dis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 clinic sites, 1.5 M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 million patients in E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nical Information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480" y="2138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atient EHR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 – all docs, al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EHR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 – complet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EHR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– 87,000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 EHR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– 250,000 encounters/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IE –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4 M patients, record locator, results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EHR benefits, information-optimized car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ter of (evolving)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quality internally at least as much as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ing the minimum number of data elements (and definitions) requir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quality internally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to various recip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 welter of (evolving)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-organized recip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ack of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elements (with defin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ng systems an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 welter of (evolving)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isorganized recip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ck of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ational si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agmented data reposit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cap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nician accep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tric-Selection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cy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-process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4:25:41Z</dcterms:created>
  <dc:creator>Jim Walker</dc:creator>
  <dc:description/>
  <dc:language>en-US</dc:language>
  <cp:lastModifiedBy>Jim Walker</cp:lastModifiedBy>
  <dcterms:modified xsi:type="dcterms:W3CDTF">2007-09-26T12:03:15Z</dcterms:modified>
  <cp:revision>116</cp:revision>
  <dc:subject/>
  <dc:title>PowerPoint Presentation</dc:title>
</cp:coreProperties>
</file>