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BDA0-D33B-4CAF-9DD4-94A70DD31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1944-196E-4756-8559-ADA533D3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B9A2-AB16-4765-867C-3ECAD3D5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5DA0-C1A1-436D-B58C-762796ED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DC58-2B65-4386-A7CC-758BB6A32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elements with definitions (e.g., SNOMED, CPT, LOINC, RxN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ets required by specific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F72F-4C5E-4C21-AD91-7DD7B02FF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3850-921E-4B7A-8731-7A2E7B019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E70E-4ED0-4B62-8596-3AF343A8C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D7F1-4FF9-46BC-A8AA-9AA83020C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0BE0-F940-42FD-9EB9-C4A27D21E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D1A4-7576-4F95-ACA0-2B291C7BD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241A-3AE6-4EEC-9BB7-4D6F1970A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6E60-9345-4ACD-9262-BABCAA27C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BDF0-AD3B-4074-AEE9-1ED6E259E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BF9F-29B0-414F-AA83-A43D02771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C06E-93E8-429B-BDA7-DCDE04757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56F-D1F6-4CB3-A244-2B585AE1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001-4621-4BFF-9B35-5D7491B6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456-03CF-4567-943E-D824AAEF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32D-03A2-492D-8A8A-8B9375BB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FB08-676E-4CDB-9E23-5D499AF1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554-2675-47F5-978C-597168E1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FFD-2D96-43D7-9F81-F9EBE89C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DFD-7486-4AE1-AC04-0568FC77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09A-37F0-487A-9BDC-15E16467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CB1-6C8A-47ED-97D4-8552AF4F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5A29-2E28-4E24-B6CB-974B49F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4A9-3BB9-466D-AC6E-A1C4951C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Macintosh HD:Users:bfoelsch:NEWBRANDING 2006:PWR POINT SLIDES:NEWpwrpnt_ligh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69D4-E3E2-492B-BA9B-1AF210964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sing HIT to (Help) Measure Qu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M. Walker, MD, FA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isinger Health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nical-Process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and Acute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internal consensus on performance standards and metr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design processes to capture structured data for metr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internal consensus on reports (internal and exter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tric-Selection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Arial"/>
              </a:rPr>
              <a:t>Legac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a6a6"/>
                </a:solidFill>
                <a:latin typeface="Arial"/>
              </a:rPr>
              <a:t>Clinical-process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view (inpat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andards and Applications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ata Standards and Applications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unified reporting needs (internal and extern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necessary database (and data-warehouse) chan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development of information-capture prompts and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 needs forward to policyma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ssons Learned (intern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ze internal and extern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rganizational atten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voic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ipping point on the business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rganizational set of quality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the report, the databases, and the captu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essons Learned (extern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national set of quality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lace to send the one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Rs designed to prompt for and report the righ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73"/>
                </a:solidFill>
                <a:latin typeface="Arial"/>
              </a:rPr>
              <a:t>jmwalker@geisinger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isinger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used to select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Geisinger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33480" y="2138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counties (mostly poor, elderly, and under-ser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hospitals; 30,000 dis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 clinic sites, 1.5 M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4 million patients in E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nical Information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3480" y="2138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atient EHR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 – all docs, al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EHR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 – complet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EHR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– 87,000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 EHR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– 250,000 encounters/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IE –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4 M patients, record locator, results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EHR benefits, information-optimized care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ter of (evolving)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quality internally at least as much as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ing the minimum number of data elements (and definitions) requir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quality internally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o various recip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 welter of (evolving)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-organized recip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Lack of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lements (with defin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ng systems a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 welter of (evolving)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isorganized recip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ack of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al si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agmented data reposi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cap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nician accep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tric-Selection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cy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-process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4:25:41Z</dcterms:created>
  <dc:creator>Jim Walker</dc:creator>
  <dc:description/>
  <dc:language>en-US</dc:language>
  <cp:lastModifiedBy>Jim Walker</cp:lastModifiedBy>
  <dcterms:modified xsi:type="dcterms:W3CDTF">2007-09-26T12:03:15Z</dcterms:modified>
  <cp:revision>116</cp:revision>
  <dc:subject/>
  <dc:title>PowerPoint Presentation</dc:title>
</cp:coreProperties>
</file>