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FDE4-F60C-48FF-AE5C-5E849A368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AHR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is for risk factor assessment.  We have the ability to carry information forward in these templates, so say at the last visit you assessed risk factors, you can designate to have that information pop up in these fields the next time you use the templa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assessment and pl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obestity for example, the recommendation is that obese children have weight measured and counseling on exercise and nutrition provided on 2 separate occasion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method of measuring qualtiy is using claims data.  So, to measure whether weight was measured and counseling was done, we look at the claims database to see, Were there two visits in the past 12 months with obesity diagnosis included on billing? Or, Was there a claim filed by a speciali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ith templates, we can count the number of times the template was used and look at what boxes were checked to see if the physician acknowledged the child’s weight, gave Counseling on specific nutrition and exercise topic, or Referred to nutritionist or weight management cent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HD, the recommendation is children who are on stimulant medication have follow-up visits with symptom checks at least 2 time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we are measuring this using a combination of claims and electronic prescribing data.  For every child prescribed a stimulant, we look in the claims database to see, Were there two visits in the past 12 months with ADHD diagnosis included on billing? Or, Was there a claim filed by a mental health speciali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ith template data, we can measure how frequently the template was used, and whether physicians assessed for symptom progress and side effects of m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measures for quality of care are clinical outcomes.  When those are difficult to measure accurately, process measures that have a proven association with outcome measures are used.  Process measures include elements of diagnosis, treatment, and management.  For obesity, the processes recognition of elevated BMI, counseling on diet and exercise, and frequent follow up are linked to improved clinical outcome of lowered BMI.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re are several limitations of claims based obesity measures, such as…, that the use of EMR templates can addre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potential quality measures th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potential quality measures th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how to do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depicts the frequency of use of the ADHD template by individual physicians.  On the Y axis is the frequency of use, or number of times the templates was used during the 4 month introductory period.  On the x axis are the clinicians, each bar represents a physician in one of the test practices.  Different colors of bars are used to indicate physicians in the same practice.  In addition, this graph doesn’t show the 8 physicians who didn’t use the template at all.  As you can see, then, frequency of use ranged from 0 times to 50.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conversation with patients during vis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nsity to cover these topics when the patient is being seen for something el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dency to type notes after visits versus during vis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conversation with patients during vis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nsity to cover these topics when the patient is being seen for something el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dency to type notes after visits versus during visi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EMR templates with clinical decision support can improve measurement of quality of care for children with 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ysician use of these templates is an important barri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hd, process measures may include—correct diagnosis, stimulant and behavior management, periodic follow-up and assessing symptom progress with the outcome measure being improved attendiveness and hyper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si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electronic medical record templates for ADHD and obesity to develop quality of care measures th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ccura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ly reflect care that is actually deliver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echnically easy and inexpensive to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creen shots of one of our templates.  As you can see, it has both free text and check boxes.  This section is used for the chief complaint and hp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FB93A-CC96-4A30-B392-C384E7162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CD88E-16A4-4BB7-9555-1C926B08C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1DFD4-429A-4C95-AC5F-B05C32B6B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C0369-5941-48F4-B87F-66C3B4B1F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5C3F6-25F4-42CF-A348-E39CC1BE8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6D3E6-ACF1-4CBE-B6C4-FDEC2A62F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0D4CB-B51B-4F75-8F2E-902AF5737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40ED2-0F4B-48D6-9E95-BFE1189CD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317E3-15A9-45C9-8032-A535C080E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CEA7D-BCBF-4162-AD8A-891743221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D1A0C-8C03-40EF-9589-182B2E01C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E1074-E238-41C7-90C6-FE0C5991C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4D46C-C3D8-4C5E-84CC-C8791916C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7150B-1917-4465-A3AC-ABD1543E9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7B134-E559-4492-A897-12F6D12A8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FB3DB-1081-4F98-B490-13B7BEEE1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5A540-F2CC-4116-925A-72ED99267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25BAA-7560-4BFD-96EB-6EB3929DF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6C01-B360-47B9-8FAB-632A634EA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BC1E7-4EDB-42B0-A489-8452753AB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C22AA-BF70-4A16-93E2-9DBC3637F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08EA7-F43E-43E3-9E2C-2C59D803D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C74CF-A795-4D94-9C9B-6EDA22F25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3A762-9874-4DB0-955E-5AFE4C42F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1EBA-75B2-4BB9-833C-5F0B14212A3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E7A4-9571-4C11-B097-B09D6888121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sing EMR Templates to Measure Quality of Care for Children with ADHD and Obesity</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eanne Van Cleave, MD</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othy G. Ferris, MD, MP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ptember 26, 2007</a:t>
            </a:r>
            <a:endParaRPr b="0" lang="en-US" sz="3200" spc="-1" strike="noStrike">
              <a:solidFill>
                <a:srgbClr val="000000"/>
              </a:solidFill>
              <a:latin typeface="Tahoma"/>
            </a:endParaRPr>
          </a:p>
        </p:txBody>
      </p:sp>
      <p:pic>
        <p:nvPicPr>
          <p:cNvPr id="108" name="" descr=""/>
          <p:cNvPicPr/>
          <p:nvPr/>
        </p:nvPicPr>
        <p:blipFill>
          <a:blip r:embed="rId1"/>
          <a:stretch/>
        </p:blipFill>
        <p:spPr>
          <a:xfrm>
            <a:off x="228600" y="5029200"/>
            <a:ext cx="243828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1398600" y="2571840"/>
          <a:ext cx="7124760" cy="3008160"/>
        </p:xfrm>
        <a:graphic>
          <a:graphicData uri="http://schemas.openxmlformats.org/presentationml/2006/ole">
            <p:oleObj r:id="rId1" spid="">
              <p:embed/>
              <p:pic>
                <p:nvPicPr>
                  <p:cNvPr id="131" name="" descr=""/>
                  <p:cNvPicPr/>
                  <p:nvPr/>
                </p:nvPicPr>
                <p:blipFill>
                  <a:blip r:embed="rId2"/>
                  <a:stretch/>
                </p:blipFill>
                <p:spPr>
                  <a:xfrm>
                    <a:off x="1398600" y="2571840"/>
                    <a:ext cx="7124760" cy="3008160"/>
                  </a:xfrm>
                  <a:prstGeom prst="rect">
                    <a:avLst/>
                  </a:prstGeom>
                  <a:ln w="0">
                    <a:noFill/>
                  </a:ln>
                </p:spPr>
              </p:pic>
            </p:oleObj>
          </a:graphicData>
        </a:graphic>
      </p:graphicFrame>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esity visit template—Risk factor assessment</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4" name=""/>
          <p:cNvGraphicFramePr/>
          <p:nvPr/>
        </p:nvGraphicFramePr>
        <p:xfrm>
          <a:off x="1398600" y="2448000"/>
          <a:ext cx="7340760" cy="2525760"/>
        </p:xfrm>
        <a:graphic>
          <a:graphicData uri="http://schemas.openxmlformats.org/presentationml/2006/ole">
            <p:oleObj r:id="rId1" spid="">
              <p:embed/>
              <p:pic>
                <p:nvPicPr>
                  <p:cNvPr id="135" name="" descr=""/>
                  <p:cNvPicPr/>
                  <p:nvPr/>
                </p:nvPicPr>
                <p:blipFill>
                  <a:blip r:embed="rId2"/>
                  <a:stretch/>
                </p:blipFill>
                <p:spPr>
                  <a:xfrm>
                    <a:off x="1398600" y="2448000"/>
                    <a:ext cx="7340760" cy="2525760"/>
                  </a:xfrm>
                  <a:prstGeom prst="rect">
                    <a:avLst/>
                  </a:prstGeom>
                  <a:ln w="0">
                    <a:noFill/>
                  </a:ln>
                </p:spPr>
              </p:pic>
            </p:oleObj>
          </a:graphicData>
        </a:graphic>
      </p:graphicFrame>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esity visit template—Exam</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9" name=""/>
          <p:cNvGraphicFramePr/>
          <p:nvPr/>
        </p:nvGraphicFramePr>
        <p:xfrm>
          <a:off x="1542960" y="2563920"/>
          <a:ext cx="6980400" cy="2571480"/>
        </p:xfrm>
        <a:graphic>
          <a:graphicData uri="http://schemas.openxmlformats.org/presentationml/2006/ole">
            <p:oleObj r:id="rId1" spid="">
              <p:embed/>
              <p:pic>
                <p:nvPicPr>
                  <p:cNvPr id="140" name="" descr=""/>
                  <p:cNvPicPr/>
                  <p:nvPr/>
                </p:nvPicPr>
                <p:blipFill>
                  <a:blip r:embed="rId2"/>
                  <a:stretch/>
                </p:blipFill>
                <p:spPr>
                  <a:xfrm>
                    <a:off x="1542960" y="2563920"/>
                    <a:ext cx="6980400" cy="2571480"/>
                  </a:xfrm>
                  <a:prstGeom prst="rect">
                    <a:avLst/>
                  </a:prstGeom>
                  <a:ln w="0">
                    <a:noFill/>
                  </a:ln>
                </p:spPr>
              </p:pic>
            </p:oleObj>
          </a:graphicData>
        </a:graphic>
      </p:graphicFrame>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esity visit template—Assessment and plan</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eloping quality measures from these template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of the template and check boxes enable the development of quality measur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accurat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ly reflect care that is actually deliver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echnically easy and inexpensive to measure.</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esity</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ation that obese children have weight measured and counseling on exercise and nutrition provided on 2 separate occasions per yea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esity</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ims-based quality measu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re there two visits in the past 12 months with obesity diagnosis included on bill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there a claim filed by a specialis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esity</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mplate-based measu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 used with boxes checked fo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knowledgement of weight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nseling on specific nutrition and exercise topic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ral to nutritionist or weight management center</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HD</a:t>
            </a:r>
            <a:endParaRPr b="0" lang="en-US" sz="40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ation that children with ADHD who are on stimulant medication have follow-up visits with symptom checks at least 2 times per year</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HD</a:t>
            </a:r>
            <a:endParaRPr b="0" lang="en-US" sz="40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ims-based measu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onic prescribing data—Is the patient on a stimula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re there two visits in the past 12 months with ADHD diagnosis included on bill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there a claim filed by a mental health specialis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HD</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mplate-based measu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 used with boxes checked fo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mptom progress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de effects of medication</a:t>
            </a:r>
            <a:endParaRPr b="0" lang="en-US" sz="2400" spc="-1" strike="noStrike">
              <a:solidFill>
                <a:srgbClr val="000000"/>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2" marL="114300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hood Obesity:  Challenges to Measuring Quality of Care</a:t>
            </a:r>
            <a:endParaRPr b="0" lang="en-US" sz="3200" spc="-1" strike="noStrike">
              <a:solidFill>
                <a:srgbClr val="333399"/>
              </a:solidFill>
              <a:latin typeface="Tahoma"/>
            </a:endParaRPr>
          </a:p>
        </p:txBody>
      </p:sp>
      <p:graphicFrame>
        <p:nvGraphicFramePr>
          <p:cNvPr id="110" name=""/>
          <p:cNvGraphicFramePr/>
          <p:nvPr/>
        </p:nvGraphicFramePr>
        <p:xfrm>
          <a:off x="1182600" y="2017800"/>
          <a:ext cx="7772400" cy="2225520"/>
        </p:xfrm>
        <a:graphic>
          <a:graphicData uri="http://schemas.openxmlformats.org/drawingml/2006/table">
            <a:tbl>
              <a:tblPr/>
              <a:tblGrid>
                <a:gridCol w="5308560"/>
                <a:gridCol w="2463840"/>
              </a:tblGrid>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c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co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98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gnition of elevated BMI</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unseling on diet and exercise</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eriodic follow-up</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ssessing symptom progr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MI &lt;85</a:t>
                      </a:r>
                      <a:r>
                        <a:rPr b="0" lang="en-US" sz="2400" spc="-1" strike="noStrike" baseline="30000">
                          <a:solidFill>
                            <a:srgbClr val="000000"/>
                          </a:solidFill>
                          <a:latin typeface="Tahoma"/>
                        </a:rPr>
                        <a:t>th</a:t>
                      </a:r>
                      <a:r>
                        <a:rPr b="0" lang="en-US" sz="2400" spc="-1" strike="noStrike">
                          <a:solidFill>
                            <a:srgbClr val="000000"/>
                          </a:solidFill>
                          <a:latin typeface="Tahoma"/>
                        </a:rPr>
                        <a:t> percenti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11" name=""/>
          <p:cNvSpPr/>
          <p:nvPr/>
        </p:nvSpPr>
        <p:spPr>
          <a:xfrm>
            <a:off x="5791320" y="248616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ims-based measures</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atio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ccuracies inherent to billing procedures and claims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specific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ils to capture meaningful patient-clinician encounters that are not face-to-f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tional Quality Measures Using EMR Templates</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esity</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seling on specific topic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up of specific problem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f risk factors/screening lab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ral to nutrition counseling or weight-control cen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HD</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agnosis consistent with DSMIV criteria</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cribing long-acting stimulant medic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ing teacher and parent evaluation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ment in symptoms as shown by standardized scale scores</a:t>
            </a:r>
            <a:endParaRPr b="0" lang="en-US" sz="2800" spc="-1" strike="noStrike">
              <a:solidFill>
                <a:srgbClr val="000000"/>
              </a:solidFill>
              <a:latin typeface="Tahoma"/>
            </a:endParaRPr>
          </a:p>
        </p:txBody>
      </p:sp>
      <p:sp>
        <p:nvSpPr>
          <p:cNvPr id="161"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tional Quality Measures Using EMR Template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allenge: Getting Physicians to Use Templates</a:t>
            </a:r>
            <a:endParaRPr b="0" lang="en-US" sz="40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range of use of the ADHD template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ng subjects exposed to templates, adoption varied wide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ing physician use of the templates will make the quality measurements more valuable</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requency of use of ADHD templates by individual clinicians</a:t>
            </a:r>
            <a:endParaRPr b="0" lang="en-US" sz="4000" spc="-1" strike="noStrike">
              <a:solidFill>
                <a:srgbClr val="333399"/>
              </a:solidFill>
              <a:latin typeface="Tahoma"/>
            </a:endParaRPr>
          </a:p>
        </p:txBody>
      </p:sp>
      <p:graphicFrame>
        <p:nvGraphicFramePr>
          <p:cNvPr id="165" name=""/>
          <p:cNvGraphicFramePr/>
          <p:nvPr/>
        </p:nvGraphicFramePr>
        <p:xfrm>
          <a:off x="2071800" y="2044800"/>
          <a:ext cx="6183360" cy="4127400"/>
        </p:xfrm>
        <a:graphic>
          <a:graphicData uri="http://schemas.openxmlformats.org/presentationml/2006/ole">
            <p:oleObj r:id="rId1" spid="">
              <p:embed/>
              <p:pic>
                <p:nvPicPr>
                  <p:cNvPr id="166" name="" descr=""/>
                  <p:cNvPicPr/>
                  <p:nvPr/>
                </p:nvPicPr>
                <p:blipFill>
                  <a:blip r:embed="rId2"/>
                  <a:stretch/>
                </p:blipFill>
                <p:spPr>
                  <a:xfrm>
                    <a:off x="2071800" y="2044800"/>
                    <a:ext cx="6183360" cy="4127400"/>
                  </a:xfrm>
                  <a:prstGeom prst="rect">
                    <a:avLst/>
                  </a:prstGeom>
                  <a:ln w="0">
                    <a:noFill/>
                  </a:ln>
                </p:spPr>
              </p:pic>
            </p:oleObj>
          </a:graphicData>
        </a:graphic>
      </p:graphicFrame>
      <p:sp>
        <p:nvSpPr>
          <p:cNvPr id="167" name=""/>
          <p:cNvSpPr/>
          <p:nvPr/>
        </p:nvSpPr>
        <p:spPr>
          <a:xfrm>
            <a:off x="4218840" y="60199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nician</a:t>
            </a:r>
            <a:endParaRPr b="0" lang="en-US" sz="2400" spc="-1" strike="noStrike">
              <a:solidFill>
                <a:srgbClr val="000000"/>
              </a:solidFill>
              <a:latin typeface="Arial"/>
            </a:endParaRPr>
          </a:p>
        </p:txBody>
      </p:sp>
      <p:sp>
        <p:nvSpPr>
          <p:cNvPr id="168" name=""/>
          <p:cNvSpPr/>
          <p:nvPr/>
        </p:nvSpPr>
        <p:spPr>
          <a:xfrm>
            <a:off x="685800" y="2438280"/>
            <a:ext cx="1387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times template was used by clinic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tential reasons for varied adoption of the templates</a:t>
            </a:r>
            <a:endParaRPr b="0" lang="en-US" sz="40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ian factor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yle of practi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ensity to uptake new technology</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miliarity with EMR</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vation to change current practice around ADHD and obesit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tential reasons for varied adoption of the templates</a:t>
            </a:r>
            <a:endParaRPr b="0" lang="en-US" sz="40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e factor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emplates by others in the practi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emplate quality measures for pay-for-performan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entives to use template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tential reasons for varied adoption of the templates</a:t>
            </a:r>
            <a:endParaRPr b="0" lang="en-US" sz="40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mplate factors</a:t>
            </a:r>
            <a:endParaRPr b="0" lang="en-US" sz="32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modifiabl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easy to bring up in the EMR </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much better than the alternative (free text notes or physician’s own template)</a:t>
            </a:r>
            <a:endParaRPr b="0" lang="en-US" sz="24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tion process</a:t>
            </a:r>
            <a:endParaRPr b="0" lang="en-US" sz="32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action between key administrators in quality and template development and physicians</a:t>
            </a:r>
            <a:endParaRPr b="0" lang="en-US" sz="24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R templates with clinical decision support can improve measurement of quality of care for children with chronic condi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ian use of these templates is an important barri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ank you</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Co, MD, MP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bienne Bourgeois, MD, MP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inu Kaushal, MD, MP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ic Poon, MD, MP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ah Johnson, B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ghan Backus, B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with ADHD: Challenges to Measuring Quality of Care</a:t>
            </a:r>
            <a:endParaRPr b="0" lang="en-US" sz="3200" spc="-1" strike="noStrike">
              <a:solidFill>
                <a:srgbClr val="333399"/>
              </a:solidFill>
              <a:latin typeface="Tahoma"/>
            </a:endParaRPr>
          </a:p>
        </p:txBody>
      </p:sp>
      <p:graphicFrame>
        <p:nvGraphicFramePr>
          <p:cNvPr id="113" name=""/>
          <p:cNvGraphicFramePr/>
          <p:nvPr/>
        </p:nvGraphicFramePr>
        <p:xfrm>
          <a:off x="1182600" y="2017800"/>
          <a:ext cx="7772400" cy="3101760"/>
        </p:xfrm>
        <a:graphic>
          <a:graphicData uri="http://schemas.openxmlformats.org/drawingml/2006/table">
            <a:tbl>
              <a:tblPr/>
              <a:tblGrid>
                <a:gridCol w="5308560"/>
                <a:gridCol w="2463840"/>
              </a:tblGrid>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c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co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972520">
                <a:tc>
                  <a:txBody>
                    <a:bodyPr lIns="90000" rIns="90000" tIns="46800" bIns="46800" anchor="t">
                      <a:noAutofit/>
                    </a:bodyPr>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rrect diagnosis (DSM IV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iteria)</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timulant and behavio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anagement</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eriodic follow-up</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ssessing symptom progr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d attentiveness and hyperactivit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14" name=""/>
          <p:cNvSpPr/>
          <p:nvPr/>
        </p:nvSpPr>
        <p:spPr>
          <a:xfrm>
            <a:off x="5791320" y="2486160"/>
            <a:ext cx="533160" cy="2390760"/>
          </a:xfrm>
          <a:custGeom>
            <a:avLst/>
            <a:gdLst>
              <a:gd name="textAreaLeft" fmla="*/ 0 w 533160"/>
              <a:gd name="textAreaRight" fmla="*/ 192600 w 533160"/>
              <a:gd name="textAreaTop" fmla="*/ 62280 h 2390760"/>
              <a:gd name="textAreaBottom" fmla="*/ 2328480 h 2390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jective</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electronic medical record templates for ADHD and obesity with clinical decis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quality of care measures that…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ccurat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ly reflect care that is actually deliver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echnically easy and inexpensive to measur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thod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of a larger project to examine the effect of clinical decision support on quality and safety of health care in pediatric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ed by AHRQ R01 “Improving Pediatric Patient Safety and Quality of Care Using Health 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thod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s Healthcare System’s Longitudinal Medical Record (LM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general pediatric practices in Greater Boston, 37 clinicia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thod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 of templat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aboration with Partners IS with input from several general pediatrician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line-adheren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use</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ian member of the study team visited each practice to introduce the templates</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emplates</a:t>
            </a:r>
            <a:endParaRPr b="0" lang="en-US" sz="4400" spc="-1" strike="noStrike">
              <a:solidFill>
                <a:srgbClr val="333399"/>
              </a:solidFill>
              <a:latin typeface="Tahoma"/>
            </a:endParaRPr>
          </a:p>
        </p:txBody>
      </p:sp>
      <p:sp>
        <p:nvSpPr>
          <p:cNvPr id="124" name="PlaceHolder 2"/>
          <p:cNvSpPr>
            <a:spLocks noGrp="1"/>
          </p:cNvSpPr>
          <p:nvPr>
            <p:ph/>
          </p:nvPr>
        </p:nvSpPr>
        <p:spPr>
          <a:xfrm>
            <a:off x="1182600" y="19288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s are styled to be used during an office visit</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linician sees a patient with</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HD </a:t>
            </a:r>
            <a:endParaRPr b="0" lang="en-US" sz="2400" spc="-1" strike="noStrike">
              <a:solidFill>
                <a:srgbClr val="000000"/>
              </a:solidFill>
              <a:latin typeface="Tahoma"/>
            </a:endParaRPr>
          </a:p>
          <a:p>
            <a:pPr lvl="1" marL="668520" indent="-2570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esity</a:t>
            </a:r>
            <a:r>
              <a:rPr b="0" lang="en-US" sz="2800" spc="-1" strike="noStrike">
                <a:solidFill>
                  <a:srgbClr val="000000"/>
                </a:solidFill>
                <a:latin typeface="Tahoma"/>
              </a:rPr>
              <a:t>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ian retrieves template from pull-down list of available template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s use check boxes and free text field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pt physicians to follow guideline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for both diagnosis and treatment</a:t>
            </a:r>
            <a:endParaRPr b="0" lang="en-US" sz="2800" spc="-1" strike="noStrike">
              <a:solidFill>
                <a:srgbClr val="000000"/>
              </a:solidFill>
              <a:latin typeface="Tahoma"/>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6" name=""/>
          <p:cNvGraphicFramePr/>
          <p:nvPr/>
        </p:nvGraphicFramePr>
        <p:xfrm>
          <a:off x="1182600" y="2709720"/>
          <a:ext cx="7772400" cy="2079720"/>
        </p:xfrm>
        <a:graphic>
          <a:graphicData uri="http://schemas.openxmlformats.org/presentationml/2006/ole">
            <p:oleObj r:id="rId1" spid="">
              <p:embed/>
              <p:pic>
                <p:nvPicPr>
                  <p:cNvPr id="127" name="" descr=""/>
                  <p:cNvPicPr/>
                  <p:nvPr/>
                </p:nvPicPr>
                <p:blipFill>
                  <a:blip r:embed="rId2"/>
                  <a:stretch/>
                </p:blipFill>
                <p:spPr>
                  <a:xfrm>
                    <a:off x="1182600" y="2709720"/>
                    <a:ext cx="7772400" cy="2079720"/>
                  </a:xfrm>
                  <a:prstGeom prst="rect">
                    <a:avLst/>
                  </a:prstGeom>
                  <a:ln w="0">
                    <a:noFill/>
                  </a:ln>
                </p:spPr>
              </p:pic>
            </p:oleObj>
          </a:graphicData>
        </a:graphic>
      </p:graphicFrame>
      <p:sp>
        <p:nvSpPr>
          <p:cNvPr id="128" name=""/>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esity visit template—CC and HPI</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0:35:53Z</dcterms:created>
  <dc:creator>jeanne van cleave</dc:creator>
  <dc:description/>
  <dc:language>en-US</dc:language>
  <cp:lastModifiedBy>jeanne van cleave</cp:lastModifiedBy>
  <dcterms:modified xsi:type="dcterms:W3CDTF">2007-09-26T13:27:46Z</dcterms:modified>
  <cp:revision>22</cp:revision>
  <dc:subject/>
  <dc:title>Using EHR Templates to Measure Quality of Care for Children with ADHD and Obesity</dc:title>
</cp:coreProperties>
</file>