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6012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7760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4120" y="178920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207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7760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4120" y="3009960"/>
            <a:ext cx="26251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593640"/>
            <a:ext cx="8991360" cy="19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87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8880" y="300996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8880" y="1789200"/>
            <a:ext cx="397872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3009960"/>
            <a:ext cx="8153280" cy="1114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789200"/>
            <a:ext cx="8153280" cy="2337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4272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114640" indent="-3430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72280" indent="-28584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763120" y="6608520"/>
            <a:ext cx="96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fld id="{45EEF9F1-1C6B-40C0-B8D2-B7AA861675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547800" y="6508800"/>
            <a:ext cx="252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Massachusetts </a:t>
            </a:r>
            <a:r>
              <a:rPr b="1" lang="en-US" sz="1000" spc="-1" strike="noStrike">
                <a:solidFill>
                  <a:srgbClr val="cc0066"/>
                </a:solidFill>
                <a:latin typeface="Century Gothic"/>
              </a:rPr>
              <a:t>e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Health Collabora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4160" y="6607800"/>
            <a:ext cx="5598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de tit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396560" y="6559920"/>
            <a:ext cx="14025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MAeHC. 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2130480"/>
            <a:ext cx="81597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79880" y="1604520"/>
            <a:ext cx="8640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7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85840" algn="ctr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399960" algn="ctr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3257640" algn="ctr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32576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32576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hyperlink" Target="http://www.e-mds.com/index.html?pz=2" TargetMode="External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98400" y="1752480"/>
            <a:ext cx="8159760" cy="136692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SSACHUSETTS eHEALTH COLLABORATIVE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HRQ Annual Mee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17320" y="3733560"/>
            <a:ext cx="6721560" cy="362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ctr">
              <a:lnSpc>
                <a:spcPct val="97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26,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35280" y="4800600"/>
            <a:ext cx="228600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 PRIORITIES AND LAY OUT THE ROADM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304920" y="2690640"/>
          <a:ext cx="8837640" cy="2643120"/>
        </p:xfrm>
        <a:graphic>
          <a:graphicData uri="http://schemas.openxmlformats.org/drawingml/2006/table">
            <a:tbl>
              <a:tblPr/>
              <a:tblGrid>
                <a:gridCol w="1346040"/>
                <a:gridCol w="774720"/>
                <a:gridCol w="851040"/>
                <a:gridCol w="787320"/>
                <a:gridCol w="757080"/>
                <a:gridCol w="920880"/>
                <a:gridCol w="905040"/>
                <a:gridCol w="742680"/>
                <a:gridCol w="758880"/>
                <a:gridCol w="993960"/>
              </a:tblGrid>
              <a:tr h="703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Da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mt &am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ee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Mg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il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en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al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s,&am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ertifi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41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it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Lab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rma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. Pract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. Radi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Heal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7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1600200" y="2057400"/>
            <a:ext cx="7467480" cy="533520"/>
          </a:xfrm>
          <a:prstGeom prst="rtTriangle">
            <a:avLst/>
          </a:prstGeom>
          <a:gradFill rotWithShape="0">
            <a:gsLst>
              <a:gs pos="0">
                <a:srgbClr val="dddddd"/>
              </a:gs>
              <a:gs pos="100000">
                <a:srgbClr val="0d0d0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venue potenti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IG PICTURE IS AS MURKY AS IT EVER WAS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8153280" cy="5756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 marL="51840" indent="-5184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essage on quality and measurement is starting to sink in, but there is no sense of urgen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rge groups and hospital-employed moving faster, but small practice penetration is letharg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practices don’t see this as a “competitive advantage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0">
              <a:lnSpc>
                <a:spcPct val="97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reimbursement model doesn’t provide enough focused incentives to accelerate adoption, largely because of upfront capital and technical capacity hurd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y- and demand-side too fragmen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4P without EHRs too shallow to make a differen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840" indent="0">
              <a:lnSpc>
                <a:spcPct val="97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n if adoption increased on its own, the market won’t implement these systems to deliver val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d systems and/or bad implementations offer little, if any, val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ilure in retail market is on the order of 3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HRs don’t spontaneously generate meaningful clinical data – required behavior and process changes are rarely implemented by practices on their ow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ians don’t capture (or understand) the full benefit of connectivity, so they won’t invest in it on their ow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 clear how to develop interoperable network in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issez-fai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model – medical trading areas not formally organized in a way that facilitates definition of local network busin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3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7612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..AND THE CLOSER YOU GET....THE MURKIER IT GET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0720" y="1066320"/>
            <a:ext cx="8153280" cy="45522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 fontScale="99000"/>
          </a:bodyPr>
          <a:p>
            <a:pPr marL="51840" indent="-5184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economists are right – public goods problems are re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ians aren’t clambering for this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y want some business functions – like document transfer and lab results – but not pounding the table for shared patient inform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0">
              <a:lnSpc>
                <a:spcPct val="97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-operability isn’t as hard as people say it is.......it’s much wor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ly variable degree of sophistication among even the best vend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st because they told the CCHIT they can do something doesn’t mean that they’ve done it before, or that it won’t require a large amount of $$$ development, or that they’re willing to do 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one has really done this before, regardless of what they or their references told yo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0">
              <a:lnSpc>
                <a:spcPct val="97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840" indent="-5184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acity constraints of health care organizations (both hospitals and physician offices) and vendors, and coordination requirements among the many players, is an enormous challen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ryone’s not ready when you are.....and vice vers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52520">
              <a:lnSpc>
                <a:spcPct val="97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ryone’s not ready to work on the same weekends that you need them 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OBSERVATIONS FOR THE WEARY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OR SOON TO BE WEARY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is no secret sauce, silver bullet, cookie cutter, or shortcut – each market is differ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o’s got the market power?  Physicians, hospitals, or insur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you don’t have the CEO, you don’t have the organiz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vision will get you going, but it won’t keep you go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takes business people to create busines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inesses are mercena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st physician offices are businesses – they’re just not very good on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you’re trying to sell is only as valuable as someone is willing to pay for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rything has competi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one will pay to be a guinea pi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ose with “deep pockets”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spi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eing approached just because they “deep pockets”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87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87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ume that a grant is a gift that will keep on cos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73044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ROOTS ARE IN MOVEMENT TO IMPROVE QUALITY, SAFETY, EFFICIENCY OF CA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590920"/>
            <a:ext cx="2590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versal adoption of electronic health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-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50684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28600" indent="-114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$50M commitment to heath information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114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cognition of “systems”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648320" y="2590920"/>
            <a:ext cx="4647960" cy="2886120"/>
            <a:chOff x="4648320" y="2590920"/>
            <a:chExt cx="4647960" cy="2886120"/>
          </a:xfrm>
        </p:grpSpPr>
        <p:sp>
          <p:nvSpPr>
            <p:cNvPr id="87" name=""/>
            <p:cNvSpPr/>
            <p:nvPr/>
          </p:nvSpPr>
          <p:spPr>
            <a:xfrm rot="5400000">
              <a:off x="3467160" y="3838680"/>
              <a:ext cx="2819520" cy="45720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38680" y="3343320"/>
              <a:ext cx="3657600" cy="17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any launched September 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11412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profit registered in the State of Massachuset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O on board January 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cked by broad array of 34 MA health care stakehol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5867280" y="2590920"/>
              <a:ext cx="2743200" cy="67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" descr=""/>
          <p:cNvPicPr/>
          <p:nvPr/>
        </p:nvPicPr>
        <p:blipFill>
          <a:blip r:embed="rId2"/>
          <a:srcRect l="3549" t="0" r="6642" b="5483"/>
          <a:stretch/>
        </p:blipFill>
        <p:spPr>
          <a:xfrm>
            <a:off x="500040" y="4343400"/>
            <a:ext cx="100188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28600" y="2570040"/>
            <a:ext cx="1600200" cy="8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32080" y="774720"/>
            <a:ext cx="301644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6880" y="3238560"/>
            <a:ext cx="301608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32080" y="4991040"/>
            <a:ext cx="301644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4800" y="2612880"/>
            <a:ext cx="301608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54800" y="774720"/>
            <a:ext cx="301608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160" y="774720"/>
            <a:ext cx="301608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680" y="5245200"/>
            <a:ext cx="301644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BOARD OF DIR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78732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7520" indent="-47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 plans and payer organ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lue Cross Blue Shield of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llon Community Health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arvard Pilgrim Health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Association of Health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ufts Associated Health Maintenance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520" indent="-47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care purchaser organ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ed Industries of Massachuset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Business Round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Group Insurance Com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7520" indent="-47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n-voting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nter for Medicare &amp; Medicai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61360" indent="-106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1160" y="780840"/>
            <a:ext cx="2971800" cy="5543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rmAutofit/>
          </a:bodyPr>
          <a:p>
            <a:pPr marL="52560" indent="-52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pitals and hospital associ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ystate Health Syste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h Israel Deaconess Medical Cen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ton Medical Cen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itas Christ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llon Clinic, In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hey Clinic Medical Cen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 Hospital Assoc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 Council of Community Hospit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artners Healthc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ufts-New England Medical Cen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ity of Massachusetts Memorial Medical Cen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mental agenc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117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ive Office of Health and Human Servi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78732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41760" indent="-417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lthcare professional associ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College of Physic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 League of Community Health Ce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ssachusetts Medic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Nurses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1760" indent="-417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, public interest, and at-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 Care f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Coalition for the Prevention of Medical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Health Data Consort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Taxpayer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Technology Collabo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PRO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w England Healthcare Instit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sachusetts Health Quality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ufts University Medical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9680" indent="-93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Mass Medical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62640" y="762120"/>
            <a:ext cx="0" cy="57402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49640" y="762120"/>
            <a:ext cx="0" cy="57402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LOT SE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1257480"/>
            <a:ext cx="8226360" cy="521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78200" y="1295280"/>
            <a:ext cx="37335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93200" y="1219320"/>
            <a:ext cx="12189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79600" y="4854600"/>
            <a:ext cx="2113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14440" y="2700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35053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97200" y="34401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08880" y="2624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05280" y="373680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8131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4346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86800" y="6248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5867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40560" y="1643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24066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4346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3124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1981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246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1240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56520" y="312408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26892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56280" y="2975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86440" y="30909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37120" y="3929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79800" y="35114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23120" y="33526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08560" y="29750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6760" y="2743200"/>
            <a:ext cx="745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5720" y="20034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4346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6560" y="2754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78680" y="2286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70480" y="33638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3276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1280" y="361476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70480" y="3222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57840" y="21668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64240" y="21668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02120" y="373392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1752480"/>
            <a:ext cx="457200" cy="457200"/>
          </a:xfrm>
          <a:prstGeom prst="star5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26360" y="1447920"/>
            <a:ext cx="457200" cy="457200"/>
          </a:xfrm>
          <a:prstGeom prst="star5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2960" y="3581280"/>
            <a:ext cx="457200" cy="457200"/>
          </a:xfrm>
          <a:prstGeom prst="star5">
            <a:avLst/>
          </a:prstGeom>
          <a:solidFill>
            <a:srgbClr val="ff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eHC ARCHITECTURE AND DATA FLOW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80880" y="2057400"/>
            <a:ext cx="6933960" cy="1415520"/>
            <a:chOff x="380880" y="2057400"/>
            <a:chExt cx="6933960" cy="1415520"/>
          </a:xfrm>
        </p:grpSpPr>
        <p:grpSp>
          <p:nvGrpSpPr>
            <p:cNvPr id="151" name=""/>
            <p:cNvGrpSpPr/>
            <p:nvPr/>
          </p:nvGrpSpPr>
          <p:grpSpPr>
            <a:xfrm>
              <a:off x="380880" y="2057400"/>
              <a:ext cx="6933960" cy="1415520"/>
              <a:chOff x="380880" y="2057400"/>
              <a:chExt cx="6933960" cy="1415520"/>
            </a:xfrm>
          </p:grpSpPr>
          <p:sp>
            <p:nvSpPr>
              <p:cNvPr id="152" name=""/>
              <p:cNvSpPr/>
              <p:nvPr/>
            </p:nvSpPr>
            <p:spPr>
              <a:xfrm>
                <a:off x="4876920" y="2057400"/>
                <a:ext cx="2209680" cy="7621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4648320" y="2971800"/>
                <a:ext cx="1066680" cy="45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6248160" y="2971800"/>
                <a:ext cx="1066680" cy="457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5997600" y="2993760"/>
                <a:ext cx="0" cy="479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0880" y="2076840"/>
                <a:ext cx="2057400" cy="52020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 anchorCtr="1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66"/>
                    </a:solidFill>
                    <a:latin typeface="Arial"/>
                  </a:rPr>
                  <a:t>MAeHC-level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ff66"/>
                    </a:solidFill>
                    <a:latin typeface="Arial"/>
                  </a:rPr>
                  <a:t>QD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5400000">
                <a:off x="2366280" y="2214360"/>
                <a:ext cx="52416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0880" y="3124080"/>
                <a:ext cx="30481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5405400" y="2362320"/>
              <a:ext cx="1181160" cy="29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380880" y="3352680"/>
            <a:ext cx="7570800" cy="1600200"/>
            <a:chOff x="380880" y="3352680"/>
            <a:chExt cx="7570800" cy="1600200"/>
          </a:xfrm>
        </p:grpSpPr>
        <p:sp>
          <p:nvSpPr>
            <p:cNvPr id="161" name=""/>
            <p:cNvSpPr/>
            <p:nvPr/>
          </p:nvSpPr>
          <p:spPr>
            <a:xfrm>
              <a:off x="40608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324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04000" y="3352680"/>
              <a:ext cx="1143000" cy="762120"/>
            </a:xfrm>
            <a:prstGeom prst="can">
              <a:avLst>
                <a:gd name="adj" fmla="val 25000"/>
              </a:avLst>
            </a:prstGeom>
            <a:solidFill>
              <a:srgbClr val="dddddd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14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495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876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5257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5638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019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400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781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16292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54380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924680" y="4648320"/>
              <a:ext cx="0" cy="30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2"/>
            <a:srcRect l="0" t="13383" r="71618" b="39343"/>
            <a:stretch/>
          </p:blipFill>
          <p:spPr>
            <a:xfrm>
              <a:off x="4191120" y="3624120"/>
              <a:ext cx="7761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"/>
            <a:srcRect l="0" t="13383" r="71618" b="39343"/>
            <a:stretch/>
          </p:blipFill>
          <p:spPr>
            <a:xfrm>
              <a:off x="5613480" y="3633840"/>
              <a:ext cx="77616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rcRect l="0" t="0" r="16112" b="8978"/>
            <a:stretch/>
          </p:blipFill>
          <p:spPr>
            <a:xfrm>
              <a:off x="6935760" y="3657600"/>
              <a:ext cx="94140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114800" y="4191120"/>
              <a:ext cx="111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ckt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88120" y="4191120"/>
              <a:ext cx="11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burypo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59720" y="4191120"/>
              <a:ext cx="119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>
                <a:lnSpc>
                  <a:spcPct val="100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th Adam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880" y="3594600"/>
              <a:ext cx="2057400" cy="520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Community-leve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H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880" y="4724280"/>
              <a:ext cx="3048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5400000">
              <a:off x="2366640" y="3727440"/>
              <a:ext cx="523800" cy="228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80880" y="5407560"/>
            <a:ext cx="2057400" cy="520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Arial"/>
              </a:rPr>
              <a:t>Provider-level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66"/>
                </a:solidFill>
                <a:latin typeface="Arial"/>
              </a:rPr>
              <a:t>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5400000">
            <a:off x="2366640" y="5545080"/>
            <a:ext cx="523800" cy="2286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80880" y="838080"/>
            <a:ext cx="8915400" cy="947880"/>
            <a:chOff x="380880" y="838080"/>
            <a:chExt cx="8915400" cy="947880"/>
          </a:xfrm>
        </p:grpSpPr>
        <p:sp>
          <p:nvSpPr>
            <p:cNvPr id="187" name=""/>
            <p:cNvSpPr/>
            <p:nvPr/>
          </p:nvSpPr>
          <p:spPr>
            <a:xfrm>
              <a:off x="4038480" y="838080"/>
              <a:ext cx="1447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comes analysi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86400" y="914400"/>
              <a:ext cx="162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nchmark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880" y="848160"/>
              <a:ext cx="2057400" cy="5202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MAeHC-level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66"/>
                  </a:solidFill>
                  <a:latin typeface="Arial"/>
                </a:rPr>
                <a:t>Analys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2366280" y="985680"/>
              <a:ext cx="524160" cy="22860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0880" y="1752480"/>
              <a:ext cx="3048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5257800" y="1459080"/>
              <a:ext cx="587520" cy="326880"/>
            </a:xfrm>
            <a:prstGeom prst="line">
              <a:avLst/>
            </a:prstGeom>
            <a:ln w="158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116760" y="1371240"/>
              <a:ext cx="207720" cy="414360"/>
            </a:xfrm>
            <a:prstGeom prst="line">
              <a:avLst/>
            </a:prstGeom>
            <a:ln w="158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62720" y="990720"/>
              <a:ext cx="1933560" cy="76176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228600" indent="-1141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b2b2b2"/>
                  </a:solidFill>
                  <a:latin typeface="Arial"/>
                  <a:ea typeface="Arial"/>
                </a:rPr>
                <a:t>Reports to pla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457200" indent="-114120">
                <a:lnSpc>
                  <a:spcPct val="100000"/>
                </a:lnSpc>
                <a:buClr>
                  <a:srgbClr val="b2b2b2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b2b2b2"/>
                  </a:solidFill>
                  <a:latin typeface="Arial"/>
                  <a:ea typeface="Arial"/>
                </a:rPr>
                <a:t>P4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457200" indent="-114120">
                <a:lnSpc>
                  <a:spcPct val="100000"/>
                </a:lnSpc>
                <a:buClr>
                  <a:srgbClr val="b2b2b2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b2b2b2"/>
                  </a:solidFill>
                  <a:latin typeface="Arial"/>
                  <a:ea typeface="Arial"/>
                </a:rPr>
                <a:t>Chart re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1141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400800" y="1523880"/>
              <a:ext cx="914400" cy="262080"/>
            </a:xfrm>
            <a:prstGeom prst="line">
              <a:avLst/>
            </a:prstGeom>
            <a:ln w="158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809880" y="5168880"/>
            <a:ext cx="4419720" cy="10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4876920" y="5291280"/>
            <a:ext cx="1228680" cy="280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3962520" y="5310360"/>
            <a:ext cx="685800" cy="242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rcRect l="0" t="0" r="16085" b="8328"/>
          <a:stretch/>
        </p:blipFill>
        <p:spPr>
          <a:xfrm>
            <a:off x="6934320" y="5291280"/>
            <a:ext cx="1143000" cy="279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6357960" y="525780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rcRect l="0" t="0" r="46354" b="-5252"/>
          <a:stretch/>
        </p:blipFill>
        <p:spPr>
          <a:xfrm>
            <a:off x="3962520" y="5867280"/>
            <a:ext cx="1600200" cy="212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e-MDs - Integrated Electronic Medical Record and Practice Management Softwar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672160" y="5867280"/>
            <a:ext cx="712800" cy="184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2"/>
          <a:srcRect l="0" t="11458" r="71878" b="82296"/>
          <a:stretch/>
        </p:blipFill>
        <p:spPr>
          <a:xfrm>
            <a:off x="6581880" y="5848200"/>
            <a:ext cx="1371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46240" y="409320"/>
            <a:ext cx="1966680" cy="354600"/>
          </a:xfrm>
          <a:prstGeom prst="rect">
            <a:avLst/>
          </a:prstGeom>
          <a:noFill/>
          <a:ln w="0">
            <a:noFill/>
          </a:ln>
        </p:spPr>
        <p:txBody>
          <a:bodyPr lIns="45360" rIns="45360" tIns="18000" bIns="180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878120"/>
            <a:ext cx="2438280" cy="8222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do we want to cre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941480"/>
            <a:ext cx="3009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 dynam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finition of business conce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conomic mod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1990800"/>
            <a:ext cx="2590920" cy="59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3" y="0"/>
                </a:lnTo>
                <a:lnTo>
                  <a:pt x="21600" y="10800"/>
                </a:lnTo>
                <a:lnTo>
                  <a:pt x="20613" y="21600"/>
                </a:lnTo>
                <a:lnTo>
                  <a:pt x="0" y="21600"/>
                </a:lnTo>
                <a:lnTo>
                  <a:pt x="987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siness con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3192480"/>
            <a:ext cx="2438280" cy="8222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are we going to build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156120"/>
            <a:ext cx="3009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Infrastructure bui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Stakeholder acquis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ustomer acquis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formance metr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3305160"/>
            <a:ext cx="2590920" cy="59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3" y="0"/>
                </a:lnTo>
                <a:lnTo>
                  <a:pt x="21600" y="10800"/>
                </a:lnTo>
                <a:lnTo>
                  <a:pt x="20613" y="21600"/>
                </a:lnTo>
                <a:lnTo>
                  <a:pt x="0" y="21600"/>
                </a:lnTo>
                <a:lnTo>
                  <a:pt x="987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usiness cre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511520"/>
            <a:ext cx="2438280" cy="8226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do we plan to implement our strate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4575240"/>
            <a:ext cx="30099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ganization mod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Resource identif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35080" indent="-1177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aunch pl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4624560"/>
            <a:ext cx="2590920" cy="5968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3" y="0"/>
                </a:lnTo>
                <a:lnTo>
                  <a:pt x="21600" y="10800"/>
                </a:lnTo>
                <a:lnTo>
                  <a:pt x="20613" y="21600"/>
                </a:lnTo>
                <a:lnTo>
                  <a:pt x="0" y="21600"/>
                </a:lnTo>
                <a:lnTo>
                  <a:pt x="987" y="108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mplementation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2971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42940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1146240"/>
            <a:ext cx="129528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enue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832040"/>
            <a:ext cx="129528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VENU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146240"/>
            <a:ext cx="22860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828800"/>
            <a:ext cx="2286000" cy="46483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atient volume during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er patient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er charge cap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receivables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ability to benefit from existing incentives or P4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1143000"/>
            <a:ext cx="76212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act on R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1828800"/>
            <a:ext cx="76212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1143000"/>
            <a:ext cx="38862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1828800"/>
            <a:ext cx="3886200" cy="46483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schedule during implementation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eployment of staff time from administrative tasks (e.g., chart-chasing) to patient interactions and/or conversion of paper medical records space to exam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efficient scheduling – better ability to track and fill missed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complete coding and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claim rejection due to filing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tracking of accounts receivable (or elimination of need for billing serv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benchmarking and ability to document metrics required for incen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1146240"/>
            <a:ext cx="9144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e-time or 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1832040"/>
            <a:ext cx="91440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e-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949560" y="2019240"/>
            <a:ext cx="457200" cy="337320"/>
            <a:chOff x="3949560" y="2019240"/>
            <a:chExt cx="457200" cy="337320"/>
          </a:xfrm>
        </p:grpSpPr>
        <p:sp>
          <p:nvSpPr>
            <p:cNvPr id="228" name=""/>
            <p:cNvSpPr/>
            <p:nvPr/>
          </p:nvSpPr>
          <p:spPr>
            <a:xfrm rot="10800000">
              <a:off x="4063320" y="2095200"/>
              <a:ext cx="228600" cy="228600"/>
            </a:xfrm>
            <a:prstGeom prst="ellipse">
              <a:avLst/>
            </a:prstGeom>
            <a:solidFill>
              <a:srgbClr val="ff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49560" y="20192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28600" y="25146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396252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4040" y="551988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64040" y="411480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72428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64040" y="481176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64040" y="266688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533412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152280"/>
            <a:ext cx="1216080" cy="274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Physician off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000" y="152280"/>
            <a:ext cx="252360" cy="255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1146240"/>
            <a:ext cx="129528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1832040"/>
            <a:ext cx="129528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sician/ sta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 su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ST (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1146240"/>
            <a:ext cx="22860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1828800"/>
            <a:ext cx="2286000" cy="46483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investment and insta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mainte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er physician and staff train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transcription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ostage, fax, copier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staff medical records handl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er staff scann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1143000"/>
            <a:ext cx="76212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act on R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1828800"/>
            <a:ext cx="76212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1143000"/>
            <a:ext cx="38862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1828800"/>
            <a:ext cx="3886200" cy="46483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rdware, software, network, broad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flow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system design, setup,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, maintenance, upgrades of hardware, software, and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adband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ning time for workflow design and system us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 entry into EHR (typing, template, voice recogn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ral letters, reports, diagnostic results entered and sent electronically (scanned, fax server, electronic data exch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chart search, pull, re-fil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nning hard copy information for inclusion in patient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1146240"/>
            <a:ext cx="9144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e-time or 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1832040"/>
            <a:ext cx="91440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e-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e-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949560" y="2019240"/>
            <a:ext cx="457200" cy="337320"/>
            <a:chOff x="3949560" y="2019240"/>
            <a:chExt cx="457200" cy="337320"/>
          </a:xfrm>
        </p:grpSpPr>
        <p:sp>
          <p:nvSpPr>
            <p:cNvPr id="252" name=""/>
            <p:cNvSpPr/>
            <p:nvPr/>
          </p:nvSpPr>
          <p:spPr>
            <a:xfrm rot="10800000">
              <a:off x="4063320" y="2095200"/>
              <a:ext cx="228600" cy="228600"/>
            </a:xfrm>
            <a:prstGeom prst="ellipse">
              <a:avLst/>
            </a:prstGeom>
            <a:solidFill>
              <a:srgbClr val="ff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49560" y="20192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28600" y="270504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34290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98772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949560" y="2755800"/>
            <a:ext cx="457200" cy="337320"/>
            <a:chOff x="3949560" y="2755800"/>
            <a:chExt cx="457200" cy="337320"/>
          </a:xfrm>
        </p:grpSpPr>
        <p:sp>
          <p:nvSpPr>
            <p:cNvPr id="258" name=""/>
            <p:cNvSpPr/>
            <p:nvPr/>
          </p:nvSpPr>
          <p:spPr>
            <a:xfrm rot="10800000">
              <a:off x="4063320" y="2831760"/>
              <a:ext cx="228600" cy="228600"/>
            </a:xfrm>
            <a:prstGeom prst="ellipse">
              <a:avLst/>
            </a:prstGeom>
            <a:solidFill>
              <a:srgbClr val="ff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49560" y="27558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064040" y="410220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4040" y="534672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52452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949560" y="3492360"/>
            <a:ext cx="457200" cy="337320"/>
            <a:chOff x="3949560" y="3492360"/>
            <a:chExt cx="457200" cy="337320"/>
          </a:xfrm>
        </p:grpSpPr>
        <p:sp>
          <p:nvSpPr>
            <p:cNvPr id="264" name=""/>
            <p:cNvSpPr/>
            <p:nvPr/>
          </p:nvSpPr>
          <p:spPr>
            <a:xfrm rot="10800000">
              <a:off x="4063320" y="3568320"/>
              <a:ext cx="228600" cy="228600"/>
            </a:xfrm>
            <a:prstGeom prst="ellipse">
              <a:avLst/>
            </a:prstGeom>
            <a:solidFill>
              <a:srgbClr val="ff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49560" y="34923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064040" y="463536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450864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949560" y="5848200"/>
            <a:ext cx="457200" cy="337320"/>
            <a:chOff x="3949560" y="5848200"/>
            <a:chExt cx="457200" cy="337320"/>
          </a:xfrm>
        </p:grpSpPr>
        <p:sp>
          <p:nvSpPr>
            <p:cNvPr id="270" name=""/>
            <p:cNvSpPr/>
            <p:nvPr/>
          </p:nvSpPr>
          <p:spPr>
            <a:xfrm rot="10800000">
              <a:off x="4063320" y="5924160"/>
              <a:ext cx="228600" cy="228600"/>
            </a:xfrm>
            <a:prstGeom prst="ellipse">
              <a:avLst/>
            </a:prstGeom>
            <a:solidFill>
              <a:srgbClr val="ff9999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49560" y="58482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50920" y="152280"/>
            <a:ext cx="1216080" cy="274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Physician off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000" y="152280"/>
            <a:ext cx="252360" cy="255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8600" y="1146240"/>
            <a:ext cx="129528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1832040"/>
            <a:ext cx="129528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f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lpractice in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593640"/>
            <a:ext cx="8991360" cy="412200"/>
          </a:xfrm>
          <a:prstGeom prst="rect">
            <a:avLst/>
          </a:prstGeom>
          <a:noFill/>
          <a:ln w="0">
            <a:noFill/>
          </a:ln>
        </p:spPr>
        <p:txBody>
          <a:bodyPr lIns="100440" rIns="100440" tIns="46800" bIns="468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ST (II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1146240"/>
            <a:ext cx="22860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1828800"/>
            <a:ext cx="2286000" cy="46483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staff prescription refill proces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staff order and results managemen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cod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qual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remi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9880" y="1143000"/>
            <a:ext cx="76212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act on R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9880" y="1828800"/>
            <a:ext cx="76212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1143000"/>
            <a:ext cx="38862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1828800"/>
            <a:ext cx="3886200" cy="46483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-prescribing solution streamlines refill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ders sent directly to diagnostic fac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ults imported directly into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ed orders-results reconcil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CD-9 codes linked from clinical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ss time, lower frustration, from more streamlined administrative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115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liability exposure due to lower error rates, better documentation, better ability to track &amp; follow-up patients, and 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1146240"/>
            <a:ext cx="91440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e-time or 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1832040"/>
            <a:ext cx="914400" cy="4643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90000" tIns="48240" bIns="48240" anchor="t">
            <a:normAutofit/>
          </a:bodyPr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560" indent="-52560"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8600" y="25146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326376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" y="373392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076640" y="208296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076640" y="266688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76640" y="335268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76640" y="388620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76640" y="4572000"/>
            <a:ext cx="228600" cy="228600"/>
          </a:xfrm>
          <a:prstGeom prst="ellipse">
            <a:avLst/>
          </a:prstGeom>
          <a:solidFill>
            <a:srgbClr val="99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4343400"/>
            <a:ext cx="9144000" cy="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0920" y="152280"/>
            <a:ext cx="1216080" cy="274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Physician off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000" y="152280"/>
            <a:ext cx="252360" cy="255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5:17:04Z</dcterms:created>
  <dc:creator>Micky Tripathi</dc:creator>
  <dc:description/>
  <dc:language>en-US</dc:language>
  <cp:lastModifiedBy>Micky Tripathi</cp:lastModifiedBy>
  <dcterms:modified xsi:type="dcterms:W3CDTF">2007-09-26T08:27:48Z</dcterms:modified>
  <cp:revision>4</cp:revision>
  <dc:subject/>
  <dc:title>MASSACHUSETTS eHEALTH COLLABORATIVE   Sub-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ference">
    <vt:lpwstr>USv2c/PP2000/USEng/Sep2001</vt:lpwstr>
  </property>
  <property fmtid="{D5CDD505-2E9C-101B-9397-08002B2CF9AE}" pid="3" name="_NewReviewCycle">
    <vt:lpwstr/>
  </property>
</Properties>
</file>