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0C91C268-D0D6-4125-A331-3C7FF4D2F2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2130480"/>
            <a:ext cx="81597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8584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25764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2576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2576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e-mds.com/index.html?pz=2" TargetMode="External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752480"/>
            <a:ext cx="8159760" cy="13669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SSACHUSETTS eHEALTH COLLABORATIVE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17320" y="3733560"/>
            <a:ext cx="6721560" cy="362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6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PRIORITIES AND LAY OUT THE ROAD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2690640"/>
          <a:ext cx="8837640" cy="2643120"/>
        </p:xfrm>
        <a:graphic>
          <a:graphicData uri="http://schemas.openxmlformats.org/drawingml/2006/table">
            <a:tbl>
              <a:tblPr/>
              <a:tblGrid>
                <a:gridCol w="1346040"/>
                <a:gridCol w="774720"/>
                <a:gridCol w="851040"/>
                <a:gridCol w="787320"/>
                <a:gridCol w="757080"/>
                <a:gridCol w="920880"/>
                <a:gridCol w="905040"/>
                <a:gridCol w="742680"/>
                <a:gridCol w="758880"/>
                <a:gridCol w="993960"/>
              </a:tblGrid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mt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Mg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il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a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s,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rtifi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4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a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. Pract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. Ra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600200" y="2057400"/>
            <a:ext cx="7467480" cy="533520"/>
          </a:xfrm>
          <a:prstGeom prst="rtTriangle">
            <a:avLst/>
          </a:prstGeom>
          <a:gradFill rotWithShape="0">
            <a:gsLst>
              <a:gs pos="0">
                <a:srgbClr val="dddddd"/>
              </a:gs>
              <a:gs pos="100000">
                <a:srgbClr val="0d0d0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enue potent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IG PICTURE IS AS MURKY AS IT EVER WA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153280" cy="5756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ssage on quality and measurement is starting to sink in, but there is no sense of urg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groups and hospital-employed moving faster, but small practice penetration is letharg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practices don’t see this as a “competitive advantag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reimbursement model doesn’t provide enough focused incentives to accelerate adoption, largely because of upfront capital and technical capacity hurd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- and demand-side too fragmen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4P without EHRs too shallow to make a dif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 if adoption increased on its own, the market won’t implement these systems to deliver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d systems and/or bad implementations offer little, if any,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lure in retail market is on the order of 3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s don’t spontaneously generate meaningful clinical data – required behavior and process changes are rarely implemented by practices on their ow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ians don’t capture (or understand) the full benefit of connectivity, so they won’t invest in it on their ow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clear how to develop interoperable network i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issez-fa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odel – medical trading areas not formally organized in a way that facilitates definition of local network busin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7612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..AND THE CLOSER YOU GET....THE MURKIER IT GE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720" y="1066320"/>
            <a:ext cx="8153280" cy="4552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conomists are right – public goods problems are re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ians aren’t clambering for this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y want some business functions – like document transfer and lab results – but not pounding the table for shared patient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-operability isn’t as hard as people say it is.......it’s much wor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y variable degree of sophistication among even the best vend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st because they told the CCHIT they can do something doesn’t mean that they’ve done it before, or that it won’t require a large amount of $$$ development, or that they’re willing to do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one has really done this before, regardless of what they or their references told yo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 constraints of health care organizations (both hospitals and physician offices) and vendors, and coordination requirements among the many players, is an enormous challe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one’s not ready when you are.....and vice ver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one’s not ready to work on the same weekends that you need them 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OBSERVATIONS FOR THE WEAR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OR SOON TO BE WEAR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is no secret sauce, silver bullet, cookie cutter, or shortcut – each market is differ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’s got the market power?  Physicians, hospitals, or insur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you don’t have the CEO, you don’t have the organiz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vision will get you going, but it won’t keep you go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takes business people to create busines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es are merce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st physician offices are businesses – they’re just not very good 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you’re trying to sell is only as valuable as someone is willing to pay for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thing has competi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ne will pay to be a guinea pi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se with “deep pockets”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pi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eing approached just because they “deep pockets”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that a grant is a gift that will keep on cos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590920"/>
            <a:ext cx="2590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electronic heal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-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50684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50M commitment to heath information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tion of “systems”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8320" y="2590920"/>
            <a:ext cx="4647960" cy="2886120"/>
            <a:chOff x="4648320" y="2590920"/>
            <a:chExt cx="4647960" cy="2886120"/>
          </a:xfrm>
        </p:grpSpPr>
        <p:sp>
          <p:nvSpPr>
            <p:cNvPr id="87" name=""/>
            <p:cNvSpPr/>
            <p:nvPr/>
          </p:nvSpPr>
          <p:spPr>
            <a:xfrm rot="5400000">
              <a:off x="3467160" y="38386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38680" y="33433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2"/>
          <a:srcRect l="3549" t="0" r="6642" b="5483"/>
          <a:stretch/>
        </p:blipFill>
        <p:spPr>
          <a:xfrm>
            <a:off x="500040" y="434340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8600" y="2570040"/>
            <a:ext cx="160020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32080" y="774720"/>
            <a:ext cx="30164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323856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32080" y="4991040"/>
            <a:ext cx="30164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4800" y="261288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54800" y="77472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" y="77472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80" y="5245200"/>
            <a:ext cx="301644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BOARD OF DIR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8732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lans and payer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lue Cross Blue Shield of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llon Community Health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rvard Pilgrim Health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Association of Health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 Associated Health Maintenanc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care purchaser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ed Industries of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Business Roun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Group Insurance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n-voting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er for Medicare &amp; Medic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160" y="780840"/>
            <a:ext cx="2971800" cy="554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tals and hospital associ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state Health Sys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h Israel Deaconess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itas Chris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llon Clinic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hey Clinic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Hospital Assoc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Council of Community Hospit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s Healthc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-New England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Massachusetts Memorial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al agenc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Office of Health and Human 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8732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1760" indent="-41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care professional assoc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ollege of Physic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League of Community Healt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Medic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Nurses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760" indent="-41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, public interest, and 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Care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Coalition for the Prevention of Medical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Health Data Consort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Taxpayer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Technology Collabo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PRO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gland Healthcare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Health Quality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 University Medical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Mass Medical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62640" y="762120"/>
            <a:ext cx="0" cy="57402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9640" y="762120"/>
            <a:ext cx="0" cy="57402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LOT SE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8226360" cy="52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8200" y="1295280"/>
            <a:ext cx="3733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3200" y="12193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79600" y="4854600"/>
            <a:ext cx="211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14440" y="2700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505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97200" y="344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624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5280" y="3736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813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0" y="6248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867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40560" y="1643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406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981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246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6520" y="3124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6892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5628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86440" y="30909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37120" y="3929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9800" y="3511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23120" y="3352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0856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6760" y="2743200"/>
            <a:ext cx="74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5720" y="20034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6560" y="2754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78680" y="2286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70480" y="3363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276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1280" y="3614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70480" y="3222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78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642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02120" y="37339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75248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26360" y="144792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2960" y="358128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880" y="2057400"/>
            <a:ext cx="6933960" cy="1415520"/>
            <a:chOff x="380880" y="2057400"/>
            <a:chExt cx="6933960" cy="1415520"/>
          </a:xfrm>
        </p:grpSpPr>
        <p:grpSp>
          <p:nvGrpSpPr>
            <p:cNvPr id="151" name=""/>
            <p:cNvGrpSpPr/>
            <p:nvPr/>
          </p:nvGrpSpPr>
          <p:grpSpPr>
            <a:xfrm>
              <a:off x="380880" y="2057400"/>
              <a:ext cx="6933960" cy="1415520"/>
              <a:chOff x="380880" y="2057400"/>
              <a:chExt cx="6933960" cy="141552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6920" y="2057400"/>
                <a:ext cx="2209680" cy="7621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648320" y="2971800"/>
                <a:ext cx="106668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248160" y="2971800"/>
                <a:ext cx="106668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997600" y="2993760"/>
                <a:ext cx="0" cy="479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880" y="20768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MAeHC-level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QD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2366280" y="2214360"/>
                <a:ext cx="5241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3124080"/>
                <a:ext cx="3048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5405400" y="2362320"/>
              <a:ext cx="11811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61" name="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359460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5407560"/>
            <a:ext cx="2057400" cy="520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Provider-level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2366640" y="5545080"/>
            <a:ext cx="523800" cy="2286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880" y="838080"/>
            <a:ext cx="8915400" cy="947880"/>
            <a:chOff x="380880" y="838080"/>
            <a:chExt cx="8915400" cy="947880"/>
          </a:xfrm>
        </p:grpSpPr>
        <p:sp>
          <p:nvSpPr>
            <p:cNvPr id="187" name="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84816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62720" y="990720"/>
              <a:ext cx="1933560" cy="76176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Reports to pl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>
                <a:lnSpc>
                  <a:spcPct val="100000"/>
                </a:lnSpc>
                <a:buClr>
                  <a:srgbClr val="b2b2b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P4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>
                <a:lnSpc>
                  <a:spcPct val="100000"/>
                </a:lnSpc>
                <a:buClr>
                  <a:srgbClr val="b2b2b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Chart re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809880" y="5168880"/>
            <a:ext cx="4419720" cy="10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76920" y="5291280"/>
            <a:ext cx="1228680" cy="280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962520" y="5310360"/>
            <a:ext cx="685800" cy="242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rcRect l="0" t="0" r="16085" b="8328"/>
          <a:stretch/>
        </p:blipFill>
        <p:spPr>
          <a:xfrm>
            <a:off x="6934320" y="5291280"/>
            <a:ext cx="1143000" cy="27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357960" y="52578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0" t="0" r="46354" b="-5252"/>
          <a:stretch/>
        </p:blipFill>
        <p:spPr>
          <a:xfrm>
            <a:off x="3962520" y="5867280"/>
            <a:ext cx="1600200" cy="212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e-MDs - Integrated Electronic Medical Record and Practice Management Softwar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72160" y="5867280"/>
            <a:ext cx="712800" cy="184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rcRect l="0" t="11458" r="71878" b="82296"/>
          <a:stretch/>
        </p:blipFill>
        <p:spPr>
          <a:xfrm>
            <a:off x="6581880" y="5848200"/>
            <a:ext cx="1371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46240" y="409320"/>
            <a:ext cx="1966680" cy="354600"/>
          </a:xfrm>
          <a:prstGeom prst="rect">
            <a:avLst/>
          </a:prstGeom>
          <a:noFill/>
          <a:ln w="0">
            <a:noFill/>
          </a:ln>
        </p:spPr>
        <p:txBody>
          <a:bodyPr lIns="45360" rIns="45360" tIns="18000" bIns="180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878120"/>
            <a:ext cx="2438280" cy="8222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do we want to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941480"/>
            <a:ext cx="3009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 dynam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finition of business conce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conomic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199080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con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192480"/>
            <a:ext cx="2438280" cy="8222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are we going to buil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156120"/>
            <a:ext cx="3009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frastructure bui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takeholder acquis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ustomer acquis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formance metr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30516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11520"/>
            <a:ext cx="2438280" cy="8226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do we plan to implement our strate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575240"/>
            <a:ext cx="3009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ganization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esource iden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62456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lementat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2971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294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enue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atient volume during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patient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charge 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receivables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ability to benefit from existing incentives or P4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schedule during implementation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eployment of staff time from administrative tasks (e.g., chart-chasing) to patient interactions and/or conversion of paper medical records space to exam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efficient scheduling – better ability to track and fill missed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complete coding and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claim rejection due to filing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tracking of accounts receivable (or elimination of need for billing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benchmarking and ability to document metrics required for incen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49560" y="2019240"/>
            <a:ext cx="457200" cy="337320"/>
            <a:chOff x="3949560" y="2019240"/>
            <a:chExt cx="457200" cy="337320"/>
          </a:xfrm>
        </p:grpSpPr>
        <p:sp>
          <p:nvSpPr>
            <p:cNvPr id="228" name=""/>
            <p:cNvSpPr/>
            <p:nvPr/>
          </p:nvSpPr>
          <p:spPr>
            <a:xfrm rot="10800000">
              <a:off x="4063320" y="209520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9560" y="20192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28600" y="25146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39625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4040" y="5519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4040" y="41148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72428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4040" y="48117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4040" y="2666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3341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/ 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nvestment and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physician and staff train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transcriptio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ostage, fax, copier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medical records handl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staff scann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, software, network, broad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flow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ystem design, setup,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, maintenance, upgrades of hardware, software, and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band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time for workflow design and system u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entry into EHR (typing, template, voice recog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letters, reports, diagnostic results entered and sent electronically (scanned, fax server, electronic data ex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art search, pull, re-fil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 hard copy information for inclusion in pati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49560" y="2019240"/>
            <a:ext cx="457200" cy="337320"/>
            <a:chOff x="3949560" y="2019240"/>
            <a:chExt cx="457200" cy="337320"/>
          </a:xfrm>
        </p:grpSpPr>
        <p:sp>
          <p:nvSpPr>
            <p:cNvPr id="252" name=""/>
            <p:cNvSpPr/>
            <p:nvPr/>
          </p:nvSpPr>
          <p:spPr>
            <a:xfrm rot="10800000">
              <a:off x="4063320" y="209520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560" y="20192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270504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3429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9877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49560" y="2755800"/>
            <a:ext cx="457200" cy="337320"/>
            <a:chOff x="3949560" y="2755800"/>
            <a:chExt cx="457200" cy="337320"/>
          </a:xfrm>
        </p:grpSpPr>
        <p:sp>
          <p:nvSpPr>
            <p:cNvPr id="258" name=""/>
            <p:cNvSpPr/>
            <p:nvPr/>
          </p:nvSpPr>
          <p:spPr>
            <a:xfrm rot="10800000">
              <a:off x="4063320" y="283176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49560" y="2755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064040" y="41022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4040" y="534672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52452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949560" y="3492360"/>
            <a:ext cx="457200" cy="337320"/>
            <a:chOff x="3949560" y="3492360"/>
            <a:chExt cx="457200" cy="337320"/>
          </a:xfrm>
        </p:grpSpPr>
        <p:sp>
          <p:nvSpPr>
            <p:cNvPr id="264" name=""/>
            <p:cNvSpPr/>
            <p:nvPr/>
          </p:nvSpPr>
          <p:spPr>
            <a:xfrm rot="10800000">
              <a:off x="4063320" y="356832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9560" y="3492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064040" y="46353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50864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9560" y="5848200"/>
            <a:ext cx="457200" cy="337320"/>
            <a:chOff x="3949560" y="5848200"/>
            <a:chExt cx="457200" cy="337320"/>
          </a:xfrm>
        </p:grpSpPr>
        <p:sp>
          <p:nvSpPr>
            <p:cNvPr id="270" name=""/>
            <p:cNvSpPr/>
            <p:nvPr/>
          </p:nvSpPr>
          <p:spPr>
            <a:xfrm rot="10800000">
              <a:off x="4063320" y="592416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9560" y="5848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lpractice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prescription refill proces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order and results managemen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cod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qual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emi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prescribing solution streamlines refill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s sent directly to diagnostic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s imported directly into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 orders-results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D-9 codes linked from clinical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time, lower frustration, from more streamlined administrativ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liability exposure due to lower error rates, better documentation, better ability to track &amp; follow-up patients, and 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5146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26376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37339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76640" y="20829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76640" y="2666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33526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76640" y="38862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76640" y="45720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3434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5:17:04Z</dcterms:created>
  <dc:creator>Micky Tripathi</dc:creator>
  <dc:description/>
  <dc:language>en-US</dc:language>
  <cp:lastModifiedBy>Micky Tripathi</cp:lastModifiedBy>
  <dcterms:modified xsi:type="dcterms:W3CDTF">2007-09-26T08:27:48Z</dcterms:modified>
  <cp:revision>4</cp:revision>
  <dc:subject/>
  <dc:title>MASSACHUSETTS eHEALTH COLLABORATIVE   Sub-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  <property fmtid="{D5CDD505-2E9C-101B-9397-08002B2CF9AE}" pid="3" name="_NewReviewCycle">
    <vt:lpwstr/>
  </property>
</Properties>
</file>