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BA0E-90D2-4B15-B2BA-93D6A9A8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88440"/>
            <a:ext cx="7925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8F21-4385-4DC4-88A5-03AE1366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D6E2-3BA7-4DE9-ADEF-63789801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24D7-37C7-4EFE-87E2-EE9F0AD4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3A5C-0262-47D4-8E85-7371436C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4F2B-0B16-4267-99B2-E709DB69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AEEB-AFB9-44A6-8D04-22159396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9EDA-144A-48EE-A47A-4AFCD17F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B2E4-A5BC-4385-8E8E-C5BEB616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160" y="547560"/>
            <a:ext cx="8001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5290-7042-431E-B782-772E4C11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F591-9370-4844-B38C-1B30F1C5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2CA6-8742-4FD5-B469-FD578DCE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A004-54EC-4A47-99A7-98B5B725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88440"/>
            <a:ext cx="7925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E7EB-D8C9-403D-9F65-B0C0CF7D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88440"/>
            <a:ext cx="7925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BACC-C11E-4E69-91A5-0D60DEB8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3B60-A4E8-4D23-9FA4-F9944DCF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3735-9EDF-4169-9DC3-9C62287B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B4A7-3B5B-4D98-AF97-2016CB51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829F-A8CC-4C7D-9CC5-0718580F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A76A-3A40-4D06-8141-B954D8BA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547560"/>
            <a:ext cx="8001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DAF3-601E-47F4-AB77-BA3A1023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C396-6083-42B5-BA6B-106C0B01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60C6-37DB-42D5-A30E-F91CB3D7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88440"/>
            <a:ext cx="7925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A659-8E99-4D87-AAF2-C81FAEFF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12040"/>
            <a:ext cx="9144000" cy="345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2"/>
              </a:buClr>
              <a:buSzPct val="7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 2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 2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 2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80880" y="655272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58000" y="655272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45E3-EC7E-4FDF-8EB9-EFEB8CD0E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519200"/>
            <a:ext cx="9144000" cy="1573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340320"/>
            <a:ext cx="9144000" cy="17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352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4916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1B51-8384-4F57-A571-95D67B2A7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512040"/>
            <a:ext cx="9144000" cy="345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322800"/>
            <a:ext cx="9144000" cy="15696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340320"/>
            <a:ext cx="9144000" cy="17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72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5000"/>
              <a:buFont typeface="Wingdings 2" charset="2"/>
              <a:buChar char="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75000"/>
              <a:buFont typeface="Wingdings 2" charset="2"/>
              <a:buChar char="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75000"/>
              <a:buFont typeface="Wingdings 2" charset="2"/>
              <a:buChar char="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 2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 2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4916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00"/>
                </a:solidFill>
                <a:latin typeface="Arial"/>
              </a:rPr>
              <a:t>Poor Research Designs in </a:t>
            </a:r>
            <a:br>
              <a:rPr sz="3400"/>
            </a:br>
            <a:r>
              <a:rPr b="1" lang="en-US" sz="3400" spc="-1" strike="noStrike">
                <a:solidFill>
                  <a:srgbClr val="003300"/>
                </a:solidFill>
                <a:latin typeface="Arial"/>
              </a:rPr>
              <a:t>Policy Impact Studies: </a:t>
            </a:r>
            <a:br>
              <a:rPr sz="3400"/>
            </a:br>
            <a:r>
              <a:rPr b="1" lang="en-US" sz="3400" spc="-1" strike="noStrike">
                <a:solidFill>
                  <a:srgbClr val="003300"/>
                </a:solidFill>
                <a:latin typeface="Arial"/>
              </a:rPr>
              <a:t>“Lies, Damn Lies, and Statistics”</a:t>
            </a:r>
            <a:endParaRPr b="1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280" y="3581280"/>
            <a:ext cx="883944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2"/>
                </a:solidFill>
                <a:latin typeface="Arial"/>
              </a:rPr>
              <a:t>AHRQ 2007 Annual Conference: </a:t>
            </a:r>
            <a:endParaRPr b="0" lang="en-US" sz="2200" spc="-1" strike="noStrike">
              <a:solidFill>
                <a:srgbClr val="000072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2"/>
                </a:solidFill>
                <a:latin typeface="Arial"/>
              </a:rPr>
              <a:t>Improving Healthcare, Improving Lives</a:t>
            </a:r>
            <a:endParaRPr b="0" lang="en-US" sz="2200" spc="-1" strike="noStrike">
              <a:solidFill>
                <a:srgbClr val="000072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2"/>
                </a:solidFill>
                <a:latin typeface="Arial"/>
              </a:rPr>
              <a:t>September 26, 2007</a:t>
            </a:r>
            <a:endParaRPr b="0" lang="en-US" sz="2200" spc="-1" strike="noStrike">
              <a:solidFill>
                <a:srgbClr val="000072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72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2"/>
                </a:solidFill>
                <a:latin typeface="Arial"/>
              </a:rPr>
              <a:t>Stephen Soumerai, ScD</a:t>
            </a:r>
            <a:endParaRPr b="0" lang="en-US" sz="2200" spc="-1" strike="noStrike">
              <a:solidFill>
                <a:srgbClr val="000072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2"/>
                </a:solidFill>
                <a:latin typeface="Arial"/>
              </a:rPr>
              <a:t>Department of Ambulatory Care and Prevention</a:t>
            </a:r>
            <a:endParaRPr b="0" lang="en-US" sz="2000" spc="-1" strike="noStrike">
              <a:solidFill>
                <a:srgbClr val="000072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2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72"/>
                </a:solidFill>
                <a:latin typeface="Arial"/>
              </a:rPr>
              <a:t>Harvard Medical School and Harvard Pilgrim Health Care</a:t>
            </a:r>
            <a:endParaRPr b="0" lang="en-US" sz="2000" spc="-1" strike="noStrike">
              <a:solidFill>
                <a:srgbClr val="0000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00"/>
                </a:solidFill>
                <a:latin typeface="Arial"/>
              </a:rPr>
              <a:t>Summary Points</a:t>
            </a: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2"/>
              </a:buClr>
              <a:buSzPct val="7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"/>
              </a:rPr>
              <a:t>Longitudinal data allow for strong quasi-experimental designs</a:t>
            </a: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more vali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ble effects almost always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2"/>
              </a:buClr>
              <a:buSzPct val="7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"/>
              </a:rPr>
              <a:t>Creative use of comparison series</a:t>
            </a: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xposed comparison popu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risk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tended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51040" y="5249880"/>
            <a:ext cx="7273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retest-Posttest Desig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14600" y="5708520"/>
            <a:ext cx="44035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reatment Grou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641920" y="5257800"/>
            <a:ext cx="1977840" cy="1116000"/>
            <a:chOff x="5641920" y="5257800"/>
            <a:chExt cx="1977840" cy="1116000"/>
          </a:xfrm>
        </p:grpSpPr>
        <p:sp>
          <p:nvSpPr>
            <p:cNvPr id="95" name=""/>
            <p:cNvSpPr/>
            <p:nvPr/>
          </p:nvSpPr>
          <p:spPr>
            <a:xfrm>
              <a:off x="5919480" y="5257800"/>
              <a:ext cx="12988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73040"/>
                  <a:tab algn="l" pos="946080"/>
                  <a:tab algn="l" pos="1419120"/>
                  <a:tab algn="l" pos="1892160"/>
                  <a:tab algn="l" pos="2365200"/>
                  <a:tab algn="l" pos="2838600"/>
                  <a:tab algn="l" pos="3311640"/>
                  <a:tab algn="l" pos="3784680"/>
                  <a:tab algn="l" pos="4257720"/>
                  <a:tab algn="l" pos="4730760"/>
                  <a:tab algn="l" pos="5203800"/>
                  <a:tab algn="l" pos="5676840"/>
                  <a:tab algn="l" pos="6149880"/>
                  <a:tab algn="l" pos="6622920"/>
                  <a:tab algn="l" pos="7095960"/>
                  <a:tab algn="l" pos="7569360"/>
                  <a:tab algn="l" pos="8042400"/>
                  <a:tab algn="l" pos="8515440"/>
                  <a:tab algn="l" pos="8988480"/>
                  <a:tab algn="l" pos="946152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19680" y="57214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41920" y="5757840"/>
              <a:ext cx="19778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73040"/>
                  <a:tab algn="l" pos="946080"/>
                  <a:tab algn="l" pos="1419120"/>
                  <a:tab algn="l" pos="1892160"/>
                  <a:tab algn="l" pos="2365200"/>
                  <a:tab algn="l" pos="2838600"/>
                  <a:tab algn="l" pos="3311640"/>
                  <a:tab algn="l" pos="3784680"/>
                  <a:tab algn="l" pos="4257720"/>
                  <a:tab algn="l" pos="4730760"/>
                  <a:tab algn="l" pos="5203800"/>
                  <a:tab algn="l" pos="5676840"/>
                  <a:tab algn="l" pos="6149880"/>
                  <a:tab algn="l" pos="6622920"/>
                  <a:tab algn="l" pos="7095960"/>
                  <a:tab algn="l" pos="7569360"/>
                  <a:tab algn="l" pos="8042400"/>
                  <a:tab algn="l" pos="8515440"/>
                  <a:tab algn="l" pos="8988480"/>
                  <a:tab algn="l" pos="946152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  X  O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838080" y="1676520"/>
            <a:ext cx="6518520" cy="1073160"/>
            <a:chOff x="838080" y="1676520"/>
            <a:chExt cx="6518520" cy="1073160"/>
          </a:xfrm>
        </p:grpSpPr>
        <p:sp>
          <p:nvSpPr>
            <p:cNvPr id="99" name=""/>
            <p:cNvSpPr/>
            <p:nvPr/>
          </p:nvSpPr>
          <p:spPr>
            <a:xfrm>
              <a:off x="838080" y="1676520"/>
              <a:ext cx="651852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73040"/>
                  <a:tab algn="l" pos="946080"/>
                  <a:tab algn="l" pos="1419120"/>
                  <a:tab algn="l" pos="1892160"/>
                  <a:tab algn="l" pos="2365200"/>
                  <a:tab algn="l" pos="2838600"/>
                  <a:tab algn="l" pos="3311640"/>
                  <a:tab algn="l" pos="3784680"/>
                  <a:tab algn="l" pos="4257720"/>
                  <a:tab algn="l" pos="4730760"/>
                  <a:tab algn="l" pos="5203800"/>
                  <a:tab algn="l" pos="5676840"/>
                  <a:tab algn="l" pos="6149880"/>
                  <a:tab algn="l" pos="6622920"/>
                  <a:tab algn="l" pos="7095960"/>
                  <a:tab algn="l" pos="7569360"/>
                  <a:tab algn="l" pos="8042400"/>
                  <a:tab algn="l" pos="8515440"/>
                  <a:tab algn="l" pos="8988480"/>
                  <a:tab algn="l" pos="946152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Posttest-Only Desig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01640" y="2133720"/>
              <a:ext cx="441828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73040"/>
                  <a:tab algn="l" pos="946080"/>
                  <a:tab algn="l" pos="1419120"/>
                  <a:tab algn="l" pos="1892160"/>
                  <a:tab algn="l" pos="2365200"/>
                  <a:tab algn="l" pos="2838600"/>
                  <a:tab algn="l" pos="3311640"/>
                  <a:tab algn="l" pos="3784680"/>
                  <a:tab algn="l" pos="4257720"/>
                  <a:tab algn="l" pos="4730760"/>
                  <a:tab algn="l" pos="5203800"/>
                  <a:tab algn="l" pos="5676840"/>
                  <a:tab algn="l" pos="6149880"/>
                  <a:tab algn="l" pos="6622920"/>
                  <a:tab algn="l" pos="7095960"/>
                  <a:tab algn="l" pos="7569360"/>
                  <a:tab algn="l" pos="8042400"/>
                  <a:tab algn="l" pos="8515440"/>
                  <a:tab algn="l" pos="8988480"/>
                  <a:tab algn="l" pos="946152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Treatment Group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5670720" y="1676520"/>
              <a:ext cx="1492200" cy="823320"/>
              <a:chOff x="5670720" y="1676520"/>
              <a:chExt cx="1492200" cy="823320"/>
            </a:xfrm>
          </p:grpSpPr>
          <p:sp>
            <p:nvSpPr>
              <p:cNvPr id="102" name=""/>
              <p:cNvSpPr/>
              <p:nvPr/>
            </p:nvSpPr>
            <p:spPr>
              <a:xfrm>
                <a:off x="5861160" y="1676520"/>
                <a:ext cx="130176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670720" y="2125440"/>
                <a:ext cx="1320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934240" y="2135160"/>
                <a:ext cx="111132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X  O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00"/>
                </a:solidFill>
                <a:latin typeface="Arial"/>
              </a:rPr>
              <a:t>Weak Designs: No Causal Inference</a:t>
            </a:r>
            <a:br>
              <a:rPr sz="3400"/>
            </a:br>
            <a:r>
              <a:rPr b="1" lang="en-US" sz="3400" spc="-1" strike="noStrike">
                <a:solidFill>
                  <a:srgbClr val="003300"/>
                </a:solidFill>
                <a:latin typeface="Arial"/>
              </a:rPr>
              <a:t>What Threats to Validity?</a:t>
            </a:r>
            <a:endParaRPr b="1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3000" y="2895480"/>
            <a:ext cx="77374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osttest-Only Design with Nonequivalent        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roups (cross-sectiona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36560" y="3886200"/>
            <a:ext cx="44182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reatment Grou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parison Grou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746680" y="3429000"/>
            <a:ext cx="1492200" cy="824040"/>
            <a:chOff x="5746680" y="3429000"/>
            <a:chExt cx="1492200" cy="824040"/>
          </a:xfrm>
        </p:grpSpPr>
        <p:sp>
          <p:nvSpPr>
            <p:cNvPr id="109" name=""/>
            <p:cNvSpPr/>
            <p:nvPr/>
          </p:nvSpPr>
          <p:spPr>
            <a:xfrm>
              <a:off x="5937120" y="3429000"/>
              <a:ext cx="13017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73040"/>
                  <a:tab algn="l" pos="946080"/>
                  <a:tab algn="l" pos="1419120"/>
                  <a:tab algn="l" pos="1892160"/>
                  <a:tab algn="l" pos="2365200"/>
                  <a:tab algn="l" pos="2838600"/>
                  <a:tab algn="l" pos="3311640"/>
                  <a:tab algn="l" pos="3784680"/>
                  <a:tab algn="l" pos="4257720"/>
                  <a:tab algn="l" pos="4730760"/>
                  <a:tab algn="l" pos="5203800"/>
                  <a:tab algn="l" pos="5676840"/>
                  <a:tab algn="l" pos="6149880"/>
                  <a:tab algn="l" pos="6622920"/>
                  <a:tab algn="l" pos="7095960"/>
                  <a:tab algn="l" pos="7569360"/>
                  <a:tab algn="l" pos="8042400"/>
                  <a:tab algn="l" pos="8515440"/>
                  <a:tab algn="l" pos="8988480"/>
                  <a:tab algn="l" pos="946152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46680" y="3878280"/>
              <a:ext cx="1320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10200" y="3888000"/>
              <a:ext cx="1111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73040"/>
                  <a:tab algn="l" pos="946080"/>
                  <a:tab algn="l" pos="1419120"/>
                  <a:tab algn="l" pos="1892160"/>
                  <a:tab algn="l" pos="2365200"/>
                  <a:tab algn="l" pos="2838600"/>
                  <a:tab algn="l" pos="3311640"/>
                  <a:tab algn="l" pos="3784680"/>
                  <a:tab algn="l" pos="4257720"/>
                  <a:tab algn="l" pos="4730760"/>
                  <a:tab algn="l" pos="5203800"/>
                  <a:tab algn="l" pos="5676840"/>
                  <a:tab algn="l" pos="6149880"/>
                  <a:tab algn="l" pos="6622920"/>
                  <a:tab algn="l" pos="7095960"/>
                  <a:tab algn="l" pos="7569360"/>
                  <a:tab algn="l" pos="8042400"/>
                  <a:tab algn="l" pos="8515440"/>
                  <a:tab algn="l" pos="8988480"/>
                  <a:tab algn="l" pos="946152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X  O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73040"/>
                  <a:tab algn="l" pos="946080"/>
                  <a:tab algn="l" pos="1419120"/>
                  <a:tab algn="l" pos="1892160"/>
                  <a:tab algn="l" pos="2365200"/>
                  <a:tab algn="l" pos="2838600"/>
                  <a:tab algn="l" pos="3311640"/>
                  <a:tab algn="l" pos="3784680"/>
                  <a:tab algn="l" pos="4257720"/>
                  <a:tab algn="l" pos="4730760"/>
                  <a:tab algn="l" pos="5203800"/>
                  <a:tab algn="l" pos="5676840"/>
                  <a:tab algn="l" pos="6149880"/>
                  <a:tab algn="l" pos="6622920"/>
                  <a:tab algn="l" pos="7095960"/>
                  <a:tab algn="l" pos="7569360"/>
                  <a:tab algn="l" pos="8042400"/>
                  <a:tab algn="l" pos="8515440"/>
                  <a:tab algn="l" pos="8988480"/>
                  <a:tab algn="l" pos="9461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73040"/>
                  <a:tab algn="l" pos="946080"/>
                  <a:tab algn="l" pos="1419120"/>
                  <a:tab algn="l" pos="1892160"/>
                  <a:tab algn="l" pos="2365200"/>
                  <a:tab algn="l" pos="2838600"/>
                  <a:tab algn="l" pos="3311640"/>
                  <a:tab algn="l" pos="3784680"/>
                  <a:tab algn="l" pos="4257720"/>
                  <a:tab algn="l" pos="4730760"/>
                  <a:tab algn="l" pos="5203800"/>
                  <a:tab algn="l" pos="5676840"/>
                  <a:tab algn="l" pos="6149880"/>
                  <a:tab algn="l" pos="6622920"/>
                  <a:tab algn="l" pos="7095960"/>
                  <a:tab algn="l" pos="7569360"/>
                  <a:tab algn="l" pos="8042400"/>
                  <a:tab algn="l" pos="8515440"/>
                  <a:tab algn="l" pos="8988480"/>
                  <a:tab algn="l" pos="94615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52280" y="3124080"/>
            <a:ext cx="685800" cy="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565200" y="1752480"/>
            <a:ext cx="8931240" cy="1969920"/>
            <a:chOff x="565200" y="1752480"/>
            <a:chExt cx="8931240" cy="1969920"/>
          </a:xfrm>
        </p:grpSpPr>
        <p:sp>
          <p:nvSpPr>
            <p:cNvPr id="114" name=""/>
            <p:cNvSpPr/>
            <p:nvPr/>
          </p:nvSpPr>
          <p:spPr>
            <a:xfrm>
              <a:off x="565200" y="1752480"/>
              <a:ext cx="893124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73040"/>
                  <a:tab algn="l" pos="946080"/>
                  <a:tab algn="l" pos="1419120"/>
                  <a:tab algn="l" pos="1892160"/>
                  <a:tab algn="l" pos="2365200"/>
                  <a:tab algn="l" pos="2838600"/>
                  <a:tab algn="l" pos="3311640"/>
                  <a:tab algn="l" pos="3784680"/>
                  <a:tab algn="l" pos="4257720"/>
                  <a:tab algn="l" pos="4730760"/>
                  <a:tab algn="l" pos="5203800"/>
                  <a:tab algn="l" pos="5676840"/>
                  <a:tab algn="l" pos="6149880"/>
                  <a:tab algn="l" pos="6622920"/>
                  <a:tab algn="l" pos="7095960"/>
                  <a:tab algn="l" pos="7569360"/>
                  <a:tab algn="l" pos="8042400"/>
                  <a:tab algn="l" pos="8515440"/>
                  <a:tab algn="l" pos="8988480"/>
                  <a:tab algn="l" pos="946152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Non-equivalent Control Group Desig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762120" y="2557440"/>
              <a:ext cx="6162480" cy="1164960"/>
              <a:chOff x="762120" y="2557440"/>
              <a:chExt cx="6162480" cy="1164960"/>
            </a:xfrm>
          </p:grpSpPr>
          <p:sp>
            <p:nvSpPr>
              <p:cNvPr id="116" name=""/>
              <p:cNvSpPr/>
              <p:nvPr/>
            </p:nvSpPr>
            <p:spPr>
              <a:xfrm>
                <a:off x="2673360" y="2557440"/>
                <a:ext cx="4251240" cy="61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Treatment Group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73360" y="3106440"/>
                <a:ext cx="4027320" cy="61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Comparison Group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762120" y="2841480"/>
                <a:ext cx="738000" cy="396720"/>
              </a:xfrm>
              <a:prstGeom prst="roundRect">
                <a:avLst>
                  <a:gd name="adj" fmla="val 0"/>
                </a:avLst>
              </a:prstGeom>
              <a:noFill/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990720" y="2811240"/>
                <a:ext cx="336600" cy="30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1603440" y="2825640"/>
                <a:ext cx="84132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603440" y="3060720"/>
                <a:ext cx="865080" cy="1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66880" y="2651040"/>
                <a:ext cx="1347840" cy="706320"/>
              </a:xfrm>
              <a:prstGeom prst="line">
                <a:avLst/>
              </a:prstGeom>
              <a:ln w="63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890640" y="2651040"/>
                <a:ext cx="1349280" cy="706320"/>
              </a:xfrm>
              <a:prstGeom prst="line">
                <a:avLst/>
              </a:prstGeom>
              <a:ln w="63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6248520" y="2176200"/>
              <a:ext cx="2014560" cy="1211400"/>
              <a:chOff x="6248520" y="2176200"/>
              <a:chExt cx="2014560" cy="1211400"/>
            </a:xfrm>
          </p:grpSpPr>
          <p:sp>
            <p:nvSpPr>
              <p:cNvPr id="125" name=""/>
              <p:cNvSpPr/>
              <p:nvPr/>
            </p:nvSpPr>
            <p:spPr>
              <a:xfrm>
                <a:off x="6382080" y="2589120"/>
                <a:ext cx="1881000" cy="61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X  O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6248520" y="2176200"/>
                <a:ext cx="1785960" cy="1211400"/>
                <a:chOff x="6248520" y="2176200"/>
                <a:chExt cx="1785960" cy="12114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6707520" y="2176200"/>
                  <a:ext cx="103644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473040"/>
                      <a:tab algn="l" pos="946080"/>
                      <a:tab algn="l" pos="1419120"/>
                      <a:tab algn="l" pos="1892160"/>
                      <a:tab algn="l" pos="2365200"/>
                      <a:tab algn="l" pos="2838600"/>
                      <a:tab algn="l" pos="3311640"/>
                      <a:tab algn="l" pos="3784680"/>
                      <a:tab algn="l" pos="4257720"/>
                      <a:tab algn="l" pos="4730760"/>
                      <a:tab algn="l" pos="5203800"/>
                      <a:tab algn="l" pos="5676840"/>
                      <a:tab algn="l" pos="6149880"/>
                      <a:tab algn="l" pos="6622920"/>
                      <a:tab algn="l" pos="7095960"/>
                      <a:tab algn="l" pos="7569360"/>
                      <a:tab algn="l" pos="8042400"/>
                      <a:tab algn="l" pos="8515440"/>
                      <a:tab algn="l" pos="8988480"/>
                      <a:tab algn="l" pos="9461520"/>
                    </a:tabLst>
                  </a:pPr>
                  <a:r>
                    <a:rPr b="0" lang="en-US" sz="2900" spc="-1" strike="noStrike">
                      <a:solidFill>
                        <a:srgbClr val="000000"/>
                      </a:solidFill>
                      <a:latin typeface="Arial"/>
                    </a:rPr>
                    <a:t>Time</a:t>
                  </a: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248520" y="2593800"/>
                  <a:ext cx="1720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448680" y="3079440"/>
                  <a:ext cx="49536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473040"/>
                      <a:tab algn="l" pos="946080"/>
                      <a:tab algn="l" pos="1419120"/>
                      <a:tab algn="l" pos="1892160"/>
                      <a:tab algn="l" pos="2365200"/>
                      <a:tab algn="l" pos="2838600"/>
                      <a:tab algn="l" pos="3311640"/>
                      <a:tab algn="l" pos="3784680"/>
                      <a:tab algn="l" pos="4257720"/>
                      <a:tab algn="l" pos="4730760"/>
                      <a:tab algn="l" pos="5203800"/>
                      <a:tab algn="l" pos="5676840"/>
                      <a:tab algn="l" pos="6149880"/>
                      <a:tab algn="l" pos="6622920"/>
                      <a:tab algn="l" pos="7095960"/>
                      <a:tab algn="l" pos="7569360"/>
                      <a:tab algn="l" pos="8042400"/>
                      <a:tab algn="l" pos="8515440"/>
                      <a:tab algn="l" pos="8988480"/>
                      <a:tab algn="l" pos="9461520"/>
                    </a:tabLst>
                  </a:pPr>
                  <a:r>
                    <a:rPr b="0" lang="en-US" sz="29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471080" y="3079440"/>
                  <a:ext cx="49536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473040"/>
                      <a:tab algn="l" pos="946080"/>
                      <a:tab algn="l" pos="1419120"/>
                      <a:tab algn="l" pos="1892160"/>
                      <a:tab algn="l" pos="2365200"/>
                      <a:tab algn="l" pos="2838600"/>
                      <a:tab algn="l" pos="3311640"/>
                      <a:tab algn="l" pos="3784680"/>
                      <a:tab algn="l" pos="4257720"/>
                      <a:tab algn="l" pos="4730760"/>
                      <a:tab algn="l" pos="5203800"/>
                      <a:tab algn="l" pos="5676840"/>
                      <a:tab algn="l" pos="6149880"/>
                      <a:tab algn="l" pos="6622920"/>
                      <a:tab algn="l" pos="7095960"/>
                      <a:tab algn="l" pos="7569360"/>
                      <a:tab algn="l" pos="8042400"/>
                      <a:tab algn="l" pos="8515440"/>
                      <a:tab algn="l" pos="8988480"/>
                      <a:tab algn="l" pos="9461520"/>
                    </a:tabLst>
                  </a:pPr>
                  <a:r>
                    <a:rPr b="0" lang="en-US" sz="29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251760" y="3017520"/>
                  <a:ext cx="1782720" cy="0"/>
                </a:xfrm>
                <a:prstGeom prst="line">
                  <a:avLst/>
                </a:prstGeom>
                <a:ln w="936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2" name=""/>
          <p:cNvGrpSpPr/>
          <p:nvPr/>
        </p:nvGrpSpPr>
        <p:grpSpPr>
          <a:xfrm>
            <a:off x="565200" y="3962520"/>
            <a:ext cx="7969320" cy="1487520"/>
            <a:chOff x="565200" y="3962520"/>
            <a:chExt cx="7969320" cy="1487520"/>
          </a:xfrm>
        </p:grpSpPr>
        <p:sp>
          <p:nvSpPr>
            <p:cNvPr id="133" name=""/>
            <p:cNvSpPr/>
            <p:nvPr/>
          </p:nvSpPr>
          <p:spPr>
            <a:xfrm>
              <a:off x="565200" y="3962520"/>
              <a:ext cx="65149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73040"/>
                  <a:tab algn="l" pos="946080"/>
                  <a:tab algn="l" pos="1419120"/>
                  <a:tab algn="l" pos="1892160"/>
                  <a:tab algn="l" pos="2365200"/>
                  <a:tab algn="l" pos="2838600"/>
                  <a:tab algn="l" pos="3311640"/>
                  <a:tab algn="l" pos="3784680"/>
                  <a:tab algn="l" pos="4257720"/>
                  <a:tab algn="l" pos="4730760"/>
                  <a:tab algn="l" pos="5203800"/>
                  <a:tab algn="l" pos="5676840"/>
                  <a:tab algn="l" pos="6149880"/>
                  <a:tab algn="l" pos="6622920"/>
                  <a:tab algn="l" pos="7095960"/>
                  <a:tab algn="l" pos="7569360"/>
                  <a:tab algn="l" pos="8042400"/>
                  <a:tab algn="l" pos="8515440"/>
                  <a:tab algn="l" pos="8988480"/>
                  <a:tab algn="l" pos="946152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Time Series Desig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43000" y="4807080"/>
              <a:ext cx="46688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73040"/>
                  <a:tab algn="l" pos="946080"/>
                  <a:tab algn="l" pos="1419120"/>
                  <a:tab algn="l" pos="1892160"/>
                  <a:tab algn="l" pos="2365200"/>
                  <a:tab algn="l" pos="2838600"/>
                  <a:tab algn="l" pos="3311640"/>
                  <a:tab algn="l" pos="3784680"/>
                  <a:tab algn="l" pos="4257720"/>
                  <a:tab algn="l" pos="4730760"/>
                  <a:tab algn="l" pos="5203800"/>
                  <a:tab algn="l" pos="5676840"/>
                  <a:tab algn="l" pos="6149880"/>
                  <a:tab algn="l" pos="6622920"/>
                  <a:tab algn="l" pos="7095960"/>
                  <a:tab algn="l" pos="7569360"/>
                  <a:tab algn="l" pos="8042400"/>
                  <a:tab algn="l" pos="8515440"/>
                  <a:tab algn="l" pos="8988480"/>
                  <a:tab algn="l" pos="946152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Treatment Group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73040"/>
                  <a:tab algn="l" pos="946080"/>
                  <a:tab algn="l" pos="1419120"/>
                  <a:tab algn="l" pos="1892160"/>
                  <a:tab algn="l" pos="2365200"/>
                  <a:tab algn="l" pos="2838600"/>
                  <a:tab algn="l" pos="3311640"/>
                  <a:tab algn="l" pos="3784680"/>
                  <a:tab algn="l" pos="4257720"/>
                  <a:tab algn="l" pos="4730760"/>
                  <a:tab algn="l" pos="5203800"/>
                  <a:tab algn="l" pos="5676840"/>
                  <a:tab algn="l" pos="6149880"/>
                  <a:tab algn="l" pos="6622920"/>
                  <a:tab algn="l" pos="7095960"/>
                  <a:tab algn="l" pos="7569360"/>
                  <a:tab algn="l" pos="8042400"/>
                  <a:tab algn="l" pos="8515440"/>
                  <a:tab algn="l" pos="8988480"/>
                  <a:tab algn="l" pos="94615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73040"/>
                  <a:tab algn="l" pos="946080"/>
                  <a:tab algn="l" pos="1419120"/>
                  <a:tab algn="l" pos="1892160"/>
                  <a:tab algn="l" pos="2365200"/>
                  <a:tab algn="l" pos="2838600"/>
                  <a:tab algn="l" pos="3311640"/>
                  <a:tab algn="l" pos="3784680"/>
                  <a:tab algn="l" pos="4257720"/>
                  <a:tab algn="l" pos="4730760"/>
                  <a:tab algn="l" pos="5203800"/>
                  <a:tab algn="l" pos="5676840"/>
                  <a:tab algn="l" pos="6149880"/>
                  <a:tab algn="l" pos="6622920"/>
                  <a:tab algn="l" pos="7095960"/>
                  <a:tab algn="l" pos="7569360"/>
                  <a:tab algn="l" pos="8042400"/>
                  <a:tab algn="l" pos="8515440"/>
                  <a:tab algn="l" pos="8988480"/>
                  <a:tab algn="l" pos="946152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Comparison Series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73040"/>
                  <a:tab algn="l" pos="946080"/>
                  <a:tab algn="l" pos="1419120"/>
                  <a:tab algn="l" pos="1892160"/>
                  <a:tab algn="l" pos="2365200"/>
                  <a:tab algn="l" pos="2838600"/>
                  <a:tab algn="l" pos="3311640"/>
                  <a:tab algn="l" pos="3784680"/>
                  <a:tab algn="l" pos="4257720"/>
                  <a:tab algn="l" pos="4730760"/>
                  <a:tab algn="l" pos="5203800"/>
                  <a:tab algn="l" pos="5676840"/>
                  <a:tab algn="l" pos="6149880"/>
                  <a:tab algn="l" pos="6622920"/>
                  <a:tab algn="l" pos="7095960"/>
                  <a:tab algn="l" pos="7569360"/>
                  <a:tab algn="l" pos="8042400"/>
                  <a:tab algn="l" pos="8515440"/>
                  <a:tab algn="l" pos="8988480"/>
                  <a:tab algn="l" pos="946152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possible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4876920" y="4264200"/>
              <a:ext cx="3657600" cy="1185840"/>
              <a:chOff x="4876920" y="4264200"/>
              <a:chExt cx="3657600" cy="1185840"/>
            </a:xfrm>
          </p:grpSpPr>
          <p:sp>
            <p:nvSpPr>
              <p:cNvPr id="136" name=""/>
              <p:cNvSpPr/>
              <p:nvPr/>
            </p:nvSpPr>
            <p:spPr>
              <a:xfrm>
                <a:off x="6095880" y="4264200"/>
                <a:ext cx="10368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876920" y="4730760"/>
                <a:ext cx="3429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6920" y="4834080"/>
                <a:ext cx="3657600" cy="61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 X  O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  O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00"/>
                </a:solidFill>
                <a:latin typeface="Arial"/>
              </a:rPr>
              <a:t>Strong Quasi-Experimental Designs</a:t>
            </a:r>
            <a:endParaRPr b="1" lang="en-US" sz="3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</a:rPr>
              <a:t>Reported Effectiveness of Printed Education Materials Alone in Well-Designed vs. Inadequately Controlled Studies</a:t>
            </a:r>
            <a:endParaRPr b="1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686480" y="1638360"/>
          <a:ext cx="34272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6480" y="1638360"/>
                    <a:ext cx="34272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762120" y="1600200"/>
          <a:ext cx="3427200" cy="457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600200"/>
                    <a:ext cx="34272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447920" y="213372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equately Controlled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213372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adequately Controlled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umerai et al, Milbank Q 1989; 67: 268-3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609480" y="1219320"/>
          <a:ext cx="7766280" cy="53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776628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14600" y="2743200"/>
            <a:ext cx="256536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ffect Attributed by MCOP</a:t>
            </a:r>
            <a:endParaRPr b="0" lang="en-US" sz="23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350532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30492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of an Inadequate Cross-sectional Design: Problems with Small Samples and Out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057400" y="3124080"/>
            <a:ext cx="6019920" cy="19051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610480" cy="6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00"/>
                </a:solidFill>
                <a:latin typeface="Arial"/>
              </a:rPr>
              <a:t>Post-only Evaluations of Several Drug Cost-Containment Policies on Medication Use and Health Outcomes </a:t>
            </a:r>
            <a:endParaRPr b="1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2"/>
                </a:solidFill>
                <a:latin typeface="Arial"/>
              </a:rPr>
              <a:t>Conclusions:</a:t>
            </a:r>
            <a:r>
              <a:rPr b="0" lang="en-US" sz="2800" spc="-1" strike="noStrike">
                <a:solidFill>
                  <a:srgbClr val="000072"/>
                </a:solidFill>
                <a:latin typeface="Arial"/>
              </a:rPr>
              <a:t> Mixed effects on outcomes and costs</a:t>
            </a:r>
            <a:endParaRPr b="0" lang="en-US" sz="2800" spc="-1" strike="noStrike">
              <a:solidFill>
                <a:srgbClr val="00007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2"/>
                </a:solidFill>
                <a:latin typeface="Arial"/>
              </a:rPr>
              <a:t>Design:</a:t>
            </a:r>
            <a:r>
              <a:rPr b="0" lang="en-US" sz="2800" spc="-1" strike="noStrike">
                <a:solidFill>
                  <a:srgbClr val="000072"/>
                </a:solidFill>
                <a:latin typeface="Arial"/>
              </a:rPr>
              <a:t> Post-policy comparisons of several groups (e.g., with and without employer insurance)</a:t>
            </a:r>
            <a:endParaRPr b="0" lang="en-US" sz="2800" spc="-1" strike="noStrike">
              <a:solidFill>
                <a:srgbClr val="0000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ata on baseline compa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adjustment for group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2"/>
                </a:solidFill>
                <a:latin typeface="Arial"/>
              </a:rPr>
              <a:t>Problems:</a:t>
            </a:r>
            <a:endParaRPr b="0" lang="en-US" sz="2800" spc="-1" strike="noStrike">
              <a:solidFill>
                <a:srgbClr val="0000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groups were already different with respect to SES and health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al variables, propensity scores, etc. can’t fully control for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00"/>
                </a:solidFill>
                <a:latin typeface="Arial"/>
              </a:rPr>
              <a:t>Use Longitudinal Models</a:t>
            </a: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2"/>
              </a:buClr>
              <a:buSzPct val="7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"/>
              </a:rPr>
              <a:t>Increases statistical power in quasi-experimental studies</a:t>
            </a: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information  on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2"/>
              </a:buClr>
              <a:buSzPct val="7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"/>
              </a:rPr>
              <a:t>Multiple pre- and post-measurements of outcomes</a:t>
            </a: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graphical evidenc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ble versus statis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0" y="1371600"/>
          <a:ext cx="916956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916956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3851280" y="1905120"/>
            <a:ext cx="0" cy="3352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68520" y="2057400"/>
            <a:ext cx="33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riplicate Prescription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26496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1: Reductions in benzodiazepine use after Triplicate Prescription Policy among patients living in neighborhoods with different racial com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arson et al, Arch Intern Med 2006; 166:572-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00"/>
                </a:solidFill>
                <a:latin typeface="Arial"/>
              </a:rPr>
              <a:t>Benzodiazepine Use and Incidence of Hip Fracture among Women in Medicaid Before and After NY Regulatory Surveillance</a:t>
            </a:r>
            <a:endParaRPr b="1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-66240" y="4517640"/>
            <a:ext cx="2362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mulative Incidence of Hip Fracture per 100000 Female Users before Poli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86040" y="2520000"/>
            <a:ext cx="205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z Use among Female Users before Policy,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5562720" cy="2766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295280" y="3733920"/>
            <a:ext cx="586764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15:02:47Z</dcterms:created>
  <dc:creator>HPHC</dc:creator>
  <dc:description/>
  <dc:language>en-US</dc:language>
  <cp:lastModifiedBy>DHHS</cp:lastModifiedBy>
  <cp:lastPrinted>2001-10-29T15:51:21Z</cp:lastPrinted>
  <dcterms:modified xsi:type="dcterms:W3CDTF">2008-07-24T18:11:58Z</dcterms:modified>
  <cp:revision>45</cp:revision>
  <dc:subject/>
  <dc:title>Assessing the Impact of State Policies and Programs to Promote Appropriate Use of Pharmaceuticals</dc:title>
</cp:coreProperties>
</file>