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5DEB-B605-4F08-A26B-8100C729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D1B-99D8-42CE-9F67-F70CA43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4B3-20ED-4408-AE5F-8A79A091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7AA-2977-4EEC-8530-CE433CB6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7B6A-895C-4623-B526-501330D6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26DB-F5D8-4FDD-8EF0-A7ABF0A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0CE-2228-4C60-99E6-B2493008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C081-D731-45C1-B675-ACC687A9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7A1C-BFF5-4481-9CA4-15A40BE5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160" y="547560"/>
            <a:ext cx="8001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102E-39BC-47F6-A695-E3DE1196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4A15-FB32-45E2-AA81-DF38B4C5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2F5-F04B-48F1-9E9C-0FAA94A9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F689-2A7B-41FC-A937-F002EE08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1613-2439-4596-B16A-0CCF43B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D227-67B2-4098-8525-FB2785DA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2AD9-54D7-4F99-88E7-4FCB936E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D9E1-DF5F-4870-9A00-138B5B32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291-3FE2-47DD-BEAE-D24FDBAE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E980-8404-4DE8-B906-4A6CC46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4EE4-882B-4FBA-AB83-4ADF8485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547560"/>
            <a:ext cx="80010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9CF-E9CA-4C4F-87C8-57D01352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2FFE-1540-4F88-A1F4-DFDE1B42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C69-7701-42D4-8580-C89EF248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8844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E8A-F875-45D6-93C2-AAABE87C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12040"/>
            <a:ext cx="9144000" cy="34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80880" y="655272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90512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BD6D-49FA-459A-97D8-8F8C1F9AF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19200"/>
            <a:ext cx="9144000" cy="15732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340320"/>
            <a:ext cx="9144000" cy="1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3352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49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00E6-612A-4CE6-8C26-886905038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12040"/>
            <a:ext cx="9144000" cy="34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22800"/>
            <a:ext cx="9144000" cy="15696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40320"/>
            <a:ext cx="9144000" cy="17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72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7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491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Poor Research Designs in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Policy Impact Studies: 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“Lies, Damn Lies, and Statistics”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280" y="3581280"/>
            <a:ext cx="883944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AHRQ 2007 Annual Conference: 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Improving Healthcare, Improving Lives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September 26, 2007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72"/>
                </a:solidFill>
                <a:latin typeface="Arial"/>
              </a:rPr>
              <a:t>Stephen Soumerai, ScD</a:t>
            </a:r>
            <a:endParaRPr b="0" lang="en-US" sz="22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2"/>
                </a:solidFill>
                <a:latin typeface="Arial"/>
              </a:rPr>
              <a:t>Department of Ambulatory Care and Prevention</a:t>
            </a:r>
            <a:endParaRPr b="0" lang="en-US" sz="2000" spc="-1" strike="noStrike">
              <a:solidFill>
                <a:srgbClr val="000072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2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2"/>
                </a:solidFill>
                <a:latin typeface="Arial"/>
              </a:rPr>
              <a:t>Harvard Medical School and Harvard Pilgrim Health Care</a:t>
            </a:r>
            <a:endParaRPr b="0" lang="en-US" sz="2000" spc="-1" strike="noStrike">
              <a:solidFill>
                <a:srgbClr val="0000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Summary Points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Longitudinal data allow for strong quasi-experimental design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more vali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effects almost alway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Creative use of comparison serie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osed comparison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risk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tended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51040" y="5249880"/>
            <a:ext cx="72738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retest-Posttest Desig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14600" y="5708520"/>
            <a:ext cx="44035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eatment Grou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641920" y="5257800"/>
            <a:ext cx="1977840" cy="1116000"/>
            <a:chOff x="5641920" y="5257800"/>
            <a:chExt cx="1977840" cy="1116000"/>
          </a:xfrm>
        </p:grpSpPr>
        <p:sp>
          <p:nvSpPr>
            <p:cNvPr id="95" name=""/>
            <p:cNvSpPr/>
            <p:nvPr/>
          </p:nvSpPr>
          <p:spPr>
            <a:xfrm>
              <a:off x="5919480" y="5257800"/>
              <a:ext cx="12988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19680" y="57214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41920" y="5757840"/>
              <a:ext cx="19778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 X  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838080" y="1676520"/>
            <a:ext cx="6518520" cy="1073160"/>
            <a:chOff x="838080" y="1676520"/>
            <a:chExt cx="6518520" cy="1073160"/>
          </a:xfrm>
        </p:grpSpPr>
        <p:sp>
          <p:nvSpPr>
            <p:cNvPr id="99" name=""/>
            <p:cNvSpPr/>
            <p:nvPr/>
          </p:nvSpPr>
          <p:spPr>
            <a:xfrm>
              <a:off x="838080" y="1676520"/>
              <a:ext cx="651852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Posttest-Only Desig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1640" y="2133720"/>
              <a:ext cx="441828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reatment Group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5670720" y="1676520"/>
              <a:ext cx="1492200" cy="823320"/>
              <a:chOff x="5670720" y="1676520"/>
              <a:chExt cx="1492200" cy="823320"/>
            </a:xfrm>
          </p:grpSpPr>
          <p:sp>
            <p:nvSpPr>
              <p:cNvPr id="102" name=""/>
              <p:cNvSpPr/>
              <p:nvPr/>
            </p:nvSpPr>
            <p:spPr>
              <a:xfrm>
                <a:off x="5861160" y="1676520"/>
                <a:ext cx="13017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670720" y="2125440"/>
                <a:ext cx="1320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34240" y="2135160"/>
                <a:ext cx="1111320" cy="36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X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Weak Designs: No Causal Inference</a:t>
            </a:r>
            <a:br>
              <a:rPr sz="3400"/>
            </a:b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What Threats to Validity?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73000" y="2895480"/>
            <a:ext cx="77374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sttest-Only Design with Nonequivalent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roups (cross-sectional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36560" y="3886200"/>
            <a:ext cx="4418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eatment Grou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arison Grou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46680" y="3429000"/>
            <a:ext cx="1492200" cy="824040"/>
            <a:chOff x="5746680" y="3429000"/>
            <a:chExt cx="1492200" cy="824040"/>
          </a:xfrm>
        </p:grpSpPr>
        <p:sp>
          <p:nvSpPr>
            <p:cNvPr id="109" name=""/>
            <p:cNvSpPr/>
            <p:nvPr/>
          </p:nvSpPr>
          <p:spPr>
            <a:xfrm>
              <a:off x="5937120" y="3429000"/>
              <a:ext cx="13017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46680" y="3878280"/>
              <a:ext cx="1320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10200" y="3888000"/>
              <a:ext cx="11113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X  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52280" y="3124080"/>
            <a:ext cx="685800" cy="0"/>
          </a:xfrm>
          <a:prstGeom prst="line">
            <a:avLst/>
          </a:prstGeom>
          <a:ln w="73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565200" y="1752480"/>
            <a:ext cx="8931240" cy="1969920"/>
            <a:chOff x="565200" y="1752480"/>
            <a:chExt cx="8931240" cy="1969920"/>
          </a:xfrm>
        </p:grpSpPr>
        <p:sp>
          <p:nvSpPr>
            <p:cNvPr id="114" name=""/>
            <p:cNvSpPr/>
            <p:nvPr/>
          </p:nvSpPr>
          <p:spPr>
            <a:xfrm>
              <a:off x="565200" y="1752480"/>
              <a:ext cx="89312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Non-equivalent Control Group Desig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762120" y="2557440"/>
              <a:ext cx="6162480" cy="1164960"/>
              <a:chOff x="762120" y="2557440"/>
              <a:chExt cx="6162480" cy="1164960"/>
            </a:xfrm>
          </p:grpSpPr>
          <p:sp>
            <p:nvSpPr>
              <p:cNvPr id="116" name=""/>
              <p:cNvSpPr/>
              <p:nvPr/>
            </p:nvSpPr>
            <p:spPr>
              <a:xfrm>
                <a:off x="2673360" y="2557440"/>
                <a:ext cx="4251240" cy="61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Treatment Group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73360" y="3106440"/>
                <a:ext cx="402732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Comparison Group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762120" y="2841480"/>
                <a:ext cx="738000" cy="396720"/>
              </a:xfrm>
              <a:prstGeom prst="roundRect">
                <a:avLst>
                  <a:gd name="adj" fmla="val 0"/>
                </a:avLst>
              </a:prstGeom>
              <a:noFill/>
              <a:ln w="18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990720" y="2811240"/>
                <a:ext cx="336600" cy="30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603440" y="2825640"/>
                <a:ext cx="84132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603440" y="3060720"/>
                <a:ext cx="865080" cy="11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66880" y="2651040"/>
                <a:ext cx="1347840" cy="706320"/>
              </a:xfrm>
              <a:prstGeom prst="line">
                <a:avLst/>
              </a:prstGeom>
              <a:ln w="63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890640" y="2651040"/>
                <a:ext cx="1349280" cy="706320"/>
              </a:xfrm>
              <a:prstGeom prst="line">
                <a:avLst/>
              </a:prstGeom>
              <a:ln w="630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248520" y="2176200"/>
              <a:ext cx="2014560" cy="1211400"/>
              <a:chOff x="6248520" y="2176200"/>
              <a:chExt cx="2014560" cy="1211400"/>
            </a:xfrm>
          </p:grpSpPr>
          <p:sp>
            <p:nvSpPr>
              <p:cNvPr id="125" name=""/>
              <p:cNvSpPr/>
              <p:nvPr/>
            </p:nvSpPr>
            <p:spPr>
              <a:xfrm>
                <a:off x="6382080" y="2589120"/>
                <a:ext cx="188100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X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248520" y="2176200"/>
                <a:ext cx="1785960" cy="1211400"/>
                <a:chOff x="6248520" y="2176200"/>
                <a:chExt cx="1785960" cy="1211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707520" y="2176200"/>
                  <a:ext cx="103644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0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48520" y="2593800"/>
                  <a:ext cx="1720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448680" y="3079440"/>
                  <a:ext cx="4953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0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471080" y="3079440"/>
                  <a:ext cx="4953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473040"/>
                      <a:tab algn="l" pos="946080"/>
                      <a:tab algn="l" pos="1419120"/>
                      <a:tab algn="l" pos="1892160"/>
                      <a:tab algn="l" pos="2365200"/>
                      <a:tab algn="l" pos="2838600"/>
                      <a:tab algn="l" pos="3311640"/>
                      <a:tab algn="l" pos="3784680"/>
                      <a:tab algn="l" pos="4257720"/>
                      <a:tab algn="l" pos="4730760"/>
                      <a:tab algn="l" pos="5203800"/>
                      <a:tab algn="l" pos="5676840"/>
                      <a:tab algn="l" pos="6149880"/>
                      <a:tab algn="l" pos="6622920"/>
                      <a:tab algn="l" pos="7095960"/>
                      <a:tab algn="l" pos="7569360"/>
                      <a:tab algn="l" pos="8042400"/>
                      <a:tab algn="l" pos="8515440"/>
                      <a:tab algn="l" pos="8988480"/>
                      <a:tab algn="l" pos="9461520"/>
                    </a:tabLst>
                  </a:pPr>
                  <a:r>
                    <a:rPr b="0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51760" y="3017520"/>
                  <a:ext cx="1782720" cy="0"/>
                </a:xfrm>
                <a:prstGeom prst="line">
                  <a:avLst/>
                </a:prstGeom>
                <a:ln w="9360">
                  <a:solidFill>
                    <a:srgbClr val="4b4b4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" name=""/>
          <p:cNvGrpSpPr/>
          <p:nvPr/>
        </p:nvGrpSpPr>
        <p:grpSpPr>
          <a:xfrm>
            <a:off x="565200" y="3962520"/>
            <a:ext cx="7969320" cy="1487520"/>
            <a:chOff x="565200" y="3962520"/>
            <a:chExt cx="7969320" cy="1487520"/>
          </a:xfrm>
        </p:grpSpPr>
        <p:sp>
          <p:nvSpPr>
            <p:cNvPr id="133" name=""/>
            <p:cNvSpPr/>
            <p:nvPr/>
          </p:nvSpPr>
          <p:spPr>
            <a:xfrm>
              <a:off x="565200" y="3962520"/>
              <a:ext cx="651492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Time Series Design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43000" y="4807080"/>
              <a:ext cx="46688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Treatment Group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Comparison Series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73040"/>
                  <a:tab algn="l" pos="946080"/>
                  <a:tab algn="l" pos="1419120"/>
                  <a:tab algn="l" pos="1892160"/>
                  <a:tab algn="l" pos="2365200"/>
                  <a:tab algn="l" pos="2838600"/>
                  <a:tab algn="l" pos="3311640"/>
                  <a:tab algn="l" pos="3784680"/>
                  <a:tab algn="l" pos="4257720"/>
                  <a:tab algn="l" pos="4730760"/>
                  <a:tab algn="l" pos="5203800"/>
                  <a:tab algn="l" pos="5676840"/>
                  <a:tab algn="l" pos="6149880"/>
                  <a:tab algn="l" pos="6622920"/>
                  <a:tab algn="l" pos="7095960"/>
                  <a:tab algn="l" pos="7569360"/>
                  <a:tab algn="l" pos="8042400"/>
                  <a:tab algn="l" pos="8515440"/>
                  <a:tab algn="l" pos="8988480"/>
                  <a:tab algn="l" pos="946152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possible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876920" y="4264200"/>
              <a:ext cx="3657600" cy="1185840"/>
              <a:chOff x="4876920" y="4264200"/>
              <a:chExt cx="3657600" cy="1185840"/>
            </a:xfrm>
          </p:grpSpPr>
          <p:sp>
            <p:nvSpPr>
              <p:cNvPr id="136" name=""/>
              <p:cNvSpPr/>
              <p:nvPr/>
            </p:nvSpPr>
            <p:spPr>
              <a:xfrm>
                <a:off x="6095880" y="4264200"/>
                <a:ext cx="10368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6920" y="4730760"/>
                <a:ext cx="3429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6920" y="4834080"/>
                <a:ext cx="3657600" cy="61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X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  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4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73040"/>
                    <a:tab algn="l" pos="946080"/>
                    <a:tab algn="l" pos="1419120"/>
                    <a:tab algn="l" pos="1892160"/>
                    <a:tab algn="l" pos="2365200"/>
                    <a:tab algn="l" pos="2838600"/>
                    <a:tab algn="l" pos="3311640"/>
                    <a:tab algn="l" pos="3784680"/>
                    <a:tab algn="l" pos="4257720"/>
                    <a:tab algn="l" pos="4730760"/>
                    <a:tab algn="l" pos="5203800"/>
                    <a:tab algn="l" pos="5676840"/>
                    <a:tab algn="l" pos="6149880"/>
                    <a:tab algn="l" pos="6622920"/>
                    <a:tab algn="l" pos="7095960"/>
                    <a:tab algn="l" pos="7569360"/>
                    <a:tab algn="l" pos="8042400"/>
                    <a:tab algn="l" pos="8515440"/>
                    <a:tab algn="l" pos="8988480"/>
                    <a:tab algn="l" pos="946152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Strong Quasi-Experimental Designs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00"/>
                </a:solidFill>
                <a:latin typeface="Arial"/>
              </a:rPr>
              <a:t>Reported Effectiveness of Printed Education Materials Alone in Well-Designed vs. Inadequately Controlled Studies</a:t>
            </a:r>
            <a:endParaRPr b="1" lang="en-US" sz="2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86480" y="1638360"/>
          <a:ext cx="34272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6480" y="1638360"/>
                    <a:ext cx="3427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62120" y="1600200"/>
          <a:ext cx="3427200" cy="457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3427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447920" y="21337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equately Controlled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48520" y="213372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adequately Controlled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oumerai et al, Milbank Q 1989; 67: 268-3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609480" y="1219320"/>
          <a:ext cx="776628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19320"/>
                    <a:ext cx="776628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14600" y="2743200"/>
            <a:ext cx="2565360" cy="89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ffect Attributed by MCOP</a:t>
            </a:r>
            <a:endParaRPr b="0" lang="en-US" sz="2300" spc="-1" strike="noStrike">
              <a:solidFill>
                <a:srgbClr val="00007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35053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0492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09680"/>
                <a:tab algn="l" pos="819000"/>
                <a:tab algn="l" pos="1228680"/>
                <a:tab algn="l" pos="1638360"/>
                <a:tab algn="l" pos="2048040"/>
                <a:tab algn="l" pos="2457360"/>
                <a:tab algn="l" pos="2867040"/>
                <a:tab algn="l" pos="3276720"/>
                <a:tab algn="l" pos="3686040"/>
                <a:tab algn="l" pos="4095720"/>
                <a:tab algn="l" pos="4505400"/>
                <a:tab algn="l" pos="4915080"/>
                <a:tab algn="l" pos="5324400"/>
                <a:tab algn="l" pos="5734080"/>
                <a:tab algn="l" pos="6143760"/>
                <a:tab algn="l" pos="6553080"/>
                <a:tab algn="l" pos="6962760"/>
                <a:tab algn="l" pos="7372440"/>
                <a:tab algn="l" pos="7781760"/>
                <a:tab algn="l" pos="8191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an Inadequate Cross-sectional Design: Problems with Small Samples and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057400" y="3124080"/>
            <a:ext cx="6019920" cy="1905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61048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00"/>
                </a:solidFill>
                <a:latin typeface="Arial"/>
              </a:rPr>
              <a:t>Post-only Evaluations of Several Drug Cost-Containment Policies on Medication Use and Health Outcomes </a:t>
            </a:r>
            <a:endParaRPr b="1" lang="en-US" sz="3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Conclusions:</a:t>
            </a:r>
            <a:r>
              <a:rPr b="0" lang="en-US" sz="2800" spc="-1" strike="noStrike">
                <a:solidFill>
                  <a:srgbClr val="000072"/>
                </a:solidFill>
                <a:latin typeface="Arial"/>
              </a:rPr>
              <a:t> Mixed effects on outcomes and costs</a:t>
            </a:r>
            <a:endParaRPr b="0" lang="en-US" sz="2800" spc="-1" strike="noStrike">
              <a:solidFill>
                <a:srgbClr val="00007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Design:</a:t>
            </a:r>
            <a:r>
              <a:rPr b="0" lang="en-US" sz="2800" spc="-1" strike="noStrike">
                <a:solidFill>
                  <a:srgbClr val="000072"/>
                </a:solidFill>
                <a:latin typeface="Arial"/>
              </a:rPr>
              <a:t> Post-policy comparisons of several groups (e.g., with and without employer insurance)</a:t>
            </a:r>
            <a:endParaRPr b="0" lang="en-US" sz="28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ata on baseline compa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adjustment for group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2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groups were already different with respect to SES and health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al variables, propensity scores, etc. can’t fully control for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547560"/>
            <a:ext cx="800100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00"/>
                </a:solidFill>
                <a:latin typeface="Arial"/>
              </a:rPr>
              <a:t>Use Longitudinal Models</a:t>
            </a:r>
            <a:endParaRPr b="1" lang="en-US" sz="3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Increases statistical power in quasi-experimental studie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information  on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2"/>
              </a:buClr>
              <a:buSzPct val="75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2"/>
                </a:solidFill>
                <a:latin typeface="Arial"/>
              </a:rPr>
              <a:t>Multiple pre- and post-measurements of outcomes</a:t>
            </a:r>
            <a:endParaRPr b="0" lang="en-US" sz="3200" spc="-1" strike="noStrike">
              <a:solidFill>
                <a:srgbClr val="00007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raphical eviden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ble versus statis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1371600"/>
          <a:ext cx="916956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91695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3851280" y="190512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68520" y="2057400"/>
            <a:ext cx="33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riplicate Prescription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6496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 1: Reductions in benzodiazepine use after Triplicate Prescription Policy among patients living in neighborhoods with different racial com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arson et al, Arch Intern Med 2006; 166:572-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00"/>
                </a:solidFill>
                <a:latin typeface="Arial"/>
              </a:rPr>
              <a:t>Benzodiazepine Use and Incidence of Hip Fracture among Women in Medicaid Before and After NY Regulatory Surveillance</a:t>
            </a:r>
            <a:endParaRPr b="1" lang="en-US" sz="3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6200000">
            <a:off x="-66240" y="451764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mulative Incidence of Hip Fracture per 100000 Female Users before Poli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86040" y="2520000"/>
            <a:ext cx="20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z Use among Female Users before Policy,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562720" cy="2766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58676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5:02:47Z</dcterms:created>
  <dc:creator>HPHC</dc:creator>
  <dc:description/>
  <dc:language>en-US</dc:language>
  <cp:lastModifiedBy>DHHS</cp:lastModifiedBy>
  <cp:lastPrinted>2001-10-29T15:51:21Z</cp:lastPrinted>
  <dcterms:modified xsi:type="dcterms:W3CDTF">2008-07-24T18:11:58Z</dcterms:modified>
  <cp:revision>45</cp:revision>
  <dc:subject/>
  <dc:title>Assessing the Impact of State Policies and Programs to Promote Appropriate Use of Pharmaceuticals</dc:title>
</cp:coreProperties>
</file>