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022400" y="685800"/>
            <a:ext cx="4913280" cy="351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9080" y="4425480"/>
            <a:ext cx="51228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570D03D-CF3A-45C4-9EB7-FF0FFF8C1C1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25EB3B4-0469-45E9-BBCE-6EF36F905FE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65240" y="696960"/>
            <a:ext cx="487980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AF57E51-779E-4AB2-87FD-F34A56FBC92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63800" y="696960"/>
            <a:ext cx="487980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78000" y="8849880"/>
            <a:ext cx="3057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2F80AE8-888A-475A-A71E-C68180B3CF1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8849880"/>
            <a:ext cx="30592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3059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78000" y="0"/>
            <a:ext cx="3057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63800" y="696960"/>
            <a:ext cx="487980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A742BCB4-ADFE-4DDE-BE64-B22335B2223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394760" y="6559920"/>
            <a:ext cx="85068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26680" y="6553080"/>
            <a:ext cx="126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AHRQ Annu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720" y="2130480"/>
            <a:ext cx="81597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39360" y="1066320"/>
            <a:ext cx="8161560" cy="4969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 algn="ctr">
              <a:lnSpc>
                <a:spcPct val="90000"/>
              </a:lnSpc>
              <a:spcBef>
                <a:spcPts val="233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pportunities and Challenges for Implementing HI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2560" indent="0" algn="ctr">
              <a:lnSpc>
                <a:spcPct val="90000"/>
              </a:lnSpc>
              <a:spcBef>
                <a:spcPts val="1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 algn="ctr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ven R. Simon, MD, M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 algn="ctr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ugust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 algn="ctr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orted by a grant from the US Agency for Healthcare Research and Quality (AHR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7 Follow Up Survey (N=134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360" y="1523520"/>
            <a:ext cx="8480520" cy="327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– July, 20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 mailings to all 1345 respondents from 200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uded: moved, retired, deceased  (N=20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2 completed surveys (response rate 79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**Preliminary Analysis**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1136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racteristics of Respondents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 EHR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N=562, &gt;60% of sampl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89240" y="1828800"/>
          <a:ext cx="6822720" cy="4159080"/>
        </p:xfrm>
        <a:graphic>
          <a:graphicData uri="http://schemas.openxmlformats.org/drawingml/2006/table">
            <a:tbl>
              <a:tblPr/>
              <a:tblGrid>
                <a:gridCol w="5451120"/>
                <a:gridCol w="1371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+ Years Since Med Scho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+ Years with Pract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a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+ Physicians in Off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e Ownershi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ing (Students/Resident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tients/Week (media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es for HIT Ado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es for HIT Us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106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21812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indicate al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atures of the EH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you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availab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your practice. For those features that you have, indicate the extent to whic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us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2971800"/>
            <a:ext cx="4000680" cy="3080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ator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test resul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iology order en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visit no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inders for care activities (e.g. overdue health maintenan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00240" y="2971440"/>
            <a:ext cx="4000680" cy="31284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medication lists of what each patient tak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problem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ransmit prescriptions to pharmacy electronically or via electronic fax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9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ic referrals or clinical messaging (secure e-mailing between provid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vailable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411200" y="1143000"/>
          <a:ext cx="6777000" cy="5402160"/>
        </p:xfrm>
        <a:graphic>
          <a:graphicData uri="http://schemas.openxmlformats.org/drawingml/2006/table">
            <a:tbl>
              <a:tblPr/>
              <a:tblGrid>
                <a:gridCol w="4124520"/>
                <a:gridCol w="132696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38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(N=56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age* of EHR Functions, 2005 -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95280" y="1143000"/>
          <a:ext cx="7467840" cy="4981680"/>
        </p:xfrm>
        <a:graphic>
          <a:graphicData uri="http://schemas.openxmlformats.org/drawingml/2006/table">
            <a:tbl>
              <a:tblPr/>
              <a:tblGrid>
                <a:gridCol w="3802320"/>
                <a:gridCol w="1222200"/>
                <a:gridCol w="1222560"/>
                <a:gridCol w="12207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MS Mincho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aborator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test resul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adiology order entr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visit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lerts and remind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medication lis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transcription of R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lectronic referr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1297800" y="617220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*Most or all th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991360" cy="12517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7 Massachusetts Surve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47640" y="1752480"/>
            <a:ext cx="8305920" cy="4626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HR adoption continues to incr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ity of Massachusetts’ physicians use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segments of the physician population have “light” models of EH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over half of physicians with EHRs ha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 and radiology order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decision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available EHR functions is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1162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antial proportions of EHR users do not use key functions that may improve quality and safety (order entry, e-Rx, and decision suppor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596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658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890640"/>
            <a:ext cx="960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9960" y="98280"/>
          <a:ext cx="9041040" cy="675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8280"/>
                    <a:ext cx="9041040" cy="675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HR SE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781360"/>
            <a:ext cx="87627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456480" y="137124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Ven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5400000">
            <a:off x="456480" y="289548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ty down-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44792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 RFP distributed in May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 30 responses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dor Selection Committee validated 7 vendors to go for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9718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 fontScale="84000"/>
          </a:bodyPr>
          <a:p>
            <a:pPr lvl="1" marL="237240" indent="-972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Steering Committees down-select to smaller number for individual physician choice in each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7240" indent="-972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or 4 in each commun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7240" indent="-9720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 vendor fairs completed in each community and down-select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456480" y="449568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60" y="0"/>
                </a:lnTo>
                <a:lnTo>
                  <a:pt x="21600" y="10800"/>
                </a:lnTo>
                <a:lnTo>
                  <a:pt x="18060" y="21600"/>
                </a:lnTo>
                <a:lnTo>
                  <a:pt x="0" y="21600"/>
                </a:lnTo>
                <a:lnTo>
                  <a:pt x="3540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57200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vidual physician vendor fai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community developing different model of physician cho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317840"/>
            <a:ext cx="876276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702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499600" cy="34236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despread (universal?) EHR adoption by 201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doption reached tipping poi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EHRs improve quality of c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How are physician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ing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EHR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7020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499600" cy="1383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achusetts e-Health Collabora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wide survey of physicians, 200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1136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achusetts e-Health Collaborative (MAeHC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720" y="1788840"/>
            <a:ext cx="8153280" cy="38192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ed in 20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health care 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50 million from Blue Cross Blue Shield of 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wide EHR ad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proje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EHR adoption in 3 commun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community (and, ultimately, inter-community) data ex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96080" y="1447920"/>
            <a:ext cx="0" cy="4572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612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lot Timeline Overvie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22560" y="1447920"/>
            <a:ext cx="6426360" cy="457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1698480"/>
            <a:ext cx="142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8920" y="990720"/>
            <a:ext cx="292428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1464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00560" y="990720"/>
            <a:ext cx="129204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9440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0280" y="4800600"/>
            <a:ext cx="223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0080" y="4648320"/>
            <a:ext cx="1443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4648320"/>
            <a:ext cx="1443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48800" y="554040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8032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63000" y="990720"/>
            <a:ext cx="1285920" cy="4572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760" y="1447920"/>
            <a:ext cx="2928960" cy="4572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P-MA summ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eHC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RFA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 communities annou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 vendor R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 vendor fin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 EHR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community 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l Pilot comple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66960" y="2077920"/>
            <a:ext cx="142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48200" y="2516040"/>
            <a:ext cx="1429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97180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57680" y="339732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3843360"/>
            <a:ext cx="1429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0080" y="4267080"/>
            <a:ext cx="1443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61080" y="4343400"/>
            <a:ext cx="1630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267080"/>
            <a:ext cx="1411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0056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440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8032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64440" y="14479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5116680"/>
            <a:ext cx="4953240" cy="2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19980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IANS “GOING LIVE”, BY COMMUN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49320" y="1101600"/>
          <a:ext cx="710424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1101600"/>
                    <a:ext cx="71042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118116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# M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00040" y="6019920"/>
            <a:ext cx="362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5892840"/>
            <a:ext cx="7621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6019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5892840"/>
            <a:ext cx="7617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152712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 Ad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22096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bury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229600" y="3475080"/>
            <a:ext cx="1143000" cy="48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ck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47000" y="16765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47000" y="236232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47000" y="3632040"/>
            <a:ext cx="2286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923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90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61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843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814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781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66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7372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04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896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6568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276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61280" y="914400"/>
            <a:ext cx="30456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5472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53240" y="914400"/>
            <a:ext cx="304920" cy="228600"/>
          </a:xfrm>
          <a:prstGeom prst="ellipse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5760"/>
            <a:ext cx="8991360" cy="6724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EALTH INFORMATION EXCHANGE</a:t>
            </a:r>
            <a:br>
              <a:rPr sz="2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ern Berkshire 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2000" y="3060720"/>
            <a:ext cx="2374920" cy="250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3048120"/>
            <a:ext cx="1873080" cy="23619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3"/>
          <a:srcRect l="0" t="24682" r="0" b="0"/>
          <a:stretch/>
        </p:blipFill>
        <p:spPr>
          <a:xfrm>
            <a:off x="3962520" y="1390680"/>
            <a:ext cx="1523880" cy="514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813280" y="3124080"/>
            <a:ext cx="412920" cy="495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813280" y="4419720"/>
            <a:ext cx="412920" cy="495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7292880" y="3225960"/>
            <a:ext cx="2210040" cy="1577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940360" y="37339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118200" y="373356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362320"/>
            <a:ext cx="0" cy="335268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313720"/>
            <a:ext cx="18288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tient recru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30600" y="2296440"/>
            <a:ext cx="20574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alth data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4960" y="2283840"/>
            <a:ext cx="16002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ferrals mg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283840"/>
            <a:ext cx="20574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tien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2362320"/>
            <a:ext cx="0" cy="3429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73480" y="2362320"/>
            <a:ext cx="0" cy="34290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81412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 of the State: Physician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8991360" cy="61488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sachusetts Physician Surve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523880"/>
            <a:ext cx="8480520" cy="368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ified random sample of practices (N=188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domly sampled one physician per practic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5: 1345 respondents (71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HR Adoption: 23% of practices, 45% of physici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7000"/>
              </a:lnSpc>
              <a:spcBef>
                <a:spcPts val="136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HR Usage: wide variability in available functions and reported us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3:05:53Z</dcterms:created>
  <dc:creator>Micky Tripathi</dc:creator>
  <dc:description/>
  <dc:language>en-US</dc:language>
  <cp:lastModifiedBy>Steven R. Simon</cp:lastModifiedBy>
  <dcterms:modified xsi:type="dcterms:W3CDTF">2007-09-26T13:45:39Z</dcterms:modified>
  <cp:revision>84</cp:revision>
  <dc:subject/>
  <dc:title>MASSACHUSETTS eHEALTH COLLABOR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  <property fmtid="{D5CDD505-2E9C-101B-9397-08002B2CF9AE}" pid="3" name="_NewReviewCycle">
    <vt:lpwstr/>
  </property>
</Properties>
</file>