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022400" y="685800"/>
            <a:ext cx="491328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9080" y="4425480"/>
            <a:ext cx="5122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7AC651C-33F7-4E0E-BD0D-297E3299EA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6B326EC-DD28-4EB3-A48E-7CA535E7DA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6524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D9CCF7D-433D-4853-9032-CA006A54C7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6380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306124B-91A3-4EA3-8300-85EEE9832E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6380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8A48E7DF-6E5F-4F0E-B323-3B3A1237BD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94760" y="6559920"/>
            <a:ext cx="8506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6680" y="6553080"/>
            <a:ext cx="126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130480"/>
            <a:ext cx="81597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39360" y="1066320"/>
            <a:ext cx="8161560" cy="4969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 algn="ctr">
              <a:lnSpc>
                <a:spcPct val="90000"/>
              </a:lnSpc>
              <a:spcBef>
                <a:spcPts val="233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portunities and Challenges for Implementing HI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2560" indent="0" algn="ctr">
              <a:lnSpc>
                <a:spcPct val="90000"/>
              </a:lnSpc>
              <a:spcBef>
                <a:spcPts val="1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ven R. Simon, MD, M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rted by a grant from the US Agency for Healthcare Research and Quality (AHR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7 Follow Up Survey (N=134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327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– July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mailings to all 1345 respondents from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ded: moved, retired, deceased  (N=2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2 completed surveys (response rate 79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**Preliminary Analysis**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1136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 of Respondent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 EH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N=562, &gt;60% of sampl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89240" y="1828800"/>
          <a:ext cx="6822720" cy="4159080"/>
        </p:xfrm>
        <a:graphic>
          <a:graphicData uri="http://schemas.openxmlformats.org/drawingml/2006/table">
            <a:tbl>
              <a:tblPr/>
              <a:tblGrid>
                <a:gridCol w="5451120"/>
                <a:gridCol w="1371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+ Years Since Med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+ Years with Pract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+ Physicians in Off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Owner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ing (Students/Resident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/Week (media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HIT Ado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HIT U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2181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indicate a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atures of the EH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you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practice. For those features that you have, indicate the extent to whic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4000680" cy="3080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visi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s for care activities (e.g. overdue health maintenan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00240" y="2971440"/>
            <a:ext cx="4000680" cy="3128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medication lists of what each patient tak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problem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ransmit prescriptions to pharmacy electronically or via electronic fax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referrals or clinical messaging (secure e-mailing between provid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vailable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11200" y="1143000"/>
          <a:ext cx="6777000" cy="540216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38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56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ge* of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95280" y="1143000"/>
          <a:ext cx="7467840" cy="4981680"/>
        </p:xfrm>
        <a:graphic>
          <a:graphicData uri="http://schemas.openxmlformats.org/drawingml/2006/table">
            <a:tbl>
              <a:tblPr/>
              <a:tblGrid>
                <a:gridCol w="3802320"/>
                <a:gridCol w="1222200"/>
                <a:gridCol w="1222560"/>
                <a:gridCol w="12207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297800" y="61722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Most or all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991360" cy="1251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 Massachusetts Surve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8305920" cy="4626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HR adoption continues to incr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ity of Massachusetts’ physicians use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egments of the physician population have “light” models of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over half of physicians with EHRs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and radiology order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decisi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vailable EHR functions is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antial proportions of EHR users do not use key functions that may improve quality and safety (order entry, e-Rx, and decision suppo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59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65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9064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9960" y="98280"/>
          <a:ext cx="9041040" cy="675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8280"/>
                    <a:ext cx="904104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HR SE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781360"/>
            <a:ext cx="87627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56480" y="137124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Ven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456480" y="28954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down-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44792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RFP distributed in May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 30 response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or Selection Committee validated 7 vendors to go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9718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 fontScale="84000"/>
          </a:bodyPr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Steering Committees down-select to smaller number for individual physician choice in each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or 4 in each 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 vendor fairs completed in each community and down-select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56480" y="44956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572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 physician vendor 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community developing different model of physician cho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17840"/>
            <a:ext cx="87627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702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499600" cy="3423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espread (universal?) EHR adoption by 201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doption reached tipping poi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EHRs improve quality of c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are physician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ing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HR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702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499600" cy="1383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e-Health Collabor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wide survey of physicians,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1136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e-Health Collaborative (MAeH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153280" cy="3819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ed in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health care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 million from Blue Cross Blue Shield of 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wide EHR ad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pro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EHR adoption in 3 commun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community (and, ultimately, inter-community) data ex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96080" y="1447920"/>
            <a:ext cx="0" cy="4572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612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lot Timeline Overvie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22560" y="1447920"/>
            <a:ext cx="642636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69848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920" y="990720"/>
            <a:ext cx="292428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1464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0560" y="990720"/>
            <a:ext cx="129204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9440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0280" y="4800600"/>
            <a:ext cx="223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4648320"/>
            <a:ext cx="1443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4648320"/>
            <a:ext cx="1443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8800" y="554040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032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6300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1447920"/>
            <a:ext cx="292896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P-MA su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eHC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RFA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 communities annou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vendor R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vendor fin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EHR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community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l Pilot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66960" y="207792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48200" y="251604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97180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57680" y="339732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4336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0080" y="4267080"/>
            <a:ext cx="1443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61080" y="4343400"/>
            <a:ext cx="163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267080"/>
            <a:ext cx="1411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0056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440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803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44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116680"/>
            <a:ext cx="495324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S “GOING LIVE”, BY COMMUN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49320" y="1101600"/>
          <a:ext cx="7104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1101600"/>
                    <a:ext cx="7104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118116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M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0040" y="6019920"/>
            <a:ext cx="362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5892840"/>
            <a:ext cx="7621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5892840"/>
            <a:ext cx="7617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152712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22096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34750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47000" y="16765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23623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47000" y="363204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90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61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843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814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781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66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7372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04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896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656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27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6128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547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532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576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NFORMATION EXCHANGE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ern Berkshire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2000" y="3060720"/>
            <a:ext cx="2374920" cy="250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1873080" cy="2361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24682" r="0" b="0"/>
          <a:stretch/>
        </p:blipFill>
        <p:spPr>
          <a:xfrm>
            <a:off x="3962520" y="139068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13280" y="3124080"/>
            <a:ext cx="412920" cy="495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813280" y="4419720"/>
            <a:ext cx="412920" cy="495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292880" y="3225960"/>
            <a:ext cx="2210040" cy="1577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940360" y="37339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18200" y="373356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362320"/>
            <a:ext cx="0" cy="3352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313720"/>
            <a:ext cx="18288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296440"/>
            <a:ext cx="20574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alth data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4960" y="2283840"/>
            <a:ext cx="16002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ferrals mg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283840"/>
            <a:ext cx="20574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tien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362320"/>
            <a:ext cx="0" cy="3429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73480" y="2362320"/>
            <a:ext cx="0" cy="3429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81412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 of the State: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523880"/>
            <a:ext cx="8480520" cy="368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ified random sample of practices (N=188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ly sampled one physician per practi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: 1345 respondents (71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HR Adoption: 23% of practices, 45% of physici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HR Usage: wide variability in available functions and reported us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05:53Z</dcterms:created>
  <dc:creator>Micky Tripathi</dc:creator>
  <dc:description/>
  <dc:language>en-US</dc:language>
  <cp:lastModifiedBy>Steven R. Simon</cp:lastModifiedBy>
  <dcterms:modified xsi:type="dcterms:W3CDTF">2007-09-26T13:45:39Z</dcterms:modified>
  <cp:revision>84</cp:revision>
  <dc:subject/>
  <dc:title>MASSACHUSETTS eHEALTH COLLABO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  <property fmtid="{D5CDD505-2E9C-101B-9397-08002B2CF9AE}" pid="3" name="_NewReviewCycle">
    <vt:lpwstr/>
  </property>
</Properties>
</file>