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F6E-5728-4921-B2C2-01C22EB0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26B-CA78-4A55-B7E5-85D9637C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1F1-0B2F-4E0F-B9B3-BD74B630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53-8F50-4B7C-A152-4EED85E7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690-DC8E-4AF7-8302-79399274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AAB-5453-4627-949D-1C7278E9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6D4-7907-4529-A885-CE0F217F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278-6C7E-4E57-9848-757E2023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494-2CD3-4D8E-8C7F-29F2785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C66-D7C9-4D46-8F7E-5DE1E17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8E2-FDBA-4590-BE72-9BFB1435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8A2-E8F5-4667-BC19-EE72081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964-A447-4BC6-864A-D05DC1CA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1E1-6159-454C-B161-E231EF9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88B-1EB7-40FE-909A-253EA9AB26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332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hqp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qualitymeasures.ahrq.gov/browse/processofcare.aspx?num=20&amp;type=8" TargetMode="External"/><Relationship Id="rId2" Type="http://schemas.openxmlformats.org/officeDocument/2006/relationships/hyperlink" Target="http://www.qualitymeasures.ahrq.gov/browse/processofcare.aspx?num=20&amp;type=7" TargetMode="External"/><Relationship Id="rId3" Type="http://schemas.openxmlformats.org/officeDocument/2006/relationships/hyperlink" Target="http://www.qualitymeasures.ahrq.gov/browse/processofcare.aspx?num=20&amp;type=9" TargetMode="External"/><Relationship Id="rId4" Type="http://schemas.openxmlformats.org/officeDocument/2006/relationships/hyperlink" Target="http://www.qualitymeasures.ahrq.gov/browse/processofcare.aspx?num=20&amp;type=838" TargetMode="External"/><Relationship Id="rId5" Type="http://schemas.openxmlformats.org/officeDocument/2006/relationships/hyperlink" Target="http://www.qualitymeasures.ahrq.gov/browse/processofcare.aspx?num=20&amp;type=6" TargetMode="External"/><Relationship Id="rId6" Type="http://schemas.openxmlformats.org/officeDocument/2006/relationships/hyperlink" Target="http://www.qualitymeasures.ahrq.gov/browse/processofcare.aspx?num=20&amp;type=734" TargetMode="External"/><Relationship Id="rId7" Type="http://schemas.openxmlformats.org/officeDocument/2006/relationships/hyperlink" Target="http://www.qualitymeasures.ahrq.gov/browse/processofcare.aspx?num=20&amp;type=837" TargetMode="External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ssachusetts Quality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-Measure Validation Study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MQeV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c C. Schneider, MD, MS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62800" y="533412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sor: AHRQ (R18 HS01704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C54-5702-4CCA-853E-8603421C9E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5510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06000" y="60562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esy of Micky Tripat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2DA-79F7-4952-A4F4-BB97A86BE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 Quality e-Measur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Validation Study (MQeV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mpare a quality measurement method using structured, coded EHR data wit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a “hybrid method” involving a combination of aggregated claims data and medical record re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a “claims-only method” based on a novel database that aggregates claims data from commercial health plans and Medica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4EF-BD4E-4A91-9719-8D4D14EA8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QeVS Highligh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eHC Pilot (www.maeh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HQP (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mhqp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ambulatory practices “similar to”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clinical and research expertise among researc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HQ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 Health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Survey Research (U Mass, Bost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C1A-9E38-4AEE-BC2E-8F2183E3B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QeVS S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ecific Aims assure that study addresses broad populations an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1: 900 patients with EHR-HIE data, patient survey, medical record review, health plan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2: All “measure eligible” patients with EHR-HIE data and health plan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BDA-7325-4B87-A33A-250990CC2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6880" y="914400"/>
            <a:ext cx="30481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SPH (P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419720"/>
            <a:ext cx="1828800" cy="14475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S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105520"/>
            <a:ext cx="1219320" cy="6858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438280"/>
            <a:ext cx="16765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 Reco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rtn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952880"/>
            <a:ext cx="16765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D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2666880"/>
            <a:ext cx="1295280" cy="13716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53040" y="2895480"/>
            <a:ext cx="12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53040" y="3048120"/>
            <a:ext cx="12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14640" y="3962520"/>
            <a:ext cx="1600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15000" y="3809520"/>
            <a:ext cx="1600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6668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8120"/>
            <a:ext cx="990720" cy="7617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D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9548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2428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257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14800" y="190476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15000" y="5562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410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Cop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9960" y="4114800"/>
            <a:ext cx="11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-notif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257800"/>
            <a:ext cx="11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-identifi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udy Cohort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t Contact 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7242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udy Consent, Survey, and Med Record Review Con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Protocol: Privacy/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38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Reques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4290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Consent Cohort (Study ID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9960" y="5562720"/>
            <a:ext cx="96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plete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rveys an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981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 Record Extract 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6600" y="373392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rve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Extra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4720" y="4038480"/>
            <a:ext cx="64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pt-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20968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HR Quality Measure Extracts (Aims 1 &amp; 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962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-identified Study Cohort List 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2408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048120"/>
            <a:ext cx="1219320" cy="7617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HQ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685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aims Data Extract (Aims 1&amp;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26708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HR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371600"/>
            <a:ext cx="5331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905120" y="34290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160020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E-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981080"/>
            <a:ext cx="0" cy="1067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0" cy="2971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4038480"/>
            <a:ext cx="0" cy="1067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0384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8769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3623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623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9810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5812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8098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4382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388620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9528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AA3-EC83-45DB-BDD2-4DA719490A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alysis: Availability of Data for Measure Component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key steps comprise a quality measure calculation algorithm, determining whether a patient meets criteri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inclusion in the preliminary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be excluded from the preliminary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r membership in the final denominator (after exclus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for membership in the measure numer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for selection for both the numerator and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46A-9DFF-41A7-ACB0-352E3DFE1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bf1"/>
                </a:solidFill>
                <a:latin typeface="Arial"/>
                <a:ea typeface="Times New Roman"/>
              </a:rPr>
              <a:t>Quality Measures: </a:t>
            </a:r>
            <a:br>
              <a:rPr sz="3800"/>
            </a:br>
            <a:r>
              <a:rPr b="1" lang="en-US" sz="3800" spc="-1" strike="noStrike">
                <a:solidFill>
                  <a:srgbClr val="e3ebf1"/>
                </a:solidFill>
                <a:latin typeface="Arial"/>
                <a:ea typeface="Times New Roman"/>
              </a:rPr>
              <a:t>Deconstructing Data Needs</a:t>
            </a:r>
            <a:br>
              <a:rPr sz="3600"/>
            </a:br>
            <a:r>
              <a:rPr b="1" lang="en-US" sz="2400" spc="-1" strike="noStrike">
                <a:solidFill>
                  <a:srgbClr val="e3ebf1"/>
                </a:solidFill>
                <a:latin typeface="Arial"/>
                <a:ea typeface="Times New Roman"/>
              </a:rPr>
              <a:t>E=exclusion criteria; D=denominator inclusion; N=numerator inclusion; Var=varies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133720"/>
          <a:ext cx="8762760" cy="411300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990360"/>
                <a:gridCol w="990720"/>
                <a:gridCol w="762120"/>
                <a:gridCol w="685800"/>
                <a:gridCol w="685800"/>
                <a:gridCol w="685800"/>
                <a:gridCol w="609480"/>
                <a:gridCol w="8380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e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rectal Scre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ta-blocker after 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 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Contro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ye ex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B8A-AF0E-487B-B3D9-AE87EDB5C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ta Adequacy Assessment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Present, Event Confir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lipid lowering medication is recorded in the patient’s dat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Present, Event Not Confir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re is no lipid lowering medication, but data indicate that the patient is taking other medic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Not Pres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re are no data regarding medications making it uncertain whether the patient is taking a lipid lowering medic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83F-5948-437E-B979-1A3ADC1F02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1295280"/>
          <a:ext cx="6457680" cy="4091040"/>
        </p:xfrm>
        <a:graphic>
          <a:graphicData uri="http://schemas.openxmlformats.org/drawingml/2006/table">
            <a:tbl>
              <a:tblPr/>
              <a:tblGrid>
                <a:gridCol w="1866960"/>
                <a:gridCol w="1198440"/>
                <a:gridCol w="1525680"/>
                <a:gridCol w="186660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Availability of Inclusion Criteria Data for Colonoscop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ough EHR Data 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ough Hybrid 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848880" y="54860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:  Availability through the EHR =  (a+c) / (a+b+c+d) = 9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: Availability through Hybrid method = (a+b) / (a+b+c+d) = 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42F-0AFA-49D1-91EF-9BE649F8C4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e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haring (privacy/confidenti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a “gold standar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correlation among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nd interpreting “missing”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sample sizes for som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24C-D5F5-4F89-997A-C2F72F240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erformance Measurement: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undamental to Improvemen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0512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198108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514600"/>
            <a:ext cx="33526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365760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9360" y="36576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2400" y="36576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2720" y="36576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9960" y="481644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876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37600" y="4816440"/>
            <a:ext cx="23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ment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4040" y="5943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Ca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6080" y="59436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4P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458200" cy="99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632-EBD3-4EAE-BDB3-FD81AE25D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QF-endorsed national standard measure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set creates need for broad range of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mparison of HIE to two widely-used 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ion” of measure components identifies data problems that may affect future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7CF-D486-4574-B482-6E9A685448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Crossing the Quality Chasm?”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2829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4B2-4674-4B81-B4C5-BF844BCEB7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Quality Measurement and Reporting: 1997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public dem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andardized qual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organizations eng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physicians a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disclosure r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patients a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AD1-5DB6-43A0-9D79-7D824BBDC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007: Dramatic Increase in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ndardized Measur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-setting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Quality Forum (NQ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Quality Alliance (AQ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ment of Medical Prof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 Consortium for Performance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National Quality Measures Clearinghouse: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qualitymeasures.ahrq.go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c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2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utc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04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atient Experi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98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opulation Heal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3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636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Struc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44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Use of Servi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3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648-9520-4444-8C6E-84F2D4F88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Implementation of Measurement and Reporting Remains Controversial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programs based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method (supplemental med record review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/enrollee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pticism about validity of performanc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densome, costly data coll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424-E8F0-4487-A18F-EBBFF9844A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lorectal Cancer Screening: Results by Method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523880"/>
          <a:ext cx="8291520" cy="45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9152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255920" y="62085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neider et al, Under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B20-5AAD-4B14-A67E-0D9D7C1DD7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nvisioning the EHR for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erformance Measuremen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, structured clinic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btrusive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data aggregated across care settings to enable sophisticated measures (e.g. care coordination, safe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results at physician group rather than health plan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6640" y="5638680"/>
            <a:ext cx="49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neider et al, Enhancing perform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: NCQA’s Roadmap for a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amework.  JAMA 1999;282:11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7B0-99CF-4600-AD0E-B741FEFD7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udies of Performance Measurement Using EHR and HI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care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IT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number of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, rather than national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5BD-50D2-4911-AE11-3B66085336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ssachusetts e-Health Collaborative (MAeHC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Demonstration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50 million from Blue Cross Blue Shield of 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EHR adoption in 3 MA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 and inter-community data exchange (H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performance measurement/repor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chusetts Health Quality Partners (MHQ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A ambulatory performance measure starter set (26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Data Wareho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s HIE data as needed to calculate measure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B55-F8F2-4563-8846-46E46568BF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6:41:06Z</dcterms:created>
  <dc:creator>Eric Schneider, M.D., M.Sc.</dc:creator>
  <dc:description/>
  <dc:language>en-US</dc:language>
  <cp:lastModifiedBy>Eric Schneider, M.D.</cp:lastModifiedBy>
  <dcterms:modified xsi:type="dcterms:W3CDTF">2007-09-26T15:41:35Z</dcterms:modified>
  <cp:revision>64</cp:revision>
  <dc:subject/>
  <dc:title>Introduction to  Quality Improvement</dc:title>
</cp:coreProperties>
</file>