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9F9D-D57E-48D3-9D60-9D73D92AA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303E-C9F3-44AF-A974-C54645441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332-01CC-4D28-BEA8-7BCF753B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0ED-38D5-46D7-9B21-3E72EF42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C73F-F85E-42AD-A9C4-B574F89C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E13-4DC7-49D5-BD5A-B636FEFB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8C7-D88F-47B0-B203-4C2FE678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EC8-A241-4883-8C66-7947FF7F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4BA-9DEA-4A07-9B2B-A9624335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EFD-88B8-43B0-B0C8-09A76D6A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450-ADDC-4B25-AF6F-99B4DA49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DF1-46E2-4463-B957-A00A4F4F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55A-BA01-4C46-B016-5C666036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17C-4EBD-4D5B-8ACB-7104F935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568F-B792-4A28-9235-0228F844BD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5943600"/>
            <a:ext cx="63324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hqp.org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qualitymeasures.ahrq.gov/browse/processofcare.aspx?num=20&amp;type=8" TargetMode="External"/><Relationship Id="rId2" Type="http://schemas.openxmlformats.org/officeDocument/2006/relationships/hyperlink" Target="http://www.qualitymeasures.ahrq.gov/browse/processofcare.aspx?num=20&amp;type=7" TargetMode="External"/><Relationship Id="rId3" Type="http://schemas.openxmlformats.org/officeDocument/2006/relationships/hyperlink" Target="http://www.qualitymeasures.ahrq.gov/browse/processofcare.aspx?num=20&amp;type=9" TargetMode="External"/><Relationship Id="rId4" Type="http://schemas.openxmlformats.org/officeDocument/2006/relationships/hyperlink" Target="http://www.qualitymeasures.ahrq.gov/browse/processofcare.aspx?num=20&amp;type=838" TargetMode="External"/><Relationship Id="rId5" Type="http://schemas.openxmlformats.org/officeDocument/2006/relationships/hyperlink" Target="http://www.qualitymeasures.ahrq.gov/browse/processofcare.aspx?num=20&amp;type=6" TargetMode="External"/><Relationship Id="rId6" Type="http://schemas.openxmlformats.org/officeDocument/2006/relationships/hyperlink" Target="http://www.qualitymeasures.ahrq.gov/browse/processofcare.aspx?num=20&amp;type=734" TargetMode="External"/><Relationship Id="rId7" Type="http://schemas.openxmlformats.org/officeDocument/2006/relationships/hyperlink" Target="http://www.qualitymeasures.ahrq.gov/browse/processofcare.aspx?num=20&amp;type=837" TargetMode="External"/><Relationship Id="rId8" Type="http://schemas.openxmlformats.org/officeDocument/2006/relationships/slideLayout" Target="../slideLayouts/slideLayout4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assachusetts Quality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-Measure Validation Study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MQeV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c C. Schneider, MD, MS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gham and Women’s Hos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vard School of Public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62800" y="533412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nsor: AHRQ (R18 HS01704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2C77-C5BF-4A94-BE3B-BAC2F1F326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5510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06000" y="605628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tesy of Micky Tripath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397-A94F-4744-A375-6981FE4A08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A Quality e-Measur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Validation Study (MQeV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ompare a quality measurement method using structured, coded EHR data with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 a “hybrid method” involving a combination of aggregated claims data and medical record revie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 a “claims-only method” based on a novel database that aggregates claims data from commercial health plans and Medicar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1325-3F17-43D5-B606-A4818D4CFC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QeVS Highligh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eHC Pilot (www.maehc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HQP (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www.mhqp.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ty ambulatory practices “similar to” U.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 clinical and research expertise among research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vard School of Public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HQ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 Health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vard Medical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Survey Research (U Mass, Bost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C8B-AF63-422D-BFED-BB4AD7BAEF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QeVS S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Specific Aims assure that study addresses broad populations and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 1: 900 patients with EHR-HIE data, patient survey, medical record review, health plan administrativ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 2: All “measure eligible” patients with EHR-HIE data and health plan administrativ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755-14F7-4DB1-A562-C568E3FB0E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66880" y="914400"/>
            <a:ext cx="3048120" cy="91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SPH (P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4419720"/>
            <a:ext cx="1828800" cy="144756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a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S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5105520"/>
            <a:ext cx="1219320" cy="68580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2438280"/>
            <a:ext cx="1676520" cy="91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 Recor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artne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952880"/>
            <a:ext cx="1676520" cy="91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H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D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2666880"/>
            <a:ext cx="1295280" cy="137160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53040" y="2895480"/>
            <a:ext cx="12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53040" y="3048120"/>
            <a:ext cx="12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714640" y="3962520"/>
            <a:ext cx="1600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715000" y="3809520"/>
            <a:ext cx="1600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5288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66680" y="38862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048120"/>
            <a:ext cx="990720" cy="76176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SC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D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895480" y="190476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24280" y="19051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52578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114800" y="1904760"/>
            <a:ext cx="0" cy="2438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15000" y="55627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41008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304812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dical Record Copi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9960" y="4114800"/>
            <a:ext cx="11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e-notific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5257800"/>
            <a:ext cx="111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-identifie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udy Cohort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t Contact Inf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9920" y="4724280"/>
            <a:ext cx="160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udy Consent, Survey, and Med Record Review Cons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286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Protocol: Privacy/Confidenti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4382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dical Record Reques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38862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342900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dical Record Consent Cohort (Study IDs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9960" y="5562720"/>
            <a:ext cx="96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mpleted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urveys and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e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19810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d Record Extract (Aim 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6600" y="3733920"/>
            <a:ext cx="91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urvey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ata Extrac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Aim 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4720" y="4038480"/>
            <a:ext cx="640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pt-ou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e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220968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HR Quality Measure Extracts (Aims 1 &amp; 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3962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-identified Study Cohort List (Aim 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124080" y="190476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048120"/>
            <a:ext cx="1219320" cy="76176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HQ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133720"/>
            <a:ext cx="685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aims Data Extract (Aims 1&amp;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267080"/>
            <a:ext cx="60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HR D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371600"/>
            <a:ext cx="5331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905120" y="342900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066680"/>
            <a:ext cx="1600200" cy="91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E-Heal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labor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1981080"/>
            <a:ext cx="0" cy="10670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81080"/>
            <a:ext cx="0" cy="29718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4038480"/>
            <a:ext cx="0" cy="10670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0384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4038480"/>
            <a:ext cx="2286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4876920"/>
            <a:ext cx="2286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2362320"/>
            <a:ext cx="2286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362320"/>
            <a:ext cx="2286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#1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1981080"/>
            <a:ext cx="2286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581280"/>
            <a:ext cx="2286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3809880"/>
            <a:ext cx="2286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2438280"/>
            <a:ext cx="2286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3886200"/>
            <a:ext cx="2286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4952880"/>
            <a:ext cx="2286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3CA-D230-4721-A8D0-1D1CD3CF93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alysis: Availability of Data for Measure Component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key steps comprise a quality measure calculation algorithm, determining whether a patient meets criteria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for inclusion in the preliminary denomin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o be excluded from the preliminary denomin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for membership in the final denominator (after exclus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for membership in the measure numer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for selection for both the numerator and denomina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63C-7ADC-4795-9160-F106C56255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3ebf1"/>
                </a:solidFill>
                <a:latin typeface="Arial"/>
                <a:ea typeface="Times New Roman"/>
              </a:rPr>
              <a:t>Quality Measures: </a:t>
            </a:r>
            <a:br>
              <a:rPr sz="3800"/>
            </a:br>
            <a:r>
              <a:rPr b="1" lang="en-US" sz="3800" spc="-1" strike="noStrike">
                <a:solidFill>
                  <a:srgbClr val="e3ebf1"/>
                </a:solidFill>
                <a:latin typeface="Arial"/>
                <a:ea typeface="Times New Roman"/>
              </a:rPr>
              <a:t>Deconstructing Data Needs</a:t>
            </a:r>
            <a:br>
              <a:rPr sz="3600"/>
            </a:br>
            <a:r>
              <a:rPr b="1" lang="en-US" sz="2400" spc="-1" strike="noStrike">
                <a:solidFill>
                  <a:srgbClr val="e3ebf1"/>
                </a:solidFill>
                <a:latin typeface="Arial"/>
                <a:ea typeface="Times New Roman"/>
              </a:rPr>
              <a:t>E=exclusion criteria; D=denominator inclusion; N=numerator inclusion; Var=varies</a:t>
            </a:r>
            <a:endParaRPr b="0" lang="en-US" sz="2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920" y="2133720"/>
          <a:ext cx="8762760" cy="4113000"/>
        </p:xfrm>
        <a:graphic>
          <a:graphicData uri="http://schemas.openxmlformats.org/drawingml/2006/table">
            <a:tbl>
              <a:tblPr/>
              <a:tblGrid>
                <a:gridCol w="1752480"/>
                <a:gridCol w="762120"/>
                <a:gridCol w="990360"/>
                <a:gridCol w="990720"/>
                <a:gridCol w="762120"/>
                <a:gridCol w="685800"/>
                <a:gridCol w="685800"/>
                <a:gridCol w="685800"/>
                <a:gridCol w="609480"/>
                <a:gridCol w="83808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ge/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m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indo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u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indo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x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es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0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orectal Scree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y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y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0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ta-blocker after M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y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 d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,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0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bA1C Control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y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y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,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,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03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ye ex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y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y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,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,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7B5-19B5-461D-B7A0-E5D239E39C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Data Adequacy Assessment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ta Present, Event Confirm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 lipid lowering medication is recorded in the patient’s data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ta Present, Event Not Confirm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re is no lipid lowering medication, but data indicate that the patient is taking other medication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ta Not Pres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re are no data regarding medications making it uncertain whether the patient is taking a lipid lowering medic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1BE-450A-488B-906C-65490EC809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47920" y="1295280"/>
          <a:ext cx="6457680" cy="4091040"/>
        </p:xfrm>
        <a:graphic>
          <a:graphicData uri="http://schemas.openxmlformats.org/drawingml/2006/table">
            <a:tbl>
              <a:tblPr/>
              <a:tblGrid>
                <a:gridCol w="1866960"/>
                <a:gridCol w="1198440"/>
                <a:gridCol w="1525680"/>
                <a:gridCol w="1866600"/>
              </a:tblGrid>
              <a:tr h="947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Availability of Inclusion Criteria Data for Colonoscopy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rough EHR Data Meth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rough Hybrid Meth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7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848880" y="5486040"/>
            <a:ext cx="75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:  Availability through the EHR =  (a+c) / (a+b+c+d) = 9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04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: Availability through Hybrid method = (a+b) / (a+b+c+d) = 98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558-6A0E-49E3-ABDA-AE9645B01C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hallenges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s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sharing (privacy/confidentia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a “gold standar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correlation among data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and interpreting “missing”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sample sizes for some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A5BC-E2EF-4DEC-9255-7D36B4660F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Performance Measurement: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undamental to Improvemen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90512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198108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2514600"/>
            <a:ext cx="335268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6520" y="365760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39360" y="365760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2400" y="365760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2720" y="365760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9960" y="4816440"/>
            <a:ext cx="250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8769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h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37600" y="4816440"/>
            <a:ext cx="23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ments 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l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4040" y="5943600"/>
            <a:ext cx="286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 Card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16080" y="59436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4P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429000"/>
            <a:ext cx="8458200" cy="99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5682-3D10-447F-B009-97F7069953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pportuniti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QF-endorsed national standard measure 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 set creates need for broad range of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comparison of HIE to two widely-used measurement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nstruction” of measure components identifies data problems that may affect future performanc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888-FDCC-45C3-94D1-B7A8FB3191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e3ebf1"/>
                </a:solidFill>
                <a:latin typeface="Arial"/>
              </a:rPr>
              <a:t>Crossing the Quality Chasm?”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2829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1B9-6AE6-404C-9C47-0A9D6445EB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Quality Measurement and Reporting: 1997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public dem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standardized quality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organizations eng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physicians a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disclosure r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patients a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4038480" cy="289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53A-63D1-4BF8-8A5C-396BB0AD12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2007: Dramatic Increase in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ndardized Measures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-setting organ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Quality Forum (NQ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bulatory Quality Alliance (AQ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agement of Medical Prof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ian Consortium for Performance Impro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’s National Quality Measures Clearinghouse: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qualitymeasures.ahrq.go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cc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22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utco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204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Patient Experie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298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Population Heal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33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Proc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636 meas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Struc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44 measu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Use of Servic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33 measur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B00-3676-4EAA-A083-C3EE2DDAAA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bf1"/>
                </a:solidFill>
                <a:latin typeface="Arial"/>
              </a:rPr>
              <a:t>Implementation of Measurement and Reporting Remains Controversial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ment programs based 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istrativ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brid method (supplemental med record review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/enrollee surv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pticism about validity of performance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densome, costly data colle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B5F-279D-44C0-A32F-A8EA21CCE8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olorectal Cancer Screening: Results by Method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523880"/>
          <a:ext cx="8291520" cy="457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9152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255920" y="620856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neider et al, Under 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493-4835-4198-85D6-09FAECDE9B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nvisioning the EHR for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Performance Measuremen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ailed, structured clinic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obtrusive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data aggregated across care settings to enable sophisticated measures (e.g. care coordination, safe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results at physician group rather than health plan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6640" y="5638680"/>
            <a:ext cx="491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neider et al, Enhancing performa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ment: NCQA’s Roadmap for a Heal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Framework.  JAMA 1999;282:118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30E-11E8-4075-ACCB-BC21370254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udies of Performance Measurement Using EHR and HIE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i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care s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IT plat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number of performanc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, rather than national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DFD1-12CB-4E52-944D-3F541E31A3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assachusetts e-Health Collaborative (MAeHC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4 Demonstration Proje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50 million from Blue Cross Blue Shield of 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EHR adoption in 3 MA comm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- and inter-community data exchange (H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performance measurement/repor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achusetts Health Quality Partners (MHQ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A ambulatory performance measure starter set (26 measu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Data Warehou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eives HIE data as needed to calculate measure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A9E7-E6C1-4B88-BC28-00BEC1E433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7T16:41:06Z</dcterms:created>
  <dc:creator>Eric Schneider, M.D., M.Sc.</dc:creator>
  <dc:description/>
  <dc:language>en-US</dc:language>
  <cp:lastModifiedBy>Eric Schneider, M.D.</cp:lastModifiedBy>
  <dcterms:modified xsi:type="dcterms:W3CDTF">2007-09-26T15:41:35Z</dcterms:modified>
  <cp:revision>64</cp:revision>
  <dc:subject/>
  <dc:title>Introduction to  Quality Improvement</dc:title>
</cp:coreProperties>
</file>