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6.wmf" ContentType="image/x-wmf"/>
  <Override PartName="/ppt/media/image4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6FF-C4F3-4255-9442-4056E72B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F9B-FD24-4D31-B1B1-1AD0EF40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17E-370D-412D-A29B-C75E1ED7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25E-C126-4B44-AA43-FBBED477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D444-F94B-40E7-AB3B-928DDFEA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416A-A167-4BAA-AE25-C6168FB2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A79D-723E-42E3-90F8-7BD55F8A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CDB6-AA52-4BBF-A88D-783794BF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E982-67B8-4A93-987C-99D02E96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9E20-DC71-4F6E-842F-2FEDBD92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09E1-B8DC-4B16-A540-A461BB9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602-913F-4891-B555-6FC1ED41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36F1-1748-4BC8-9345-BE9FC1FF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9C26-2C7A-4948-8DBB-4888760D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70F3-925E-446E-9EFA-A865B715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67CD-D55F-424E-B5B9-653E5070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B593-6E1D-487D-BB15-B7888836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0F7-968C-432A-9887-CE4CBE5D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3B7-05AF-4A0B-96A7-B2AC2C54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B43-780A-4A4E-BDB9-F3F7C647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296-9885-4D71-A170-49306D12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7E9-5A70-45B7-8CBA-62AFEB1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8AD-BB2D-4046-828E-29F2469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907-2A06-43A4-A54D-DAC148C6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B025-BA37-4E27-968F-E4830F3E6C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Arial Unicode MS"/>
              </a:rPr>
              <a:t>Click to edit the title text format</a:t>
            </a:r>
            <a:endParaRPr b="0" lang="en-US" sz="50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E36C-08B6-4261-BED9-ECA97FE449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asa.gov/images/content/117378main_gulfstream_aircraft.jpg&amp;imgrefurl=http://www.nasa.gov/mission_pages/hurricanes/missions/hurricane_aircraft2.html&amp;h=320&amp;w=480&amp;sz=21&amp;hl=en&amp;start=6&amp;tbnid=NMWAquIfxPKRgM:&amp;tbnh=86&amp;tbnw=129&amp;prev=/images%3Fq%3Daircraft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Influencing Patient Safety in Rural Primary Care Clinics through Computerized Order Entry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atthew Samore, MD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VA Salt Lake City Health Care System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ofessor of Internal Medicin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djunct Professor of Biomedical Informatic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University of Utah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nical care delivery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Complex natural system that varies across myriad settings and care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Health information technology implementat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ngineered system meets natural system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Our active studies in patient safety 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Medication management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Real-time detection of prescribing problems 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edicaid population (Nebeker, Xu, and Sauer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VA health care system (Nebeker and Weir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linical decision support systems in rural setting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imary care (Samore and Bateman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ursing homes (Rubin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Optimal laboratory monitoring intervals (Sauer)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rror-producing conditions in intensive care units, including interruptions and task ambiguit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Medical device problem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Use of observation (Drews and Samore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FORM stud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inic-randomized trial to evaluate impact of computerized clinic order entry tool on clinical practice and office efficiency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eatures of computerized clinic order entry tool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b-based writing of outpatient orders, including prescriptions, immunizations, laboratory tests, X-ray studies, and work notes. 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ccessible via any type of computer.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ectronic transmission of orders to pharmacies and other vendors or to local printer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mon access to records across providers who share patients while maintaining strict levels of confidentiality.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participating clinic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ural primary care clinics with minimum of two providers were recruited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None had pre-existing electronic health record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Eighteen clinics randomly assigned to two group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arly implementation (launch in year 1)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Delayed implementation (launch in year 2)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ost-launch, 2 clinics closed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participating clinic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05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2408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Methods: health information technology user interface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48040" y="228600"/>
            <a:ext cx="5295960" cy="6629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3040" y="3733920"/>
            <a:ext cx="333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mbling for his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line button, Ted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wittingly instigates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disaster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provider home page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371600"/>
            <a:ext cx="4343400" cy="696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st of all refill requests your staff has submitted for your approval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1600200"/>
            <a:ext cx="4114800" cy="395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t: Search for a patient recor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501" t="17137" r="49169" b="50544"/>
          <a:stretch/>
        </p:blipFill>
        <p:spPr>
          <a:xfrm>
            <a:off x="533520" y="2514600"/>
            <a:ext cx="7543800" cy="4070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77120" y="2514600"/>
            <a:ext cx="16761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200400"/>
            <a:ext cx="5943600" cy="1676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13372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refill request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6168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71520"/>
            <a:ext cx="3124080" cy="703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patient name to review medication histor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195560"/>
            <a:ext cx="3962520" cy="703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drug to review request and to edit, approve or den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501" t="17137" r="49169" b="50544"/>
          <a:stretch/>
        </p:blipFill>
        <p:spPr>
          <a:xfrm>
            <a:off x="990720" y="2262240"/>
            <a:ext cx="7067520" cy="3813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71800" y="3252960"/>
            <a:ext cx="1676520" cy="30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3252960"/>
            <a:ext cx="1067040" cy="30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033640"/>
            <a:ext cx="0" cy="1219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57320"/>
            <a:ext cx="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Methods: patient home page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381024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A brief tour: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tatus b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avigation commands Special functio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14458" r="0" b="50845"/>
          <a:stretch/>
        </p:blipFill>
        <p:spPr>
          <a:xfrm>
            <a:off x="380880" y="3600360"/>
            <a:ext cx="8458200" cy="2724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772400" y="3886200"/>
            <a:ext cx="12193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2438280"/>
            <a:ext cx="2209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8686800" y="2438280"/>
            <a:ext cx="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1409760"/>
            <a:ext cx="40384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drug lis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ter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us ico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218960" y="24382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43828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33520" y="20574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0574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2819520"/>
            <a:ext cx="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010280" y="2819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4280" y="21337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24280" y="213372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360" y="5334120"/>
            <a:ext cx="1447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76160" y="27432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74320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495680"/>
            <a:ext cx="1828800" cy="1828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038480"/>
            <a:ext cx="38862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drug favorite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6768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Acknowledgment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Partners: University of Utah, </a:t>
            </a:r>
            <a:r>
              <a:rPr b="0" i="1" lang="en-US" sz="2600" spc="-1" strike="noStrike">
                <a:solidFill>
                  <a:srgbClr val="ffffff"/>
                </a:solidFill>
                <a:latin typeface="Arial Unicode MS"/>
              </a:rPr>
              <a:t>Healthinsight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, CaduRx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unding: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INFORM study: AHRQ R01 HS15413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066680"/>
            <a:ext cx="4343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Kim Bateman, M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rank Drews, Ph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Wu Xu, Ph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Brian Sauer, Ph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hobha Phansalkar, Ph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Charlene Weir, Ph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Jonathan Nebeker, M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1066680"/>
            <a:ext cx="3886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Amyanne Wuthrich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Jose Benuzillo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Warren Pette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Marjorie Carter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Marci Fjelsta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Rui Saito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huying Shen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drug interaction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mild drug interaction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6108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measurement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Observation of office processe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9800" indent="-31536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Efficiency of refill proces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urvey: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9800" indent="-31536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Theoretical framework of Information Technology Adoption Model (ITAM) 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ocus group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Time trials” using scenario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9800" indent="-31536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omparison handwritten and electronic prescription writing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9800" indent="-31536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Time-to-complete task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9800" indent="-31536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Assessment of completeness, legibility, error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lectronic prescription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Chart review (Fall, 2007)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experimental scenario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nstructions for time trial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or these scenarios, imagine that you’re with a real patient and work at your normal pace.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Example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Next you see a regular patient, Abigail B. Cook.  She is 74-year old with a history of rheumatoid arthritis.  She also complains of pain when she urinates.  The urine culture reveals that the she has a UTI due to </a:t>
            </a:r>
            <a:r>
              <a:rPr b="0" i="1" lang="en-US" sz="2600" spc="-1" strike="noStrike">
                <a:solidFill>
                  <a:srgbClr val="ffffff"/>
                </a:solidFill>
                <a:latin typeface="Arial Unicode MS"/>
              </a:rPr>
              <a:t>E. coli 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that is resistant to fluoroquinolones.  Prescribe an antibiotic to treat her UTI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58128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Results: impact on workflow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Medication refill system in one participating clinic before implementation of computerized clinic order entry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149720" y="228600"/>
            <a:ext cx="474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57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Post-implementation of computerized clinic order entry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067280" y="304920"/>
            <a:ext cx="4870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survey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esponse to one of the questions pertinent to patient safety: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ntegrating drug reference and drug interaction look-up with prescription writing is useful”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57% (26 of 45) strongly agree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(answered 6 or 7 on 7 point Likert scale)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9% (4 of 45) strongly disagree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(answered 1 or 2 on 7 point Likert scale)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focus group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avorable: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We see the interactions. That helps quite a bit. So, that has made a difference a couple of times. Essentially changed my mind…”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One thing I liked, that there was a medicine that I don’t prescribe very often and didn’t know about the dose…”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focus group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Unfavorabl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t’s like getting those stupid things from the pharmacy…. It commented on too many menial, insignificant things that just waste your time…. Way too sensitive.”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… 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the drug to drug reaction says “major” and you Look at other… look at ePocrates later and no reaction at all.”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time trials 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4920" y="1143000"/>
          <a:ext cx="8610480" cy="47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Outline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Backgroun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onceptual framework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Related work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Our active studies in patient safety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Patient safety and health information technology in rural settings: the INFORM stud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Method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articipating clinic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Health information technolog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easurement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Results to date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ummary and future direction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drug interaction scenario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requency with which trimethoprim/sulfa was prescribed to elderly woman on methotrexate for rheumatoid arthriti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Handwritten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11 of 13 instance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Computerized clinic order entry tool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3 of 12 instance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ecommendation of the Multum databas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Generally avoid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electronic prescription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nalysis of instances of significant drug-interactions is in progres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ltogether: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430,000 electronic prescription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52,000 unique patient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oumadin interaction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7 patients received coumadin and amiodarone concomitantl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29 patients received coumadin and NSAID (excluding celecoxib)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Summary and future direction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mplementation </a:t>
            </a:r>
            <a:r>
              <a:rPr b="1" lang="en-US" sz="3000" spc="-1" strike="noStrike">
                <a:solidFill>
                  <a:srgbClr val="ff9900"/>
                </a:solidFill>
                <a:latin typeface="Arial Unicode MS"/>
              </a:rPr>
              <a:t>is</a:t>
            </a: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 clinical care system redesig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Measures of impact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Perceived usefulness” versus “average effect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xperiment” versus “experience in the wild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rrors” versus “adverse events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ransition to health information technology that enhances patient-centered car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Natural vs. engineered system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Natural system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Living organism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Weather system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ngineered system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Aircraft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omputers 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426708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patient"/>
          <p:cNvPicPr/>
          <p:nvPr/>
        </p:nvPicPr>
        <p:blipFill>
          <a:blip r:embed="rId3"/>
          <a:stretch/>
        </p:blipFill>
        <p:spPr>
          <a:xfrm>
            <a:off x="4952880" y="2133720"/>
            <a:ext cx="2097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ommonaliti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Defining properties and functional capabilities are causal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Internal component relationships are deterministic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Potentially predictable relationship between internal components of system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Differenc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Adaptabilit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How does system deal with change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atural systems evolved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o spontaneous change of defining parameter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daptation as a result of unstable previous states, to meet the changing demands placed upon by environmen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echnical systems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Intentional design and manufacturing to provide solution to a specific, practical problem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uitable to perform a number of specific task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2" name="" descr="green chameleon"/>
          <p:cNvPicPr/>
          <p:nvPr/>
        </p:nvPicPr>
        <p:blipFill>
          <a:blip r:embed="rId1"/>
          <a:stretch/>
        </p:blipFill>
        <p:spPr>
          <a:xfrm>
            <a:off x="6095880" y="685800"/>
            <a:ext cx="2552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Unicode MS"/>
              </a:rPr>
              <a:t>Differences</a:t>
            </a:r>
            <a:endParaRPr b="0" lang="en-US" sz="21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Observers ability to observe and understand the algorithms that govern a systems operation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Natural system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Non-transparent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lgorithms describing component interactions and state variables have to be deduced and are not fully understood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dels – describe and mimic behavior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ngineered systems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Designed for transparency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Relationships are planned and calculated during design process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Despite transparency have complex systems sometimes unpredicted and unanticipated emergent behavior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Transparency affects the ability to cope with changes of system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24480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Differenc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Linearit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Mathematical description of the relationship between output of system to its input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atural system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Often display non-linear behavio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ngineered systems designed to be line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akes it possible to solve linear problems analyticall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Linear systems output can be predicted from input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llows application of reductionistic approach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8" name="" descr="Transition from order to chaos (turbulence) in a rising column of cigarette smoke. The initial smooth streamline flow represents order, while the erratic flow represents chaos."/>
          <p:cNvPicPr/>
          <p:nvPr/>
        </p:nvPicPr>
        <p:blipFill>
          <a:blip r:embed="rId1"/>
          <a:stretch/>
        </p:blipFill>
        <p:spPr>
          <a:xfrm>
            <a:off x="7086600" y="762120"/>
            <a:ext cx="1397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Differenc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Predictabilit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Allows for anticipation of future state of system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atural system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ore challenging to understand and modif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artly due to adaptive and non-linear natur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ven simple natural systems difficult to predict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ngineered systems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asier to understand and maintai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Higher complexity increases operator demand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aintenance and prediction are possibl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11" name="" descr="Control"/>
          <p:cNvPicPr/>
          <p:nvPr/>
        </p:nvPicPr>
        <p:blipFill>
          <a:blip r:embed="rId1"/>
          <a:stretch/>
        </p:blipFill>
        <p:spPr>
          <a:xfrm>
            <a:off x="6934320" y="990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04:37:37Z</dcterms:created>
  <dc:creator>u0102331</dc:creator>
  <dc:description/>
  <dc:language>en-US</dc:language>
  <cp:lastModifiedBy>u0102331</cp:lastModifiedBy>
  <dcterms:modified xsi:type="dcterms:W3CDTF">2007-09-26T19:08:11Z</dcterms:modified>
  <cp:revision>58</cp:revision>
  <dc:subject/>
  <dc:title>Ambulatory Patient Safety</dc:title>
</cp:coreProperties>
</file>