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6.wmf" ContentType="image/x-wmf"/>
  <Override PartName="/ppt/media/image4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464C-B847-4C48-A4E6-A814CAB1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25C-CEC7-4D98-9CC9-73B0FE8B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558-CBA0-4401-9620-696F7C69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AC0A-8A29-4D23-B08E-C7A638AE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EE7E-1393-4221-9509-CACBE84A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4610-B94A-409A-A7A8-B796862C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D23C-87F5-4DD7-BE9C-9034D885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548-8709-4A43-A079-6EC9EA07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30DB-C304-4829-B9D0-F21C770C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C566-F147-4604-8A22-88E687F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71DE-A1CA-4297-9018-D3AAD3A6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5D4-9F9C-4177-84A1-E061E509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FBD8-6C1C-4EE3-850F-8F69B346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FD7C-4671-477B-BF26-901BD552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6213-0A0C-4125-9543-A602DB4F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C14D-71FB-4D29-92BC-8DC615CC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8EDE-47E4-4B7B-8773-742C0897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9AAA-4753-49F9-BBB1-0C03BBC3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0E2-1C58-46FE-9C01-9E586986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753-80E9-4493-B310-EEA0F19B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33D-E8ED-4E18-AC82-F9F1F57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6783-7052-40D3-8932-6D82DE6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212D-ECA4-4FC4-9BC2-D908907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83F-9DFB-4E06-B172-B552743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751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D71C-585C-4673-98A9-7076AD10C0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Arial Unicode MS"/>
              </a:rPr>
              <a:t>Click to edit the title text format</a:t>
            </a:r>
            <a:endParaRPr b="0" lang="en-US" sz="50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F940-F6F3-4A1C-900B-C4D3F66612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023840" algn="ctr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asa.gov/images/content/117378main_gulfstream_aircraft.jpg&amp;imgrefurl=http://www.nasa.gov/mission_pages/hurricanes/missions/hurricane_aircraft2.html&amp;h=320&amp;w=480&amp;sz=21&amp;hl=en&amp;start=6&amp;tbnid=NMWAquIfxPKRgM:&amp;tbnh=86&amp;tbnw=129&amp;prev=/images%3Fq%3Daircraft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Influencing Patient Safety in Rural Primary Care Clinics through Computerized Order Entry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atthew Samore, MD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A Salt Lake City Health Care System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ofessor of Internal Medicin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djunct Professor of Biomedical Informatic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University of Utah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linical care delivery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omplex natural system that varies across myriad settings and car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Health information technology implementatio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ngineered system meets natural system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Our active studies in patient safety 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edication management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eal-time detection of prescribing problems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edicaid population (Nebeker, Xu, and Sauer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VA health care system (Nebeker and Weir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linical decision support systems in rural setting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rimary care (Samore and Bateman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ursing homes (Rubin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Optimal laboratory monitoring intervals (Sauer)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rror-producing conditions in intensive care units, including interruptions and task ambigu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edical device problem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Use of observation (Drews and Samore)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NFORM stud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linic-randomized trial to evaluate impact of computerized clinic order entry tool on clinical practice and office efficiency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eatures of computerized clinic order entry too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eb-based writing of outpatient orders, including prescriptions, immunizations, laboratory tests, X-ray studies, and work notes.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ccessible via any type of computer.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ectronic transmission of orders to pharmacies and other vendors or to local printer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mmon access to records across providers who share patients while maintaining strict levels of confidentiality.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participating clinic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ural primary care clinics with minimum of two providers were recruited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one had pre-existing electronic health record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Eighteen clinics randomly assigned to two group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arly implementation (launch in year 1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layed implementation (launch in year 2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Unicode MS"/>
              </a:rPr>
              <a:t>Post-launch, 2 clinics closed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participating clinic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0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2408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Methods: health information technology user interface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48040" y="228600"/>
            <a:ext cx="5295960" cy="6629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93040" y="3733920"/>
            <a:ext cx="333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mbling for hi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line button, Ted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wittingly instigates 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disaster.</a:t>
            </a:r>
            <a:endParaRPr b="0" lang="en-US" sz="2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provider home pag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371600"/>
            <a:ext cx="4343400" cy="696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st of all refill requests your staff has submitted for your approval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1600200"/>
            <a:ext cx="4114800" cy="3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t: Search for a patient record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501" t="17137" r="49169" b="50544"/>
          <a:stretch/>
        </p:blipFill>
        <p:spPr>
          <a:xfrm>
            <a:off x="533520" y="2514600"/>
            <a:ext cx="7543800" cy="4070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477120" y="2514600"/>
            <a:ext cx="16761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057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133720" y="3200400"/>
            <a:ext cx="5943600" cy="16765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133720"/>
            <a:ext cx="0" cy="10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refill reques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66168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71520"/>
            <a:ext cx="3124080" cy="703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patient name to review medication histor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195560"/>
            <a:ext cx="3962520" cy="703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drug to review request and to edit, approve or den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501" t="17137" r="49169" b="50544"/>
          <a:stretch/>
        </p:blipFill>
        <p:spPr>
          <a:xfrm>
            <a:off x="990720" y="2262240"/>
            <a:ext cx="7067520" cy="3813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71800" y="3252960"/>
            <a:ext cx="167652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3252960"/>
            <a:ext cx="1067040" cy="30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033640"/>
            <a:ext cx="0" cy="1219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1957320"/>
            <a:ext cx="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Methods: patient home page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381024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A brief tour: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tatus b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vigation commands Special functi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14458" r="0" b="50845"/>
          <a:stretch/>
        </p:blipFill>
        <p:spPr>
          <a:xfrm>
            <a:off x="380880" y="3600360"/>
            <a:ext cx="8458200" cy="272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772400" y="3886200"/>
            <a:ext cx="12193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2438280"/>
            <a:ext cx="2209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"/>
          <p:cNvSpPr/>
          <p:nvPr/>
        </p:nvSpPr>
        <p:spPr>
          <a:xfrm>
            <a:off x="8686800" y="2438280"/>
            <a:ext cx="0" cy="1447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1409760"/>
            <a:ext cx="40384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drug lis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ter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us icon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218960" y="24382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438280"/>
            <a:ext cx="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33520" y="20574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0574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2819520"/>
            <a:ext cx="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010280" y="28195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4280" y="2133720"/>
            <a:ext cx="609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24280" y="2133720"/>
            <a:ext cx="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276360" y="5334120"/>
            <a:ext cx="1447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6160" y="27432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743200"/>
            <a:ext cx="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495680"/>
            <a:ext cx="1828800" cy="18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4038480"/>
            <a:ext cx="388620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drug favorite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906768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Acknowledgmen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4723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artners: University of Utah, </a:t>
            </a:r>
            <a:r>
              <a:rPr b="0" i="1" lang="en-US" sz="2600" spc="-1" strike="noStrike">
                <a:solidFill>
                  <a:srgbClr val="ffffff"/>
                </a:solidFill>
                <a:latin typeface="Arial Unicode MS"/>
              </a:rPr>
              <a:t>Healthinsight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, CaduRx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unding: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INFORM study: AHRQ R01 HS15413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066680"/>
            <a:ext cx="4343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Kim Bateman, M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rank Drews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u Xu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Brian Sauer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hobha Phansalkar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harlene Weir, Ph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Jonathan Nebeker, M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1066680"/>
            <a:ext cx="3886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Amyanne Wuthrich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Jose Benuzillo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arren Pette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arjorie Carter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Marci Fjelsta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Rui Saito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huying Shen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drug interac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mild drug interac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61084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measuremen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Observation of office processe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Efficiency of refill proces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urvey: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heoretical framework of Information Technology Adoption Model (ITAM)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ocus group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ime trials” using scenario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omparison handwritten and electronic prescription writing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Time-to-complete task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49800" indent="-31536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Assessment of completeness, legibility, error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lectronic prescription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hart review (Fall, 2007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Methods: experimental scenario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structions for time trial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For these scenarios, imagine that you’re with a real patient and work at your normal pace.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Example: 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ext you see a regular patient, Abigail B. Cook.  She is 74-year old with a history of rheumatoid arthritis.  She also complains of pain when she urinates.  The urine culture reveals that the she has a UTI due to </a:t>
            </a:r>
            <a:r>
              <a:rPr b="0" i="1" lang="en-US" sz="2600" spc="-1" strike="noStrike">
                <a:solidFill>
                  <a:srgbClr val="ffffff"/>
                </a:solidFill>
                <a:latin typeface="Arial Unicode MS"/>
              </a:rPr>
              <a:t>E. coli 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hat is resistant to fluoroquinolones.  Prescribe an antibiotic to treat her UTI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58128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 Unicode MS"/>
              </a:rPr>
              <a:t>Results: impact on workflow</a:t>
            </a:r>
            <a:endParaRPr b="0" lang="en-US" sz="38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35812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edication refill system in one participating clinic before implementation of computerized clinic order entry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149720" y="228600"/>
            <a:ext cx="474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657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Post-implementation of computerized clinic order entry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067280" y="304920"/>
            <a:ext cx="4870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survey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sponse to one of the questions pertinent to patient safety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ntegrating drug reference and drug interaction look-up with prescription writing is useful”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57% (26 of 45) strongly agree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(answered 6 or 7 on 7 point Likert scale)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9% (4 of 45) strongly disagree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(answered 1 or 2 on 7 point Likert scale)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focus group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avorable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We see the interactions. That helps quite a bit. So, that has made a difference a couple of times. Essentially changed my mind…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One thing I liked, that there was a medicine that I don’t prescribe very often and didn’t know about the dose…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focus group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Unfavorabl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it’s like getting those stupid things from the pharmacy…. It commented on too many menial, insignificant things that just waste your time…. Way too sensitive.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… 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the drug to drug reaction says “major” and you Look at other… look at ePocrates later and no reaction at all.” 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time trials 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4920" y="1143000"/>
          <a:ext cx="861048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Outline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Background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onceptual framework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Related work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Our active studies in patient safety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atient safety and health information technology in rural settings: the INFORM stud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ethod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articipating clinic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ealth information technolog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easurement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Results to date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Summary and future direction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drug interaction scenario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Frequency with which trimethoprim/sulfa was prescribed to elderly woman on methotrexate for rheumatoid arthriti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Handwritten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11 of 13 instanc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Computerized clinic order entry too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3 of 12 instance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Recommendation of the Multum databas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Generally avoid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Results: electronic prescrip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nalysis of instances of significant drug-interactions is in progres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Altogether: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430,000 electronic prescription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52,000 unique patient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umadin interaction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7 patients received coumadin and amiodarone concomitantl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29 patients received coumadin and NSAID (excluding celecoxib)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Summary and future directions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Implementation </a:t>
            </a:r>
            <a:r>
              <a:rPr b="1" lang="en-US" sz="3000" spc="-1" strike="noStrike">
                <a:solidFill>
                  <a:srgbClr val="ff9900"/>
                </a:solidFill>
                <a:latin typeface="Arial Unicode MS"/>
              </a:rPr>
              <a:t>is</a:t>
            </a: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 clinical care system redesign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Measures of impact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erceived usefulness” versus “average effect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xperiment” versus “experience in the wild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rrors” versus “adverse events”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Transition to health information technology that enhances patient-centered care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Natural vs. engineered system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Living organism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Weather systems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Engineered systems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Aircraft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Computers 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26708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patient"/>
          <p:cNvPicPr/>
          <p:nvPr/>
        </p:nvPicPr>
        <p:blipFill>
          <a:blip r:embed="rId3"/>
          <a:stretch/>
        </p:blipFill>
        <p:spPr>
          <a:xfrm>
            <a:off x="4952880" y="2133720"/>
            <a:ext cx="2097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Commonaliti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Defining properties and functional capabilities are causal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Internal component relationships are deterministic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Potentially predictable relationship between internal components of system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Adaptabil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How does system deal with change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tural systems evolved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o spontaneous change of defining parameter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daptation as a result of unstable previous states, to meet the changing demands placed upon by environment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echnical systems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Intentional design and manufacturing to provide solution to a specific, practical problem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Suitable to perform a number of specific task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green chameleon"/>
          <p:cNvPicPr/>
          <p:nvPr/>
        </p:nvPicPr>
        <p:blipFill>
          <a:blip r:embed="rId1"/>
          <a:stretch/>
        </p:blipFill>
        <p:spPr>
          <a:xfrm>
            <a:off x="6095880" y="685800"/>
            <a:ext cx="2552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21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Observers ability to observe and understand the algorithms that govern a systems operation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Non-transparent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Algorithms describing component interactions and state variables have to be deduced and are not fully understood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Models – describe and mimic behavior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Unicode MS"/>
              </a:rPr>
              <a:t>Engineered systems </a:t>
            </a:r>
            <a:endParaRPr b="0" lang="en-US" sz="18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lnSpc>
                <a:spcPct val="90000"/>
              </a:lnSpc>
              <a:spcBef>
                <a:spcPts val="400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esigned for transparency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Relationships are planned and calculated during design process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Despite transparency have complex systems sometimes unpredicted and unanticipated emergent behavior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</a:rPr>
              <a:t>Transparency affects the ability to cope with changes of system</a:t>
            </a: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244800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Linear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Mathematical description of the relationship between output of system to its input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ften display non-linear behavio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ngineered systems designed to be linear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akes it possible to solve linear problems analyticall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Linear systems output can be predicted from input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Allows application of reductionistic approach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8" name="" descr="Transition from order to chaos (turbulence) in a rising column of cigarette smoke. The initial smooth streamline flow represents order, while the erratic flow represents chaos."/>
          <p:cNvPicPr/>
          <p:nvPr/>
        </p:nvPicPr>
        <p:blipFill>
          <a:blip r:embed="rId1"/>
          <a:stretch/>
        </p:blipFill>
        <p:spPr>
          <a:xfrm>
            <a:off x="7086600" y="762120"/>
            <a:ext cx="1397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 Unicode MS"/>
              </a:rPr>
              <a:t>Conceptual framework</a:t>
            </a:r>
            <a:endParaRPr b="0" lang="en-US" sz="4200" spc="-1" strike="noStrike">
              <a:solidFill>
                <a:srgbClr val="ffff00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Unicode MS"/>
              </a:rPr>
              <a:t>Differences</a:t>
            </a:r>
            <a:endParaRPr b="0" lang="en-US" sz="3000" spc="-1" strike="noStrike">
              <a:solidFill>
                <a:srgbClr val="ffffff"/>
              </a:solidFill>
              <a:latin typeface="Arial Unicode MS"/>
            </a:endParaRPr>
          </a:p>
          <a:p>
            <a:pPr lvl="1" marL="669960" indent="-32544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Unicode MS"/>
              </a:rPr>
              <a:t>Predictability</a:t>
            </a:r>
            <a:endParaRPr b="0" lang="en-US" sz="2600" spc="-1" strike="noStrike">
              <a:solidFill>
                <a:srgbClr val="ffffff"/>
              </a:solidFill>
              <a:latin typeface="Arial Unicode MS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Unicode MS"/>
              </a:rPr>
              <a:t>Allows for anticipation of future state of system</a:t>
            </a:r>
            <a:endParaRPr b="0" lang="en-US" sz="22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Natural systems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ore challenging to understand and modify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Partly due to adaptive and non-linear natur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ven simple natural systems difficult to predict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3" marL="1339920" indent="-316080">
              <a:spcBef>
                <a:spcPts val="499"/>
              </a:spcBef>
              <a:buClr>
                <a:srgbClr val="ff9900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ngineered systems 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Easier to understand and maintain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igher complexity increases operator demand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Maintenance and prediction are possible</a:t>
            </a:r>
            <a:endParaRPr b="0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11" name="" descr="Control"/>
          <p:cNvPicPr/>
          <p:nvPr/>
        </p:nvPicPr>
        <p:blipFill>
          <a:blip r:embed="rId1"/>
          <a:stretch/>
        </p:blipFill>
        <p:spPr>
          <a:xfrm>
            <a:off x="6934320" y="99072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04:37:37Z</dcterms:created>
  <dc:creator>u0102331</dc:creator>
  <dc:description/>
  <dc:language>en-US</dc:language>
  <cp:lastModifiedBy>u0102331</cp:lastModifiedBy>
  <dcterms:modified xsi:type="dcterms:W3CDTF">2007-09-26T19:08:11Z</dcterms:modified>
  <cp:revision>58</cp:revision>
  <dc:subject/>
  <dc:title>Ambulatory Patient Safety</dc:title>
</cp:coreProperties>
</file>