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AC19-4E61-4A33-8021-F6A2F24C0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C5C8-DF97-4D29-AC8C-E7D3468C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9F2B-5E78-4971-99FD-0286E3989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D QD targets are HEDIS target (BP, lipid, HTN) or Partners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zero defect (ASA, BP, HTN, lipids) or # deficiency care (14: 0, 1, or 2 points for each of 7 item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1044-FDAB-4272-855D-0D5764AF9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1509-7C2D-43E5-A7DC-C14FA7126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FC19-A5E4-4BE7-93DE-AD67E68A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4E2C-A5B4-4374-8295-EA16DD956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97F2-EA18-479B-B320-374169666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, 2005 --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F32-0F82-43E8-988F-BD3831DE9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, 2005 --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9470-838D-464E-8F6A-968A22B2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E56B-87D8-4F0B-8AE9-905FCE848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C781-B265-4075-9FE4-79C6FE212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3ADA-ACF8-44BE-9064-75AB03596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610-92C6-4CBA-BB51-B652F3DA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37A-CB9E-4ACB-9085-DDC64F46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A21-68C7-498C-A853-FFA43CAA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726-AD53-44E2-B0B5-815F47AE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131-643B-4630-9207-57281290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A8F-CB9A-482C-B1A1-0AA9D6A4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361-C106-4214-8C0F-E0573D50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2B6-FE8B-43BE-8010-A3B3899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5486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D71-6607-4D82-A4ED-BD8A0D3B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C19-3464-4528-8793-D27EE14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647-5C3F-47F3-9915-CF7A6E1E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245-7AF5-412D-A2BE-54E0CD4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0"/>
          <a:ext cx="9144000" cy="293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BEA6900-05A0-40DB-8015-E8B03DA50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ms.harvard.ed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hyperlink" Target="http://www.hms.harvard.edu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artners.org/about/hpm.htm" TargetMode="External"/><Relationship Id="rId3" Type="http://schemas.openxmlformats.org/officeDocument/2006/relationships/hyperlink" Target="http://www.partners.org/about/hpm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Measuring Quality and Clinical Performance Indicators at Partners HealthCare System</a:t>
            </a:r>
            <a:endParaRPr b="0" lang="en-US" sz="31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ford Middleton, MD, MPH, 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Director, Clinical Informatics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rman, Center for Information Technology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 HealthCare System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gham &amp; Women’s Hos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vard Medical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arvard Medical School Sh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0560" y="5986440"/>
            <a:ext cx="57132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ITLlogo"/>
          <p:cNvPicPr/>
          <p:nvPr/>
        </p:nvPicPr>
        <p:blipFill>
          <a:blip r:embed="rId3"/>
          <a:stretch/>
        </p:blipFill>
        <p:spPr>
          <a:xfrm>
            <a:off x="5772240" y="6006960"/>
            <a:ext cx="1261800" cy="60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tretch/>
        </p:blipFill>
        <p:spPr>
          <a:xfrm>
            <a:off x="3719520" y="6081840"/>
            <a:ext cx="12762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AHRQ"/>
          <p:cNvPicPr/>
          <p:nvPr/>
        </p:nvPicPr>
        <p:blipFill>
          <a:blip r:embed="rId5"/>
          <a:stretch/>
        </p:blipFill>
        <p:spPr>
          <a:xfrm>
            <a:off x="304920" y="5943600"/>
            <a:ext cx="26384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FQD R&amp;D Team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Acknowledgement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nical Infor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nathan Einbinder, MD, M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Greim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nya Hongsermeier, MD, M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i Li , MD, M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a Olsha-Yehi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vey Palchuk, MD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an Rose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nical and Qualit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Fisk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rea Melnik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vetlana Turovsk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a Tsurikova, MA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nn Volk,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ny Yu, MD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nical Investig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ff Linder, MD, M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ff Schnipper, MD, M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Orav, P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67080" y="1752480"/>
            <a:ext cx="3810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ene Galper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na Pl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toly Postil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is Rudels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hael Vashev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nical Systems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nn Klok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unice J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ve Flammini, 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anne Tremb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dy Spu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dy B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z Mort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an Cole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29"/>
          <p:cNvSpPr/>
          <p:nvPr/>
        </p:nvSpPr>
        <p:spPr>
          <a:xfrm>
            <a:off x="5319720" y="5958000"/>
            <a:ext cx="2300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RQ R01HS015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lackford Middleton, P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/ Diabetes Smart Form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tegrated into a visit no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ustomized views tailored to medical condition(s) of the pat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Guided data revie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entral note-writing sec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ays to document a 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lets” for selected coded data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ailored Decision support sec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tient Vie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s patient around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/DM Smart Form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rcRect l="0" t="13063" r="0" b="6778"/>
          <a:stretch/>
        </p:blipFill>
        <p:spPr>
          <a:xfrm>
            <a:off x="216000" y="1317600"/>
            <a:ext cx="8775720" cy="528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04920" y="1143000"/>
            <a:ext cx="18288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View: Data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rcRect l="74816" t="28813" r="2141" b="41670"/>
          <a:stretch/>
        </p:blipFill>
        <p:spPr>
          <a:xfrm>
            <a:off x="4495680" y="2133720"/>
            <a:ext cx="4419720" cy="4251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6781680" y="1143000"/>
            <a:ext cx="2133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, Orders, and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80880" y="2209680"/>
            <a:ext cx="3962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and recommendations generated from rules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733920" y="1143000"/>
            <a:ext cx="18288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62120" y="3200400"/>
            <a:ext cx="3276360" cy="27903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platelet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albumin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 and foot exam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648320" y="2971800"/>
            <a:ext cx="419076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/DM Smart Form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rcRect l="0" t="12994" r="0" b="6778"/>
          <a:stretch/>
        </p:blipFill>
        <p:spPr>
          <a:xfrm>
            <a:off x="152280" y="1371600"/>
            <a:ext cx="8763120" cy="527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rcRect l="75108" t="38884" r="2532" b="15130"/>
          <a:stretch/>
        </p:blipFill>
        <p:spPr>
          <a:xfrm>
            <a:off x="5257800" y="1143000"/>
            <a:ext cx="3581280" cy="5524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37" name="Text Box 5"/>
          <p:cNvSpPr/>
          <p:nvPr/>
        </p:nvSpPr>
        <p:spPr>
          <a:xfrm>
            <a:off x="2133720" y="2438280"/>
            <a:ext cx="29718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133720" y="3657600"/>
            <a:ext cx="29718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133720" y="4876920"/>
            <a:ext cx="29718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133720" y="6095880"/>
            <a:ext cx="29718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uts/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What is a Quality Dashboard?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ian feedback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ian-level view of performance on problem-oriented quality indicato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mparison to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bench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rill-down capabil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measu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Individual Pati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tient Charts/Sma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838080" y="1066680"/>
            <a:ext cx="7477200" cy="5683320"/>
            <a:chOff x="838080" y="1066680"/>
            <a:chExt cx="7477200" cy="5683320"/>
          </a:xfrm>
        </p:grpSpPr>
        <p:pic>
          <p:nvPicPr>
            <p:cNvPr id="144" name="Picture 3" descr="ARI QD Screen Shot_More Patients_111106"/>
            <p:cNvPicPr/>
            <p:nvPr/>
          </p:nvPicPr>
          <p:blipFill>
            <a:blip r:embed="rId1"/>
            <a:srcRect l="1579" t="617" r="6221" b="6291"/>
            <a:stretch/>
          </p:blipFill>
          <p:spPr>
            <a:xfrm>
              <a:off x="838080" y="1066680"/>
              <a:ext cx="7477200" cy="568332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45" name="Rectangle 4"/>
            <p:cNvSpPr/>
            <p:nvPr/>
          </p:nvSpPr>
          <p:spPr>
            <a:xfrm>
              <a:off x="1500120" y="1447920"/>
              <a:ext cx="1243080" cy="118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155680" y="1317600"/>
              <a:ext cx="1447920" cy="119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RI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517840" y="4162320"/>
            <a:ext cx="987480" cy="119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2"/>
          <p:cNvGrpSpPr/>
          <p:nvPr/>
        </p:nvGrpSpPr>
        <p:grpSpPr>
          <a:xfrm>
            <a:off x="152280" y="2666880"/>
            <a:ext cx="7051680" cy="4051440"/>
            <a:chOff x="152280" y="2666880"/>
            <a:chExt cx="7051680" cy="4051440"/>
          </a:xfrm>
        </p:grpSpPr>
        <p:pic>
          <p:nvPicPr>
            <p:cNvPr id="150" name="Picture 13" descr="ARI QD Screen Shot_More Patients_111106"/>
            <p:cNvPicPr/>
            <p:nvPr/>
          </p:nvPicPr>
          <p:blipFill>
            <a:blip r:embed="rId2"/>
            <a:srcRect l="2420" t="61802" r="55731" b="6291"/>
            <a:stretch/>
          </p:blipFill>
          <p:spPr>
            <a:xfrm>
              <a:off x="152280" y="2666880"/>
              <a:ext cx="7051680" cy="40514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51" name="Text Box 14"/>
            <p:cNvSpPr/>
            <p:nvPr/>
          </p:nvSpPr>
          <p:spPr>
            <a:xfrm>
              <a:off x="2971800" y="5602320"/>
              <a:ext cx="1752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r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4952880" y="5638680"/>
              <a:ext cx="2057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Picture 6" descr="ARI QD Screen Shot_More Patients_111106"/>
          <p:cNvPicPr/>
          <p:nvPr/>
        </p:nvPicPr>
        <p:blipFill>
          <a:blip r:embed="rId3"/>
          <a:srcRect l="45957" t="61078" r="6221" b="7020"/>
          <a:stretch/>
        </p:blipFill>
        <p:spPr>
          <a:xfrm>
            <a:off x="1752480" y="3200400"/>
            <a:ext cx="7096320" cy="3565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54" name="Group 8"/>
          <p:cNvGrpSpPr/>
          <p:nvPr/>
        </p:nvGrpSpPr>
        <p:grpSpPr>
          <a:xfrm>
            <a:off x="152280" y="1066680"/>
            <a:ext cx="5257800" cy="4127400"/>
            <a:chOff x="152280" y="1066680"/>
            <a:chExt cx="5257800" cy="4127400"/>
          </a:xfrm>
        </p:grpSpPr>
        <p:sp>
          <p:nvSpPr>
            <p:cNvPr id="155" name="Rectangle 9"/>
            <p:cNvSpPr/>
            <p:nvPr/>
          </p:nvSpPr>
          <p:spPr>
            <a:xfrm>
              <a:off x="2162160" y="1390320"/>
              <a:ext cx="1433520" cy="119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10" descr="ARI QD Screen Shot_More Patients_111106"/>
            <p:cNvPicPr/>
            <p:nvPr/>
          </p:nvPicPr>
          <p:blipFill>
            <a:blip r:embed="rId4"/>
            <a:srcRect l="1579" t="13957" r="56141" b="41972"/>
            <a:stretch/>
          </p:blipFill>
          <p:spPr>
            <a:xfrm>
              <a:off x="152280" y="1066680"/>
              <a:ext cx="5257800" cy="412740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57" name="Rectangle 11"/>
            <p:cNvSpPr/>
            <p:nvPr/>
          </p:nvSpPr>
          <p:spPr>
            <a:xfrm>
              <a:off x="2747880" y="4587480"/>
              <a:ext cx="1519200" cy="136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Picture 16" descr="ARI QD Screen Shot_More Patients_111106"/>
          <p:cNvPicPr/>
          <p:nvPr/>
        </p:nvPicPr>
        <p:blipFill>
          <a:blip r:embed="rId5"/>
          <a:srcRect l="46681" t="19339" r="6221" b="40724"/>
          <a:stretch/>
        </p:blipFill>
        <p:spPr>
          <a:xfrm>
            <a:off x="2133720" y="990720"/>
            <a:ext cx="6715080" cy="4286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11240" y="1630440"/>
            <a:ext cx="8880480" cy="3867120"/>
            <a:chOff x="111240" y="1630440"/>
            <a:chExt cx="8880480" cy="3867120"/>
          </a:xfrm>
        </p:grpSpPr>
        <p:pic>
          <p:nvPicPr>
            <p:cNvPr id="160" name="Picture 2" descr="CAD QD_Summary Screen"/>
            <p:cNvPicPr/>
            <p:nvPr/>
          </p:nvPicPr>
          <p:blipFill>
            <a:blip r:embed="rId1"/>
            <a:srcRect l="469" t="13289" r="1875" b="28260"/>
            <a:stretch/>
          </p:blipFill>
          <p:spPr>
            <a:xfrm>
              <a:off x="111240" y="1630440"/>
              <a:ext cx="8880480" cy="386712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61" name="Rectangle 5"/>
            <p:cNvSpPr/>
            <p:nvPr/>
          </p:nvSpPr>
          <p:spPr>
            <a:xfrm>
              <a:off x="5443560" y="1643040"/>
              <a:ext cx="1600200" cy="16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459400" y="1828800"/>
              <a:ext cx="2465280" cy="144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4120" y="2057400"/>
            <a:ext cx="35812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s are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centile for HEDIS or for Partners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447920" y="5257800"/>
            <a:ext cx="2209680" cy="1465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defect ca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-blo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8381880" y="2971800"/>
            <a:ext cx="533520" cy="2362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6320" y="3200400"/>
            <a:ext cx="304560" cy="205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52280" y="2438280"/>
            <a:ext cx="35816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, yellow, and green indicators show adherence with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" descr="CAD QD_Summary Screen"/>
          <p:cNvPicPr/>
          <p:nvPr/>
        </p:nvPicPr>
        <p:blipFill>
          <a:blip r:embed="rId2"/>
          <a:srcRect l="469" t="63180" r="63887" b="31882"/>
          <a:stretch/>
        </p:blipFill>
        <p:spPr>
          <a:xfrm>
            <a:off x="76320" y="4572000"/>
            <a:ext cx="6248160" cy="657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70" name="Oval 12"/>
          <p:cNvSpPr/>
          <p:nvPr/>
        </p:nvSpPr>
        <p:spPr>
          <a:xfrm flipV="1">
            <a:off x="8415360" y="4856040"/>
            <a:ext cx="4698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171440" y="1066680"/>
            <a:ext cx="6658200" cy="5670720"/>
            <a:chOff x="1171440" y="1066680"/>
            <a:chExt cx="6658200" cy="5670720"/>
          </a:xfrm>
        </p:grpSpPr>
        <p:pic>
          <p:nvPicPr>
            <p:cNvPr id="172" name="Picture 2" descr="CAD QD_All Measures"/>
            <p:cNvPicPr/>
            <p:nvPr/>
          </p:nvPicPr>
          <p:blipFill>
            <a:blip r:embed="rId1"/>
            <a:srcRect l="591" t="0" r="11158" b="0"/>
            <a:stretch/>
          </p:blipFill>
          <p:spPr>
            <a:xfrm>
              <a:off x="1171440" y="1079640"/>
              <a:ext cx="6658200" cy="565776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73" name="Rectangle 4"/>
            <p:cNvSpPr/>
            <p:nvPr/>
          </p:nvSpPr>
          <p:spPr>
            <a:xfrm>
              <a:off x="5638680" y="1066680"/>
              <a:ext cx="1600200" cy="16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5605560" y="1244520"/>
              <a:ext cx="2085840" cy="158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6" name="Picture 5" descr="CAD QD_All Measures"/>
          <p:cNvPicPr/>
          <p:nvPr/>
        </p:nvPicPr>
        <p:blipFill>
          <a:blip r:embed="rId2"/>
          <a:srcRect l="59809" t="48263" r="11158" b="26152"/>
          <a:stretch/>
        </p:blipFill>
        <p:spPr>
          <a:xfrm>
            <a:off x="4133880" y="2554200"/>
            <a:ext cx="4781520" cy="3159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762120" y="1143000"/>
            <a:ext cx="7605720" cy="5373720"/>
            <a:chOff x="762120" y="1143000"/>
            <a:chExt cx="7605720" cy="5373720"/>
          </a:xfrm>
        </p:grpSpPr>
        <p:pic>
          <p:nvPicPr>
            <p:cNvPr id="178" name="Picture 2" descr="CAD QD_Blood Pressure"/>
            <p:cNvPicPr/>
            <p:nvPr/>
          </p:nvPicPr>
          <p:blipFill>
            <a:blip r:embed="rId1"/>
            <a:srcRect l="196" t="12249" r="6655" b="0"/>
            <a:stretch/>
          </p:blipFill>
          <p:spPr>
            <a:xfrm>
              <a:off x="762120" y="1143000"/>
              <a:ext cx="7605720" cy="537372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79" name="Rectangle 4"/>
            <p:cNvSpPr/>
            <p:nvPr/>
          </p:nvSpPr>
          <p:spPr>
            <a:xfrm>
              <a:off x="932040" y="4159080"/>
              <a:ext cx="2192040" cy="231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800600" y="2743200"/>
            <a:ext cx="9907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781680" y="2438280"/>
            <a:ext cx="22100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ze by deficiency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5334120" y="32004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81532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33520" y="1106640"/>
            <a:ext cx="7848360" cy="5406840"/>
            <a:chOff x="533520" y="1106640"/>
            <a:chExt cx="7848360" cy="5406840"/>
          </a:xfrm>
        </p:grpSpPr>
        <p:pic>
          <p:nvPicPr>
            <p:cNvPr id="186" name="Picture 2" descr="CAD QD_Uncontrolled BP with 0-1 Visits Last Year"/>
            <p:cNvPicPr/>
            <p:nvPr/>
          </p:nvPicPr>
          <p:blipFill>
            <a:blip r:embed="rId1"/>
            <a:srcRect l="0" t="10374" r="2436" b="0"/>
            <a:stretch/>
          </p:blipFill>
          <p:spPr>
            <a:xfrm>
              <a:off x="533520" y="1106640"/>
              <a:ext cx="7848360" cy="54068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87" name="Rectangle 4"/>
            <p:cNvSpPr/>
            <p:nvPr/>
          </p:nvSpPr>
          <p:spPr>
            <a:xfrm>
              <a:off x="685800" y="5910120"/>
              <a:ext cx="2192400" cy="567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676520" y="1066680"/>
            <a:ext cx="6019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. For example, patients with blood pressure not at goal who have had 0 or 1 visit in the past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905120" y="1828800"/>
            <a:ext cx="121896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276720" y="3276720"/>
            <a:ext cx="106668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" y="4876920"/>
            <a:ext cx="4876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ing on name opens patient’s Smart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Overview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rtners Healthcare System, Bost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erformance Medi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PM-X Informatics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porting in an EM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MR Report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Dashbo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arly experiences with Quality Dashboard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Lessons Learned: </a:t>
            </a:r>
            <a:br>
              <a:rPr sz="3400"/>
            </a:b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Quality Dashboard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iggest barriers to use are related to the health care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drivers (carrots and sticks) to QD 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fo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mbursement for cas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hronic diseases, QD may be more effective as a case management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Lessons Learned: </a:t>
            </a:r>
            <a:br>
              <a:rPr sz="3400"/>
            </a:b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Quality Dashboard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ther major barrier is related to quality of the da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 need to tie patients to providers, edit panels, deal with miss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change behavior unless the data are belie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ig societal trends will drive quality measure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roviders be proactive? (EHR data better than billing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mart Forms and Quality Dashboards offer new workflow and decision support methods to manage acute and chronic medical conditions using EHR technolog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oth have potential to improve care, demonstrate EHR value to providers, and drive EHR 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uch work remains to be do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Where Are We?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00" name="Picture 3" descr="You_are_here"/>
          <p:cNvPicPr/>
          <p:nvPr/>
        </p:nvPicPr>
        <p:blipFill>
          <a:blip r:embed="rId1"/>
          <a:stretch/>
        </p:blipFill>
        <p:spPr>
          <a:xfrm>
            <a:off x="1066680" y="1763640"/>
            <a:ext cx="6788160" cy="4484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7315200" y="5410080"/>
            <a:ext cx="1676520" cy="600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ITLlogo"/>
          <p:cNvPicPr/>
          <p:nvPr/>
        </p:nvPicPr>
        <p:blipFill>
          <a:blip r:embed="rId2"/>
          <a:stretch/>
        </p:blipFill>
        <p:spPr>
          <a:xfrm>
            <a:off x="7523280" y="6095880"/>
            <a:ext cx="1261800" cy="6066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6"/>
          <p:cNvGrpSpPr/>
          <p:nvPr/>
        </p:nvGrpSpPr>
        <p:grpSpPr>
          <a:xfrm>
            <a:off x="7391520" y="4572000"/>
            <a:ext cx="1371600" cy="762120"/>
            <a:chOff x="7391520" y="4572000"/>
            <a:chExt cx="1371600" cy="762120"/>
          </a:xfrm>
        </p:grpSpPr>
        <p:sp>
          <p:nvSpPr>
            <p:cNvPr id="204" name="Rectangle 7"/>
            <p:cNvSpPr/>
            <p:nvPr/>
          </p:nvSpPr>
          <p:spPr>
            <a:xfrm>
              <a:off x="7391520" y="4572000"/>
              <a:ext cx="13716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Picture 8" descr="Harvard Medical School Shield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848720" y="4648320"/>
              <a:ext cx="57132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9" descr="AHRQ"/>
          <p:cNvPicPr/>
          <p:nvPr/>
        </p:nvPicPr>
        <p:blipFill>
          <a:blip r:embed="rId5"/>
          <a:stretch/>
        </p:blipFill>
        <p:spPr>
          <a:xfrm>
            <a:off x="304920" y="5943600"/>
            <a:ext cx="2638440" cy="73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Thank you!</a:t>
            </a:r>
            <a:br>
              <a:rPr sz="34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lackford Middleton, MD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middleton1@partners.org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artners HealthCare System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en hospitals, 7000 physici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$6.4B in revenu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4M outpatient visits and 160,000 admissions/yea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$1B in biomedical research annuall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eaching affiliate of the Harvard Medical Schoo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nded by the Brigham and Women’s Hospital and the Massachusetts General Hospit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Information Systems Descriptive Numbers</a:t>
            </a:r>
            <a:endParaRPr b="0" lang="en-US" sz="31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budget (FY07) = $158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budget (FY08) = $4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users = 5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s on the network = 7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n the Partners network =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Medical Record physician users = 3,800 (&gt; 90% of AMC PCPs; ~ 50% of Speciali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1936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data in the clinical data repository = 4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images on line = 45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s entered hourly through Computerized Provider Order Entry (across Partners)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R (ambulatory EMR) transactions per day = 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s to the Help Desk each month = 1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6320" y="-9036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80880" y="19494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PM comprises five System-wide projects with one common go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57200" y="3016080"/>
            <a:ext cx="7620120" cy="2977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08455" dir="7653753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To deliver better care to pati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379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are that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338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Saf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338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Better coord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338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ore reliable in delivering proven interven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379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Systems that support providers in “doing the right thing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at is High Performance Medicine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" name="Picture 6" descr="James Mongan"/>
          <p:cNvPicPr/>
          <p:nvPr/>
        </p:nvPicPr>
        <p:blipFill>
          <a:blip r:embed="rId1"/>
          <a:stretch/>
        </p:blipFill>
        <p:spPr>
          <a:xfrm>
            <a:off x="6553080" y="3124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3429000" y="6324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www.partners.org/about/hpm.ht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6396840" y="449568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r. Jim Mo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52280" y="-9036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828800" y="2057400"/>
            <a:ext cx="708012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ng in quality and utilization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ystem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cs Infrastructure (data, knowledge,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hancing patient safe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reducing medication errors system-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hancing uniform high qu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measuring performance to benchmark for select inpatient and outpatient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anding disease management progra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supporting activities for certain patients with chronic ill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roving cost effective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rough managing utilization trends and analysis of 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12640" y="3200400"/>
            <a:ext cx="11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78360" y="57150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846000" y="3581280"/>
            <a:ext cx="441360" cy="1981440"/>
          </a:xfrm>
          <a:prstGeom prst="upDownArrow">
            <a:avLst>
              <a:gd name="adj1" fmla="val 29657"/>
              <a:gd name="adj2" fmla="val 9384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676520" y="3205080"/>
            <a:ext cx="7391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 rot="16200000">
            <a:off x="-1293840" y="42656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tive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7632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at are the High Performance Medicine Initiatives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447920"/>
            <a:ext cx="9144000" cy="914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82105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iscrete vs. Shared: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ata, Knowledge, Logic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6680" y="1447920"/>
            <a:ext cx="8825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Many Partners’ applications utilize discrete data, logic and knowledge or rules; most are not integrated across sites – creating islands of information and supporting varying levels of functionalit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3244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1447920"/>
            <a:ext cx="9144000" cy="74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453960"/>
            <a:ext cx="52088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The Future: Shared Data, Knowledge, and Logic – Partners SOA Strategy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050840" y="2332080"/>
            <a:ext cx="6950160" cy="4525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360440" y="2374920"/>
            <a:ext cx="6386400" cy="209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ommon ‘Shell’ or Clinical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371600" y="4435560"/>
            <a:ext cx="6356520" cy="1536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ared Logic, Dictionaries, and Rule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terprise Clinical Service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dication Services and Knowledge Manage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5200560" y="4846680"/>
            <a:ext cx="1839600" cy="920520"/>
            <a:chOff x="5200560" y="4846680"/>
            <a:chExt cx="1839600" cy="920520"/>
          </a:xfrm>
        </p:grpSpPr>
        <p:grpSp>
          <p:nvGrpSpPr>
            <p:cNvPr id="89" name="Group 8"/>
            <p:cNvGrpSpPr/>
            <p:nvPr/>
          </p:nvGrpSpPr>
          <p:grpSpPr>
            <a:xfrm>
              <a:off x="5200560" y="4846680"/>
              <a:ext cx="1839600" cy="920520"/>
              <a:chOff x="5200560" y="4846680"/>
              <a:chExt cx="1839600" cy="920520"/>
            </a:xfrm>
          </p:grpSpPr>
          <p:sp>
            <p:nvSpPr>
              <p:cNvPr id="90" name="Gear"/>
              <p:cNvSpPr/>
              <p:nvPr/>
            </p:nvSpPr>
            <p:spPr>
              <a:xfrm>
                <a:off x="6220440" y="4846680"/>
                <a:ext cx="819720" cy="4222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10"/>
              <p:cNvSpPr/>
              <p:nvPr/>
            </p:nvSpPr>
            <p:spPr>
              <a:xfrm>
                <a:off x="5200560" y="5020560"/>
                <a:ext cx="979920" cy="504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11"/>
              <p:cNvSpPr/>
              <p:nvPr/>
            </p:nvSpPr>
            <p:spPr>
              <a:xfrm>
                <a:off x="5836320" y="5206680"/>
                <a:ext cx="1089360" cy="560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2"/>
            <p:cNvSpPr/>
            <p:nvPr/>
          </p:nvSpPr>
          <p:spPr>
            <a:xfrm>
              <a:off x="5660280" y="5213520"/>
              <a:ext cx="118008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br>
                <a:rPr sz="16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Servic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AutoShape 13"/>
          <p:cNvSpPr/>
          <p:nvPr/>
        </p:nvSpPr>
        <p:spPr>
          <a:xfrm>
            <a:off x="1460520" y="6124680"/>
            <a:ext cx="6130800" cy="61092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nterprise Repository 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oblems, Meds, Allergies, Labs, Orders, Not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2278080" y="4937040"/>
            <a:ext cx="2316240" cy="917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ction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Rules Dat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Knowledge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460520" y="2943360"/>
            <a:ext cx="6063840" cy="1284120"/>
            <a:chOff x="1460520" y="2943360"/>
            <a:chExt cx="6063840" cy="1284120"/>
          </a:xfrm>
        </p:grpSpPr>
        <p:sp>
          <p:nvSpPr>
            <p:cNvPr id="97" name="AutoShape 16"/>
            <p:cNvSpPr/>
            <p:nvPr/>
          </p:nvSpPr>
          <p:spPr>
            <a:xfrm>
              <a:off x="1460520" y="2943360"/>
              <a:ext cx="1703520" cy="1284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GH O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Group 17"/>
            <p:cNvGrpSpPr/>
            <p:nvPr/>
          </p:nvGrpSpPr>
          <p:grpSpPr>
            <a:xfrm>
              <a:off x="1869120" y="3310200"/>
              <a:ext cx="990720" cy="856080"/>
              <a:chOff x="1869120" y="3310200"/>
              <a:chExt cx="990720" cy="856080"/>
            </a:xfrm>
          </p:grpSpPr>
          <p:sp>
            <p:nvSpPr>
              <p:cNvPr id="99" name="monitor"/>
              <p:cNvSpPr/>
              <p:nvPr/>
            </p:nvSpPr>
            <p:spPr>
              <a:xfrm>
                <a:off x="1869120" y="3310200"/>
                <a:ext cx="945360" cy="8560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9"/>
              <p:cNvSpPr/>
              <p:nvPr/>
            </p:nvSpPr>
            <p:spPr>
              <a:xfrm>
                <a:off x="2010600" y="3515040"/>
                <a:ext cx="8492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AutoShape 20"/>
            <p:cNvSpPr/>
            <p:nvPr/>
          </p:nvSpPr>
          <p:spPr>
            <a:xfrm>
              <a:off x="3640680" y="2943360"/>
              <a:ext cx="1703520" cy="12841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BWH O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utoShape 21"/>
            <p:cNvSpPr/>
            <p:nvPr/>
          </p:nvSpPr>
          <p:spPr>
            <a:xfrm>
              <a:off x="5821200" y="2943360"/>
              <a:ext cx="1703160" cy="128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M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22"/>
            <p:cNvGrpSpPr/>
            <p:nvPr/>
          </p:nvGrpSpPr>
          <p:grpSpPr>
            <a:xfrm>
              <a:off x="3988800" y="3246480"/>
              <a:ext cx="1096560" cy="919800"/>
              <a:chOff x="3988800" y="3246480"/>
              <a:chExt cx="1096560" cy="919800"/>
            </a:xfrm>
          </p:grpSpPr>
          <p:sp>
            <p:nvSpPr>
              <p:cNvPr id="104" name="monitor"/>
              <p:cNvSpPr/>
              <p:nvPr/>
            </p:nvSpPr>
            <p:spPr>
              <a:xfrm>
                <a:off x="3988800" y="3246480"/>
                <a:ext cx="1046880" cy="9198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24"/>
              <p:cNvSpPr/>
              <p:nvPr/>
            </p:nvSpPr>
            <p:spPr>
              <a:xfrm>
                <a:off x="4144320" y="3465720"/>
                <a:ext cx="94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25"/>
            <p:cNvGrpSpPr/>
            <p:nvPr/>
          </p:nvGrpSpPr>
          <p:grpSpPr>
            <a:xfrm>
              <a:off x="6222960" y="3246480"/>
              <a:ext cx="1096560" cy="919800"/>
              <a:chOff x="6222960" y="3246480"/>
              <a:chExt cx="1096560" cy="919800"/>
            </a:xfrm>
          </p:grpSpPr>
          <p:sp>
            <p:nvSpPr>
              <p:cNvPr id="107" name="monitor"/>
              <p:cNvSpPr/>
              <p:nvPr/>
            </p:nvSpPr>
            <p:spPr>
              <a:xfrm>
                <a:off x="6222960" y="3246480"/>
                <a:ext cx="1046880" cy="9198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7"/>
              <p:cNvSpPr/>
              <p:nvPr/>
            </p:nvSpPr>
            <p:spPr>
              <a:xfrm>
                <a:off x="6378480" y="3465720"/>
                <a:ext cx="94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Rectangle 28"/>
          <p:cNvSpPr/>
          <p:nvPr/>
        </p:nvSpPr>
        <p:spPr>
          <a:xfrm>
            <a:off x="92160" y="147780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Future clinical applications will take advantage of shared repositories of enterprise data, knowledge, and logic, in a </a:t>
            </a: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services-oriented 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"/>
          <p:cNvGrpSpPr/>
          <p:nvPr/>
        </p:nvGrpSpPr>
        <p:grpSpPr>
          <a:xfrm>
            <a:off x="1954080" y="0"/>
            <a:ext cx="5437080" cy="947160"/>
            <a:chOff x="1954080" y="0"/>
            <a:chExt cx="5437080" cy="947160"/>
          </a:xfrm>
        </p:grpSpPr>
        <p:sp>
          <p:nvSpPr>
            <p:cNvPr id="112" name="Text Box 4"/>
            <p:cNvSpPr/>
            <p:nvPr/>
          </p:nvSpPr>
          <p:spPr>
            <a:xfrm>
              <a:off x="1954080" y="0"/>
              <a:ext cx="4741920" cy="947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ecure Clinical Communic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nd Notification of Resul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6858000" y="511200"/>
              <a:ext cx="533160" cy="304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 Box 6"/>
          <p:cNvSpPr/>
          <p:nvPr/>
        </p:nvSpPr>
        <p:spPr>
          <a:xfrm>
            <a:off x="4110840" y="4114800"/>
            <a:ext cx="37162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uitive Cha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79160" y="1600200"/>
            <a:ext cx="32500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tomatic 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969080" y="2133720"/>
            <a:ext cx="3210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mmary Flow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166400" y="5410080"/>
            <a:ext cx="3143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ed Clin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75160" y="5791320"/>
            <a:ext cx="33703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tomizable Desk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21:56:52Z</dcterms:created>
  <dc:creator>Information Systems</dc:creator>
  <dc:description/>
  <dc:language>en-US</dc:language>
  <cp:lastModifiedBy>Teresa.Zayas</cp:lastModifiedBy>
  <dcterms:modified xsi:type="dcterms:W3CDTF">2009-04-02T19:34:05Z</dcterms:modified>
  <cp:revision>26</cp:revision>
  <dc:subject/>
  <dc:title>PowerPoint Presentation</dc:title>
</cp:coreProperties>
</file>