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2.jpeg" ContentType="image/jpeg"/>
  <Override PartName="/ppt/media/image9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wmf" ContentType="image/x-wmf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15F8-46F3-4FA3-AEF6-F276982DC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FEA9-7B87-4FA5-B7A7-4863B7CF2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AA82-C8EF-41B6-A2AF-B52F15891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D QD targets are HEDIS target (BP, lipid, HTN) or Partners aver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rify zero defect (ASA, BP, HTN, lipids) or # deficiency care (14: 0, 1, or 2 points for each of 7 item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E1C4-421C-4056-957B-0E85B5169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4387-79C8-48F8-AFDF-BC768587C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FE4F-F6B6-4F21-A5B5-E102E6476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61FA-40D0-4049-AB65-765A72BB2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6405-CE38-4FBA-A393-F363FA430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e 1, 2005 --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1CBC-BF3E-4101-AE16-1838E3134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e 1, 2005 --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E526-1285-4EE0-B87C-BB9A23B14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9082-B1E5-4F16-BE14-92C6826D0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3440" cy="34308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32B0-16EE-4992-9387-7D34F0F43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7654-48DA-4667-BC2B-B69BD6CC8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5805-26AC-4F58-B1D7-AAB09E3C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407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893B-4135-443B-BC27-8DEAF76F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407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407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F65E-CBDC-4CEA-A0F7-9F6419F6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407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407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407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F6E6-B181-48AB-8F8B-669923CAB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3DAF-2199-40B9-B889-EB3C6565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14FC-3D2E-426C-8CE4-56F3566B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F3BD-C11A-4168-ABC1-77E16C8A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A662-D5B2-46C2-B0FB-6F079C94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5486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2E08-D916-4928-B7B0-CF3366CE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407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B0E0-5B56-4B2D-8B6B-0934B193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407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02F1-E262-430D-9F8E-F7E62494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407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3D48-A3A7-4792-B6DF-0CC37318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"/>
          <p:cNvGraphicFramePr/>
          <p:nvPr/>
        </p:nvGraphicFramePr>
        <p:xfrm>
          <a:off x="0" y="0"/>
          <a:ext cx="9144000" cy="293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29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726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726"/>
              </a:spcBef>
              <a:buClr>
                <a:srgbClr val="ff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spcBef>
                <a:spcPts val="726"/>
              </a:spcBef>
              <a:buClr>
                <a:srgbClr val="008ae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2209680" indent="-3808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2209680" indent="-3808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76760" y="64767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AB86C878-89CC-4D88-803C-16DD758DA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ms.harvard.edu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hyperlink" Target="http://www.hms.harvard.edu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partners.org/about/hpm.htm" TargetMode="External"/><Relationship Id="rId3" Type="http://schemas.openxmlformats.org/officeDocument/2006/relationships/hyperlink" Target="http://www.partners.org/about/hpm.ht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imes New Roman"/>
              </a:rPr>
              <a:t>Measuring Quality and Clinical Performance Indicators at Partners HealthCare System</a:t>
            </a:r>
            <a:endParaRPr b="0" lang="en-US" sz="31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ackford Middleton, MD, MPH, M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porate Director, Clinical Informatics R&amp;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irman, Center for Information Technology Lead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 HealthCare System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igham &amp; Women’s Hospi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vard Medical 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Harvard Medical School Shiel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10560" y="5986440"/>
            <a:ext cx="571320" cy="647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CITLlogo"/>
          <p:cNvPicPr/>
          <p:nvPr/>
        </p:nvPicPr>
        <p:blipFill>
          <a:blip r:embed="rId3"/>
          <a:stretch/>
        </p:blipFill>
        <p:spPr>
          <a:xfrm>
            <a:off x="5772240" y="6006960"/>
            <a:ext cx="1261800" cy="606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"/>
          <p:cNvPicPr/>
          <p:nvPr/>
        </p:nvPicPr>
        <p:blipFill>
          <a:blip r:embed="rId4"/>
          <a:stretch/>
        </p:blipFill>
        <p:spPr>
          <a:xfrm>
            <a:off x="3719520" y="6081840"/>
            <a:ext cx="1276200" cy="457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AHRQ"/>
          <p:cNvPicPr/>
          <p:nvPr/>
        </p:nvPicPr>
        <p:blipFill>
          <a:blip r:embed="rId5"/>
          <a:stretch/>
        </p:blipFill>
        <p:spPr>
          <a:xfrm>
            <a:off x="304920" y="5943600"/>
            <a:ext cx="26384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SFQD R&amp;D Team</a:t>
            </a:r>
            <a:br>
              <a:rPr sz="3000"/>
            </a:b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Acknowledgements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440" y="175248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nical Infor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nathan Einbinder, MD, M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ulie Greim, M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nya Hongsermeier, MD, M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i Li , MD, M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a Olsha-Yehia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tvey Palchuk, MD, M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an Rose, M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nical and Quality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ulie Fisk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rea Melnik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vetlana Turovsky, 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a Tsurikova, MA, M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ynn Volk, 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ny Yu, MD, M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nical Investig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eff Linder, MD, M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eff Schnipper, MD, M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hn Orav, Ph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67080" y="1752480"/>
            <a:ext cx="3810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lication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rene Galper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ina Pla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atoly Postiln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ris Rudels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chael Vashevk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nical Systems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ynn Klok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unice J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ve Flammini, 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anne Tremb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ndy Spu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ndy B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z Mort, 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an Cole, 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029"/>
          <p:cNvSpPr/>
          <p:nvPr/>
        </p:nvSpPr>
        <p:spPr>
          <a:xfrm>
            <a:off x="5319720" y="5958000"/>
            <a:ext cx="2300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RQ R01HS0151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Blackford Middleton, P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CAD / Diabetes Smart Form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30280" indent="-53028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ntegrated into a visit not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ustomized views tailored to medical condition(s) of the pati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Guided data review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entral note-writing sec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ways to document a n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lets” for selected coded data e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ailored Decision support sec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atient View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50760" indent="-5119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s patient around goals of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5486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CAD/DM Smart Form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rcRect l="0" t="13063" r="0" b="6778"/>
          <a:stretch/>
        </p:blipFill>
        <p:spPr>
          <a:xfrm>
            <a:off x="216000" y="1317600"/>
            <a:ext cx="8775720" cy="52801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304920" y="1143000"/>
            <a:ext cx="1828800" cy="642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 View: Data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2"/>
          <a:srcRect l="74816" t="28813" r="2141" b="41670"/>
          <a:stretch/>
        </p:blipFill>
        <p:spPr>
          <a:xfrm>
            <a:off x="4495680" y="2133720"/>
            <a:ext cx="4419720" cy="42512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6781680" y="1143000"/>
            <a:ext cx="21337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ment, Orders, and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380880" y="2209680"/>
            <a:ext cx="39625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5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ment and recommendations generated from rules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3733920" y="1143000"/>
            <a:ext cx="1828800" cy="642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ation 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762120" y="3200400"/>
            <a:ext cx="3276360" cy="27903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-platelet thera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d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ucos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albuminu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uniz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ye and foot exam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10"/>
          <p:cNvSpPr/>
          <p:nvPr/>
        </p:nvSpPr>
        <p:spPr>
          <a:xfrm>
            <a:off x="4648320" y="2971800"/>
            <a:ext cx="4190760" cy="838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CAD/DM Smart Form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rcRect l="0" t="12994" r="0" b="6778"/>
          <a:stretch/>
        </p:blipFill>
        <p:spPr>
          <a:xfrm>
            <a:off x="152280" y="1371600"/>
            <a:ext cx="8763120" cy="5273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rcRect l="75108" t="38884" r="2532" b="15130"/>
          <a:stretch/>
        </p:blipFill>
        <p:spPr>
          <a:xfrm>
            <a:off x="5257800" y="1143000"/>
            <a:ext cx="3581280" cy="55245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37" name="Text Box 5"/>
          <p:cNvSpPr/>
          <p:nvPr/>
        </p:nvSpPr>
        <p:spPr>
          <a:xfrm>
            <a:off x="2133720" y="2438280"/>
            <a:ext cx="29718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cation Or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2133720" y="3657600"/>
            <a:ext cx="29718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 Or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133720" y="4876920"/>
            <a:ext cx="29718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r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133720" y="6095880"/>
            <a:ext cx="29718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outs/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What is a Quality Dashboard?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ian feedback syste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ian-level view of performance on problem-oriented quality indicator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omparison to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nic pe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 benchma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Drill-down capabilit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measur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st of Individual Patien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tient Charts/Sma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838080" y="1066680"/>
            <a:ext cx="7477200" cy="5683320"/>
            <a:chOff x="838080" y="1066680"/>
            <a:chExt cx="7477200" cy="5683320"/>
          </a:xfrm>
        </p:grpSpPr>
        <p:pic>
          <p:nvPicPr>
            <p:cNvPr id="144" name="Picture 3" descr="ARI QD Screen Shot_More Patients_111106"/>
            <p:cNvPicPr/>
            <p:nvPr/>
          </p:nvPicPr>
          <p:blipFill>
            <a:blip r:embed="rId1"/>
            <a:srcRect l="1579" t="617" r="6221" b="6291"/>
            <a:stretch/>
          </p:blipFill>
          <p:spPr>
            <a:xfrm>
              <a:off x="838080" y="1066680"/>
              <a:ext cx="7477200" cy="5683320"/>
            </a:xfrm>
            <a:prstGeom prst="rect">
              <a:avLst/>
            </a:prstGeom>
            <a:ln w="6480">
              <a:solidFill>
                <a:srgbClr val="000000"/>
              </a:solidFill>
              <a:miter/>
            </a:ln>
          </p:spPr>
        </p:pic>
        <p:sp>
          <p:nvSpPr>
            <p:cNvPr id="145" name="Rectangle 4"/>
            <p:cNvSpPr/>
            <p:nvPr/>
          </p:nvSpPr>
          <p:spPr>
            <a:xfrm>
              <a:off x="1500120" y="1447920"/>
              <a:ext cx="1243080" cy="118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7"/>
            <p:cNvSpPr/>
            <p:nvPr/>
          </p:nvSpPr>
          <p:spPr>
            <a:xfrm>
              <a:off x="2155680" y="1317600"/>
              <a:ext cx="1447920" cy="119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ARI Quality Dashboard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517840" y="4162320"/>
            <a:ext cx="987480" cy="119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Group 12"/>
          <p:cNvGrpSpPr/>
          <p:nvPr/>
        </p:nvGrpSpPr>
        <p:grpSpPr>
          <a:xfrm>
            <a:off x="152280" y="2666880"/>
            <a:ext cx="7051680" cy="4051440"/>
            <a:chOff x="152280" y="2666880"/>
            <a:chExt cx="7051680" cy="4051440"/>
          </a:xfrm>
        </p:grpSpPr>
        <p:pic>
          <p:nvPicPr>
            <p:cNvPr id="150" name="Picture 13" descr="ARI QD Screen Shot_More Patients_111106"/>
            <p:cNvPicPr/>
            <p:nvPr/>
          </p:nvPicPr>
          <p:blipFill>
            <a:blip r:embed="rId2"/>
            <a:srcRect l="2420" t="61802" r="55731" b="6291"/>
            <a:stretch/>
          </p:blipFill>
          <p:spPr>
            <a:xfrm>
              <a:off x="152280" y="2666880"/>
              <a:ext cx="7051680" cy="4051440"/>
            </a:xfrm>
            <a:prstGeom prst="rect">
              <a:avLst/>
            </a:prstGeom>
            <a:ln w="6480">
              <a:solidFill>
                <a:srgbClr val="000000"/>
              </a:solidFill>
              <a:miter/>
            </a:ln>
          </p:spPr>
        </p:pic>
        <p:sp>
          <p:nvSpPr>
            <p:cNvPr id="151" name="Text Box 14"/>
            <p:cNvSpPr/>
            <p:nvPr/>
          </p:nvSpPr>
          <p:spPr>
            <a:xfrm>
              <a:off x="2971800" y="5602320"/>
              <a:ext cx="1752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r 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15"/>
            <p:cNvSpPr/>
            <p:nvPr/>
          </p:nvSpPr>
          <p:spPr>
            <a:xfrm>
              <a:off x="4952880" y="5638680"/>
              <a:ext cx="20574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nic 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3" name="Picture 6" descr="ARI QD Screen Shot_More Patients_111106"/>
          <p:cNvPicPr/>
          <p:nvPr/>
        </p:nvPicPr>
        <p:blipFill>
          <a:blip r:embed="rId3"/>
          <a:srcRect l="45957" t="61078" r="6221" b="7020"/>
          <a:stretch/>
        </p:blipFill>
        <p:spPr>
          <a:xfrm>
            <a:off x="1752480" y="3200400"/>
            <a:ext cx="7096320" cy="35654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154" name="Group 8"/>
          <p:cNvGrpSpPr/>
          <p:nvPr/>
        </p:nvGrpSpPr>
        <p:grpSpPr>
          <a:xfrm>
            <a:off x="152280" y="1066680"/>
            <a:ext cx="5257800" cy="4127400"/>
            <a:chOff x="152280" y="1066680"/>
            <a:chExt cx="5257800" cy="4127400"/>
          </a:xfrm>
        </p:grpSpPr>
        <p:sp>
          <p:nvSpPr>
            <p:cNvPr id="155" name="Rectangle 9"/>
            <p:cNvSpPr/>
            <p:nvPr/>
          </p:nvSpPr>
          <p:spPr>
            <a:xfrm>
              <a:off x="2162160" y="1390320"/>
              <a:ext cx="1433520" cy="119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" name="Picture 10" descr="ARI QD Screen Shot_More Patients_111106"/>
            <p:cNvPicPr/>
            <p:nvPr/>
          </p:nvPicPr>
          <p:blipFill>
            <a:blip r:embed="rId4"/>
            <a:srcRect l="1579" t="13957" r="56141" b="41972"/>
            <a:stretch/>
          </p:blipFill>
          <p:spPr>
            <a:xfrm>
              <a:off x="152280" y="1066680"/>
              <a:ext cx="5257800" cy="4127400"/>
            </a:xfrm>
            <a:prstGeom prst="rect">
              <a:avLst/>
            </a:prstGeom>
            <a:ln w="6480">
              <a:solidFill>
                <a:srgbClr val="000000"/>
              </a:solidFill>
              <a:miter/>
            </a:ln>
          </p:spPr>
        </p:pic>
        <p:sp>
          <p:nvSpPr>
            <p:cNvPr id="157" name="Rectangle 11"/>
            <p:cNvSpPr/>
            <p:nvPr/>
          </p:nvSpPr>
          <p:spPr>
            <a:xfrm>
              <a:off x="2747880" y="4587480"/>
              <a:ext cx="1519200" cy="136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8" name="Picture 16" descr="ARI QD Screen Shot_More Patients_111106"/>
          <p:cNvPicPr/>
          <p:nvPr/>
        </p:nvPicPr>
        <p:blipFill>
          <a:blip r:embed="rId5"/>
          <a:srcRect l="46681" t="19339" r="6221" b="40724"/>
          <a:stretch/>
        </p:blipFill>
        <p:spPr>
          <a:xfrm>
            <a:off x="2133720" y="990720"/>
            <a:ext cx="6715080" cy="42861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111240" y="1630440"/>
            <a:ext cx="8880480" cy="3867120"/>
            <a:chOff x="111240" y="1630440"/>
            <a:chExt cx="8880480" cy="3867120"/>
          </a:xfrm>
        </p:grpSpPr>
        <p:pic>
          <p:nvPicPr>
            <p:cNvPr id="160" name="Picture 2" descr="CAD QD_Summary Screen"/>
            <p:cNvPicPr/>
            <p:nvPr/>
          </p:nvPicPr>
          <p:blipFill>
            <a:blip r:embed="rId1"/>
            <a:srcRect l="469" t="13289" r="1875" b="28260"/>
            <a:stretch/>
          </p:blipFill>
          <p:spPr>
            <a:xfrm>
              <a:off x="111240" y="1630440"/>
              <a:ext cx="8880480" cy="3867120"/>
            </a:xfrm>
            <a:prstGeom prst="rect">
              <a:avLst/>
            </a:prstGeom>
            <a:ln w="6480">
              <a:solidFill>
                <a:srgbClr val="000000"/>
              </a:solidFill>
              <a:miter/>
            </a:ln>
          </p:spPr>
        </p:pic>
        <p:sp>
          <p:nvSpPr>
            <p:cNvPr id="161" name="Rectangle 5"/>
            <p:cNvSpPr/>
            <p:nvPr/>
          </p:nvSpPr>
          <p:spPr>
            <a:xfrm>
              <a:off x="5443560" y="1643040"/>
              <a:ext cx="1600200" cy="162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1"/>
            <p:cNvSpPr/>
            <p:nvPr/>
          </p:nvSpPr>
          <p:spPr>
            <a:xfrm>
              <a:off x="5459400" y="1828800"/>
              <a:ext cx="2465280" cy="144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CAD Quality Dashboard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5334120" y="2057400"/>
            <a:ext cx="3581280" cy="642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s are 9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centile for HEDIS or for Partners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447920" y="5257800"/>
            <a:ext cx="2209680" cy="146556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ro defect car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ir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a-block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d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28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8381880" y="2971800"/>
            <a:ext cx="533520" cy="23623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76320" y="3200400"/>
            <a:ext cx="304560" cy="2057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152280" y="2438280"/>
            <a:ext cx="3581640" cy="642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, yellow, and green indicators show adherence with targ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10" descr="CAD QD_Summary Screen"/>
          <p:cNvPicPr/>
          <p:nvPr/>
        </p:nvPicPr>
        <p:blipFill>
          <a:blip r:embed="rId2"/>
          <a:srcRect l="469" t="63180" r="63887" b="31882"/>
          <a:stretch/>
        </p:blipFill>
        <p:spPr>
          <a:xfrm>
            <a:off x="76320" y="4572000"/>
            <a:ext cx="6248160" cy="6573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70" name="Oval 12"/>
          <p:cNvSpPr/>
          <p:nvPr/>
        </p:nvSpPr>
        <p:spPr>
          <a:xfrm flipV="1">
            <a:off x="8415360" y="4856040"/>
            <a:ext cx="469800" cy="433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1171440" y="1066680"/>
            <a:ext cx="6658200" cy="5670720"/>
            <a:chOff x="1171440" y="1066680"/>
            <a:chExt cx="6658200" cy="5670720"/>
          </a:xfrm>
        </p:grpSpPr>
        <p:pic>
          <p:nvPicPr>
            <p:cNvPr id="172" name="Picture 2" descr="CAD QD_All Measures"/>
            <p:cNvPicPr/>
            <p:nvPr/>
          </p:nvPicPr>
          <p:blipFill>
            <a:blip r:embed="rId1"/>
            <a:srcRect l="591" t="0" r="11158" b="0"/>
            <a:stretch/>
          </p:blipFill>
          <p:spPr>
            <a:xfrm>
              <a:off x="1171440" y="1079640"/>
              <a:ext cx="6658200" cy="5657760"/>
            </a:xfrm>
            <a:prstGeom prst="rect">
              <a:avLst/>
            </a:prstGeom>
            <a:ln w="6480">
              <a:solidFill>
                <a:srgbClr val="000000"/>
              </a:solidFill>
              <a:miter/>
            </a:ln>
          </p:spPr>
        </p:pic>
        <p:sp>
          <p:nvSpPr>
            <p:cNvPr id="173" name="Rectangle 4"/>
            <p:cNvSpPr/>
            <p:nvPr/>
          </p:nvSpPr>
          <p:spPr>
            <a:xfrm>
              <a:off x="5638680" y="1066680"/>
              <a:ext cx="1600200" cy="162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"/>
            <p:cNvSpPr/>
            <p:nvPr/>
          </p:nvSpPr>
          <p:spPr>
            <a:xfrm>
              <a:off x="5605560" y="1244520"/>
              <a:ext cx="2085840" cy="1587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486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CAD Quality Dashboard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76" name="Picture 5" descr="CAD QD_All Measures"/>
          <p:cNvPicPr/>
          <p:nvPr/>
        </p:nvPicPr>
        <p:blipFill>
          <a:blip r:embed="rId2"/>
          <a:srcRect l="59809" t="48263" r="11158" b="26152"/>
          <a:stretch/>
        </p:blipFill>
        <p:spPr>
          <a:xfrm>
            <a:off x="4133880" y="2554200"/>
            <a:ext cx="4781520" cy="31593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762120" y="1143000"/>
            <a:ext cx="7605720" cy="5373720"/>
            <a:chOff x="762120" y="1143000"/>
            <a:chExt cx="7605720" cy="5373720"/>
          </a:xfrm>
        </p:grpSpPr>
        <p:pic>
          <p:nvPicPr>
            <p:cNvPr id="178" name="Picture 2" descr="CAD QD_Blood Pressure"/>
            <p:cNvPicPr/>
            <p:nvPr/>
          </p:nvPicPr>
          <p:blipFill>
            <a:blip r:embed="rId1"/>
            <a:srcRect l="196" t="12249" r="6655" b="0"/>
            <a:stretch/>
          </p:blipFill>
          <p:spPr>
            <a:xfrm>
              <a:off x="762120" y="1143000"/>
              <a:ext cx="7605720" cy="5373720"/>
            </a:xfrm>
            <a:prstGeom prst="rect">
              <a:avLst/>
            </a:prstGeom>
            <a:ln w="6480">
              <a:solidFill>
                <a:srgbClr val="000000"/>
              </a:solidFill>
              <a:miter/>
            </a:ln>
          </p:spPr>
        </p:pic>
        <p:sp>
          <p:nvSpPr>
            <p:cNvPr id="179" name="Rectangle 4"/>
            <p:cNvSpPr/>
            <p:nvPr/>
          </p:nvSpPr>
          <p:spPr>
            <a:xfrm>
              <a:off x="932040" y="4159080"/>
              <a:ext cx="2192040" cy="2318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486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CAD Quality Dashboard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4800600" y="2743200"/>
            <a:ext cx="9907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781680" y="2438280"/>
            <a:ext cx="2210040" cy="642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ize by deficiency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5334120" y="320040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8153280" y="32004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533520" y="1106640"/>
            <a:ext cx="7848360" cy="5406840"/>
            <a:chOff x="533520" y="1106640"/>
            <a:chExt cx="7848360" cy="5406840"/>
          </a:xfrm>
        </p:grpSpPr>
        <p:pic>
          <p:nvPicPr>
            <p:cNvPr id="186" name="Picture 2" descr="CAD QD_Uncontrolled BP with 0-1 Visits Last Year"/>
            <p:cNvPicPr/>
            <p:nvPr/>
          </p:nvPicPr>
          <p:blipFill>
            <a:blip r:embed="rId1"/>
            <a:srcRect l="0" t="10374" r="2436" b="0"/>
            <a:stretch/>
          </p:blipFill>
          <p:spPr>
            <a:xfrm>
              <a:off x="533520" y="1106640"/>
              <a:ext cx="7848360" cy="5406840"/>
            </a:xfrm>
            <a:prstGeom prst="rect">
              <a:avLst/>
            </a:prstGeom>
            <a:ln w="6480">
              <a:solidFill>
                <a:srgbClr val="000000"/>
              </a:solidFill>
              <a:miter/>
            </a:ln>
          </p:spPr>
        </p:pic>
        <p:sp>
          <p:nvSpPr>
            <p:cNvPr id="187" name="Rectangle 4"/>
            <p:cNvSpPr/>
            <p:nvPr/>
          </p:nvSpPr>
          <p:spPr>
            <a:xfrm>
              <a:off x="685800" y="5910120"/>
              <a:ext cx="2192400" cy="567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486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CAD Quality Dashboard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676520" y="1066680"/>
            <a:ext cx="6019560" cy="6426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. For example, patients with blood pressure not at goal who have had 0 or 1 visit in the past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1905120" y="1828800"/>
            <a:ext cx="1218960" cy="1066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276720" y="3276720"/>
            <a:ext cx="1066680" cy="91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85800" y="4876920"/>
            <a:ext cx="48769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ing on name opens patient’s Smart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Overview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artners Healthcare System, Bost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Performance Medic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PM-X Informatics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eporting in an EM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MR Report Cen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Dashbo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arly experiences with Quality Dashboard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Q&amp;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Lessons Learned: </a:t>
            </a:r>
            <a:br>
              <a:rPr sz="3400"/>
            </a:b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Quality Dashboards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iggest barriers to use are related to the health care syste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drivers (carrots and sticks) to QD u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 for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99ff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imbursement for cas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hronic diseases, QD may be more effective as a case management t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Lessons Learned: </a:t>
            </a:r>
            <a:br>
              <a:rPr sz="3400"/>
            </a:b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Quality Dashboards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ther major barrier is related to quality of the dat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olute need to tie patients to providers, edit panels, deal with missing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n’t change behavior unless the data are believ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ig societal trends will drive quality measurem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110000"/>
              <a:buFont typeface="Times New Roman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providers be proactive? (EHR data better than billing 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Conclusions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mart Forms and Quality Dashboards offer new workflow and decision support methods to manage acute and chronic medical conditions using EHR technolog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oth have potential to improve care, demonstrate EHR value to providers, and drive EHR us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uch work remains to be don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Where Are We?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00" name="Picture 3" descr="You_are_here"/>
          <p:cNvPicPr/>
          <p:nvPr/>
        </p:nvPicPr>
        <p:blipFill>
          <a:blip r:embed="rId1"/>
          <a:stretch/>
        </p:blipFill>
        <p:spPr>
          <a:xfrm>
            <a:off x="1066680" y="1763640"/>
            <a:ext cx="6788160" cy="44848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7315200" y="5410080"/>
            <a:ext cx="1676520" cy="600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CITLlogo"/>
          <p:cNvPicPr/>
          <p:nvPr/>
        </p:nvPicPr>
        <p:blipFill>
          <a:blip r:embed="rId2"/>
          <a:stretch/>
        </p:blipFill>
        <p:spPr>
          <a:xfrm>
            <a:off x="7523280" y="6095880"/>
            <a:ext cx="1261800" cy="60660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6"/>
          <p:cNvGrpSpPr/>
          <p:nvPr/>
        </p:nvGrpSpPr>
        <p:grpSpPr>
          <a:xfrm>
            <a:off x="7391520" y="4572000"/>
            <a:ext cx="1371600" cy="762120"/>
            <a:chOff x="7391520" y="4572000"/>
            <a:chExt cx="1371600" cy="762120"/>
          </a:xfrm>
        </p:grpSpPr>
        <p:sp>
          <p:nvSpPr>
            <p:cNvPr id="204" name="Rectangle 7"/>
            <p:cNvSpPr/>
            <p:nvPr/>
          </p:nvSpPr>
          <p:spPr>
            <a:xfrm>
              <a:off x="7391520" y="4572000"/>
              <a:ext cx="13716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" name="Picture 8" descr="Harvard Medical School Shield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7848720" y="4648320"/>
              <a:ext cx="571320" cy="647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6" name="Picture 9" descr="AHRQ"/>
          <p:cNvPicPr/>
          <p:nvPr/>
        </p:nvPicPr>
        <p:blipFill>
          <a:blip r:embed="rId5"/>
          <a:stretch/>
        </p:blipFill>
        <p:spPr>
          <a:xfrm>
            <a:off x="304920" y="5943600"/>
            <a:ext cx="2638440" cy="733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Thank you!</a:t>
            </a:r>
            <a:br>
              <a:rPr sz="3400"/>
            </a:b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Blackford Middleton, MD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bmiddleton1@partners.org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Partners HealthCare System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en hospitals, 7000 physicia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$6.4B in revenu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4M outpatient visits and 160,000 admissions/yea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$1B in biomedical research annuall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eaching affiliate of the Harvard Medical Schoo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726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nded by the Brigham and Women’s Hospital and the Massachusetts General Hospita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imes New Roman"/>
              </a:rPr>
              <a:t>Information Systems Descriptive Numbers</a:t>
            </a:r>
            <a:endParaRPr b="0" lang="en-US" sz="31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7524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30280" indent="-530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ng budget (FY07) = $158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 budget (FY08) = $45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users = 5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ces on the network = 7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n the Partners network = 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0280" indent="-530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Medical Record physician users = 3,800 (&gt; 90% of AMC PCPs; ~ 50% of Specialis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419360" y="17524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s with data in the clinical data repository = 4,0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images on line = 450,0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s entered hourly through Computerized Provider Order Entry (across Partners) = 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R (ambulatory EMR) transactions per day = 1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s to the Help Desk each month = 1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76320" y="-90360"/>
            <a:ext cx="7772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80880" y="19494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PM comprises five System-wide projects with one common goal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457200" y="3016080"/>
            <a:ext cx="7620120" cy="2977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208455" dir="7653753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To deliver better care to patien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5160" indent="-23796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Care that i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2440" indent="-338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Saf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2440" indent="-338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Better coordin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2440" indent="-3380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More reliable in delivering proven interven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5160" indent="-23796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Systems that support providers in “doing the right thing.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What is High Performance Medicine?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7" name="Picture 6" descr="James Mongan"/>
          <p:cNvPicPr/>
          <p:nvPr/>
        </p:nvPicPr>
        <p:blipFill>
          <a:blip r:embed="rId1"/>
          <a:stretch/>
        </p:blipFill>
        <p:spPr>
          <a:xfrm>
            <a:off x="6553080" y="312408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8"/>
          <p:cNvSpPr/>
          <p:nvPr/>
        </p:nvSpPr>
        <p:spPr>
          <a:xfrm>
            <a:off x="3429000" y="63244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99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ff9900"/>
                </a:solidFill>
                <a:uFillTx/>
                <a:latin typeface="Times New Roman"/>
                <a:hlinkClick r:id="rId3"/>
              </a:rPr>
              <a:t>www.partners.org/about/hpm.ht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6396840" y="449568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r. Jim Mong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52280" y="-90360"/>
            <a:ext cx="7772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828800" y="2057400"/>
            <a:ext cx="7080120" cy="48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vesting in quality and utilization 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systems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cs Infrastructure (data, knowledge, servi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nhancing patient safe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 reducing medication errors system-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nhancing uniform high qua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 measuring performance to benchmark for select inpatient and outpatient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panding disease management progra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y supporting activities for certain patients with chronic ill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mproving cost effectiven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rough managing utilization trends and analysis of 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12640" y="3200400"/>
            <a:ext cx="11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78360" y="571500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6"/>
          <p:cNvSpPr/>
          <p:nvPr/>
        </p:nvSpPr>
        <p:spPr>
          <a:xfrm>
            <a:off x="846000" y="3581280"/>
            <a:ext cx="441360" cy="1981440"/>
          </a:xfrm>
          <a:prstGeom prst="upDownArrow">
            <a:avLst>
              <a:gd name="adj1" fmla="val 29657"/>
              <a:gd name="adj2" fmla="val 93841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7"/>
          <p:cNvSpPr/>
          <p:nvPr/>
        </p:nvSpPr>
        <p:spPr>
          <a:xfrm>
            <a:off x="1676520" y="3205080"/>
            <a:ext cx="73911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8"/>
          <p:cNvSpPr/>
          <p:nvPr/>
        </p:nvSpPr>
        <p:spPr>
          <a:xfrm rot="16200000">
            <a:off x="-1293840" y="426564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itiative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76320" y="25146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5486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What are the High Performance Medicine Initiatives?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1447920"/>
            <a:ext cx="9144000" cy="9144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3640" y="380880"/>
            <a:ext cx="821052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Discrete vs. Shared: </a:t>
            </a:r>
            <a:br>
              <a:rPr sz="2700"/>
            </a:br>
            <a:r>
              <a:rPr b="0" lang="en-US" sz="2700" spc="-1" strike="noStrike">
                <a:solidFill>
                  <a:srgbClr val="000099"/>
                </a:solidFill>
                <a:latin typeface="Times New Roman"/>
              </a:rPr>
              <a:t>Data, Knowledge, Logic</a:t>
            </a:r>
            <a:endParaRPr b="0" lang="en-US" sz="27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66680" y="1447920"/>
            <a:ext cx="88250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Many Partners’ applications utilize discrete data, logic and knowledge or rules; most are not integrated across sites – creating islands of information and supporting varying levels of functionality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1219320" y="2438280"/>
            <a:ext cx="6324480" cy="42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1447920"/>
            <a:ext cx="9144000" cy="745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453960"/>
            <a:ext cx="520884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The Future: Shared Data, Knowledge, and Logic – Partners SOA Strategy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1050840" y="2332080"/>
            <a:ext cx="6950160" cy="452592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1360440" y="2374920"/>
            <a:ext cx="6386400" cy="209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Common ‘Shell’ or Clinical Por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1371600" y="4435560"/>
            <a:ext cx="6356520" cy="1536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hared Logic, Dictionaries, and Rules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nterprise Clinical Services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edication Services and Knowledge Managemen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7"/>
          <p:cNvGrpSpPr/>
          <p:nvPr/>
        </p:nvGrpSpPr>
        <p:grpSpPr>
          <a:xfrm>
            <a:off x="5200560" y="4846680"/>
            <a:ext cx="1839600" cy="920520"/>
            <a:chOff x="5200560" y="4846680"/>
            <a:chExt cx="1839600" cy="920520"/>
          </a:xfrm>
        </p:grpSpPr>
        <p:grpSp>
          <p:nvGrpSpPr>
            <p:cNvPr id="89" name="Group 8"/>
            <p:cNvGrpSpPr/>
            <p:nvPr/>
          </p:nvGrpSpPr>
          <p:grpSpPr>
            <a:xfrm>
              <a:off x="5200560" y="4846680"/>
              <a:ext cx="1839600" cy="920520"/>
              <a:chOff x="5200560" y="4846680"/>
              <a:chExt cx="1839600" cy="920520"/>
            </a:xfrm>
          </p:grpSpPr>
          <p:sp>
            <p:nvSpPr>
              <p:cNvPr id="90" name="Gear"/>
              <p:cNvSpPr/>
              <p:nvPr/>
            </p:nvSpPr>
            <p:spPr>
              <a:xfrm>
                <a:off x="6220440" y="4846680"/>
                <a:ext cx="819720" cy="42228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AutoShape 10"/>
              <p:cNvSpPr/>
              <p:nvPr/>
            </p:nvSpPr>
            <p:spPr>
              <a:xfrm>
                <a:off x="5200560" y="5020560"/>
                <a:ext cx="979920" cy="5047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AutoShape 11"/>
              <p:cNvSpPr/>
              <p:nvPr/>
            </p:nvSpPr>
            <p:spPr>
              <a:xfrm>
                <a:off x="5836320" y="5206680"/>
                <a:ext cx="1089360" cy="5605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Text Box 12"/>
            <p:cNvSpPr/>
            <p:nvPr/>
          </p:nvSpPr>
          <p:spPr>
            <a:xfrm>
              <a:off x="5660280" y="5213520"/>
              <a:ext cx="118008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OGIC</a:t>
              </a:r>
              <a:br>
                <a:rPr sz="16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Service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AutoShape 13"/>
          <p:cNvSpPr/>
          <p:nvPr/>
        </p:nvSpPr>
        <p:spPr>
          <a:xfrm>
            <a:off x="1460520" y="6124680"/>
            <a:ext cx="6130800" cy="61092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nterprise Repository (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oblems, Meds, Allergies, Labs, Orders, Notes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2278080" y="4937040"/>
            <a:ext cx="2316240" cy="9176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ction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d Rules Dat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Knowledgeba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15"/>
          <p:cNvGrpSpPr/>
          <p:nvPr/>
        </p:nvGrpSpPr>
        <p:grpSpPr>
          <a:xfrm>
            <a:off x="1460520" y="2943360"/>
            <a:ext cx="6063840" cy="1284120"/>
            <a:chOff x="1460520" y="2943360"/>
            <a:chExt cx="6063840" cy="1284120"/>
          </a:xfrm>
        </p:grpSpPr>
        <p:sp>
          <p:nvSpPr>
            <p:cNvPr id="97" name="AutoShape 16"/>
            <p:cNvSpPr/>
            <p:nvPr/>
          </p:nvSpPr>
          <p:spPr>
            <a:xfrm>
              <a:off x="1460520" y="2943360"/>
              <a:ext cx="1703520" cy="12841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MGH O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Group 17"/>
            <p:cNvGrpSpPr/>
            <p:nvPr/>
          </p:nvGrpSpPr>
          <p:grpSpPr>
            <a:xfrm>
              <a:off x="1869120" y="3310200"/>
              <a:ext cx="990720" cy="856080"/>
              <a:chOff x="1869120" y="3310200"/>
              <a:chExt cx="990720" cy="856080"/>
            </a:xfrm>
          </p:grpSpPr>
          <p:sp>
            <p:nvSpPr>
              <p:cNvPr id="99" name="monitor"/>
              <p:cNvSpPr/>
              <p:nvPr/>
            </p:nvSpPr>
            <p:spPr>
              <a:xfrm>
                <a:off x="1869120" y="3310200"/>
                <a:ext cx="945360" cy="85608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Text Box 19"/>
              <p:cNvSpPr/>
              <p:nvPr/>
            </p:nvSpPr>
            <p:spPr>
              <a:xfrm>
                <a:off x="2010600" y="3515040"/>
                <a:ext cx="8492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AutoShape 20"/>
            <p:cNvSpPr/>
            <p:nvPr/>
          </p:nvSpPr>
          <p:spPr>
            <a:xfrm>
              <a:off x="3640680" y="2943360"/>
              <a:ext cx="1703520" cy="12841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BWH O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AutoShape 21"/>
            <p:cNvSpPr/>
            <p:nvPr/>
          </p:nvSpPr>
          <p:spPr>
            <a:xfrm>
              <a:off x="5821200" y="2943360"/>
              <a:ext cx="1703160" cy="128412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LM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Group 22"/>
            <p:cNvGrpSpPr/>
            <p:nvPr/>
          </p:nvGrpSpPr>
          <p:grpSpPr>
            <a:xfrm>
              <a:off x="3988800" y="3246480"/>
              <a:ext cx="1096560" cy="919800"/>
              <a:chOff x="3988800" y="3246480"/>
              <a:chExt cx="1096560" cy="919800"/>
            </a:xfrm>
          </p:grpSpPr>
          <p:sp>
            <p:nvSpPr>
              <p:cNvPr id="104" name="monitor"/>
              <p:cNvSpPr/>
              <p:nvPr/>
            </p:nvSpPr>
            <p:spPr>
              <a:xfrm>
                <a:off x="3988800" y="3246480"/>
                <a:ext cx="1046880" cy="91980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Text Box 24"/>
              <p:cNvSpPr/>
              <p:nvPr/>
            </p:nvSpPr>
            <p:spPr>
              <a:xfrm>
                <a:off x="4144320" y="3465720"/>
                <a:ext cx="941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Group 25"/>
            <p:cNvGrpSpPr/>
            <p:nvPr/>
          </p:nvGrpSpPr>
          <p:grpSpPr>
            <a:xfrm>
              <a:off x="6222960" y="3246480"/>
              <a:ext cx="1096560" cy="919800"/>
              <a:chOff x="6222960" y="3246480"/>
              <a:chExt cx="1096560" cy="919800"/>
            </a:xfrm>
          </p:grpSpPr>
          <p:sp>
            <p:nvSpPr>
              <p:cNvPr id="107" name="monitor"/>
              <p:cNvSpPr/>
              <p:nvPr/>
            </p:nvSpPr>
            <p:spPr>
              <a:xfrm>
                <a:off x="6222960" y="3246480"/>
                <a:ext cx="1046880" cy="91980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Text Box 27"/>
              <p:cNvSpPr/>
              <p:nvPr/>
            </p:nvSpPr>
            <p:spPr>
              <a:xfrm>
                <a:off x="6378480" y="3465720"/>
                <a:ext cx="941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Rectangle 28"/>
          <p:cNvSpPr/>
          <p:nvPr/>
        </p:nvSpPr>
        <p:spPr>
          <a:xfrm>
            <a:off x="92160" y="1477800"/>
            <a:ext cx="9144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Future clinical applications will take advantage of shared repositories of enterprise data, knowledge, and logic, in a </a:t>
            </a:r>
            <a:r>
              <a:rPr b="1" i="1" lang="en-US" sz="1900" spc="-1" strike="noStrike">
                <a:solidFill>
                  <a:srgbClr val="ffffff"/>
                </a:solidFill>
                <a:latin typeface="Times New Roman"/>
              </a:rPr>
              <a:t>services-oriented architect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3"/>
          <p:cNvGrpSpPr/>
          <p:nvPr/>
        </p:nvGrpSpPr>
        <p:grpSpPr>
          <a:xfrm>
            <a:off x="1954080" y="0"/>
            <a:ext cx="5437080" cy="947160"/>
            <a:chOff x="1954080" y="0"/>
            <a:chExt cx="5437080" cy="947160"/>
          </a:xfrm>
        </p:grpSpPr>
        <p:sp>
          <p:nvSpPr>
            <p:cNvPr id="112" name="Text Box 4"/>
            <p:cNvSpPr/>
            <p:nvPr/>
          </p:nvSpPr>
          <p:spPr>
            <a:xfrm>
              <a:off x="1954080" y="0"/>
              <a:ext cx="4741920" cy="947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Secure Clinical Communic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nd Notification of Resul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6858000" y="511200"/>
              <a:ext cx="533160" cy="3049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Text Box 6"/>
          <p:cNvSpPr/>
          <p:nvPr/>
        </p:nvSpPr>
        <p:spPr>
          <a:xfrm>
            <a:off x="4110840" y="4114800"/>
            <a:ext cx="371628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tuitive Chart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479160" y="1600200"/>
            <a:ext cx="325008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utomatic Remin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969080" y="2133720"/>
            <a:ext cx="321048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mmary Flowshe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166400" y="5410080"/>
            <a:ext cx="31435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ded Clinic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375160" y="5791320"/>
            <a:ext cx="33703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ustomizable Desk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21:56:52Z</dcterms:created>
  <dc:creator>Information Systems</dc:creator>
  <dc:description/>
  <dc:language>en-US</dc:language>
  <cp:lastModifiedBy>Teresa.Zayas</cp:lastModifiedBy>
  <dcterms:modified xsi:type="dcterms:W3CDTF">2009-04-02T19:34:05Z</dcterms:modified>
  <cp:revision>26</cp:revision>
  <dc:subject/>
  <dc:title>PowerPoint Presentation</dc:title>
</cp:coreProperties>
</file>