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.png" ContentType="image/png"/>
  <Override PartName="/ppt/media/image3.jpeg" ContentType="image/jpeg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6D55-3BC1-4E87-B3D9-2DDFE0BCE4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1BBF-AC9F-4F11-B229-AE6EDD43E7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1C73-2C7F-4D40-B720-D0E79341BE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787A-704C-4CD2-BB7C-677CBADAB8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65BD-54DF-4931-93FA-6F8FF6D3FC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7D5A-540B-4E22-9F82-F41547360D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47EA-7C17-462E-9DC8-D573D060EF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FE58-A482-4042-8FA0-5852F438ED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26E8-1B6B-48C1-B8A6-3CE6257A72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4DBF-55A7-4E41-A0BD-7D9882E8E8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924F-0318-4047-B404-F77EE7949A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5EC0-8333-4DB0-AB2B-A4EE3415AC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E099-3971-4090-8B36-7CD89E585F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8F8A-0630-4815-9C78-DB43485F50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4A13-6564-44DA-8E60-F20ABE739A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BF58-4D2D-4B05-89DD-FF7879FA96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0F41-9026-46C5-86F7-59119CD8E1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5104-9D3A-4068-8CBB-ABA5ACABB9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E25A-0CBC-4015-B4AB-DA828AFDDE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58E0-BE85-45F1-9227-C0BBF4C69D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CA93-DDAF-41CB-B2FF-BE9D031FB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488C-20B1-4D0B-8817-7D45891E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5F04-B5B2-49C9-81E3-815EA1226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EC9A-FFE7-435C-8B0A-E186349E3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8088-0AF7-48F6-80A5-D78E0499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5E96-3560-4B91-8B0D-2B8C52A9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0586-E3D6-49E5-8C5F-1462B48A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F1FC-103E-42CB-A575-72DECD47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14A1-34A7-4753-BD84-D0E00945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EA08-C1A1-4330-960D-813BD6A3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ADFF-9F43-4E6E-B263-630AB00A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8868-7BCC-4B4E-9E9E-E76E69F1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68CC-A0F0-419F-9ACC-9D9A63E617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52280" y="-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7"/>
          <p:cNvSpPr/>
          <p:nvPr/>
        </p:nvSpPr>
        <p:spPr>
          <a:xfrm>
            <a:off x="914400" y="2133720"/>
            <a:ext cx="72388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ural Hospital Collaborative for Excellence Using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HRQ UC1 HS154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4572000" y="51055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thy Mechler, MS, RN, CPH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as A&amp;M University Health Science Ce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ral and Community Health Instit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1066680" y="1752480"/>
            <a:ext cx="7086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1600200" y="1295280"/>
            <a:ext cx="63244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/>
          <p:cNvSpPr/>
          <p:nvPr/>
        </p:nvSpPr>
        <p:spPr>
          <a:xfrm>
            <a:off x="4114800" y="3049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What have we learn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914400" y="1447920"/>
            <a:ext cx="8458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exports were challenging for rural 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ucation and Support is critical to suc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ceeded budgetary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 numbers have been an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mited resources:  Budget an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mited 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power, fina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ependent, have a tendency to resist outs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l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rt term view is focused on revenue to surv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t problems with patient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nowledge is broad but superf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of the hospitals do not take the time to code self paying patients due to no change or impact on their reimbur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152280" y="31680"/>
            <a:ext cx="880272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4"/>
          <p:cNvSpPr/>
          <p:nvPr/>
        </p:nvSpPr>
        <p:spPr>
          <a:xfrm>
            <a:off x="1752480" y="27432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What are the hospitals say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4"/>
          <p:cNvSpPr/>
          <p:nvPr/>
        </p:nvSpPr>
        <p:spPr>
          <a:xfrm>
            <a:off x="1523880" y="12952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How are the hospitals using the dat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902" descr=""/>
          <p:cNvPicPr/>
          <p:nvPr/>
        </p:nvPicPr>
        <p:blipFill>
          <a:blip r:embed="rId2"/>
          <a:stretch/>
        </p:blipFill>
        <p:spPr>
          <a:xfrm>
            <a:off x="32613480" y="2362320"/>
            <a:ext cx="5227920" cy="3228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02" descr=""/>
          <p:cNvPicPr/>
          <p:nvPr/>
        </p:nvPicPr>
        <p:blipFill>
          <a:blip r:embed="rId3"/>
          <a:stretch/>
        </p:blipFill>
        <p:spPr>
          <a:xfrm>
            <a:off x="609480" y="1981080"/>
            <a:ext cx="7385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Content Placeholder 7" descr="Picture1.png"/>
          <p:cNvPicPr/>
          <p:nvPr/>
        </p:nvPicPr>
        <p:blipFill>
          <a:blip r:embed="rId2"/>
          <a:stretch/>
        </p:blipFill>
        <p:spPr>
          <a:xfrm>
            <a:off x="923760" y="1905120"/>
            <a:ext cx="7948800" cy="42670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8"/>
          <p:cNvSpPr/>
          <p:nvPr/>
        </p:nvSpPr>
        <p:spPr>
          <a:xfrm>
            <a:off x="3581280" y="68580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Types of Assistance U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Quality of Exper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Content Placeholder 6" descr="Picture2.emf"/>
          <p:cNvPicPr/>
          <p:nvPr/>
        </p:nvPicPr>
        <p:blipFill>
          <a:blip r:embed="rId2"/>
          <a:stretch/>
        </p:blipFill>
        <p:spPr>
          <a:xfrm>
            <a:off x="1281240" y="1828800"/>
            <a:ext cx="7272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Box 5"/>
          <p:cNvSpPr/>
          <p:nvPr/>
        </p:nvSpPr>
        <p:spPr>
          <a:xfrm>
            <a:off x="3200400" y="7621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066680" y="2057400"/>
            <a:ext cx="7391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hnology evaluation ongoing (qualitativ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ntit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ably improved data integr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stainability plan under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tional funding for ambulatory data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data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9"/>
          <p:cNvSpPr/>
          <p:nvPr/>
        </p:nvSpPr>
        <p:spPr>
          <a:xfrm>
            <a:off x="1981080" y="1828800"/>
            <a:ext cx="5715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tact Infor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athy Mech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979.862.5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echler@tamhsc.edu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43400" y="380880"/>
            <a:ext cx="44956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Grant 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rcRect l="-800" t="-790" r="-800" b="-790"/>
          <a:stretch/>
        </p:blipFill>
        <p:spPr>
          <a:xfrm>
            <a:off x="2286000" y="1371600"/>
            <a:ext cx="1828800" cy="1155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New logo cobalt blue"/>
          <p:cNvPicPr/>
          <p:nvPr/>
        </p:nvPicPr>
        <p:blipFill>
          <a:blip r:embed="rId3"/>
          <a:stretch/>
        </p:blipFill>
        <p:spPr>
          <a:xfrm>
            <a:off x="2362320" y="4038480"/>
            <a:ext cx="1218960" cy="1314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4"/>
          <a:stretch/>
        </p:blipFill>
        <p:spPr>
          <a:xfrm>
            <a:off x="2362320" y="2666880"/>
            <a:ext cx="838080" cy="1266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5"/>
          <a:stretch/>
        </p:blipFill>
        <p:spPr>
          <a:xfrm>
            <a:off x="2362320" y="5486400"/>
            <a:ext cx="1828800" cy="911160"/>
          </a:xfrm>
          <a:prstGeom prst="rect">
            <a:avLst/>
          </a:prstGeom>
          <a:ln w="0">
            <a:noFill/>
          </a:ln>
        </p:spPr>
      </p:pic>
      <p:sp>
        <p:nvSpPr>
          <p:cNvPr id="57" name="TextBox 8"/>
          <p:cNvSpPr/>
          <p:nvPr/>
        </p:nvSpPr>
        <p:spPr>
          <a:xfrm>
            <a:off x="3429000" y="289548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ylor Health Care  System  Institute for Health Care Research &amp; Impr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3733920" y="441972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llas-Fort Worth Hospital Council Data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4343400" y="5715000"/>
            <a:ext cx="441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as Medical Foundation Health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it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3429000" y="12193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Project Object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838080" y="243828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 patient safety and quality of care in rural and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tical access hospitals by provi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ss to web-based state of the art data processing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analytic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ucation and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going support and encouragement specific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formance measurement and using AHRQ quality and safety indicators in their respective performance improvement eff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838080" y="2666880"/>
            <a:ext cx="754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ught basic concepts of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safety &amp; quality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analysis &amp; interpre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a project from each participa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914400" y="1066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Education Cou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3429000" y="10666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Study Elig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1447920" y="2057400"/>
            <a:ext cx="7315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spitals in counties with population ‹1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Medical/Surgical (n=12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itical Access (n=5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igible hospitals – 1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ing  for 62 hospitals – 66 hospit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stu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ree to submit and share administra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ree to abstract and submit CMS C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3048120" y="6094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Participants – 66 Hospi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1122480" y="1600200"/>
            <a:ext cx="6899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1981080" y="4876920"/>
            <a:ext cx="64008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2133720" y="5715000"/>
            <a:ext cx="6400800" cy="3808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1981080" y="6019920"/>
            <a:ext cx="64008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2451240" y="6095880"/>
            <a:ext cx="546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spital Discharge Data, CMS and AHA Quality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905640" y="5638680"/>
            <a:ext cx="27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chnology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7551720" y="5029200"/>
            <a:ext cx="70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6438600" y="5029200"/>
            <a:ext cx="81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nan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5181480" y="5029200"/>
            <a:ext cx="11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per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2246760" y="5105520"/>
            <a:ext cx="25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tient Safety &amp; Quality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 flipV="1">
            <a:off x="1981080" y="456840"/>
            <a:ext cx="304812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7"/>
          <p:cNvSpPr/>
          <p:nvPr/>
        </p:nvSpPr>
        <p:spPr>
          <a:xfrm flipH="1" flipV="1">
            <a:off x="5028840" y="456840"/>
            <a:ext cx="335268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8"/>
          <p:cNvSpPr/>
          <p:nvPr/>
        </p:nvSpPr>
        <p:spPr>
          <a:xfrm>
            <a:off x="5181480" y="3276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9"/>
          <p:cNvSpPr/>
          <p:nvPr/>
        </p:nvSpPr>
        <p:spPr>
          <a:xfrm>
            <a:off x="3048120" y="32767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0"/>
          <p:cNvSpPr/>
          <p:nvPr/>
        </p:nvSpPr>
        <p:spPr>
          <a:xfrm>
            <a:off x="5181480" y="4876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1"/>
          <p:cNvSpPr/>
          <p:nvPr/>
        </p:nvSpPr>
        <p:spPr>
          <a:xfrm>
            <a:off x="7391520" y="4876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2"/>
          <p:cNvSpPr/>
          <p:nvPr/>
        </p:nvSpPr>
        <p:spPr>
          <a:xfrm>
            <a:off x="6324480" y="4876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4"/>
          <p:cNvSpPr/>
          <p:nvPr/>
        </p:nvSpPr>
        <p:spPr>
          <a:xfrm>
            <a:off x="3232440" y="3657600"/>
            <a:ext cx="145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5"/>
          <p:cNvSpPr/>
          <p:nvPr/>
        </p:nvSpPr>
        <p:spPr>
          <a:xfrm>
            <a:off x="5911560" y="3657600"/>
            <a:ext cx="99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ate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7"/>
          <p:cNvSpPr/>
          <p:nvPr/>
        </p:nvSpPr>
        <p:spPr>
          <a:xfrm flipV="1">
            <a:off x="1676520" y="761760"/>
            <a:ext cx="2666880" cy="3886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8"/>
          <p:cNvSpPr/>
          <p:nvPr/>
        </p:nvSpPr>
        <p:spPr>
          <a:xfrm flipH="1" flipV="1">
            <a:off x="5715000" y="685800"/>
            <a:ext cx="2743200" cy="3733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3797280" y="1295280"/>
            <a:ext cx="266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ient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ategic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0"/>
          <p:cNvSpPr/>
          <p:nvPr/>
        </p:nvSpPr>
        <p:spPr>
          <a:xfrm rot="10800000">
            <a:off x="1599840" y="5181480"/>
            <a:ext cx="228600" cy="609840"/>
          </a:xfrm>
          <a:custGeom>
            <a:avLst/>
            <a:gdLst>
              <a:gd name="textAreaLeft" fmla="*/ 30600 w 228600"/>
              <a:gd name="textAreaRight" fmla="*/ 198000 w 228600"/>
              <a:gd name="textAreaTop" fmla="*/ 106560 h 609840"/>
              <a:gd name="textAreaBottom" fmla="*/ 4420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3"/>
          <p:cNvSpPr/>
          <p:nvPr/>
        </p:nvSpPr>
        <p:spPr>
          <a:xfrm rot="10800000">
            <a:off x="1599840" y="5867280"/>
            <a:ext cx="228600" cy="609840"/>
          </a:xfrm>
          <a:custGeom>
            <a:avLst/>
            <a:gdLst>
              <a:gd name="textAreaLeft" fmla="*/ 30600 w 228600"/>
              <a:gd name="textAreaRight" fmla="*/ 198000 w 228600"/>
              <a:gd name="textAreaTop" fmla="*/ 106560 h 609840"/>
              <a:gd name="textAreaBottom" fmla="*/ 4420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4"/>
          <p:cNvSpPr/>
          <p:nvPr/>
        </p:nvSpPr>
        <p:spPr>
          <a:xfrm flipH="1" rot="10800000">
            <a:off x="8533440" y="5105160"/>
            <a:ext cx="228600" cy="609480"/>
          </a:xfrm>
          <a:custGeom>
            <a:avLst/>
            <a:gdLst>
              <a:gd name="textAreaLeft" fmla="*/ 30600 w 228600"/>
              <a:gd name="textAreaRight" fmla="*/ 198000 w 22860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5"/>
          <p:cNvSpPr/>
          <p:nvPr/>
        </p:nvSpPr>
        <p:spPr>
          <a:xfrm flipH="1" rot="10800000">
            <a:off x="8457120" y="5790960"/>
            <a:ext cx="228600" cy="609480"/>
          </a:xfrm>
          <a:custGeom>
            <a:avLst/>
            <a:gdLst>
              <a:gd name="textAreaLeft" fmla="*/ 30600 w 228600"/>
              <a:gd name="textAreaRight" fmla="*/ 198000 w 22860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9"/>
          <p:cNvSpPr/>
          <p:nvPr/>
        </p:nvSpPr>
        <p:spPr>
          <a:xfrm>
            <a:off x="609480" y="1752480"/>
            <a:ext cx="221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echnology  Model for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1905120" y="28195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ow the data being use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1523880" y="1371600"/>
            <a:ext cx="6553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23:45:17Z</dcterms:created>
  <dc:creator>RCHI</dc:creator>
  <dc:description/>
  <dc:language>en-US</dc:language>
  <cp:lastModifiedBy>User</cp:lastModifiedBy>
  <dcterms:modified xsi:type="dcterms:W3CDTF">2007-09-26T19:05:50Z</dcterms:modified>
  <cp:revision>74</cp:revision>
  <dc:subject/>
  <dc:title>Slide 1</dc:title>
</cp:coreProperties>
</file>