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14F-3529-4DCD-9824-54F79BDF7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2BFA-99EE-40D8-B88C-1AE5F1CEF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666-32CA-4597-9FBB-0D447FBA7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4475-72BA-4DD5-BC3E-3AE2716A6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4DA-54D8-4C29-B951-7EFED9168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1A00-CBB0-4AB7-A9FB-0229214AC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2399-8E0B-48F4-8F38-0D4B81161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F7B9-38EC-4D31-A623-77BDE6549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9B81-3720-4FF8-9D22-29619A621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4E2-7BDC-45A5-8CE8-8C0DA3E96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EAC5-07D7-4320-BFEA-94EEAEAAA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9B64-052C-4523-AF17-0673787AF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D27-99E0-493D-95C8-F4A91BA0B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2F0-91F9-403F-8065-2B1F7B0DB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CDDC-88F1-4B53-A388-B5DA32B07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FE9-30C5-4B2F-8805-F06AC7B54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3EB-55B6-4117-93DE-A5818799D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BF6-0CE9-42BF-9043-6AA723C1E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A5C-3473-4102-9F2A-F62FD87C4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6066-096E-4AC6-875A-B6D139B05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E93-4C56-412F-85C8-7981D2AA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F76-35E4-49A1-9741-519F8072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390-D669-432E-8D4F-82C1B8B4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B03-25F1-48DA-8D16-19BF179F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543-64C7-45C9-9444-69E6018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327-2133-4DD5-BD07-620D576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F7B-6E1C-4EFE-A2D4-EDFA15B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028-EF31-4AC5-B009-EF49A86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A18-303E-48C7-8DC0-2708105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0A2-FB05-4D1E-A504-85F216A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28F-C739-46EE-B641-7D17E9A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BB3-B924-4477-A7A7-0E05D8A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BDB3-8E89-40AA-9FC2-A74FFEBF9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914400" y="2133720"/>
            <a:ext cx="72388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ral Hospital Collaborative for Excellence 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RQ UC1 HS154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hy Mechler, MS, RN, CP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A&amp;M University Health Science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 and Community Healt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324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1148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at have we lear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914400" y="1447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exports were challenging for rura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and Support is critical to su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eded budgetary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numbers have been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resources:  Budget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power,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, have a tendency to resist out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term view is focused on revenue to surv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blems with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is broad but super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f the hospitals do not take the time to code self paying patients due to no change or impact on their reim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52280" y="31680"/>
            <a:ext cx="880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75248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at are the hospitals say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523880" y="1295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How are the hospitals using the da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02" descr=""/>
          <p:cNvPicPr/>
          <p:nvPr/>
        </p:nvPicPr>
        <p:blipFill>
          <a:blip r:embed="rId2"/>
          <a:stretch/>
        </p:blipFill>
        <p:spPr>
          <a:xfrm>
            <a:off x="32613480" y="2362320"/>
            <a:ext cx="5227920" cy="32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02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738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Content Placeholder 7" descr="Picture1.png"/>
          <p:cNvPicPr/>
          <p:nvPr/>
        </p:nvPicPr>
        <p:blipFill>
          <a:blip r:embed="rId2"/>
          <a:stretch/>
        </p:blipFill>
        <p:spPr>
          <a:xfrm>
            <a:off x="923760" y="1905120"/>
            <a:ext cx="7948800" cy="4267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3581280" y="6858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ypes of Assistanc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Quality of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6" descr="Picture2.emf"/>
          <p:cNvPicPr/>
          <p:nvPr/>
        </p:nvPicPr>
        <p:blipFill>
          <a:blip r:embed="rId2"/>
          <a:stretch/>
        </p:blipFill>
        <p:spPr>
          <a:xfrm>
            <a:off x="1281240" y="1828800"/>
            <a:ext cx="7272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200400" y="762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066680" y="2057400"/>
            <a:ext cx="7391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evaluation ongoing (qualitativ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ably improved data integ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tainability plan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unding for ambulatory data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data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1981080" y="18288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tact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athy Mec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979.862.5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chler@tamhsc.ed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3400" y="3808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Gran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rcRect l="-800" t="-790" r="-800" b="-790"/>
          <a:stretch/>
        </p:blipFill>
        <p:spPr>
          <a:xfrm>
            <a:off x="2286000" y="137160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New logo cobalt blue"/>
          <p:cNvPicPr/>
          <p:nvPr/>
        </p:nvPicPr>
        <p:blipFill>
          <a:blip r:embed="rId3"/>
          <a:stretch/>
        </p:blipFill>
        <p:spPr>
          <a:xfrm>
            <a:off x="2362320" y="4038480"/>
            <a:ext cx="1218960" cy="131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2362320" y="2666880"/>
            <a:ext cx="838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5"/>
          <a:stretch/>
        </p:blipFill>
        <p:spPr>
          <a:xfrm>
            <a:off x="2362320" y="5486400"/>
            <a:ext cx="1828800" cy="911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429000" y="28954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ylor Health Care  System  Institute for Health Care Research &amp;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733920" y="44197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llas-Fort Worth Hospital Council Data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343400" y="571500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as Medical Foundation Health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429000" y="1219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roject Objec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838080" y="2438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patient safety and quality of care in rural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access hospitals by provi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web-based state of the art data processi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nalyt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and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support and encouragement specific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 measurement and using AHRQ quality and safety indicators in their respective performance improvement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838080" y="26668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ght basic concep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&amp;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sis &amp;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a project from each particip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9144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Education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429000" y="1066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tudy Elig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447920" y="2057400"/>
            <a:ext cx="73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pitals in counties with population ‹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Medical/Surgical (n=1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cal Access (n=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hospitals – 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 for 62 hospitals – 66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to submit and share administr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to abstract and submit CMS 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3048120" y="609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articipants – 66 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122480" y="1600200"/>
            <a:ext cx="68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981080" y="4876920"/>
            <a:ext cx="6400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133720" y="5715000"/>
            <a:ext cx="64008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981080" y="6019920"/>
            <a:ext cx="6400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451240" y="609588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pital Discharge Data, CMS and AHA Quality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05640" y="56386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7551720" y="5029200"/>
            <a:ext cx="70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438600" y="502920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5181480" y="5029200"/>
            <a:ext cx="11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246760" y="510552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tient Safety &amp; Quality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V="1">
            <a:off x="1981080" y="456840"/>
            <a:ext cx="304812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 flipV="1">
            <a:off x="5028840" y="456840"/>
            <a:ext cx="335268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181480" y="3276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048120" y="3276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5181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739152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6324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232440" y="3657600"/>
            <a:ext cx="145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5911560" y="3657600"/>
            <a:ext cx="9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 flipV="1">
            <a:off x="1676520" y="761760"/>
            <a:ext cx="2666880" cy="3886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H="1" flipV="1">
            <a:off x="5715000" y="685800"/>
            <a:ext cx="2743200" cy="3733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797280" y="1295280"/>
            <a:ext cx="266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0"/>
          <p:cNvSpPr/>
          <p:nvPr/>
        </p:nvSpPr>
        <p:spPr>
          <a:xfrm rot="10800000">
            <a:off x="1599840" y="5181480"/>
            <a:ext cx="228600" cy="60984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3"/>
          <p:cNvSpPr/>
          <p:nvPr/>
        </p:nvSpPr>
        <p:spPr>
          <a:xfrm rot="10800000">
            <a:off x="1599840" y="5867280"/>
            <a:ext cx="228600" cy="60984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4"/>
          <p:cNvSpPr/>
          <p:nvPr/>
        </p:nvSpPr>
        <p:spPr>
          <a:xfrm flipH="1" rot="10800000">
            <a:off x="8533440" y="510516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5"/>
          <p:cNvSpPr/>
          <p:nvPr/>
        </p:nvSpPr>
        <p:spPr>
          <a:xfrm flipH="1" rot="10800000">
            <a:off x="8457120" y="579096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609480" y="175248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chnology  Model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9051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he data being us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23:45:17Z</dcterms:created>
  <dc:creator>RCHI</dc:creator>
  <dc:description/>
  <dc:language>en-US</dc:language>
  <cp:lastModifiedBy>User</cp:lastModifiedBy>
  <dcterms:modified xsi:type="dcterms:W3CDTF">2007-09-26T19:05:50Z</dcterms:modified>
  <cp:revision>74</cp:revision>
  <dc:subject/>
  <dc:title>Slide 1</dc:title>
</cp:coreProperties>
</file>