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CE16-3BF9-4464-98D3-3203C75D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CC17-B89A-4640-BF89-9517EE7A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657C-5A5F-46E1-8AAC-3B3044C64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02E2-C8D6-46C3-B517-92A3C59BB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4B80-A18D-4FF1-9D28-0657D839D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E559-B955-40D2-8ED7-BC9C0E99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04C5-8321-41A1-A282-AB2F6734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BA79-5902-443A-BF0B-414A1F23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99EB-6896-45B5-8F52-3ADD2811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8322-C00C-4B3D-B8C3-B477122A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9E93-8A6A-409C-BE48-C43F6EA1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A737-39A2-488F-A8BC-62BC3A7F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549B-D64D-43BE-BF94-CA9CF090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F1F9-6AD2-4ABC-B558-72D4E0D0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E4D5-EE7E-43A3-9F6D-5E52B713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588A-B33F-4EFA-A234-DC1DA5063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C8D8-AEBC-4734-9E76-94E195C3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7F3E-1A12-4FE2-86BE-B95E89FE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09C2-69C8-4F4E-9604-61CF7033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200D-9765-4C1D-8E7D-FC4CFE0E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2633-14BC-4980-AB16-D3D949BF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A7E3-24C5-447B-9B51-46F6BCD3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26D2-1822-4001-AA06-0339879C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884B-6E07-40B3-A7F1-E66516B9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047C-A773-47A4-8EB6-1C22378B12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C038-2D08-4F0C-B94D-2C0739A143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8001000" cy="21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rganizational Factors Influencing Patient Safety/Quality in Medical Group Practic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John E. Kralewski, Ph.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University of Minneso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me Findings from 20+ Studies Over the Past 10 Yea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model inclu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en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al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l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ll focus on four outcome studies and then two projects designed to better understand those stu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our Studies Designed to Determine What Makes a Differe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2514240"/>
            <a:ext cx="819288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cription dru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PPSA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MPM costs and patient satisf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ysician payment amount and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Did We Fin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ug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27.7% of prescriptions had erro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buClr>
                <a:srgbClr val="1c1c1c"/>
              </a:buClr>
              <a:buSzPct val="5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.9% if over/under dose left 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ore prescriptions/patient – more erro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ural – more erro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onitor chronic illness – fewer erro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lectronic drug prompts – fewer prescript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Quality culture – fewer erro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hesive culture – fewer erro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hysician payment methods – no influen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ractice size and complexity – no influen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Did We Fin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19288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PP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 patient safety domai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80 practices – range 12% to 63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 practice size – hig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HRs influence Rx records and renew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ortion of revenue from Medicare and Medicaid has negative effect on drug management, but positive on informing patients of rights and encouraging patients to share safety conc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Did We Fin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25905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tient Satisfaction an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MPM costs do not influence satisf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hessive culture – nurse practitioners increase satisfaction; larger practices lower satisf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ian payment, workload, specialty mix, physician age had no influence on satisf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Did We Fin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2819520"/>
            <a:ext cx="769644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ysician Payment and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mount paid to medical practices for services has no influence on quality as measured by claim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Did We Fin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HRs have less influence than expecte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hysician payment (method and amount) has less influence than expecte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lture is important but hard to chang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ractice size is an important factor, complexity unclea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hysician characteristics influence costs but not qualit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19:11:29Z</dcterms:created>
  <dc:creator>jraasch</dc:creator>
  <dc:description/>
  <dc:language>en-US</dc:language>
  <cp:lastModifiedBy>jraasch</cp:lastModifiedBy>
  <dcterms:modified xsi:type="dcterms:W3CDTF">2007-09-25T15:38:22Z</dcterms:modified>
  <cp:revision>5</cp:revision>
  <dc:subject/>
  <dc:title>Organizational Factors Influencing Patient Safety/ Quality in Medical Group Practices</dc:title>
</cp:coreProperties>
</file>