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E0D-C145-4BA2-A316-70050A58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80B-9D03-4933-8E17-74F3B293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660-5D98-49B8-ACCA-E0BA989D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EC7-2906-4BA6-9AD0-DBCA3004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0A4E-8FA5-49B1-B1A2-AA2FF30C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EFA6-A44B-487A-9EF6-966D89EF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CDB6-717B-4C72-83AD-04338BCF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6181-6B20-4D71-9B3B-59ABBBD1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DF53-A98A-4731-BFA5-0655DE9F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C5EE-8134-4396-B7E8-7069DE8C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38A1-60E0-46BB-9E6C-DF1233CC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F55-E7B4-4E77-87CA-5D652E96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EDB9-0598-4434-A544-BF52E640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5BE1-52EE-4BFF-BE9D-823CE47D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3654-4E9E-471B-8B0F-EC9A17AF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1876-D45D-417C-B486-C6276D1E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2643-D40C-454A-B0CF-6FDDCFCC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3AE-B15C-4E49-907B-539DE705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26F-9D01-4E7D-B3CF-CFB5E46D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0C9-7663-4DB0-8CF6-81DBCA2B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8DE-6A06-47F9-B2F3-E4F8B394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BD8-CBCD-4174-ABFA-AD048A57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0F0-A6DB-469F-A848-002583D9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0EB-9673-4F48-A07B-E6F41658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5306-6991-44F9-983B-3E2E33CCFB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671F-656B-4CCA-8AB2-1F1B262CA3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001000" cy="21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rganizational Factors Influencing Patient Safety/Quality in Medical Group Practi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ohn E. Kralewski, Ph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niversity of Minneso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me Findings from 20+ Studies Over the Past 10 Yea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model inclu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al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focus on four outcome studies and then two projects designed to better understand tho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ur Studies Designed to Determine What Makes a Differ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819288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cription dru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PSA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PM costs and patient satisf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ian payment amount and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ug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7.7% of prescriptions had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buClr>
                <a:srgbClr val="1c1c1c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.9% if over/under dose left 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re prescriptions/patient – more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ural – more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nitor chronic illness – fewer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ectronic drug prompts – fewer prescrip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ality culture – fewer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hesive culture – fewer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hysician payment methods – no influ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actice size and complexity – no influ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928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P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 patient safety dom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80 practices – range 12% to 6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 practice size – hig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HRs influence Rx records and renew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rtion of revenue from Medicare and Medicaid has negative effect on drug management, but positive on informing patients of rights and encouraging patients to share safety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ient Satisfaction an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MPM costs do not influence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hessive culture – nurse practitioners increase satisfaction; larger practices lower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ian payment, workload, specialty mix, physician age had no influence on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819520"/>
            <a:ext cx="76964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ian Payment and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mount paid to medical practices for services has no influence on quality as measured by claim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HRs have less influence than expec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hysician payment (method and amount) has less influence than expec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lture is important but hard to chang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actice size is an important factor, complexity uncle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hysician characteristics influence costs but not qua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9:11:29Z</dcterms:created>
  <dc:creator>jraasch</dc:creator>
  <dc:description/>
  <dc:language>en-US</dc:language>
  <cp:lastModifiedBy>jraasch</cp:lastModifiedBy>
  <dcterms:modified xsi:type="dcterms:W3CDTF">2007-09-25T15:38:22Z</dcterms:modified>
  <cp:revision>5</cp:revision>
  <dc:subject/>
  <dc:title>Organizational Factors Influencing Patient Safety/ Quality in Medical Group Practices</dc:title>
</cp:coreProperties>
</file>