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482-0533-4B1C-A283-027DC8A9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959-3973-405E-9C9F-03D357DB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808-FC63-4327-8ED7-9B33ACC6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270-A1CA-4E51-AEF9-D0AA7F7D8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BA6C-B0A3-4464-AC55-CB73796B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D0E2-CB64-4439-9359-BDF7BCD3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A44E-B7E0-481A-A160-0FAFC3F1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287D-D423-4D41-B176-32BA9AD7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09E6-AFAD-425D-BBA2-9C46BAC9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2C49-F997-424F-936C-5A1D6846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D96E-6288-4C01-B77B-FC51FD2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D68F-B263-4DB5-AFED-B648BA1C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01E2-BE2F-4306-B245-EB758E3E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B453-21A5-4289-A871-C0B4270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888D-DF11-4F4E-8037-994C3C18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8F3A-FE57-4EDA-90A8-2C4576EF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7484-744D-4E86-A1F0-23C07D4A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26F-FD6B-4127-8613-75793BDB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44D-B0AA-4B85-AA61-4CE2CBD9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282-2600-460D-8119-B7E17B6B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67AA-1020-4840-AFA9-C15B9753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16A-4AB1-4EDC-B94E-390D9D61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96FC-27EC-4905-A4D0-EC9E6AD3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F84-525E-4C01-874E-D20156C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8E63-43AF-4FDF-B789-0524896926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3C3B-15DA-40E8-98F3-8B013D16DB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001000" cy="21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rganizational Factors Influencing Patient Safety/Quality in Medical Group Practi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John E. Kralewski, Ph.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niversity of Minneso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me Findings from 20+ Studies Over the Past 10 Yea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model incl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en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al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ll focus on four outcome studies and then two projects designed to better understand tho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our Studies Designed to Determine What Makes a Differe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819288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cription dru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PSA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MPM costs and patient satisf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ian payment amount and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ug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7.7% of prescriptions had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buClr>
                <a:srgbClr val="1c1c1c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.9% if over/under dose left 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re prescriptions/patient – more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ural – more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onitor chronic illness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ectronic drug prompts – fewer prescrip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Quality culture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hesive culture – fewer erro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payment methods – no influ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actice size and complexity – no influenc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9288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PP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 patient safety dom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80 practices – range 12% to 6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 practice size – hig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HRs influence Rx records and renew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5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rtion of revenue from Medicare and Medicaid has negative effect on drug management, but positive on informing patients of rights and encouraging patients to share safety conc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25905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ient Satisfaction an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MPM costs do not influence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hessive culture – nurse practitioners increase satisfaction; larger practices lower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ian payment, workload, specialty mix, physician age had no influence on satisf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819520"/>
            <a:ext cx="76964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ysician Payment and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mount paid to medical practices for services has no influence on quality as measured by claim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id We Fin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HRs have less influence than expec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payment (method and amount) has less influence than expect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lture is important but hard to chang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ractice size is an important factor, complexity unclear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hysician characteristics influence costs but not qualit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19:11:29Z</dcterms:created>
  <dc:creator>jraasch</dc:creator>
  <dc:description/>
  <dc:language>en-US</dc:language>
  <cp:lastModifiedBy>jraasch</cp:lastModifiedBy>
  <dcterms:modified xsi:type="dcterms:W3CDTF">2007-09-25T15:38:22Z</dcterms:modified>
  <cp:revision>5</cp:revision>
  <dc:subject/>
  <dc:title>Organizational Factors Influencing Patient Safety/ Quality in Medical Group Practices</dc:title>
</cp:coreProperties>
</file>