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69C-38E3-4E80-A34F-5F8D45EA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765-BAD5-4D7A-9BEE-A7338AE9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6C4-7011-425B-B2C7-63C698EB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210-FE3B-4F55-B7BA-D05670F4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8F6C-69C1-4745-B9B7-404E95E7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CD8B-2EAF-4457-AADA-77F234A8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2B4B-3C97-4BF3-ABFE-391587B1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A573-B893-4279-B60B-627A19A4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D268-8903-44DB-8223-8C3E8440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04B6-84D9-4C71-A4E8-7F8E0E91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C5D2-ADE7-45EF-B2F4-E128F214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70A-6643-4498-9F4D-84D75D89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2BD6-24E7-4EB1-8078-7CBA9595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C180-BD86-4B92-A1DF-9BBFA159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F70F-4B54-4FF4-A141-57DA2D50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F525-F5FE-43A6-9A02-9D8A265A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D1E7-0D6A-4F81-9CA9-571A7242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E210-C264-4D7E-8E6F-710583D2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603-D15D-4C22-9777-97E5C324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A8A-CF14-4034-921D-533282ED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889-0501-4F0C-9FEC-5D47D2D4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ED9-9CBA-400E-9F0E-86D77C52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184-5343-406B-A302-4D666EE7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8D4-FAC0-445D-AF1C-8A8FBEC6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366F-DB22-4C28-AE3F-BC50A63A4B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F1A1-60E5-4A8B-A445-1C4A6E3A30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001000" cy="21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rganizational Factors Influencing Patient Safety/Quality in Medical Group Practi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ohn E. Kralewski, Ph.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niversity of Minneso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me Findings from 20+ Studies Over the Past 10 Yea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model inclu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en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al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focus on four outcome studies and then two projects designed to better understand tho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ur Studies Designed to Determine What Makes a Differ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819288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cription dru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PSA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MPM costs and patient satisf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ian payment amount and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ug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7.7% of prescriptions had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buClr>
                <a:srgbClr val="1c1c1c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.9% if over/under dose left 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ore prescriptions/patient – more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ural – more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onitor chronic illness – fewer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ectronic drug prompts – fewer prescrip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Quality culture – fewer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hesive culture – fewer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hysician payment methods – no influe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actice size and complexity – no influe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928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P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 patient safety dom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80 practices – range 12% to 63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 practice size – hig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HRs influence Rx records and renew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rtion of revenue from Medicare and Medicaid has negative effect on drug management, but positive on informing patients of rights and encouraging patients to share safety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ient Satisfaction an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MPM costs do not influence satisf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hessive culture – nurse practitioners increase satisfaction; larger practices lower satisf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ian payment, workload, specialty mix, physician age had no influence on satisf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819520"/>
            <a:ext cx="76964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ian Payment and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mount paid to medical practices for services has no influence on quality as measured by claim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HRs have less influence than expect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hysician payment (method and amount) has less influence than expect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lture is important but hard to chang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actice size is an important factor, complexity uncle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hysician characteristics influence costs but not qual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9:11:29Z</dcterms:created>
  <dc:creator>jraasch</dc:creator>
  <dc:description/>
  <dc:language>en-US</dc:language>
  <cp:lastModifiedBy>jraasch</cp:lastModifiedBy>
  <dcterms:modified xsi:type="dcterms:W3CDTF">2007-09-25T15:38:22Z</dcterms:modified>
  <cp:revision>5</cp:revision>
  <dc:subject/>
  <dc:title>Organizational Factors Influencing Patient Safety/ Quality in Medical Group Practices</dc:title>
</cp:coreProperties>
</file>