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F7BC-9057-4BE9-AC50-E818474A5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309B-8B62-4C32-977E-E0E6C8C2E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36520" y="689040"/>
            <a:ext cx="4686480" cy="351468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9080" y="4432320"/>
            <a:ext cx="5122800" cy="420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sl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271080"/>
            <a:ext cx="7620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76201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42640" y="3766680"/>
            <a:ext cx="76201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271080"/>
            <a:ext cx="7620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47560" y="121932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42640" y="376668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560" y="376668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271080"/>
            <a:ext cx="7620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19160" y="121932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95680" y="121932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42640" y="376668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19160" y="376668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95680" y="376668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271080"/>
            <a:ext cx="7620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42640" y="121932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271080"/>
            <a:ext cx="7620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271080"/>
            <a:ext cx="7620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371844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7560" y="1219320"/>
            <a:ext cx="371844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1080"/>
            <a:ext cx="7620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271080"/>
            <a:ext cx="762012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271080"/>
            <a:ext cx="7620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7560" y="1219320"/>
            <a:ext cx="371844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2640" y="376668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1080"/>
            <a:ext cx="7620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42640" y="121932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271080"/>
            <a:ext cx="7620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371844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7560" y="121932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7560" y="376668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271080"/>
            <a:ext cx="7620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7560" y="121932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42640" y="3766680"/>
            <a:ext cx="76201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271080"/>
            <a:ext cx="7620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76201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42640" y="3766680"/>
            <a:ext cx="76201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271080"/>
            <a:ext cx="7620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7560" y="121932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42640" y="376668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7560" y="376668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271080"/>
            <a:ext cx="7620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19160" y="121932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95680" y="121932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42640" y="376668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19160" y="376668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95680" y="376668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71080"/>
            <a:ext cx="7620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271080"/>
            <a:ext cx="7620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371844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7560" y="1219320"/>
            <a:ext cx="371844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271080"/>
            <a:ext cx="7620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271080"/>
            <a:ext cx="762012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1080"/>
            <a:ext cx="7620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7560" y="1219320"/>
            <a:ext cx="371844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42640" y="376668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1080"/>
            <a:ext cx="7620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371844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7560" y="121932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7560" y="376668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1080"/>
            <a:ext cx="7620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7560" y="121932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42640" y="3766680"/>
            <a:ext cx="76201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271080"/>
            <a:ext cx="7620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121932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8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8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-15840" y="102060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496360" y="646128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2BB1-5529-4A85-8690-020AB3F00F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54056" t="0" r="0" b="0"/>
          <a:stretch/>
        </p:blipFill>
        <p:spPr>
          <a:xfrm>
            <a:off x="-3240" y="6059520"/>
            <a:ext cx="1755720" cy="798480"/>
          </a:xfrm>
          <a:prstGeom prst="rect">
            <a:avLst/>
          </a:prstGeom>
          <a:ln w="0">
            <a:noFill/>
          </a:ln>
        </p:spPr>
      </p:pic>
      <p:grpSp>
        <p:nvGrpSpPr>
          <p:cNvPr id="5" name=""/>
          <p:cNvGrpSpPr/>
          <p:nvPr/>
        </p:nvGrpSpPr>
        <p:grpSpPr>
          <a:xfrm>
            <a:off x="76320" y="0"/>
            <a:ext cx="838080" cy="4680000"/>
            <a:chOff x="76320" y="0"/>
            <a:chExt cx="838080" cy="4680000"/>
          </a:xfrm>
        </p:grpSpPr>
        <p:sp>
          <p:nvSpPr>
            <p:cNvPr id="6" name=""/>
            <p:cNvSpPr/>
            <p:nvPr/>
          </p:nvSpPr>
          <p:spPr>
            <a:xfrm>
              <a:off x="203040" y="12600"/>
              <a:ext cx="373320" cy="4667400"/>
            </a:xfrm>
            <a:prstGeom prst="rect">
              <a:avLst/>
            </a:prstGeom>
            <a:gradFill rotWithShape="0">
              <a:gsLst>
                <a:gs pos="0">
                  <a:srgbClr val="858585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320" y="0"/>
              <a:ext cx="838080" cy="33526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52280" y="0"/>
              <a:ext cx="304920" cy="3886200"/>
            </a:xfrm>
            <a:prstGeom prst="rect">
              <a:avLst/>
            </a:prstGeom>
            <a:gradFill rotWithShape="0">
              <a:gsLst>
                <a:gs pos="0">
                  <a:srgbClr val="860000"/>
                </a:gs>
                <a:gs pos="100000">
                  <a:srgbClr val="c8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80880" y="0"/>
              <a:ext cx="304920" cy="2698920"/>
            </a:xfrm>
            <a:prstGeom prst="rect">
              <a:avLst/>
            </a:prstGeom>
            <a:gradFill rotWithShape="0">
              <a:gsLst>
                <a:gs pos="0">
                  <a:srgbClr val="006c00"/>
                </a:gs>
                <a:gs pos="100000">
                  <a:srgbClr val="00a2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03040" y="12600"/>
            <a:ext cx="373320" cy="4667400"/>
          </a:xfrm>
          <a:prstGeom prst="rect">
            <a:avLst/>
          </a:prstGeom>
          <a:gradFill rotWithShape="0">
            <a:gsLst>
              <a:gs pos="0">
                <a:srgbClr val="858585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0"/>
            <a:ext cx="838080" cy="335268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0"/>
            <a:ext cx="304920" cy="3886200"/>
          </a:xfrm>
          <a:prstGeom prst="rect">
            <a:avLst/>
          </a:prstGeom>
          <a:gradFill rotWithShape="0">
            <a:gsLst>
              <a:gs pos="0">
                <a:srgbClr val="860000"/>
              </a:gs>
              <a:gs pos="100000">
                <a:srgbClr val="c8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0"/>
            <a:ext cx="304920" cy="2698920"/>
          </a:xfrm>
          <a:prstGeom prst="rect">
            <a:avLst/>
          </a:prstGeom>
          <a:gradFill rotWithShape="0">
            <a:gsLst>
              <a:gs pos="0">
                <a:srgbClr val="006c00"/>
              </a:gs>
              <a:gs pos="100000">
                <a:srgbClr val="00a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15840" y="102060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54056" t="0" r="0" b="0"/>
          <a:stretch/>
        </p:blipFill>
        <p:spPr>
          <a:xfrm>
            <a:off x="52560" y="5562720"/>
            <a:ext cx="2614320" cy="1189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800000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8080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utomated Surveillanc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Adverse Drug Events at Duke University Health System</a:t>
            </a:r>
            <a:br>
              <a:rPr sz="4000"/>
            </a:br>
            <a:br>
              <a:rPr sz="28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ter M. Kilbridge, M.D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shington University School of Medicine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HRQ Technology and Patient Safet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ptember 26, 200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E rates from computerized surveillance 1991-2005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1066680" y="1752480"/>
          <a:ext cx="7772400" cy="22827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ssen et al. 19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 ADEs per 100 admiss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ha et al. 19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1         “                  “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Duke 2005 – 2 hospital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.4, 6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rwitz 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ADEs per 1000 pt-yrs (ambulatory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3032280" y="6208560"/>
            <a:ext cx="352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990720" y="1295280"/>
            <a:ext cx="7848360" cy="4386240"/>
            <a:chOff x="990720" y="1295280"/>
            <a:chExt cx="7848360" cy="4386240"/>
          </a:xfrm>
        </p:grpSpPr>
        <p:graphicFrame>
          <p:nvGraphicFramePr>
            <p:cNvPr id="450" name=""/>
            <p:cNvGraphicFramePr/>
            <p:nvPr/>
          </p:nvGraphicFramePr>
          <p:xfrm>
            <a:off x="1981080" y="1295280"/>
            <a:ext cx="5645160" cy="4386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81080" y="1295280"/>
                      <a:ext cx="5645160" cy="438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2" name=""/>
            <p:cNvSpPr/>
            <p:nvPr/>
          </p:nvSpPr>
          <p:spPr>
            <a:xfrm>
              <a:off x="2743200" y="1600200"/>
              <a:ext cx="3505320" cy="3429000"/>
            </a:xfrm>
            <a:prstGeom prst="ellipse">
              <a:avLst/>
            </a:prstGeom>
            <a:solidFill>
              <a:srgbClr val="cc99ff">
                <a:alpha val="78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334120" y="2971800"/>
              <a:ext cx="1523880" cy="1447920"/>
            </a:xfrm>
            <a:prstGeom prst="ellipse">
              <a:avLst/>
            </a:prstGeom>
            <a:solidFill>
              <a:srgbClr val="99ccff">
                <a:alpha val="34000"/>
              </a:srgbClr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91120" y="31384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62720" y="350532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324480" y="36576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990720" y="426708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E Surveill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629400" y="426708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oluntary repor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352680" y="5257800"/>
              <a:ext cx="2438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otal Inpatient ADEs = 58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E Surveillance vs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Voluntary Reporting: 4 month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620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UH ADE Categories by Month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789120" y="750960"/>
          <a:ext cx="8202600" cy="52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9120" y="750960"/>
                    <a:ext cx="820260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ne Hospital’s ADEs by Locati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 month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789120" y="1066680"/>
          <a:ext cx="8202600" cy="489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9120" y="1066680"/>
                    <a:ext cx="8202600" cy="48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E rates at two hospitals,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 months, 200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1141560" y="878040"/>
          <a:ext cx="7316640" cy="597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1560" y="878040"/>
                    <a:ext cx="7316640" cy="59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"/>
          <p:cNvSpPr/>
          <p:nvPr/>
        </p:nvSpPr>
        <p:spPr>
          <a:xfrm>
            <a:off x="6553080" y="1143000"/>
            <a:ext cx="609840" cy="1523880"/>
          </a:xfrm>
          <a:custGeom>
            <a:avLst/>
            <a:gdLst>
              <a:gd name="textAreaLeft" fmla="*/ 81720 w 609840"/>
              <a:gd name="textAreaRight" fmla="*/ 528120 w 609840"/>
              <a:gd name="textAreaTop" fmla="*/ 266400 h 1523880"/>
              <a:gd name="textAreaBottom" fmla="*/ 11048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620120" cy="126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asures to address the problem at problem hospital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848720" cy="429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an the rooms of C. diff patients with bleach; switching wipes used on wards to hypochlorite-based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 letters to MDs, hospital personnel that alcohol foam shouldn't be used for hand hygiene when C. diff a concern; isolation signs updated to include sam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attendings and rooms of patients with C. diff to get a better handle on the problem; feedback as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8458200" y="3505320"/>
            <a:ext cx="685800" cy="53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. difficil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colitis, 2 hospitals: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609480" y="1143000"/>
            <a:ext cx="9220320" cy="4797360"/>
            <a:chOff x="609480" y="1143000"/>
            <a:chExt cx="9220320" cy="4797360"/>
          </a:xfrm>
        </p:grpSpPr>
        <p:graphicFrame>
          <p:nvGraphicFramePr>
            <p:cNvPr id="476" name=""/>
            <p:cNvGraphicFramePr/>
            <p:nvPr/>
          </p:nvGraphicFramePr>
          <p:xfrm>
            <a:off x="609480" y="1143000"/>
            <a:ext cx="9220320" cy="47973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7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1143000"/>
                      <a:ext cx="9220320" cy="479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8" name=""/>
            <p:cNvSpPr/>
            <p:nvPr/>
          </p:nvSpPr>
          <p:spPr>
            <a:xfrm>
              <a:off x="4572720" y="1763640"/>
              <a:ext cx="198540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498920" y="1386000"/>
              <a:ext cx="21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terven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620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diatrics vs. Adults (12 mo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380880" y="858960"/>
          <a:ext cx="8763120" cy="523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58960"/>
                    <a:ext cx="8763120" cy="52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3" name=""/>
          <p:cNvGraphicFramePr/>
          <p:nvPr/>
        </p:nvGraphicFramePr>
        <p:xfrm>
          <a:off x="380880" y="457200"/>
          <a:ext cx="8763120" cy="578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57200"/>
                    <a:ext cx="8763120" cy="57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5" name=""/>
          <p:cNvSpPr/>
          <p:nvPr/>
        </p:nvSpPr>
        <p:spPr>
          <a:xfrm>
            <a:off x="838080" y="76320"/>
            <a:ext cx="7848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diatrics: ADE vs. Voluntary Reporting (12 m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893880" y="1317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utomated ADE Surveillance: Challeng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990720" y="12193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ing where the light is: we are limited by available data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s consistently across large populations, but is not compreh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urce requirement for eval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best to use the data on ADE inc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as a primary measure of medication safe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 used to design, implement, monitor safety improvement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197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can we measure adverse events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066320"/>
            <a:ext cx="7910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organizations: Voluntary reporting is the only mechanism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ecd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es the majority of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t review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resource-inten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 in effectiveness (e.g., implicit vs. explicit review methodolog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comprehen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ized surveillance: effective, but rarely employ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ized IT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ill requires significant clinical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893880" y="1317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utomated ADE Surveillance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990720" y="12193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Washington University / St. Louis Children’s Hospit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vent Detector expert system to detect ADEs in pediatric inpatients across SL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 of pediatric patients with chronic disease in the ambulatory setting and across transitions in care (AHRQ R18 Award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cer, Sickle Cell Disease, Cystic Fibro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from clinic notes (text analysis), pharmacy, laboratory, ED, inpatient and ambulatory EM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trigger types for these particular patient popul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123720" y="2590560"/>
            <a:ext cx="358164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019880" y="257760"/>
            <a:ext cx="7789320" cy="55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automated ADE detection works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43000" y="9903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ized surveillance of patient data searching for evidence suggesting that an ADE has occur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 engine uses combinations of data to detect potential ADEs and fire sig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s that fire are investigated by study clinicians to determine causality:whether they represent true ADEs, and if so, grade severity and nature of 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 rules engine for 3 hospit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943280" y="343080"/>
            <a:ext cx="5942520" cy="71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s of Surveillance Ru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828440" y="1066320"/>
            <a:ext cx="609588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dote ordered/dispen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xic serum drug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ologic parameters changing + active order for a med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parin AND rapidly falling platelet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phrotoxic medication AND rising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oglycemia AND D25, D50 or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R &gt; 4 AND active order for warfarin ..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943280" y="343080"/>
            <a:ext cx="5942520" cy="71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oring Causality and Severit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828440" y="1218960"/>
            <a:ext cx="60958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alit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ability that a signal represents a true Adverse Drug 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ranjo algorith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Clin. Pharmaco. Ther. 1981;30:239-245)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ore must be probable or defininte to count as an A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ke severity scoring system, 0-6 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 NCC-MERP, 3 and over equals harm to the pat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7596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E Surveillance: Evaluation Proces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081080" y="871560"/>
            <a:ext cx="7605360" cy="5223960"/>
            <a:chOff x="1081080" y="871560"/>
            <a:chExt cx="7605360" cy="5223960"/>
          </a:xfrm>
        </p:grpSpPr>
        <p:sp>
          <p:nvSpPr>
            <p:cNvPr id="108" name=""/>
            <p:cNvSpPr/>
            <p:nvPr/>
          </p:nvSpPr>
          <p:spPr>
            <a:xfrm>
              <a:off x="1601640" y="4443120"/>
              <a:ext cx="662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Definite o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607760" y="4593960"/>
              <a:ext cx="61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probabl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1081080" y="4159080"/>
              <a:ext cx="1566720" cy="829440"/>
              <a:chOff x="1081080" y="4159080"/>
              <a:chExt cx="1566720" cy="829440"/>
            </a:xfrm>
          </p:grpSpPr>
          <p:sp>
            <p:nvSpPr>
              <p:cNvPr id="111" name=""/>
              <p:cNvSpPr/>
              <p:nvPr/>
            </p:nvSpPr>
            <p:spPr>
              <a:xfrm>
                <a:off x="1106280" y="4183920"/>
                <a:ext cx="1541520" cy="804600"/>
              </a:xfrm>
              <a:custGeom>
                <a:avLst/>
                <a:gdLst/>
                <a:ahLst/>
                <a:rect l="l" t="t" r="r" b="b"/>
                <a:pathLst>
                  <a:path w="971" h="507">
                    <a:moveTo>
                      <a:pt x="486" y="0"/>
                    </a:moveTo>
                    <a:lnTo>
                      <a:pt x="0" y="253"/>
                    </a:lnTo>
                    <a:lnTo>
                      <a:pt x="486" y="507"/>
                    </a:lnTo>
                    <a:lnTo>
                      <a:pt x="971" y="253"/>
                    </a:lnTo>
                    <a:lnTo>
                      <a:pt x="486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081080" y="4159080"/>
                <a:ext cx="1541160" cy="804240"/>
              </a:xfrm>
              <a:custGeom>
                <a:avLst/>
                <a:gdLst/>
                <a:ahLst/>
                <a:rect l="l" t="t" r="r" b="b"/>
                <a:pathLst>
                  <a:path w="971" h="507">
                    <a:moveTo>
                      <a:pt x="486" y="0"/>
                    </a:moveTo>
                    <a:lnTo>
                      <a:pt x="0" y="253"/>
                    </a:lnTo>
                    <a:lnTo>
                      <a:pt x="486" y="507"/>
                    </a:lnTo>
                    <a:lnTo>
                      <a:pt x="971" y="253"/>
                    </a:lnTo>
                    <a:lnTo>
                      <a:pt x="486" y="0"/>
                    </a:lnTo>
                    <a:close/>
                  </a:path>
                </a:pathLst>
              </a:custGeom>
              <a:solidFill>
                <a:srgbClr val="eaeaea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1576080" y="4417920"/>
              <a:ext cx="662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finite o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82200" y="4570200"/>
              <a:ext cx="61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babl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28640" y="2053800"/>
              <a:ext cx="47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Trigge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24160" y="2196720"/>
              <a:ext cx="846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Condition M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15800" y="1928520"/>
              <a:ext cx="1014480" cy="5443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90600" y="1903320"/>
              <a:ext cx="1004760" cy="536040"/>
            </a:xfrm>
            <a:prstGeom prst="rect">
              <a:avLst/>
            </a:prstGeom>
            <a:solidFill>
              <a:srgbClr val="eaeaea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604880" y="2028600"/>
              <a:ext cx="47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rigge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98960" y="2171520"/>
              <a:ext cx="846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dition M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795120" y="1885680"/>
              <a:ext cx="75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Independ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91720" y="2036520"/>
              <a:ext cx="1204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investigation (char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82800" y="2187360"/>
              <a:ext cx="1040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review, clinician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16920" y="2330280"/>
              <a:ext cx="1113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patient interview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77960" y="1801440"/>
              <a:ext cx="1339920" cy="7632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52760" y="1777680"/>
              <a:ext cx="1332000" cy="753840"/>
            </a:xfrm>
            <a:prstGeom prst="rect">
              <a:avLst/>
            </a:prstGeom>
            <a:solidFill>
              <a:srgbClr val="eaeaea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71360" y="1860120"/>
              <a:ext cx="75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depend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66520" y="2010960"/>
              <a:ext cx="1204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vestigation (char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57600" y="2161800"/>
              <a:ext cx="1040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view, clinician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91720" y="2304720"/>
              <a:ext cx="1113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atient interview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76320" y="2070000"/>
              <a:ext cx="53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Advers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20960" y="2212560"/>
              <a:ext cx="42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Event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5941800" y="1793520"/>
              <a:ext cx="1306440" cy="804240"/>
              <a:chOff x="5941800" y="1793520"/>
              <a:chExt cx="1306440" cy="804240"/>
            </a:xfrm>
          </p:grpSpPr>
          <p:sp>
            <p:nvSpPr>
              <p:cNvPr id="134" name=""/>
              <p:cNvSpPr/>
              <p:nvPr/>
            </p:nvSpPr>
            <p:spPr>
              <a:xfrm>
                <a:off x="5957640" y="1818720"/>
                <a:ext cx="1290600" cy="779040"/>
              </a:xfrm>
              <a:custGeom>
                <a:avLst/>
                <a:gdLst/>
                <a:ahLst/>
                <a:rect l="l" t="t" r="r" b="b"/>
                <a:pathLst>
                  <a:path w="813" h="491">
                    <a:moveTo>
                      <a:pt x="407" y="0"/>
                    </a:moveTo>
                    <a:lnTo>
                      <a:pt x="0" y="243"/>
                    </a:lnTo>
                    <a:lnTo>
                      <a:pt x="407" y="491"/>
                    </a:lnTo>
                    <a:lnTo>
                      <a:pt x="813" y="243"/>
                    </a:lnTo>
                    <a:lnTo>
                      <a:pt x="407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941800" y="1793520"/>
                <a:ext cx="1281240" cy="779040"/>
              </a:xfrm>
              <a:custGeom>
                <a:avLst/>
                <a:gdLst/>
                <a:ahLst/>
                <a:rect l="l" t="t" r="r" b="b"/>
                <a:pathLst>
                  <a:path w="807" h="491">
                    <a:moveTo>
                      <a:pt x="401" y="0"/>
                    </a:moveTo>
                    <a:lnTo>
                      <a:pt x="0" y="248"/>
                    </a:lnTo>
                    <a:lnTo>
                      <a:pt x="401" y="491"/>
                    </a:lnTo>
                    <a:lnTo>
                      <a:pt x="807" y="248"/>
                    </a:lnTo>
                    <a:lnTo>
                      <a:pt x="401" y="0"/>
                    </a:lnTo>
                    <a:close/>
                  </a:path>
                </a:pathLst>
              </a:custGeom>
              <a:solidFill>
                <a:srgbClr val="eaeaea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6351120" y="2045880"/>
              <a:ext cx="53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vers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95400" y="2187360"/>
              <a:ext cx="42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vent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4071960" y="1407960"/>
              <a:ext cx="93600" cy="369000"/>
              <a:chOff x="4071960" y="1407960"/>
              <a:chExt cx="93600" cy="369000"/>
            </a:xfrm>
          </p:grpSpPr>
          <p:sp>
            <p:nvSpPr>
              <p:cNvPr id="139" name=""/>
              <p:cNvSpPr/>
              <p:nvPr/>
            </p:nvSpPr>
            <p:spPr>
              <a:xfrm>
                <a:off x="4114800" y="1742400"/>
                <a:ext cx="7920" cy="34560"/>
              </a:xfrm>
              <a:custGeom>
                <a:avLst/>
                <a:gdLst/>
                <a:ahLst/>
                <a:rect l="l" t="t" r="r" b="b"/>
                <a:pathLst>
                  <a:path w="5" h="22">
                    <a:moveTo>
                      <a:pt x="0" y="22"/>
                    </a:moveTo>
                    <a:lnTo>
                      <a:pt x="0" y="22"/>
                    </a:lnTo>
                    <a:lnTo>
                      <a:pt x="5" y="2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114800" y="1683720"/>
                <a:ext cx="7920" cy="34560"/>
              </a:xfrm>
              <a:custGeom>
                <a:avLst/>
                <a:gdLst/>
                <a:ahLst/>
                <a:rect l="l" t="t" r="r" b="b"/>
                <a:pathLst>
                  <a:path w="5" h="22">
                    <a:moveTo>
                      <a:pt x="0" y="22"/>
                    </a:moveTo>
                    <a:lnTo>
                      <a:pt x="0" y="22"/>
                    </a:lnTo>
                    <a:lnTo>
                      <a:pt x="5" y="2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114800" y="1625040"/>
                <a:ext cx="7920" cy="34560"/>
              </a:xfrm>
              <a:custGeom>
                <a:avLst/>
                <a:gdLst/>
                <a:ahLst/>
                <a:rect l="l" t="t" r="r" b="b"/>
                <a:pathLst>
                  <a:path w="5" h="22">
                    <a:moveTo>
                      <a:pt x="0" y="22"/>
                    </a:moveTo>
                    <a:lnTo>
                      <a:pt x="0" y="22"/>
                    </a:lnTo>
                    <a:lnTo>
                      <a:pt x="5" y="2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114800" y="1566360"/>
                <a:ext cx="7920" cy="34560"/>
              </a:xfrm>
              <a:custGeom>
                <a:avLst/>
                <a:gdLst/>
                <a:ahLst/>
                <a:rect l="l" t="t" r="r" b="b"/>
                <a:pathLst>
                  <a:path w="5" h="22">
                    <a:moveTo>
                      <a:pt x="0" y="22"/>
                    </a:moveTo>
                    <a:lnTo>
                      <a:pt x="0" y="22"/>
                    </a:lnTo>
                    <a:lnTo>
                      <a:pt x="5" y="2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114800" y="1507320"/>
                <a:ext cx="7920" cy="34920"/>
              </a:xfrm>
              <a:custGeom>
                <a:avLst/>
                <a:gdLst/>
                <a:ahLst/>
                <a:rect l="l" t="t" r="r" b="b"/>
                <a:pathLst>
                  <a:path w="5" h="22">
                    <a:moveTo>
                      <a:pt x="0" y="22"/>
                    </a:moveTo>
                    <a:lnTo>
                      <a:pt x="0" y="22"/>
                    </a:lnTo>
                    <a:lnTo>
                      <a:pt x="5" y="2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114800" y="147420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6"/>
                    </a:move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071960" y="1407960"/>
                <a:ext cx="93600" cy="91440"/>
              </a:xfrm>
              <a:custGeom>
                <a:avLst/>
                <a:gdLst/>
                <a:ahLst/>
                <a:rect l="l" t="t" r="r" b="b"/>
                <a:pathLst>
                  <a:path w="59" h="58">
                    <a:moveTo>
                      <a:pt x="59" y="58"/>
                    </a:moveTo>
                    <a:lnTo>
                      <a:pt x="32" y="0"/>
                    </a:lnTo>
                    <a:lnTo>
                      <a:pt x="0" y="58"/>
                    </a:lnTo>
                    <a:lnTo>
                      <a:pt x="59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6535440" y="1407960"/>
              <a:ext cx="92160" cy="402480"/>
              <a:chOff x="6535440" y="1407960"/>
              <a:chExt cx="92160" cy="402480"/>
            </a:xfrm>
          </p:grpSpPr>
          <p:sp>
            <p:nvSpPr>
              <p:cNvPr id="147" name=""/>
              <p:cNvSpPr/>
              <p:nvPr/>
            </p:nvSpPr>
            <p:spPr>
              <a:xfrm flipV="1">
                <a:off x="6578640" y="1474200"/>
                <a:ext cx="1440" cy="336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535440" y="1407960"/>
                <a:ext cx="92160" cy="9144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58" y="58"/>
                    </a:moveTo>
                    <a:lnTo>
                      <a:pt x="32" y="0"/>
                    </a:lnTo>
                    <a:lnTo>
                      <a:pt x="0" y="58"/>
                    </a:lnTo>
                    <a:lnTo>
                      <a:pt x="58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6267240" y="1533240"/>
              <a:ext cx="3272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72000" y="1576080"/>
              <a:ext cx="16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24400" y="1022040"/>
              <a:ext cx="924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Note to patien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14920" y="1172880"/>
              <a:ext cx="30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ch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67440" y="896760"/>
              <a:ext cx="1147680" cy="5439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41880" y="871560"/>
              <a:ext cx="1139760" cy="536400"/>
            </a:xfrm>
            <a:prstGeom prst="rect">
              <a:avLst/>
            </a:prstGeom>
            <a:solidFill>
              <a:srgbClr val="eaeaea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99200" y="996840"/>
              <a:ext cx="924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te to patien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89360" y="1147320"/>
              <a:ext cx="30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h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6545160" y="2572920"/>
              <a:ext cx="92160" cy="528120"/>
              <a:chOff x="6545160" y="2572920"/>
              <a:chExt cx="92160" cy="528120"/>
            </a:xfrm>
          </p:grpSpPr>
          <p:sp>
            <p:nvSpPr>
              <p:cNvPr id="158" name=""/>
              <p:cNvSpPr/>
              <p:nvPr/>
            </p:nvSpPr>
            <p:spPr>
              <a:xfrm>
                <a:off x="6586560" y="2572920"/>
                <a:ext cx="1440" cy="453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545160" y="3009240"/>
                <a:ext cx="9216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0"/>
                    </a:moveTo>
                    <a:lnTo>
                      <a:pt x="26" y="58"/>
                    </a:lnTo>
                    <a:lnTo>
                      <a:pt x="5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6243480" y="2792160"/>
              <a:ext cx="376200" cy="22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63200" y="3377880"/>
              <a:ext cx="878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Grade sever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33960" y="3178080"/>
              <a:ext cx="1081080" cy="5439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08400" y="3152520"/>
              <a:ext cx="1071720" cy="536040"/>
            </a:xfrm>
            <a:prstGeom prst="rect">
              <a:avLst/>
            </a:prstGeom>
            <a:solidFill>
              <a:srgbClr val="eaeaea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37640" y="3354120"/>
              <a:ext cx="878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rade sever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7097760" y="3377880"/>
              <a:ext cx="191880" cy="93240"/>
              <a:chOff x="7097760" y="3377880"/>
              <a:chExt cx="191880" cy="93240"/>
            </a:xfrm>
          </p:grpSpPr>
          <p:sp>
            <p:nvSpPr>
              <p:cNvPr id="166" name=""/>
              <p:cNvSpPr/>
              <p:nvPr/>
            </p:nvSpPr>
            <p:spPr>
              <a:xfrm>
                <a:off x="7097760" y="3420360"/>
                <a:ext cx="125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207200" y="3377880"/>
                <a:ext cx="82440" cy="93240"/>
              </a:xfrm>
              <a:custGeom>
                <a:avLst/>
                <a:gdLst/>
                <a:ahLst/>
                <a:rect l="l" t="t" r="r" b="b"/>
                <a:pathLst>
                  <a:path w="52" h="59">
                    <a:moveTo>
                      <a:pt x="0" y="59"/>
                    </a:moveTo>
                    <a:lnTo>
                      <a:pt x="52" y="27"/>
                    </a:lnTo>
                    <a:lnTo>
                      <a:pt x="0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7455240" y="3369960"/>
              <a:ext cx="942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Grade causal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15200" y="3168360"/>
              <a:ext cx="1147680" cy="5457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9640" y="3144600"/>
              <a:ext cx="1139760" cy="536040"/>
            </a:xfrm>
            <a:prstGeom prst="rect">
              <a:avLst/>
            </a:prstGeom>
            <a:solidFill>
              <a:srgbClr val="eaeaea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29680" y="3344760"/>
              <a:ext cx="942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rade causal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320920" y="2128680"/>
              <a:ext cx="1098360" cy="91440"/>
              <a:chOff x="2320920" y="2128680"/>
              <a:chExt cx="1098360" cy="91440"/>
            </a:xfrm>
          </p:grpSpPr>
          <p:sp>
            <p:nvSpPr>
              <p:cNvPr id="173" name=""/>
              <p:cNvSpPr/>
              <p:nvPr/>
            </p:nvSpPr>
            <p:spPr>
              <a:xfrm>
                <a:off x="2320920" y="2171160"/>
                <a:ext cx="102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327120" y="2128680"/>
                <a:ext cx="92160" cy="9144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58"/>
                    </a:moveTo>
                    <a:lnTo>
                      <a:pt x="58" y="32"/>
                    </a:lnTo>
                    <a:lnTo>
                      <a:pt x="0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2614320" y="4325760"/>
              <a:ext cx="385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28440" y="4368600"/>
              <a:ext cx="22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1809720" y="4955760"/>
              <a:ext cx="91800" cy="510480"/>
              <a:chOff x="1809720" y="4955760"/>
              <a:chExt cx="91800" cy="510480"/>
            </a:xfrm>
          </p:grpSpPr>
          <p:sp>
            <p:nvSpPr>
              <p:cNvPr id="178" name=""/>
              <p:cNvSpPr/>
              <p:nvPr/>
            </p:nvSpPr>
            <p:spPr>
              <a:xfrm>
                <a:off x="1852560" y="4955760"/>
                <a:ext cx="1440" cy="43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809720" y="5374800"/>
                <a:ext cx="91800" cy="9144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0"/>
                    </a:moveTo>
                    <a:lnTo>
                      <a:pt x="32" y="58"/>
                    </a:lnTo>
                    <a:lnTo>
                      <a:pt x="5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1482480" y="4955760"/>
              <a:ext cx="32724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595160" y="4997160"/>
              <a:ext cx="16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77520" y="557496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Record as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99400" y="5727600"/>
              <a:ext cx="822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AE, causalit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10640" y="5878080"/>
              <a:ext cx="55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unknow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82760" y="5526000"/>
              <a:ext cx="947520" cy="5439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57200" y="5500440"/>
              <a:ext cx="938160" cy="536040"/>
            </a:xfrm>
            <a:prstGeom prst="rect">
              <a:avLst/>
            </a:prstGeom>
            <a:solidFill>
              <a:srgbClr val="eaeaea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51960" y="555120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cord as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73840" y="5702040"/>
              <a:ext cx="822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E, causalit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85440" y="5852880"/>
              <a:ext cx="55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nknow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85320" y="4511520"/>
              <a:ext cx="363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Follow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39920" y="45115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82760" y="4511520"/>
              <a:ext cx="943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up procedures &amp;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584960" y="4646520"/>
              <a:ext cx="447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track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76400" y="477972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99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33640" y="4779720"/>
              <a:ext cx="23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LO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76400" y="491472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99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35800" y="4914720"/>
              <a:ext cx="497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Outcom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76400" y="504792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99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42280" y="5047920"/>
              <a:ext cx="805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Diagnoses . . .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467240" y="4309920"/>
              <a:ext cx="1523880" cy="10551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441680" y="4284360"/>
              <a:ext cx="1515960" cy="1047600"/>
            </a:xfrm>
            <a:prstGeom prst="rect">
              <a:avLst/>
            </a:prstGeom>
            <a:solidFill>
              <a:srgbClr val="eaeaea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61560" y="4485960"/>
              <a:ext cx="363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ollow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14360" y="44859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59000" y="4485960"/>
              <a:ext cx="943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up procedures &amp;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61200" y="4620960"/>
              <a:ext cx="447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rack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50840" y="475416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09880" y="4754160"/>
              <a:ext cx="23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O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50840" y="488916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12040" y="4889160"/>
              <a:ext cx="497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Outcom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50840" y="502272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718520" y="5022720"/>
              <a:ext cx="805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iagnoses . . .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95520" y="5584680"/>
              <a:ext cx="430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Inform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75200" y="5735520"/>
              <a:ext cx="880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clinicians tha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41720" y="5878080"/>
              <a:ext cx="915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ADE confirm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25800" y="5517720"/>
              <a:ext cx="1081080" cy="577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00240" y="5492520"/>
              <a:ext cx="1071720" cy="569520"/>
            </a:xfrm>
            <a:prstGeom prst="rect">
              <a:avLst/>
            </a:prstGeom>
            <a:solidFill>
              <a:srgbClr val="eaeaea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69960" y="5559120"/>
              <a:ext cx="430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form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0000" y="5709960"/>
              <a:ext cx="880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linicians tha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16520" y="5852880"/>
              <a:ext cx="915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E confirm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5975280" y="4552560"/>
              <a:ext cx="828720" cy="91800"/>
              <a:chOff x="5975280" y="4552560"/>
              <a:chExt cx="828720" cy="91800"/>
            </a:xfrm>
          </p:grpSpPr>
          <p:sp>
            <p:nvSpPr>
              <p:cNvPr id="221" name=""/>
              <p:cNvSpPr/>
              <p:nvPr/>
            </p:nvSpPr>
            <p:spPr>
              <a:xfrm>
                <a:off x="5975280" y="4593600"/>
                <a:ext cx="7538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711840" y="4552560"/>
                <a:ext cx="9216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58"/>
                    </a:moveTo>
                    <a:lnTo>
                      <a:pt x="58" y="26"/>
                    </a:lnTo>
                    <a:lnTo>
                      <a:pt x="0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196400" y="4393800"/>
              <a:ext cx="45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Send to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151040" y="452880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database,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981120" y="4662360"/>
              <a:ext cx="93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generate report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99200" y="4797000"/>
              <a:ext cx="631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to P&amp;T, etc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37120" y="4368600"/>
              <a:ext cx="1081080" cy="577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11920" y="4343040"/>
              <a:ext cx="1073160" cy="569520"/>
            </a:xfrm>
            <a:prstGeom prst="rect">
              <a:avLst/>
            </a:prstGeom>
            <a:solidFill>
              <a:srgbClr val="eaeaea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171200" y="4368600"/>
              <a:ext cx="45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end to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25840" y="450360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atabase,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955560" y="4636800"/>
              <a:ext cx="93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generate report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74000" y="4771800"/>
              <a:ext cx="631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o P&amp;T, etc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987600" y="5349600"/>
              <a:ext cx="906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Incorporate into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049160" y="5484600"/>
              <a:ext cx="773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patient safety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114680" y="5617800"/>
              <a:ext cx="651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continuou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58880" y="5752800"/>
              <a:ext cx="75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improvement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257960" y="588636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cyc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37120" y="5316120"/>
              <a:ext cx="1081080" cy="7380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11920" y="5290920"/>
              <a:ext cx="1073160" cy="728280"/>
            </a:xfrm>
            <a:prstGeom prst="rect">
              <a:avLst/>
            </a:prstGeom>
            <a:solidFill>
              <a:srgbClr val="eaeaea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62040" y="5324040"/>
              <a:ext cx="906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corporate into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023600" y="5459040"/>
              <a:ext cx="773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atient safety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90920" y="5592600"/>
              <a:ext cx="651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ntinuou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35120" y="5727600"/>
              <a:ext cx="75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mprovement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34200" y="58608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7307280" y="4905000"/>
              <a:ext cx="91800" cy="393120"/>
              <a:chOff x="7307280" y="4905000"/>
              <a:chExt cx="91800" cy="393120"/>
            </a:xfrm>
          </p:grpSpPr>
          <p:sp>
            <p:nvSpPr>
              <p:cNvPr id="246" name=""/>
              <p:cNvSpPr/>
              <p:nvPr/>
            </p:nvSpPr>
            <p:spPr>
              <a:xfrm>
                <a:off x="7348320" y="4905000"/>
                <a:ext cx="1800" cy="318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307280" y="5206320"/>
                <a:ext cx="9180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0"/>
                    </a:moveTo>
                    <a:lnTo>
                      <a:pt x="32" y="58"/>
                    </a:lnTo>
                    <a:lnTo>
                      <a:pt x="5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1712880" y="118260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990000"/>
                  </a:solidFill>
                  <a:latin typeface="Arial"/>
                </a:rPr>
                <a:t>Star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49360" y="921960"/>
              <a:ext cx="763560" cy="679320"/>
            </a:xfrm>
            <a:prstGeom prst="ellips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425600" y="896760"/>
              <a:ext cx="753840" cy="669600"/>
            </a:xfrm>
            <a:prstGeom prst="ellipse">
              <a:avLst/>
            </a:prstGeom>
            <a:solidFill>
              <a:srgbClr val="eaeaea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687680" y="11570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1784160" y="1601640"/>
              <a:ext cx="93600" cy="291240"/>
              <a:chOff x="1784160" y="1601640"/>
              <a:chExt cx="93600" cy="291240"/>
            </a:xfrm>
          </p:grpSpPr>
          <p:sp>
            <p:nvSpPr>
              <p:cNvPr id="253" name=""/>
              <p:cNvSpPr/>
              <p:nvPr/>
            </p:nvSpPr>
            <p:spPr>
              <a:xfrm>
                <a:off x="1827000" y="1601640"/>
                <a:ext cx="1800" cy="217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784160" y="1801080"/>
                <a:ext cx="93600" cy="91800"/>
              </a:xfrm>
              <a:custGeom>
                <a:avLst/>
                <a:gdLst/>
                <a:ahLst/>
                <a:rect l="l" t="t" r="r" b="b"/>
                <a:pathLst>
                  <a:path w="59" h="58">
                    <a:moveTo>
                      <a:pt x="0" y="0"/>
                    </a:moveTo>
                    <a:lnTo>
                      <a:pt x="27" y="58"/>
                    </a:lnTo>
                    <a:lnTo>
                      <a:pt x="5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3801600" y="945720"/>
              <a:ext cx="76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Interventio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907440" y="1098360"/>
              <a:ext cx="55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in care if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45960" y="1249200"/>
              <a:ext cx="44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need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678120" y="896760"/>
              <a:ext cx="930240" cy="5439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654360" y="871560"/>
              <a:ext cx="920520" cy="536400"/>
            </a:xfrm>
            <a:prstGeom prst="rect">
              <a:avLst/>
            </a:prstGeom>
            <a:solidFill>
              <a:srgbClr val="eaeaea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76400" y="921960"/>
              <a:ext cx="76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terventio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82240" y="1072800"/>
              <a:ext cx="55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 care if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21840" y="1223640"/>
              <a:ext cx="44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ed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2732040" y="4570200"/>
              <a:ext cx="284040" cy="1256400"/>
              <a:chOff x="2732040" y="4570200"/>
              <a:chExt cx="284040" cy="1256400"/>
            </a:xfrm>
          </p:grpSpPr>
          <p:sp>
            <p:nvSpPr>
              <p:cNvPr id="264" name=""/>
              <p:cNvSpPr/>
              <p:nvPr/>
            </p:nvSpPr>
            <p:spPr>
              <a:xfrm>
                <a:off x="2732040" y="4570200"/>
                <a:ext cx="209520" cy="1206000"/>
              </a:xfrm>
              <a:custGeom>
                <a:avLst/>
                <a:gdLst/>
                <a:ahLst/>
                <a:rect l="l" t="t" r="r" b="b"/>
                <a:pathLst>
                  <a:path w="132" h="760">
                    <a:moveTo>
                      <a:pt x="0" y="0"/>
                    </a:moveTo>
                    <a:lnTo>
                      <a:pt x="0" y="760"/>
                    </a:lnTo>
                    <a:lnTo>
                      <a:pt x="132" y="76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923920" y="5735160"/>
                <a:ext cx="92160" cy="9144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58"/>
                    </a:moveTo>
                    <a:lnTo>
                      <a:pt x="58" y="32"/>
                    </a:lnTo>
                    <a:lnTo>
                      <a:pt x="0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2639880" y="4527360"/>
              <a:ext cx="1784520" cy="91800"/>
              <a:chOff x="2639880" y="4527360"/>
              <a:chExt cx="1784520" cy="91800"/>
            </a:xfrm>
          </p:grpSpPr>
          <p:sp>
            <p:nvSpPr>
              <p:cNvPr id="267" name=""/>
              <p:cNvSpPr/>
              <p:nvPr/>
            </p:nvSpPr>
            <p:spPr>
              <a:xfrm>
                <a:off x="2639880" y="4569840"/>
                <a:ext cx="17096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332240" y="4527360"/>
                <a:ext cx="9216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58"/>
                    </a:moveTo>
                    <a:lnTo>
                      <a:pt x="58" y="32"/>
                    </a:lnTo>
                    <a:lnTo>
                      <a:pt x="0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4809960" y="2138040"/>
              <a:ext cx="1122480" cy="91800"/>
              <a:chOff x="4809960" y="2138040"/>
              <a:chExt cx="1122480" cy="91800"/>
            </a:xfrm>
          </p:grpSpPr>
          <p:sp>
            <p:nvSpPr>
              <p:cNvPr id="270" name=""/>
              <p:cNvSpPr/>
              <p:nvPr/>
            </p:nvSpPr>
            <p:spPr>
              <a:xfrm>
                <a:off x="4809960" y="2179080"/>
                <a:ext cx="10558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48200" y="2138040"/>
                <a:ext cx="84240" cy="91800"/>
              </a:xfrm>
              <a:custGeom>
                <a:avLst/>
                <a:gdLst/>
                <a:ahLst/>
                <a:rect l="l" t="t" r="r" b="b"/>
                <a:pathLst>
                  <a:path w="53" h="58">
                    <a:moveTo>
                      <a:pt x="0" y="58"/>
                    </a:moveTo>
                    <a:lnTo>
                      <a:pt x="53" y="26"/>
                    </a:lnTo>
                    <a:lnTo>
                      <a:pt x="0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1601640" y="4443120"/>
              <a:ext cx="662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Definite o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07760" y="4593960"/>
              <a:ext cx="61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probabl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1081080" y="4159080"/>
              <a:ext cx="1566720" cy="829440"/>
              <a:chOff x="1081080" y="4159080"/>
              <a:chExt cx="1566720" cy="829440"/>
            </a:xfrm>
          </p:grpSpPr>
          <p:sp>
            <p:nvSpPr>
              <p:cNvPr id="275" name=""/>
              <p:cNvSpPr/>
              <p:nvPr/>
            </p:nvSpPr>
            <p:spPr>
              <a:xfrm>
                <a:off x="1106280" y="4183920"/>
                <a:ext cx="1541520" cy="804600"/>
              </a:xfrm>
              <a:custGeom>
                <a:avLst/>
                <a:gdLst/>
                <a:ahLst/>
                <a:rect l="l" t="t" r="r" b="b"/>
                <a:pathLst>
                  <a:path w="971" h="507">
                    <a:moveTo>
                      <a:pt x="486" y="0"/>
                    </a:moveTo>
                    <a:lnTo>
                      <a:pt x="0" y="253"/>
                    </a:lnTo>
                    <a:lnTo>
                      <a:pt x="486" y="507"/>
                    </a:lnTo>
                    <a:lnTo>
                      <a:pt x="971" y="253"/>
                    </a:lnTo>
                    <a:lnTo>
                      <a:pt x="486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081080" y="4159080"/>
                <a:ext cx="1541160" cy="804240"/>
              </a:xfrm>
              <a:custGeom>
                <a:avLst/>
                <a:gdLst/>
                <a:ahLst/>
                <a:rect l="l" t="t" r="r" b="b"/>
                <a:pathLst>
                  <a:path w="971" h="507">
                    <a:moveTo>
                      <a:pt x="486" y="0"/>
                    </a:moveTo>
                    <a:lnTo>
                      <a:pt x="0" y="253"/>
                    </a:lnTo>
                    <a:lnTo>
                      <a:pt x="486" y="507"/>
                    </a:lnTo>
                    <a:lnTo>
                      <a:pt x="971" y="253"/>
                    </a:lnTo>
                    <a:lnTo>
                      <a:pt x="486" y="0"/>
                    </a:lnTo>
                    <a:close/>
                  </a:path>
                </a:pathLst>
              </a:custGeom>
              <a:solidFill>
                <a:srgbClr val="eaeaea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1576080" y="4417920"/>
              <a:ext cx="662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finite o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582200" y="4570200"/>
              <a:ext cx="61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babl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28640" y="2053800"/>
              <a:ext cx="47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Trigge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24160" y="2196720"/>
              <a:ext cx="846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Condition M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15800" y="1928520"/>
              <a:ext cx="1014480" cy="5443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90600" y="1903320"/>
              <a:ext cx="1004760" cy="536040"/>
            </a:xfrm>
            <a:prstGeom prst="rect">
              <a:avLst/>
            </a:prstGeom>
            <a:solidFill>
              <a:srgbClr val="eaeaea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604880" y="2028600"/>
              <a:ext cx="47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rigge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398960" y="2171520"/>
              <a:ext cx="846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dition M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795120" y="1885680"/>
              <a:ext cx="75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Independ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591720" y="2036520"/>
              <a:ext cx="1204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investigation (char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82800" y="2187360"/>
              <a:ext cx="1040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review, clinician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16920" y="2330280"/>
              <a:ext cx="1113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patient interview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477960" y="1801440"/>
              <a:ext cx="1339920" cy="7632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452760" y="1777680"/>
              <a:ext cx="1332000" cy="753840"/>
            </a:xfrm>
            <a:prstGeom prst="rect">
              <a:avLst/>
            </a:prstGeom>
            <a:solidFill>
              <a:srgbClr val="eaeaea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71360" y="1860120"/>
              <a:ext cx="75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depend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66520" y="2010960"/>
              <a:ext cx="1204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vestigation (char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57600" y="2161800"/>
              <a:ext cx="1040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view, clinician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91720" y="2304720"/>
              <a:ext cx="1113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atient interview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76320" y="2070000"/>
              <a:ext cx="53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Advers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20960" y="2212560"/>
              <a:ext cx="42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Event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5941800" y="1793520"/>
              <a:ext cx="1306440" cy="804240"/>
              <a:chOff x="5941800" y="1793520"/>
              <a:chExt cx="1306440" cy="804240"/>
            </a:xfrm>
          </p:grpSpPr>
          <p:sp>
            <p:nvSpPr>
              <p:cNvPr id="298" name=""/>
              <p:cNvSpPr/>
              <p:nvPr/>
            </p:nvSpPr>
            <p:spPr>
              <a:xfrm>
                <a:off x="5957640" y="1818720"/>
                <a:ext cx="1290600" cy="779040"/>
              </a:xfrm>
              <a:custGeom>
                <a:avLst/>
                <a:gdLst/>
                <a:ahLst/>
                <a:rect l="l" t="t" r="r" b="b"/>
                <a:pathLst>
                  <a:path w="813" h="491">
                    <a:moveTo>
                      <a:pt x="407" y="0"/>
                    </a:moveTo>
                    <a:lnTo>
                      <a:pt x="0" y="243"/>
                    </a:lnTo>
                    <a:lnTo>
                      <a:pt x="407" y="491"/>
                    </a:lnTo>
                    <a:lnTo>
                      <a:pt x="813" y="243"/>
                    </a:lnTo>
                    <a:lnTo>
                      <a:pt x="407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941800" y="1793520"/>
                <a:ext cx="1281240" cy="779040"/>
              </a:xfrm>
              <a:custGeom>
                <a:avLst/>
                <a:gdLst/>
                <a:ahLst/>
                <a:rect l="l" t="t" r="r" b="b"/>
                <a:pathLst>
                  <a:path w="807" h="491">
                    <a:moveTo>
                      <a:pt x="401" y="0"/>
                    </a:moveTo>
                    <a:lnTo>
                      <a:pt x="0" y="248"/>
                    </a:lnTo>
                    <a:lnTo>
                      <a:pt x="401" y="491"/>
                    </a:lnTo>
                    <a:lnTo>
                      <a:pt x="807" y="248"/>
                    </a:lnTo>
                    <a:lnTo>
                      <a:pt x="401" y="0"/>
                    </a:lnTo>
                    <a:close/>
                  </a:path>
                </a:pathLst>
              </a:custGeom>
              <a:solidFill>
                <a:srgbClr val="eaeaea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6351120" y="2045880"/>
              <a:ext cx="53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vers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395400" y="2187360"/>
              <a:ext cx="42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vent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4071960" y="1407960"/>
              <a:ext cx="93600" cy="369000"/>
              <a:chOff x="4071960" y="1407960"/>
              <a:chExt cx="93600" cy="369000"/>
            </a:xfrm>
          </p:grpSpPr>
          <p:sp>
            <p:nvSpPr>
              <p:cNvPr id="303" name=""/>
              <p:cNvSpPr/>
              <p:nvPr/>
            </p:nvSpPr>
            <p:spPr>
              <a:xfrm>
                <a:off x="4114800" y="1742400"/>
                <a:ext cx="7920" cy="34560"/>
              </a:xfrm>
              <a:custGeom>
                <a:avLst/>
                <a:gdLst/>
                <a:ahLst/>
                <a:rect l="l" t="t" r="r" b="b"/>
                <a:pathLst>
                  <a:path w="5" h="22">
                    <a:moveTo>
                      <a:pt x="0" y="22"/>
                    </a:moveTo>
                    <a:lnTo>
                      <a:pt x="0" y="22"/>
                    </a:lnTo>
                    <a:lnTo>
                      <a:pt x="5" y="2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114800" y="1683720"/>
                <a:ext cx="7920" cy="34560"/>
              </a:xfrm>
              <a:custGeom>
                <a:avLst/>
                <a:gdLst/>
                <a:ahLst/>
                <a:rect l="l" t="t" r="r" b="b"/>
                <a:pathLst>
                  <a:path w="5" h="22">
                    <a:moveTo>
                      <a:pt x="0" y="22"/>
                    </a:moveTo>
                    <a:lnTo>
                      <a:pt x="0" y="22"/>
                    </a:lnTo>
                    <a:lnTo>
                      <a:pt x="5" y="2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114800" y="1625040"/>
                <a:ext cx="7920" cy="34560"/>
              </a:xfrm>
              <a:custGeom>
                <a:avLst/>
                <a:gdLst/>
                <a:ahLst/>
                <a:rect l="l" t="t" r="r" b="b"/>
                <a:pathLst>
                  <a:path w="5" h="22">
                    <a:moveTo>
                      <a:pt x="0" y="22"/>
                    </a:moveTo>
                    <a:lnTo>
                      <a:pt x="0" y="22"/>
                    </a:lnTo>
                    <a:lnTo>
                      <a:pt x="5" y="2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114800" y="1566360"/>
                <a:ext cx="7920" cy="34560"/>
              </a:xfrm>
              <a:custGeom>
                <a:avLst/>
                <a:gdLst/>
                <a:ahLst/>
                <a:rect l="l" t="t" r="r" b="b"/>
                <a:pathLst>
                  <a:path w="5" h="22">
                    <a:moveTo>
                      <a:pt x="0" y="22"/>
                    </a:moveTo>
                    <a:lnTo>
                      <a:pt x="0" y="22"/>
                    </a:lnTo>
                    <a:lnTo>
                      <a:pt x="5" y="2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114800" y="1507320"/>
                <a:ext cx="7920" cy="34920"/>
              </a:xfrm>
              <a:custGeom>
                <a:avLst/>
                <a:gdLst/>
                <a:ahLst/>
                <a:rect l="l" t="t" r="r" b="b"/>
                <a:pathLst>
                  <a:path w="5" h="22">
                    <a:moveTo>
                      <a:pt x="0" y="22"/>
                    </a:moveTo>
                    <a:lnTo>
                      <a:pt x="0" y="22"/>
                    </a:lnTo>
                    <a:lnTo>
                      <a:pt x="5" y="2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114800" y="147420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6"/>
                    </a:move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071960" y="1407960"/>
                <a:ext cx="93600" cy="91440"/>
              </a:xfrm>
              <a:custGeom>
                <a:avLst/>
                <a:gdLst/>
                <a:ahLst/>
                <a:rect l="l" t="t" r="r" b="b"/>
                <a:pathLst>
                  <a:path w="59" h="58">
                    <a:moveTo>
                      <a:pt x="59" y="58"/>
                    </a:moveTo>
                    <a:lnTo>
                      <a:pt x="32" y="0"/>
                    </a:lnTo>
                    <a:lnTo>
                      <a:pt x="0" y="58"/>
                    </a:lnTo>
                    <a:lnTo>
                      <a:pt x="59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6535440" y="1407960"/>
              <a:ext cx="92160" cy="402480"/>
              <a:chOff x="6535440" y="1407960"/>
              <a:chExt cx="92160" cy="402480"/>
            </a:xfrm>
          </p:grpSpPr>
          <p:sp>
            <p:nvSpPr>
              <p:cNvPr id="311" name=""/>
              <p:cNvSpPr/>
              <p:nvPr/>
            </p:nvSpPr>
            <p:spPr>
              <a:xfrm flipV="1">
                <a:off x="6578640" y="1474200"/>
                <a:ext cx="1440" cy="336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535440" y="1407960"/>
                <a:ext cx="92160" cy="9144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58" y="58"/>
                    </a:moveTo>
                    <a:lnTo>
                      <a:pt x="32" y="0"/>
                    </a:lnTo>
                    <a:lnTo>
                      <a:pt x="0" y="58"/>
                    </a:lnTo>
                    <a:lnTo>
                      <a:pt x="58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6267240" y="1533240"/>
              <a:ext cx="3272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72000" y="1576080"/>
              <a:ext cx="16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224400" y="1022040"/>
              <a:ext cx="924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Note to patien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514920" y="1172880"/>
              <a:ext cx="30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ch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067440" y="896760"/>
              <a:ext cx="1147680" cy="5439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041880" y="871560"/>
              <a:ext cx="1139760" cy="536400"/>
            </a:xfrm>
            <a:prstGeom prst="rect">
              <a:avLst/>
            </a:prstGeom>
            <a:solidFill>
              <a:srgbClr val="eaeaea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231960" y="996840"/>
              <a:ext cx="866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te negativ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6545160" y="2572920"/>
              <a:ext cx="92160" cy="528120"/>
              <a:chOff x="6545160" y="2572920"/>
              <a:chExt cx="92160" cy="528120"/>
            </a:xfrm>
          </p:grpSpPr>
          <p:sp>
            <p:nvSpPr>
              <p:cNvPr id="321" name=""/>
              <p:cNvSpPr/>
              <p:nvPr/>
            </p:nvSpPr>
            <p:spPr>
              <a:xfrm>
                <a:off x="6586560" y="2572920"/>
                <a:ext cx="1440" cy="453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545160" y="3009240"/>
                <a:ext cx="9216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0"/>
                    </a:moveTo>
                    <a:lnTo>
                      <a:pt x="26" y="58"/>
                    </a:lnTo>
                    <a:lnTo>
                      <a:pt x="5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6243480" y="2792160"/>
              <a:ext cx="376200" cy="22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031800" y="2815920"/>
              <a:ext cx="55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ssibl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163200" y="3377880"/>
              <a:ext cx="878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Grade sever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33960" y="3178080"/>
              <a:ext cx="1081080" cy="5439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08400" y="3152520"/>
              <a:ext cx="1071720" cy="536040"/>
            </a:xfrm>
            <a:prstGeom prst="rect">
              <a:avLst/>
            </a:prstGeom>
            <a:solidFill>
              <a:srgbClr val="eaeaea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137640" y="3354120"/>
              <a:ext cx="878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rade sever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7097760" y="3377880"/>
              <a:ext cx="191880" cy="93240"/>
              <a:chOff x="7097760" y="3377880"/>
              <a:chExt cx="191880" cy="93240"/>
            </a:xfrm>
          </p:grpSpPr>
          <p:sp>
            <p:nvSpPr>
              <p:cNvPr id="330" name=""/>
              <p:cNvSpPr/>
              <p:nvPr/>
            </p:nvSpPr>
            <p:spPr>
              <a:xfrm>
                <a:off x="7097760" y="3420360"/>
                <a:ext cx="125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207200" y="3377880"/>
                <a:ext cx="82440" cy="93240"/>
              </a:xfrm>
              <a:custGeom>
                <a:avLst/>
                <a:gdLst/>
                <a:ahLst/>
                <a:rect l="l" t="t" r="r" b="b"/>
                <a:pathLst>
                  <a:path w="52" h="59">
                    <a:moveTo>
                      <a:pt x="0" y="59"/>
                    </a:moveTo>
                    <a:lnTo>
                      <a:pt x="52" y="27"/>
                    </a:lnTo>
                    <a:lnTo>
                      <a:pt x="0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7455240" y="3369960"/>
              <a:ext cx="942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Grade causal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315200" y="3168360"/>
              <a:ext cx="1147680" cy="5457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289640" y="3144600"/>
              <a:ext cx="1203480" cy="536040"/>
            </a:xfrm>
            <a:prstGeom prst="rect">
              <a:avLst/>
            </a:prstGeom>
            <a:solidFill>
              <a:srgbClr val="eaeaea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33200" y="3344760"/>
              <a:ext cx="1139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stablish causal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2320920" y="2128680"/>
              <a:ext cx="1098360" cy="91440"/>
              <a:chOff x="2320920" y="2128680"/>
              <a:chExt cx="1098360" cy="91440"/>
            </a:xfrm>
          </p:grpSpPr>
          <p:sp>
            <p:nvSpPr>
              <p:cNvPr id="337" name=""/>
              <p:cNvSpPr/>
              <p:nvPr/>
            </p:nvSpPr>
            <p:spPr>
              <a:xfrm>
                <a:off x="2320920" y="2171160"/>
                <a:ext cx="102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327120" y="2128680"/>
                <a:ext cx="92160" cy="9144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58"/>
                    </a:moveTo>
                    <a:lnTo>
                      <a:pt x="58" y="32"/>
                    </a:lnTo>
                    <a:lnTo>
                      <a:pt x="0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1822320" y="3420720"/>
              <a:ext cx="6864120" cy="737640"/>
              <a:chOff x="1822320" y="3420720"/>
              <a:chExt cx="6864120" cy="737640"/>
            </a:xfrm>
          </p:grpSpPr>
          <p:sp>
            <p:nvSpPr>
              <p:cNvPr id="340" name=""/>
              <p:cNvSpPr/>
              <p:nvPr/>
            </p:nvSpPr>
            <p:spPr>
              <a:xfrm>
                <a:off x="1865160" y="3420720"/>
                <a:ext cx="6821280" cy="669600"/>
              </a:xfrm>
              <a:custGeom>
                <a:avLst/>
                <a:gdLst/>
                <a:ahLst/>
                <a:rect l="l" t="t" r="r" b="b"/>
                <a:pathLst>
                  <a:path w="4265" h="422">
                    <a:moveTo>
                      <a:pt x="4148" y="0"/>
                    </a:moveTo>
                    <a:lnTo>
                      <a:pt x="4265" y="0"/>
                    </a:lnTo>
                    <a:lnTo>
                      <a:pt x="4265" y="349"/>
                    </a:lnTo>
                    <a:lnTo>
                      <a:pt x="0" y="349"/>
                    </a:lnTo>
                    <a:lnTo>
                      <a:pt x="0" y="422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822320" y="4074480"/>
                <a:ext cx="92160" cy="83880"/>
              </a:xfrm>
              <a:custGeom>
                <a:avLst/>
                <a:gdLst/>
                <a:ahLst/>
                <a:rect l="l" t="t" r="r" b="b"/>
                <a:pathLst>
                  <a:path w="58" h="53">
                    <a:moveTo>
                      <a:pt x="0" y="0"/>
                    </a:moveTo>
                    <a:lnTo>
                      <a:pt x="32" y="53"/>
                    </a:lnTo>
                    <a:lnTo>
                      <a:pt x="5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2614320" y="4325760"/>
              <a:ext cx="385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28440" y="4368600"/>
              <a:ext cx="22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1809720" y="4955760"/>
              <a:ext cx="91800" cy="510480"/>
              <a:chOff x="1809720" y="4955760"/>
              <a:chExt cx="91800" cy="510480"/>
            </a:xfrm>
          </p:grpSpPr>
          <p:sp>
            <p:nvSpPr>
              <p:cNvPr id="345" name=""/>
              <p:cNvSpPr/>
              <p:nvPr/>
            </p:nvSpPr>
            <p:spPr>
              <a:xfrm>
                <a:off x="1852560" y="4955760"/>
                <a:ext cx="1440" cy="43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809720" y="5374800"/>
                <a:ext cx="91800" cy="9144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0"/>
                    </a:moveTo>
                    <a:lnTo>
                      <a:pt x="32" y="58"/>
                    </a:lnTo>
                    <a:lnTo>
                      <a:pt x="5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1482480" y="4955760"/>
              <a:ext cx="32724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595160" y="4997160"/>
              <a:ext cx="16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77520" y="557496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Record as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499400" y="5727600"/>
              <a:ext cx="822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AE, causalit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610640" y="5878080"/>
              <a:ext cx="55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unknow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382760" y="5526000"/>
              <a:ext cx="947520" cy="5439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357200" y="5500440"/>
              <a:ext cx="938160" cy="536040"/>
            </a:xfrm>
            <a:prstGeom prst="rect">
              <a:avLst/>
            </a:prstGeom>
            <a:solidFill>
              <a:srgbClr val="eaeaea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51960" y="555120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cord as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73840" y="5702040"/>
              <a:ext cx="822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E, causalit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85440" y="5852880"/>
              <a:ext cx="55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nknow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585320" y="4511520"/>
              <a:ext cx="363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Follow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939920" y="45115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982760" y="4511520"/>
              <a:ext cx="943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up procedures &amp;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584960" y="4646520"/>
              <a:ext cx="447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track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676400" y="477972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99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733640" y="4779720"/>
              <a:ext cx="23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LO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676400" y="491472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99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735800" y="4914720"/>
              <a:ext cx="497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Outcom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676400" y="504792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99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742280" y="5047920"/>
              <a:ext cx="805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Diagnoses . . .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67240" y="4309920"/>
              <a:ext cx="1523880" cy="10551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41680" y="4284360"/>
              <a:ext cx="1515960" cy="1047600"/>
            </a:xfrm>
            <a:prstGeom prst="rect">
              <a:avLst/>
            </a:prstGeom>
            <a:solidFill>
              <a:srgbClr val="eaeaea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561560" y="4485960"/>
              <a:ext cx="363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ollow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914360" y="44859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959000" y="4485960"/>
              <a:ext cx="943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up procedures &amp;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561200" y="4620960"/>
              <a:ext cx="447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rack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650840" y="475416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709880" y="4754160"/>
              <a:ext cx="23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O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650840" y="488916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712040" y="4889160"/>
              <a:ext cx="497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Outcom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650840" y="502272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18520" y="5022720"/>
              <a:ext cx="805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iagnoses . . .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95520" y="5584680"/>
              <a:ext cx="430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Inform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75200" y="5735520"/>
              <a:ext cx="880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clinicians tha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141720" y="5878080"/>
              <a:ext cx="915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ADE confirm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025800" y="5517720"/>
              <a:ext cx="1081080" cy="577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000240" y="5492520"/>
              <a:ext cx="1071720" cy="569520"/>
            </a:xfrm>
            <a:prstGeom prst="rect">
              <a:avLst/>
            </a:prstGeom>
            <a:solidFill>
              <a:srgbClr val="eaeaea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369960" y="5559120"/>
              <a:ext cx="430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form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150000" y="5709960"/>
              <a:ext cx="880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linicians tha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116520" y="5852880"/>
              <a:ext cx="915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E confirm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5975280" y="4552560"/>
              <a:ext cx="828720" cy="91800"/>
              <a:chOff x="5975280" y="4552560"/>
              <a:chExt cx="828720" cy="91800"/>
            </a:xfrm>
          </p:grpSpPr>
          <p:sp>
            <p:nvSpPr>
              <p:cNvPr id="388" name=""/>
              <p:cNvSpPr/>
              <p:nvPr/>
            </p:nvSpPr>
            <p:spPr>
              <a:xfrm>
                <a:off x="5975280" y="4593600"/>
                <a:ext cx="7538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711840" y="4552560"/>
                <a:ext cx="9216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58"/>
                    </a:moveTo>
                    <a:lnTo>
                      <a:pt x="58" y="26"/>
                    </a:lnTo>
                    <a:lnTo>
                      <a:pt x="0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7196400" y="4393800"/>
              <a:ext cx="45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Send to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151040" y="452880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database,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981120" y="4662360"/>
              <a:ext cx="93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generate report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099200" y="4797000"/>
              <a:ext cx="631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to P&amp;T, etc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837120" y="4368600"/>
              <a:ext cx="1081080" cy="577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811920" y="4343040"/>
              <a:ext cx="1073160" cy="569520"/>
            </a:xfrm>
            <a:prstGeom prst="rect">
              <a:avLst/>
            </a:prstGeom>
            <a:solidFill>
              <a:srgbClr val="eaeaea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71200" y="4368600"/>
              <a:ext cx="45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end to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125840" y="450360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atabase,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955560" y="4636800"/>
              <a:ext cx="93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generate report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074000" y="4771800"/>
              <a:ext cx="631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o P&amp;T, etc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987600" y="5349600"/>
              <a:ext cx="906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Incorporate into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049160" y="5484600"/>
              <a:ext cx="773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patient safety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114680" y="5617800"/>
              <a:ext cx="651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continuou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058880" y="5752800"/>
              <a:ext cx="75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improvement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257960" y="588636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cyc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837120" y="5316120"/>
              <a:ext cx="1081080" cy="7380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11920" y="5290920"/>
              <a:ext cx="1073160" cy="728280"/>
            </a:xfrm>
            <a:prstGeom prst="rect">
              <a:avLst/>
            </a:prstGeom>
            <a:solidFill>
              <a:srgbClr val="eaeaea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962040" y="5324040"/>
              <a:ext cx="906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corporate into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023600" y="5459040"/>
              <a:ext cx="773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atient safety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090920" y="5592600"/>
              <a:ext cx="651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ntinuou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035120" y="5727600"/>
              <a:ext cx="75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mprovement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234200" y="58608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7307280" y="4905000"/>
              <a:ext cx="91800" cy="393120"/>
              <a:chOff x="7307280" y="4905000"/>
              <a:chExt cx="91800" cy="393120"/>
            </a:xfrm>
          </p:grpSpPr>
          <p:sp>
            <p:nvSpPr>
              <p:cNvPr id="413" name=""/>
              <p:cNvSpPr/>
              <p:nvPr/>
            </p:nvSpPr>
            <p:spPr>
              <a:xfrm>
                <a:off x="7348320" y="4905000"/>
                <a:ext cx="1800" cy="318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307280" y="5206320"/>
                <a:ext cx="9180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0"/>
                    </a:moveTo>
                    <a:lnTo>
                      <a:pt x="32" y="58"/>
                    </a:lnTo>
                    <a:lnTo>
                      <a:pt x="5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1712880" y="118260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990000"/>
                  </a:solidFill>
                  <a:latin typeface="Arial"/>
                </a:rPr>
                <a:t>Star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449360" y="921960"/>
              <a:ext cx="763560" cy="679320"/>
            </a:xfrm>
            <a:prstGeom prst="ellips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425600" y="896760"/>
              <a:ext cx="753840" cy="669600"/>
            </a:xfrm>
            <a:prstGeom prst="ellipse">
              <a:avLst/>
            </a:prstGeom>
            <a:solidFill>
              <a:srgbClr val="eaeaea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687680" y="11570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1784160" y="1601640"/>
              <a:ext cx="93600" cy="291240"/>
              <a:chOff x="1784160" y="1601640"/>
              <a:chExt cx="93600" cy="291240"/>
            </a:xfrm>
          </p:grpSpPr>
          <p:sp>
            <p:nvSpPr>
              <p:cNvPr id="420" name=""/>
              <p:cNvSpPr/>
              <p:nvPr/>
            </p:nvSpPr>
            <p:spPr>
              <a:xfrm>
                <a:off x="1827000" y="1601640"/>
                <a:ext cx="1800" cy="217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784160" y="1801080"/>
                <a:ext cx="93600" cy="91800"/>
              </a:xfrm>
              <a:custGeom>
                <a:avLst/>
                <a:gdLst/>
                <a:ahLst/>
                <a:rect l="l" t="t" r="r" b="b"/>
                <a:pathLst>
                  <a:path w="59" h="58">
                    <a:moveTo>
                      <a:pt x="0" y="0"/>
                    </a:moveTo>
                    <a:lnTo>
                      <a:pt x="27" y="58"/>
                    </a:lnTo>
                    <a:lnTo>
                      <a:pt x="5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3801600" y="945720"/>
              <a:ext cx="76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Interventio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907440" y="1098360"/>
              <a:ext cx="55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in care if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45960" y="1249200"/>
              <a:ext cx="44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need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78120" y="896760"/>
              <a:ext cx="930240" cy="5439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654360" y="871560"/>
              <a:ext cx="920520" cy="536400"/>
            </a:xfrm>
            <a:prstGeom prst="rect">
              <a:avLst/>
            </a:prstGeom>
            <a:solidFill>
              <a:srgbClr val="eaeaea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76400" y="921960"/>
              <a:ext cx="76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terventio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882240" y="1072800"/>
              <a:ext cx="55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 care if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921840" y="1223640"/>
              <a:ext cx="44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ed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2732040" y="4570200"/>
              <a:ext cx="284040" cy="1256400"/>
              <a:chOff x="2732040" y="4570200"/>
              <a:chExt cx="284040" cy="1256400"/>
            </a:xfrm>
          </p:grpSpPr>
          <p:sp>
            <p:nvSpPr>
              <p:cNvPr id="431" name=""/>
              <p:cNvSpPr/>
              <p:nvPr/>
            </p:nvSpPr>
            <p:spPr>
              <a:xfrm>
                <a:off x="2732040" y="4570200"/>
                <a:ext cx="209520" cy="1206000"/>
              </a:xfrm>
              <a:custGeom>
                <a:avLst/>
                <a:gdLst/>
                <a:ahLst/>
                <a:rect l="l" t="t" r="r" b="b"/>
                <a:pathLst>
                  <a:path w="132" h="760">
                    <a:moveTo>
                      <a:pt x="0" y="0"/>
                    </a:moveTo>
                    <a:lnTo>
                      <a:pt x="0" y="760"/>
                    </a:lnTo>
                    <a:lnTo>
                      <a:pt x="132" y="76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923920" y="5735160"/>
                <a:ext cx="92160" cy="9144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58"/>
                    </a:moveTo>
                    <a:lnTo>
                      <a:pt x="58" y="32"/>
                    </a:lnTo>
                    <a:lnTo>
                      <a:pt x="0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639880" y="4527360"/>
              <a:ext cx="1784520" cy="91800"/>
              <a:chOff x="2639880" y="4527360"/>
              <a:chExt cx="1784520" cy="91800"/>
            </a:xfrm>
          </p:grpSpPr>
          <p:sp>
            <p:nvSpPr>
              <p:cNvPr id="434" name=""/>
              <p:cNvSpPr/>
              <p:nvPr/>
            </p:nvSpPr>
            <p:spPr>
              <a:xfrm>
                <a:off x="2639880" y="4569840"/>
                <a:ext cx="17096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332240" y="4527360"/>
                <a:ext cx="9216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58"/>
                    </a:moveTo>
                    <a:lnTo>
                      <a:pt x="58" y="32"/>
                    </a:lnTo>
                    <a:lnTo>
                      <a:pt x="0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4809960" y="2138040"/>
              <a:ext cx="1122480" cy="91800"/>
              <a:chOff x="4809960" y="2138040"/>
              <a:chExt cx="1122480" cy="91800"/>
            </a:xfrm>
          </p:grpSpPr>
          <p:sp>
            <p:nvSpPr>
              <p:cNvPr id="437" name=""/>
              <p:cNvSpPr/>
              <p:nvPr/>
            </p:nvSpPr>
            <p:spPr>
              <a:xfrm>
                <a:off x="4809960" y="2179080"/>
                <a:ext cx="10558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848200" y="2138040"/>
                <a:ext cx="84240" cy="91800"/>
              </a:xfrm>
              <a:custGeom>
                <a:avLst/>
                <a:gdLst/>
                <a:ahLst/>
                <a:rect l="l" t="t" r="r" b="b"/>
                <a:pathLst>
                  <a:path w="53" h="58">
                    <a:moveTo>
                      <a:pt x="0" y="58"/>
                    </a:moveTo>
                    <a:lnTo>
                      <a:pt x="53" y="26"/>
                    </a:lnTo>
                    <a:lnTo>
                      <a:pt x="0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Coagulation-Related AD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76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ert: warfarin and an INR &gt; 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gation: Adult patient previously admitted for A. fib, discharged on warfarin.  Patient returned to the ED 10 days later feeling unwell; while in the ED, vomited 200cc of bright red blood.  INR was 12.3.  Patient required FFP and vitamin K, and was transferred to the IC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71240" y="213840"/>
            <a:ext cx="705636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metimes we find something else: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ert: Nalox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gation: Patient administered Midazolam 2mg IV and Fentanyl 50 mcg for upper GI, plus ? sprays cetacaine for procedure.  Later found unresponsive, hypotensive, with respiratory compromise. Naloxone given with no response. Methemoglobin level =13.7. Patient administered methlyene blue 90mg IV with reduction of methemoglobin level to 1.3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UH ADEs by Category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 month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789120" y="1295280"/>
          <a:ext cx="8202600" cy="503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9120" y="1295280"/>
                    <a:ext cx="8202600" cy="50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6:33:36Z</dcterms:created>
  <dc:creator>Lisa Amsbauh</dc:creator>
  <dc:description/>
  <dc:language>en-US</dc:language>
  <cp:lastModifiedBy>Peter M  Kilbridge</cp:lastModifiedBy>
  <dcterms:modified xsi:type="dcterms:W3CDTF">2007-09-17T17:41:23Z</dcterms:modified>
  <cp:revision>150</cp:revision>
  <dc:subject/>
  <dc:title>ADE Surveillance Summary &amp; Analysis of Data Duke University Hospital Dec 2004 – Feb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