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0E36-620C-4A38-8964-6046ABF52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7554-93C8-4ECE-808C-45C88F383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36520" y="689040"/>
            <a:ext cx="4686480" cy="35146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9080" y="4432320"/>
            <a:ext cx="5122800" cy="42019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l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1916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9568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264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1916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9568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271080"/>
            <a:ext cx="7620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1916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95680" y="121932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14264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1916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95680" y="376668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271080"/>
            <a:ext cx="7620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560" y="376668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7560" y="121932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2640" y="376668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108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2193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SzPct val="4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15840" y="10206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96360" y="64612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232C-A05C-4FC5-A96A-693B1980DA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54056" t="0" r="0" b="0"/>
          <a:stretch/>
        </p:blipFill>
        <p:spPr>
          <a:xfrm>
            <a:off x="-3240" y="6059520"/>
            <a:ext cx="1755720" cy="79848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76320" y="0"/>
            <a:ext cx="838080" cy="4680000"/>
            <a:chOff x="76320" y="0"/>
            <a:chExt cx="838080" cy="4680000"/>
          </a:xfrm>
        </p:grpSpPr>
        <p:sp>
          <p:nvSpPr>
            <p:cNvPr id="6" name=""/>
            <p:cNvSpPr/>
            <p:nvPr/>
          </p:nvSpPr>
          <p:spPr>
            <a:xfrm>
              <a:off x="203040" y="12600"/>
              <a:ext cx="373320" cy="4667400"/>
            </a:xfrm>
            <a:prstGeom prst="rect">
              <a:avLst/>
            </a:prstGeom>
            <a:gradFill rotWithShape="0">
              <a:gsLst>
                <a:gs pos="0">
                  <a:srgbClr val="858585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320" y="0"/>
              <a:ext cx="838080" cy="3352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228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860000"/>
                </a:gs>
                <a:gs pos="100000">
                  <a:srgbClr val="c8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80880" y="0"/>
              <a:ext cx="304920" cy="2698920"/>
            </a:xfrm>
            <a:prstGeom prst="rect">
              <a:avLst/>
            </a:prstGeom>
            <a:gradFill rotWithShape="0">
              <a:gsLst>
                <a:gs pos="0">
                  <a:srgbClr val="006c00"/>
                </a:gs>
                <a:gs pos="100000">
                  <a:srgbClr val="00a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3040" y="12600"/>
            <a:ext cx="373320" cy="4667400"/>
          </a:xfrm>
          <a:prstGeom prst="rect">
            <a:avLst/>
          </a:prstGeom>
          <a:gradFill rotWithShape="0">
            <a:gsLst>
              <a:gs pos="0">
                <a:srgbClr val="858585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0"/>
            <a:ext cx="838080" cy="33526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0"/>
            <a:ext cx="304920" cy="3886200"/>
          </a:xfrm>
          <a:prstGeom prst="rect">
            <a:avLst/>
          </a:prstGeom>
          <a:gradFill rotWithShape="0">
            <a:gsLst>
              <a:gs pos="0">
                <a:srgbClr val="860000"/>
              </a:gs>
              <a:gs pos="100000">
                <a:srgbClr val="c8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0"/>
            <a:ext cx="304920" cy="2698920"/>
          </a:xfrm>
          <a:prstGeom prst="rect">
            <a:avLst/>
          </a:prstGeom>
          <a:gradFill rotWithShape="0">
            <a:gsLst>
              <a:gs pos="0">
                <a:srgbClr val="006c00"/>
              </a:gs>
              <a:gs pos="100000">
                <a:srgbClr val="00a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5840" y="10206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54056" t="0" r="0" b="0"/>
          <a:stretch/>
        </p:blipFill>
        <p:spPr>
          <a:xfrm>
            <a:off x="52560" y="5562720"/>
            <a:ext cx="2614320" cy="1189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808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utomated Surveill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Adverse Drug Events at Duke University Health System</a:t>
            </a:r>
            <a:br>
              <a:rPr sz="4000"/>
            </a:br>
            <a:br>
              <a:rPr sz="28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ter M. Kilbridge, M.D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hington University School of Medicin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HRQ Technology and Patient Safe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 26, 200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rates from computerized surveillance 1991-2005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1066680" y="1752480"/>
          <a:ext cx="7772400" cy="22827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en et al. 19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 ADEs per 100 admi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ha et al. 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1         “                  “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ke 2005 – 2 hospital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.4, 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rwitz 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 ADEs per 1000 pt-yrs (ambulatory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3032280" y="62085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990720" y="1295280"/>
            <a:ext cx="7848360" cy="4386240"/>
            <a:chOff x="990720" y="1295280"/>
            <a:chExt cx="7848360" cy="4386240"/>
          </a:xfrm>
        </p:grpSpPr>
        <p:graphicFrame>
          <p:nvGraphicFramePr>
            <p:cNvPr id="450" name=""/>
            <p:cNvGraphicFramePr/>
            <p:nvPr/>
          </p:nvGraphicFramePr>
          <p:xfrm>
            <a:off x="1981080" y="1295280"/>
            <a:ext cx="5645160" cy="438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295280"/>
                      <a:ext cx="5645160" cy="438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2" name=""/>
            <p:cNvSpPr/>
            <p:nvPr/>
          </p:nvSpPr>
          <p:spPr>
            <a:xfrm>
              <a:off x="2743200" y="1600200"/>
              <a:ext cx="3505320" cy="3429000"/>
            </a:xfrm>
            <a:prstGeom prst="ellipse">
              <a:avLst/>
            </a:prstGeom>
            <a:solidFill>
              <a:srgbClr val="cc99ff">
                <a:alpha val="78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334120" y="2971800"/>
              <a:ext cx="1523880" cy="1447920"/>
            </a:xfrm>
            <a:prstGeom prst="ellipse">
              <a:avLst/>
            </a:prstGeom>
            <a:solidFill>
              <a:srgbClr val="99ccff">
                <a:alpha val="34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1120" y="31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62720" y="3505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24480" y="3657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90720" y="4267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E Surveill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29400" y="42670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oluntary repor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52680" y="525780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Inpatient ADEs = 58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Surveillance v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Voluntary Reporting: 4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H ADE Categories by Month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89120" y="750960"/>
          <a:ext cx="820260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750960"/>
                    <a:ext cx="820260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ne Hospital’s ADEs by Loc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89120" y="1066680"/>
          <a:ext cx="8202600" cy="48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066680"/>
                    <a:ext cx="8202600" cy="48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rates at two hospitals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 months, 200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141560" y="878040"/>
          <a:ext cx="7316640" cy="597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1560" y="878040"/>
                    <a:ext cx="731664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6553080" y="1143000"/>
            <a:ext cx="609840" cy="1523880"/>
          </a:xfrm>
          <a:custGeom>
            <a:avLst/>
            <a:gdLst>
              <a:gd name="textAreaLeft" fmla="*/ 81720 w 609840"/>
              <a:gd name="textAreaRight" fmla="*/ 528120 w 60984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126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sures to address the problem at problem hospital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84872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ean the rooms of C. diff patients with bleach; switching wipes used on wards to hypochlorite-based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letters to MDs, hospital personnel that alcohol foam shouldn't be used for hand hygiene when C. diff a concern; isolation signs updated to include sam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ttendings and rooms of patients with C. diff to get a better handle on the problem; feedback a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Aft>
                <a:spcPts val="1500"/>
              </a:spcAft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8458200" y="3505320"/>
            <a:ext cx="685800" cy="533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C. difficil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olitis, 2 hospitals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09480" y="1143000"/>
            <a:ext cx="9220320" cy="4797360"/>
            <a:chOff x="609480" y="1143000"/>
            <a:chExt cx="9220320" cy="4797360"/>
          </a:xfrm>
        </p:grpSpPr>
        <p:graphicFrame>
          <p:nvGraphicFramePr>
            <p:cNvPr id="476" name=""/>
            <p:cNvGraphicFramePr/>
            <p:nvPr/>
          </p:nvGraphicFramePr>
          <p:xfrm>
            <a:off x="609480" y="1143000"/>
            <a:ext cx="9220320" cy="4797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143000"/>
                      <a:ext cx="9220320" cy="479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8" name=""/>
            <p:cNvSpPr/>
            <p:nvPr/>
          </p:nvSpPr>
          <p:spPr>
            <a:xfrm>
              <a:off x="4572720" y="1763640"/>
              <a:ext cx="1985400" cy="127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98920" y="1386000"/>
              <a:ext cx="21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620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diatrics vs. Adults (12 mo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80880" y="858960"/>
          <a:ext cx="8763120" cy="52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58960"/>
                    <a:ext cx="8763120" cy="52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"/>
          <p:cNvGraphicFramePr/>
          <p:nvPr/>
        </p:nvGraphicFramePr>
        <p:xfrm>
          <a:off x="380880" y="457200"/>
          <a:ext cx="8763120" cy="578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76312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"/>
          <p:cNvSpPr/>
          <p:nvPr/>
        </p:nvSpPr>
        <p:spPr>
          <a:xfrm>
            <a:off x="838080" y="763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diatrics: ADE vs. Voluntary Reporting (12 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893880" y="1317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ed ADE Surveillance: Challen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king where the light is: we are limited by available data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s consistently across large populations, but is not 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urce requirement for eval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best to use the data on ADE inc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as a primary measure of medication safe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used to design, implement, monitor safety improvemen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6197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can we measure adverse events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066320"/>
            <a:ext cx="7910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organizations: Voluntary reporting is the only mechanism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ecd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ses the majority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t revie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resource-int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in effectiveness (e.g., implicit vs. explicit review methodolog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compreh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ized surveillance: effective, but rarely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IT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requires significant clinical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893880" y="1317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utomated ADE Surveillanc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990720" y="12193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Washington University / St. Louis Children’s Hospi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vent Detector expert system to detect ADEs in pediatric inpatients across SL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 of pediatric patients with chronic disease in the ambulatory setting and across transitions in care (AHRQ R18 Award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cer, Sickle Cell Disease, Cystic Fibr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clinic notes (text analysis), pharmacy, laboratory, ED, inpatient and ambulatory EM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trigger types for these particular patient popu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123720" y="2590560"/>
            <a:ext cx="358164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019880" y="257760"/>
            <a:ext cx="7789320" cy="55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automated ADE detection works: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ized surveillance of patient data searching for evidence suggesting that an ADE has occu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engine uses combinations of data to detect potential ADEs and fire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s that fire are investigated by study clinicians to determine causality:whether they represent true ADEs, and if so, grade severity and nature of 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rules engine for 3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943280" y="343080"/>
            <a:ext cx="5942520" cy="7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s of Surveillance Ru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28440" y="1066320"/>
            <a:ext cx="6095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dote ordered/dispen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xic serum drug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ologic parameters changing + active order for a med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parin AND rapidly falling platelet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phrotoxic medication AND rising 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glycemia AND D25, D50 or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R &gt; 4 AND active order for warfarin ..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943280" y="343080"/>
            <a:ext cx="5942520" cy="71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ring Causality and Sever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828440" y="12189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alit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that a signal represents a true Adverse Drug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anjo algorith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Clin. Pharmaco. Ther. 1981;30:239-245)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re must be probable or defininte to count as an 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ke severity scoring system, 0-6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NCC-MERP, 3 and over equals harm to the pat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848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E Surveillance: Evaluation Proces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081080" y="871560"/>
            <a:ext cx="7605360" cy="5223960"/>
            <a:chOff x="1081080" y="871560"/>
            <a:chExt cx="7605360" cy="5223960"/>
          </a:xfrm>
        </p:grpSpPr>
        <p:sp>
          <p:nvSpPr>
            <p:cNvPr id="108" name=""/>
            <p:cNvSpPr/>
            <p:nvPr/>
          </p:nvSpPr>
          <p:spPr>
            <a:xfrm>
              <a:off x="1601640" y="44431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7760" y="45939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081080" y="4159080"/>
              <a:ext cx="1566720" cy="829440"/>
              <a:chOff x="1081080" y="4159080"/>
              <a:chExt cx="1566720" cy="829440"/>
            </a:xfrm>
          </p:grpSpPr>
          <p:sp>
            <p:nvSpPr>
              <p:cNvPr id="111" name=""/>
              <p:cNvSpPr/>
              <p:nvPr/>
            </p:nvSpPr>
            <p:spPr>
              <a:xfrm>
                <a:off x="1106280" y="4183920"/>
                <a:ext cx="1541520" cy="80460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81080" y="4159080"/>
                <a:ext cx="1541160" cy="80424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1576080" y="4417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200" y="457020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28640" y="20538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24160" y="21967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15800" y="1928520"/>
              <a:ext cx="1014480" cy="544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90600" y="1903320"/>
              <a:ext cx="1004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04880" y="2028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98960" y="21715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95120" y="188568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91720" y="203652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82800" y="218736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16920" y="233028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7960" y="1801440"/>
              <a:ext cx="1339920" cy="763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52760" y="1777680"/>
              <a:ext cx="1332000" cy="7538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71360" y="186012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66520" y="2010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57600" y="216180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91720" y="230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76320" y="2070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0960" y="2212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941800" y="1793520"/>
              <a:ext cx="1306440" cy="804240"/>
              <a:chOff x="5941800" y="1793520"/>
              <a:chExt cx="1306440" cy="804240"/>
            </a:xfrm>
          </p:grpSpPr>
          <p:sp>
            <p:nvSpPr>
              <p:cNvPr id="134" name=""/>
              <p:cNvSpPr/>
              <p:nvPr/>
            </p:nvSpPr>
            <p:spPr>
              <a:xfrm>
                <a:off x="5957640" y="1818720"/>
                <a:ext cx="1290600" cy="779040"/>
              </a:xfrm>
              <a:custGeom>
                <a:avLst/>
                <a:gdLst/>
                <a:ahLst/>
                <a:rect l="l" t="t" r="r" b="b"/>
                <a:pathLst>
                  <a:path w="813" h="491">
                    <a:moveTo>
                      <a:pt x="407" y="0"/>
                    </a:moveTo>
                    <a:lnTo>
                      <a:pt x="0" y="243"/>
                    </a:lnTo>
                    <a:lnTo>
                      <a:pt x="407" y="491"/>
                    </a:lnTo>
                    <a:lnTo>
                      <a:pt x="813" y="24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1800" y="1793520"/>
                <a:ext cx="1281240" cy="779040"/>
              </a:xfrm>
              <a:custGeom>
                <a:avLst/>
                <a:gdLst/>
                <a:ahLst/>
                <a:rect l="l" t="t" r="r" b="b"/>
                <a:pathLst>
                  <a:path w="807" h="491">
                    <a:moveTo>
                      <a:pt x="401" y="0"/>
                    </a:moveTo>
                    <a:lnTo>
                      <a:pt x="0" y="248"/>
                    </a:lnTo>
                    <a:lnTo>
                      <a:pt x="401" y="491"/>
                    </a:lnTo>
                    <a:lnTo>
                      <a:pt x="807" y="248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351120" y="20458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95400" y="21873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071960" y="1407960"/>
              <a:ext cx="93600" cy="369000"/>
              <a:chOff x="4071960" y="1407960"/>
              <a:chExt cx="93600" cy="369000"/>
            </a:xfrm>
          </p:grpSpPr>
          <p:sp>
            <p:nvSpPr>
              <p:cNvPr id="139" name=""/>
              <p:cNvSpPr/>
              <p:nvPr/>
            </p:nvSpPr>
            <p:spPr>
              <a:xfrm>
                <a:off x="4114800" y="1742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14800" y="16837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114800" y="16250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14800" y="156636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14800" y="15073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114800" y="1474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071960" y="1407960"/>
                <a:ext cx="93600" cy="9144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535440" y="1407960"/>
              <a:ext cx="92160" cy="402480"/>
              <a:chOff x="6535440" y="1407960"/>
              <a:chExt cx="92160" cy="4024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6578640" y="1474200"/>
                <a:ext cx="1440" cy="336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35440" y="14079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6267240" y="1533240"/>
              <a:ext cx="3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72000" y="15760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24400" y="10220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920" y="11728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067440" y="896760"/>
              <a:ext cx="11476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41880" y="871560"/>
              <a:ext cx="113976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199200" y="9968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89360" y="114732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545160" y="2572920"/>
              <a:ext cx="92160" cy="528120"/>
              <a:chOff x="6545160" y="2572920"/>
              <a:chExt cx="92160" cy="528120"/>
            </a:xfrm>
          </p:grpSpPr>
          <p:sp>
            <p:nvSpPr>
              <p:cNvPr id="158" name=""/>
              <p:cNvSpPr/>
              <p:nvPr/>
            </p:nvSpPr>
            <p:spPr>
              <a:xfrm>
                <a:off x="6586560" y="2572920"/>
                <a:ext cx="144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45160" y="30092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243480" y="2792160"/>
              <a:ext cx="376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63200" y="337788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33960" y="3178080"/>
              <a:ext cx="10810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08400" y="3152520"/>
              <a:ext cx="107172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37640" y="335412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7097760" y="3377880"/>
              <a:ext cx="191880" cy="93240"/>
              <a:chOff x="7097760" y="3377880"/>
              <a:chExt cx="191880" cy="93240"/>
            </a:xfrm>
          </p:grpSpPr>
          <p:sp>
            <p:nvSpPr>
              <p:cNvPr id="166" name=""/>
              <p:cNvSpPr/>
              <p:nvPr/>
            </p:nvSpPr>
            <p:spPr>
              <a:xfrm>
                <a:off x="7097760" y="3420360"/>
                <a:ext cx="125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207200" y="3377880"/>
                <a:ext cx="82440" cy="9324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52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7455240" y="33699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5200" y="3168360"/>
              <a:ext cx="1147680" cy="545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9640" y="3144600"/>
              <a:ext cx="1139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33447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320920" y="2128680"/>
              <a:ext cx="1098360" cy="91440"/>
              <a:chOff x="2320920" y="2128680"/>
              <a:chExt cx="1098360" cy="91440"/>
            </a:xfrm>
          </p:grpSpPr>
          <p:sp>
            <p:nvSpPr>
              <p:cNvPr id="173" name=""/>
              <p:cNvSpPr/>
              <p:nvPr/>
            </p:nvSpPr>
            <p:spPr>
              <a:xfrm>
                <a:off x="2320920" y="2171160"/>
                <a:ext cx="102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27120" y="212868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614320" y="4325760"/>
              <a:ext cx="385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8440" y="436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809720" y="4955760"/>
              <a:ext cx="91800" cy="510480"/>
              <a:chOff x="1809720" y="4955760"/>
              <a:chExt cx="91800" cy="510480"/>
            </a:xfrm>
          </p:grpSpPr>
          <p:sp>
            <p:nvSpPr>
              <p:cNvPr id="178" name=""/>
              <p:cNvSpPr/>
              <p:nvPr/>
            </p:nvSpPr>
            <p:spPr>
              <a:xfrm>
                <a:off x="1852560" y="495576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09720" y="53748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1482480" y="4955760"/>
              <a:ext cx="3272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95160" y="499716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77520" y="557496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99400" y="572760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10640" y="58780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82760" y="5526000"/>
              <a:ext cx="94752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57200" y="5500440"/>
              <a:ext cx="9381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51960" y="55512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73840" y="57020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5440" y="58528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5320" y="451152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39920" y="4511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2760" y="451152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84960" y="46465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76400" y="4779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33640" y="477972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76400" y="491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35800" y="491472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76400" y="5047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2280" y="50479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67240" y="4309920"/>
              <a:ext cx="1523880" cy="105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41680" y="4284360"/>
              <a:ext cx="1515960" cy="10476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61560" y="448596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14360" y="448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59000" y="448596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61200" y="462096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50840" y="4754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09880" y="47541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50840" y="4889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2040" y="488916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50840" y="5022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8520" y="50227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95520" y="558468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75200" y="57355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1720" y="58780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25800" y="5517720"/>
              <a:ext cx="1081080" cy="577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00240" y="5492520"/>
              <a:ext cx="107172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69960" y="555912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0000" y="570996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16520" y="58528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975280" y="4552560"/>
              <a:ext cx="828720" cy="91800"/>
              <a:chOff x="5975280" y="4552560"/>
              <a:chExt cx="828720" cy="91800"/>
            </a:xfrm>
          </p:grpSpPr>
          <p:sp>
            <p:nvSpPr>
              <p:cNvPr id="221" name=""/>
              <p:cNvSpPr/>
              <p:nvPr/>
            </p:nvSpPr>
            <p:spPr>
              <a:xfrm>
                <a:off x="5975280" y="4593600"/>
                <a:ext cx="753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711840" y="45525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96400" y="43938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51040" y="45288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1120" y="466236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99200" y="47970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7120" y="4368600"/>
              <a:ext cx="1081080" cy="577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11920" y="4343040"/>
              <a:ext cx="107316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71200" y="43686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5840" y="45036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55560" y="463680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74000" y="47718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87600" y="534960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49160" y="548460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14680" y="56178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528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57960" y="58863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37120" y="5316120"/>
              <a:ext cx="1081080" cy="73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11920" y="5290920"/>
              <a:ext cx="1073160" cy="72828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62040" y="532404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23600" y="545904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0920" y="55926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35120" y="57276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34200" y="58608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7307280" y="4905000"/>
              <a:ext cx="91800" cy="393120"/>
              <a:chOff x="7307280" y="4905000"/>
              <a:chExt cx="91800" cy="393120"/>
            </a:xfrm>
          </p:grpSpPr>
          <p:sp>
            <p:nvSpPr>
              <p:cNvPr id="246" name=""/>
              <p:cNvSpPr/>
              <p:nvPr/>
            </p:nvSpPr>
            <p:spPr>
              <a:xfrm>
                <a:off x="7348320" y="4905000"/>
                <a:ext cx="1800" cy="31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307280" y="52063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712880" y="1182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9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49360" y="921960"/>
              <a:ext cx="763560" cy="6793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5600" y="896760"/>
              <a:ext cx="753840" cy="669600"/>
            </a:xfrm>
            <a:prstGeom prst="ellipse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7680" y="1157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84160" y="1601640"/>
              <a:ext cx="93600" cy="291240"/>
              <a:chOff x="1784160" y="1601640"/>
              <a:chExt cx="93600" cy="291240"/>
            </a:xfrm>
          </p:grpSpPr>
          <p:sp>
            <p:nvSpPr>
              <p:cNvPr id="253" name=""/>
              <p:cNvSpPr/>
              <p:nvPr/>
            </p:nvSpPr>
            <p:spPr>
              <a:xfrm>
                <a:off x="1827000" y="1601640"/>
                <a:ext cx="1800" cy="21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784160" y="1801080"/>
                <a:ext cx="9360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0"/>
                    </a:moveTo>
                    <a:lnTo>
                      <a:pt x="27" y="58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3801600" y="9457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07440" y="10983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45960" y="1249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8120" y="896760"/>
              <a:ext cx="93024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54360" y="871560"/>
              <a:ext cx="92052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76400" y="92196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2240" y="10728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21840" y="122364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732040" y="4570200"/>
              <a:ext cx="284040" cy="1256400"/>
              <a:chOff x="2732040" y="4570200"/>
              <a:chExt cx="284040" cy="1256400"/>
            </a:xfrm>
          </p:grpSpPr>
          <p:sp>
            <p:nvSpPr>
              <p:cNvPr id="264" name=""/>
              <p:cNvSpPr/>
              <p:nvPr/>
            </p:nvSpPr>
            <p:spPr>
              <a:xfrm>
                <a:off x="2732040" y="4570200"/>
                <a:ext cx="209520" cy="1206000"/>
              </a:xfrm>
              <a:custGeom>
                <a:avLst/>
                <a:gdLst/>
                <a:ahLst/>
                <a:rect l="l" t="t" r="r" b="b"/>
                <a:pathLst>
                  <a:path w="132" h="760">
                    <a:moveTo>
                      <a:pt x="0" y="0"/>
                    </a:moveTo>
                    <a:lnTo>
                      <a:pt x="0" y="760"/>
                    </a:lnTo>
                    <a:lnTo>
                      <a:pt x="132" y="76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923920" y="57351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639880" y="4527360"/>
              <a:ext cx="1784520" cy="91800"/>
              <a:chOff x="2639880" y="4527360"/>
              <a:chExt cx="1784520" cy="91800"/>
            </a:xfrm>
          </p:grpSpPr>
          <p:sp>
            <p:nvSpPr>
              <p:cNvPr id="267" name=""/>
              <p:cNvSpPr/>
              <p:nvPr/>
            </p:nvSpPr>
            <p:spPr>
              <a:xfrm>
                <a:off x="2639880" y="4569840"/>
                <a:ext cx="17096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32240" y="45273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09960" y="2138040"/>
              <a:ext cx="1122480" cy="91800"/>
              <a:chOff x="4809960" y="2138040"/>
              <a:chExt cx="1122480" cy="91800"/>
            </a:xfrm>
          </p:grpSpPr>
          <p:sp>
            <p:nvSpPr>
              <p:cNvPr id="270" name=""/>
              <p:cNvSpPr/>
              <p:nvPr/>
            </p:nvSpPr>
            <p:spPr>
              <a:xfrm>
                <a:off x="4809960" y="2179080"/>
                <a:ext cx="105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48200" y="2138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1601640" y="44431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7760" y="45939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1081080" y="4159080"/>
              <a:ext cx="1566720" cy="829440"/>
              <a:chOff x="1081080" y="4159080"/>
              <a:chExt cx="1566720" cy="829440"/>
            </a:xfrm>
          </p:grpSpPr>
          <p:sp>
            <p:nvSpPr>
              <p:cNvPr id="275" name=""/>
              <p:cNvSpPr/>
              <p:nvPr/>
            </p:nvSpPr>
            <p:spPr>
              <a:xfrm>
                <a:off x="1106280" y="4183920"/>
                <a:ext cx="1541520" cy="80460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81080" y="4159080"/>
                <a:ext cx="1541160" cy="804240"/>
              </a:xfrm>
              <a:custGeom>
                <a:avLst/>
                <a:gdLst/>
                <a:ahLst/>
                <a:rect l="l" t="t" r="r" b="b"/>
                <a:pathLst>
                  <a:path w="971" h="507">
                    <a:moveTo>
                      <a:pt x="486" y="0"/>
                    </a:moveTo>
                    <a:lnTo>
                      <a:pt x="0" y="253"/>
                    </a:lnTo>
                    <a:lnTo>
                      <a:pt x="486" y="507"/>
                    </a:lnTo>
                    <a:lnTo>
                      <a:pt x="971" y="253"/>
                    </a:lnTo>
                    <a:lnTo>
                      <a:pt x="4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1576080" y="44179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finite 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82200" y="457020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robable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28640" y="20538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24160" y="21967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15800" y="1928520"/>
              <a:ext cx="1014480" cy="5443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0600" y="1903320"/>
              <a:ext cx="10047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04880" y="202860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Trigg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98960" y="2171520"/>
              <a:ext cx="84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dition M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5120" y="188568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91720" y="203652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82800" y="218736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16920" y="233028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77960" y="1801440"/>
              <a:ext cx="1339920" cy="7632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2760" y="1777680"/>
              <a:ext cx="1332000" cy="7538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71360" y="1860120"/>
              <a:ext cx="75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epend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66520" y="2010960"/>
              <a:ext cx="120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vestigation (char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57600" y="2161800"/>
              <a:ext cx="104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view, clinician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91720" y="2304720"/>
              <a:ext cx="1113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tient interview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76320" y="2070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0960" y="2212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941800" y="1793520"/>
              <a:ext cx="1306440" cy="804240"/>
              <a:chOff x="5941800" y="1793520"/>
              <a:chExt cx="1306440" cy="804240"/>
            </a:xfrm>
          </p:grpSpPr>
          <p:sp>
            <p:nvSpPr>
              <p:cNvPr id="298" name=""/>
              <p:cNvSpPr/>
              <p:nvPr/>
            </p:nvSpPr>
            <p:spPr>
              <a:xfrm>
                <a:off x="5957640" y="1818720"/>
                <a:ext cx="1290600" cy="779040"/>
              </a:xfrm>
              <a:custGeom>
                <a:avLst/>
                <a:gdLst/>
                <a:ahLst/>
                <a:rect l="l" t="t" r="r" b="b"/>
                <a:pathLst>
                  <a:path w="813" h="491">
                    <a:moveTo>
                      <a:pt x="407" y="0"/>
                    </a:moveTo>
                    <a:lnTo>
                      <a:pt x="0" y="243"/>
                    </a:lnTo>
                    <a:lnTo>
                      <a:pt x="407" y="491"/>
                    </a:lnTo>
                    <a:lnTo>
                      <a:pt x="813" y="243"/>
                    </a:lnTo>
                    <a:lnTo>
                      <a:pt x="407" y="0"/>
                    </a:lnTo>
                    <a:close/>
                  </a:path>
                </a:pathLst>
              </a:cu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941800" y="1793520"/>
                <a:ext cx="1281240" cy="779040"/>
              </a:xfrm>
              <a:custGeom>
                <a:avLst/>
                <a:gdLst/>
                <a:ahLst/>
                <a:rect l="l" t="t" r="r" b="b"/>
                <a:pathLst>
                  <a:path w="807" h="491">
                    <a:moveTo>
                      <a:pt x="401" y="0"/>
                    </a:moveTo>
                    <a:lnTo>
                      <a:pt x="0" y="248"/>
                    </a:lnTo>
                    <a:lnTo>
                      <a:pt x="401" y="491"/>
                    </a:lnTo>
                    <a:lnTo>
                      <a:pt x="807" y="248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eaeaea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6351120" y="204588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vers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95400" y="21873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vent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4071960" y="1407960"/>
              <a:ext cx="93600" cy="369000"/>
              <a:chOff x="4071960" y="1407960"/>
              <a:chExt cx="93600" cy="369000"/>
            </a:xfrm>
          </p:grpSpPr>
          <p:sp>
            <p:nvSpPr>
              <p:cNvPr id="303" name=""/>
              <p:cNvSpPr/>
              <p:nvPr/>
            </p:nvSpPr>
            <p:spPr>
              <a:xfrm>
                <a:off x="4114800" y="1742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14800" y="16837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14800" y="16250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114800" y="156636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114800" y="1507320"/>
                <a:ext cx="7920" cy="349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0" y="22"/>
                    </a:moveTo>
                    <a:lnTo>
                      <a:pt x="0" y="22"/>
                    </a:lnTo>
                    <a:lnTo>
                      <a:pt x="5" y="22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1474200"/>
                <a:ext cx="7920" cy="90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71960" y="1407960"/>
                <a:ext cx="93600" cy="9144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59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9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6535440" y="1407960"/>
              <a:ext cx="92160" cy="402480"/>
              <a:chOff x="6535440" y="1407960"/>
              <a:chExt cx="92160" cy="40248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6578640" y="1474200"/>
                <a:ext cx="1440" cy="336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35440" y="14079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32" y="0"/>
                    </a:lnTo>
                    <a:lnTo>
                      <a:pt x="0" y="58"/>
                    </a:lnTo>
                    <a:lnTo>
                      <a:pt x="5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267240" y="1533240"/>
              <a:ext cx="3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72000" y="157608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24400" y="1022040"/>
              <a:ext cx="92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ote to 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514920" y="1172880"/>
              <a:ext cx="30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h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67440" y="896760"/>
              <a:ext cx="11476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41880" y="871560"/>
              <a:ext cx="113976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31960" y="996840"/>
              <a:ext cx="86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te negativ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6545160" y="2572920"/>
              <a:ext cx="92160" cy="528120"/>
              <a:chOff x="6545160" y="2572920"/>
              <a:chExt cx="92160" cy="528120"/>
            </a:xfrm>
          </p:grpSpPr>
          <p:sp>
            <p:nvSpPr>
              <p:cNvPr id="321" name=""/>
              <p:cNvSpPr/>
              <p:nvPr/>
            </p:nvSpPr>
            <p:spPr>
              <a:xfrm>
                <a:off x="6586560" y="2572920"/>
                <a:ext cx="1440" cy="453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545160" y="300924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26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243480" y="2792160"/>
              <a:ext cx="376200" cy="22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31800" y="281592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sibl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63200" y="337788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33960" y="3178080"/>
              <a:ext cx="108108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008400" y="3152520"/>
              <a:ext cx="107172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37640" y="3354120"/>
              <a:ext cx="878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rade sever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7097760" y="3377880"/>
              <a:ext cx="191880" cy="93240"/>
              <a:chOff x="7097760" y="3377880"/>
              <a:chExt cx="191880" cy="93240"/>
            </a:xfrm>
          </p:grpSpPr>
          <p:sp>
            <p:nvSpPr>
              <p:cNvPr id="330" name=""/>
              <p:cNvSpPr/>
              <p:nvPr/>
            </p:nvSpPr>
            <p:spPr>
              <a:xfrm>
                <a:off x="7097760" y="3420360"/>
                <a:ext cx="1252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07200" y="3377880"/>
                <a:ext cx="82440" cy="9324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52" y="27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7455240" y="3369960"/>
              <a:ext cx="94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Grade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15200" y="3168360"/>
              <a:ext cx="1147680" cy="545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89640" y="3144600"/>
              <a:ext cx="120348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33200" y="334476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stablish causali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2320920" y="2128680"/>
              <a:ext cx="1098360" cy="91440"/>
              <a:chOff x="2320920" y="2128680"/>
              <a:chExt cx="1098360" cy="91440"/>
            </a:xfrm>
          </p:grpSpPr>
          <p:sp>
            <p:nvSpPr>
              <p:cNvPr id="337" name=""/>
              <p:cNvSpPr/>
              <p:nvPr/>
            </p:nvSpPr>
            <p:spPr>
              <a:xfrm>
                <a:off x="2320920" y="2171160"/>
                <a:ext cx="102240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327120" y="212868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1822320" y="3420720"/>
              <a:ext cx="6864120" cy="737640"/>
              <a:chOff x="1822320" y="3420720"/>
              <a:chExt cx="6864120" cy="737640"/>
            </a:xfrm>
          </p:grpSpPr>
          <p:sp>
            <p:nvSpPr>
              <p:cNvPr id="340" name=""/>
              <p:cNvSpPr/>
              <p:nvPr/>
            </p:nvSpPr>
            <p:spPr>
              <a:xfrm>
                <a:off x="1865160" y="3420720"/>
                <a:ext cx="6821280" cy="669600"/>
              </a:xfrm>
              <a:custGeom>
                <a:avLst/>
                <a:gdLst/>
                <a:ahLst/>
                <a:rect l="l" t="t" r="r" b="b"/>
                <a:pathLst>
                  <a:path w="4265" h="422">
                    <a:moveTo>
                      <a:pt x="4148" y="0"/>
                    </a:moveTo>
                    <a:lnTo>
                      <a:pt x="4265" y="0"/>
                    </a:lnTo>
                    <a:lnTo>
                      <a:pt x="4265" y="349"/>
                    </a:lnTo>
                    <a:lnTo>
                      <a:pt x="0" y="349"/>
                    </a:lnTo>
                    <a:lnTo>
                      <a:pt x="0" y="422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22320" y="4074480"/>
                <a:ext cx="92160" cy="83880"/>
              </a:xfrm>
              <a:custGeom>
                <a:avLst/>
                <a:gdLst/>
                <a:ahLst/>
                <a:rect l="l" t="t" r="r" b="b"/>
                <a:pathLst>
                  <a:path w="58" h="53">
                    <a:moveTo>
                      <a:pt x="0" y="0"/>
                    </a:moveTo>
                    <a:lnTo>
                      <a:pt x="32" y="53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614320" y="4325760"/>
              <a:ext cx="385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28440" y="4368600"/>
              <a:ext cx="22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1809720" y="4955760"/>
              <a:ext cx="91800" cy="510480"/>
              <a:chOff x="1809720" y="4955760"/>
              <a:chExt cx="91800" cy="510480"/>
            </a:xfrm>
          </p:grpSpPr>
          <p:sp>
            <p:nvSpPr>
              <p:cNvPr id="345" name=""/>
              <p:cNvSpPr/>
              <p:nvPr/>
            </p:nvSpPr>
            <p:spPr>
              <a:xfrm>
                <a:off x="1852560" y="4955760"/>
                <a:ext cx="1440" cy="4348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809720" y="5374800"/>
                <a:ext cx="9180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482480" y="4955760"/>
              <a:ext cx="3272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95160" y="4997160"/>
              <a:ext cx="16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77520" y="557496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9400" y="572760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10640" y="58780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382760" y="5526000"/>
              <a:ext cx="94752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57200" y="5500440"/>
              <a:ext cx="938160" cy="53604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51960" y="555120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cord a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3840" y="570204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E, causalit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85440" y="5852880"/>
              <a:ext cx="55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know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5320" y="451152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39920" y="4511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82760" y="451152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84960" y="464652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76400" y="4779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33640" y="477972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76400" y="4914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35800" y="491472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76400" y="50479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99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742280" y="50479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67240" y="4309920"/>
              <a:ext cx="1523880" cy="10551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41680" y="4284360"/>
              <a:ext cx="1515960" cy="10476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61560" y="448596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oll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914360" y="448596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59000" y="4485960"/>
              <a:ext cx="94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p procedures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61200" y="4620960"/>
              <a:ext cx="44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50840" y="4754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09880" y="475416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50840" y="488916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12040" y="488916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utcom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50840" y="5022720"/>
              <a:ext cx="40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8520" y="5022720"/>
              <a:ext cx="805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iagnoses . . 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95520" y="558468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75200" y="57355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1720" y="58780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25800" y="5517720"/>
              <a:ext cx="1081080" cy="5778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00240" y="5492520"/>
              <a:ext cx="107172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69960" y="5559120"/>
              <a:ext cx="430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orm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50000" y="570996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linicians tha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6520" y="5852880"/>
              <a:ext cx="91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DE confirm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5975280" y="4552560"/>
              <a:ext cx="828720" cy="91800"/>
              <a:chOff x="5975280" y="4552560"/>
              <a:chExt cx="828720" cy="91800"/>
            </a:xfrm>
          </p:grpSpPr>
          <p:sp>
            <p:nvSpPr>
              <p:cNvPr id="388" name=""/>
              <p:cNvSpPr/>
              <p:nvPr/>
            </p:nvSpPr>
            <p:spPr>
              <a:xfrm>
                <a:off x="5975280" y="4593600"/>
                <a:ext cx="7538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11840" y="45525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7196400" y="43938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151040" y="45288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981120" y="466236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99200" y="47970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37120" y="4368600"/>
              <a:ext cx="1081080" cy="577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11920" y="4343040"/>
              <a:ext cx="1073160" cy="56952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71200" y="4368600"/>
              <a:ext cx="45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end 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25840" y="450360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database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55560" y="4636800"/>
              <a:ext cx="93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enerate report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74000" y="4771800"/>
              <a:ext cx="631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o P&amp;T, etc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7600" y="534960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49160" y="548460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4680" y="56178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58880" y="57528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57960" y="588636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9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37120" y="5316120"/>
              <a:ext cx="1081080" cy="7380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11920" y="5290920"/>
              <a:ext cx="1073160" cy="72828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62040" y="5324040"/>
              <a:ext cx="906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corporate int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023600" y="5459040"/>
              <a:ext cx="773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atient safet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90920" y="5592600"/>
              <a:ext cx="651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inuou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035120" y="572760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mprove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4200" y="58608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7307280" y="4905000"/>
              <a:ext cx="91800" cy="393120"/>
              <a:chOff x="7307280" y="4905000"/>
              <a:chExt cx="91800" cy="393120"/>
            </a:xfrm>
          </p:grpSpPr>
          <p:sp>
            <p:nvSpPr>
              <p:cNvPr id="413" name=""/>
              <p:cNvSpPr/>
              <p:nvPr/>
            </p:nvSpPr>
            <p:spPr>
              <a:xfrm>
                <a:off x="7348320" y="4905000"/>
                <a:ext cx="1800" cy="318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07280" y="52063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0"/>
                    </a:moveTo>
                    <a:lnTo>
                      <a:pt x="32" y="58"/>
                    </a:lnTo>
                    <a:lnTo>
                      <a:pt x="5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712880" y="118260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99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49360" y="921960"/>
              <a:ext cx="763560" cy="67932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425600" y="896760"/>
              <a:ext cx="753840" cy="669600"/>
            </a:xfrm>
            <a:prstGeom prst="ellipse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87680" y="1157040"/>
              <a:ext cx="32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784160" y="1601640"/>
              <a:ext cx="93600" cy="291240"/>
              <a:chOff x="1784160" y="1601640"/>
              <a:chExt cx="93600" cy="291240"/>
            </a:xfrm>
          </p:grpSpPr>
          <p:sp>
            <p:nvSpPr>
              <p:cNvPr id="420" name=""/>
              <p:cNvSpPr/>
              <p:nvPr/>
            </p:nvSpPr>
            <p:spPr>
              <a:xfrm>
                <a:off x="1827000" y="1601640"/>
                <a:ext cx="1800" cy="217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784160" y="1801080"/>
                <a:ext cx="93600" cy="91800"/>
              </a:xfrm>
              <a:custGeom>
                <a:avLst/>
                <a:gdLst/>
                <a:ahLst/>
                <a:rect l="l" t="t" r="r" b="b"/>
                <a:pathLst>
                  <a:path w="59" h="58">
                    <a:moveTo>
                      <a:pt x="0" y="0"/>
                    </a:moveTo>
                    <a:lnTo>
                      <a:pt x="27" y="58"/>
                    </a:lnTo>
                    <a:lnTo>
                      <a:pt x="5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3801600" y="9457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07440" y="109836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5960" y="124920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78120" y="896760"/>
              <a:ext cx="930240" cy="5439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654360" y="871560"/>
              <a:ext cx="920520" cy="536400"/>
            </a:xfrm>
            <a:prstGeom prst="rect">
              <a:avLst/>
            </a:prstGeom>
            <a:solidFill>
              <a:srgbClr val="eaeaea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776400" y="92196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82240" y="1072800"/>
              <a:ext cx="55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 care i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21840" y="1223640"/>
              <a:ext cx="44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ee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732040" y="4570200"/>
              <a:ext cx="284040" cy="1256400"/>
              <a:chOff x="2732040" y="4570200"/>
              <a:chExt cx="284040" cy="1256400"/>
            </a:xfrm>
          </p:grpSpPr>
          <p:sp>
            <p:nvSpPr>
              <p:cNvPr id="431" name=""/>
              <p:cNvSpPr/>
              <p:nvPr/>
            </p:nvSpPr>
            <p:spPr>
              <a:xfrm>
                <a:off x="2732040" y="4570200"/>
                <a:ext cx="209520" cy="1206000"/>
              </a:xfrm>
              <a:custGeom>
                <a:avLst/>
                <a:gdLst/>
                <a:ahLst/>
                <a:rect l="l" t="t" r="r" b="b"/>
                <a:pathLst>
                  <a:path w="132" h="760">
                    <a:moveTo>
                      <a:pt x="0" y="0"/>
                    </a:moveTo>
                    <a:lnTo>
                      <a:pt x="0" y="760"/>
                    </a:lnTo>
                    <a:lnTo>
                      <a:pt x="132" y="76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23920" y="5735160"/>
                <a:ext cx="92160" cy="9144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639880" y="4527360"/>
              <a:ext cx="1784520" cy="91800"/>
              <a:chOff x="2639880" y="4527360"/>
              <a:chExt cx="1784520" cy="91800"/>
            </a:xfrm>
          </p:grpSpPr>
          <p:sp>
            <p:nvSpPr>
              <p:cNvPr id="434" name=""/>
              <p:cNvSpPr/>
              <p:nvPr/>
            </p:nvSpPr>
            <p:spPr>
              <a:xfrm>
                <a:off x="2639880" y="4569840"/>
                <a:ext cx="170964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32240" y="4527360"/>
                <a:ext cx="92160" cy="9180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0" y="58"/>
                    </a:moveTo>
                    <a:lnTo>
                      <a:pt x="58" y="32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809960" y="2138040"/>
              <a:ext cx="1122480" cy="91800"/>
              <a:chOff x="4809960" y="2138040"/>
              <a:chExt cx="1122480" cy="9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4809960" y="2179080"/>
                <a:ext cx="105588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48200" y="2138040"/>
                <a:ext cx="84240" cy="91800"/>
              </a:xfrm>
              <a:custGeom>
                <a:avLst/>
                <a:gdLst/>
                <a:ahLst/>
                <a:rect l="l" t="t" r="r" b="b"/>
                <a:pathLst>
                  <a:path w="53" h="58">
                    <a:moveTo>
                      <a:pt x="0" y="58"/>
                    </a:moveTo>
                    <a:lnTo>
                      <a:pt x="53" y="26"/>
                    </a:lnTo>
                    <a:lnTo>
                      <a:pt x="0" y="0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 Coagulation-Related AD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142640"/>
            <a:ext cx="7620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576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rt: warfarin and an INR &gt; 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: Adult patient previously admitted for A. fib, discharged on warfarin.  Patient returned to the ED 10 days later feeling unwell; while in the ED, vomited 200cc of bright red blood.  INR was 12.3.  Patient required FFP and vitamin K, and was transferred to the IC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240" y="213840"/>
            <a:ext cx="705636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times we find something else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ert: Nalox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: Patient administered Midazolam 2mg IV and Fentanyl 50 mcg for upper GI, plus ? sprays cetacaine for procedure.  Later found unresponsive, hypotensive, with respiratory compromise. Naloxone given with no response. Methemoglobin level =13.7. Patient administered methlyene blue 90mg IV with reduction of methemoglobin level to 1.3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UH ADEs by Categor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 month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789120" y="1295280"/>
          <a:ext cx="82026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120" y="1295280"/>
                    <a:ext cx="82026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6:33:36Z</dcterms:created>
  <dc:creator>Lisa Amsbauh</dc:creator>
  <dc:description/>
  <dc:language>en-US</dc:language>
  <cp:lastModifiedBy>Peter M  Kilbridge</cp:lastModifiedBy>
  <dcterms:modified xsi:type="dcterms:W3CDTF">2007-09-17T17:41:23Z</dcterms:modified>
  <cp:revision>150</cp:revision>
  <dc:subject/>
  <dc:title>ADE Surveillance Summary &amp; Analysis of Data Duke University Hospital Dec 2004 – Feb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