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BE4A-1F7E-488C-BD7B-E8732794B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2A28-DAF0-4EC7-B458-9C9BDD1C9F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4E72-5164-4B72-A985-8E5437799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DB7A-E859-4C21-A45F-D38B7814D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22E-382A-468D-9058-D5ABB96DE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F94-578C-438F-AD75-67AB321131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198-DC98-474F-8A53-9B16C18384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5F6-AFB7-4792-9869-B53F672B7E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470-B257-49C1-8C91-7079095D16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308-C9A0-42A9-9023-31C02C2034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42A-00B1-422C-8E0B-EE0BDE877E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05E8-31EF-4A7D-85B5-85EF3F8B4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7A3-C691-4D39-9F89-8603CFFE60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704-1EC1-4F7E-B054-63D604C6E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8A9-7254-4EC7-B908-23D45146A6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DB90-3271-4527-BC3F-4E792B7477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8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50B-C72A-470F-A5A6-8310F8A37F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A03E-D897-471C-BCD2-CA3CD06569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924B-F3DA-4DEF-9F52-F2D24576E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ADFC-44C2-4391-96C9-02159F065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9802-91CB-4416-B00A-CE308E18C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705A-906C-4849-A055-CFE34006A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08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882B-5E9F-42B3-9D2D-FE1FF3046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08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A438-6086-48FF-9CCF-33E7339F6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4001040" y="-4001400"/>
            <a:ext cx="1141560" cy="9144000"/>
          </a:xfrm>
          <a:prstGeom prst="rect">
            <a:avLst/>
          </a:prstGeom>
          <a:solidFill>
            <a:srgbClr val="cbd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V="1" rot="5400000">
            <a:off x="1713600" y="-573120"/>
            <a:ext cx="5716440" cy="9144000"/>
          </a:xfrm>
          <a:prstGeom prst="rect">
            <a:avLst/>
          </a:prstGeom>
          <a:solidFill>
            <a:srgbClr val="004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d2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d2e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933960" y="6248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F0AA-398B-4ABB-A93A-59F89439D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6284880"/>
            <a:ext cx="243828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141560"/>
            <a:ext cx="9144000" cy="5716440"/>
          </a:xfrm>
          <a:prstGeom prst="rect">
            <a:avLst/>
          </a:prstGeom>
          <a:solidFill>
            <a:srgbClr val="607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4001040" y="-4001400"/>
            <a:ext cx="1141560" cy="9144000"/>
          </a:xfrm>
          <a:prstGeom prst="rect">
            <a:avLst/>
          </a:prstGeom>
          <a:solidFill>
            <a:srgbClr val="004a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188" t="35364" r="19567" b="24673"/>
          <a:stretch/>
        </p:blipFill>
        <p:spPr>
          <a:xfrm>
            <a:off x="0" y="0"/>
            <a:ext cx="2743200" cy="1143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7C9C-DFBA-4EC2-B5B6-D402C9F61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bd2e6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d2e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bd2e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d2e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457200" y="1219320"/>
            <a:ext cx="9601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lture, Change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&amp; Standardization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of Key Care Informatio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ail Keenan, PhD, RN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cbd2e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5228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Arial Black"/>
              </a:rPr>
              <a:t>HA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ample (cont.)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1554120"/>
                <a:gridCol w="1265400"/>
                <a:gridCol w="1600200"/>
                <a:gridCol w="129528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nt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/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/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/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/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-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t Baseline 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variation in documentation and communication practices within units &amp;  organizations, and across individuals and organiz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s focus on the details can’t see big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Training and support</a:t>
            </a: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ed champions (opinion leaders) - nurse managers required to be part of champion tr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d regular champion calls by category of champion (educator, clinical specialist, staff nurses, managers) to address problems relative to role – problem solve togeth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Socio technical approach – involved users with designing identifying problems and designing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solutions came from RNs – we had resources in place to address most solutions /or told why could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Multiple Methods Used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s (R)–  skills, trust, culture, knowledge,  satisfaction with care planning meth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 documentation and communication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iews, Meetings, Focus Group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rater reliability checks of outcome ratings (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 meaning reliability check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-alou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transaction logs (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) = Repe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Safety Culture Tool </a:t>
            </a:r>
            <a:br>
              <a:rPr sz="3600"/>
            </a:b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(Vogus, 2004) </a:t>
            </a:r>
            <a:endParaRPr b="1" lang="en-US" sz="36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 Items  (1-5 scale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ongly disagree to strongly ag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Facto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ndful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 5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ect individual colleagues contributions and take actions that help members build on each others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edful interrel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10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e honestly with the team, talk about and learn from mistakes,  share strengths and weakn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llective mi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6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how all team members contribute to care, align actions to support team goa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Trust Survey </a:t>
            </a:r>
            <a:br>
              <a:rPr sz="4400"/>
            </a:b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(Mishra, 1992)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item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-5 scal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ongly disagree to strongly ag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Factor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(4 items e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cer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rganization and vice vers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penn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commun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e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f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liabilit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Safety Survey</a:t>
            </a:r>
            <a:r>
              <a:rPr b="1" lang="en-US" sz="4000" spc="-1" strike="noStrike">
                <a:solidFill>
                  <a:srgbClr val="e31a22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e31a22"/>
                </a:solidFill>
                <a:latin typeface="Arial"/>
              </a:rPr>
              <a:t>(Anonymous)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items  (1 X per shift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sponse applies to time since last completed survey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an select 1 or 2 or any combo of 3,4, &amp;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 not wish to respond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wareness of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3.     Awareness-error Made by 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4.     Awareness-Avoided and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5.     Awareness-Observed an 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52440"/>
          <a:ext cx="8382240" cy="615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2440"/>
                    <a:ext cx="838224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297000"/>
          <a:ext cx="8305560" cy="60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000"/>
                    <a:ext cx="8305560" cy="60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52280"/>
          <a:ext cx="9144000" cy="598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33520" y="61722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 remains consistently high pre (Green) and post (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anyone disagree with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3200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There is a critical need to standardize the format and content of key care information across EHRs to decrease errors and increase continuity.</a:t>
            </a:r>
            <a:endParaRPr b="1" i="1" lang="en-US" sz="4000" spc="-1" strike="noStrike">
              <a:solidFill>
                <a:srgbClr val="cbd2e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1a22"/>
                </a:solidFill>
                <a:latin typeface="Arial Black"/>
              </a:rPr>
              <a:t>Trust, Safety Survey, &amp; Other</a:t>
            </a:r>
            <a:r>
              <a:rPr b="1" lang="en-US" sz="28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items correlated with safety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survey not fully analyzed, note a significant increase in % of RNs selecting  “willing to to respond”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interest in improving care planning &amp; documentation positively correlated with &gt; trust &amp;  &gt; culture scores (correlation doubled at x 2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ssociated Finding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units want to keep HANDS “post”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care periods have care plans (all un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more satisfied with HANDS than previous method (p&lt;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more familiar &amp; satisfied with NNN (p&lt;.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increase in RN willingness to respond to safety survey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Ns very pleased with HANDS team responsivity to requeste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Associated Finding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s in orgs independent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ed user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ed into multi-disciplinary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bbied to have HANDS instituted on new uni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planning activity remain consistent (changes e.g, add, resolve NNN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Other Considerations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Black"/>
              </a:rPr>
              <a:t>Standardization across all units in org would bring many more benefits (study costs prohibi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S generates data for describing care, progress toward outcomes, meeting goals, RN patient load, benchmarking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HRs are costly spend billions of dollars (over and above software costs) training and tailoring to foster variation in look and feel…away from standard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Recommendations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trategies and resources in place t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staff to own chan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es staff to design sol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stain change across time (orgs tend to move on to next chan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est units (those most likely to succeed) to lead th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goal is to standardize across organization (need buy in and commitment of top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Conclusions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nee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big pictu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standardized language and forma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HANDS “can do it”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cost effectively—but s difficult to make the case with traditional meas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methods can provide the pieces that when combined will explain the imp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Revised HANDS Framework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26036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219320"/>
            <a:ext cx="2401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1295280"/>
            <a:ext cx="335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565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800000">
            <a:off x="5866920" y="1294200"/>
            <a:ext cx="3048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Clinician &amp;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514600"/>
            <a:ext cx="2590560" cy="310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ulture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gh Tr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afety Culture Foc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xpects Clinician Mindfulness, Heedful Interrelating, and Collective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frastructure Supports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ngages in Continuous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mits to Chan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opts Standardized Plan of Care Metho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Ongoing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Resources to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Resources to Sus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133720"/>
            <a:ext cx="2514600" cy="1647000"/>
          </a:xfrm>
          <a:prstGeom prst="rect">
            <a:avLst/>
          </a:prstGeom>
          <a:solidFill>
            <a:srgbClr val="ccff99"/>
          </a:solidFill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ndardized Handoff Structure Using H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motes Heedful  Interrelating &amp; Mindfulness about HANDS story   and Future Care among inter and intra-disicplinary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00600"/>
            <a:ext cx="3276360" cy="1464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ndardized Documentation in HANDS Electronic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s a  Consistent , Dynamic,  Up-to-date Synopsis of  Care: The Clinicians’ Collective M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514600"/>
            <a:ext cx="1981080" cy="2835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ti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e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b 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bility of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 Ba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7429200">
            <a:off x="5776560" y="3900240"/>
            <a:ext cx="3228840" cy="152388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813" y="12357"/>
                </a:moveTo>
                <a:arcTo wR="-9121" hR="-9121" stAng="10210327" swAng="-3767105"/>
                <a:lnTo>
                  <a:pt x="14027" y="493"/>
                </a:lnTo>
                <a:arcTo wR="10800" hR="10800" stAng="-4356778" swAng="3767105"/>
                <a:lnTo>
                  <a:pt x="24102" y="8496"/>
                </a:lnTo>
                <a:lnTo>
                  <a:pt x="21218" y="12587"/>
                </a:lnTo>
                <a:lnTo>
                  <a:pt x="17127" y="970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6248520"/>
            <a:ext cx="46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G.Keenan, E.Yakel, D. Tschannen, &amp; M. Mandeville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3886200"/>
            <a:ext cx="1371600" cy="866880"/>
          </a:xfrm>
          <a:prstGeom prst="rightArrow">
            <a:avLst>
              <a:gd name="adj1" fmla="val 15019"/>
              <a:gd name="adj2" fmla="val 272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809880"/>
            <a:ext cx="1219320" cy="914400"/>
          </a:xfrm>
          <a:prstGeom prst="upDownArrow">
            <a:avLst>
              <a:gd name="adj1" fmla="val 7343"/>
              <a:gd name="adj2" fmla="val 2780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886200"/>
            <a:ext cx="1600200" cy="866880"/>
          </a:xfrm>
          <a:prstGeom prst="rightArrow">
            <a:avLst>
              <a:gd name="adj1" fmla="val 15019"/>
              <a:gd name="adj2" fmla="val 317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Definition:</a:t>
            </a:r>
            <a:br>
              <a:rPr sz="4000"/>
            </a:b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 Organizational Culture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About the HANDS Project</a:t>
            </a:r>
            <a:r>
              <a:rPr b="1" lang="en-US" sz="44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team dedicated to producing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electronic “short/story/synopsi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a patient’s care that is always i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e format (STANDARDIZED)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ssible quickly (since 1997) whe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wherever the patient pres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What is the HANDS Mission?</a:t>
            </a:r>
            <a:r>
              <a:rPr b="1" lang="en-US" sz="44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 prev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minimiz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L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of communication misunderstandings among members of the health care team that result i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tient care erro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ach year by standardizing key aspects of documentation and communication (the patient’s short sto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458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1a22"/>
                </a:solidFill>
                <a:latin typeface="Arial Black"/>
              </a:rPr>
              <a:t>Goals of HANDS Project</a:t>
            </a:r>
            <a:endParaRPr b="1" lang="en-US" sz="40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 a method for collecting and communicating plan of care information that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s useful to clinic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Promotes</a:t>
            </a:r>
            <a:r>
              <a:rPr b="0" lang="en-US" sz="36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continuity of care at all handov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Creates a national databa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parable, valid, and ri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rs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Supports re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ontinuously improve nursing care and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Current AHRQ Study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HIT Support for Safe Nursing Car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site study (8 unit – 4 organizations) and refinement of the Hands-on Automated Nursing Data System (HANDS)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1 R01 HS015054-01- HHS PHS National Institutes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alth 2004-07, Agency of Health Research and Qua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tudy Aims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demonstrate that HANDS – plan of care method  (built on pilo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successfully implemented and standardization maintained across diverse units and organizations sup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dful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dful interrela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cbd2e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ive m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bd2e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the safety culture of diverse nursing un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1a22"/>
                </a:solidFill>
                <a:latin typeface="Arial Black"/>
              </a:rPr>
              <a:t>Study Intervention: </a:t>
            </a:r>
            <a:br>
              <a:rPr sz="4000"/>
            </a:br>
            <a:r>
              <a:rPr b="0" lang="en-US" sz="4000" spc="-1" strike="noStrike">
                <a:solidFill>
                  <a:srgbClr val="e31a22"/>
                </a:solidFill>
                <a:latin typeface="Arial Black"/>
              </a:rPr>
              <a:t>HANDS Method</a:t>
            </a:r>
            <a:r>
              <a:rPr b="1" lang="en-US" sz="2800" spc="-1" strike="noStrike">
                <a:solidFill>
                  <a:srgbClr val="e31a2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RNs on all study units were required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HANDS training protocol (7-8 hour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competency in use of HANDS before go-l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an admission or update plan of care on each of ones  patients into HANDS (electronic tool ) at every hand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plan to structure “report/handoff” communication (SH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1a22"/>
                </a:solidFill>
                <a:latin typeface="Arial Black"/>
              </a:rPr>
              <a:t>Sample</a:t>
            </a:r>
            <a:endParaRPr b="1" lang="en-US" sz="4400" spc="-1" strike="noStrike">
              <a:solidFill>
                <a:srgbClr val="e31a2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lected 8 units / 4 diverse organizations / 700 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ble staff, motivated to be part of study, no other major changes occurring, willingness to mandate use of HANDS by all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organiz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university, 2 community (part of multi-hospital systems), 1 small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bd2e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 un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- 4 Y1 (24 mo)  and 4 Y2 (12 month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2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-surg (2), neuro, thoracic, medical ICU, progressive care, older adult/stroke, acute care 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21:49:27Z</dcterms:created>
  <dc:creator>Gail Keenan</dc:creator>
  <dc:description/>
  <dc:language>en-US</dc:language>
  <cp:lastModifiedBy>gail keenan</cp:lastModifiedBy>
  <dcterms:modified xsi:type="dcterms:W3CDTF">2007-09-26T17:48:57Z</dcterms:modified>
  <cp:revision>114</cp:revision>
  <dc:subject/>
  <dc:title>HIT Support for Safe Nursing Care</dc:title>
</cp:coreProperties>
</file>