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E6A8-9D8C-48CE-9DB2-99ACB0310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08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5E33-0C38-486A-9899-CD201D3A9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08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08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D475-8000-49C3-9CC8-863BC0522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08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08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08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6BAA-606E-4064-9BE2-176122C0A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DD6-3B3A-45FB-9E13-C3CF4558C5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bd2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3E4-F092-45DC-9D4E-AB8172FA68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F22-A25E-4CC9-8CDA-F50E04598B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FC0-D173-4ADB-9806-A5DA3AF863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8AC-7FB9-41E5-96B3-C24D216316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bd2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5E5-F611-497A-BAD9-6724284246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08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4E5-D011-499B-864A-29EFDFA2B7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bd2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824D-3C80-46BC-A1C3-64347B027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08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91A-B85B-470A-99C3-F4F5D226FE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08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9F6-B350-4109-8B04-4F7ED32F1F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08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63E-BF75-4E46-A4FE-62344255A5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08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08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ED7-4306-4F3E-9C63-B87B0D18EE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08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08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08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C819-A737-40D8-8446-7084AE9783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6489-2128-4EF6-8148-935E7AC8A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88B4-A045-46C9-87DA-7BFE8ED14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8856-30E9-4640-A84A-6877857AE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bd2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8CAD-BDEA-4BD4-B43B-3D32F29C5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08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9040-25AE-4A52-9CF9-5E2A83816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08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1707-C3B9-4420-B67F-625B350EC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08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9585-AA0F-46A9-8504-61BA3A74C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4001040" y="-4001400"/>
            <a:ext cx="1141560" cy="9144000"/>
          </a:xfrm>
          <a:prstGeom prst="rect">
            <a:avLst/>
          </a:prstGeom>
          <a:solidFill>
            <a:srgbClr val="cbd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a2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 rot="5400000">
            <a:off x="1713600" y="-573120"/>
            <a:ext cx="5716440" cy="9144000"/>
          </a:xfrm>
          <a:prstGeom prst="rect">
            <a:avLst/>
          </a:prstGeom>
          <a:solidFill>
            <a:srgbClr val="004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2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bd2e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93396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B471-479B-4D64-A18B-91F0D3DED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284880"/>
            <a:ext cx="2438280" cy="57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141560"/>
            <a:ext cx="9144000" cy="5716440"/>
          </a:xfrm>
          <a:prstGeom prst="rect">
            <a:avLst/>
          </a:prstGeom>
          <a:solidFill>
            <a:srgbClr val="607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4001040" y="-4001400"/>
            <a:ext cx="1141560" cy="9144000"/>
          </a:xfrm>
          <a:prstGeom prst="rect">
            <a:avLst/>
          </a:prstGeom>
          <a:solidFill>
            <a:srgbClr val="004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6188" t="35364" r="19567" b="24673"/>
          <a:stretch/>
        </p:blipFill>
        <p:spPr>
          <a:xfrm>
            <a:off x="0" y="0"/>
            <a:ext cx="274320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9F95-EA30-4129-9A21-52553A4E1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bd2e6"/>
                </a:solidFill>
                <a:latin typeface="Arial"/>
              </a:rPr>
              <a:t>Click to edit the outline text format</a:t>
            </a:r>
            <a:endParaRPr b="1" i="1" lang="en-US" sz="2400" spc="-1" strike="noStrike">
              <a:solidFill>
                <a:srgbClr val="cbd2e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bd2e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bd2e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bd2e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457200" y="1219320"/>
            <a:ext cx="9601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lture, Change,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&amp; Standardiza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of Key Care Information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Gail Keenan, PhD, RN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bd2e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bd2e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15228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 Black"/>
              </a:rPr>
              <a:t>HA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Sample (cont.)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600200"/>
          <a:ext cx="7772400" cy="4657680"/>
        </p:xfrm>
        <a:graphic>
          <a:graphicData uri="http://schemas.openxmlformats.org/drawingml/2006/table">
            <a:tbl>
              <a:tblPr/>
              <a:tblGrid>
                <a:gridCol w="1554120"/>
                <a:gridCol w="1265400"/>
                <a:gridCol w="1600200"/>
                <a:gridCol w="129528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nt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/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/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/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/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At Baseline </a:t>
            </a:r>
            <a:endParaRPr b="1" lang="en-US" sz="40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ormous variation in documentation and communication practices within units &amp;  organizations, and across individuals and organiz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s focus on the details can’t see big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Training and support</a:t>
            </a:r>
            <a:r>
              <a:rPr b="1" lang="en-US" sz="3200" spc="-1" strike="noStrike">
                <a:solidFill>
                  <a:srgbClr val="e31a22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ed champions (opinion leaders) - nurse managers required to be part of champion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d regular champion calls by category of champion (educator, clinical specialist, staff nurses, managers) to address problems relative to role – problem solve togethe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Socio technical approach – involved users with designing identifying problems and designing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solutions came from RNs – we had resources in place to address most solutions /or told why could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Multiple Methods Used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ys (R)–  skills, trust, culture, knowledge,  satisfaction with care planning meth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 documentation and communication (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s, Meetings, Focus Groups (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-rater reliability checks of outcome ratings (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 meaning reliability checks (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-alou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transaction logs (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) = Rep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1a22"/>
                </a:solidFill>
                <a:latin typeface="Arial Black"/>
              </a:rPr>
              <a:t>Safety Culture Tool </a:t>
            </a:r>
            <a:br>
              <a:rPr sz="3600"/>
            </a:br>
            <a:r>
              <a:rPr b="1" lang="en-US" sz="3600" spc="-1" strike="noStrike">
                <a:solidFill>
                  <a:srgbClr val="e31a22"/>
                </a:solidFill>
                <a:latin typeface="Arial Black"/>
              </a:rPr>
              <a:t>(Vogus, 2004) </a:t>
            </a:r>
            <a:endParaRPr b="1" lang="en-US" sz="36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 Items  (1-5 scale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ongly disagree to strongly ag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Fact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bd2e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ndfuln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 5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ect individual colleagues contributions and take actions that help members build on each others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bd2e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edful interrela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10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e honestly with the team, talk about and learn from mistakes,  share strengths and weakn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bd2e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llective mi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6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how all team members contribute to care, align actions to support team go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Trust Survey </a:t>
            </a:r>
            <a:br>
              <a:rPr sz="4400"/>
            </a:b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(Mishra, 1992)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item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-5 scal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ongly disagree to strongly ag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Factor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(4 items ea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cer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organization and vice versa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pen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communi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et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of colleag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liabil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colleag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Safety Survey</a:t>
            </a:r>
            <a:r>
              <a:rPr b="1" lang="en-US" sz="4000" spc="-1" strike="noStrike">
                <a:solidFill>
                  <a:srgbClr val="e31a22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e31a22"/>
                </a:solidFill>
                <a:latin typeface="Arial"/>
              </a:rPr>
              <a:t>(Anonymous)</a:t>
            </a: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items  (1 X per shift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sponse applies to time since last completed survey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n select 1 or 2 or any combo of 3,4, &amp;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bd2e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o not wish to respon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bd2e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areness of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3.     Awareness-error Made by 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4.     Awareness-Avoided and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5.     Awareness-Observed an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52440"/>
          <a:ext cx="8382240" cy="615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2440"/>
                    <a:ext cx="8382240" cy="61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04920" y="297000"/>
          <a:ext cx="8305560" cy="60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000"/>
                    <a:ext cx="8305560" cy="60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52280"/>
          <a:ext cx="9144000" cy="598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1440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33520" y="617220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e remains consistently high pre (Green) and post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es anyone disagree with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32004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There is a critical need to standardize the format and content of key care information across EHRs to decrease errors and increase continuity.</a:t>
            </a:r>
            <a:endParaRPr b="1" i="1" lang="en-US" sz="4000" spc="-1" strike="noStrike">
              <a:solidFill>
                <a:srgbClr val="cbd2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1a22"/>
                </a:solidFill>
                <a:latin typeface="Arial Black"/>
              </a:rPr>
              <a:t>Trust, Safety Survey, &amp; Other</a:t>
            </a:r>
            <a:r>
              <a:rPr b="1" lang="en-US" sz="2800" spc="-1" strike="noStrike">
                <a:solidFill>
                  <a:srgbClr val="e31a2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 items correlated with safety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survey not fully analyzed, note a significant increase in % of RNs selecting  “willing to to respond”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 interest in improving care planning &amp; documentation positively correlated with &gt; trust &amp;  &gt; culture scores (correlation doubled at x 2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Associated Findings</a:t>
            </a:r>
            <a:endParaRPr b="1" lang="en-US" sz="40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units want to keep HANDS “post”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0% care periods have care plans (all un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Ns more satisfied with HANDS than previous method (p&lt;.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Ns more familiar &amp; satisfied with NNN (p&lt;.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increase in RN willingness to respond to safety survey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Ns very pleased with HANDS team responsivity to requested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Associated Findings</a:t>
            </a:r>
            <a:endParaRPr b="1" lang="en-US" sz="40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s in orgs independent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tuted user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into multi-disciplinary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bbied to have HANDS instituted on new uni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 planning activity remain consistent (changes e.g, add, resolve NNN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Other Considerations</a:t>
            </a:r>
            <a:endParaRPr b="1" lang="en-US" sz="40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Black"/>
              </a:rPr>
              <a:t>Standardization across all units in org would bring many more benefits (study costs prohibi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S generates data for describing care, progress toward outcomes, meeting goals, RN patient load, benchmarking bes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HRs are costly spend billions of dollars (over and above software costs) training and tailoring to foster variation in look and feel…away from standard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Recommendations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strategies and resources in place to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staff to own chan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s staff to design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ustain change across time (orgs tend to move on to next chan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best units (those most likely to succeed) to lead the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goal is to standardize across organization (need buy in and commitment of top leve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Conclusions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nee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big pictu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standardized language and forma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HANDS “can do it”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cost effectively—but s difficult to make the case with traditional measu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methods can provide the pieces that when combined will explain the impa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Revised HANDS Framework</a:t>
            </a:r>
            <a:endParaRPr b="1" lang="en-US" sz="40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26036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219320"/>
            <a:ext cx="2401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1295280"/>
            <a:ext cx="3353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5652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 rot="10800000">
            <a:off x="5866920" y="1294200"/>
            <a:ext cx="3048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linician &amp;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514600"/>
            <a:ext cx="2590560" cy="310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ulture 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igh Tr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afety Culture Foc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xpects Clinician Mindfulness, Heedful Interrelating, and Collective M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frastructure Supports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gages in Continuous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mits to Chang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opts Standardized Plan of Care Metho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s Ongoing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s Resources to Im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s Resources to Sus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133720"/>
            <a:ext cx="2514600" cy="1647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tandardized Handoff Structure Using H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motes Heedful  Interrelating &amp; Mindfulness about HANDS story   and Future Care among inter and intra-disicplinary team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800600"/>
            <a:ext cx="3276360" cy="1464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tandardized Documentation in HANDS Electronic T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s a  Consistent , Dynamic,  Up-to-date Synopsis of  Care: The Clinicians’ Collective M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2514600"/>
            <a:ext cx="1981080" cy="2835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ati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e Continu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e 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b Satisf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bility of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idence Ba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7429200">
            <a:off x="5776560" y="3900240"/>
            <a:ext cx="3228840" cy="1523880"/>
          </a:xfrm>
          <a:custGeom>
            <a:avLst/>
            <a:gdLst>
              <a:gd name="textAreaLeft" fmla="*/ 0 w 3228840"/>
              <a:gd name="textAreaRight" fmla="*/ 3229200 w 32288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813" y="12357"/>
                </a:moveTo>
                <a:arcTo wR="-9121" hR="-9121" stAng="10210327" swAng="-3767105"/>
                <a:lnTo>
                  <a:pt x="14027" y="493"/>
                </a:lnTo>
                <a:arcTo wR="10800" hR="10800" stAng="-4356778" swAng="3767105"/>
                <a:lnTo>
                  <a:pt x="24102" y="8496"/>
                </a:lnTo>
                <a:lnTo>
                  <a:pt x="21218" y="12587"/>
                </a:lnTo>
                <a:lnTo>
                  <a:pt x="17127" y="970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6248520"/>
            <a:ext cx="46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G.Keenan, E.Yakel, D. Tschannen, &amp; M. Mandeville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3886200"/>
            <a:ext cx="1371600" cy="866880"/>
          </a:xfrm>
          <a:prstGeom prst="rightArrow">
            <a:avLst>
              <a:gd name="adj1" fmla="val 15019"/>
              <a:gd name="adj2" fmla="val 272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809880"/>
            <a:ext cx="1219320" cy="914400"/>
          </a:xfrm>
          <a:prstGeom prst="upDownArrow">
            <a:avLst>
              <a:gd name="adj1" fmla="val 7343"/>
              <a:gd name="adj2" fmla="val 2780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3886200"/>
            <a:ext cx="1600200" cy="866880"/>
          </a:xfrm>
          <a:prstGeom prst="rightArrow">
            <a:avLst>
              <a:gd name="adj1" fmla="val 15019"/>
              <a:gd name="adj2" fmla="val 317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Definition:</a:t>
            </a:r>
            <a:br>
              <a:rPr sz="4000"/>
            </a:b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 Organizational Culture</a:t>
            </a:r>
            <a:endParaRPr b="1" lang="en-US" sz="40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About the HANDS Project</a:t>
            </a:r>
            <a:r>
              <a:rPr b="1" lang="en-US" sz="4400" spc="-1" strike="noStrike">
                <a:solidFill>
                  <a:srgbClr val="e31a22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earch team dedicated to produc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electronic “short/story/synopsi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a patient’s care that is always in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e format (STANDARDIZED)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ssible quickly (since 1997) whene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rever the patient pres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What is the HANDS Mission?</a:t>
            </a:r>
            <a:r>
              <a:rPr b="1" lang="en-US" sz="4400" spc="-1" strike="noStrike">
                <a:solidFill>
                  <a:srgbClr val="e31a22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 prev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minimiz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L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of communication misunderstandings among members of the health care team that result i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tient care error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ach year by standardizing key aspects of documentation and communication (the patient’s short stor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4582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Goals of HANDS Project</a:t>
            </a:r>
            <a:endParaRPr b="1" lang="en-US" sz="40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ize a method for collecting and communicating plan of care information that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cbd2e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Is useful to clinici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cbd2e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Promotes</a:t>
            </a: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continuity of care at all handov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cbd2e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Creates a national datab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mparable, valid, and ri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rs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cbd2e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Supports resear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continuously improve nursing care and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Current AHRQ Study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IT Support for Safe Nursing Ca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site study (8 unit – 4 organizations) and refinement of the Hands-on Automated Nursing Data System (HANDS)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 R01 HS015054-01- HHS PHS National Institutes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alth 2004-07, Agency of Health Research and Qual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Study Aims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monstrate that HANDS – plan of care method  (built on pilo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bd2e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successfully implemented and standardization maintained across diverse units and organizations sup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bd2e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dful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bd2e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edful interrela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bd2e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ive m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bd2e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the safety culture of diverse nursing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1a22"/>
                </a:solidFill>
                <a:latin typeface="Arial Black"/>
              </a:rPr>
              <a:t>Study Intervention: </a:t>
            </a:r>
            <a:br>
              <a:rPr sz="4000"/>
            </a:br>
            <a:r>
              <a:rPr b="0" lang="en-US" sz="4000" spc="-1" strike="noStrike">
                <a:solidFill>
                  <a:srgbClr val="e31a22"/>
                </a:solidFill>
                <a:latin typeface="Arial Black"/>
              </a:rPr>
              <a:t>HANDS Method</a:t>
            </a:r>
            <a:r>
              <a:rPr b="1" lang="en-US" sz="2800" spc="-1" strike="noStrike">
                <a:solidFill>
                  <a:srgbClr val="e31a2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Ns on all study units were required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HANDS training protocol (7-8 hour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competency in use of HANDS before go-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an admission or update plan of care on each of ones  patients into HANDS (electronic tool ) at every handof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plan to structure “report/handoff” communication (SH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Sample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lected 8 units / 4 diverse organizations / 700 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ble staff, motivated to be part of study, no other major changes occurring, willingness to mandate use of HANDS by all pers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 organiz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university, 2 community (part of multi-hospital systems), 1 small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8 un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- 4 Y1 (24 mo)  and 4 Y2 (12 month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-surg (2), neuro, thoracic, medical ICU, progressive care, older adult/stroke, acute care elde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21:49:27Z</dcterms:created>
  <dc:creator>Gail Keenan</dc:creator>
  <dc:description/>
  <dc:language>en-US</dc:language>
  <cp:lastModifiedBy>gail keenan</cp:lastModifiedBy>
  <dcterms:modified xsi:type="dcterms:W3CDTF">2007-09-26T17:48:57Z</dcterms:modified>
  <cp:revision>114</cp:revision>
  <dc:subject/>
  <dc:title>HIT Support for Safe Nursing Care</dc:title>
</cp:coreProperties>
</file>