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1B9E-7328-45BC-AD54-F26DB02B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91D0-B85B-4DF0-A5E0-14CB4FC8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1BFD-FA27-4AF0-A0E3-652AD4E51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21F0-8EE5-4B15-8726-5BC0B9A98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384A-058B-4724-968A-910B6013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F8BC-3202-4AF9-A9C7-E399F131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CBF2-7F55-45D1-811A-9962A50D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5FB4-083C-484F-83AF-352C480D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B50A-8D36-43AA-AAC2-A915ED58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C91D-5661-49BC-AA22-42E394F9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E0BA-E2EE-4C37-A873-C6CDF269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E906-12C9-43DA-BEF9-B672E7B4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48A7-07DD-4605-A2A1-BDF9C722261B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TEC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valuating the Economic Effects of Health Information Exchange Programs across New York 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48006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inu Kaushal, MD, MP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ociate Professor, Weill Medical Colle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or of Pediatric Quality and Safety at KCCH/NYP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ive Director, HITE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29000" y="3276720"/>
            <a:ext cx="194328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nical decisions are data driv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lth information technology (HIT) with health information exchange (HIE) has been embraced as one strategy to improve health care quality and reduce costs by improving access to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ional clinical data exchanges are occurring, with unknown effe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447920"/>
            <a:ext cx="8153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4DBC-3E8F-4FF8-9130-267DBADC38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8915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AL N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lthcare Efficiency and Affordability Law for New Yorkers Capital Grants Program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51424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00 million invest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ementation grants of $50,000 - $10,000,000 per grant (for capital investment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ing multi-stakeholder HIE initia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ntees are required to provide matching funds and dedicate some funds for evalu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ion efforts are likely to vary in quality and be non-standard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286000"/>
            <a:ext cx="8153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91C4-EC65-4D4C-A583-3A481476FD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9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Evaluat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onstrate value of HEAL initi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e uptake and us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courage future HIT and HIE adop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e economic benef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e consumer and provider satisfa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e quality and safety benef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ratively refine HIT and H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stand what is working we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stand what can be improv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seminate lessons learned and successes broad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676520"/>
            <a:ext cx="8153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4924-81C2-4D6E-8454-6C9CD4621C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ITEC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for profit, multi-institutional academic collabora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at Weill Medical Colleg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collaboration from Columbia University, SUNY-Albany, University of Rochester and oth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ms to ensure robust evaluations of HEAL NY and other HIE initiatives in NY St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expertise in evaluation methodology, health information technology, health economics, survey methodology and biostat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ucts analyses across active HIE initiati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143000"/>
            <a:ext cx="8153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A371-EF44-449F-B03A-D6395ABB59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WF Grant: Financial Metho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pecific aim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rmine the ROI for providers of HIT/HIE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thodology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ll include costs, benefits, and usage measure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sig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 Pre-post studies with concurrent control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rticipan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 7 HEAL NY grante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erse in terms of clinical setting, geography, and type of HIT/HIE interven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ty based interven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ion team has no control over type or timing of HIT/HIE 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05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0BD3-47B8-44E2-BBD4-0D38C36C04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gress to Da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ed a financial framework at the level of HIT/HIE functiona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4 functiona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 sett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h rated on likelihood of successful implementation and use, magnitude of financial benefit, ability to measure benef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idated by an expert pan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71600"/>
            <a:ext cx="8305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2FCB-6EC7-4350-9AD4-612C2C2461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gress to Date (cont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Each participating grantee determined which HIT/HIE functionalities they were implementing and prioritized their studies of intere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Mapped against HITEC frame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Now engaged in planning 7 stud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371600"/>
            <a:ext cx="8305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2D0A-3B70-4581-B3D6-C50D95C8F5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ed HIT implementations for varied purpo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ed perspectives on what is important to evalu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ble timing of implement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ty based studies, network eff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ound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pid time-frame for stud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source challen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form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ric defin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ortance of numerators and denomina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ncial constraints for data coll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371600"/>
            <a:ext cx="8305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57F3-514E-44C5-A664-A77A5E015A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00:37:49Z</dcterms:created>
  <dc:creator>Lisa Korn</dc:creator>
  <dc:description/>
  <dc:language>en-US</dc:language>
  <cp:lastModifiedBy>rk</cp:lastModifiedBy>
  <dcterms:modified xsi:type="dcterms:W3CDTF">2007-09-25T01:11:11Z</dcterms:modified>
  <cp:revision>88</cp:revision>
  <dc:subject/>
  <dc:title>A Multi-Center Financial Evaluation  of Regional Clinical Data Exchanges  Across New York State </dc:title>
</cp:coreProperties>
</file>