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DAF-5BBB-4A02-9C26-8324E621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BFA-E22E-4FD1-93B6-61EA9125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626-2414-4F6C-B640-76D33BA1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1B8-49C9-412C-A214-53C93F55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943-318F-4EC1-85E0-51ED5848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24C-605D-4F1E-9D55-8D72BA1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B2F-3457-4C76-BD5B-1808C605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A7E-A32F-4EDE-9722-76970A18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F52-95D5-427B-B356-E58C800B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3770-1BF6-4937-8DDE-9792A00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BF8-EADC-49BB-884B-84401CB1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EA2-012B-4BAB-ADCD-B5E69870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BEE4-9D16-492E-B6B0-B7516C816BF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TEC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aluating the Economic Effects of Health Information Exchange Programs across New York 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u Kaushal, MD, M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Professor, Weill Medical Colle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 of Pediatric Quality and Safety at KCCH/NY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ve Director, HIT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19432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decisions are data dri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information technology (HIT) with health information exchange (HIE) has been embraced as one strategy to improve health care quality and reduce costs by improving access to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clinical data exchanges are occurring, with unknown eff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44792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998-96CF-42C7-8F4A-81334A982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AL N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care Efficiency and Affordability Law for New Yorkers Capital Grants Progra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00 million invest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grants of $50,000 - $10,000,000 per grant (for capital investmen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ing multi-stakeholder HIE initi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ees are required to provide matching funds and dedicate some funds for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efforts are likely to vary in quality and be non-standardiz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28600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9DA-394F-4D47-806B-7FD4D6075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Evaluat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value of HEAL initi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uptake and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e future HIT and HIE ado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economic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consumer and provider satisf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quality and safety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ively refine HIT and H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what is working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what can be impro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seminate lessons learned and successes broad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676520"/>
            <a:ext cx="815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F0B-53A2-4310-83E7-BA7F5457A7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TE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for profit, multi-institutional academic collabor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at Weill Medical Colle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collaboration from Columbia University, SUNY-Albany, University of Rochester and ot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ms to ensure robust evaluations of HEAL NY and other HIE initiatives in NY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expertise in evaluation methodology, health information technology, health economics, survey methodology and bio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cts analyses across active HIE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D69-DFBA-4006-B28D-24C3D3452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WF Grant: Financial Metho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cific aim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the ROI for providers of HIT/HIE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hodology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include costs, benefits, and usage measur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Pre-post studies with concurrent control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rticipa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7 HEAL NY grant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e in terms of clinical setting, geography, and type of HIT/HIE inter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 based interven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team has no control over type or timing of HIT/HI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2B2-E739-4028-8204-0F6ABC3B50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to 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a financial framework at the level of HIT/HIE functiona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4 functiona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sett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rated on likelihood of successful implementation and use, magnitude of financial benefit, ability to measure benef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idated by an expert pa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F93-5D04-4803-B23A-E575D3E256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ess to Date (cont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Each participating grantee determined which HIT/HIE functionalities they were implementing and prioritized their studies of inter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apped against HITEC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Now engaged in planning 7 stud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A19-C2FC-4648-9A19-8BB7C8C5B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d HIT implementations for varied purpo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d perspectives on what is important to evalu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timing of implemen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based studies, network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ound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time-frame for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ource challe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ance of numerators and denomin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 constraints for data coll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2E1-CCE9-4183-BF27-EE370E49A9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00:37:49Z</dcterms:created>
  <dc:creator>Lisa Korn</dc:creator>
  <dc:description/>
  <dc:language>en-US</dc:language>
  <cp:lastModifiedBy>rk</cp:lastModifiedBy>
  <dcterms:modified xsi:type="dcterms:W3CDTF">2007-09-25T01:11:11Z</dcterms:modified>
  <cp:revision>88</cp:revision>
  <dc:subject/>
  <dc:title>A Multi-Center Financial Evaluation  of Regional Clinical Data Exchanges  Across New York State </dc:title>
</cp:coreProperties>
</file>