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3ABF9A-3911-4D98-89D5-036CE88A4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23920" y="691920"/>
            <a:ext cx="461664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84800"/>
            <a:ext cx="5029200" cy="4232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2A018FC-84B7-4C41-9640-559FA13DB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20ABBC-1CCA-4535-9EC1-EBB02D64D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982D9CA-46B0-4CC8-A83D-9C0B646AC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E9AA47-133E-4688-9003-F264056AB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791EFE-6E06-4E04-952D-8E604CEB5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808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6B4361D-280A-4D49-92A5-2D82B3E4C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5D96620-F8C3-412D-936A-57B916D89B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88E6433-A52D-4377-B6B9-FF2AC75DD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11A814F-4146-4528-AE0E-B12C3547D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5B1329A-1B7A-427A-B94F-4D24B425C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BD51C42-CBFF-4892-AF06-A32D328BD0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808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06932E-7921-4DD8-83EE-AE54444B9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A6A6751-5647-43CA-818D-4AE94F69B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08080" y="70020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969810B-B1CA-4573-883A-43C53C831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AC748F-2041-4167-89DE-6CB045713F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808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D3D328-4809-4CD2-9CBC-B53AE6E8B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A8DC7F-C752-40CA-A00C-809D97137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E0BC06B-F552-47CA-A4E0-130008B0B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4CDF05B-86CA-4504-8790-A3FFFE76E7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training requirements (good for turnov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584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E6C35F-2EC5-4CBF-B43A-BADA203CC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847000"/>
            <a:ext cx="2971800" cy="462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311809-3A40-4340-B098-7E1F85A3B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7A9-A21B-4550-AD69-3CDAF840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F834-61D2-4557-B6E9-5FCFC3BF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75E6-207D-47C7-9484-C913F6D1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EB8-E189-4D86-9AFA-76D1D62D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0CD5-2AE5-4FE4-BBBF-90F419A8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6F95-B7A5-4600-BBEF-21781665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7463-2739-45D4-8ADE-85F0A1F5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10E6-0EB7-41D1-98AA-B9ED1245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E3DF-2FDB-416D-AE24-70CE38DF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16F7-B1A2-4675-983D-25E9A797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6C7B-A4BC-4D4B-B0AC-E3AD94BE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8E8-8A55-4A1C-B333-CA3355E3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D469-45F0-40F7-8786-4C8BC438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4402-2D97-4554-A7C5-1D326F03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8501-75CB-4976-BB92-EBF5D2EF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EB69-04D5-449C-BD4B-A7CF7153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340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17320" y="175212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340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17320" y="402084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76CE-B8AE-48A2-A3B9-4AE4A743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C0B-82E4-4EE2-B1FD-1D613324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203-768E-4FB0-B7D2-0F1D7758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3B7-1B60-47F0-832B-8F36CF20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E1A-C9AD-4146-812C-A66AACD3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8F0-B060-4EB7-B1B7-9C723349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31400" y="402084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B56-20E6-4C1E-9F0A-1A82F7BE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31400" y="175212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2084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AE2-9295-4346-97BC-1CE224E7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1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4229-8B07-494B-AC44-CF60524F4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A264-B932-4F84-BA3E-E8E8DA9261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9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00ccff"/>
                </a:gs>
                <a:gs pos="100000">
                  <a:srgbClr val="33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10480" cy="53341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sing HIT to Improve Outcomes for Elderly Nursing Home Resident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ednesday, Sept 26, 2007; 10 – 11:30a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usan D. Horn, PhD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Institute for Clinical Outcomes Research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699 E. South Temple, Suite 100 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alt Lake City, Utah  84102-1282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801-466-5595 (T)     801-466-6685 (F)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shorn@isisicor.com</a:t>
            </a: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5105520"/>
            <a:ext cx="5105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52280"/>
            <a:ext cx="8991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Using Clinical Decision Support Systems to Measure Quality of Care for Special Populatio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11C-261F-4992-975B-BC832310C02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ample technology #3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ectronic Medical Record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Profile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dd CNA standardized documentation data elements into EM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Add Wound RN standardized documentation data elements into EMR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Project Requirement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corporate standardized data elements into applic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Behavior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kin observat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evelop AHRQ report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471-DC2C-41B0-A905-FC3AD01BDE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Decision Making Reports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Documentation Completeness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ummary of CNA documentation completeness rat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Nutrition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plays average meal intake, resident diet, supplements, resident weight status (presence of weight gain/loss), last diet consult date, history of pressure ulcer indicator, and presence of pressure ulcer.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Behavior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plays the total number of times a resident exhibits a behavior by shif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6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00"/>
                </a:solidFill>
                <a:uFillTx/>
                <a:latin typeface="Times New Roman"/>
              </a:rPr>
              <a:t>Priority Resident Re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isplays residents who are at risk for pressure ulcer development and high priority for staff focus.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AF0-E39B-4B03-AE6A-8E16F468CA7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Nutrition Summ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Average meal intake for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luid intake for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Supplement use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Dietary consult date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change since last week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isting pressure ulc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160" indent="-26136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History of resolved ulce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43040" y="3200040"/>
            <a:ext cx="48006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Weight Summary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180 days prio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30 days prior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for each of past 4 week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Weight change since last week 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5-10% weight loss past 30 day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&gt;10% weight loss past 180 days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4480" indent="-287280">
              <a:spcBef>
                <a:spcPts val="524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Psychiatric medications received</a:t>
            </a:r>
            <a:endParaRPr b="1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3600" y="304920"/>
            <a:ext cx="725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xample: Nutrition Repor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160" y="1654200"/>
            <a:ext cx="888732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ratified by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rovide ‘BIG picture’ over time, not just snapshot of one shift or one da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1FC4-6162-4636-AF8A-6FF1CC3195E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80520"/>
            <a:ext cx="7727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utrition Report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are uses of the Nutrition Report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ntify which meals are not being eate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omote use of nutritional supplemen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dentify need for consistent weight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97F-202B-4FA7-B541-76D3E5FAFD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creased meal intake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ight los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d incontinence episode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reased behavior problem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isting red areas on ski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pressure ulcer in last 90 days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3920" y="380880"/>
            <a:ext cx="576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ample: Priority Repo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7680" y="1600200"/>
            <a:ext cx="8896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Identifies residents at risk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DCB-F14B-4173-8C93-6D21C649D94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Results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856720" cy="61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79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Decrease Pressure Ulcer Development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 Adherence to Best Practic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rease Staff Accountability and Satisfac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Inclusion of front-line workers in QI efforts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prehensive documentation at point of care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ommunication among care team improved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Reduce Inefficiencie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# documentation forms for CNAs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CNA time looking for documentation book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ime to compile reports for State Regulators and MDS 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2" marL="1195560" indent="-50832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imes New Roman"/>
              </a:rPr>
              <a:t>Time for Wound RN to summarize and report data</a:t>
            </a:r>
            <a:endParaRPr b="1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Improve State Survey Proces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7960" indent="-507960"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stablish a foundation for EH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3A3-4902-4068-BC08-F65F76A3075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80920" y="2071800"/>
          <a:ext cx="7253280" cy="388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0920" y="2071800"/>
                    <a:ext cx="725328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3251160" y="4267080"/>
            <a:ext cx="3301920" cy="28548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4 03 – Q3 05% Change =  - 33%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4600" y="0"/>
            <a:ext cx="85993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mpact On Pressure Ulcer QMs </a:t>
            </a:r>
            <a:br>
              <a:rPr sz="4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udy Facilities Comb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47880" y="6248520"/>
            <a:ext cx="39639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 CMS Nursing Home Compare; Facility QM data repo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267080" y="39621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E383-73D0-4065-B99F-D5C7AF1C252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ressure Ulcer Healing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alyze PrU assessment and treatment data to determine those practices that are associated with faster healing, controlling for resident and initial ulcer characteristic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lement findings in standardized wound assessment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bine tracking outcomes (development and healing of PrUs) and quality improvement (information to improve clinical decision-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92FD-9E46-4BDF-9FFB-2F63C8C6A61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is different about this approach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9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tegrates sustainable quality improvement into daily operation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ject activities are integrated into versus added on to daily work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eamlines documentation with focus on critical data elements and information flow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volves front-line staf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tablish multi-disciplinary design and implementation teams, including CNAs, nurses, dieticians, wound nurses, MDS nurses, social services, and restorative care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3FC-6AC2-412F-98CF-B5F6F6D7AE1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hat is different about this approach?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anslates documentation into car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planning information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grate from a paper/form document environment toward a data culture environment.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21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anslates data into multi-disciplinary clinical reports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grate from a culture of accessing quarterly reports for retrospective analysis to using weekly clinical reports by multi-disciplinary team for timely resident care planning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6B54-2F36-4444-AEF3-7F2599974CC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1440" y="-152280"/>
            <a:ext cx="8726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search Based Found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74480" y="1599840"/>
            <a:ext cx="86691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ational Pressure Ulcer Long-term Care Stud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NPULS), 1996-1997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 long-term care provider organization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9 facilities;  2,490 resident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,343 residents with pressure ulcer; 1,147 at risk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0% female;  Average age = 79.8 year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unded by Ross Products Division, Abbott Laboratories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12F-0467-43FA-BEA8-10AD55C4C7A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Strateg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rly identification of high risk resident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nitor changes in PrUs, nutrition, incontinence, and behavior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grate with guidelines and evidence- based practices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F2C-465B-4E39-BE9E-2B31FA5AB78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QI Organization Strategy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verage CNA daily  and Wound RN weekly documentation to provide data for repor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rove accuracy of CNA observation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lectronic checking of data now possibl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ate timely information into day to day practice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sy access to summarized inform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ew resident trends and multiple risk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disciplinary inpu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414-4D60-4B96-A08B-A7583A49A41C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8398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00"/>
                </a:solidFill>
                <a:latin typeface="Times New Roman"/>
              </a:rPr>
              <a:t>Long Term Care CPI Results</a:t>
            </a:r>
            <a:br>
              <a:rPr sz="3900"/>
            </a:b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Outcome: Develop Pressure Ulcer</a:t>
            </a:r>
            <a:endParaRPr b="1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2362320"/>
            <a:ext cx="1828800" cy="1143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Gene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ssess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71760" y="2286000"/>
            <a:ext cx="1828800" cy="1220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contin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97280" y="2286000"/>
            <a:ext cx="1828800" cy="121932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utr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89680" y="2286000"/>
            <a:ext cx="1828800" cy="12207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taff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581280"/>
            <a:ext cx="243828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Ag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M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Severity of Illn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History of P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ependency 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gt;= 7 AD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iabe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History of tobacco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Dehyd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Weight lo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581280"/>
            <a:ext cx="2209680" cy="16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+ Mechanical devices for the containment of urine (catheters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Disposable brie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Toileting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10280" y="3581280"/>
            <a:ext cx="213372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RN hours per resident day &gt;=0 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CNA hours per resident day &gt;= 2.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40360" y="5105520"/>
            <a:ext cx="1828800" cy="6858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ed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73760" y="59436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SSRI + Antipsycho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523880"/>
            <a:ext cx="8991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n et al,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. Amer Geriatr So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rch 2004; 52(3):359-36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495680" y="3581280"/>
            <a:ext cx="281952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Fluid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Nutritional Supp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andard medic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Enteral Suppl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isease-specif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igh calorie/high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rotei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C95-AC13-45AD-820E-C0C6231F4F3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240" y="1679400"/>
            <a:ext cx="8915400" cy="548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NA Daily Documentation and Workflow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tandardized data in documentation flow sheets;  include best practice element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mproved communication with clinical team (RN, CNA, MDS, Dietary)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ound Nurse PrU Tracking Documenta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tandardized data in PrU documentation (assessments and treatments)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Timely access to compiled information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1624"/>
              </a:spcBef>
              <a:buClr>
                <a:srgbClr val="ff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Times New Roman"/>
              </a:rPr>
              <a:t>Clinical Reports: Timely Information for Care Planning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entify residents at risk for pressure ulcer developm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ize information for clinical decision-making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200" indent="-381240">
              <a:lnSpc>
                <a:spcPct val="80000"/>
              </a:lnSpc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rten response time between identification of resident need and intervent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ope of HI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FFA-87D0-476C-99C9-99774A36E0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E7F-D7A9-48A0-B843-E85B01ADE25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B0D1-78F8-4487-905E-62994CB2387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IT Requirement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e of use: practical for CNA staff (e.g., pen and paper solution or hand-helds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al training (good for turnover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staff adoption (no need to learn how to use a computer or alter clinical workflow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al impact to existing clinical workflow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NAs and wound RN up and running in 2-3 month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180-2802-4EC8-BDA9-5698305DC3A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3089160" cy="4648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1523880"/>
            <a:ext cx="5867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Digital 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0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Thin and light device that writes like an ordinary 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0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ncludes camera that records pen strokes in pen memory that stores up to 200 p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0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Records position and time 75 times a second;  camera records pen strokes in pe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0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Used with digitized form, digital pen reads unique pattern of dots to interpret th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Times New Roman"/>
              </a:rPr>
              <a:t>Docking Station</a:t>
            </a: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0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Battery charg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502920" indent="-20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Uploading data from memory to database via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286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ample technology #1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Digital Pe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505-E627-414C-9BC3-1B327DC263D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xample technology #2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acility-developed Application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Profile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Facility programmers developed application: relational database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Hand-held devices for data input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CNA documentation of daily note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Wound nurse documentation of PrU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Reports to monitor resident changes 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imes New Roman"/>
              </a:rPr>
              <a:t>Project Requirements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Incorporate standardized data elements into application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Behavior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Skin observation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Develop AHRQ reports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992-A95E-464B-86BB-13D4EF80D3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9T22:39:16Z</dcterms:created>
  <dc:creator>Susan D. Horn, Ph.D.</dc:creator>
  <dc:description/>
  <dc:language>en-US</dc:language>
  <cp:lastModifiedBy>Susan</cp:lastModifiedBy>
  <cp:lastPrinted>2000-09-06T19:30:46Z</cp:lastPrinted>
  <dcterms:modified xsi:type="dcterms:W3CDTF">2007-09-20T18:56:30Z</dcterms:modified>
  <cp:revision>235</cp:revision>
  <dc:subject/>
  <dc:title>No Slide Title</dc:title>
</cp:coreProperties>
</file>