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3489EA-B3BC-4637-872D-F6A388425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392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4800"/>
            <a:ext cx="5029200" cy="423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CE388F-8511-4E5F-BC68-66D9C3FD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97A75A-1A25-4CF1-BA1F-F4E27153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A6368C-2C74-418A-87EB-25FD5B83C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F53E8A-6783-4A27-B752-2C54AEC8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398034-FDF8-4D1B-BEA3-4DB0F960E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CBB59B-E40E-4AC4-A928-D38D72166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626EC8-382D-4176-9962-D4F137791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7D331C-2ADD-4460-8B82-7C8B2A32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8A39CE-FB29-45AA-8819-39A81F782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D15378-2851-47C2-AB4B-D0CAAD24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647BE8-99C0-49A5-80B6-2B075E774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61725B-B618-4961-9381-3BF5FE55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D0C0F0-363B-4FB2-A3B8-A121B7D28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8E98AB-1E33-4009-BB17-636D9ECD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3BC161-36B2-450F-858E-528DA1D3F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2155E1-F0EA-488D-A5AA-0D0DD9FB6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1CD020-28C6-4E05-A479-7867116CD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177C69-2528-47CC-B86C-2522B1B5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BFE208-039B-478D-8790-2106A2365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ining requirements (good for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8EF3FA-B7A5-4A98-803C-4943F66E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C7278F-B694-415C-A1E2-445E0EFAC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89D-2A99-4252-B408-E47F1290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D9B-9DEA-4830-8B76-69F06BD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B86-8039-492C-8B3B-84AF8B4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899-D09C-479B-B3E3-4F114407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6FA-4CE2-456B-BECA-E5F3C2D2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09BA-18E1-4A52-BDC3-D1A69FD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4D63-1575-40C5-BFED-D0A8114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F32F-43A7-48D9-B4FD-6B6F37CA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BF2E-C221-400E-A40F-2D703FA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6AA-B74A-416A-8941-3EAC47A1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D9DF-02C4-4BCD-82F5-28F0CED6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BC5-89AA-473D-9359-0082B5C7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BC91-CE3F-4217-92AD-DCB4E77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3D1-3BAF-4D0D-B6F6-E4643BB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370-E864-41F9-A3EC-1CBBAD2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96BB-76BA-4530-BA2A-AA5F01E3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ABEC-DFBB-4E08-91E6-FA585F9C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460-88EA-4C4F-B2D6-9357948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C29-62A9-4272-926A-9CA330C9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EC8-6093-4B48-B3D4-7674BCB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910-CE0F-48E0-BDA3-813BDF5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E6A-6642-4881-848B-4055BC7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7EA-5B77-4A36-811A-237C5D2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886-9404-4B6B-8464-E2616D5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5B44-D9C8-4B74-AFDA-E95D9C684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D88-1946-49C4-A9F4-1054D9D59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sing HIT to Improve Outcomes for Elderly Nursing Home Resident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dnesday, Sept 26, 2007; 10 – 11:30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sing Clinical Decision Support Systems to Measure Quality of Care for Special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FF9-6912-41FD-BEDD-94A6226D6F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3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nic Medical Recor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file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d CNA standardized documentation data elements into EM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d Wound RN standardized documentation data elements into EM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ject Requireme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corporate standardized data elements into applic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kin observ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velop AHRQ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44-2F13-4805-A7B6-FF4F03D7C0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cision Making Repor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Documentation Completeness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mmary of CNA documentation completeness 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average meal intake, resident diet, supplements, resident weight status (presence of weight gain/loss), last diet consult date, history of pressure ulcer indicator, and presence of pressure ulcer.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Behavior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the total number of times a resident exhibits a behavior by shif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iority Resident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residents who are at risk for pressure ulcer development and high priority for staff focus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0E1-67D8-4280-9A99-80527AC78F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Average 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use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ary consult date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sychiatric medications received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304920"/>
            <a:ext cx="72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1D7-11A8-4424-831B-6C4B02B1E3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80520"/>
            <a:ext cx="7727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utrition Repor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uses of the Nutrition Repor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which meals are not being eat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mote use of nutritional suppl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need for consistent weigh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828-44FE-4570-8912-34D4997441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creased meal intak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ight lo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incontinence episod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behavior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isting red areas on sk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pressure ulcer in last 90 day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3920" y="380880"/>
            <a:ext cx="57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: Priority Re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1600200"/>
            <a:ext cx="889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dentifies residents at risk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3E2-063B-440E-A29A-3807190257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A64-BC59-41CA-92CD-A3BDAA9138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80920" y="2071800"/>
          <a:ext cx="725328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2071800"/>
                    <a:ext cx="7253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251160" y="4267080"/>
            <a:ext cx="3301920" cy="285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600" y="0"/>
            <a:ext cx="8599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mpact On Pressure Ulcer QMs </a:t>
            </a:r>
            <a:br>
              <a:rPr sz="4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udy Facilities Comb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47880" y="6248520"/>
            <a:ext cx="3963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67080" y="39621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ADC-23F4-4F45-9268-8C82F64A4F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ssure Ulcer Heal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yze PrU assessment and treatment data to determine those practices that are associated with faster healing, controlling for resident and initial ulcer characteristic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lement findings in standardized wound assessment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bine tracking outcomes (development and healing of PrUs) and quality improvement (information to improve clinical decision-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88B-5B24-4D1D-AEF9-E400A70D66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9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grates sustainable quality improvement into daily operation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ct activities are integrated into versus added on to daily work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amlines documentation with focus on critical data elements and information flow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olves front-line staf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ablish multi-disciplinary design and implementation teams, including CNAs, nurses, dieticians, wound nurses, MDS nurses, social services, and restorative car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442-8CA3-4AE3-845A-AC522E6BFC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lates documentation into car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planning inform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grate from a paper/form document environment toward a data culture environment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lates data into multi-disciplinary clinical report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grate from a culture of accessing quarterly reports for retrospective analysis to using weekly clinical reports by multi-disciplinary team for timely resident care planning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1D3-8EFC-4920-B976-1932DAC5BC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-152280"/>
            <a:ext cx="8726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Based Found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480" y="1599840"/>
            <a:ext cx="8669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tional Pressure Ulcer Long-term Care Stud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NPULS), 1996-1997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;  2,490 residen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;  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ED6-F7FD-4392-B9E1-19F29E7E05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Strateg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ly identification of high risk resid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changes in PrUs, nutrition, incontinence, and behavi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 with guidelines and evidence- based pract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E20-5021-4C0D-ABE9-BF464F04884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I Organization Strateg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verage CNA daily  and Wound RN weekly documentation to provide data for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accuracy of CNA observ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ic checking of data now possi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 timely information into day to day pract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y access to summarized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ew resident trends and multiple risk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disciplinary inpu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CDC-121A-416D-8FD2-C50C6F36BAD9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8B3-DEC4-42C0-98B0-2CA949F541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679400"/>
            <a:ext cx="8915400" cy="54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NA Daily Documentation and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in documentation flow sheets;  include best practice elemen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mproved communication with clinical team (RN, CNA, MDS, Dietar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und Nurse PrU Tracking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in PrU documentation (assessments and treatments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ely access to compiled information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Clinical Reports: Timely Information for Care Planning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 information for clinical decision-ma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rten response time between identification of resident need and interven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pe of H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D4C-F1FC-4B86-8E48-5136C3D99E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C6D-8ED1-4FBE-B97C-699D006A16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019-A13B-4C21-B6A3-AC1417C51E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IT Requireme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use: practical for CNA staff (e.g., pen and paper solution or hand-held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 training (good for turnove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staff adoption (no need to learn how to use a computer or alter clinical workflow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 impact to existing clinical workflow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As and wound RN up and running in 2-3 mont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537-42FC-4572-A3DA-7B8304F3A5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08916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1523880"/>
            <a:ext cx="5867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Digital 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hin and light device that writes like an ordinary 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ncludes camera that records pen strokes in pen memory that stores up to 200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Records position and time 75 times a second;  camera records pen strokes in pe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sed with digitized form, digital pen reads unique pattern of dots to interpret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Docking Station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attery char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ploading data from memory to database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1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Digital Pe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4DC-BE51-429B-A80A-9D2AC8F463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2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cility-developed Applic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file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acility programmers developed application: relational databas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and-held devices for data inpu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NA documentation of daily not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ound nurse documentation of PrU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ports to monitor resident change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ject Requireme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corporate standardized data elements into applic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kin observ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velop AHRQ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21F-D8A4-467E-8127-5810FFF075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30Z</dcterms:modified>
  <cp:revision>235</cp:revision>
  <dc:subject/>
  <dc:title>No Slide Title</dc:title>
</cp:coreProperties>
</file>