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C2115-D8EE-40EE-92ED-E397099F3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64D1-2C56-4602-9A5F-10F81E25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B9D60-C4DB-49AE-BB7D-583024337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11605-33EF-4541-8547-B3984A6A7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566B3-3FA0-45B9-B5DB-02B9B8255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8422F-9CA1-4892-BD19-1729C1DF3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15C99-4D10-42A8-BED6-B3A1F0401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82E7C-6DBA-4494-9379-BEDFD0156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26F41-46D2-4372-9A84-A04AE08B0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77879-C684-4903-8AB8-AC04A3F3C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A805-F5DB-492B-BB4A-D84421595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9554-F607-4136-9044-94CE52D3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2B73B-DDC7-4586-ABD4-9D9F0CF2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331B1-8011-44A7-9A59-D978CE09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B07B2-00AB-4B9E-A81E-40FBA2BD1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19A69-7118-44BD-AA03-99ECAEA36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00224-B412-4095-BD09-0B4797543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A5F4-04B8-4E92-8C3A-410B0CFA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87CE9-26C9-4446-86BA-1E21CECB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B565-FCF5-4E9E-85A4-B79599F1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299C-1BE3-4F00-A8F4-545DAB7B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B42B-8714-4413-9496-114C7B1E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8A37-EA10-4F77-B3EA-9A6F025A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6995-9EE5-46BA-9812-1786EE50F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47920" y="6477120"/>
            <a:ext cx="7696080" cy="380880"/>
          </a:xfrm>
          <a:prstGeom prst="rect">
            <a:avLst/>
          </a:prstGeom>
          <a:solidFill>
            <a:srgbClr val="6673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743040" indent="-285840">
              <a:spcBef>
                <a:spcPts val="601"/>
              </a:spcBef>
              <a:buClr>
                <a:srgbClr val="ca4c3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143000" indent="-228600">
              <a:spcBef>
                <a:spcPts val="601"/>
              </a:spcBef>
              <a:buClr>
                <a:srgbClr val="6673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057400" indent="-22860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BDFC-5908-4658-B298-07CBF7847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 descr=""/>
          <p:cNvPicPr/>
          <p:nvPr/>
        </p:nvPicPr>
        <p:blipFill>
          <a:blip r:embed="rId3"/>
          <a:stretch/>
        </p:blipFill>
        <p:spPr>
          <a:xfrm>
            <a:off x="7180200" y="228600"/>
            <a:ext cx="1658880" cy="328680"/>
          </a:xfrm>
          <a:prstGeom prst="rect">
            <a:avLst/>
          </a:prstGeom>
          <a:ln w="0">
            <a:noFill/>
          </a:ln>
        </p:spPr>
      </p:pic>
      <p:sp>
        <p:nvSpPr>
          <p:cNvPr id="8" name=""/>
          <p:cNvSpPr/>
          <p:nvPr/>
        </p:nvSpPr>
        <p:spPr>
          <a:xfrm>
            <a:off x="5183280" y="6537240"/>
            <a:ext cx="376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hieve Healthcare Technologies – Confidential and Proprietary</a:t>
            </a:r>
            <a:endParaRPr b="0" lang="en-US" sz="1000" spc="-1" strike="noStrike">
              <a:solidFill>
                <a:srgbClr val="000000"/>
              </a:solidFill>
              <a:latin typeface="Arial"/>
            </a:endParaRPr>
          </a:p>
        </p:txBody>
      </p:sp>
      <p:sp>
        <p:nvSpPr>
          <p:cNvPr id="9" name=""/>
          <p:cNvSpPr/>
          <p:nvPr/>
        </p:nvSpPr>
        <p:spPr>
          <a:xfrm>
            <a:off x="0" y="6477120"/>
            <a:ext cx="1447920" cy="380880"/>
          </a:xfrm>
          <a:prstGeom prst="rect">
            <a:avLst/>
          </a:prstGeom>
          <a:solidFill>
            <a:srgbClr val="ca4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6400800"/>
            <a:ext cx="1447920" cy="76320"/>
          </a:xfrm>
          <a:prstGeom prst="rect">
            <a:avLst/>
          </a:prstGeom>
          <a:solidFill>
            <a:srgbClr val="a03c28"/>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 name=""/>
          <p:cNvSpPr/>
          <p:nvPr/>
        </p:nvSpPr>
        <p:spPr>
          <a:xfrm>
            <a:off x="1447920" y="6400800"/>
            <a:ext cx="7696080" cy="76320"/>
          </a:xfrm>
          <a:prstGeom prst="rect">
            <a:avLst/>
          </a:prstGeom>
          <a:solidFill>
            <a:srgbClr val="4a535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47920" y="6477120"/>
            <a:ext cx="7696080" cy="380880"/>
          </a:xfrm>
          <a:prstGeom prst="rect">
            <a:avLst/>
          </a:prstGeom>
          <a:solidFill>
            <a:srgbClr val="6673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743040" indent="-285840">
              <a:spcBef>
                <a:spcPts val="601"/>
              </a:spcBef>
              <a:buClr>
                <a:srgbClr val="ca4c3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143000" indent="-228600">
              <a:spcBef>
                <a:spcPts val="601"/>
              </a:spcBef>
              <a:buClr>
                <a:srgbClr val="6673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057400" indent="-22860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D674-4D1D-4302-941A-C6D6253F0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 descr=""/>
          <p:cNvPicPr/>
          <p:nvPr/>
        </p:nvPicPr>
        <p:blipFill>
          <a:blip r:embed="rId2"/>
          <a:stretch/>
        </p:blipFill>
        <p:spPr>
          <a:xfrm>
            <a:off x="7180200" y="228600"/>
            <a:ext cx="1658880" cy="328680"/>
          </a:xfrm>
          <a:prstGeom prst="rect">
            <a:avLst/>
          </a:prstGeom>
          <a:ln w="0">
            <a:noFill/>
          </a:ln>
        </p:spPr>
      </p:pic>
      <p:sp>
        <p:nvSpPr>
          <p:cNvPr id="55" name=""/>
          <p:cNvSpPr/>
          <p:nvPr/>
        </p:nvSpPr>
        <p:spPr>
          <a:xfrm>
            <a:off x="5183280" y="6537240"/>
            <a:ext cx="376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hieve Healthcare Technologies – Confidential and Proprietary</a:t>
            </a:r>
            <a:endParaRPr b="0" lang="en-US" sz="1000" spc="-1" strike="noStrike">
              <a:solidFill>
                <a:srgbClr val="000000"/>
              </a:solidFill>
              <a:latin typeface="Arial"/>
            </a:endParaRPr>
          </a:p>
        </p:txBody>
      </p:sp>
      <p:sp>
        <p:nvSpPr>
          <p:cNvPr id="56" name=""/>
          <p:cNvSpPr/>
          <p:nvPr/>
        </p:nvSpPr>
        <p:spPr>
          <a:xfrm>
            <a:off x="0" y="6477120"/>
            <a:ext cx="1447920" cy="380880"/>
          </a:xfrm>
          <a:prstGeom prst="rect">
            <a:avLst/>
          </a:prstGeom>
          <a:solidFill>
            <a:srgbClr val="ca4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6400800"/>
            <a:ext cx="1447920" cy="76320"/>
          </a:xfrm>
          <a:prstGeom prst="rect">
            <a:avLst/>
          </a:prstGeom>
          <a:solidFill>
            <a:srgbClr val="a03c28"/>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 name=""/>
          <p:cNvSpPr/>
          <p:nvPr/>
        </p:nvSpPr>
        <p:spPr>
          <a:xfrm>
            <a:off x="1447920" y="6400800"/>
            <a:ext cx="7696080" cy="76320"/>
          </a:xfrm>
          <a:prstGeom prst="rect">
            <a:avLst/>
          </a:prstGeom>
          <a:solidFill>
            <a:srgbClr val="4a535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br>
              <a:rPr sz="2400"/>
            </a:br>
            <a:r>
              <a:rPr b="1" lang="en-US" sz="2400" spc="-1" strike="noStrike">
                <a:solidFill>
                  <a:srgbClr val="333333"/>
                </a:solidFill>
                <a:latin typeface="Arial"/>
              </a:rPr>
              <a:t>Challenges and Opportunities</a:t>
            </a:r>
            <a:endParaRPr b="1" lang="en-US" sz="2400" spc="-1" strike="noStrike">
              <a:solidFill>
                <a:srgbClr val="333333"/>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c28"/>
                </a:solidFill>
                <a:latin typeface="Arial"/>
              </a:rPr>
              <a:t>How Electronic Medication Management Systems Can Improve Medication Safety and Reduce Cos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What Needs To Be Don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tandards must continue to include Long Term Car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Long Term Care must not be exempted from requirements</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All participants must continue to be a part of the standards creation and adoption</a:t>
            </a:r>
            <a:endParaRPr b="0" lang="en-US" sz="24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1800" spc="-1" strike="noStrike">
                <a:solidFill>
                  <a:srgbClr val="333333"/>
                </a:solidFill>
                <a:latin typeface="Arial"/>
              </a:rPr>
              <a:t>Facilities</a:t>
            </a:r>
            <a:endParaRPr b="0" lang="en-US" sz="18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ies</a:t>
            </a:r>
            <a:endParaRPr b="0" lang="en-US" sz="18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ftware Vendors</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tates must not be allowed to create complex and expensive regulations that deter or delay the implementation of this functionali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c28"/>
                </a:solidFill>
                <a:latin typeface="Arial"/>
              </a:rPr>
              <a:t>Question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ePrescribing</a:t>
            </a:r>
            <a:endParaRPr b="1" lang="en-US" sz="2400" spc="-1" strike="noStrike">
              <a:solidFill>
                <a:srgbClr val="333333"/>
              </a:solidFill>
              <a:latin typeface="Arial"/>
            </a:endParaRPr>
          </a:p>
        </p:txBody>
      </p:sp>
      <p:sp>
        <p:nvSpPr>
          <p:cNvPr id="9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The fully automated, electronic transmission of prescriptions from the prescriber to the pharmacy</a:t>
            </a:r>
            <a:endParaRPr b="0" lang="en-US" sz="2000" spc="-1" strike="noStrike">
              <a:solidFill>
                <a:srgbClr val="33333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Benefits include:</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Eliminates paper at facility and pharmacy</a:t>
            </a:r>
            <a:endParaRPr b="0" lang="en-US" sz="20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t email</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t eFax</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 re-entry of information</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Bi-directional – allows three way communication</a:t>
            </a:r>
            <a:endParaRPr b="0" lang="en-US" sz="20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escriber</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y</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Formulary Information presented at the beginning of the proces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DUR and Allergy Information presented at the order entr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0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llenge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Universal adoption requires standards for information sharing</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LTC requirements have historically been ignored</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Existing standards did not allow type of information unique to LTC to be included</a:t>
            </a:r>
            <a:endParaRPr b="0" lang="en-US" sz="20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ensus only transaction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 specific information</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Lack of appropriate standards drive development of proprietary application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Proprietary applications increase cost and reduce adoption</a:t>
            </a:r>
            <a:endParaRPr b="0" lang="en-US" sz="2000" spc="-1" strike="noStrike">
              <a:solidFill>
                <a:srgbClr val="33333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Retail Electronic Prescribing</a:t>
            </a:r>
            <a:r>
              <a:rPr b="1" lang="en-US" sz="2400" spc="-1" strike="noStrike">
                <a:solidFill>
                  <a:srgbClr val="a03c28"/>
                </a:solidFill>
                <a:latin typeface="Arial"/>
              </a:rPr>
              <a:t> </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r>
              <a:rPr b="0" lang="en-US" sz="2400" spc="-1" strike="noStrike">
                <a:solidFill>
                  <a:srgbClr val="333333"/>
                </a:solidFill>
                <a:latin typeface="Arial"/>
              </a:rPr>
              <a:t>One Wa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Many to Man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Unpredictabl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Requires significant adoption to realize benefits</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Heavily dependent on physician adop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Electronic Prescribing in Long Term Car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Involves three-way communication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escrib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y</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Requires two way information flow</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Volumes are much more predictabl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harmacy has greater role in medication decisions, higher level of accountability</a:t>
            </a:r>
            <a:endParaRPr b="0" lang="en-US" sz="2400" spc="-1" strike="noStrike">
              <a:solidFill>
                <a:srgbClr val="3333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Electronic Prescribing in Long Term Car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Close One to one relationship Between Facility and Pharmac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Different roles in Long Term Care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nsultant Pharmacist</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hysician adoption desired but not required</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se of Nurse Practioners and Physicians Assistant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urse as an agent</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mall number of pharmacy software vendors compared to the retail market</a:t>
            </a:r>
            <a:endParaRPr b="0" lang="en-US" sz="2400" spc="-1" strike="noStrike">
              <a:solidFill>
                <a:srgbClr val="33333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0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Advantages</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Close relationship between facility and pharmacy enable realization of benefits quickl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maller number of systems allows broad access in a very short time fram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otential for impacting adverse drug events (ADEs) and Medication errors is significant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lthough the size of the population is small compared to the ambulatory market the number of medications per resident is far greater, an average of 10 per resident and acuity levels are far high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July 2006 the Institute of Medicine’s report on “Preventing Medication Errors” states 800,000 preventable ADEs each year in LTC setting alone</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urce:</a:t>
            </a:r>
            <a:r>
              <a:rPr b="0" lang="en-US" sz="1800" spc="-1" strike="noStrike" u="sng">
                <a:solidFill>
                  <a:srgbClr val="333333"/>
                </a:solidFill>
                <a:uFillTx/>
                <a:latin typeface="Arial"/>
              </a:rPr>
              <a:t>http://www.iom.edu/Object.File/Master/35/943/medication%20errors%20new.pdf</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0"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Advantage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Opportunity to reduce cost and improve care are much greater due to the percentage of medication dollars spent on this population</a:t>
            </a:r>
            <a:endParaRPr b="0" lang="en-US" sz="20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High percentage of medication dollars are spent in by Seniors </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Arial"/>
              </a:rPr>
              <a:t>According to the 2003 report released by Families USA, a Washington based consumer health organization, seniors represent 13 % of the total population and yet they account for about 34 % of all prescriptions dispensed and 42% of all prescription drug spending.* </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ue to high acuity levels of typical residents many of the medications are more costly than the average ambulatory patient</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sidents often do not participate in medication administration so responsibility of physician, facility and pharmacy is much great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ducing time spent in the prescribing process and the opportunity for errors can significantly increase overall quality of care</a:t>
            </a:r>
            <a:endParaRPr b="0" lang="en-US" sz="1800" spc="-1" strike="noStrike">
              <a:solidFill>
                <a:srgbClr val="333333"/>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urce: Compiled by PRIME Institute, University of Minn., for Families USA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onclusion</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Although there are definite challenges to implementing electronic prescribing in Long Term Care the ability is real</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results from the CMS pilot has proven that the standards can and do work in an LTC setting</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bsequent Pilots have enabled the expansion and refinement of the standards to include even more relevant information</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dustry leaders have demonstrated a willingness to work together to enable the technology</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al benefits have been proven in</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st and productivity savings</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fety improvement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opportunity for impact is immense</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15:55:30Z</dcterms:created>
  <dc:creator>jschwa</dc:creator>
  <dc:description>This is the new Achieve PowerPoint template effective January 2007. This is NOT product-specific, it is a generic Achieve template.</dc:description>
  <cp:keywords>powerpoint presentation template </cp:keywords>
  <dc:language>en-US</dc:language>
  <cp:lastModifiedBy>User</cp:lastModifiedBy>
  <dcterms:modified xsi:type="dcterms:W3CDTF">2007-09-26T11:20:08Z</dcterms:modified>
  <cp:revision>34</cp:revision>
  <dc:subject/>
  <dc:title>Achieve PowerPoint Template</dc:title>
</cp:coreProperties>
</file>