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7DC2-354C-4877-A94A-52F222BA9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360B-64D9-449C-92CB-432F398D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E204-59EE-4092-8F5F-6C102AD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F203-E8D7-49CB-85DE-557E5F0CE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0188-BA0B-4032-BE55-AA87E29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11BB-D199-4ADF-8FC2-3AB6FA0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DB3-A9B8-47B6-AF98-F931B02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5920-8859-4F26-9BD7-958353CB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2FA7-BB66-4647-BD99-1306F448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FEC9-F3A2-4643-A20A-6C51B32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1CAF-B5B9-46FA-AF8F-F4F5D36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8C98-28A3-499A-B229-758CB34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D34E-EC1E-4BA5-8C2F-125E305A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goldste@gwu.ed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ian Adoption of HI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07 Annual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issa M. Goldstein, 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Healt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Public Health and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orge Washington University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o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s are promising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 adoption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urrent pace, full EHR use by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n’t yet hit tipp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ad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: systems ar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,000 up front per MD in ambulato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-20 Million for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creates significant dow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he way doctors and nurse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erceiv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s accru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adoption,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R adoption contingent on valu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dopters have seen a business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practices, multi-sit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barriers critical for small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ost Americans receive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and re-distribut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ay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barriers need to be understood i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ruption always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have made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al issues often over-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Net Provi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urvey federally funded CHC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pt./Oct.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% some EHR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minimal set of EHR 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Cs serving the most poor &amp; uninsured less likely to have functional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pital top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better data on EHR Ad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EH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Medicine definition laying out 8 key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Adoption Initiativ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data collec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new survey tools (PM, physician, hospital, consu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goals and objectives o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upon existing federal and privat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urvey questions that add to and fill in the gaps of other existing programs of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better data on EHR Value, Barriers and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easures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ne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value and efficiency of care with and without 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barriers and incentives to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measures of barriers and incentives in regular data collec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and perceived leg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b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eg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or perceived legal burden of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or perceived legal exposures associated with the disclosur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issa M. Gold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goldste@gw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Healthcar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s, Variabl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use of HIT may improve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nnual savings of billions by redu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errors and advers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on rate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inconsistent (5% to 65%) and unhelp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 Adoption Initiativ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ww.hitadoption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S -- O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W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/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 (October 2006) – RWJF/O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current state of EH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major barriers and facili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current state of Health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the evidence of EHR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scan of existing surveys (e.g., NAMCS, NHAMCS, HI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voted to HIT, some only with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survey devoted expressly to assessing adoption among safety net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using objec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Health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-prescri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survey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surveys had adequate information for quality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:  Outpatient EHR 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High Quality Surveys (5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HR adoption rate in U.S.:  17% - 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quality survey (2005):  24% use some 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all surv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HR adoption rate in U.S.:  20% -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Estimates of EH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1295280"/>
          <a:ext cx="7162560" cy="373392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from Medium or High Quality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Estimates Based on High Quality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 in physician off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to 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to 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physicians office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to 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 in 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+ to 59% 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 in 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o 2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5105520"/>
            <a:ext cx="8305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s defined a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 physicians by one study (with an estimate of 39%) an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0 physicians (with an estimate of 57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from a survey rated “low” in quality of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Estimate from a survey quality of content suggested “low” in confidence in the est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diffusion of EHRs among office-based physicians: 2001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9480" y="5943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2006-2014 %’s are estimated based on current rate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04440" y="377496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% annual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04240" y="25560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 annual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7:42:56Z</dcterms:created>
  <dc:creator>Lee Repasch</dc:creator>
  <dc:description/>
  <dc:language>en-US</dc:language>
  <cp:lastModifiedBy>Emily Moser</cp:lastModifiedBy>
  <dcterms:modified xsi:type="dcterms:W3CDTF">2009-07-09T19:26:26Z</dcterms:modified>
  <cp:revision>62</cp:revision>
  <dc:subject/>
  <dc:title>Slide 1</dc:title>
</cp:coreProperties>
</file>