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F2D8C-DD33-48C3-899D-B933432D62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4488-8426-4A22-A1D9-B9F7E1CB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D0613-CAEA-4504-9240-16E0623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6818-7508-41B7-947C-45F96CC5FB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DD633-C7AD-47C3-8B68-CA06238F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0434-0EC7-43AF-8A62-D79D933B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EFC7-C70A-48ED-9170-B94F47ED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B3B0-B76C-4F06-95DF-B6C709F3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9588-E199-46AC-94BE-2D68D9D7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1D43-06E1-4FC9-A95D-7BC64EF89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A845-49BE-49A6-8507-CB92F8A8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9656-9465-4328-B454-4BEB49BC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9080" y="-14400"/>
            <a:ext cx="918216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F046-87D5-44B9-B01F-780FA310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mgoldste@gwu.edu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ysician Adoption of HIT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2007 Annual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6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issa M. Goldstein, 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Health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Public Health and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orge Washington University Med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 of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s are promising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 adoption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current pace, full EHR use by 20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n’t yet hit tipp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ad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: systems ar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0,000 up front per MD in ambulatory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-20 Million for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creates significant dow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the way doctors and nurses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erceiv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ings accrue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adoption, co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HR adoption contingent on value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dopters have seen a business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practices, multi-site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barriers critical for small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most Americans receive health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turing and re-distribut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ay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barriers need to be understood in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ruption always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have made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al issues often over-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Net Provider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T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urvey federally funded CHC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lth Affai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pt./Oct. 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% some EHR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% minimal set of EHR 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Cs serving the most poor &amp; uninsured less likely to have functional 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apital top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better data on EHR Ad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EH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Medicine definition laying out 8 key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T Adoption Initiative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data collec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new survey tools (PM, physician, hospital, consu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goals and objectives o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upon existing federal and private 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survey questions that add to and fill in the gaps of other existing programs of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better data on EHR Value, Barriers and Incen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easures of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net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value and efficiency of care with and without EH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barriers and incentives to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measures of barriers and incentives in regular data collec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l and perceived leg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barr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leg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or perceived legal burden of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or perceived legal exposures associated with the disclosur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issa M. Gold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goldste@gwu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Healthcare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sts, Variabl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use of HIT may improve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annual savings of billions by reduc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plicat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errors and adverse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on rates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s inconsistent (5% to 65%) and unhelp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T Adoption Initiativ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ww.hitadoption.or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HS -- O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W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/Massachusetts General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am and Women’s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Report (October 2006) – RWJF/O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current state of EH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major barriers and facili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current state of Health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the evidence of EHR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scan of existing surveys (e.g., NAMCS, NHAMCS, HIM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devoted to HIT, some only with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survey devoted expressly to assessing adoption among safety net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 using objective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Health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-prescri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survey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surveys had adequate information for quality sc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:  Outpatient EHR Us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High Quality Surveys (5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HR adoption rate in U.S.:  17% - 2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quality survey (2005):  24% use some 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of all surve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HR adoption rate in U.S.:  20% -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Estimates of EHR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14400" y="1295280"/>
          <a:ext cx="7162560" cy="3733920"/>
        </p:xfrm>
        <a:graphic>
          <a:graphicData uri="http://schemas.openxmlformats.org/drawingml/2006/table">
            <a:tbl>
              <a:tblPr/>
              <a:tblGrid>
                <a:gridCol w="2387520"/>
                <a:gridCol w="2387520"/>
                <a:gridCol w="2387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from Medium or High Quality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 Estimates Based on High Quality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s in physician off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to 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o practitio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 to 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physicians offices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to 5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Rs in hospi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+ to 59% 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 in hospi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to 21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57200" y="5105520"/>
            <a:ext cx="8305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s defined as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0 physicians by one study (with an estimate of 39%) and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0 physicians (with an estimate of 57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e from a survey rated “low” in quality of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Estimate from a survey quality of content suggested “low” in confidence in the est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diffusion of EHRs among office-based physicians: 2001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9480" y="59436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2006-2014 %’s are estimated based on current rate of ad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04440" y="377496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% annual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04240" y="255600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% annual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7:42:56Z</dcterms:created>
  <dc:creator>Lee Repasch</dc:creator>
  <dc:description/>
  <dc:language>en-US</dc:language>
  <cp:lastModifiedBy>Emily Moser</cp:lastModifiedBy>
  <dcterms:modified xsi:type="dcterms:W3CDTF">2009-07-09T19:26:26Z</dcterms:modified>
  <cp:revision>62</cp:revision>
  <dc:subject/>
  <dc:title>Slide 1</dc:title>
</cp:coreProperties>
</file>