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8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15"/>
          </p:nvPr>
        </p:nvSpPr>
        <p:spPr>
          <a:xfrm>
            <a:off x="395424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Img"/>
          </p:nvPr>
        </p:nvSpPr>
        <p:spPr>
          <a:xfrm>
            <a:off x="1168200" y="684360"/>
            <a:ext cx="4660920" cy="34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16"/>
          </p:nvPr>
        </p:nvSpPr>
        <p:spPr>
          <a:xfrm>
            <a:off x="-36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 type="sldNum" idx="17"/>
          </p:nvPr>
        </p:nvSpPr>
        <p:spPr>
          <a:xfrm>
            <a:off x="395424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0FC501-A86C-4C08-9151-722884B23C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3A0BE5-97B5-41BE-A7F4-E7617D26FA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t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/prescri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n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Adh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– inadequate lab testing or delayed response to signs and 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66EF19-456C-48AD-8F61-73427AC640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we know the major problems are with prescribing and monitoring, it makes sense to identify which classes of drugs have the biggest bang for the bu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83EC25-3A51-4A74-B6A9-30F68646B8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65+ patients on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ardiovascul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ugs which accounts for its high volume of ADE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ntibiotic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are very common, but far fewer ADE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nticoagu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1/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common, yet have a relatively high rate of ADE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D48E5E-0CCF-44CA-A0CB-373921346C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to see this is with the absolute rate of Preventable ADE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AA7B09-9DF5-4E77-A72C-6A94E4C282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you can look at essentially the “Risk” of therap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chances of an ADE when you prescribe an Anticoagulant is 3 times higher than your risk when prescribing a Cardiovascular 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EA6C27-29C7-492F-A691-B369411B9C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ook a different approach.  It turns out that the most serious ADE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A43CDB-9E67-4D27-ACD8-5B56C28C2D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key.  These don’t go away until a lab is completed and another appointment is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D71516-A492-426E-98E5-5E37E0C3C4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aspects to patient safety which are well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just going to focus on our work with ADE’s in the ambulatory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965662-EB5F-4949-AEFA-93AFBB8529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c has Asynchronous Alerts starting in Spring ‘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A7FA72-CC0C-45B0-92DC-97CCEF17F4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17145E-1CF0-482D-86C8-C948636D07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led by Jerry Gurwitz, David Bates, and Terry Field, funded by National Institute on Aging and AHR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8,000 patients age 65 and older over the course of 1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ally looked at each of these 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signals were things lik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oxin Level &g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D9- code for “Poisoning by Cardiovascular Dru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&lt;2.9 or INR &gt;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 for Vitamin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MD’s don’t record or report their mistak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s are the AD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re the contr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835B58-5E8E-48EE-B8C3-34634C7471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apply ~$750,000 each year to pay for the inter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638A7A-8196-4AF8-887B-05B7165E29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erious = Non Urticarial Rash or fall without fra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= Urticaria or fall with fra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hreatening = hemorrhage with hypotension or ARF requiring hospit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36F7A2-0A4B-4F6B-8B91-5B13CBE706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2378-DA9A-4B31-ACED-09908346B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5FCE-ECAB-43EE-8406-62B6432CD9C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C03C9-E909-4036-8DD0-9FA08377F9F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9E5FC-3602-4357-8406-738A5F46370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E024E-8F39-4C49-ACC9-37316705EB6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AE19B-8379-4861-A65F-3958FB52FF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11477-0557-4CCE-910E-57DC93E833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96BEB-6750-45D1-AD8F-5261EE0D3B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0B7A2-4213-4A18-B6D3-4E873924D4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3F741-21B2-4DA4-8677-E7877792575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4A1A4-95D8-44D8-B23D-F634FF0CF57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5FA7A-7510-4C30-8F9D-2D421898A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A206-8065-4881-B3A1-66E4C732639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37BC-EFA7-4BCC-A8E5-6386326445D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97DF-031F-4F25-B98C-E5C907C3698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8C63-084C-4924-ACC7-F9E8E230F01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A5F8-423B-4BD5-80A1-5A59AC54E62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E9FF-1F82-40DC-929F-0861FA91CAC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E21E-053B-4673-B297-63DD131B97D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9DEF0-259D-4C67-BD26-FA0DDBCEC72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6B4F-54F4-4496-9B45-046D746DD12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2B10-C549-4B7E-959D-0D09CD9283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B538-44CA-4A53-AFE3-57D035C28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831B-B5F4-41B9-A961-32D7C2D4D9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5755-C498-419C-9C10-E399242BE1F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10A77-FBA4-454E-A59B-5EAC3A6BA5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F8794-ADCB-4636-84FD-4A009D78E7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43B73-6ABA-421F-8C38-FE2E15DAE00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138CA-71F4-4F34-850D-75BDA6C57E5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DCEAF-695D-46FA-88C2-6EB232F68EA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CAF90-D3D5-43A4-AFC9-AB376D251F7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BF463-C738-421F-BB0E-CE9698F68F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7805D-4D0C-4078-A355-F722C4DF444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21A1B-7651-47D2-879D-DB76512F1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B848A-905C-4D2B-B1EA-112D45C4646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07E3E-3E1A-4953-A92E-0010C9713A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7CD54-ACB9-4234-90B6-A53D24E5314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38121-EFD5-4A9E-8A1E-04692455C81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72D97-8D6D-4027-AB72-BE23F2FF2EC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D38AA-C809-419F-9E9F-018B70759A9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04348-E413-4B0D-A5F1-D92393FD024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6AF22-5479-41D1-B5FD-DFB64FAB41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66F99-F290-4E78-A8FA-5346C5CA86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A8150-F816-4BD9-B3AF-1ED3CC34C7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E1B54-464C-4C44-AFD2-9CF8DA99F79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DC3BA-1A75-4B95-9BE1-2AE13514B1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09B0D-9F0F-415C-A426-A5E3190086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36D69-39CE-4930-96D6-9A3435DE3F1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EC1C1-6D60-4811-A73E-5C0DA52EA97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7A39C-11A2-4C2F-86B3-CEB6E56D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AAC70-FAC2-42ED-A020-68EF7081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C56F5-A34E-49AE-A6E9-7A42B0A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FBC0C-CEC2-4E8D-A691-90862F2E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5285A-A61B-412D-9CE9-EB6C5504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5948B-7805-42D7-9EE1-F0E847F8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30B3B-2B44-4E22-88D3-36CDB638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73BC8-7B9F-481E-946B-CD26D28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F9E9C-A943-443D-99A2-9A42CA8F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DDC6C-86D0-4C4F-8B02-FFCD6DE0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7F66B-27F0-4D7A-A33E-35E4FCC3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20F38-DF3A-43AF-9387-8093CB39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F7ED-8CE2-49F3-B0B1-ED95C1267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43BF-0A39-40D8-B39F-DFE06929D7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B637-0AF4-4809-9710-944ABA880D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6BCA-7509-4DFB-A4B1-259FFBC208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ACC3-734F-490A-BF8C-AFC8D970C1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B829-F089-468E-A326-EE51F08F12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62EC-A5AA-45A6-8BAA-3D5D22A18A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B080-E7D3-4CA6-8F29-82F265951B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D3F7-F712-4BE8-8AD0-CDBD3B910D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4376-AA0F-4B17-AA1D-E5E0B76E64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6F6B-83DE-444C-90CE-4601065FA9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6619-73F5-4D37-B782-DED45674FA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1254-A289-4CE6-BB9D-3186FEF2DB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0B7F-379A-4F6C-BD16-D78AED2B26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7E1-BC7B-4AA7-97B3-38A8CD9C99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658-2E37-4FE7-8523-59F1289E50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3E6-40B8-41F1-ABEA-467A24448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E06F-3B7F-452B-A660-198F0927EC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65B-C634-4F6B-A8E5-D01DE1EE05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373-B8CD-433C-8CEB-7BF73CB736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645-9B57-4C51-AF95-5E9F559BB5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422-8D6A-4D37-AD41-C4F8AF23B3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D32-9536-491B-9A58-A775284C94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2DC-6411-4476-B0C4-7649241187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07B-0466-4176-B65A-AC3BE3BE9C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A07-8864-49C8-8216-2FA811E078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5FB-5460-4AB6-9CED-6B98DA1958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7E20F-61A8-433D-9E59-8809E408D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508F-E7DE-409B-9289-A0DF802D88A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64678-C628-40C4-9511-BA72454E9B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E4DA2-5FEB-465A-B6F9-5EB9C85E22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F9366-6AE9-464D-98AD-CA5DEDD80C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B730E-333B-43FC-A117-62DA64F067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120F8-354F-4B88-9D9F-A3D7394D5D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39C0F-75EE-41B5-8885-76F794512E7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E1DE4-7C42-4E56-85C2-C3129EB9FEA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D7DF-3961-4B4F-ABF5-40AD31B77A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0E69B-2A91-4D80-A82B-8D1088EC8D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631B1-4EB8-4A61-BAA3-110634C24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B1C0-3917-4607-A339-6ECC9A9769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5385E-88A2-4E30-8253-7EE9EDF5B9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3C7B8-6D04-4511-8679-BE25514478C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25211-10B9-42B6-9052-E8D17CDE9E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BC80C-C713-47C7-9A93-EC805D7DE0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B6D20-7413-43C6-811C-76286DA33F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AC6F0-212C-4C23-945C-A8F775B58A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1AB52-5319-46BB-B69C-B156E5DD73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D1563-5FB8-4FE7-BC88-8B4CE1C702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E6CEB-8C7B-4E8E-83D6-99C6C3A844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AB5D3-BE4B-4FEC-AE98-A9D39721A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F31B-4EEC-4327-8FCF-F966633D7C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EF673-B9D8-4616-9241-90F67C0103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0F1F9-4D8E-41A8-8B10-9A18C0D700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1333B-7864-4D9D-84B5-8159C80206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BBF2-56B1-48A6-9126-787F84A2C7A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465-B658-49F8-9AF8-444DCC2AC1E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9E0A-F515-45C4-B6FD-653553941C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4E7C-B3E3-4252-8431-0D233EC23A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EC7E-3264-44CA-801E-C4BD0154D2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0706-9660-448B-AF2B-6F19151652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60B2-FE55-4EEA-9BA3-85FB1DD7A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1B2D-6A6D-4A14-858E-126964F7D5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F8A3-C362-43F6-B915-E4BA150228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B9CD-2321-493F-8956-53313AAD0E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1E8F-D0D3-4AA4-9275-B0D7F4DC3E7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106A-36B9-477D-AB04-4C67D992409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D20F-F26D-4B8B-B2A1-22FD32156A0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2ECB0-D362-4E2D-B59D-8F336DEF82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20E1E-100F-4E26-BE0C-81855A691BF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0769E-CBB6-43B1-A6A4-5FFE12E119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DAFA76-B116-443B-9750-27E8F01E2E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BE5D71-6919-42A9-B856-AAF431C31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D815-6408-4418-8DB8-564CA99393F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BAD87-FC28-494C-95D1-FC06D29BC58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5AE7C-5FCF-4335-9F9F-D14941CECF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2410B-0091-48C1-8BA5-FDC0125F4AC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C7CE1-F9D0-41F0-AFBE-93C27B9654E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7842A-C6D4-4B92-AE75-DE2C9D09C3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DA25E3-549E-433C-86EC-97D67994BED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6C2B3-AE5D-4D72-81CA-F6727D10CF7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C314B-AA22-4EFD-B22A-390D18C96F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3D2C5-9E4B-41DE-8A78-7CBAA4EC7F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DA02E-E274-4799-B567-89FA91FAD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DDDA-1D9A-41ED-857D-DC39FC608E80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389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9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5689-272C-4879-8CED-901F93D8A5FE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30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432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0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A951-CA43-4A9D-A631-0A39A4755D99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475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1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A48C-9FC3-42B5-8AED-8B6E193816C2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16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17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518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CF46-94AB-45C4-89D9-65283877CF53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220f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09480" y="2057400"/>
            <a:ext cx="8229600" cy="1676520"/>
          </a:xfrm>
          <a:prstGeom prst="rect">
            <a:avLst/>
          </a:prstGeom>
          <a:solidFill>
            <a:srgbClr val="8ac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45" name="Picture 6" descr="FallonCl trad-2col-cmyk"/>
          <p:cNvPicPr/>
          <p:nvPr/>
        </p:nvPicPr>
        <p:blipFill>
          <a:blip r:embed="rId2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FC%20logo%20horizontal"/>
          <p:cNvPicPr/>
          <p:nvPr/>
        </p:nvPicPr>
        <p:blipFill>
          <a:blip r:embed="rId3"/>
          <a:stretch/>
        </p:blipFill>
        <p:spPr>
          <a:xfrm>
            <a:off x="1717560" y="617400"/>
            <a:ext cx="5708880" cy="897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88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0B49-9351-4FA4-97E6-FF288F4F4D80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131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2B18-3B15-42F3-9B25-C9D6CBB07977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174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4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D074-8AD7-4F21-AC88-DD9392DEB4AC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217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5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73D5-7589-4629-B4E3-071AA18C4E06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260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6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0C9E-DF4C-4D9F-83FE-5082FF23DADF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303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7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C98F-D3D4-43BE-B55E-A05986580A75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44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346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8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21D0-248D-41B2-9E23-C63F714B91B8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Lawrence.Garber@FallonClinic.org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46"/>
                </a:solidFill>
                <a:latin typeface="Tahoma"/>
              </a:rPr>
              <a:t>Beyond ePrescribing</a:t>
            </a:r>
            <a:endParaRPr b="1" lang="en-US" sz="48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599840" y="37339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60046"/>
                </a:solidFill>
                <a:latin typeface="Tahoma"/>
              </a:rPr>
              <a:t>Factors Influencing Patient Safety in Medical Group Practices  - </a:t>
            </a:r>
            <a:r>
              <a:rPr b="0" lang="en-US" sz="2800" spc="-1" strike="noStrike">
                <a:solidFill>
                  <a:srgbClr val="360046"/>
                </a:solidFill>
                <a:latin typeface="Tahoma"/>
              </a:rPr>
              <a:t>September 26</a:t>
            </a:r>
            <a:r>
              <a:rPr b="0" lang="en-US" sz="2800" spc="-1" strike="noStrike" baseline="30000">
                <a:solidFill>
                  <a:srgbClr val="360046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360046"/>
                </a:solidFill>
                <a:latin typeface="Tahoma"/>
              </a:rPr>
              <a:t>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46"/>
                </a:solidFill>
                <a:latin typeface="Tahoma"/>
              </a:rPr>
              <a:t>AHRQ 2007: Improving Healthcare, Improving 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46"/>
                </a:solidFill>
                <a:latin typeface="Tahoma"/>
              </a:rPr>
              <a:t>Larry Garber, M.D. – Medical Director for Informa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953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Source of Errors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graphicFrame>
        <p:nvGraphicFramePr>
          <p:cNvPr id="604" name="Object 2"/>
          <p:cNvGraphicFramePr/>
          <p:nvPr/>
        </p:nvGraphicFramePr>
        <p:xfrm>
          <a:off x="457200" y="2022480"/>
          <a:ext cx="89154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22480"/>
                    <a:ext cx="89154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94920" y="2743200"/>
            <a:ext cx="678204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60046"/>
                </a:solidFill>
                <a:latin typeface="Tahoma"/>
              </a:rPr>
              <a:t>So where do you start?</a:t>
            </a:r>
            <a:endParaRPr b="1" lang="en-US" sz="6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174A-E378-4FA3-AD10-D8CF902C0AA2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F386-8C65-4731-981D-645DE72D5E4E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D498-C4CE-4B42-A98A-89593A3C9C18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8D8-F27D-44A2-BFF9-CEAA69E2AC85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320" y="13644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60046"/>
                </a:solidFill>
                <a:latin typeface="Tahoma"/>
              </a:rPr>
              <a:t>Fallon Approach to Preventing ADE’s</a:t>
            </a:r>
            <a:endParaRPr b="1" lang="en-US" sz="38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target the Fatal &amp; Life-Threatening preventable ADE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far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do a system-wide solution for the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925C-1491-470B-921A-4A249F227E5C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Preventing Warfarin ADE’s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ing/Prescri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rescribing with drug interaction che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referrals to Anticoagulation Cli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ed Anticoagulation Clinic to Epic’s EH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tracking of lab no-sh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7677-BE45-4E00-B166-BEA1A8F07284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5D8D-B934-452B-B82E-3E72AF8C6965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5"/>
          <p:cNvSpPr/>
          <p:nvPr/>
        </p:nvSpPr>
        <p:spPr>
          <a:xfrm>
            <a:off x="5486400" y="2514600"/>
            <a:ext cx="3581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dosing information is entered and available to be seen by all physicians and staff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5715000" y="4549680"/>
            <a:ext cx="3352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of next INR is entered to trigger tickler system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cxnSp>
        <p:nvCxnSpPr>
          <p:cNvPr id="627" name="Straight Arrow Connector 8"/>
          <p:cNvCxnSpPr/>
          <p:nvPr/>
        </p:nvCxnSpPr>
        <p:spPr>
          <a:xfrm flipH="1">
            <a:off x="4800240" y="4799520"/>
            <a:ext cx="838800" cy="305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8" name="Right Brace 11"/>
          <p:cNvSpPr/>
          <p:nvPr/>
        </p:nvSpPr>
        <p:spPr>
          <a:xfrm>
            <a:off x="5029200" y="2362320"/>
            <a:ext cx="457200" cy="236196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361960"/>
              <a:gd name="textAreaBottom" fmla="*/ 23500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8"/>
                </a:cubicBezTo>
                <a:lnTo>
                  <a:pt x="10800" y="10452"/>
                </a:lnTo>
                <a:cubicBezTo>
                  <a:pt x="10800" y="10626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8"/>
                </a:cubicBezTo>
                <a:lnTo>
                  <a:pt x="10800" y="21252"/>
                </a:lnTo>
                <a:cubicBezTo>
                  <a:pt x="10800" y="21426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15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grpSp>
          <p:nvGrpSpPr>
            <p:cNvPr id="630" name="Group 13"/>
            <p:cNvGrpSpPr/>
            <p:nvPr/>
          </p:nvGrpSpPr>
          <p:grpSpPr>
            <a:xfrm>
              <a:off x="0" y="0"/>
              <a:ext cx="9128160" cy="6858000"/>
              <a:chOff x="0" y="0"/>
              <a:chExt cx="9128160" cy="6858000"/>
            </a:xfrm>
          </p:grpSpPr>
          <p:grpSp>
            <p:nvGrpSpPr>
              <p:cNvPr id="631" name="Group 11"/>
              <p:cNvGrpSpPr/>
              <p:nvPr/>
            </p:nvGrpSpPr>
            <p:grpSpPr>
              <a:xfrm>
                <a:off x="0" y="0"/>
                <a:ext cx="9128160" cy="6858000"/>
                <a:chOff x="0" y="0"/>
                <a:chExt cx="9128160" cy="6858000"/>
              </a:xfrm>
            </p:grpSpPr>
            <p:pic>
              <p:nvPicPr>
                <p:cNvPr id="632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2816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3" name="Rectangle 5"/>
                <p:cNvSpPr/>
                <p:nvPr/>
              </p:nvSpPr>
              <p:spPr>
                <a:xfrm>
                  <a:off x="3581280" y="1752480"/>
                  <a:ext cx="1143000" cy="1447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c2532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Rectangle 12"/>
              <p:cNvSpPr/>
              <p:nvPr/>
            </p:nvSpPr>
            <p:spPr>
              <a:xfrm>
                <a:off x="6858000" y="1752480"/>
                <a:ext cx="838080" cy="1447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c2532"/>
                  </a:solidFill>
                  <a:latin typeface="Arial"/>
                </a:endParaRPr>
              </a:p>
            </p:txBody>
          </p:sp>
        </p:grpSp>
        <p:sp>
          <p:nvSpPr>
            <p:cNvPr id="635" name="Rectangle 14"/>
            <p:cNvSpPr/>
            <p:nvPr/>
          </p:nvSpPr>
          <p:spPr>
            <a:xfrm>
              <a:off x="4800600" y="1752480"/>
              <a:ext cx="60948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c2532"/>
                </a:solidFill>
                <a:latin typeface="Arial"/>
              </a:endParaRPr>
            </a:p>
          </p:txBody>
        </p:sp>
      </p:grpSp>
      <p:sp>
        <p:nvSpPr>
          <p:cNvPr id="636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A190-1F14-4021-B7BC-C28D031B0F81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304920" y="4648320"/>
            <a:ext cx="6705360" cy="141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R Reminder automatically appears in the Anticoagulation Clinic In-basket on the patient’s due date, and doesn’t disappear until the due date is changed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cxnSp>
        <p:nvCxnSpPr>
          <p:cNvPr id="638" name="Straight Arrow Connector 8"/>
          <p:cNvCxnSpPr/>
          <p:nvPr/>
        </p:nvCxnSpPr>
        <p:spPr>
          <a:xfrm flipV="1">
            <a:off x="608400" y="2819160"/>
            <a:ext cx="305640" cy="1753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9" name="Straight Arrow Connector 9"/>
          <p:cNvCxnSpPr/>
          <p:nvPr/>
        </p:nvCxnSpPr>
        <p:spPr>
          <a:xfrm flipV="1">
            <a:off x="914400" y="3351960"/>
            <a:ext cx="991440" cy="1220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Preventing Other ADE’s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11120" y="1077840"/>
            <a:ext cx="8732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robabilistic risk assessment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ze systemic and behavioral elements that increase of ADE’s during ordering/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potentially high-yield and likely-to-be-successful interven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 likelihood that interventions at any given step would be successful in reducing errors at that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interventions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362D-4E1C-4C2C-9DEB-726826DD4D33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609480" y="6019920"/>
            <a:ext cx="624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c2532"/>
                </a:solidFill>
                <a:latin typeface="Arial"/>
              </a:rPr>
              <a:t>Field TS et al AHRQ Grant # </a:t>
            </a:r>
            <a:r>
              <a:rPr b="0" i="1" lang="en-US" sz="1800" spc="-1" strike="noStrike">
                <a:solidFill>
                  <a:srgbClr val="8c2532"/>
                </a:solidFill>
                <a:latin typeface="Arial"/>
              </a:rPr>
              <a:t>1P20HS017109-01</a:t>
            </a: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1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94200" cy="60642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6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1924200" cy="2880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"/>
          <p:cNvPicPr/>
          <p:nvPr/>
        </p:nvPicPr>
        <p:blipFill>
          <a:blip r:embed="rId3"/>
          <a:stretch/>
        </p:blipFill>
        <p:spPr>
          <a:xfrm>
            <a:off x="2133720" y="3505320"/>
            <a:ext cx="2012760" cy="3036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"/>
          <p:cNvPicPr/>
          <p:nvPr/>
        </p:nvPicPr>
        <p:blipFill>
          <a:blip r:embed="rId4"/>
          <a:stretch/>
        </p:blipFill>
        <p:spPr>
          <a:xfrm>
            <a:off x="4952880" y="2666880"/>
            <a:ext cx="2013120" cy="3003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968480" cy="29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160" y="136440"/>
            <a:ext cx="876276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Barriers to preventing ADE’s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10760" y="1077840"/>
            <a:ext cx="8583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organizations don’t have EHR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Prescribing doesn’t solve the monitoring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EHR’s don’t currently have the functionality to provide alerts for missing events without being in the context of a patient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 compli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and money required to build interven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61E1-0917-4BDA-B4B9-D5205764FDA5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Summary: 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s are common and often preven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errors suggest focus on prescribing and monitor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79b6f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sion of information to physicians and assistants at right time, right plac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79b6f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automated tickl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s are high and savings from preventing ADEs could partially offset costs of interven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98C3-09B5-464C-A70E-1DBD04022FB5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Questions?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ry Garber, M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370b7"/>
                </a:solidFill>
                <a:uFillTx/>
                <a:latin typeface="Tahoma"/>
                <a:hlinkClick r:id="rId1"/>
              </a:rPr>
              <a:t>Lawrence.Garber@FallonClinic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AutoShape 41"/>
          <p:cNvSpPr/>
          <p:nvPr/>
        </p:nvSpPr>
        <p:spPr>
          <a:xfrm>
            <a:off x="4143240" y="3095640"/>
            <a:ext cx="857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53" name="TextBox 5"/>
          <p:cNvSpPr/>
          <p:nvPr/>
        </p:nvSpPr>
        <p:spPr>
          <a:xfrm>
            <a:off x="1447920" y="4267080"/>
            <a:ext cx="6019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2532"/>
                </a:solidFill>
                <a:latin typeface="Arial"/>
              </a:rPr>
              <a:t>Special thanks to Terry Field, PhD and Jerry Gurwitz, M.D. for their assistance on this presentation and never-ending work to study and prevent ADE’s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FB2F-D02F-4B05-AD1F-6CB933BC5A92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Overview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60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s of Adverse Drug Events (ADE’s) in the ambulatory set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ing anticoagulant-related ADE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ture plans and barriers to reducing ADE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304920" y="1295280"/>
          <a:ext cx="8458200" cy="4800600"/>
        </p:xfrm>
        <a:graphic>
          <a:graphicData uri="http://schemas.openxmlformats.org/drawingml/2006/table">
            <a:tbl>
              <a:tblPr/>
              <a:tblGrid>
                <a:gridCol w="3124080"/>
                <a:gridCol w="2514600"/>
                <a:gridCol w="28195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 ADE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Preventable (%)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 note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7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pital D/C’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er signal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9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ctronic note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5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er report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8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ident report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37"/>
          <p:cNvSpPr/>
          <p:nvPr/>
        </p:nvSpPr>
        <p:spPr>
          <a:xfrm>
            <a:off x="533520" y="0"/>
            <a:ext cx="795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Sources of ADE Information</a:t>
            </a:r>
            <a:endParaRPr b="0" lang="en-US" sz="36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79" name="Text Box 39"/>
          <p:cNvSpPr/>
          <p:nvPr/>
        </p:nvSpPr>
        <p:spPr>
          <a:xfrm>
            <a:off x="228600" y="6216480"/>
            <a:ext cx="853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c2532"/>
                </a:solidFill>
                <a:latin typeface="Arial"/>
              </a:rPr>
              <a:t>Field, TS et al. JAMIA 2004;52:1349-1354.</a:t>
            </a: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ADE Rates in the Ambulatory Setting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42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0 per 1000 person-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entable AD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 per 1000 person-years (28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polated to total Medicare 65+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,446,949 ADEs per ye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38,046 preventable ADEs/y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likely to be an underestim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80880" y="6400800"/>
            <a:ext cx="647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c2532"/>
                </a:solidFill>
                <a:latin typeface="Arial"/>
              </a:rPr>
              <a:t>Gurwitz JH et al JAMA 2003;289:1107-1116</a:t>
            </a: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29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Financial Cost of ADE’s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1428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graphicFrame>
        <p:nvGraphicFramePr>
          <p:cNvPr id="585" name="Object 2"/>
          <p:cNvGraphicFramePr/>
          <p:nvPr/>
        </p:nvGraphicFramePr>
        <p:xfrm>
          <a:off x="0" y="995400"/>
          <a:ext cx="9726480" cy="46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5400"/>
                    <a:ext cx="972648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Text Box 5"/>
          <p:cNvSpPr/>
          <p:nvPr/>
        </p:nvSpPr>
        <p:spPr>
          <a:xfrm>
            <a:off x="380880" y="6400800"/>
            <a:ext cx="647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c2532"/>
                </a:solidFill>
                <a:latin typeface="Arial"/>
              </a:rPr>
              <a:t>Field TS, et al Medical Care 2005;43:1171-6</a:t>
            </a: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88" name="Straight Connector 6"/>
          <p:cNvSpPr/>
          <p:nvPr/>
        </p:nvSpPr>
        <p:spPr>
          <a:xfrm flipV="1">
            <a:off x="4950720" y="2440080"/>
            <a:ext cx="324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953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Financial Cost of ADE’s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 in costs after an AD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$13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 after a preventable ADE: $198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polated to 1000 adults age 65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s per year to treat preventable ADE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$27,36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ADE Severity in the Ambulatory Setting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graphicFrame>
        <p:nvGraphicFramePr>
          <p:cNvPr id="592" name="Object 2"/>
          <p:cNvGraphicFramePr/>
          <p:nvPr/>
        </p:nvGraphicFramePr>
        <p:xfrm>
          <a:off x="-609480" y="1981080"/>
          <a:ext cx="1002024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981080"/>
                    <a:ext cx="1002024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953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Severity &amp; Preventability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graphicFrame>
        <p:nvGraphicFramePr>
          <p:cNvPr id="595" name="Object 2"/>
          <p:cNvGraphicFramePr/>
          <p:nvPr/>
        </p:nvGraphicFramePr>
        <p:xfrm>
          <a:off x="617400" y="2971800"/>
          <a:ext cx="387828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71800"/>
                    <a:ext cx="38782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 Box 4"/>
          <p:cNvSpPr/>
          <p:nvPr/>
        </p:nvSpPr>
        <p:spPr>
          <a:xfrm>
            <a:off x="1053000" y="5110200"/>
            <a:ext cx="190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able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228600" y="1828800"/>
            <a:ext cx="4289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2532"/>
                </a:solidFill>
                <a:latin typeface="Arial"/>
              </a:rPr>
              <a:t>Of fatal &amp; life-threatening </a:t>
            </a:r>
            <a:endParaRPr b="0" lang="en-US" sz="2800" spc="-1" strike="noStrike">
              <a:solidFill>
                <a:srgbClr val="8c2532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2532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8c2532"/>
              </a:solidFill>
              <a:latin typeface="Arial"/>
            </a:endParaRPr>
          </a:p>
        </p:txBody>
      </p:sp>
      <p:graphicFrame>
        <p:nvGraphicFramePr>
          <p:cNvPr id="599" name="Object 3"/>
          <p:cNvGraphicFramePr/>
          <p:nvPr/>
        </p:nvGraphicFramePr>
        <p:xfrm>
          <a:off x="5037120" y="2895480"/>
          <a:ext cx="3878280" cy="362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7120" y="2895480"/>
                    <a:ext cx="38782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Text Box 7"/>
          <p:cNvSpPr/>
          <p:nvPr/>
        </p:nvSpPr>
        <p:spPr>
          <a:xfrm>
            <a:off x="5777280" y="5181480"/>
            <a:ext cx="190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able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5105520" y="1752480"/>
            <a:ext cx="3389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2532"/>
                </a:solidFill>
                <a:latin typeface="Arial"/>
              </a:rPr>
              <a:t>Of less serious events</a:t>
            </a:r>
            <a:endParaRPr b="0" lang="en-US" sz="2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5:24:17Z</dcterms:created>
  <dc:creator>Larry Garber</dc:creator>
  <dc:description/>
  <dc:language>en-US</dc:language>
  <cp:lastModifiedBy>Larry Garber</cp:lastModifiedBy>
  <dcterms:modified xsi:type="dcterms:W3CDTF">2007-09-26T18:59:48Z</dcterms:modified>
  <cp:revision>5</cp:revision>
  <dc:subject/>
  <dc:title>You Only Go-Live Once</dc:title>
</cp:coreProperties>
</file>