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8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dt" idx="15"/>
          </p:nvPr>
        </p:nvSpPr>
        <p:spPr>
          <a:xfrm>
            <a:off x="395424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sldImg"/>
          </p:nvPr>
        </p:nvSpPr>
        <p:spPr>
          <a:xfrm>
            <a:off x="1168200" y="684360"/>
            <a:ext cx="4660920" cy="34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ftr" idx="16"/>
          </p:nvPr>
        </p:nvSpPr>
        <p:spPr>
          <a:xfrm>
            <a:off x="-36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 type="sldNum" idx="17"/>
          </p:nvPr>
        </p:nvSpPr>
        <p:spPr>
          <a:xfrm>
            <a:off x="395424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6F56A9-A624-4861-BA17-27AA30F211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D555B1-D854-437F-B3F9-8FFE1CEB81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t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/prescri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n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Adh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– inadequate lab testing or delayed response to signs and 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070565-01DC-49CE-8621-BD67E6DFE4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we know the major problems are with prescribing and monitoring, it makes sense to identify which classes of drugs have the biggest bang for the bu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8A67FC-45E2-4FD8-8615-ECA89273FB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65+ patients on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ardiovascul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ugs which accounts for its high volume of ADE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ntibiotic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are very common, but far fewer ADE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trast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nticoagu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1/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s common, yet have a relatively high rate of ADE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7E39DD-38F1-4341-87BD-20397E54AA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way to see this is with the absolute rate of Preventable ADE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AC2060-467B-45AE-873E-EB10C86C7A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you can look at essentially the “Risk” of therap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ther words, the chances of an ADE when you prescribe an Anticoagulant is 3 times higher than your risk when prescribing a Cardiovascular me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6E0A4D-DA92-49AD-AF10-5B33674848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ook a different approach.  It turns out that the most serious ADE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37224B-6BE5-4351-8D10-FB2A8574B8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the key.  These don’t go away until a lab is completed and another appointment is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059E9B-40CC-40EE-86EF-9276559BC1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aspects to patient safety which are well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just going to focus on our work with ADE’s in the ambulatory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0AE28A-AB1B-42FD-A224-CE3ACC3797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c has Asynchronous Alerts starting in Spring ‘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62A6CF-6AFA-4D00-A79C-0CD0FB051A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971741-41B6-467F-ABD4-EADA279371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led by Jerry Gurwitz, David Bates, and Terry Field, funded by National Institute on Aging and AHR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8,000 patients age 65 and older over the course of 1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atically looked at each of these 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signals were things lik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oxin Level &g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D9- code for “Poisoning by Cardiovascular Dru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&lt;2.9 or INR &gt;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 for Vitamin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MD’s don’t record or report their mistak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s are the AD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re the contr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7D0919-A5E3-43FB-A643-9870914F84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apply ~$750,000 each year to pay for the inter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0B9EFE-AB62-4EC1-B228-FB957D9FDE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68560" y="68436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2960" y="4406400"/>
            <a:ext cx="5171760" cy="4179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erious = Non Urticarial Rash or fall without fra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= Urticaria or fall with fra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hreatening = hemorrhage with hypotension or ARF requiring hospit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54600" y="8815320"/>
            <a:ext cx="3043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5D9EF4-6591-4E35-9235-23A8E2D756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EA1C-5D65-4AF4-A7DB-68FF53D20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FB3C-9706-4596-97A6-3C2A49EE984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BDB74-7F08-419A-9925-0D0F45E0680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3C123-9857-4310-B551-4FE42922D6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9F2C3-2E85-4B1B-9653-8805833C3E6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73365-F8BA-4F3F-9F40-4A01B9AD042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79678-915F-41B7-9243-4E8C418BC22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D07400-016E-4710-B735-824BD8FBC1A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DAB663-D31B-4473-8F21-C19AF33A539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C28D1-5096-4E32-A603-4B8D1DF7B16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9F76F9-5C21-4F21-A765-F5EE4DBACB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85341-FB57-4C15-9799-7FCC5AF8B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F9F73-FF52-4CC4-8925-1B053224501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26FE0-518B-4211-963D-8166CB85212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0A47-34C6-40FC-9B11-5D7244CA14C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4A762-B05A-4111-ACDE-3700E35BFA4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D5B4-47C3-482C-9CB8-9EFE6679971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B734-A8A4-427B-A0FF-2D10FECB960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4C65-8050-40D8-AEA5-B5EC6AC9044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A478C-DD0F-4A7F-94A5-8EF2C2B349A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05D4A-3FDE-441E-8DDD-C3426E88C93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3FDB-CB32-4855-8962-3B3B07E948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38359-E595-40EA-B1AA-82A3ADD67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9950-BC82-48FB-A12E-049D4A08E67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99E8-A4F7-407D-9B08-8214A9A74CF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0DC72-4548-481D-B886-1BA1D397E5F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06A9A-67F8-4843-9C03-6D43D16A976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2F34A-E74F-4D42-9F39-8F14CC9241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E03955-B1D7-4B96-B17E-5B637020D3E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1DFEAC-3215-4CB4-9BA9-38C44BA41FD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080A4-312B-4BC6-B3B3-09924726D66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DDB48-6B78-47A1-860B-F30B91BFA6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81D6FE-97C1-4B2F-BB10-7E84229602B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32559-892A-451C-9406-B57D90263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0ECC72-FC01-46E3-A1A0-C41391A237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9BC03E-78EC-42BB-B231-E54AEFBD1A9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0CB9FA-01A0-4BFC-A717-B3CF617B07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F3045-67EA-41AB-AD8E-2A9B08A73F4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B0B397-2CC4-4BAA-9C00-ED8BF692D70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46829C-1A80-43C0-9BD0-BC73985CCB3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9E91B-7364-4E07-92F3-888DB6125FD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4CA963-666E-4358-BB63-F6DA6E57B0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FB767-8087-4099-8DE7-51A37F24872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30A65-967C-464F-927F-76D010C4DE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0118B-E102-4D5A-B243-6827930B545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67B007-3535-4232-BD3D-B40AC7581A7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D7BEF-0398-40CD-86CC-E8838DAC3A4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683A7C-E89E-4757-9042-869E405F17B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84DD3-7A06-47FA-BF04-29A9D44801A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FD0C0-D0D1-4A10-BFEB-D0D3FBCB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95277C-E38C-42D5-B19E-C1C40517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A3841-0C0A-450A-9A92-4A898A31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4D3EEB-D9F2-424D-A9B4-A33EC98B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FA3D1A-3CF4-4D4E-A926-11415018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DFC9B-A857-49A2-9AAA-5B311E33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F1DCC-4600-4610-AF94-9CCBD5C3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656EE0-419B-4DA2-8DC9-FFF46405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33D5A-F50C-4492-A741-B86A743F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9BE07-8574-4497-A756-6A2322E1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0063E5-3BFE-4D0B-B081-F57183AC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0E77C-A48A-4B38-932E-DFCB4FDA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BCB2-6A77-4F5A-B8BF-4793FA6CB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8FCE-04A2-43DD-8D76-9E51871737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B834-6877-493D-AEA4-082229E370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B2A3-1A0D-4718-8495-A27615BCFF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B51A-90A6-40B7-A073-E3B0BE2B42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5F389-5A79-409E-A522-3E77B608CB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46C9-CED2-4790-A420-A0BD375B33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28D0-D19D-4AFC-9769-68688A09FC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B034-9538-4982-8D57-E7D5F7E35D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F97E-D74C-4A47-B6E8-C12F362929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BF5C4-54E4-445A-B0A9-BFA03FD15F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28AE3-95F0-4A74-AEC4-3FD697487E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3663-E196-41CB-9C5E-60316F9C00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B351-44A1-4EBE-BF9A-F964D251BA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27F-0575-4C8F-A899-5089A5CF0F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578-6BA4-4AAB-980C-3A8A5AE3615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3708-8A36-42F4-8041-6FD9D47A9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F313-8E62-40B2-89D5-2358C120DA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DBF-BC8F-45B6-8BA4-620E72E1FC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1A1-02E8-466B-AF20-F84583EC6C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212-AC43-4EAD-96EE-B6701B725E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F1C-84F5-4AE6-9C90-075ECE81549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6AE1-2DE6-42F8-BE67-043B1429B2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568-036B-4F2A-A360-2986F3BEF5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43C-CE9E-421E-A463-4F221C45CF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72E-93CB-4BD2-BA90-B9CE1A918C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05E-022A-4143-B2FA-00F4223335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77E91-9510-469F-B74C-DD8B19D24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ED53-2149-4342-88BD-B0B20BC3A7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D9363-108D-42F8-86E4-CB377800AB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F4CA3-7653-4D9A-9175-34117D4A92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6806B-EBEA-484B-9FEF-5D540683A6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09532-07B5-49F7-B22D-4AA5DD16FDE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FFC7F-74FD-407B-B0AC-A6F34A2A46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0C1E1-8D81-451F-8A9A-63384917433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15A89-0CD3-4A81-8B4D-CB76B9B3148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318CE-EEA3-4421-9127-02CFBF889C3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7AED2-4CA2-4A93-9FCF-5CB0875DAD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B9D3B-5DC9-42BA-B6F8-18307BFC2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AC01-7068-42A7-856F-8A0FF4837BD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B8441-74BB-4681-817F-E019B8623BB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CB84C-E7D1-42CB-8C25-D04EBCFDFC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168FF-107F-40B7-83E9-B98A16A92A5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2E5DF-883D-4294-896B-42CDD214AB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0B69B-5256-4AEC-A1EE-84B7811A34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37982-C0BF-4233-A844-5FF9B96E35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65098-6930-4ADB-9750-599B7AC085B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D2930-116B-4B22-9C00-72BD0042DE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40BEB-4157-4281-86E0-8D3AB4B710D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EC896-4851-4B88-9A82-5D1869A13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2393-78EF-47A1-B07A-4BEC5AE87AE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23FD4-DE9D-449A-8BA2-B4B48EB93A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A4888-AC4E-4676-9235-694FC86B9F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9B7E8-C80C-49FF-927F-16E3849BCAD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E062-F2E2-47C5-9FA6-CD92647EE5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58A4-18D4-4850-A3B7-E161BAF7BEB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B694-5B07-4237-9A07-36A99F87BF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A3E3-44E2-4003-9A24-9F460E905F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860D-EC76-4907-9044-8165B2CC93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2576-CF00-4CC1-AF07-D464DEB1153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7F25-ED3C-49E9-99EA-103B8C3C7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5262-C284-4C3F-A9A6-CDA9C0498EF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A905-7F33-4FA7-BB7E-4B13311168B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8F7F-832C-4D76-BB1A-9B4DF8C8D9E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D031-001B-403C-BC9A-3749E55592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CEC7-ADDB-499E-9920-935E2C7D28B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2DBE-EF46-4FF2-8C8A-0E50DDE377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F1106-F530-4824-9D6B-8F491401715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B48D0-7A9B-4FCA-94A0-4E88C32135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779C1-E532-4A8C-8F0E-6F0D97B4D0C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29C052-8ABB-4CC8-92E7-466DFE39109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79AD88-105D-46DD-B1BC-FAE7F6B51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5D60-FDCA-4202-9EA8-C4BDE79A78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99960" y="136440"/>
            <a:ext cx="792000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C7907-9992-44DB-96BD-5C74C0D396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47C541-4AD1-4D2A-81CF-63848F6D1DB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01EDE-77BF-43A3-81BF-4577647D537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8CF62-B191-4EA3-9C96-36785681D8C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10760" y="3643560"/>
            <a:ext cx="858348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7A2A9-E4D0-4C8A-A39F-798C5127977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9240" y="107784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1076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809240" y="3643560"/>
            <a:ext cx="418860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3DF7B-EC33-4A7A-B919-9A35D4E7DE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08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15400" y="107784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1076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08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215400" y="3643560"/>
            <a:ext cx="2763720" cy="23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D6B7D-B63A-4278-B4E0-2674859B013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A43EC-DB6D-421A-A93E-95DCBC0ABB5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38127-962C-49CF-BDA9-C743C92F089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1EEA3-BAC5-46A2-97E6-E20792B9C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DC47-8BE0-4D8F-907F-A61D3068056F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88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389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9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174D-5FE6-480E-8F77-7C54844FE87C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30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31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432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10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0C25-CE3D-4977-B4CE-6C5E6CE650E6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475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1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CBCC-E324-491B-AEC1-DF56CAAA7261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16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17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518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DD64-34F3-4488-8BE3-D2413460D91D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220f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09480" y="2057400"/>
            <a:ext cx="8229600" cy="1676520"/>
          </a:xfrm>
          <a:prstGeom prst="rect">
            <a:avLst/>
          </a:prstGeom>
          <a:solidFill>
            <a:srgbClr val="8ac0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45" name="Picture 6" descr="FallonCl trad-2col-cmyk"/>
          <p:cNvPicPr/>
          <p:nvPr/>
        </p:nvPicPr>
        <p:blipFill>
          <a:blip r:embed="rId2"/>
          <a:stretch/>
        </p:blipFill>
        <p:spPr>
          <a:xfrm>
            <a:off x="0" y="5897520"/>
            <a:ext cx="160020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FC%20logo%20horizontal"/>
          <p:cNvPicPr/>
          <p:nvPr/>
        </p:nvPicPr>
        <p:blipFill>
          <a:blip r:embed="rId3"/>
          <a:stretch/>
        </p:blipFill>
        <p:spPr>
          <a:xfrm>
            <a:off x="1717560" y="617400"/>
            <a:ext cx="5708880" cy="897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86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88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2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F950-32DE-4CB6-941D-9E00054656FC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131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3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FDBC-1F5B-4B44-8FC4-85A0CD7000FD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174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4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FE84-9668-406F-9907-5F416ECABCFD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216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217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5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F2A8-DA49-4633-9732-A017C5B12BB1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260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6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81D4-4547-4B24-93D4-CAFAA8219C5B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303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7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C63A-EEB7-48D4-BB41-5CDB98EDAE65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8339040" y="6423120"/>
            <a:ext cx="506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44" name="Line 6"/>
          <p:cNvSpPr/>
          <p:nvPr/>
        </p:nvSpPr>
        <p:spPr>
          <a:xfrm>
            <a:off x="152280" y="990720"/>
            <a:ext cx="8534520" cy="0"/>
          </a:xfrm>
          <a:prstGeom prst="line">
            <a:avLst/>
          </a:prstGeom>
          <a:ln w="38160">
            <a:solidFill>
              <a:srgbClr val="2e0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345" name="Line 7"/>
          <p:cNvSpPr/>
          <p:nvPr/>
        </p:nvSpPr>
        <p:spPr>
          <a:xfrm>
            <a:off x="228600" y="1066680"/>
            <a:ext cx="8610480" cy="0"/>
          </a:xfrm>
          <a:prstGeom prst="line">
            <a:avLst/>
          </a:prstGeom>
          <a:ln w="38160">
            <a:solidFill>
              <a:srgbClr val="749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346" name="Picture 8" descr="FallonCl horiz-3col-cmyk"/>
          <p:cNvPicPr/>
          <p:nvPr/>
        </p:nvPicPr>
        <p:blipFill>
          <a:blip r:embed="rId2"/>
          <a:srcRect l="0" t="0" r="0" b="21307"/>
          <a:stretch/>
        </p:blipFill>
        <p:spPr>
          <a:xfrm>
            <a:off x="6964200" y="6311880"/>
            <a:ext cx="1895760" cy="3351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8"/>
          </p:nvPr>
        </p:nvSpPr>
        <p:spPr>
          <a:xfrm>
            <a:off x="355248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5370b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9298-F9A6-4A65-8484-78525EDFB417}" type="slidenum">
              <a:rPr b="1" lang="en-US" sz="1000" spc="-1" strike="noStrike">
                <a:solidFill>
                  <a:srgbClr val="5370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Lawrence.Garber@FallonClinic.org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00200" y="2285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46"/>
                </a:solidFill>
                <a:latin typeface="Tahoma"/>
              </a:rPr>
              <a:t>Beyond ePrescribing</a:t>
            </a:r>
            <a:endParaRPr b="1" lang="en-US" sz="48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599840" y="37339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60046"/>
                </a:solidFill>
                <a:latin typeface="Tahoma"/>
              </a:rPr>
              <a:t>Factors Influencing Patient Safety in Medical Group Practices  - </a:t>
            </a:r>
            <a:r>
              <a:rPr b="0" lang="en-US" sz="2800" spc="-1" strike="noStrike">
                <a:solidFill>
                  <a:srgbClr val="360046"/>
                </a:solidFill>
                <a:latin typeface="Tahoma"/>
              </a:rPr>
              <a:t>September 26</a:t>
            </a:r>
            <a:r>
              <a:rPr b="0" lang="en-US" sz="2800" spc="-1" strike="noStrike" baseline="30000">
                <a:solidFill>
                  <a:srgbClr val="360046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360046"/>
                </a:solidFill>
                <a:latin typeface="Tahoma"/>
              </a:rPr>
              <a:t>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46"/>
                </a:solidFill>
                <a:latin typeface="Tahoma"/>
              </a:rPr>
              <a:t>AHRQ 2007: Improving Healthcare, Improving 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46"/>
                </a:solidFill>
                <a:latin typeface="Tahoma"/>
              </a:rPr>
              <a:t>Larry Garber, M.D. – Medical Director for Informa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953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Source of Errors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graphicFrame>
        <p:nvGraphicFramePr>
          <p:cNvPr id="604" name="Object 2"/>
          <p:cNvGraphicFramePr/>
          <p:nvPr/>
        </p:nvGraphicFramePr>
        <p:xfrm>
          <a:off x="457200" y="2022480"/>
          <a:ext cx="89154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22480"/>
                    <a:ext cx="89154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94920" y="2743200"/>
            <a:ext cx="678204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60046"/>
                </a:solidFill>
                <a:latin typeface="Tahoma"/>
              </a:rPr>
              <a:t>So where do you start?</a:t>
            </a:r>
            <a:endParaRPr b="1" lang="en-US" sz="6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66D8-DC3B-47C6-840A-04E135D56FCB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39FF-7D5D-4797-BA2B-A327B73005C8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A450-D592-4BC9-AEC2-30A6363625A0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13" name="Picture 3" descr=""/>
          <p:cNvPicPr/>
          <p:nvPr/>
        </p:nvPicPr>
        <p:blipFill>
          <a:blip r:embed="rId1"/>
          <a:stretch/>
        </p:blipFill>
        <p:spPr>
          <a:xfrm>
            <a:off x="792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313F-6035-49A5-BE53-0B90ACF741D3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10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6320" y="13644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60046"/>
                </a:solidFill>
                <a:latin typeface="Tahoma"/>
              </a:rPr>
              <a:t>Fallon Approach to Preventing ADE’s</a:t>
            </a:r>
            <a:endParaRPr b="1" lang="en-US" sz="38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target the Fatal &amp; Life-Threatening preventable ADE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far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do a system-wide solution for the 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FA4F-8815-4597-AECA-0A0EFA9F29AE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Preventing Warfarin ADE’s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10760" y="1077840"/>
            <a:ext cx="85834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ering/Prescri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Prescribing with drug interaction che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referrals to Anticoagulation Cli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ted Anticoagulation Clinic to Epic’s EH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tracking of lab no-sh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7FC1-8E4A-4821-8CB0-37065A2E3479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3D21-D8AF-4D7B-B509-3BB8B5EF30A5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5"/>
          <p:cNvSpPr/>
          <p:nvPr/>
        </p:nvSpPr>
        <p:spPr>
          <a:xfrm>
            <a:off x="5486400" y="2514600"/>
            <a:ext cx="3581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dosing information is entered and available to be seen by all physicians and staff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5715000" y="4549680"/>
            <a:ext cx="33526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 of next INR is entered to trigger tickler system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cxnSp>
        <p:nvCxnSpPr>
          <p:cNvPr id="627" name="Straight Arrow Connector 8"/>
          <p:cNvCxnSpPr/>
          <p:nvPr/>
        </p:nvCxnSpPr>
        <p:spPr>
          <a:xfrm flipH="1">
            <a:off x="4800240" y="4799520"/>
            <a:ext cx="838800" cy="305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8" name="Right Brace 11"/>
          <p:cNvSpPr/>
          <p:nvPr/>
        </p:nvSpPr>
        <p:spPr>
          <a:xfrm>
            <a:off x="5029200" y="2362320"/>
            <a:ext cx="457200" cy="236196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361960"/>
              <a:gd name="textAreaBottom" fmla="*/ 23500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"/>
                  <a:pt x="10800" y="348"/>
                </a:cubicBezTo>
                <a:lnTo>
                  <a:pt x="10800" y="10452"/>
                </a:lnTo>
                <a:cubicBezTo>
                  <a:pt x="10800" y="10626"/>
                  <a:pt x="16200" y="10800"/>
                  <a:pt x="21600" y="10800"/>
                </a:cubicBezTo>
                <a:cubicBezTo>
                  <a:pt x="16200" y="10800"/>
                  <a:pt x="10800" y="10974"/>
                  <a:pt x="10800" y="11148"/>
                </a:cubicBezTo>
                <a:lnTo>
                  <a:pt x="10800" y="21252"/>
                </a:lnTo>
                <a:cubicBezTo>
                  <a:pt x="10800" y="21426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Group 15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grpSp>
          <p:nvGrpSpPr>
            <p:cNvPr id="630" name="Group 13"/>
            <p:cNvGrpSpPr/>
            <p:nvPr/>
          </p:nvGrpSpPr>
          <p:grpSpPr>
            <a:xfrm>
              <a:off x="0" y="0"/>
              <a:ext cx="9128160" cy="6858000"/>
              <a:chOff x="0" y="0"/>
              <a:chExt cx="9128160" cy="6858000"/>
            </a:xfrm>
          </p:grpSpPr>
          <p:grpSp>
            <p:nvGrpSpPr>
              <p:cNvPr id="631" name="Group 11"/>
              <p:cNvGrpSpPr/>
              <p:nvPr/>
            </p:nvGrpSpPr>
            <p:grpSpPr>
              <a:xfrm>
                <a:off x="0" y="0"/>
                <a:ext cx="9128160" cy="6858000"/>
                <a:chOff x="0" y="0"/>
                <a:chExt cx="9128160" cy="6858000"/>
              </a:xfrm>
            </p:grpSpPr>
            <p:pic>
              <p:nvPicPr>
                <p:cNvPr id="632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0" y="0"/>
                  <a:ext cx="9128160" cy="685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3" name="Rectangle 5"/>
                <p:cNvSpPr/>
                <p:nvPr/>
              </p:nvSpPr>
              <p:spPr>
                <a:xfrm>
                  <a:off x="3581280" y="1752480"/>
                  <a:ext cx="1143000" cy="14475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c2532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Rectangle 12"/>
              <p:cNvSpPr/>
              <p:nvPr/>
            </p:nvSpPr>
            <p:spPr>
              <a:xfrm>
                <a:off x="6858000" y="1752480"/>
                <a:ext cx="838080" cy="1447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c2532"/>
                  </a:solidFill>
                  <a:latin typeface="Arial"/>
                </a:endParaRPr>
              </a:p>
            </p:txBody>
          </p:sp>
        </p:grpSp>
        <p:sp>
          <p:nvSpPr>
            <p:cNvPr id="635" name="Rectangle 14"/>
            <p:cNvSpPr/>
            <p:nvPr/>
          </p:nvSpPr>
          <p:spPr>
            <a:xfrm>
              <a:off x="4800600" y="1752480"/>
              <a:ext cx="60948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c2532"/>
                </a:solidFill>
                <a:latin typeface="Arial"/>
              </a:endParaRPr>
            </a:p>
          </p:txBody>
        </p:sp>
      </p:grpSp>
      <p:sp>
        <p:nvSpPr>
          <p:cNvPr id="636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51C9-9A1F-41FA-A66A-84AD3B169A15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37" name="TextBox 6"/>
          <p:cNvSpPr/>
          <p:nvPr/>
        </p:nvSpPr>
        <p:spPr>
          <a:xfrm>
            <a:off x="304920" y="4648320"/>
            <a:ext cx="6705360" cy="141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76367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R Reminder automatically appears in the Anticoagulation Clinic In-basket on the patient’s due date, and doesn’t disappear until the due date is changed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cxnSp>
        <p:nvCxnSpPr>
          <p:cNvPr id="638" name="Straight Arrow Connector 8"/>
          <p:cNvCxnSpPr/>
          <p:nvPr/>
        </p:nvCxnSpPr>
        <p:spPr>
          <a:xfrm flipV="1">
            <a:off x="608400" y="2819160"/>
            <a:ext cx="305640" cy="1753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9" name="Straight Arrow Connector 9"/>
          <p:cNvCxnSpPr/>
          <p:nvPr/>
        </p:nvCxnSpPr>
        <p:spPr>
          <a:xfrm flipV="1">
            <a:off x="914400" y="3351960"/>
            <a:ext cx="991440" cy="12200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Preventing Other ADE’s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11120" y="1077840"/>
            <a:ext cx="87328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probabilistic risk assessment 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ze systemic and behavioral elements that increase of ADE’s during ordering/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79b6f0"/>
              </a:buClr>
              <a:buSzPct val="6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potentially high-yield and likely-to-be-successful interven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 likelihood that interventions at any given step would be successful in reducing errors at that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interventions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F57C-40C2-4CC2-AF96-2A60F2EA734F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609480" y="6019920"/>
            <a:ext cx="624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c2532"/>
                </a:solidFill>
                <a:latin typeface="Arial"/>
              </a:rPr>
              <a:t>Field TS et al AHRQ Grant # </a:t>
            </a:r>
            <a:r>
              <a:rPr b="0" i="1" lang="en-US" sz="1800" spc="-1" strike="noStrike">
                <a:solidFill>
                  <a:srgbClr val="8c2532"/>
                </a:solidFill>
                <a:latin typeface="Arial"/>
              </a:rPr>
              <a:t>1P20HS017109-01</a:t>
            </a: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1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94200" cy="60642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6" descr=""/>
          <p:cNvPicPr/>
          <p:nvPr/>
        </p:nvPicPr>
        <p:blipFill>
          <a:blip r:embed="rId2"/>
          <a:stretch/>
        </p:blipFill>
        <p:spPr>
          <a:xfrm>
            <a:off x="3886200" y="1523880"/>
            <a:ext cx="1924200" cy="2880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"/>
          <p:cNvPicPr/>
          <p:nvPr/>
        </p:nvPicPr>
        <p:blipFill>
          <a:blip r:embed="rId3"/>
          <a:stretch/>
        </p:blipFill>
        <p:spPr>
          <a:xfrm>
            <a:off x="2133720" y="3505320"/>
            <a:ext cx="2012760" cy="30366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"/>
          <p:cNvPicPr/>
          <p:nvPr/>
        </p:nvPicPr>
        <p:blipFill>
          <a:blip r:embed="rId4"/>
          <a:stretch/>
        </p:blipFill>
        <p:spPr>
          <a:xfrm>
            <a:off x="4952880" y="2666880"/>
            <a:ext cx="2013120" cy="30038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968480" cy="2948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160" y="136440"/>
            <a:ext cx="876276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Barriers to preventing ADE’s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10760" y="1077840"/>
            <a:ext cx="8583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organizations don’t have EHR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Prescribing doesn’t solve the monitoring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EHR’s don’t currently have the functionality to provide alerts for missing events without being in the context of a patient encou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 compli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and money required to build interven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C677-F85D-4E6F-BFBF-260BC6D06A91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Summary: 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s are common and often preven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errors suggest focus on prescribing and monitor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79b6f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sion of information to physicians and assistants at right time, right plac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79b6f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f automated tickl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s are high and savings from preventing ADEs could partially offset costs of interven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E1CD-91A5-402C-AB10-F3CD31126ED7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Questions?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ry Garber, M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370b7"/>
                </a:solidFill>
                <a:uFillTx/>
                <a:latin typeface="Tahoma"/>
                <a:hlinkClick r:id="rId1"/>
              </a:rPr>
              <a:t>Lawrence.Garber@FallonClinic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AutoShape 41"/>
          <p:cNvSpPr/>
          <p:nvPr/>
        </p:nvSpPr>
        <p:spPr>
          <a:xfrm>
            <a:off x="4143240" y="3095640"/>
            <a:ext cx="8575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53" name="TextBox 5"/>
          <p:cNvSpPr/>
          <p:nvPr/>
        </p:nvSpPr>
        <p:spPr>
          <a:xfrm>
            <a:off x="1447920" y="4267080"/>
            <a:ext cx="6019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2532"/>
                </a:solidFill>
                <a:latin typeface="Arial"/>
              </a:rPr>
              <a:t>Special thanks to Terry Field, PhD and Jerry Gurwitz, M.D. for their assistance on this presentation and never-ending work to study and prevent ADE’s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Slide Number Placeholder 3"/>
          <p:cNvSpPr/>
          <p:nvPr/>
        </p:nvSpPr>
        <p:spPr>
          <a:xfrm>
            <a:off x="3552840" y="6324480"/>
            <a:ext cx="2009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6EA5-FD19-47BC-943F-54A1A6C6D364}" type="slidenum">
              <a:rPr b="1" lang="en-US" sz="1000" spc="-1" strike="noStrike">
                <a:solidFill>
                  <a:srgbClr val="5370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9960" y="136440"/>
            <a:ext cx="7920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Overview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60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s of Adverse Drug Events (ADE’s) in the ambulatory set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ing anticoagulant-related ADE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ture plans and barriers to reducing ADE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"/>
          <p:cNvGraphicFramePr/>
          <p:nvPr/>
        </p:nvGraphicFramePr>
        <p:xfrm>
          <a:off x="304920" y="1295280"/>
          <a:ext cx="8458200" cy="4800600"/>
        </p:xfrm>
        <a:graphic>
          <a:graphicData uri="http://schemas.openxmlformats.org/drawingml/2006/table">
            <a:tbl>
              <a:tblPr/>
              <a:tblGrid>
                <a:gridCol w="3124080"/>
                <a:gridCol w="2514600"/>
                <a:gridCol w="28195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Source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 ADE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Preventable (%)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R note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7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spital D/C’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uter signal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9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ctronic note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5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der report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8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ident reports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%</a:t>
                      </a:r>
                      <a:endParaRPr b="0" lang="en-US" sz="2800" spc="-1" strike="noStrike">
                        <a:solidFill>
                          <a:srgbClr val="8c253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37"/>
          <p:cNvSpPr/>
          <p:nvPr/>
        </p:nvSpPr>
        <p:spPr>
          <a:xfrm>
            <a:off x="533520" y="0"/>
            <a:ext cx="795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ahoma"/>
              </a:rPr>
              <a:t>Sources of ADE Information</a:t>
            </a:r>
            <a:endParaRPr b="0" lang="en-US" sz="36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79" name="Text Box 39"/>
          <p:cNvSpPr/>
          <p:nvPr/>
        </p:nvSpPr>
        <p:spPr>
          <a:xfrm>
            <a:off x="228600" y="6216480"/>
            <a:ext cx="8534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c2532"/>
                </a:solidFill>
                <a:latin typeface="Arial"/>
              </a:rPr>
              <a:t>Field, TS et al. JAMIA 2004;52:1349-1354.</a:t>
            </a: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ADE Rates in the Ambulatory Setting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42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0 per 1000 person-yea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entable AD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4 per 1000 person-years (28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polated to total Medicare 65+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,446,949 ADEs per ye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438,046 preventable ADEs/y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likely to be an underestim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380880" y="6400800"/>
            <a:ext cx="647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c2532"/>
                </a:solidFill>
                <a:latin typeface="Arial"/>
              </a:rPr>
              <a:t>Gurwitz JH et al JAMA 2003;289:1107-1116</a:t>
            </a: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294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Financial Cost of ADE’s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1428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graphicFrame>
        <p:nvGraphicFramePr>
          <p:cNvPr id="585" name="Object 2"/>
          <p:cNvGraphicFramePr/>
          <p:nvPr/>
        </p:nvGraphicFramePr>
        <p:xfrm>
          <a:off x="0" y="995400"/>
          <a:ext cx="9726480" cy="46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5400"/>
                    <a:ext cx="972648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Text Box 5"/>
          <p:cNvSpPr/>
          <p:nvPr/>
        </p:nvSpPr>
        <p:spPr>
          <a:xfrm>
            <a:off x="380880" y="6400800"/>
            <a:ext cx="647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c2532"/>
                </a:solidFill>
                <a:latin typeface="Arial"/>
              </a:rPr>
              <a:t>Field TS, et al Medical Care 2005;43:1171-6</a:t>
            </a: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88" name="Straight Connector 6"/>
          <p:cNvSpPr/>
          <p:nvPr/>
        </p:nvSpPr>
        <p:spPr>
          <a:xfrm flipV="1">
            <a:off x="4950720" y="2440080"/>
            <a:ext cx="324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9531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Financial Cost of ADE’s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 in costs after an ADE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$13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 after a preventable ADE: $198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rapolated to 1000 adults age 65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s per year to treat preventable ADEs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$27,36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0046"/>
                </a:solidFill>
                <a:latin typeface="Tahoma"/>
              </a:rPr>
              <a:t>ADE Severity in the Ambulatory Setting</a:t>
            </a:r>
            <a:endParaRPr b="1" lang="en-US" sz="3600" spc="-1" strike="noStrike">
              <a:solidFill>
                <a:srgbClr val="360046"/>
              </a:solidFill>
              <a:latin typeface="Tahoma"/>
            </a:endParaRPr>
          </a:p>
        </p:txBody>
      </p:sp>
      <p:graphicFrame>
        <p:nvGraphicFramePr>
          <p:cNvPr id="592" name="Object 2"/>
          <p:cNvGraphicFramePr/>
          <p:nvPr/>
        </p:nvGraphicFramePr>
        <p:xfrm>
          <a:off x="-609480" y="1981080"/>
          <a:ext cx="10020240" cy="47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981080"/>
                    <a:ext cx="1002024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953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360046"/>
                </a:solidFill>
                <a:latin typeface="Tahoma"/>
              </a:rPr>
              <a:t>Severity &amp; Preventability</a:t>
            </a:r>
            <a:endParaRPr b="1" lang="en-US" sz="4000" spc="-1" strike="noStrike">
              <a:solidFill>
                <a:srgbClr val="360046"/>
              </a:solidFill>
              <a:latin typeface="Tahoma"/>
            </a:endParaRPr>
          </a:p>
        </p:txBody>
      </p:sp>
      <p:graphicFrame>
        <p:nvGraphicFramePr>
          <p:cNvPr id="595" name="Object 2"/>
          <p:cNvGraphicFramePr/>
          <p:nvPr/>
        </p:nvGraphicFramePr>
        <p:xfrm>
          <a:off x="617400" y="2971800"/>
          <a:ext cx="3878280" cy="36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2971800"/>
                    <a:ext cx="38782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 Box 4"/>
          <p:cNvSpPr/>
          <p:nvPr/>
        </p:nvSpPr>
        <p:spPr>
          <a:xfrm>
            <a:off x="1053000" y="5110200"/>
            <a:ext cx="190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able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228600" y="1828800"/>
            <a:ext cx="4289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2532"/>
                </a:solidFill>
                <a:latin typeface="Arial"/>
              </a:rPr>
              <a:t>Of fatal &amp; life-threatening </a:t>
            </a:r>
            <a:endParaRPr b="0" lang="en-US" sz="2800" spc="-1" strike="noStrike">
              <a:solidFill>
                <a:srgbClr val="8c2532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2532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8c2532"/>
              </a:solidFill>
              <a:latin typeface="Arial"/>
            </a:endParaRPr>
          </a:p>
        </p:txBody>
      </p:sp>
      <p:graphicFrame>
        <p:nvGraphicFramePr>
          <p:cNvPr id="599" name="Object 3"/>
          <p:cNvGraphicFramePr/>
          <p:nvPr/>
        </p:nvGraphicFramePr>
        <p:xfrm>
          <a:off x="5037120" y="2895480"/>
          <a:ext cx="3878280" cy="362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7120" y="2895480"/>
                    <a:ext cx="387828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Text Box 7"/>
          <p:cNvSpPr/>
          <p:nvPr/>
        </p:nvSpPr>
        <p:spPr>
          <a:xfrm>
            <a:off x="5777280" y="5181480"/>
            <a:ext cx="190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able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8c2532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5105520" y="1752480"/>
            <a:ext cx="3389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2532"/>
                </a:solidFill>
                <a:latin typeface="Arial"/>
              </a:rPr>
              <a:t>Of less serious events</a:t>
            </a:r>
            <a:endParaRPr b="0" lang="en-US" sz="2800" spc="-1" strike="noStrike">
              <a:solidFill>
                <a:srgbClr val="8c253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5:24:17Z</dcterms:created>
  <dc:creator>Larry Garber</dc:creator>
  <dc:description/>
  <dc:language>en-US</dc:language>
  <cp:lastModifiedBy>Larry Garber</cp:lastModifiedBy>
  <dcterms:modified xsi:type="dcterms:W3CDTF">2007-09-26T18:59:48Z</dcterms:modified>
  <cp:revision>5</cp:revision>
  <dc:subject/>
  <dc:title>You Only Go-Live Once</dc:title>
</cp:coreProperties>
</file>