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9A7A-93DE-4A1C-BE15-41858631E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B2B7-853B-47E0-8B05-4281B335A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DCE6-CB21-41C5-807D-212959DDF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685C-2149-40C1-8534-60E1B130C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6C2E-491C-44FC-9385-3B1A14AB0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2D38-5EE7-4AAA-A2CC-E59EDD829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C11B-BBC8-468A-8266-C0D548C3C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BDDA-4ED7-46D6-9AA9-5A3C68D05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6D80-AE3C-4B16-ADB1-D5BE77415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FFBC-A4B3-4D1E-9883-7957F3EA1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F198-7861-48B8-B715-F4C888B02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09EE-0AD8-4F1F-954E-4097292E0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C52C-2803-4FD9-B501-584F28FBF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AB29-DD62-4260-80A3-F03DCDDA7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3893-04B9-4D1D-97C4-0298669F69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1874-5B31-431F-9A48-A0E9B0833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A38C-CE3E-4E89-B088-45197B1E0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8641-71E5-44D5-B841-26F3449C9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TECHNICAL COMPONENT: MASSIVE IMPLEMENTATION EFF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 AND INTEGRATION CRIT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TIE TO REDESIGNED PROCESS OR UNLIKELY TO WORK: TOO COMPLE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92B3-46D6-42F9-BE74-FB426E382E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4CB4-E297-42EF-8FE4-171C3F0D74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A242-8D1A-4D33-A4CE-1488F01E2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7899-522E-4C64-9F5C-2E7994089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1933-5BD5-4D92-B524-D4CBF17680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5000" cy="34081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16400"/>
            <a:ext cx="50292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lide for notes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E92C-FFDB-4FAC-824D-A64D670CF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302A-3448-4BBA-A1FC-CC00E7BF8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9FDDB-BF23-4982-B7B3-63791291D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92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92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FD1A7-B3BA-48DC-A57A-8AF753BAC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25760" y="-36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6D53-58DF-4FEA-BFFE-1A1FD0FA08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4268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9200" y="182844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4268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9200" y="3420720"/>
            <a:ext cx="26251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1BAD-502F-4C6D-B78B-AECDAFE8E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3582-4DA2-4D49-A486-D60DA9CB8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2EB5-8A61-42CF-8CD2-3FD65B36F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5760" y="-360"/>
            <a:ext cx="741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6579-D6A8-4031-9999-07FFE022B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50D12-9A88-4441-BFD6-FDEA3BCFC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3960" y="342072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C666-4D83-4F5D-9B0F-3E68FB2AC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3960" y="1828440"/>
            <a:ext cx="397872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420720"/>
            <a:ext cx="815328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2BA23-2EC4-4F45-829E-C3C9E13ED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:\Documents and Settings\JohnstoV\Desktop\genesis_2nd_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73380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38156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6F30-13BD-4D88-9534-6B6054D0B52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31" descr="C:\Documents and Settings\JohnstoV\Desktop\genesis_title_slide_10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57240" y="451152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and Tools for Patient Safety/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57600" y="536868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ald Crandall, M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ysician Informatics Consulta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inity Health, Novi, M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85800" y="3276720"/>
            <a:ext cx="7924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bjective of I²S² is to create information from data in order to measure and improve clinical and operational performa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Documents and Settings\Owner\My Documents\My Pictures\hdr_i2s2.gif"/>
          <p:cNvPicPr/>
          <p:nvPr/>
        </p:nvPicPr>
        <p:blipFill>
          <a:blip r:embed="rId1"/>
          <a:stretch/>
        </p:blipFill>
        <p:spPr>
          <a:xfrm>
            <a:off x="685800" y="1295280"/>
            <a:ext cx="8055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457200" y="1066680"/>
          <a:ext cx="8305920" cy="5486400"/>
        </p:xfrm>
        <a:graphic>
          <a:graphicData uri="http://schemas.openxmlformats.org/drawingml/2006/table">
            <a:tbl>
              <a:tblPr/>
              <a:tblGrid>
                <a:gridCol w="1501920"/>
                <a:gridCol w="1149120"/>
                <a:gridCol w="1147680"/>
                <a:gridCol w="1149480"/>
                <a:gridCol w="1149480"/>
                <a:gridCol w="1147680"/>
                <a:gridCol w="1060560"/>
              </a:tblGrid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IN w/in 2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IN @ D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ult Smoking Cessati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@ D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w/in 24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 w/in 120 mi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 Arb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 Cre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s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illa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 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us E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us W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Moin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buqu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Rapid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l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patien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ingst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o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om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n Ci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hawak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 UNF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keg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kla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ymou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Hur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Spr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ux Ci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Be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vill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ty Heal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 FA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f Da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 04 - Aug 0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S Top Decil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 Top 2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 25-7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-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-9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-7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-8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-8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 &lt;2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7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3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 cells indicate less than 30 cas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Quality Dashboar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Quality Dashboard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371600"/>
          <a:ext cx="9144000" cy="5486400"/>
        </p:xfrm>
        <a:graphic>
          <a:graphicData uri="http://schemas.openxmlformats.org/drawingml/2006/table">
            <a:tbl>
              <a:tblPr/>
              <a:tblGrid>
                <a:gridCol w="1203480"/>
                <a:gridCol w="915840"/>
                <a:gridCol w="871560"/>
                <a:gridCol w="892080"/>
                <a:gridCol w="1457280"/>
                <a:gridCol w="1067040"/>
                <a:gridCol w="1008000"/>
                <a:gridCol w="796680"/>
                <a:gridCol w="932040"/>
              </a:tblGrid>
              <a:tr h="103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 Indicator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in w/in 24 hrs AMI-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in at discharge               AMI-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I/ ARB at discharge               AMI-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ult Smoking Cessation Counseling                         AMI-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 at discharge AMI-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blockers w/in 24 hrs AMI-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 w/in 90 min          AMI-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 Composit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 Arbor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 Cree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is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dillac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 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us Ea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us Wes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FA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 FAV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3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umbus St. An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Moin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buqu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sn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Rapid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l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ingst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p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o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UN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om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n Ci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 UN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hawak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keg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akla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ymou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 Huro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n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p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pt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Spring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% UN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 UN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 UNF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ux Cit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 EP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Bend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nity Health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f Da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Sept 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1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ptional Performanc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0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20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ve Medi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- 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- 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- 8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 - 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- 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 - 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 - 6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- 8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6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2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5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93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60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84%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30 cases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s developed from CMS data for FY 2005. When CMS data not available, other vendor data used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 = Favorable 12 month regression (p&lt;.05).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F = Unfavorable 12 month regression (p&lt;.05).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3"/>
          <p:cNvSpPr/>
          <p:nvPr/>
        </p:nvSpPr>
        <p:spPr>
          <a:xfrm>
            <a:off x="533520" y="1371600"/>
            <a:ext cx="81532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successful with the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we achieving our clinician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304920" y="2590920"/>
            <a:ext cx="8534160" cy="3809880"/>
            <a:chOff x="304920" y="2590920"/>
            <a:chExt cx="8534160" cy="3809880"/>
          </a:xfrm>
        </p:grpSpPr>
        <p:graphicFrame>
          <p:nvGraphicFramePr>
            <p:cNvPr id="228" name="Object 5"/>
            <p:cNvGraphicFramePr/>
            <p:nvPr/>
          </p:nvGraphicFramePr>
          <p:xfrm>
            <a:off x="304920" y="2590920"/>
            <a:ext cx="8534160" cy="3389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9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90920"/>
                      <a:ext cx="8534160" cy="33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0" name="Oval 6"/>
            <p:cNvSpPr/>
            <p:nvPr/>
          </p:nvSpPr>
          <p:spPr>
            <a:xfrm>
              <a:off x="5715000" y="3200400"/>
              <a:ext cx="2666880" cy="3200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8"/>
          <p:cNvSpPr/>
          <p:nvPr/>
        </p:nvSpPr>
        <p:spPr>
          <a:xfrm>
            <a:off x="1752480" y="3049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 from Live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E TRANSFORM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2216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ing from Utilization to Standard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1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"/>
          <p:cNvSpPr/>
          <p:nvPr/>
        </p:nvSpPr>
        <p:spPr>
          <a:xfrm>
            <a:off x="3476520" y="1249200"/>
            <a:ext cx="3727440" cy="2095560"/>
          </a:xfrm>
          <a:prstGeom prst="ellipse">
            <a:avLst/>
          </a:prstGeom>
          <a:solidFill>
            <a:srgbClr val="47b8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3187800" y="1814400"/>
            <a:ext cx="4294080" cy="15447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3681360"/>
            <a:ext cx="8458200" cy="160992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Data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Medication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27600" y="3789360"/>
            <a:ext cx="685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"/>
          <p:cNvSpPr/>
          <p:nvPr/>
        </p:nvSpPr>
        <p:spPr>
          <a:xfrm>
            <a:off x="2241720" y="3170160"/>
            <a:ext cx="6172200" cy="617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2882880" y="3789360"/>
            <a:ext cx="685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5008680" y="3789360"/>
            <a:ext cx="685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6087960" y="3789360"/>
            <a:ext cx="685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7132680" y="3789360"/>
            <a:ext cx="685800" cy="1828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155280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3008880" y="5846760"/>
            <a:ext cx="505764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D     ICU      ACUTE    SURG  C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4486320" y="1298520"/>
            <a:ext cx="1942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ver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2241720" y="2548080"/>
            <a:ext cx="6172200" cy="617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2344680" y="2639880"/>
            <a:ext cx="6069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ute Coronary Syndr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gestive Heart Fail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3348360" y="6303960"/>
            <a:ext cx="40381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re Area Improvement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1676520" y="366120"/>
            <a:ext cx="631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ransformation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 Teams</a:t>
            </a:r>
            <a:br>
              <a:rPr sz="32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tient Centric – Zero De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Area Improvement Teams</a:t>
            </a:r>
            <a:br>
              <a:rPr sz="24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Venue Specific, Interdisciplinary, Workflow Based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D, Acute Care, Critical Care, Surgical, oth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Transformation Teams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Lean process, Interdisciplinary, Outcomes, Evidence 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oronary, CHF, Pneumonia, Diabetes, SIP, others…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Oversight Team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Cross Venue, architecture, cross venue, and system decision ma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/>
          <p:cNvSpPr/>
          <p:nvPr/>
        </p:nvSpPr>
        <p:spPr>
          <a:xfrm>
            <a:off x="380880" y="16002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Improve consistency in quality performance on key clinical indica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Enhance the patient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Increase value and decrease risk in Genesis as noted in PG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457200" y="3048120"/>
            <a:ext cx="3886200" cy="34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idence-based clinical practice is not embedded in many of the order se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kflow pattern has not changed  much.  For example even though a STAT ORDER is now instantly processed, it DOES NOT mean that the nurse sees it any earlier to do anything about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still have MO specific formularies.  This means we have different ways of approaching even the highest risk dru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5105520" y="3048120"/>
            <a:ext cx="3429000" cy="32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will embed evidence into workflow, order sets, rule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flow will be optimized by embedding evidence--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hancing the overall clinical experience and care outco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ion and efficiency improvements between all care providers and patien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14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cation cycle and formulary will reflect evidence based u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>
            <a:off x="1295280" y="2590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5029200" y="25909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1752480" y="3049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nical 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380880" y="1371600"/>
            <a:ext cx="8534520" cy="47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Care Transformation is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a comprehensive approach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Improve quality and safety of care, the patient care experience and improve financial stewardsh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Achieve zero defects by embedding evidence throughout the car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Support acceleration of change and rapid 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Maximize value from Genesis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Trinity Health’s brand name for Care Transformation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Genesis CareExperience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(Genesis CareEx on second refere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Key attributes of Genesis CareEx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Patient focused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– studies the end-to-end patient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Disease specific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– e.g. heart failure, acute coronary syndrome,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Information and evidence driven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– versus consensus opinion 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Holistic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– examines all elements of cost and qu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Measurable 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– produces quantifiable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Iterative</a:t>
            </a:r>
            <a:r>
              <a:rPr b="0" lang="en-US" sz="1800" spc="-1" strike="noStrike">
                <a:solidFill>
                  <a:srgbClr val="010000"/>
                </a:solidFill>
                <a:latin typeface="Arial"/>
              </a:rPr>
              <a:t> – we never stop looking for new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752480" y="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e Transformation Defini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aching a Higher Standard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15238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sis CareExperience Desig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228600" y="1523880"/>
            <a:ext cx="8686800" cy="34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stablish enterprise workflows that are actionable, flexible, patient focused and incorporates evidence throughout the care delivery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nsure consideration and elimination to current provider and patient  dissatis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nsure avoidance of all avoidable and predictabl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stablish process, productivity and functional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Ensure required documentation meets applicable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Will deliver outstanding care within financial parameters of CMS reimbursement while maintaining alignment with our Mi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Support Genesis CareEx teams to support evolution towards system form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Hardwire” into Genesis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5240">
              <a:spcBef>
                <a:spcPts val="349"/>
              </a:spcBef>
              <a:buClr>
                <a:srgbClr val="0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Improve the patient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Health – Our Comm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105160" y="1523880"/>
            <a:ext cx="373356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-largest Catholic health system in the United Stat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erating revenues of      $5.7bill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4,950 F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7,315 physicians – 95% private practice community hospital bas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5 Ministry Organizations, 44 hospitals (29 owned and 15 managed), 379 outpatient clinics/facilities, numerous long-term care facilities, home health and hospice programs, and senior housing communities in seven sta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533412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028"/>
          <p:cNvSpPr/>
          <p:nvPr/>
        </p:nvSpPr>
        <p:spPr>
          <a:xfrm>
            <a:off x="1828800" y="4668840"/>
            <a:ext cx="718488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ute MI Example Order Set from Zynx on Nex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828800" y="15228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Practice Embe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ormational Order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the “Quality Heath Reco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1523880"/>
            <a:ext cx="81532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st of dictation &amp; transcription, storage &amp; retrieval/release of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ation &amp; Case Mix (lower producti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ity of Care, Handoffs, &amp;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oing “Quality Health Record” pro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quality documentation review &amp; dialogue with physicians, coding and DRG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hysician documentation templates (PN2G), including diagn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terminology definitions for documentation and coding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recognition &amp; medical documentation quality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management (Scanning) and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” environment - working remote &amp; load bal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2096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of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big is Gene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Genesis will invol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20+ information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oss 17 Member Organizations and 23 hospi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 of 300+ business and clin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:  Applications Inst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INICAL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ner/Millen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 Chart - Orders and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 Doc - Clinical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rmNet -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Net: Emergency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Net: Radiology D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giNet: Operating 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t: I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 - HIM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ic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linical functions by pt.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urrent clin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ation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53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25760" y="22860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Health Genesis Clin/Rev Schedul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 June 2007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2362320"/>
            <a:ext cx="99036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keg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600200" y="23623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oux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2760" y="1295280"/>
            <a:ext cx="70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03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6"/>
          <p:cNvGrpSpPr/>
          <p:nvPr/>
        </p:nvGrpSpPr>
        <p:grpSpPr>
          <a:xfrm>
            <a:off x="152280" y="2209680"/>
            <a:ext cx="152640" cy="457200"/>
            <a:chOff x="152280" y="2209680"/>
            <a:chExt cx="152640" cy="457200"/>
          </a:xfrm>
        </p:grpSpPr>
        <p:sp>
          <p:nvSpPr>
            <p:cNvPr id="103" name="Line 7"/>
            <p:cNvSpPr/>
            <p:nvPr/>
          </p:nvSpPr>
          <p:spPr>
            <a:xfrm>
              <a:off x="152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1522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9"/>
          <p:cNvGrpSpPr/>
          <p:nvPr/>
        </p:nvGrpSpPr>
        <p:grpSpPr>
          <a:xfrm>
            <a:off x="457200" y="2895480"/>
            <a:ext cx="152280" cy="457200"/>
            <a:chOff x="457200" y="2895480"/>
            <a:chExt cx="152280" cy="457200"/>
          </a:xfrm>
        </p:grpSpPr>
        <p:sp>
          <p:nvSpPr>
            <p:cNvPr id="106" name="Line 10"/>
            <p:cNvSpPr/>
            <p:nvPr/>
          </p:nvSpPr>
          <p:spPr>
            <a:xfrm>
              <a:off x="4572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4572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2"/>
          <p:cNvGrpSpPr/>
          <p:nvPr/>
        </p:nvGrpSpPr>
        <p:grpSpPr>
          <a:xfrm>
            <a:off x="762120" y="3657600"/>
            <a:ext cx="152280" cy="457200"/>
            <a:chOff x="762120" y="3657600"/>
            <a:chExt cx="152280" cy="457200"/>
          </a:xfrm>
        </p:grpSpPr>
        <p:sp>
          <p:nvSpPr>
            <p:cNvPr id="109" name="Line 13"/>
            <p:cNvSpPr/>
            <p:nvPr/>
          </p:nvSpPr>
          <p:spPr>
            <a:xfrm>
              <a:off x="7621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212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15"/>
          <p:cNvSpPr/>
          <p:nvPr/>
        </p:nvSpPr>
        <p:spPr>
          <a:xfrm>
            <a:off x="609480" y="3124080"/>
            <a:ext cx="106704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nd Rap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523520" y="1295280"/>
            <a:ext cx="643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6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7"/>
          <p:cNvGrpSpPr/>
          <p:nvPr/>
        </p:nvGrpSpPr>
        <p:grpSpPr>
          <a:xfrm>
            <a:off x="1447920" y="2209680"/>
            <a:ext cx="152280" cy="381240"/>
            <a:chOff x="1447920" y="2209680"/>
            <a:chExt cx="152280" cy="381240"/>
          </a:xfrm>
        </p:grpSpPr>
        <p:sp>
          <p:nvSpPr>
            <p:cNvPr id="114" name="Line 18"/>
            <p:cNvSpPr/>
            <p:nvPr/>
          </p:nvSpPr>
          <p:spPr>
            <a:xfrm>
              <a:off x="1447920" y="2209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1447920" y="25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1752480" y="2895480"/>
            <a:ext cx="152640" cy="457200"/>
            <a:chOff x="1752480" y="2895480"/>
            <a:chExt cx="152640" cy="457200"/>
          </a:xfrm>
        </p:grpSpPr>
        <p:sp>
          <p:nvSpPr>
            <p:cNvPr id="117" name="Line 21"/>
            <p:cNvSpPr/>
            <p:nvPr/>
          </p:nvSpPr>
          <p:spPr>
            <a:xfrm>
              <a:off x="175248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1752480" y="3352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3"/>
          <p:cNvGrpSpPr/>
          <p:nvPr/>
        </p:nvGrpSpPr>
        <p:grpSpPr>
          <a:xfrm>
            <a:off x="2057400" y="3657600"/>
            <a:ext cx="152280" cy="457200"/>
            <a:chOff x="2057400" y="3657600"/>
            <a:chExt cx="152280" cy="457200"/>
          </a:xfrm>
        </p:grpSpPr>
        <p:sp>
          <p:nvSpPr>
            <p:cNvPr id="120" name="Line 24"/>
            <p:cNvSpPr/>
            <p:nvPr/>
          </p:nvSpPr>
          <p:spPr>
            <a:xfrm>
              <a:off x="20574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205740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6"/>
          <p:cNvSpPr/>
          <p:nvPr/>
        </p:nvSpPr>
        <p:spPr>
          <a:xfrm>
            <a:off x="1371600" y="1676520"/>
            <a:ext cx="1066680" cy="522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on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289512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8"/>
          <p:cNvGrpSpPr/>
          <p:nvPr/>
        </p:nvGrpSpPr>
        <p:grpSpPr>
          <a:xfrm>
            <a:off x="3200400" y="2895480"/>
            <a:ext cx="152280" cy="457200"/>
            <a:chOff x="3200400" y="2895480"/>
            <a:chExt cx="152280" cy="457200"/>
          </a:xfrm>
        </p:grpSpPr>
        <p:sp>
          <p:nvSpPr>
            <p:cNvPr id="125" name="Line 29"/>
            <p:cNvSpPr/>
            <p:nvPr/>
          </p:nvSpPr>
          <p:spPr>
            <a:xfrm>
              <a:off x="32004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2004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31"/>
          <p:cNvSpPr/>
          <p:nvPr/>
        </p:nvSpPr>
        <p:spPr>
          <a:xfrm>
            <a:off x="914400" y="388620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ttle Cr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2"/>
          <p:cNvSpPr/>
          <p:nvPr/>
        </p:nvSpPr>
        <p:spPr>
          <a:xfrm>
            <a:off x="7620120" y="5943600"/>
            <a:ext cx="1523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3"/>
          <p:cNvSpPr/>
          <p:nvPr/>
        </p:nvSpPr>
        <p:spPr>
          <a:xfrm>
            <a:off x="7620120" y="5943600"/>
            <a:ext cx="1295280" cy="2286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4"/>
          <p:cNvSpPr/>
          <p:nvPr/>
        </p:nvSpPr>
        <p:spPr>
          <a:xfrm>
            <a:off x="7620120" y="6172200"/>
            <a:ext cx="1295280" cy="228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5"/>
          <p:cNvSpPr/>
          <p:nvPr/>
        </p:nvSpPr>
        <p:spPr>
          <a:xfrm>
            <a:off x="7620120" y="6400800"/>
            <a:ext cx="129528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8077320" y="5638680"/>
            <a:ext cx="853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1066680" y="4419720"/>
            <a:ext cx="152640" cy="457200"/>
            <a:chOff x="1066680" y="4419720"/>
            <a:chExt cx="152640" cy="457200"/>
          </a:xfrm>
        </p:grpSpPr>
        <p:sp>
          <p:nvSpPr>
            <p:cNvPr id="134" name="Line 38"/>
            <p:cNvSpPr/>
            <p:nvPr/>
          </p:nvSpPr>
          <p:spPr>
            <a:xfrm>
              <a:off x="106668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1066680" y="4876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40"/>
          <p:cNvSpPr/>
          <p:nvPr/>
        </p:nvSpPr>
        <p:spPr>
          <a:xfrm>
            <a:off x="3352680" y="3124080"/>
            <a:ext cx="99072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ak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1"/>
          <p:cNvSpPr/>
          <p:nvPr/>
        </p:nvSpPr>
        <p:spPr>
          <a:xfrm>
            <a:off x="1219320" y="4648320"/>
            <a:ext cx="99036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o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3"/>
          <p:cNvSpPr/>
          <p:nvPr/>
        </p:nvSpPr>
        <p:spPr>
          <a:xfrm>
            <a:off x="4724280" y="3124080"/>
            <a:ext cx="99072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n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1905120" y="312408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bu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5"/>
          <p:cNvSpPr/>
          <p:nvPr/>
        </p:nvSpPr>
        <p:spPr>
          <a:xfrm>
            <a:off x="2209680" y="3886200"/>
            <a:ext cx="106704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vo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ch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4114800" y="12952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7"/>
          <p:cNvSpPr/>
          <p:nvPr/>
        </p:nvSpPr>
        <p:spPr>
          <a:xfrm>
            <a:off x="548568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8"/>
          <p:cNvGrpSpPr/>
          <p:nvPr/>
        </p:nvGrpSpPr>
        <p:grpSpPr>
          <a:xfrm>
            <a:off x="6324480" y="3657600"/>
            <a:ext cx="152640" cy="457200"/>
            <a:chOff x="6324480" y="3657600"/>
            <a:chExt cx="152640" cy="457200"/>
          </a:xfrm>
        </p:grpSpPr>
        <p:sp>
          <p:nvSpPr>
            <p:cNvPr id="144" name="Line 49"/>
            <p:cNvSpPr/>
            <p:nvPr/>
          </p:nvSpPr>
          <p:spPr>
            <a:xfrm>
              <a:off x="632448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0"/>
            <p:cNvSpPr/>
            <p:nvPr/>
          </p:nvSpPr>
          <p:spPr>
            <a:xfrm>
              <a:off x="6324480" y="41148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51"/>
          <p:cNvSpPr/>
          <p:nvPr/>
        </p:nvSpPr>
        <p:spPr>
          <a:xfrm>
            <a:off x="6781680" y="464832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2"/>
          <p:cNvSpPr/>
          <p:nvPr/>
        </p:nvSpPr>
        <p:spPr>
          <a:xfrm>
            <a:off x="6857280" y="1295280"/>
            <a:ext cx="59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Y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3"/>
          <p:cNvSpPr/>
          <p:nvPr/>
        </p:nvSpPr>
        <p:spPr>
          <a:xfrm>
            <a:off x="7086600" y="5334120"/>
            <a:ext cx="990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n Ar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7010280" y="1676520"/>
            <a:ext cx="10670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um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B Confi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te Fal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5"/>
          <p:cNvGrpSpPr/>
          <p:nvPr/>
        </p:nvGrpSpPr>
        <p:grpSpPr>
          <a:xfrm>
            <a:off x="2895480" y="2209680"/>
            <a:ext cx="152640" cy="457200"/>
            <a:chOff x="2895480" y="2209680"/>
            <a:chExt cx="152640" cy="457200"/>
          </a:xfrm>
        </p:grpSpPr>
        <p:sp>
          <p:nvSpPr>
            <p:cNvPr id="151" name="Line 56"/>
            <p:cNvSpPr/>
            <p:nvPr/>
          </p:nvSpPr>
          <p:spPr>
            <a:xfrm>
              <a:off x="28954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57"/>
            <p:cNvSpPr/>
            <p:nvPr/>
          </p:nvSpPr>
          <p:spPr>
            <a:xfrm>
              <a:off x="28954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58"/>
          <p:cNvSpPr/>
          <p:nvPr/>
        </p:nvSpPr>
        <p:spPr>
          <a:xfrm>
            <a:off x="2743200" y="16765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Q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9"/>
          <p:cNvGrpSpPr/>
          <p:nvPr/>
        </p:nvGrpSpPr>
        <p:grpSpPr>
          <a:xfrm>
            <a:off x="6934320" y="5181480"/>
            <a:ext cx="152280" cy="457200"/>
            <a:chOff x="6934320" y="5181480"/>
            <a:chExt cx="152280" cy="457200"/>
          </a:xfrm>
        </p:grpSpPr>
        <p:sp>
          <p:nvSpPr>
            <p:cNvPr id="155" name="Line 60"/>
            <p:cNvSpPr/>
            <p:nvPr/>
          </p:nvSpPr>
          <p:spPr>
            <a:xfrm>
              <a:off x="693432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61"/>
            <p:cNvSpPr/>
            <p:nvPr/>
          </p:nvSpPr>
          <p:spPr>
            <a:xfrm>
              <a:off x="693432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2"/>
          <p:cNvGrpSpPr/>
          <p:nvPr/>
        </p:nvGrpSpPr>
        <p:grpSpPr>
          <a:xfrm>
            <a:off x="2362320" y="4419720"/>
            <a:ext cx="152280" cy="457200"/>
            <a:chOff x="2362320" y="4419720"/>
            <a:chExt cx="152280" cy="457200"/>
          </a:xfrm>
        </p:grpSpPr>
        <p:sp>
          <p:nvSpPr>
            <p:cNvPr id="158" name="Line 63"/>
            <p:cNvSpPr/>
            <p:nvPr/>
          </p:nvSpPr>
          <p:spPr>
            <a:xfrm>
              <a:off x="236232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64"/>
            <p:cNvSpPr/>
            <p:nvPr/>
          </p:nvSpPr>
          <p:spPr>
            <a:xfrm>
              <a:off x="236232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65"/>
          <p:cNvGrpSpPr/>
          <p:nvPr/>
        </p:nvGrpSpPr>
        <p:grpSpPr>
          <a:xfrm>
            <a:off x="5105520" y="4419720"/>
            <a:ext cx="152280" cy="457200"/>
            <a:chOff x="5105520" y="4419720"/>
            <a:chExt cx="152280" cy="457200"/>
          </a:xfrm>
        </p:grpSpPr>
        <p:sp>
          <p:nvSpPr>
            <p:cNvPr id="161" name="Line 66"/>
            <p:cNvSpPr/>
            <p:nvPr/>
          </p:nvSpPr>
          <p:spPr>
            <a:xfrm>
              <a:off x="510552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7"/>
            <p:cNvSpPr/>
            <p:nvPr/>
          </p:nvSpPr>
          <p:spPr>
            <a:xfrm>
              <a:off x="5105520" y="4876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8"/>
          <p:cNvSpPr/>
          <p:nvPr/>
        </p:nvSpPr>
        <p:spPr>
          <a:xfrm>
            <a:off x="64771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9"/>
          <p:cNvSpPr/>
          <p:nvPr/>
        </p:nvSpPr>
        <p:spPr>
          <a:xfrm>
            <a:off x="525780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th B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ril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5867280" y="2362320"/>
            <a:ext cx="99072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lver Sp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1"/>
          <p:cNvSpPr/>
          <p:nvPr/>
        </p:nvSpPr>
        <p:spPr>
          <a:xfrm>
            <a:off x="3048120" y="2362320"/>
            <a:ext cx="106668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main Spl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2"/>
          <p:cNvSpPr/>
          <p:nvPr/>
        </p:nvSpPr>
        <p:spPr>
          <a:xfrm>
            <a:off x="2895480" y="5410080"/>
            <a:ext cx="1067040" cy="4572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S &amp; CH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3"/>
          <p:cNvGrpSpPr/>
          <p:nvPr/>
        </p:nvGrpSpPr>
        <p:grpSpPr>
          <a:xfrm>
            <a:off x="2743200" y="5181480"/>
            <a:ext cx="152280" cy="457200"/>
            <a:chOff x="2743200" y="5181480"/>
            <a:chExt cx="152280" cy="457200"/>
          </a:xfrm>
        </p:grpSpPr>
        <p:sp>
          <p:nvSpPr>
            <p:cNvPr id="169" name="Line 74"/>
            <p:cNvSpPr/>
            <p:nvPr/>
          </p:nvSpPr>
          <p:spPr>
            <a:xfrm>
              <a:off x="2743200" y="5181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5"/>
            <p:cNvSpPr/>
            <p:nvPr/>
          </p:nvSpPr>
          <p:spPr>
            <a:xfrm>
              <a:off x="27432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76"/>
          <p:cNvSpPr/>
          <p:nvPr/>
        </p:nvSpPr>
        <p:spPr>
          <a:xfrm>
            <a:off x="2514600" y="4648320"/>
            <a:ext cx="121932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7"/>
          <p:cNvSpPr/>
          <p:nvPr/>
        </p:nvSpPr>
        <p:spPr>
          <a:xfrm>
            <a:off x="4114800" y="1676520"/>
            <a:ext cx="1066680" cy="6094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78"/>
          <p:cNvGrpSpPr/>
          <p:nvPr/>
        </p:nvGrpSpPr>
        <p:grpSpPr>
          <a:xfrm>
            <a:off x="3657600" y="3657600"/>
            <a:ext cx="152280" cy="380880"/>
            <a:chOff x="3657600" y="3657600"/>
            <a:chExt cx="152280" cy="380880"/>
          </a:xfrm>
        </p:grpSpPr>
        <p:sp>
          <p:nvSpPr>
            <p:cNvPr id="174" name="Line 79"/>
            <p:cNvSpPr/>
            <p:nvPr/>
          </p:nvSpPr>
          <p:spPr>
            <a:xfrm>
              <a:off x="365760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80"/>
            <p:cNvSpPr/>
            <p:nvPr/>
          </p:nvSpPr>
          <p:spPr>
            <a:xfrm>
              <a:off x="3657600" y="4038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81"/>
          <p:cNvSpPr/>
          <p:nvPr/>
        </p:nvSpPr>
        <p:spPr>
          <a:xfrm>
            <a:off x="5486400" y="1676520"/>
            <a:ext cx="106668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82"/>
          <p:cNvGrpSpPr/>
          <p:nvPr/>
        </p:nvGrpSpPr>
        <p:grpSpPr>
          <a:xfrm>
            <a:off x="5715000" y="2209680"/>
            <a:ext cx="152280" cy="457200"/>
            <a:chOff x="5715000" y="2209680"/>
            <a:chExt cx="152280" cy="457200"/>
          </a:xfrm>
        </p:grpSpPr>
        <p:sp>
          <p:nvSpPr>
            <p:cNvPr id="178" name="Line 83"/>
            <p:cNvSpPr/>
            <p:nvPr/>
          </p:nvSpPr>
          <p:spPr>
            <a:xfrm>
              <a:off x="571500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84"/>
            <p:cNvSpPr/>
            <p:nvPr/>
          </p:nvSpPr>
          <p:spPr>
            <a:xfrm>
              <a:off x="571500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5"/>
          <p:cNvGrpSpPr/>
          <p:nvPr/>
        </p:nvGrpSpPr>
        <p:grpSpPr>
          <a:xfrm>
            <a:off x="3505320" y="3657600"/>
            <a:ext cx="380160" cy="914040"/>
            <a:chOff x="3505320" y="3657600"/>
            <a:chExt cx="380160" cy="914040"/>
          </a:xfrm>
        </p:grpSpPr>
        <p:sp>
          <p:nvSpPr>
            <p:cNvPr id="181" name="Line 86"/>
            <p:cNvSpPr/>
            <p:nvPr/>
          </p:nvSpPr>
          <p:spPr>
            <a:xfrm>
              <a:off x="3505320" y="365760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7"/>
            <p:cNvSpPr/>
            <p:nvPr/>
          </p:nvSpPr>
          <p:spPr>
            <a:xfrm>
              <a:off x="3505320" y="4571640"/>
              <a:ext cx="38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88"/>
          <p:cNvGrpSpPr/>
          <p:nvPr/>
        </p:nvGrpSpPr>
        <p:grpSpPr>
          <a:xfrm>
            <a:off x="4572000" y="2895480"/>
            <a:ext cx="152280" cy="457200"/>
            <a:chOff x="4572000" y="2895480"/>
            <a:chExt cx="152280" cy="457200"/>
          </a:xfrm>
        </p:grpSpPr>
        <p:sp>
          <p:nvSpPr>
            <p:cNvPr id="184" name="Line 89"/>
            <p:cNvSpPr/>
            <p:nvPr/>
          </p:nvSpPr>
          <p:spPr>
            <a:xfrm>
              <a:off x="457200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90"/>
            <p:cNvSpPr/>
            <p:nvPr/>
          </p:nvSpPr>
          <p:spPr>
            <a:xfrm>
              <a:off x="457200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91"/>
          <p:cNvGrpSpPr/>
          <p:nvPr/>
        </p:nvGrpSpPr>
        <p:grpSpPr>
          <a:xfrm>
            <a:off x="4267080" y="2286000"/>
            <a:ext cx="152640" cy="380880"/>
            <a:chOff x="4267080" y="2286000"/>
            <a:chExt cx="152640" cy="380880"/>
          </a:xfrm>
        </p:grpSpPr>
        <p:sp>
          <p:nvSpPr>
            <p:cNvPr id="187" name="Line 92"/>
            <p:cNvSpPr/>
            <p:nvPr/>
          </p:nvSpPr>
          <p:spPr>
            <a:xfrm>
              <a:off x="4267080" y="2286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3"/>
            <p:cNvSpPr/>
            <p:nvPr/>
          </p:nvSpPr>
          <p:spPr>
            <a:xfrm>
              <a:off x="4267080" y="2666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4"/>
          <p:cNvSpPr/>
          <p:nvPr/>
        </p:nvSpPr>
        <p:spPr>
          <a:xfrm>
            <a:off x="6172200" y="3124080"/>
            <a:ext cx="106668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C-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95"/>
          <p:cNvGrpSpPr/>
          <p:nvPr/>
        </p:nvGrpSpPr>
        <p:grpSpPr>
          <a:xfrm>
            <a:off x="6629400" y="4419720"/>
            <a:ext cx="152280" cy="532800"/>
            <a:chOff x="6629400" y="4419720"/>
            <a:chExt cx="152280" cy="532800"/>
          </a:xfrm>
        </p:grpSpPr>
        <p:sp>
          <p:nvSpPr>
            <p:cNvPr id="191" name="Line 96"/>
            <p:cNvSpPr/>
            <p:nvPr/>
          </p:nvSpPr>
          <p:spPr>
            <a:xfrm>
              <a:off x="6629400" y="44197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7"/>
            <p:cNvSpPr/>
            <p:nvPr/>
          </p:nvSpPr>
          <p:spPr>
            <a:xfrm>
              <a:off x="6629400" y="4952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98"/>
          <p:cNvGrpSpPr/>
          <p:nvPr/>
        </p:nvGrpSpPr>
        <p:grpSpPr>
          <a:xfrm>
            <a:off x="6019920" y="2895480"/>
            <a:ext cx="152280" cy="457200"/>
            <a:chOff x="6019920" y="2895480"/>
            <a:chExt cx="152280" cy="457200"/>
          </a:xfrm>
        </p:grpSpPr>
        <p:sp>
          <p:nvSpPr>
            <p:cNvPr id="194" name="Line 99"/>
            <p:cNvSpPr/>
            <p:nvPr/>
          </p:nvSpPr>
          <p:spPr>
            <a:xfrm>
              <a:off x="6019920" y="28954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0"/>
            <p:cNvSpPr/>
            <p:nvPr/>
          </p:nvSpPr>
          <p:spPr>
            <a:xfrm>
              <a:off x="601992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101"/>
          <p:cNvSpPr/>
          <p:nvPr/>
        </p:nvSpPr>
        <p:spPr>
          <a:xfrm>
            <a:off x="4419720" y="2362320"/>
            <a:ext cx="1066680" cy="609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grade Alp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02"/>
          <p:cNvSpPr/>
          <p:nvPr/>
        </p:nvSpPr>
        <p:spPr>
          <a:xfrm>
            <a:off x="3886200" y="4343400"/>
            <a:ext cx="1066680" cy="5335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tho Tot J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 Pi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3"/>
          <p:cNvSpPr/>
          <p:nvPr/>
        </p:nvSpPr>
        <p:spPr>
          <a:xfrm>
            <a:off x="3581280" y="3733920"/>
            <a:ext cx="1067040" cy="5331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S/CH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I Pilot-Oak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r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4"/>
          <p:cNvSpPr/>
          <p:nvPr/>
        </p:nvSpPr>
        <p:spPr>
          <a:xfrm>
            <a:off x="5029200" y="3809880"/>
            <a:ext cx="1066680" cy="609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grade 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an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5"/>
          <p:cNvGrpSpPr/>
          <p:nvPr/>
        </p:nvGrpSpPr>
        <p:grpSpPr>
          <a:xfrm>
            <a:off x="4876920" y="3657600"/>
            <a:ext cx="152280" cy="457200"/>
            <a:chOff x="4876920" y="3657600"/>
            <a:chExt cx="152280" cy="457200"/>
          </a:xfrm>
        </p:grpSpPr>
        <p:sp>
          <p:nvSpPr>
            <p:cNvPr id="201" name="Line 106"/>
            <p:cNvSpPr/>
            <p:nvPr/>
          </p:nvSpPr>
          <p:spPr>
            <a:xfrm>
              <a:off x="487692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7"/>
            <p:cNvSpPr/>
            <p:nvPr/>
          </p:nvSpPr>
          <p:spPr>
            <a:xfrm>
              <a:off x="4876920" y="4114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Picture 108" descr="T:\Genesis\Identity\Genesis Logo.transparent bkgrnd.png"/>
          <p:cNvPicPr/>
          <p:nvPr/>
        </p:nvPicPr>
        <p:blipFill>
          <a:blip r:embed="rId1"/>
          <a:stretch/>
        </p:blipFill>
        <p:spPr>
          <a:xfrm>
            <a:off x="457200" y="5562720"/>
            <a:ext cx="2209680" cy="847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09"/>
          <p:cNvSpPr/>
          <p:nvPr/>
        </p:nvSpPr>
        <p:spPr>
          <a:xfrm>
            <a:off x="5562720" y="51814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Y08 Gen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 M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10"/>
          <p:cNvGrpSpPr/>
          <p:nvPr/>
        </p:nvGrpSpPr>
        <p:grpSpPr>
          <a:xfrm>
            <a:off x="5410080" y="5105520"/>
            <a:ext cx="152640" cy="457200"/>
            <a:chOff x="5410080" y="5105520"/>
            <a:chExt cx="152640" cy="457200"/>
          </a:xfrm>
        </p:grpSpPr>
        <p:sp>
          <p:nvSpPr>
            <p:cNvPr id="206" name="Line 111"/>
            <p:cNvSpPr/>
            <p:nvPr/>
          </p:nvSpPr>
          <p:spPr>
            <a:xfrm>
              <a:off x="5410080" y="5105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2"/>
            <p:cNvSpPr/>
            <p:nvPr/>
          </p:nvSpPr>
          <p:spPr>
            <a:xfrm>
              <a:off x="5410080" y="5562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sis 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120" y="1447920"/>
            <a:ext cx="81536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ministry organizations live on in-patient system as of 7/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ambulatory clinics live on PowerChart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g. # of physicians placing orders per day (actually doing it themselves) is &gt;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s processed per day &gt; 3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g. chart openings per day &gt; 16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g. HQ-Cerner ADT transactions per day &gt; 5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g. concurrent users per day during peak ho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08:00-16:59) &gt; 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oncurrent users &gt; 1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synchronization to 2 data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25760" y="-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nity CPOE Saturation – previous 13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82844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58920" y="6043680"/>
            <a:ext cx="76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OE Saturation % = physician entered orders + protocol orders + AHP orders / total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7031" t="22503" r="11718" b="7501"/>
          <a:stretch/>
        </p:blipFill>
        <p:spPr>
          <a:xfrm>
            <a:off x="304920" y="1447920"/>
            <a:ext cx="7924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22160" y="251460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MONITO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6734160" y="6642000"/>
            <a:ext cx="25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right © 2006 Trinity Health, Novi, Michig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embrace evidenced-based measures to monitor and improve our own perform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602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ing performance on 29 inpatient indicators for heart failure, acute myocardial infarction, pneumonia, maternal child care, patient satisfaction and patient identification on our core indicator report 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602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patient satisfaction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602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dicators are evidenced based and benchmarked against published national performance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6020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vertical integration of the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evels of th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536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ability for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9280" indent="-160200"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cy of performance using Clinical Quality Indicator Report Ca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219320" y="68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828800" y="152280"/>
            <a:ext cx="643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-based Performanc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15:34:08Z</dcterms:created>
  <dc:creator>Donald Crandall, MD</dc:creator>
  <dc:description/>
  <dc:language>en-US</dc:language>
  <cp:lastModifiedBy>Emily Moser</cp:lastModifiedBy>
  <dcterms:modified xsi:type="dcterms:W3CDTF">2009-06-04T18:48:49Z</dcterms:modified>
  <cp:revision>37</cp:revision>
  <dc:subject/>
  <dc:title>Slide 1</dc:title>
</cp:coreProperties>
</file>