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2E69-FA91-4E32-A3FD-53CCE65E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6FE-E57A-499F-A658-04961B6B3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8D3-71C5-4F90-A125-DAA0AFD7A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FD2-B396-48E7-8834-345713FD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674-8C33-4B20-BDAC-A4DC4B8F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04C-8ACE-4994-937B-64622F2CE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A1A-A03C-4CFA-9576-C2A01FBDF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C8E5-5ADF-4469-8D19-DF4A29752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3B21-97F8-4372-94EC-9C287AEF5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93F1-71F8-4003-9932-D68B125C0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ECA-070F-44AF-A12C-499B51D6D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62B3-054C-4536-BA6C-CE3E7F969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FFA-264B-4B19-B8E2-A5AE60C0B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64F-12C6-4C32-80C5-151B35EC4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42A1-BE18-4F2F-9144-FAEAEE8C1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7F1-5A4F-49C4-B358-800057D69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2EEC-6515-44BE-B20C-2D923B29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C733-E84F-4ABB-A3C0-46B05B956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ECHNICAL COMPONENT: MASSIVE IMPLEMENTATION EFF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 AND INTEGRATION CRIT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TIE TO REDESIGNED PROCESS OR UNLIKELY TO WORK: TOO COMPLE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800-132B-4529-93F0-C22EEE969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F3D0-E845-4A0A-BA18-808A84510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2AE9-7CB7-4E55-AAC5-99DFF0DB5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DD7-227D-442C-982A-646CE09E2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5E6E-2D3D-49C9-B4E1-F3C06168A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 for notes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2193-5AB7-4F32-8AFB-AC52842BD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E1E5-E466-4B0B-9724-7C4D34225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88F5-F29E-4D31-A491-685016DA5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8465-20B3-4976-9A5D-91131D756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20AA-6072-4F28-BBF2-102C43A51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6303-F4BE-45B6-9230-EB81454AA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31C4-897E-4256-89B2-51D7DEC92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0F07-1490-47E7-836B-8C702BE2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4BE7-1446-4E76-8E47-0F6281EDE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12C2-FF99-4023-954F-8DEC27CFF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02FE-9D33-4B3E-B50D-E27A2632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21AE-7AA6-4FDF-BD3A-9F270015D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Documents and Settings\JohnstoV\Desktop\genesis_2nd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3380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8156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9389-E096-4CCA-A07D-5EE06636857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1" descr="C:\Documents and Settings\JohnstoV\Desktop\genesis_title_slide_1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451152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and Tools for Patient Safety/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536868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ald Crandall, M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ysician Informatics Consulta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inity Health, Novi, M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5800" y="3276720"/>
            <a:ext cx="792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bjective of I²S² is to create information from data in order to measure and improve clinical and operational perform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Owner\My Documents\My Pictures\hdr_i2s2.gif"/>
          <p:cNvPicPr/>
          <p:nvPr/>
        </p:nvPicPr>
        <p:blipFill>
          <a:blip r:embed="rId1"/>
          <a:stretch/>
        </p:blipFill>
        <p:spPr>
          <a:xfrm>
            <a:off x="685800" y="1295280"/>
            <a:ext cx="8055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066680"/>
          <a:ext cx="8305920" cy="5486400"/>
        </p:xfrm>
        <a:graphic>
          <a:graphicData uri="http://schemas.openxmlformats.org/drawingml/2006/table">
            <a:tbl>
              <a:tblPr/>
              <a:tblGrid>
                <a:gridCol w="1501920"/>
                <a:gridCol w="1149120"/>
                <a:gridCol w="1147680"/>
                <a:gridCol w="1149480"/>
                <a:gridCol w="1149480"/>
                <a:gridCol w="1147680"/>
                <a:gridCol w="1060560"/>
              </a:tblGrid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w/in 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@ D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Smoking Cessa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@ D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w/in 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w/in 120 m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Arb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 Cre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illa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 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E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W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oi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bu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apid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st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o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om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hawak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keg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Hur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Spr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ux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B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vil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ty Heal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Da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S Top Deci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Top 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 25-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-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-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-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&lt;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ells indicate less than 30 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Quality Dashboar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Quality Dashboa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drawingml/2006/table">
            <a:tbl>
              <a:tblPr/>
              <a:tblGrid>
                <a:gridCol w="1203480"/>
                <a:gridCol w="915840"/>
                <a:gridCol w="871560"/>
                <a:gridCol w="892080"/>
                <a:gridCol w="1457280"/>
                <a:gridCol w="1067040"/>
                <a:gridCol w="1008000"/>
                <a:gridCol w="796680"/>
                <a:gridCol w="932040"/>
              </a:tblGrid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 Indicator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w/in 24 hrs AMI-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at discharge               AMI-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/ ARB at discharge               AMI-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Smoking Cessation Counseling                         AMI-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 at discharge AMI-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 w/in 24 hrs AMI-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w/in 90 min          AMI-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 Composi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Arb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 Cre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illa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 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E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W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FA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 FA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St. An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oi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bu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apid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st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o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om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hawak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keg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Hur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Spr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ux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B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ty Heal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Da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ional Performan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Medi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8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- 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- 6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- 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30 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s developed from CMS data for FY 2005. When CMS data not available, other vendor data used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 = Favorable 12 month regression (p&lt;.05)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 = Unfavorable 12 month regression (p&lt;.05)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533520" y="1371600"/>
            <a:ext cx="8153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successful with the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we achieving our clinician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304920" y="2590920"/>
            <a:ext cx="8534160" cy="3809880"/>
            <a:chOff x="304920" y="2590920"/>
            <a:chExt cx="8534160" cy="3809880"/>
          </a:xfrm>
        </p:grpSpPr>
        <p:graphicFrame>
          <p:nvGraphicFramePr>
            <p:cNvPr id="228" name="Object 5"/>
            <p:cNvGraphicFramePr/>
            <p:nvPr/>
          </p:nvGraphicFramePr>
          <p:xfrm>
            <a:off x="304920" y="2590920"/>
            <a:ext cx="8534160" cy="33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90920"/>
                      <a:ext cx="8534160" cy="33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Oval 6"/>
            <p:cNvSpPr/>
            <p:nvPr/>
          </p:nvSpPr>
          <p:spPr>
            <a:xfrm>
              <a:off x="5715000" y="3200400"/>
              <a:ext cx="2666880" cy="320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8"/>
          <p:cNvSpPr/>
          <p:nvPr/>
        </p:nvSpPr>
        <p:spPr>
          <a:xfrm>
            <a:off x="175248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from Liv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 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ng from Utilization to Standard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1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3476520" y="1249200"/>
            <a:ext cx="3727440" cy="209556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3187800" y="1814400"/>
            <a:ext cx="4294080" cy="154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3681360"/>
            <a:ext cx="8458200" cy="1609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edicatio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2760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2241720" y="3170160"/>
            <a:ext cx="6172200" cy="617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8828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0086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08796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71326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008880" y="5846760"/>
            <a:ext cx="50576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     ICU      ACUTE    SURG  C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486320" y="1298520"/>
            <a:ext cx="194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2241720" y="2548080"/>
            <a:ext cx="6172200" cy="61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2344680" y="2639880"/>
            <a:ext cx="6069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ute Coronary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gestive Heart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348360" y="6303960"/>
            <a:ext cx="40381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re Area Improvement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676520" y="366120"/>
            <a:ext cx="631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nsformation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 Teams</a:t>
            </a:r>
            <a:br>
              <a:rPr sz="3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Centric – Zero 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rea Improvement Teams</a:t>
            </a:r>
            <a:br>
              <a:rPr sz="24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enue Specific, Interdisciplinary, Workflow Based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, Acute Care, Critical Care, Surgical, oth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Transformation Team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an process, Interdisciplinary, Outcomes, Evidence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ronary, CHF, Pneumonia, Diabetes, SIP, others…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Oversight Team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oss Venue, architecture, cross venue, and system decision 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80880" y="16002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mprove consistency in quality performance on key clinical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Enhance the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ncrease value and decrease risk in Genesis as noted in PG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57200" y="3048120"/>
            <a:ext cx="3886200" cy="34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-based clinical practice is not embedded in many of the order s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kflow pattern has not changed  much.  For example even though a STAT ORDER is now instantly processed, it DOES NOT mean that the nurse sees it any earlier to do anything about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still have MO specific formularies.  This means we have different ways of approaching even the highest risk dru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105520" y="3048120"/>
            <a:ext cx="342900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embed evidence into workflow, order sets, rul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flow will be optimized by embedding evidence--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hancing the overall clinical experience and care outco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and efficiency improvements between all care providers and pati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cation cycle and formulary will reflect evidence base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129528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5029200" y="2590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752480" y="304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80880" y="1371600"/>
            <a:ext cx="85345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Care Transformation is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a comprehensive approac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mprove quality and safety of care, the patient care experience and improve financial steward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Achieve zero defects by embedding evidence throughout the ca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upport acceleration of change and rapid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Maximize value from Genesi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rinity Health’s brand name for Care Transform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Genesis CareExperience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(Genesis CareEx on second refere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Key attributes of Genesis CareEx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Patient focused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studies the end-to-end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Disease specific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e.g. heart failure, acute coronary syndrome,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nformation and evidence driven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versus consensus opinion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Holistic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examines all elements of cost and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Measurable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– produces quantifiabl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terative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we never stop looking for new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75248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Transformation Defin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ching a Higher Standard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5238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sis CareExperience Desig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28600" y="1523880"/>
            <a:ext cx="868680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stablish enterprise workflows that are actionable, flexible, patient focused and incorporates evidence throughout the care delivery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consideration and elimination to current provider and patient  dissatis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avoidance of all avoidable and predicta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stablish process, productivity and functional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required documentation meets applicabl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Will deliver outstanding care within financial parameters of CMS reimbursement while maintaining alignment with our 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upport Genesis CareEx teams to support evolution towards system form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Hardwire” into Genesi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Improve the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– Our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05160" y="1523880"/>
            <a:ext cx="37335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-largest Catholic health system in the United Sta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ng revenues of      $5.7b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4,950 F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,315 physicians – 95% private practice community hospital 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 Ministry Organizations, 44 hospitals (29 owned and 15 managed), 379 outpatient clinics/facilities, numerous long-term care facilities, home health and hospice programs, and senior housing communities in seven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028"/>
          <p:cNvSpPr/>
          <p:nvPr/>
        </p:nvSpPr>
        <p:spPr>
          <a:xfrm>
            <a:off x="1828800" y="4668840"/>
            <a:ext cx="718488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MI Example Order Set from Zynx on N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828800" y="1522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Practice Em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ational Ord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the “Quality Heath Reco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 of dictation &amp; transcription, storage &amp; retrieval/release of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ation &amp; Case Mix (lower produ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of Care, Handoffs, &amp;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“Quality Health Record”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quality documentation review &amp; dialogue with physicians, coding and DRG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hysician documentation templates (PN2G), including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terminology definitions for documentation and coding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recognition &amp; medical documentation quality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anagement (Scanning) and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” environment - working remote &amp; load bal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is Gen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Genesis will i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20+ information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ss 17 Member Organizations and 23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 of 300+ business and clin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 Applications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NICAL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ner/Mille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Chart - Orders an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 Doc - Clinic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Net -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Net: Emergenc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et: Radiolog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iNet: Operating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t: 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- HIM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linical functions by pt.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urrent clin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ati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Genesis Clin/Rev Sched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 June 200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2362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ke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020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ux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2760" y="1295280"/>
            <a:ext cx="7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03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152280" y="2209680"/>
            <a:ext cx="152640" cy="457200"/>
            <a:chOff x="152280" y="2209680"/>
            <a:chExt cx="152640" cy="457200"/>
          </a:xfrm>
        </p:grpSpPr>
        <p:sp>
          <p:nvSpPr>
            <p:cNvPr id="103" name="Line 7"/>
            <p:cNvSpPr/>
            <p:nvPr/>
          </p:nvSpPr>
          <p:spPr>
            <a:xfrm>
              <a:off x="152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1522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457200" y="2895480"/>
            <a:ext cx="152280" cy="457200"/>
            <a:chOff x="457200" y="2895480"/>
            <a:chExt cx="152280" cy="457200"/>
          </a:xfrm>
        </p:grpSpPr>
        <p:sp>
          <p:nvSpPr>
            <p:cNvPr id="106" name="Line 10"/>
            <p:cNvSpPr/>
            <p:nvPr/>
          </p:nvSpPr>
          <p:spPr>
            <a:xfrm>
              <a:off x="4572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4572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762120" y="3657600"/>
            <a:ext cx="152280" cy="457200"/>
            <a:chOff x="762120" y="3657600"/>
            <a:chExt cx="152280" cy="457200"/>
          </a:xfrm>
        </p:grpSpPr>
        <p:sp>
          <p:nvSpPr>
            <p:cNvPr id="109" name="Line 13"/>
            <p:cNvSpPr/>
            <p:nvPr/>
          </p:nvSpPr>
          <p:spPr>
            <a:xfrm>
              <a:off x="762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21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5"/>
          <p:cNvSpPr/>
          <p:nvPr/>
        </p:nvSpPr>
        <p:spPr>
          <a:xfrm>
            <a:off x="609480" y="312408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 Ra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523520" y="1295280"/>
            <a:ext cx="64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1447920" y="2209680"/>
            <a:ext cx="152280" cy="381240"/>
            <a:chOff x="1447920" y="2209680"/>
            <a:chExt cx="152280" cy="381240"/>
          </a:xfrm>
        </p:grpSpPr>
        <p:sp>
          <p:nvSpPr>
            <p:cNvPr id="114" name="Line 18"/>
            <p:cNvSpPr/>
            <p:nvPr/>
          </p:nvSpPr>
          <p:spPr>
            <a:xfrm>
              <a:off x="1447920" y="22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144792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1752480" y="2895480"/>
            <a:ext cx="152640" cy="457200"/>
            <a:chOff x="1752480" y="2895480"/>
            <a:chExt cx="152640" cy="457200"/>
          </a:xfrm>
        </p:grpSpPr>
        <p:sp>
          <p:nvSpPr>
            <p:cNvPr id="117" name="Line 21"/>
            <p:cNvSpPr/>
            <p:nvPr/>
          </p:nvSpPr>
          <p:spPr>
            <a:xfrm>
              <a:off x="17524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17524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2057400" y="3657600"/>
            <a:ext cx="152280" cy="457200"/>
            <a:chOff x="2057400" y="3657600"/>
            <a:chExt cx="152280" cy="457200"/>
          </a:xfrm>
        </p:grpSpPr>
        <p:sp>
          <p:nvSpPr>
            <p:cNvPr id="120" name="Line 24"/>
            <p:cNvSpPr/>
            <p:nvPr/>
          </p:nvSpPr>
          <p:spPr>
            <a:xfrm>
              <a:off x="20574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20574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1371600" y="1676520"/>
            <a:ext cx="1066680" cy="52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on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289512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8"/>
          <p:cNvGrpSpPr/>
          <p:nvPr/>
        </p:nvGrpSpPr>
        <p:grpSpPr>
          <a:xfrm>
            <a:off x="3200400" y="2895480"/>
            <a:ext cx="152280" cy="457200"/>
            <a:chOff x="3200400" y="2895480"/>
            <a:chExt cx="152280" cy="457200"/>
          </a:xfrm>
        </p:grpSpPr>
        <p:sp>
          <p:nvSpPr>
            <p:cNvPr id="125" name="Line 29"/>
            <p:cNvSpPr/>
            <p:nvPr/>
          </p:nvSpPr>
          <p:spPr>
            <a:xfrm>
              <a:off x="32004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2004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1"/>
          <p:cNvSpPr/>
          <p:nvPr/>
        </p:nvSpPr>
        <p:spPr>
          <a:xfrm>
            <a:off x="914400" y="38862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ttle Cr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0120" y="594360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7620120" y="5943600"/>
            <a:ext cx="1295280" cy="2286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20120" y="6172200"/>
            <a:ext cx="1295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620120" y="6400800"/>
            <a:ext cx="1295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8077320" y="5638680"/>
            <a:ext cx="85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1066680" y="4419720"/>
            <a:ext cx="152640" cy="457200"/>
            <a:chOff x="1066680" y="4419720"/>
            <a:chExt cx="152640" cy="457200"/>
          </a:xfrm>
        </p:grpSpPr>
        <p:sp>
          <p:nvSpPr>
            <p:cNvPr id="134" name="Line 38"/>
            <p:cNvSpPr/>
            <p:nvPr/>
          </p:nvSpPr>
          <p:spPr>
            <a:xfrm>
              <a:off x="10666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1066680" y="487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40"/>
          <p:cNvSpPr/>
          <p:nvPr/>
        </p:nvSpPr>
        <p:spPr>
          <a:xfrm>
            <a:off x="3352680" y="3124080"/>
            <a:ext cx="99072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1219320" y="4648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o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4724280" y="3124080"/>
            <a:ext cx="9907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1905120" y="312408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bu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2209680" y="388620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4114800" y="1295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54856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8"/>
          <p:cNvGrpSpPr/>
          <p:nvPr/>
        </p:nvGrpSpPr>
        <p:grpSpPr>
          <a:xfrm>
            <a:off x="6324480" y="3657600"/>
            <a:ext cx="152640" cy="457200"/>
            <a:chOff x="6324480" y="3657600"/>
            <a:chExt cx="152640" cy="457200"/>
          </a:xfrm>
        </p:grpSpPr>
        <p:sp>
          <p:nvSpPr>
            <p:cNvPr id="144" name="Line 49"/>
            <p:cNvSpPr/>
            <p:nvPr/>
          </p:nvSpPr>
          <p:spPr>
            <a:xfrm>
              <a:off x="63244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0"/>
            <p:cNvSpPr/>
            <p:nvPr/>
          </p:nvSpPr>
          <p:spPr>
            <a:xfrm>
              <a:off x="6324480" y="4114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51"/>
          <p:cNvSpPr/>
          <p:nvPr/>
        </p:nvSpPr>
        <p:spPr>
          <a:xfrm>
            <a:off x="6781680" y="46483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68572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7086600" y="53341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 Ar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7010280" y="16765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um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B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 Fal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5"/>
          <p:cNvGrpSpPr/>
          <p:nvPr/>
        </p:nvGrpSpPr>
        <p:grpSpPr>
          <a:xfrm>
            <a:off x="2895480" y="2209680"/>
            <a:ext cx="152640" cy="457200"/>
            <a:chOff x="2895480" y="2209680"/>
            <a:chExt cx="152640" cy="457200"/>
          </a:xfrm>
        </p:grpSpPr>
        <p:sp>
          <p:nvSpPr>
            <p:cNvPr id="151" name="Line 56"/>
            <p:cNvSpPr/>
            <p:nvPr/>
          </p:nvSpPr>
          <p:spPr>
            <a:xfrm>
              <a:off x="28954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7"/>
            <p:cNvSpPr/>
            <p:nvPr/>
          </p:nvSpPr>
          <p:spPr>
            <a:xfrm>
              <a:off x="28954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58"/>
          <p:cNvSpPr/>
          <p:nvPr/>
        </p:nvSpPr>
        <p:spPr>
          <a:xfrm>
            <a:off x="2743200" y="16765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9"/>
          <p:cNvGrpSpPr/>
          <p:nvPr/>
        </p:nvGrpSpPr>
        <p:grpSpPr>
          <a:xfrm>
            <a:off x="6934320" y="5181480"/>
            <a:ext cx="152280" cy="457200"/>
            <a:chOff x="6934320" y="5181480"/>
            <a:chExt cx="152280" cy="457200"/>
          </a:xfrm>
        </p:grpSpPr>
        <p:sp>
          <p:nvSpPr>
            <p:cNvPr id="155" name="Line 60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1"/>
            <p:cNvSpPr/>
            <p:nvPr/>
          </p:nvSpPr>
          <p:spPr>
            <a:xfrm>
              <a:off x="693432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2"/>
          <p:cNvGrpSpPr/>
          <p:nvPr/>
        </p:nvGrpSpPr>
        <p:grpSpPr>
          <a:xfrm>
            <a:off x="2362320" y="4419720"/>
            <a:ext cx="152280" cy="457200"/>
            <a:chOff x="2362320" y="4419720"/>
            <a:chExt cx="152280" cy="457200"/>
          </a:xfrm>
        </p:grpSpPr>
        <p:sp>
          <p:nvSpPr>
            <p:cNvPr id="158" name="Line 63"/>
            <p:cNvSpPr/>
            <p:nvPr/>
          </p:nvSpPr>
          <p:spPr>
            <a:xfrm>
              <a:off x="23623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4"/>
            <p:cNvSpPr/>
            <p:nvPr/>
          </p:nvSpPr>
          <p:spPr>
            <a:xfrm>
              <a:off x="23623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5105520" y="4419720"/>
            <a:ext cx="152280" cy="457200"/>
            <a:chOff x="5105520" y="4419720"/>
            <a:chExt cx="152280" cy="457200"/>
          </a:xfrm>
        </p:grpSpPr>
        <p:sp>
          <p:nvSpPr>
            <p:cNvPr id="161" name="Line 66"/>
            <p:cNvSpPr/>
            <p:nvPr/>
          </p:nvSpPr>
          <p:spPr>
            <a:xfrm>
              <a:off x="51055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7"/>
            <p:cNvSpPr/>
            <p:nvPr/>
          </p:nvSpPr>
          <p:spPr>
            <a:xfrm>
              <a:off x="51055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8"/>
          <p:cNvSpPr/>
          <p:nvPr/>
        </p:nvSpPr>
        <p:spPr>
          <a:xfrm>
            <a:off x="64771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25780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th B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5867280" y="2362320"/>
            <a:ext cx="9907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ver Sp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304812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 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2895480" y="5410080"/>
            <a:ext cx="1067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S &amp; CH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2743200" y="5181480"/>
            <a:ext cx="152280" cy="457200"/>
            <a:chOff x="2743200" y="5181480"/>
            <a:chExt cx="152280" cy="457200"/>
          </a:xfrm>
        </p:grpSpPr>
        <p:sp>
          <p:nvSpPr>
            <p:cNvPr id="169" name="Line 74"/>
            <p:cNvSpPr/>
            <p:nvPr/>
          </p:nvSpPr>
          <p:spPr>
            <a:xfrm>
              <a:off x="274320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>
              <a:off x="27432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76"/>
          <p:cNvSpPr/>
          <p:nvPr/>
        </p:nvSpPr>
        <p:spPr>
          <a:xfrm>
            <a:off x="2514600" y="4648320"/>
            <a:ext cx="12193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7"/>
          <p:cNvSpPr/>
          <p:nvPr/>
        </p:nvSpPr>
        <p:spPr>
          <a:xfrm>
            <a:off x="4114800" y="1676520"/>
            <a:ext cx="1066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78"/>
          <p:cNvGrpSpPr/>
          <p:nvPr/>
        </p:nvGrpSpPr>
        <p:grpSpPr>
          <a:xfrm>
            <a:off x="3657600" y="3657600"/>
            <a:ext cx="152280" cy="380880"/>
            <a:chOff x="3657600" y="3657600"/>
            <a:chExt cx="152280" cy="380880"/>
          </a:xfrm>
        </p:grpSpPr>
        <p:sp>
          <p:nvSpPr>
            <p:cNvPr id="174" name="Line 79"/>
            <p:cNvSpPr/>
            <p:nvPr/>
          </p:nvSpPr>
          <p:spPr>
            <a:xfrm>
              <a:off x="365760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0"/>
            <p:cNvSpPr/>
            <p:nvPr/>
          </p:nvSpPr>
          <p:spPr>
            <a:xfrm>
              <a:off x="365760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81"/>
          <p:cNvSpPr/>
          <p:nvPr/>
        </p:nvSpPr>
        <p:spPr>
          <a:xfrm>
            <a:off x="5486400" y="1676520"/>
            <a:ext cx="106668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2"/>
          <p:cNvGrpSpPr/>
          <p:nvPr/>
        </p:nvGrpSpPr>
        <p:grpSpPr>
          <a:xfrm>
            <a:off x="5715000" y="2209680"/>
            <a:ext cx="152280" cy="457200"/>
            <a:chOff x="5715000" y="2209680"/>
            <a:chExt cx="152280" cy="457200"/>
          </a:xfrm>
        </p:grpSpPr>
        <p:sp>
          <p:nvSpPr>
            <p:cNvPr id="178" name="Line 83"/>
            <p:cNvSpPr/>
            <p:nvPr/>
          </p:nvSpPr>
          <p:spPr>
            <a:xfrm>
              <a:off x="57150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4"/>
            <p:cNvSpPr/>
            <p:nvPr/>
          </p:nvSpPr>
          <p:spPr>
            <a:xfrm>
              <a:off x="57150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3505320" y="3657600"/>
            <a:ext cx="380160" cy="914040"/>
            <a:chOff x="3505320" y="3657600"/>
            <a:chExt cx="380160" cy="914040"/>
          </a:xfrm>
        </p:grpSpPr>
        <p:sp>
          <p:nvSpPr>
            <p:cNvPr id="181" name="Line 86"/>
            <p:cNvSpPr/>
            <p:nvPr/>
          </p:nvSpPr>
          <p:spPr>
            <a:xfrm>
              <a:off x="3505320" y="3657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7"/>
            <p:cNvSpPr/>
            <p:nvPr/>
          </p:nvSpPr>
          <p:spPr>
            <a:xfrm>
              <a:off x="3505320" y="4571640"/>
              <a:ext cx="3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8"/>
          <p:cNvGrpSpPr/>
          <p:nvPr/>
        </p:nvGrpSpPr>
        <p:grpSpPr>
          <a:xfrm>
            <a:off x="4572000" y="2895480"/>
            <a:ext cx="152280" cy="457200"/>
            <a:chOff x="4572000" y="2895480"/>
            <a:chExt cx="152280" cy="457200"/>
          </a:xfrm>
        </p:grpSpPr>
        <p:sp>
          <p:nvSpPr>
            <p:cNvPr id="184" name="Line 89"/>
            <p:cNvSpPr/>
            <p:nvPr/>
          </p:nvSpPr>
          <p:spPr>
            <a:xfrm>
              <a:off x="45720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0"/>
            <p:cNvSpPr/>
            <p:nvPr/>
          </p:nvSpPr>
          <p:spPr>
            <a:xfrm>
              <a:off x="4572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1"/>
          <p:cNvGrpSpPr/>
          <p:nvPr/>
        </p:nvGrpSpPr>
        <p:grpSpPr>
          <a:xfrm>
            <a:off x="4267080" y="2286000"/>
            <a:ext cx="152640" cy="380880"/>
            <a:chOff x="4267080" y="2286000"/>
            <a:chExt cx="152640" cy="380880"/>
          </a:xfrm>
        </p:grpSpPr>
        <p:sp>
          <p:nvSpPr>
            <p:cNvPr id="187" name="Line 92"/>
            <p:cNvSpPr/>
            <p:nvPr/>
          </p:nvSpPr>
          <p:spPr>
            <a:xfrm>
              <a:off x="426708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3"/>
            <p:cNvSpPr/>
            <p:nvPr/>
          </p:nvSpPr>
          <p:spPr>
            <a:xfrm>
              <a:off x="42670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4"/>
          <p:cNvSpPr/>
          <p:nvPr/>
        </p:nvSpPr>
        <p:spPr>
          <a:xfrm>
            <a:off x="6172200" y="3124080"/>
            <a:ext cx="10666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5"/>
          <p:cNvGrpSpPr/>
          <p:nvPr/>
        </p:nvGrpSpPr>
        <p:grpSpPr>
          <a:xfrm>
            <a:off x="6629400" y="4419720"/>
            <a:ext cx="152280" cy="532800"/>
            <a:chOff x="6629400" y="4419720"/>
            <a:chExt cx="152280" cy="532800"/>
          </a:xfrm>
        </p:grpSpPr>
        <p:sp>
          <p:nvSpPr>
            <p:cNvPr id="191" name="Line 96"/>
            <p:cNvSpPr/>
            <p:nvPr/>
          </p:nvSpPr>
          <p:spPr>
            <a:xfrm>
              <a:off x="6629400" y="441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7"/>
            <p:cNvSpPr/>
            <p:nvPr/>
          </p:nvSpPr>
          <p:spPr>
            <a:xfrm>
              <a:off x="6629400" y="495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8"/>
          <p:cNvGrpSpPr/>
          <p:nvPr/>
        </p:nvGrpSpPr>
        <p:grpSpPr>
          <a:xfrm>
            <a:off x="6019920" y="2895480"/>
            <a:ext cx="152280" cy="457200"/>
            <a:chOff x="6019920" y="2895480"/>
            <a:chExt cx="152280" cy="457200"/>
          </a:xfrm>
        </p:grpSpPr>
        <p:sp>
          <p:nvSpPr>
            <p:cNvPr id="194" name="Line 99"/>
            <p:cNvSpPr/>
            <p:nvPr/>
          </p:nvSpPr>
          <p:spPr>
            <a:xfrm>
              <a:off x="601992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0"/>
            <p:cNvSpPr/>
            <p:nvPr/>
          </p:nvSpPr>
          <p:spPr>
            <a:xfrm>
              <a:off x="60199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101"/>
          <p:cNvSpPr/>
          <p:nvPr/>
        </p:nvSpPr>
        <p:spPr>
          <a:xfrm>
            <a:off x="4419720" y="2362320"/>
            <a:ext cx="106668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2"/>
          <p:cNvSpPr/>
          <p:nvPr/>
        </p:nvSpPr>
        <p:spPr>
          <a:xfrm>
            <a:off x="3886200" y="43434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 To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3"/>
          <p:cNvSpPr/>
          <p:nvPr/>
        </p:nvSpPr>
        <p:spPr>
          <a:xfrm>
            <a:off x="3581280" y="3733920"/>
            <a:ext cx="106704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S/C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 Pilot-Oa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4"/>
          <p:cNvSpPr/>
          <p:nvPr/>
        </p:nvSpPr>
        <p:spPr>
          <a:xfrm>
            <a:off x="5029200" y="3809880"/>
            <a:ext cx="106668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5"/>
          <p:cNvGrpSpPr/>
          <p:nvPr/>
        </p:nvGrpSpPr>
        <p:grpSpPr>
          <a:xfrm>
            <a:off x="4876920" y="3657600"/>
            <a:ext cx="152280" cy="457200"/>
            <a:chOff x="4876920" y="3657600"/>
            <a:chExt cx="152280" cy="457200"/>
          </a:xfrm>
        </p:grpSpPr>
        <p:sp>
          <p:nvSpPr>
            <p:cNvPr id="201" name="Line 106"/>
            <p:cNvSpPr/>
            <p:nvPr/>
          </p:nvSpPr>
          <p:spPr>
            <a:xfrm>
              <a:off x="48769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48769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08" descr="T:\Genesis\Identity\Genesis Logo.transparent bkgrnd.png"/>
          <p:cNvPicPr/>
          <p:nvPr/>
        </p:nvPicPr>
        <p:blipFill>
          <a:blip r:embed="rId1"/>
          <a:stretch/>
        </p:blipFill>
        <p:spPr>
          <a:xfrm>
            <a:off x="457200" y="5562720"/>
            <a:ext cx="2209680" cy="84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9"/>
          <p:cNvSpPr/>
          <p:nvPr/>
        </p:nvSpPr>
        <p:spPr>
          <a:xfrm>
            <a:off x="5562720" y="51814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Y08 Gen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 M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0"/>
          <p:cNvGrpSpPr/>
          <p:nvPr/>
        </p:nvGrpSpPr>
        <p:grpSpPr>
          <a:xfrm>
            <a:off x="5410080" y="5105520"/>
            <a:ext cx="152640" cy="457200"/>
            <a:chOff x="5410080" y="5105520"/>
            <a:chExt cx="152640" cy="457200"/>
          </a:xfrm>
        </p:grpSpPr>
        <p:sp>
          <p:nvSpPr>
            <p:cNvPr id="206" name="Line 111"/>
            <p:cNvSpPr/>
            <p:nvPr/>
          </p:nvSpPr>
          <p:spPr>
            <a:xfrm>
              <a:off x="541008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2"/>
            <p:cNvSpPr/>
            <p:nvPr/>
          </p:nvSpPr>
          <p:spPr>
            <a:xfrm>
              <a:off x="5410080" y="5562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is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120" y="1447920"/>
            <a:ext cx="81536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ministry organizations live on in-patient system as of 7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ambulatory clinics live on PowerChar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# of physicians placing orders per day (actually doing it themselves) is &gt;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s processed per day &gt; 3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chart openings per day &gt; 1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HQ-Cerner ADT transactions per day &gt; 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concurrent users per day during peak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8:00-16:59) &gt;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oncurrent users &gt;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synchronization to 2 data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CPOE Saturation – previous 1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58920" y="604368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OE Saturation % = physician entered orders + protocol orders + AHP orders / total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7031" t="22503" r="11718" b="7501"/>
          <a:stretch/>
        </p:blipFill>
        <p:spPr>
          <a:xfrm>
            <a:off x="304920" y="144792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251460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MONI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embrace evidenced-based measures to monitor and improve our own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performance on 29 inpatient indicators for heart failure, acute myocardial infarction, pneumonia, maternal child care, patient satisfaction and patient identification on our core indicator report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patient satisfac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dicators are evidenced based and benchmarked against published national performan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vertical integration of th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evels of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for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 of performance using Clinical Quality Indicator Report C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8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828800" y="152280"/>
            <a:ext cx="643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erformanc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34:08Z</dcterms:created>
  <dc:creator>Donald Crandall, MD</dc:creator>
  <dc:description/>
  <dc:language>en-US</dc:language>
  <cp:lastModifiedBy>Emily Moser</cp:lastModifiedBy>
  <dcterms:modified xsi:type="dcterms:W3CDTF">2009-06-04T18:48:49Z</dcterms:modified>
  <cp:revision>37</cp:revision>
  <dc:subject/>
  <dc:title>Slide 1</dc:title>
</cp:coreProperties>
</file>