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ABBD-E94F-40D0-94A2-6896C4190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BE6D-5094-4F7D-96BE-C76EBA01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8777-96D1-44E8-A132-8C82641C8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8B5-121C-465A-B149-BB09D1ACD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ADD-E684-49BB-A142-B22BB850A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BCCA-7500-4362-A9AA-B16BF11D0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D2B3-6F58-41E3-BDE5-7A7DBFC0E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ACA6-3AB3-49A0-8744-F10B7FD8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185D-5995-4CAE-83CA-F3B390AB6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0287-CCDC-4BA9-A6A7-3428362D6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5E7A-E403-489F-94DA-8B1B1D81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teams make real-time adjustments to the game plan to optimize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Revenue of Live Sites as % of TH Total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Expense of Lives Sites as % of TH Total = 3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MAED % of Live Sites as % of TH Total = 3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E’s % of Lives Sites as % of TH Total = 35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 Income of Live Sites as % of TH Total = 2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9D23-BF69-4E57-A52A-AE6395D64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49C1-E6B0-4FAE-8D9C-806DD058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213-B656-47D7-8D80-DC07F12E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FDC-8524-4AD1-866E-DA681DA7B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CB72-26C1-4EE0-BE5E-9FA412DA6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8DF7-D4DB-4CC0-B876-4DC20A0F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+ PROCES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AGE OF WORKFORCE AFFECTED: 7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656E-FF19-463A-AEC4-95278A45A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ECHNICAL COMPONENT: MASSIVE IMPLEMENTATION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 AND INTEGRATION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TIE TO REDESIGNED PROCESS OR UNLIKELY TO WORK: TOO COM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B2A8-A254-45FF-A034-7976C75B0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7DAC-1889-4B28-9631-A79545593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D45E-AC3F-42FF-9AD5-C1A8FB525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D46B-515B-4AD3-A1FB-270964CB7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1DEC-E68D-4244-823B-8ED836219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67A7-683B-445C-8F99-D05B2CB2E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7F310-9C39-40ED-8E0C-2B9042315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E982-68D4-492C-95A9-61B44D99B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298F-4BC6-415D-8189-94789ECBF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9171-4AFC-491D-B322-C576A315A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1E3C-0F3D-4A41-BACA-19B30F741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3454C-0BC6-4096-81AC-5FDE2E519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B106-9FCC-4238-A892-99F5B51C6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24AE-C9E7-461A-8C09-85C253FEC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enesis_2nd_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3380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8156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512C-2FFF-430E-BDAF-3E749CF81D4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enesis_title_slide_1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5105160"/>
            <a:ext cx="4800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ald Crandall, M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Informatics Consul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ity Health Sept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752480"/>
            <a:ext cx="4572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hieving success  with Integration of HIT in 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383920" y="4320"/>
            <a:ext cx="57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tner Magic Quad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Office Systems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_Pic9"/>
          <p:cNvPicPr/>
          <p:nvPr/>
        </p:nvPicPr>
        <p:blipFill>
          <a:blip r:embed="rId1"/>
          <a:stretch/>
        </p:blipFill>
        <p:spPr>
          <a:xfrm>
            <a:off x="838080" y="1523880"/>
            <a:ext cx="792504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bulatory EM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care would benefit from physician office EMR’s that integrate office and hospit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ystems do not yet support highly efficient physician office work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of office visits in practices of less than 5 do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R’s of all types are relatively expen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er landscap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health systems are not invested in supporting independent physician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bulatory EMR-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in regulatory environment creates opportunities and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ion rates are slow, better in larg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ess than 20% of EMR functionality is being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hen technology is given away, adoption issues continue (Wellpoint and the State of Mas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knowledge, workflow re-design, efficiency and risk are probably more significant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of office-based physicians with selected features of EMR systems 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andard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Content Placeholder 4"/>
          <p:cNvGraphicFramePr/>
          <p:nvPr/>
        </p:nvGraphicFramePr>
        <p:xfrm>
          <a:off x="4148280" y="3157560"/>
          <a:ext cx="12286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8280" y="3157560"/>
                    <a:ext cx="12286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397160"/>
          <a:ext cx="8153280" cy="468288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R system 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y elect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ly elect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ient demograph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5 (2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3 (3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ian clinical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2 (5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4 (4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resul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2 (1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9 (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4 (5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se clinical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 (1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6 (6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 (5.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 (1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 (5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4 (4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or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 (1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6 (5.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2 (5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remi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 (1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9 (5.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3 (4.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 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 (0.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 (5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 (2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8"/>
          <p:cNvSpPr/>
          <p:nvPr/>
        </p:nvSpPr>
        <p:spPr>
          <a:xfrm>
            <a:off x="533520" y="617220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harine W. Burt, Ed.D., U.S. Department of Health and Huma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21120" cy="3048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838760" y="1828440"/>
            <a:ext cx="4000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R financial benefits do not flow to phys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I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1752480" y="6095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tacles to implementing information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College of Physician Executives Technology Survey March/April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k Law Exceptions and Safe Har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80880" y="1219320"/>
          <a:ext cx="8229600" cy="4844880"/>
        </p:xfrm>
        <a:graphic>
          <a:graphicData uri="http://schemas.openxmlformats.org/drawingml/2006/table">
            <a:tbl>
              <a:tblPr/>
              <a:tblGrid>
                <a:gridCol w="1505160"/>
                <a:gridCol w="1395360"/>
                <a:gridCol w="1701720"/>
                <a:gridCol w="3627360"/>
              </a:tblGrid>
              <a:tr h="9842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lth System Contribution Allowable under Safe Harbor Law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n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,s Scanners, Tablets, Routers, Wireless 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work &amp;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com / Data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093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fa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T with Hospital, Lab System, Reference Labs, Tran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957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-up,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182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95b3d7"/>
                      </a:solidFill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action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matic Appointment Calling, Electronic Statement Processing, Claim Ed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2880">
                      <a:solidFill>
                        <a:srgbClr val="95b3d7"/>
                      </a:solidFill>
                    </a:lnR>
                    <a:lnT w="2880">
                      <a:solidFill>
                        <a:srgbClr val="95b3d7"/>
                      </a:solidFill>
                    </a:lnT>
                    <a:lnB w="2880">
                      <a:solidFill>
                        <a:srgbClr val="95b3d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Box 7"/>
          <p:cNvSpPr/>
          <p:nvPr/>
        </p:nvSpPr>
        <p:spPr>
          <a:xfrm>
            <a:off x="609480" y="6095880"/>
            <a:ext cx="769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aximum of 85% of cost can be contributed by healt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Not a legal opinion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to Clinical 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ing in the Ambulatory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tacles to Ambulatory E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and 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ty specific temp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hree hour sessions, 2 one hour follow-up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fter physician has training on in-pati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productivity in early learning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 in from all physicians i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offic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end registration an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in-pati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ight amount and format for in-pati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and lack of standard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Stasis, Challenges,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nity is 1/3 to ½ complete with implementation of 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nity has made limited progress with Genesis-enabled clinical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GVA recommendations - focus on clinical process transformation to obtain value from 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ing and measuring value through improvement in clinical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nt-end customization to achieve adoption has led to proliferation of order sets that do not necessarily lead to better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ed expectations with some Cerner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gnition of on-going software upgrad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d industry experience, high resource demand for “customizations”, and personnel “burnou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risk mitigation strate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we continue implementation while significantly ramping up clinical transforma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do we increase value and reduce risk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7240" y="451152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657600" y="536868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140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y Health – Our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2057400"/>
            <a:ext cx="5334120" cy="3411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5105520" y="1447920"/>
            <a:ext cx="3821040" cy="48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-largest Catholic health system in the United Sta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ng revenues of      $5.7b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4,950 F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,315 physicians – 95% private practice community hospital 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 Ministry Organizations, 44 hospitals (29 owned and 15 managed), 379 outpatient clinics/facilities, numerous long-term care facilities, home health and hospice programs, and senior housing communities in seven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l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is Gen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Genesis will i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20+ information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ss 17 Member Organizations and 23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 of 300+ business and clin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4381560" y="662940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2616-1FCE-4E96-9D29-1DDCF4EA3A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1905120" y="38088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Genesis Clin/Rev Sched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 Jun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2362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ke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020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ux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2760" y="1295280"/>
            <a:ext cx="7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03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152280" y="2209680"/>
            <a:ext cx="152640" cy="457200"/>
            <a:chOff x="152280" y="2209680"/>
            <a:chExt cx="152640" cy="457200"/>
          </a:xfrm>
        </p:grpSpPr>
        <p:sp>
          <p:nvSpPr>
            <p:cNvPr id="103" name="Line 7"/>
            <p:cNvSpPr/>
            <p:nvPr/>
          </p:nvSpPr>
          <p:spPr>
            <a:xfrm>
              <a:off x="152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1522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457200" y="2895480"/>
            <a:ext cx="152280" cy="457200"/>
            <a:chOff x="457200" y="2895480"/>
            <a:chExt cx="152280" cy="457200"/>
          </a:xfrm>
        </p:grpSpPr>
        <p:sp>
          <p:nvSpPr>
            <p:cNvPr id="106" name="Line 10"/>
            <p:cNvSpPr/>
            <p:nvPr/>
          </p:nvSpPr>
          <p:spPr>
            <a:xfrm>
              <a:off x="4572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4572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762120" y="3657600"/>
            <a:ext cx="152280" cy="457200"/>
            <a:chOff x="762120" y="3657600"/>
            <a:chExt cx="152280" cy="457200"/>
          </a:xfrm>
        </p:grpSpPr>
        <p:sp>
          <p:nvSpPr>
            <p:cNvPr id="109" name="Line 13"/>
            <p:cNvSpPr/>
            <p:nvPr/>
          </p:nvSpPr>
          <p:spPr>
            <a:xfrm>
              <a:off x="762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21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5"/>
          <p:cNvSpPr/>
          <p:nvPr/>
        </p:nvSpPr>
        <p:spPr>
          <a:xfrm>
            <a:off x="609480" y="312408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 Ra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523520" y="1295280"/>
            <a:ext cx="64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1447920" y="2209680"/>
            <a:ext cx="152280" cy="381240"/>
            <a:chOff x="1447920" y="2209680"/>
            <a:chExt cx="152280" cy="381240"/>
          </a:xfrm>
        </p:grpSpPr>
        <p:sp>
          <p:nvSpPr>
            <p:cNvPr id="114" name="Line 18"/>
            <p:cNvSpPr/>
            <p:nvPr/>
          </p:nvSpPr>
          <p:spPr>
            <a:xfrm>
              <a:off x="1447920" y="22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144792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1752480" y="2895480"/>
            <a:ext cx="152640" cy="457200"/>
            <a:chOff x="1752480" y="2895480"/>
            <a:chExt cx="152640" cy="457200"/>
          </a:xfrm>
        </p:grpSpPr>
        <p:sp>
          <p:nvSpPr>
            <p:cNvPr id="117" name="Line 21"/>
            <p:cNvSpPr/>
            <p:nvPr/>
          </p:nvSpPr>
          <p:spPr>
            <a:xfrm>
              <a:off x="17524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17524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2057400" y="3657600"/>
            <a:ext cx="152280" cy="457200"/>
            <a:chOff x="2057400" y="3657600"/>
            <a:chExt cx="152280" cy="457200"/>
          </a:xfrm>
        </p:grpSpPr>
        <p:sp>
          <p:nvSpPr>
            <p:cNvPr id="120" name="Line 24"/>
            <p:cNvSpPr/>
            <p:nvPr/>
          </p:nvSpPr>
          <p:spPr>
            <a:xfrm>
              <a:off x="20574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20574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1371600" y="1676520"/>
            <a:ext cx="1066680" cy="52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on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289512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8"/>
          <p:cNvGrpSpPr/>
          <p:nvPr/>
        </p:nvGrpSpPr>
        <p:grpSpPr>
          <a:xfrm>
            <a:off x="3200400" y="2895480"/>
            <a:ext cx="152280" cy="457200"/>
            <a:chOff x="3200400" y="2895480"/>
            <a:chExt cx="152280" cy="457200"/>
          </a:xfrm>
        </p:grpSpPr>
        <p:sp>
          <p:nvSpPr>
            <p:cNvPr id="125" name="Line 29"/>
            <p:cNvSpPr/>
            <p:nvPr/>
          </p:nvSpPr>
          <p:spPr>
            <a:xfrm>
              <a:off x="32004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2004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1"/>
          <p:cNvSpPr/>
          <p:nvPr/>
        </p:nvSpPr>
        <p:spPr>
          <a:xfrm>
            <a:off x="914400" y="38862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ttle Cr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0120" y="594360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7620120" y="5943600"/>
            <a:ext cx="1295280" cy="2286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20120" y="6172200"/>
            <a:ext cx="1295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620120" y="6400800"/>
            <a:ext cx="1295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8077320" y="5638680"/>
            <a:ext cx="85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1066680" y="4419720"/>
            <a:ext cx="152640" cy="457200"/>
            <a:chOff x="1066680" y="4419720"/>
            <a:chExt cx="152640" cy="457200"/>
          </a:xfrm>
        </p:grpSpPr>
        <p:sp>
          <p:nvSpPr>
            <p:cNvPr id="134" name="Line 38"/>
            <p:cNvSpPr/>
            <p:nvPr/>
          </p:nvSpPr>
          <p:spPr>
            <a:xfrm>
              <a:off x="10666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1066680" y="487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40"/>
          <p:cNvSpPr/>
          <p:nvPr/>
        </p:nvSpPr>
        <p:spPr>
          <a:xfrm>
            <a:off x="3352680" y="3124080"/>
            <a:ext cx="99072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1219320" y="4648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o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0" y="1676520"/>
            <a:ext cx="9907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rt Hu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.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3"/>
          <p:cNvSpPr/>
          <p:nvPr/>
        </p:nvSpPr>
        <p:spPr>
          <a:xfrm>
            <a:off x="4724280" y="3124080"/>
            <a:ext cx="9907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4"/>
          <p:cNvSpPr/>
          <p:nvPr/>
        </p:nvSpPr>
        <p:spPr>
          <a:xfrm>
            <a:off x="1905120" y="312408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bu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5"/>
          <p:cNvSpPr/>
          <p:nvPr/>
        </p:nvSpPr>
        <p:spPr>
          <a:xfrm>
            <a:off x="2209680" y="388620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114800" y="1295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7"/>
          <p:cNvSpPr/>
          <p:nvPr/>
        </p:nvSpPr>
        <p:spPr>
          <a:xfrm>
            <a:off x="54856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8"/>
          <p:cNvGrpSpPr/>
          <p:nvPr/>
        </p:nvGrpSpPr>
        <p:grpSpPr>
          <a:xfrm>
            <a:off x="6324480" y="3657600"/>
            <a:ext cx="152640" cy="457200"/>
            <a:chOff x="6324480" y="3657600"/>
            <a:chExt cx="152640" cy="457200"/>
          </a:xfrm>
        </p:grpSpPr>
        <p:sp>
          <p:nvSpPr>
            <p:cNvPr id="145" name="Line 49"/>
            <p:cNvSpPr/>
            <p:nvPr/>
          </p:nvSpPr>
          <p:spPr>
            <a:xfrm>
              <a:off x="63244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6324480" y="4114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51"/>
          <p:cNvSpPr/>
          <p:nvPr/>
        </p:nvSpPr>
        <p:spPr>
          <a:xfrm>
            <a:off x="6781680" y="46483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8572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3"/>
          <p:cNvSpPr/>
          <p:nvPr/>
        </p:nvSpPr>
        <p:spPr>
          <a:xfrm>
            <a:off x="7086600" y="53341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 Ar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4"/>
          <p:cNvSpPr/>
          <p:nvPr/>
        </p:nvSpPr>
        <p:spPr>
          <a:xfrm>
            <a:off x="7010280" y="16765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um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B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 Fal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5"/>
          <p:cNvGrpSpPr/>
          <p:nvPr/>
        </p:nvGrpSpPr>
        <p:grpSpPr>
          <a:xfrm>
            <a:off x="2895480" y="2209680"/>
            <a:ext cx="152640" cy="457200"/>
            <a:chOff x="2895480" y="2209680"/>
            <a:chExt cx="152640" cy="457200"/>
          </a:xfrm>
        </p:grpSpPr>
        <p:sp>
          <p:nvSpPr>
            <p:cNvPr id="152" name="Line 56"/>
            <p:cNvSpPr/>
            <p:nvPr/>
          </p:nvSpPr>
          <p:spPr>
            <a:xfrm>
              <a:off x="28954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28954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58"/>
          <p:cNvSpPr/>
          <p:nvPr/>
        </p:nvSpPr>
        <p:spPr>
          <a:xfrm>
            <a:off x="2743200" y="16765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59"/>
          <p:cNvGrpSpPr/>
          <p:nvPr/>
        </p:nvGrpSpPr>
        <p:grpSpPr>
          <a:xfrm>
            <a:off x="6934320" y="5181480"/>
            <a:ext cx="152280" cy="457200"/>
            <a:chOff x="6934320" y="5181480"/>
            <a:chExt cx="152280" cy="457200"/>
          </a:xfrm>
        </p:grpSpPr>
        <p:sp>
          <p:nvSpPr>
            <p:cNvPr id="156" name="Line 60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693432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2"/>
          <p:cNvGrpSpPr/>
          <p:nvPr/>
        </p:nvGrpSpPr>
        <p:grpSpPr>
          <a:xfrm>
            <a:off x="2362320" y="4419720"/>
            <a:ext cx="152280" cy="457200"/>
            <a:chOff x="2362320" y="4419720"/>
            <a:chExt cx="152280" cy="457200"/>
          </a:xfrm>
        </p:grpSpPr>
        <p:sp>
          <p:nvSpPr>
            <p:cNvPr id="159" name="Line 63"/>
            <p:cNvSpPr/>
            <p:nvPr/>
          </p:nvSpPr>
          <p:spPr>
            <a:xfrm>
              <a:off x="23623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23623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65"/>
          <p:cNvGrpSpPr/>
          <p:nvPr/>
        </p:nvGrpSpPr>
        <p:grpSpPr>
          <a:xfrm>
            <a:off x="5105520" y="4419720"/>
            <a:ext cx="152280" cy="457200"/>
            <a:chOff x="5105520" y="4419720"/>
            <a:chExt cx="152280" cy="457200"/>
          </a:xfrm>
        </p:grpSpPr>
        <p:sp>
          <p:nvSpPr>
            <p:cNvPr id="162" name="Line 66"/>
            <p:cNvSpPr/>
            <p:nvPr/>
          </p:nvSpPr>
          <p:spPr>
            <a:xfrm>
              <a:off x="51055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51055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8"/>
          <p:cNvSpPr/>
          <p:nvPr/>
        </p:nvSpPr>
        <p:spPr>
          <a:xfrm>
            <a:off x="64771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9"/>
          <p:cNvSpPr/>
          <p:nvPr/>
        </p:nvSpPr>
        <p:spPr>
          <a:xfrm>
            <a:off x="525780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th B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0"/>
          <p:cNvSpPr/>
          <p:nvPr/>
        </p:nvSpPr>
        <p:spPr>
          <a:xfrm>
            <a:off x="5867280" y="2362320"/>
            <a:ext cx="9907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ver Sp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1"/>
          <p:cNvSpPr/>
          <p:nvPr/>
        </p:nvSpPr>
        <p:spPr>
          <a:xfrm>
            <a:off x="304812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 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2"/>
          <p:cNvSpPr/>
          <p:nvPr/>
        </p:nvSpPr>
        <p:spPr>
          <a:xfrm>
            <a:off x="2895480" y="5410080"/>
            <a:ext cx="1067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S &amp; CH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73"/>
          <p:cNvGrpSpPr/>
          <p:nvPr/>
        </p:nvGrpSpPr>
        <p:grpSpPr>
          <a:xfrm>
            <a:off x="2743200" y="5181480"/>
            <a:ext cx="152280" cy="457200"/>
            <a:chOff x="2743200" y="5181480"/>
            <a:chExt cx="152280" cy="457200"/>
          </a:xfrm>
        </p:grpSpPr>
        <p:sp>
          <p:nvSpPr>
            <p:cNvPr id="170" name="Line 74"/>
            <p:cNvSpPr/>
            <p:nvPr/>
          </p:nvSpPr>
          <p:spPr>
            <a:xfrm>
              <a:off x="274320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27432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76"/>
          <p:cNvSpPr/>
          <p:nvPr/>
        </p:nvSpPr>
        <p:spPr>
          <a:xfrm>
            <a:off x="2514600" y="4648320"/>
            <a:ext cx="12193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7"/>
          <p:cNvSpPr/>
          <p:nvPr/>
        </p:nvSpPr>
        <p:spPr>
          <a:xfrm>
            <a:off x="4114800" y="1676520"/>
            <a:ext cx="1066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8"/>
          <p:cNvGrpSpPr/>
          <p:nvPr/>
        </p:nvGrpSpPr>
        <p:grpSpPr>
          <a:xfrm>
            <a:off x="3657600" y="3657600"/>
            <a:ext cx="152280" cy="380880"/>
            <a:chOff x="3657600" y="3657600"/>
            <a:chExt cx="152280" cy="380880"/>
          </a:xfrm>
        </p:grpSpPr>
        <p:sp>
          <p:nvSpPr>
            <p:cNvPr id="175" name="Line 79"/>
            <p:cNvSpPr/>
            <p:nvPr/>
          </p:nvSpPr>
          <p:spPr>
            <a:xfrm>
              <a:off x="365760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365760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81"/>
          <p:cNvSpPr/>
          <p:nvPr/>
        </p:nvSpPr>
        <p:spPr>
          <a:xfrm>
            <a:off x="5486400" y="1676520"/>
            <a:ext cx="106668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82"/>
          <p:cNvGrpSpPr/>
          <p:nvPr/>
        </p:nvGrpSpPr>
        <p:grpSpPr>
          <a:xfrm>
            <a:off x="5715000" y="2209680"/>
            <a:ext cx="152280" cy="457200"/>
            <a:chOff x="5715000" y="2209680"/>
            <a:chExt cx="152280" cy="457200"/>
          </a:xfrm>
        </p:grpSpPr>
        <p:sp>
          <p:nvSpPr>
            <p:cNvPr id="179" name="Line 83"/>
            <p:cNvSpPr/>
            <p:nvPr/>
          </p:nvSpPr>
          <p:spPr>
            <a:xfrm>
              <a:off x="57150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57150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5"/>
          <p:cNvGrpSpPr/>
          <p:nvPr/>
        </p:nvGrpSpPr>
        <p:grpSpPr>
          <a:xfrm>
            <a:off x="3505320" y="3657600"/>
            <a:ext cx="380160" cy="914040"/>
            <a:chOff x="3505320" y="3657600"/>
            <a:chExt cx="380160" cy="914040"/>
          </a:xfrm>
        </p:grpSpPr>
        <p:sp>
          <p:nvSpPr>
            <p:cNvPr id="182" name="Line 86"/>
            <p:cNvSpPr/>
            <p:nvPr/>
          </p:nvSpPr>
          <p:spPr>
            <a:xfrm>
              <a:off x="3505320" y="3657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3505320" y="4571640"/>
              <a:ext cx="3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8"/>
          <p:cNvGrpSpPr/>
          <p:nvPr/>
        </p:nvGrpSpPr>
        <p:grpSpPr>
          <a:xfrm>
            <a:off x="4572000" y="2895480"/>
            <a:ext cx="152280" cy="457200"/>
            <a:chOff x="4572000" y="2895480"/>
            <a:chExt cx="152280" cy="457200"/>
          </a:xfrm>
        </p:grpSpPr>
        <p:sp>
          <p:nvSpPr>
            <p:cNvPr id="185" name="Line 89"/>
            <p:cNvSpPr/>
            <p:nvPr/>
          </p:nvSpPr>
          <p:spPr>
            <a:xfrm>
              <a:off x="45720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572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91"/>
          <p:cNvGrpSpPr/>
          <p:nvPr/>
        </p:nvGrpSpPr>
        <p:grpSpPr>
          <a:xfrm>
            <a:off x="4267080" y="2286000"/>
            <a:ext cx="152640" cy="380880"/>
            <a:chOff x="4267080" y="2286000"/>
            <a:chExt cx="152640" cy="380880"/>
          </a:xfrm>
        </p:grpSpPr>
        <p:sp>
          <p:nvSpPr>
            <p:cNvPr id="188" name="Line 92"/>
            <p:cNvSpPr/>
            <p:nvPr/>
          </p:nvSpPr>
          <p:spPr>
            <a:xfrm>
              <a:off x="426708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2670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94"/>
          <p:cNvSpPr/>
          <p:nvPr/>
        </p:nvSpPr>
        <p:spPr>
          <a:xfrm>
            <a:off x="6172200" y="31240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95"/>
          <p:cNvGrpSpPr/>
          <p:nvPr/>
        </p:nvGrpSpPr>
        <p:grpSpPr>
          <a:xfrm>
            <a:off x="6629400" y="4419720"/>
            <a:ext cx="152280" cy="532800"/>
            <a:chOff x="6629400" y="4419720"/>
            <a:chExt cx="152280" cy="532800"/>
          </a:xfrm>
        </p:grpSpPr>
        <p:sp>
          <p:nvSpPr>
            <p:cNvPr id="192" name="Line 96"/>
            <p:cNvSpPr/>
            <p:nvPr/>
          </p:nvSpPr>
          <p:spPr>
            <a:xfrm>
              <a:off x="6629400" y="441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6629400" y="495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98"/>
          <p:cNvGrpSpPr/>
          <p:nvPr/>
        </p:nvGrpSpPr>
        <p:grpSpPr>
          <a:xfrm>
            <a:off x="6019920" y="2895480"/>
            <a:ext cx="152280" cy="457200"/>
            <a:chOff x="6019920" y="2895480"/>
            <a:chExt cx="152280" cy="457200"/>
          </a:xfrm>
        </p:grpSpPr>
        <p:sp>
          <p:nvSpPr>
            <p:cNvPr id="195" name="Line 99"/>
            <p:cNvSpPr/>
            <p:nvPr/>
          </p:nvSpPr>
          <p:spPr>
            <a:xfrm>
              <a:off x="601992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60199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1"/>
          <p:cNvSpPr/>
          <p:nvPr/>
        </p:nvSpPr>
        <p:spPr>
          <a:xfrm>
            <a:off x="4419720" y="2362320"/>
            <a:ext cx="106668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2"/>
          <p:cNvSpPr/>
          <p:nvPr/>
        </p:nvSpPr>
        <p:spPr>
          <a:xfrm>
            <a:off x="3886200" y="43434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 To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3"/>
          <p:cNvSpPr/>
          <p:nvPr/>
        </p:nvSpPr>
        <p:spPr>
          <a:xfrm>
            <a:off x="3581280" y="3733920"/>
            <a:ext cx="106704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S/C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 Pilot-Oa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4"/>
          <p:cNvSpPr/>
          <p:nvPr/>
        </p:nvSpPr>
        <p:spPr>
          <a:xfrm>
            <a:off x="5029200" y="3809880"/>
            <a:ext cx="106668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05"/>
          <p:cNvGrpSpPr/>
          <p:nvPr/>
        </p:nvGrpSpPr>
        <p:grpSpPr>
          <a:xfrm>
            <a:off x="4876920" y="3657600"/>
            <a:ext cx="152280" cy="457200"/>
            <a:chOff x="4876920" y="3657600"/>
            <a:chExt cx="152280" cy="457200"/>
          </a:xfrm>
        </p:grpSpPr>
        <p:sp>
          <p:nvSpPr>
            <p:cNvPr id="202" name="Line 106"/>
            <p:cNvSpPr/>
            <p:nvPr/>
          </p:nvSpPr>
          <p:spPr>
            <a:xfrm>
              <a:off x="48769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48769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108" descr="T:\Genesis\Identity\Genesis Logo.transparent bkgrnd.png"/>
          <p:cNvPicPr/>
          <p:nvPr/>
        </p:nvPicPr>
        <p:blipFill>
          <a:blip r:embed="rId1"/>
          <a:stretch/>
        </p:blipFill>
        <p:spPr>
          <a:xfrm>
            <a:off x="457200" y="5562720"/>
            <a:ext cx="2209680" cy="8474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9"/>
          <p:cNvSpPr/>
          <p:nvPr/>
        </p:nvSpPr>
        <p:spPr>
          <a:xfrm>
            <a:off x="5562720" y="51814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Y08 Gen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 M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10"/>
          <p:cNvGrpSpPr/>
          <p:nvPr/>
        </p:nvGrpSpPr>
        <p:grpSpPr>
          <a:xfrm>
            <a:off x="5410080" y="5105520"/>
            <a:ext cx="152640" cy="457200"/>
            <a:chOff x="5410080" y="5105520"/>
            <a:chExt cx="152640" cy="457200"/>
          </a:xfrm>
        </p:grpSpPr>
        <p:sp>
          <p:nvSpPr>
            <p:cNvPr id="207" name="Line 111"/>
            <p:cNvSpPr/>
            <p:nvPr/>
          </p:nvSpPr>
          <p:spPr>
            <a:xfrm>
              <a:off x="541008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5410080" y="5562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3"/>
          <p:cNvSpPr/>
          <p:nvPr/>
        </p:nvSpPr>
        <p:spPr>
          <a:xfrm>
            <a:off x="3048120" y="6019920"/>
            <a:ext cx="3886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enesis Related Dependent Pilot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et-Macomb Oct 2007 required for Silver Sp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erprise Sched Battle Creek Mar 2008 required for South B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re Planning Dubuque required for Silver Sp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rginet Battle Creek Mar 2008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is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ministry organizations live on in-patient system as of 7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mbulatory clinics live on PowerChar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# of physicians placing orders per day (actually doing it themselves) is &gt;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s processed per day &gt; 30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chart openings per day &gt; 16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HQ-Cerner ADT transactions per day &gt; 5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g. concurrent users per day during peak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08:00-16:59) &gt; 1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ak concurrent users &gt; 1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taneous synchronization to 2 data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: 1 Part Technology +    2 Parts Culture &amp; Work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0" y="1143000"/>
          <a:ext cx="9178920" cy="45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7892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6324480" y="38098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 Applications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NICAL  APPLICATION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ner/Millen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Chart - Orders an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Net -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Net: Emergenc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et: Radiolog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iNet: Operating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t: 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- HIM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Note 2G Physician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werChart Off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Electronic Medical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tient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Medication (Medication reconcil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s and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7240">
              <a:spcAft>
                <a:spcPts val="3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mily history, social history, inacti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s &amp;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8720" indent="-237240">
              <a:spcAft>
                <a:spcPts val="363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harge summaries, care plans, visit notes, consul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 Office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, Patient registration, patient schedu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ca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/Claims submission, claims management, patient billing &amp; accounts receivable, collec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/R Reports. Ad Hoc reporting &amp; queries, productivity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Advanced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 Care support, Web-based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4:34:14Z</dcterms:created>
  <dc:creator>Trinity User</dc:creator>
  <dc:description/>
  <dc:language>en-US</dc:language>
  <cp:lastModifiedBy>User</cp:lastModifiedBy>
  <dcterms:modified xsi:type="dcterms:W3CDTF">2007-09-26T12:22:13Z</dcterms:modified>
  <cp:revision>73</cp:revision>
  <dc:subject/>
  <dc:title>Care Transformation</dc:title>
</cp:coreProperties>
</file>