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6.gif" ContentType="image/gif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7C827B-1D7A-4913-9F01-3256CE681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AB95-38E4-4F1D-9A10-38D4339F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638-1F98-4C92-845C-8E27B11D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05D-1716-43FF-A0DA-5148CF9D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998-83D7-4403-85AD-C02E4BA6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470-E7EE-4E47-9CAB-25B164AE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226-EA74-4BC0-B420-6171060B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511-6845-48CC-87A5-30470AAC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BE0-9BC1-4404-BD2A-7513B974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773-E92B-4A07-8377-7208A8FC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FF55-2172-4EAD-9AC3-1C104CF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964-52DF-463D-8F9E-C46294B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75E-E8A4-441D-A0A0-DF1469AE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50B604-548B-40AB-A7A0-094A704CA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dc@case.edu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hyperlink" Target="http://www.chrp.org/" TargetMode="External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5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ing EMRs for PM, PI, PR, and P4P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portunities and Lessons We’r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all D. Cebul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Health Care Research and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e Western Reserve University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oHealth Medical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rdc@case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by grant R01-HS015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97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772400" y="5719680"/>
          <a:ext cx="1371600" cy="11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2400" y="5719680"/>
                    <a:ext cx="137160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6320" y="5929200"/>
            <a:ext cx="3047760" cy="92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97280" y="6477120"/>
            <a:ext cx="1575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chrp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R-Based Patient Assig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62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s: ICD-9 codes or antidiabetic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P Links/Attrib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eligible patient visits with P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itialization of 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CP can re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y patient” or “Not Diabet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s adjudica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&lt;.1%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eekly Upd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within or across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19008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M/PI/PR - Clinical Decision Support  (“D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00200" y="1951200"/>
            <a:ext cx="739152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rts and Linked Order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and Physicia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Lists/Registry, Current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panel performanc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60020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35812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41040" y="377820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Pa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44280"/>
            <a:ext cx="914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M/PI - encounter-based Alerts: 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to Minimize F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343240"/>
            <a:ext cx="80010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we know about this pat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has diabetes and is visiting her P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 kidneys are leaking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is not on an ACE inhibitor or ARB                  and has no documented allergies to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has no other contraindications (K, Cr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several alternative drugs/d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43000" y="236232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{Links to Automated Order Se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25010" t="41276" r="2481" b="44401"/>
          <a:stretch/>
        </p:blipFill>
        <p:spPr>
          <a:xfrm>
            <a:off x="762120" y="1353960"/>
            <a:ext cx="731520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0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2000" y="33120"/>
            <a:ext cx="8524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 - SmartSe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ked to ACE/ARB Al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45360" y="5400720"/>
            <a:ext cx="236520" cy="241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30506"/>
          <a:stretch/>
        </p:blipFill>
        <p:spPr>
          <a:xfrm>
            <a:off x="228600" y="1644480"/>
            <a:ext cx="8686800" cy="4527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 flipV="1">
            <a:off x="4712760" y="4103640"/>
            <a:ext cx="319320" cy="565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45160" y="4181400"/>
            <a:ext cx="236520" cy="160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492280"/>
            <a:ext cx="1657080" cy="246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atient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4960" y="1674720"/>
            <a:ext cx="711360" cy="122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Patient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862080" y="3800520"/>
            <a:ext cx="3289680" cy="368280"/>
            <a:chOff x="3862080" y="3800520"/>
            <a:chExt cx="3289680" cy="368280"/>
          </a:xfrm>
        </p:grpSpPr>
        <p:sp>
          <p:nvSpPr>
            <p:cNvPr id="212" name=""/>
            <p:cNvSpPr/>
            <p:nvPr/>
          </p:nvSpPr>
          <p:spPr>
            <a:xfrm flipH="1" flipV="1">
              <a:off x="3862080" y="3951000"/>
              <a:ext cx="8715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57680" y="3800520"/>
              <a:ext cx="249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-cap of indic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38760" y="4638600"/>
            <a:ext cx="3227040" cy="368280"/>
            <a:chOff x="3938760" y="4638600"/>
            <a:chExt cx="3227040" cy="368280"/>
          </a:xfrm>
        </p:grpSpPr>
        <p:sp>
          <p:nvSpPr>
            <p:cNvPr id="215" name=""/>
            <p:cNvSpPr/>
            <p:nvPr/>
          </p:nvSpPr>
          <p:spPr>
            <a:xfrm flipH="1" flipV="1">
              <a:off x="3938760" y="4789080"/>
              <a:ext cx="87120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37240" y="4638600"/>
              <a:ext cx="242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hoice of Rxs/do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960360" y="5729400"/>
            <a:ext cx="2924640" cy="368280"/>
            <a:chOff x="3960360" y="5729400"/>
            <a:chExt cx="2924640" cy="368280"/>
          </a:xfrm>
        </p:grpSpPr>
        <p:sp>
          <p:nvSpPr>
            <p:cNvPr id="218" name=""/>
            <p:cNvSpPr/>
            <p:nvPr/>
          </p:nvSpPr>
          <p:spPr>
            <a:xfrm flipH="1" flipV="1">
              <a:off x="3960360" y="5940000"/>
              <a:ext cx="871560" cy="4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6720" y="5729400"/>
              <a:ext cx="20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Follow-up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85800" y="954000"/>
          <a:ext cx="777240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54000"/>
                    <a:ext cx="777240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660680" y="168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920" y="217440"/>
            <a:ext cx="85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/PR - Practice Panel: Comparativ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76520" y="2819520"/>
            <a:ext cx="91440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5120" y="4114800"/>
            <a:ext cx="1676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2133720"/>
            <a:ext cx="1905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018120" y="4202280"/>
            <a:ext cx="3069360" cy="703800"/>
            <a:chOff x="6018120" y="4202280"/>
            <a:chExt cx="3069360" cy="703800"/>
          </a:xfrm>
        </p:grpSpPr>
        <p:sp>
          <p:nvSpPr>
            <p:cNvPr id="228" name=""/>
            <p:cNvSpPr/>
            <p:nvPr/>
          </p:nvSpPr>
          <p:spPr>
            <a:xfrm flipH="1">
              <a:off x="6018120" y="4343400"/>
              <a:ext cx="10699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68600" y="4202280"/>
              <a:ext cx="201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My panel” vs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mpa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0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M/PI: Registry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lated decision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549108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5567400"/>
            <a:ext cx="380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2960" y="1371600"/>
          <a:ext cx="76215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1371600"/>
                    <a:ext cx="76215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705720" y="5872320"/>
            <a:ext cx="14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2448000"/>
            <a:ext cx="160020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hysicia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5343480"/>
            <a:ext cx="28954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Patient name, hosp number and phone 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170160" y="2093760"/>
            <a:ext cx="4677120" cy="725760"/>
            <a:chOff x="3170160" y="2093760"/>
            <a:chExt cx="4677120" cy="725760"/>
          </a:xfrm>
        </p:grpSpPr>
        <p:sp>
          <p:nvSpPr>
            <p:cNvPr id="239" name=""/>
            <p:cNvSpPr/>
            <p:nvPr/>
          </p:nvSpPr>
          <p:spPr>
            <a:xfrm flipH="1">
              <a:off x="3170160" y="2286000"/>
              <a:ext cx="24415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94040" y="2093760"/>
              <a:ext cx="225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lick on tab to s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981080" y="5410080"/>
            <a:ext cx="6273720" cy="685800"/>
            <a:chOff x="1981080" y="5410080"/>
            <a:chExt cx="6273720" cy="685800"/>
          </a:xfrm>
        </p:grpSpPr>
        <p:sp>
          <p:nvSpPr>
            <p:cNvPr id="242" name=""/>
            <p:cNvSpPr/>
            <p:nvPr/>
          </p:nvSpPr>
          <p:spPr>
            <a:xfrm>
              <a:off x="1981080" y="5410080"/>
              <a:ext cx="1219320" cy="68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3198960" y="5791320"/>
              <a:ext cx="13744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27720" y="5562720"/>
              <a:ext cx="372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ownloadable educational mat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105520" y="624852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417920" y="5904000"/>
            <a:ext cx="3332160" cy="368280"/>
            <a:chOff x="4417920" y="5904000"/>
            <a:chExt cx="3332160" cy="368280"/>
          </a:xfrm>
        </p:grpSpPr>
        <p:sp>
          <p:nvSpPr>
            <p:cNvPr id="247" name=""/>
            <p:cNvSpPr/>
            <p:nvPr/>
          </p:nvSpPr>
          <p:spPr>
            <a:xfrm flipH="1">
              <a:off x="4417920" y="6095880"/>
              <a:ext cx="68904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13360" y="590400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rends, linked to m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838080" y="2590920"/>
            <a:ext cx="12193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lustrative PM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ADA Scores” Measured Every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611360"/>
            <a:ext cx="754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nical Outcome: Change in 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e/ARB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nvx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ye Exam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&lt;100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C&lt;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I&lt;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m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BP&lt;13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-8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4480" y="213372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30840" y="2517840"/>
            <a:ext cx="19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-Centri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s in Scores, Exptl Pts (n=5288)</a:t>
            </a:r>
            <a:br>
              <a:rPr sz="32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me Measures are Easier To Change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3520" y="1743120"/>
            <a:ext cx="8153280" cy="4886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948920" y="4202280"/>
            <a:ext cx="34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% of All ADA Measure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47840" y="3413160"/>
            <a:ext cx="41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% of 4 MD-Centric Measures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Rs can Measure Performance in All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362320" y="2484000"/>
            <a:ext cx="49528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al Data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6765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/PR/P4P: Poor Glucose Contro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ace/ethnicity in O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38955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glucose control is strongly associated with diabetic com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yes, kidneys, amputations, admis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4P programs reward practices with lower than 20% “poor valu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than half of our diabetic patients are Black or Hisp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50840" y="342900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1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35880" y="25430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21.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713720" y="23335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Md BT"/>
              </a:rPr>
              <a:t>23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083120" y="1027080"/>
            <a:ext cx="4927680" cy="5773680"/>
            <a:chOff x="4083120" y="1027080"/>
            <a:chExt cx="4927680" cy="577368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rcRect l="0" t="0" r="-13248" b="0"/>
            <a:stretch/>
          </p:blipFill>
          <p:spPr>
            <a:xfrm>
              <a:off x="4083120" y="1027080"/>
              <a:ext cx="492768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555520" y="32716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5.7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60360" y="224316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1.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94000" y="199548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3.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876920" y="2590920"/>
            <a:ext cx="42670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e Thought We 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s-based performance measurement (PM) is inadequate, lac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atient assignment for performance reporting (PR) and P4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s for clinical decision support and performance improvement (P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ness and efficiency (sampling patients’ char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ularity of measurement – f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measure uninsur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Rs can solve all of these proble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193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or Glucose Control by In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2280" y="1400040"/>
            <a:ext cx="357192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base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of our Medicaid pts were in poor contr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most 30% of our uninsured pts were in poor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40% of our patients are uninsured or covered by Medic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11120" y="26971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.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96880" y="32878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82640" y="4449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38520" y="21906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9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505320" y="1514520"/>
          <a:ext cx="554040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514520"/>
                    <a:ext cx="554040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4908600" y="459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6840" y="3402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66000" y="27734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13600" y="222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9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3429000"/>
            <a:ext cx="48769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MRs for PM, PR, PI, P4P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Summary Thou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EMR-centered data, we c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link patients satisfacto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atients pretty well for whom measures are appropriate (eg, no c/I to ACE/ARB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performance at a granular level (eg, BMI, A1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performance on all eligible patients, regardless of race or insuranc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and provide meaningful feedback in a timely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improvement in process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easures are harder to improve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4P systems should consider stratifying by insurance, at le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17640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Questions About PM/PR/P4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Our Data Comple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Biases in Our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,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Under-ascertainment (of good performance as well as undesirable outcome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ent full regional HIE, are EMR-based system-level data Fair for P4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ithin system PI and P4P, prob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ross-system comparisons, it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042560" y="152280"/>
            <a:ext cx="713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PM with EMRs al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size, financing, func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3276720"/>
            <a:ext cx="2819520" cy="2971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688680" cy="914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447920" y="5695920"/>
            <a:ext cx="914400" cy="7812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406440" cy="914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1219320" y="4178160"/>
            <a:ext cx="1342800" cy="1308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 flipV="1">
            <a:off x="2438280" y="4017600"/>
            <a:ext cx="228600" cy="30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1369800" y="3884400"/>
            <a:ext cx="231480" cy="38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981080" y="5408280"/>
            <a:ext cx="1800" cy="384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9000" y="1539720"/>
            <a:ext cx="292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MO” or Very 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 missing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911760" y="3257640"/>
            <a:ext cx="1984320" cy="3066840"/>
            <a:chOff x="3911760" y="3257640"/>
            <a:chExt cx="1984320" cy="3066840"/>
          </a:xfrm>
        </p:grpSpPr>
        <p:sp>
          <p:nvSpPr>
            <p:cNvPr id="303" name=""/>
            <p:cNvSpPr/>
            <p:nvPr/>
          </p:nvSpPr>
          <p:spPr>
            <a:xfrm>
              <a:off x="3914640" y="4248000"/>
              <a:ext cx="1676520" cy="1752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5"/>
            <a:stretch/>
          </p:blipFill>
          <p:spPr>
            <a:xfrm>
              <a:off x="3911760" y="4172040"/>
              <a:ext cx="6886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6"/>
            <a:stretch/>
          </p:blipFill>
          <p:spPr>
            <a:xfrm>
              <a:off x="4371840" y="5543640"/>
              <a:ext cx="9144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7"/>
            <a:stretch/>
          </p:blipFill>
          <p:spPr>
            <a:xfrm>
              <a:off x="5489640" y="3257640"/>
              <a:ext cx="4064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" descr=""/>
            <p:cNvPicPr/>
            <p:nvPr/>
          </p:nvPicPr>
          <p:blipFill>
            <a:blip r:embed="rId8"/>
            <a:stretch/>
          </p:blipFill>
          <p:spPr>
            <a:xfrm>
              <a:off x="4448160" y="4781520"/>
              <a:ext cx="7621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 flipV="1">
              <a:off x="5362560" y="4170240"/>
              <a:ext cx="228600" cy="3081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288960" y="1752480"/>
            <a:ext cx="292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g System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Rx Fn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ssing Filled Rx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t of system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32680" y="21448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37160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397560" y="3200400"/>
            <a:ext cx="2162160" cy="3581280"/>
            <a:chOff x="6397560" y="3200400"/>
            <a:chExt cx="2162160" cy="3581280"/>
          </a:xfrm>
        </p:grpSpPr>
        <p:sp>
          <p:nvSpPr>
            <p:cNvPr id="313" name=""/>
            <p:cNvSpPr/>
            <p:nvPr/>
          </p:nvSpPr>
          <p:spPr>
            <a:xfrm>
              <a:off x="7010280" y="441972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9"/>
            <a:stretch/>
          </p:blipFill>
          <p:spPr>
            <a:xfrm>
              <a:off x="6397560" y="3352680"/>
              <a:ext cx="6890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10"/>
            <a:stretch/>
          </p:blipFill>
          <p:spPr>
            <a:xfrm>
              <a:off x="7010280" y="6000840"/>
              <a:ext cx="9144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1"/>
            <a:stretch/>
          </p:blipFill>
          <p:spPr>
            <a:xfrm>
              <a:off x="8153280" y="3200400"/>
              <a:ext cx="4064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2"/>
            <a:stretch/>
          </p:blipFill>
          <p:spPr>
            <a:xfrm>
              <a:off x="7238880" y="4665600"/>
              <a:ext cx="685800" cy="6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flipH="1" flipV="1">
              <a:off x="6779880" y="4037040"/>
              <a:ext cx="384120" cy="536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924680" y="4113360"/>
              <a:ext cx="381240" cy="460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543800" y="5560560"/>
              <a:ext cx="1440" cy="46044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284880" y="1600200"/>
            <a:ext cx="23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ssing a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MO vs. Large System with Itinerant Pati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’s missing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66680" y="1905120"/>
            <a:ext cx="6554880" cy="4136760"/>
            <a:chOff x="1066680" y="1905120"/>
            <a:chExt cx="6554880" cy="4136760"/>
          </a:xfrm>
        </p:grpSpPr>
        <p:sp>
          <p:nvSpPr>
            <p:cNvPr id="324" name=""/>
            <p:cNvSpPr/>
            <p:nvPr/>
          </p:nvSpPr>
          <p:spPr>
            <a:xfrm>
              <a:off x="6680160" y="564516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65600" y="564516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7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76680" y="564516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66680" y="564516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Eye Exam, Last Y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80160" y="5251320"/>
              <a:ext cx="939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4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65600" y="5251320"/>
              <a:ext cx="2014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9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76680" y="5251320"/>
              <a:ext cx="988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6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6680" y="5251320"/>
              <a:ext cx="2610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Smo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80160" y="485604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2.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65600" y="485604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6.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76680" y="485604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9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66680" y="485604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CE/ARB if alb’inur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80160" y="446076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4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65600" y="446076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6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6680" y="446076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66680" y="446076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neumovax, e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80160" y="4067280"/>
              <a:ext cx="939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9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067280"/>
              <a:ext cx="20145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6680" y="4067280"/>
              <a:ext cx="9889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8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6680" y="4067280"/>
              <a:ext cx="2610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DL &lt; 100 mg/d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80160" y="367200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65600" y="367200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76680" y="367200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6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66680" y="367200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olic BP &lt; 13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80160" y="327672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65600" y="327672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9.9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76680" y="327672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4.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66680" y="327672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1c &lt; 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80160" y="288144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,0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65600" y="288144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0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76680" y="288144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,84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66680" y="288144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 of Pati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0160" y="1905120"/>
              <a:ext cx="939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H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65600" y="1905120"/>
              <a:ext cx="20145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HS Comm’cial + Medi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76680" y="1905120"/>
              <a:ext cx="9889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6680" y="1905120"/>
              <a:ext cx="26100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ndar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66680" y="190512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6680" y="604044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6668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0120" y="1905120"/>
              <a:ext cx="144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6680" y="2881440"/>
              <a:ext cx="261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76680" y="1905120"/>
              <a:ext cx="144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76680" y="2881440"/>
              <a:ext cx="394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6560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68016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66680" y="327672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66680" y="367200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66680" y="406728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66680" y="446076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66680" y="485604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66680" y="525132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66680" y="564516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0" y="4676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160020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4680" y="6017760"/>
            <a:ext cx="3451320" cy="765720"/>
            <a:chOff x="994680" y="6017760"/>
            <a:chExt cx="3451320" cy="765720"/>
          </a:xfrm>
        </p:grpSpPr>
        <p:sp>
          <p:nvSpPr>
            <p:cNvPr id="379" name=""/>
            <p:cNvSpPr/>
            <p:nvPr/>
          </p:nvSpPr>
          <p:spPr>
            <a:xfrm>
              <a:off x="994680" y="6415200"/>
              <a:ext cx="34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l outside eye exams are bill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62520" y="6017760"/>
              <a:ext cx="75960" cy="38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MO vs. Large System without eRx Func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Who’s missing d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066680" y="1905120"/>
            <a:ext cx="6554880" cy="4136760"/>
            <a:chOff x="1066680" y="1905120"/>
            <a:chExt cx="6554880" cy="4136760"/>
          </a:xfrm>
        </p:grpSpPr>
        <p:sp>
          <p:nvSpPr>
            <p:cNvPr id="383" name=""/>
            <p:cNvSpPr/>
            <p:nvPr/>
          </p:nvSpPr>
          <p:spPr>
            <a:xfrm>
              <a:off x="6680160" y="564516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6.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65600" y="564516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37.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76680" y="564516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7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66680" y="564516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Eye Exam, Last Y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80160" y="5251320"/>
              <a:ext cx="939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4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65600" y="5251320"/>
              <a:ext cx="2014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9.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76680" y="5251320"/>
              <a:ext cx="988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6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6680" y="5251320"/>
              <a:ext cx="2610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n-Smok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80160" y="485604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2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65600" y="485604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96.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76680" y="485604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69.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66680" y="485604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ACE/ARB if alb’inu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680160" y="446076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4.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65600" y="446076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6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6680" y="446076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66680" y="446076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neumovax, ev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80160" y="4067280"/>
              <a:ext cx="939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9.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65600" y="4067280"/>
              <a:ext cx="20145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.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76680" y="4067280"/>
              <a:ext cx="9889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8.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66680" y="4067280"/>
              <a:ext cx="2610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DL &lt; 100 mg/d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80160" y="367200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.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65600" y="367200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.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6680" y="367200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6.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6680" y="367200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olic BP &lt; 13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0160" y="327672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6.1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65600" y="327672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9.9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76680" y="327672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4.2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66680" y="327672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1c &lt; 7%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80160" y="2881440"/>
              <a:ext cx="939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,0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65600" y="2881440"/>
              <a:ext cx="20145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00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76680" y="2881440"/>
              <a:ext cx="988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,84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66680" y="2881440"/>
              <a:ext cx="2610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# of Pati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80160" y="1905120"/>
              <a:ext cx="9399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H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65600" y="1905120"/>
              <a:ext cx="201456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HS Comm’cial + Medic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6680" y="1905120"/>
              <a:ext cx="98892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M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66680" y="1905120"/>
              <a:ext cx="26100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ndar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6680" y="190512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66680" y="604044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06668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20120" y="1905120"/>
              <a:ext cx="144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66680" y="2881440"/>
              <a:ext cx="2610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76680" y="1905120"/>
              <a:ext cx="144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76680" y="2881440"/>
              <a:ext cx="3943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6560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80160" y="1905120"/>
              <a:ext cx="1800" cy="413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680" y="327672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66680" y="367200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66680" y="406728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66680" y="446076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66680" y="485604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66680" y="5251320"/>
              <a:ext cx="6553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66680" y="5645160"/>
              <a:ext cx="6553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0" y="4676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60020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774880" y="5180040"/>
            <a:ext cx="1111320" cy="1360440"/>
            <a:chOff x="2774880" y="5180040"/>
            <a:chExt cx="1111320" cy="1360440"/>
          </a:xfrm>
        </p:grpSpPr>
        <p:sp>
          <p:nvSpPr>
            <p:cNvPr id="438" name=""/>
            <p:cNvSpPr/>
            <p:nvPr/>
          </p:nvSpPr>
          <p:spPr>
            <a:xfrm>
              <a:off x="2774880" y="617220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l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352680" y="5180040"/>
              <a:ext cx="533520" cy="993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865480" y="5179680"/>
            <a:ext cx="1806840" cy="1321200"/>
            <a:chOff x="5865480" y="5179680"/>
            <a:chExt cx="1806840" cy="1321200"/>
          </a:xfrm>
        </p:grpSpPr>
        <p:sp>
          <p:nvSpPr>
            <p:cNvPr id="441" name=""/>
            <p:cNvSpPr/>
            <p:nvPr/>
          </p:nvSpPr>
          <p:spPr>
            <a:xfrm>
              <a:off x="6311880" y="6132600"/>
              <a:ext cx="136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scri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5865480" y="5179680"/>
              <a:ext cx="841320" cy="91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are the needed performance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the System (benefit from claim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Exams, Labs, Pharmacies, ED Visits/ad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ystem, but relatively in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portions of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completed outside, no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exclusion for measure, but not in “check bo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nked computerized systems;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ho lab – H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Ts – C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Ts – asth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they don’t exis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ing Thoughts: Measurement Challenges Using EMRs for P4P (before HIE…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better capture exclusions: eg terminal patient, refusal, relative C/I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to better capture necessary ancillary data: e.g., echo’s, PFT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simpler means to identify [necessary measures] obtained out-of-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ed patients’ clai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Uninsured pati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1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 had friends who thought the same: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ws on Accuracy of Performance Measures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ealth Aff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7; 26: 492-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34915" b="13299"/>
          <a:stretch/>
        </p:blipFill>
        <p:spPr>
          <a:xfrm>
            <a:off x="1819440" y="1512720"/>
            <a:ext cx="5661000" cy="525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17520" y="3005280"/>
            <a:ext cx="63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36600" y="5364000"/>
            <a:ext cx="63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8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2666880"/>
            <a:ext cx="71629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886200"/>
            <a:ext cx="71629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5562720"/>
            <a:ext cx="71629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re is evidence Re: unstable and untimely assignment of patients using cl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50% of patients change “assignments” over a 2-year period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are patterns in Medicare and their implications for Pay for Performance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nglJ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356:1130-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611600" y="1752480"/>
            <a:ext cx="4157640" cy="4267440"/>
            <a:chOff x="4611600" y="1752480"/>
            <a:chExt cx="4157640" cy="42674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4611600" y="1752480"/>
              <a:ext cx="415764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611600" y="1752480"/>
              <a:ext cx="4157640" cy="426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1295280"/>
            <a:ext cx="2286000" cy="4191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Limitations of Claim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PM, PR, and 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/PR: Lack reliability of assignment of patient-physician links/related at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: Patient exclusions for specific measures/need for costly char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: Long intervals between audit &amp;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 claims  no performance measur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47,000,000 uninsured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4648320"/>
            <a:ext cx="15228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12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MRs can solve all of these problems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iabetes Improvement Group – Intervention Trial (DIG-IT*):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EMR-facilitat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ient assignment/PCP at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M: performance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: real-time clinical decision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: Nurse Cas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524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6960" y="6164280"/>
            <a:ext cx="452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Funded, in part, by grant R01-HS015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9374" t="14814" r="3599" b="10222"/>
          <a:stretch/>
        </p:blipFill>
        <p:spPr>
          <a:xfrm>
            <a:off x="46080" y="312840"/>
            <a:ext cx="9050400" cy="623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380880" y="685800"/>
            <a:ext cx="712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0" y="5530680"/>
            <a:ext cx="1550880" cy="1191240"/>
            <a:chOff x="7477200" y="5530680"/>
            <a:chExt cx="1550880" cy="1191240"/>
          </a:xfrm>
        </p:grpSpPr>
        <p:sp>
          <p:nvSpPr>
            <p:cNvPr id="84" name=""/>
            <p:cNvSpPr/>
            <p:nvPr/>
          </p:nvSpPr>
          <p:spPr>
            <a:xfrm>
              <a:off x="7504200" y="5545080"/>
              <a:ext cx="1441440" cy="11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77200" y="5530680"/>
              <a:ext cx="1550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hite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spa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672400" y="595800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672400" y="568800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74200" y="6505560"/>
              <a:ext cx="88920" cy="889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74200" y="6235560"/>
              <a:ext cx="88920" cy="889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511960" y="1625760"/>
            <a:ext cx="228600" cy="2156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9760" y="248904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292104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280656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95560" y="513072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2040" y="328932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16120" y="297180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98800" y="251460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57560" y="2749680"/>
            <a:ext cx="228600" cy="2156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43440" y="2882880"/>
            <a:ext cx="228600" cy="216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8088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fying/Locating Patients and Balancing Practic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8,000 Diabetics, by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100 PCPs, 10 Group Practic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o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dom Assignment of Balanced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95280"/>
            <a:ext cx="91440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43000" y="3505320"/>
            <a:ext cx="6781680" cy="914400"/>
            <a:chOff x="1143000" y="3505320"/>
            <a:chExt cx="6781680" cy="914400"/>
          </a:xfrm>
        </p:grpSpPr>
        <p:grpSp>
          <p:nvGrpSpPr>
            <p:cNvPr id="104" name=""/>
            <p:cNvGrpSpPr/>
            <p:nvPr/>
          </p:nvGrpSpPr>
          <p:grpSpPr>
            <a:xfrm>
              <a:off x="1143000" y="3505320"/>
              <a:ext cx="1752480" cy="914400"/>
              <a:chOff x="1143000" y="3505320"/>
              <a:chExt cx="1752480" cy="9144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143000" y="3505320"/>
                <a:ext cx="1371600" cy="914400"/>
                <a:chOff x="1143000" y="3505320"/>
                <a:chExt cx="1371600" cy="9144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143000" y="3505320"/>
                  <a:ext cx="1371600" cy="9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340280" y="3618000"/>
                  <a:ext cx="994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roup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2514600" y="3962520"/>
                <a:ext cx="380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6170400" y="3505320"/>
              <a:ext cx="1754280" cy="914400"/>
              <a:chOff x="6170400" y="3505320"/>
              <a:chExt cx="1754280" cy="91440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6553080" y="3505320"/>
                <a:ext cx="1371600" cy="914400"/>
                <a:chOff x="6553080" y="3505320"/>
                <a:chExt cx="1371600" cy="9144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553080" y="3505320"/>
                  <a:ext cx="1371600" cy="914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750360" y="3618000"/>
                  <a:ext cx="9946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  <a:tab algn="l" pos="105156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Group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 flipH="1">
                <a:off x="6170400" y="3962520"/>
                <a:ext cx="3841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0" y="3023280"/>
            <a:ext cx="9144000" cy="3630600"/>
            <a:chOff x="0" y="3023280"/>
            <a:chExt cx="9144000" cy="3630600"/>
          </a:xfrm>
        </p:grpSpPr>
        <p:sp>
          <p:nvSpPr>
            <p:cNvPr id="115" name=""/>
            <p:cNvSpPr/>
            <p:nvPr/>
          </p:nvSpPr>
          <p:spPr>
            <a:xfrm rot="7920000">
              <a:off x="3653640" y="3398400"/>
              <a:ext cx="1825560" cy="1832040"/>
            </a:xfrm>
            <a:custGeom>
              <a:avLst/>
              <a:gdLst>
                <a:gd name="textAreaLeft" fmla="*/ 669960 w 1825560"/>
                <a:gd name="textAreaRight" fmla="*/ 1825560 w 1825560"/>
                <a:gd name="textAreaTop" fmla="*/ 0 h 1832040"/>
                <a:gd name="textAreaBottom" fmla="*/ 1220760 h 183204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7948" y="383"/>
                  </a:moveTo>
                  <a:arcTo wR="10800" hR="10800" stAng="-6318693" swAng="7492516"/>
                  <a:lnTo>
                    <a:pt x="10800" y="10800"/>
                  </a:lnTo>
                  <a:close/>
                </a:path>
                <a:path fill="none" w="21600" h="21600">
                  <a:moveTo>
                    <a:pt x="7948" y="383"/>
                  </a:moveTo>
                  <a:arcTo wR="10800" hR="10800" stAng="-6318693" swAng="7492516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36920" y="3133800"/>
              <a:ext cx="2201760" cy="32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29000" y="3124080"/>
              <a:ext cx="1440" cy="457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38680" y="3139920"/>
              <a:ext cx="1800" cy="441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5105520" y="3505320"/>
              <a:ext cx="1066680" cy="1057320"/>
              <a:chOff x="5105520" y="3505320"/>
              <a:chExt cx="1066680" cy="1057320"/>
            </a:xfrm>
          </p:grpSpPr>
          <p:sp>
            <p:nvSpPr>
              <p:cNvPr id="120" name=""/>
              <p:cNvSpPr/>
              <p:nvPr/>
            </p:nvSpPr>
            <p:spPr>
              <a:xfrm>
                <a:off x="5105520" y="3505320"/>
                <a:ext cx="1066680" cy="10573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16480" y="3870360"/>
                <a:ext cx="61452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DM</a:t>
                </a:r>
                <a:r>
                  <a:rPr b="1" lang="en-US" sz="24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895480" y="3529080"/>
              <a:ext cx="1047960" cy="1119240"/>
              <a:chOff x="2895480" y="3529080"/>
              <a:chExt cx="1047960" cy="1119240"/>
            </a:xfrm>
          </p:grpSpPr>
          <p:sp>
            <p:nvSpPr>
              <p:cNvPr id="123" name=""/>
              <p:cNvSpPr/>
              <p:nvPr/>
            </p:nvSpPr>
            <p:spPr>
              <a:xfrm>
                <a:off x="2925720" y="3529080"/>
                <a:ext cx="1017720" cy="1119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5480" y="3911760"/>
                <a:ext cx="944640" cy="28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Epi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nl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33520" y="531828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 Practices, ~100 PCPs, ~8000 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5791320"/>
              <a:ext cx="9144000" cy="862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rimary Aim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Quality &amp; Utilization (including sub-groups by insurance etc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Secondary Aim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Adoption/Correlates; Unintended Con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1033560" cy="16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0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1”. Pre-trial Characteristics of Practices after Bal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" y="1600200"/>
            <a:ext cx="8231040" cy="4789440"/>
            <a:chOff x="457200" y="1600200"/>
            <a:chExt cx="8231040" cy="4789440"/>
          </a:xfrm>
        </p:grpSpPr>
        <p:sp>
          <p:nvSpPr>
            <p:cNvPr id="130" name=""/>
            <p:cNvSpPr/>
            <p:nvPr/>
          </p:nvSpPr>
          <p:spPr>
            <a:xfrm>
              <a:off x="7040520" y="5884920"/>
              <a:ext cx="1646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2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5884920"/>
              <a:ext cx="1325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62520" y="5884920"/>
              <a:ext cx="1752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0.5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2320" y="5884920"/>
              <a:ext cx="1600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0.6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588492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lope A1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40520" y="5381640"/>
              <a:ext cx="1646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39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5000" y="5381640"/>
              <a:ext cx="1325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520" y="5381640"/>
              <a:ext cx="1752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62320" y="5381640"/>
              <a:ext cx="1600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" y="538164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% on Insul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40520" y="4879800"/>
              <a:ext cx="16462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1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15000" y="4879800"/>
              <a:ext cx="132552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62520" y="4879800"/>
              <a:ext cx="1752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6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62320" y="4879800"/>
              <a:ext cx="16002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8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4879800"/>
              <a:ext cx="190512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% A1c&gt;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40520" y="4376880"/>
              <a:ext cx="16462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85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15000" y="4376880"/>
              <a:ext cx="13255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4376880"/>
              <a:ext cx="17524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6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62320" y="4376880"/>
              <a:ext cx="16002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36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" y="4376880"/>
              <a:ext cx="19051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e Syst B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0520" y="3616200"/>
              <a:ext cx="164628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0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15000" y="3616200"/>
              <a:ext cx="132552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2520" y="3616200"/>
              <a:ext cx="175248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62320" y="3616200"/>
              <a:ext cx="16002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5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3616200"/>
              <a:ext cx="190512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% Smok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40520" y="3112920"/>
              <a:ext cx="16462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.8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15000" y="3112920"/>
              <a:ext cx="1325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0.0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2520" y="3112920"/>
              <a:ext cx="17524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9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112920"/>
              <a:ext cx="1600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8.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3112920"/>
              <a:ext cx="19051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% A-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40520" y="2611440"/>
              <a:ext cx="1646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5000" y="2611440"/>
              <a:ext cx="13255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2520" y="2611440"/>
              <a:ext cx="1752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2320" y="2611440"/>
              <a:ext cx="160020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2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" y="2611440"/>
              <a:ext cx="19051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# of P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40520" y="2093760"/>
              <a:ext cx="1646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5000" y="2093760"/>
              <a:ext cx="13255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62520" y="2093760"/>
              <a:ext cx="17524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2093760"/>
              <a:ext cx="16002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093760"/>
              <a:ext cx="190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# of Pract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0520" y="1600200"/>
              <a:ext cx="16462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-Val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15000" y="1600200"/>
              <a:ext cx="13255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1600200"/>
              <a:ext cx="175248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2320" y="1600200"/>
              <a:ext cx="16002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oup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1600200"/>
              <a:ext cx="19051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" y="2093760"/>
              <a:ext cx="8229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" y="261144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3112920"/>
              <a:ext cx="8229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7200" y="3616200"/>
              <a:ext cx="8229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7200" y="437688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" y="4879800"/>
              <a:ext cx="8229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538164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" y="588492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6388200"/>
              <a:ext cx="822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252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500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40520" y="1600200"/>
              <a:ext cx="180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86800" y="1600200"/>
              <a:ext cx="1440" cy="478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0" y="1463760"/>
            <a:ext cx="9144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D Cebul</dc:creator>
  <dc:description/>
  <dc:language>en-US</dc:language>
  <cp:lastModifiedBy>Your User Name</cp:lastModifiedBy>
  <cp:revision>0</cp:revision>
  <dc:subject/>
  <dc:title>HIT for Performance Measurement and Performance Improvement: Happening Now</dc:title>
</cp:coreProperties>
</file>