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6.gif" ContentType="image/gif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15.jpeg" ContentType="image/jpeg"/>
  <Override PartName="/ppt/media/image3.wmf" ContentType="image/x-wmf"/>
  <Override PartName="/ppt/media/image12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1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99E845-147E-4299-93A7-117B9B9FC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AFA4-DA6C-47C9-BEF6-F6BD7254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0779-8B3F-46D7-9DD2-3BC70E57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7CE7-CA8C-4DF6-B62A-53DE5E33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C974-0CC6-4338-B096-A0E4563D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7F24-88CD-4058-B910-C3B14225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EBEE-5034-4998-BE90-A26B323D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D651-47D1-4911-A69B-204FE455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FF93-0786-41F3-8D78-7162CFA4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C823-0007-483E-9A7B-FE7B73A4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5F36-18BA-4816-B82C-4AECDCD9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0F60-9ADD-4859-8262-511BC5BB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EFF2-F9D9-4FCF-A55F-CE24DA05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157B35-5A7E-410A-9B09-5B9066C75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dc@case.edu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hyperlink" Target="http://www.chrp.org/" TargetMode="External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4.png"/><Relationship Id="rId10" Type="http://schemas.openxmlformats.org/officeDocument/2006/relationships/image" Target="../media/image15.jpe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534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EMRs for PM, PI, PR, and P4P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portunities and Lessons We’r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all D. Cebul, M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 for Health Care Research and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Western Reserve University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roHealth Medical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rdc@case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ed by grant R01-HS015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cy for Healthcare Research and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97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772400" y="5719680"/>
          <a:ext cx="1371600" cy="113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72400" y="5719680"/>
                    <a:ext cx="13716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6320" y="5929200"/>
            <a:ext cx="3047760" cy="928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97280" y="6477120"/>
            <a:ext cx="1575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www.chrp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MR-Based Patient Assign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62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Eligi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is: ICD-9 codes or antidiabetic m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P Links/Attrib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r more eligible patient visits with P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itialization of Li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CP can repo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my patient” or “Not Diabeti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licts adjudicat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&lt;.1%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eekly Upd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s within or across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 compl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219320"/>
            <a:ext cx="9144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280" y="19008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M/PI/PR - Clinical Decision Support  (“DM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00200" y="1951200"/>
            <a:ext cx="7391520" cy="45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rts and Linked Order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and Physician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Lists/Registry, Curre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panel performanc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600200"/>
            <a:ext cx="9144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358128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41040" y="3778200"/>
            <a:ext cx="17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 Pan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44280"/>
            <a:ext cx="9144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M/PI - encounter-based Alerts: 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ed to Minimize F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2343240"/>
            <a:ext cx="800100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 we know about this pati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 has diabetes and is visiting her P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 kidneys are leaking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 is not on an ACE inhibitor or ARB                  and has no documented allergies to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 has no other contraindications (K, Cr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several alternative drugs/d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43000" y="2362320"/>
            <a:ext cx="47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{Links to Automated Order Se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25010" t="41276" r="2481" b="44401"/>
          <a:stretch/>
        </p:blipFill>
        <p:spPr>
          <a:xfrm>
            <a:off x="762120" y="1353960"/>
            <a:ext cx="7315200" cy="108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0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2000" y="33120"/>
            <a:ext cx="8524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I - SmartSet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ked to ACE/ARB Al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145360" y="5400720"/>
            <a:ext cx="236520" cy="241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30506"/>
          <a:stretch/>
        </p:blipFill>
        <p:spPr>
          <a:xfrm>
            <a:off x="228600" y="1644480"/>
            <a:ext cx="8686800" cy="4527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flipH="1" flipV="1">
            <a:off x="4712760" y="4103640"/>
            <a:ext cx="319320" cy="565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45160" y="4181400"/>
            <a:ext cx="236520" cy="160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2492280"/>
            <a:ext cx="1657080" cy="246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atient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74960" y="1674720"/>
            <a:ext cx="711360" cy="122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tient 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862080" y="3800520"/>
            <a:ext cx="3289680" cy="368280"/>
            <a:chOff x="3862080" y="3800520"/>
            <a:chExt cx="3289680" cy="368280"/>
          </a:xfrm>
        </p:grpSpPr>
        <p:sp>
          <p:nvSpPr>
            <p:cNvPr id="212" name=""/>
            <p:cNvSpPr/>
            <p:nvPr/>
          </p:nvSpPr>
          <p:spPr>
            <a:xfrm flipH="1" flipV="1">
              <a:off x="3862080" y="3951000"/>
              <a:ext cx="87156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57680" y="3800520"/>
              <a:ext cx="249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Re-cap of ind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938760" y="4638600"/>
            <a:ext cx="3227040" cy="368280"/>
            <a:chOff x="3938760" y="4638600"/>
            <a:chExt cx="3227040" cy="368280"/>
          </a:xfrm>
        </p:grpSpPr>
        <p:sp>
          <p:nvSpPr>
            <p:cNvPr id="215" name=""/>
            <p:cNvSpPr/>
            <p:nvPr/>
          </p:nvSpPr>
          <p:spPr>
            <a:xfrm flipH="1" flipV="1">
              <a:off x="3938760" y="4789080"/>
              <a:ext cx="87120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37240" y="4638600"/>
              <a:ext cx="242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Choice of Rxs/do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960360" y="5729400"/>
            <a:ext cx="2924640" cy="368280"/>
            <a:chOff x="3960360" y="5729400"/>
            <a:chExt cx="2924640" cy="368280"/>
          </a:xfrm>
        </p:grpSpPr>
        <p:sp>
          <p:nvSpPr>
            <p:cNvPr id="218" name=""/>
            <p:cNvSpPr/>
            <p:nvPr/>
          </p:nvSpPr>
          <p:spPr>
            <a:xfrm flipH="1" flipV="1">
              <a:off x="3960360" y="5940000"/>
              <a:ext cx="87156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06720" y="5729400"/>
              <a:ext cx="207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Follow-up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685800" y="954000"/>
          <a:ext cx="7772400" cy="58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54000"/>
                    <a:ext cx="777240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1660680" y="1681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920" y="217440"/>
            <a:ext cx="85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/PR - Practice Panel: Comparativ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76520" y="2819520"/>
            <a:ext cx="91440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05120" y="4114800"/>
            <a:ext cx="1676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2133720"/>
            <a:ext cx="19051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018120" y="4202280"/>
            <a:ext cx="3069360" cy="703800"/>
            <a:chOff x="6018120" y="4202280"/>
            <a:chExt cx="3069360" cy="703800"/>
          </a:xfrm>
        </p:grpSpPr>
        <p:sp>
          <p:nvSpPr>
            <p:cNvPr id="228" name=""/>
            <p:cNvSpPr/>
            <p:nvPr/>
          </p:nvSpPr>
          <p:spPr>
            <a:xfrm flipH="1">
              <a:off x="6018120" y="4343400"/>
              <a:ext cx="106992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68600" y="4202280"/>
              <a:ext cx="2018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My panel” vs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ompara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0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M/PI: Registry an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ed decision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01000" y="549108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00800" y="5567400"/>
            <a:ext cx="3808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12960" y="1371600"/>
          <a:ext cx="76215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2960" y="1371600"/>
                    <a:ext cx="76215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6705720" y="5872320"/>
            <a:ext cx="144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05120" y="2448000"/>
            <a:ext cx="160020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Physician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114800" y="5343480"/>
            <a:ext cx="28954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Patient name, hosp number and phone 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170160" y="2093760"/>
            <a:ext cx="4677120" cy="725760"/>
            <a:chOff x="3170160" y="2093760"/>
            <a:chExt cx="4677120" cy="725760"/>
          </a:xfrm>
        </p:grpSpPr>
        <p:sp>
          <p:nvSpPr>
            <p:cNvPr id="239" name=""/>
            <p:cNvSpPr/>
            <p:nvPr/>
          </p:nvSpPr>
          <p:spPr>
            <a:xfrm flipH="1">
              <a:off x="3170160" y="2286000"/>
              <a:ext cx="24415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94040" y="2093760"/>
              <a:ext cx="225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Click on tab to s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981080" y="5410080"/>
            <a:ext cx="6273720" cy="685800"/>
            <a:chOff x="1981080" y="5410080"/>
            <a:chExt cx="6273720" cy="685800"/>
          </a:xfrm>
        </p:grpSpPr>
        <p:sp>
          <p:nvSpPr>
            <p:cNvPr id="242" name=""/>
            <p:cNvSpPr/>
            <p:nvPr/>
          </p:nvSpPr>
          <p:spPr>
            <a:xfrm>
              <a:off x="1981080" y="5410080"/>
              <a:ext cx="1219320" cy="685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3198960" y="5791320"/>
              <a:ext cx="13744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27720" y="5562720"/>
              <a:ext cx="372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Downloadable educational mat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105520" y="624852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417920" y="5904000"/>
            <a:ext cx="3332160" cy="368280"/>
            <a:chOff x="4417920" y="5904000"/>
            <a:chExt cx="3332160" cy="368280"/>
          </a:xfrm>
        </p:grpSpPr>
        <p:sp>
          <p:nvSpPr>
            <p:cNvPr id="247" name=""/>
            <p:cNvSpPr/>
            <p:nvPr/>
          </p:nvSpPr>
          <p:spPr>
            <a:xfrm flipH="1">
              <a:off x="4417920" y="6095880"/>
              <a:ext cx="68904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13360" y="5904000"/>
              <a:ext cx="27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rends, linked to m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838080" y="2590920"/>
            <a:ext cx="12193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0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lustrative PM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ADA Scores” Measured Every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38080" y="1611360"/>
            <a:ext cx="7543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inical Outcome: Change in S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e/ARB*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nvx*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ye Exam*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&lt;100*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1C&lt;7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MI&lt;3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Sm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BP&lt;130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-8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24480" y="2133720"/>
            <a:ext cx="152640" cy="1600200"/>
          </a:xfrm>
          <a:custGeom>
            <a:avLst/>
            <a:gdLst>
              <a:gd name="textAreaLeft" fmla="*/ 0 w 152640"/>
              <a:gd name="textAreaRight" fmla="*/ 5508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30840" y="2517840"/>
            <a:ext cx="192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-Centri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s in Scores, Exptl Pts (n=5288)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me Measures are Easier To Change tha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3520" y="1743120"/>
            <a:ext cx="8153280" cy="48862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948920" y="4202280"/>
            <a:ext cx="34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% of All ADA Measures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47840" y="3413160"/>
            <a:ext cx="41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% of 4 MD-Centric Measures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Rs can Measure Performance in All Pat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362320" y="2484000"/>
            <a:ext cx="495288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se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ial Data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1676520"/>
            <a:ext cx="9144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/PR/P4P: Poor Glucose Contro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Race/ethnicity in On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38955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glucose control is strongly associated with diabetic co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yes, kidneys, amputations, admi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4P programs reward practices with lower than 20% “poor valu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half of our diabetic patients are Black or Hispa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50840" y="342900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Md BT"/>
              </a:rPr>
              <a:t>15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35880" y="254304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Md BT"/>
              </a:rPr>
              <a:t>21.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713720" y="233352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Md BT"/>
              </a:rPr>
              <a:t>23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083120" y="1027080"/>
            <a:ext cx="4927680" cy="5773680"/>
            <a:chOff x="4083120" y="1027080"/>
            <a:chExt cx="4927680" cy="577368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rcRect l="0" t="0" r="-13248" b="0"/>
            <a:stretch/>
          </p:blipFill>
          <p:spPr>
            <a:xfrm>
              <a:off x="4083120" y="1027080"/>
              <a:ext cx="492768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555520" y="327168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5.7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60360" y="224316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1.9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94000" y="199548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3.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4876920" y="2590920"/>
            <a:ext cx="42670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e Thought We K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ims-based performance measurement (PM) is inadequate, lac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patient assignment for performance reporting (PR) and P4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iness for clinical decision support and performance improvement (P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ness and efficiency (sampling patients’ chart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ularity of measurement – fe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measure uninsured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Rs can solve all of these problem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219320"/>
            <a:ext cx="9144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or Glucose Control by Insu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2280" y="1400040"/>
            <a:ext cx="357192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base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% of our Medicaid pts were in poor contr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most 30% of our uninsured pts were in poor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40% of our patients are uninsured or covered by Medic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11120" y="26971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5.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96880" y="32878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82640" y="44496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138520" y="21906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9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505320" y="1514520"/>
          <a:ext cx="5540400" cy="49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514520"/>
                    <a:ext cx="5540400" cy="49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4908600" y="4592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946840" y="3402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66000" y="27734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013600" y="22208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9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67080" y="3429000"/>
            <a:ext cx="48769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Rs for PM, PR, PI, P4P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 Summary Thou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EMR-centered data, we c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link patients satisfactor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atients pretty well for whom measures are appropriate (eg, no c/I to ACE/ARB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performance at a granular level (eg, BMI, A1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performance on all eligible patients, regardless of race or insurance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and provide meaningful feedback in a timely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improvement in process and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easures are harder to improve tha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4P systems should consider stratifying by insurance, at le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176400"/>
            <a:ext cx="9144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itional Questions About PM/PR/P4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6868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Our Data Comple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Biases in Our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ly,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ly Under-ascertainment (of good performance as well as undesirable outcome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ent full regional HIE, are EMR-based system-level data Fair for P4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ithin system PI and P4P, prob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ross-system comparisons, it depe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042560" y="152280"/>
            <a:ext cx="713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PM with EMRs alon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size, financing, function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3276720"/>
            <a:ext cx="2819520" cy="2971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762120" y="3276720"/>
            <a:ext cx="688680" cy="9144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447920" y="5695920"/>
            <a:ext cx="914400" cy="7812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2590920" y="3200400"/>
            <a:ext cx="406440" cy="9144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1219320" y="4178160"/>
            <a:ext cx="1342800" cy="1308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 flipV="1">
            <a:off x="2438280" y="4017600"/>
            <a:ext cx="228600" cy="307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1369800" y="3884400"/>
            <a:ext cx="231480" cy="384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1981080" y="5408280"/>
            <a:ext cx="1800" cy="384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9000" y="1539720"/>
            <a:ext cx="292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MO” or Very 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ed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 missing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911760" y="3257640"/>
            <a:ext cx="1984320" cy="3066840"/>
            <a:chOff x="3911760" y="3257640"/>
            <a:chExt cx="1984320" cy="3066840"/>
          </a:xfrm>
        </p:grpSpPr>
        <p:sp>
          <p:nvSpPr>
            <p:cNvPr id="303" name=""/>
            <p:cNvSpPr/>
            <p:nvPr/>
          </p:nvSpPr>
          <p:spPr>
            <a:xfrm>
              <a:off x="3914640" y="4248000"/>
              <a:ext cx="1676520" cy="1752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4" name="" descr=""/>
            <p:cNvPicPr/>
            <p:nvPr/>
          </p:nvPicPr>
          <p:blipFill>
            <a:blip r:embed="rId5"/>
            <a:stretch/>
          </p:blipFill>
          <p:spPr>
            <a:xfrm>
              <a:off x="3911760" y="4172040"/>
              <a:ext cx="6886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6"/>
            <a:stretch/>
          </p:blipFill>
          <p:spPr>
            <a:xfrm>
              <a:off x="4371840" y="5543640"/>
              <a:ext cx="9144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7"/>
            <a:stretch/>
          </p:blipFill>
          <p:spPr>
            <a:xfrm>
              <a:off x="5489640" y="3257640"/>
              <a:ext cx="4064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8"/>
            <a:stretch/>
          </p:blipFill>
          <p:spPr>
            <a:xfrm>
              <a:off x="4448160" y="4781520"/>
              <a:ext cx="76212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 flipV="1">
              <a:off x="5362560" y="4170240"/>
              <a:ext cx="228600" cy="3081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288960" y="1752480"/>
            <a:ext cx="292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g System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eRx Fn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ssing Filled Rx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ut of system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232680" y="21448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371600"/>
            <a:ext cx="9144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397560" y="3200400"/>
            <a:ext cx="2162160" cy="3581280"/>
            <a:chOff x="6397560" y="3200400"/>
            <a:chExt cx="2162160" cy="3581280"/>
          </a:xfrm>
        </p:grpSpPr>
        <p:sp>
          <p:nvSpPr>
            <p:cNvPr id="313" name=""/>
            <p:cNvSpPr/>
            <p:nvPr/>
          </p:nvSpPr>
          <p:spPr>
            <a:xfrm>
              <a:off x="7010280" y="441972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4" name="" descr=""/>
            <p:cNvPicPr/>
            <p:nvPr/>
          </p:nvPicPr>
          <p:blipFill>
            <a:blip r:embed="rId9"/>
            <a:stretch/>
          </p:blipFill>
          <p:spPr>
            <a:xfrm>
              <a:off x="6397560" y="3352680"/>
              <a:ext cx="6890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10"/>
            <a:stretch/>
          </p:blipFill>
          <p:spPr>
            <a:xfrm>
              <a:off x="7010280" y="6000840"/>
              <a:ext cx="9144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11"/>
            <a:stretch/>
          </p:blipFill>
          <p:spPr>
            <a:xfrm>
              <a:off x="8153280" y="3200400"/>
              <a:ext cx="4064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12"/>
            <a:stretch/>
          </p:blipFill>
          <p:spPr>
            <a:xfrm>
              <a:off x="7238880" y="4665600"/>
              <a:ext cx="685800" cy="6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 flipH="1" flipV="1">
              <a:off x="6779880" y="4037040"/>
              <a:ext cx="384120" cy="5364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7924680" y="4113360"/>
              <a:ext cx="381240" cy="4600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7543800" y="5560560"/>
              <a:ext cx="1440" cy="46044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6284880" y="1600200"/>
            <a:ext cx="235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ssing a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MO vs. Large System with Itinerant Patien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’s missing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66680" y="1905120"/>
            <a:ext cx="6554880" cy="4136760"/>
            <a:chOff x="1066680" y="1905120"/>
            <a:chExt cx="6554880" cy="4136760"/>
          </a:xfrm>
        </p:grpSpPr>
        <p:sp>
          <p:nvSpPr>
            <p:cNvPr id="324" name=""/>
            <p:cNvSpPr/>
            <p:nvPr/>
          </p:nvSpPr>
          <p:spPr>
            <a:xfrm>
              <a:off x="6680160" y="5645160"/>
              <a:ext cx="939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6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65600" y="5645160"/>
              <a:ext cx="201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37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76680" y="5645160"/>
              <a:ext cx="988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97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66680" y="5645160"/>
              <a:ext cx="261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Eye Exam, Last Y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80160" y="5251320"/>
              <a:ext cx="939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4.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65600" y="5251320"/>
              <a:ext cx="2014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9.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76680" y="5251320"/>
              <a:ext cx="988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6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66680" y="5251320"/>
              <a:ext cx="2610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on-Smok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80160" y="4856040"/>
              <a:ext cx="939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92.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65600" y="4856040"/>
              <a:ext cx="201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96.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76680" y="4856040"/>
              <a:ext cx="988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9.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66680" y="4856040"/>
              <a:ext cx="261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E/ARB if alb’inur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80160" y="4460760"/>
              <a:ext cx="939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4.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665600" y="4460760"/>
              <a:ext cx="201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6.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6680" y="4460760"/>
              <a:ext cx="988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6.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66680" y="4460760"/>
              <a:ext cx="261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neumovax, ever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680160" y="4067280"/>
              <a:ext cx="939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9.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65600" y="4067280"/>
              <a:ext cx="20145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.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76680" y="4067280"/>
              <a:ext cx="9889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8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66680" y="4067280"/>
              <a:ext cx="2610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DL &lt; 100 mg/d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680160" y="3672000"/>
              <a:ext cx="939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5.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65600" y="3672000"/>
              <a:ext cx="201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5.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76680" y="3672000"/>
              <a:ext cx="988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6.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066680" y="3672000"/>
              <a:ext cx="261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ystolic BP &lt; 13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80160" y="3276720"/>
              <a:ext cx="939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6.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665600" y="3276720"/>
              <a:ext cx="201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9.9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676680" y="3276720"/>
              <a:ext cx="988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4.2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66680" y="3276720"/>
              <a:ext cx="261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1c &lt; 7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680160" y="2881440"/>
              <a:ext cx="939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,09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65600" y="2881440"/>
              <a:ext cx="201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,00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76680" y="2881440"/>
              <a:ext cx="988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1,84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66680" y="2881440"/>
              <a:ext cx="261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# of Pati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80160" y="1905120"/>
              <a:ext cx="93996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H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o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65600" y="1905120"/>
              <a:ext cx="201456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HS Comm’cial + Medic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76680" y="1905120"/>
              <a:ext cx="98892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M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66680" y="1905120"/>
              <a:ext cx="261000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andar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66680" y="1905120"/>
              <a:ext cx="655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66680" y="6040440"/>
              <a:ext cx="655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66680" y="1905120"/>
              <a:ext cx="1800" cy="413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0120" y="1905120"/>
              <a:ext cx="1440" cy="413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66680" y="2881440"/>
              <a:ext cx="2610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76680" y="1905120"/>
              <a:ext cx="1440" cy="413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76680" y="2881440"/>
              <a:ext cx="394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665600" y="1905120"/>
              <a:ext cx="1800" cy="413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680160" y="1905120"/>
              <a:ext cx="1800" cy="413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66680" y="3276720"/>
              <a:ext cx="655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66680" y="3672000"/>
              <a:ext cx="655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066680" y="4067280"/>
              <a:ext cx="655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66680" y="4460760"/>
              <a:ext cx="6553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066680" y="4856040"/>
              <a:ext cx="6553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66680" y="5251320"/>
              <a:ext cx="6553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66680" y="5645160"/>
              <a:ext cx="655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0" y="4676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1600200"/>
            <a:ext cx="9144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994680" y="6017760"/>
            <a:ext cx="3451320" cy="765720"/>
            <a:chOff x="994680" y="6017760"/>
            <a:chExt cx="3451320" cy="765720"/>
          </a:xfrm>
        </p:grpSpPr>
        <p:sp>
          <p:nvSpPr>
            <p:cNvPr id="379" name=""/>
            <p:cNvSpPr/>
            <p:nvPr/>
          </p:nvSpPr>
          <p:spPr>
            <a:xfrm>
              <a:off x="994680" y="6415200"/>
              <a:ext cx="345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l outside eye exams are bill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962520" y="6017760"/>
              <a:ext cx="75960" cy="384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MO vs. Large System without eRx Func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Who’s missing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066680" y="1905120"/>
            <a:ext cx="6554880" cy="4136760"/>
            <a:chOff x="1066680" y="1905120"/>
            <a:chExt cx="6554880" cy="4136760"/>
          </a:xfrm>
        </p:grpSpPr>
        <p:sp>
          <p:nvSpPr>
            <p:cNvPr id="383" name=""/>
            <p:cNvSpPr/>
            <p:nvPr/>
          </p:nvSpPr>
          <p:spPr>
            <a:xfrm>
              <a:off x="6680160" y="5645160"/>
              <a:ext cx="939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6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65600" y="5645160"/>
              <a:ext cx="201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37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76680" y="5645160"/>
              <a:ext cx="988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97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66680" y="5645160"/>
              <a:ext cx="261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Eye Exam, Last Y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680160" y="5251320"/>
              <a:ext cx="939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4.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665600" y="5251320"/>
              <a:ext cx="2014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9.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76680" y="5251320"/>
              <a:ext cx="988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6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66680" y="5251320"/>
              <a:ext cx="2610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on-Smok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80160" y="4856040"/>
              <a:ext cx="939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92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65600" y="4856040"/>
              <a:ext cx="201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96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76680" y="4856040"/>
              <a:ext cx="988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69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66680" y="4856040"/>
              <a:ext cx="261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ACE/ARB if alb’inu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80160" y="4460760"/>
              <a:ext cx="939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4.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65600" y="4460760"/>
              <a:ext cx="201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6.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76680" y="4460760"/>
              <a:ext cx="988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6.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066680" y="4460760"/>
              <a:ext cx="261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neumovax, ever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80160" y="4067280"/>
              <a:ext cx="939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9.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665600" y="4067280"/>
              <a:ext cx="20145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.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76680" y="4067280"/>
              <a:ext cx="9889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8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066680" y="4067280"/>
              <a:ext cx="2610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DL &lt; 100 mg/d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680160" y="3672000"/>
              <a:ext cx="939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5.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65600" y="3672000"/>
              <a:ext cx="201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5.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76680" y="3672000"/>
              <a:ext cx="988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6.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66680" y="3672000"/>
              <a:ext cx="261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ystolic BP &lt; 13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80160" y="3276720"/>
              <a:ext cx="939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6.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65600" y="3276720"/>
              <a:ext cx="201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9.9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676680" y="3276720"/>
              <a:ext cx="988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4.2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66680" y="3276720"/>
              <a:ext cx="261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1c &lt; 7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80160" y="2881440"/>
              <a:ext cx="939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,09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65600" y="2881440"/>
              <a:ext cx="201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,00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76680" y="2881440"/>
              <a:ext cx="988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1,84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66680" y="2881440"/>
              <a:ext cx="261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# of Pati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680160" y="1905120"/>
              <a:ext cx="93996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H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o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665600" y="1905120"/>
              <a:ext cx="201456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HS Comm’cial + Medic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76680" y="1905120"/>
              <a:ext cx="98892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M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66680" y="1905120"/>
              <a:ext cx="261000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andar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66680" y="1905120"/>
              <a:ext cx="655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066680" y="6040440"/>
              <a:ext cx="655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066680" y="1905120"/>
              <a:ext cx="1800" cy="413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620120" y="1905120"/>
              <a:ext cx="1440" cy="413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066680" y="2881440"/>
              <a:ext cx="2610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76680" y="1905120"/>
              <a:ext cx="1440" cy="413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76680" y="2881440"/>
              <a:ext cx="394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65600" y="1905120"/>
              <a:ext cx="1800" cy="413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80160" y="1905120"/>
              <a:ext cx="1800" cy="413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66680" y="3276720"/>
              <a:ext cx="655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66680" y="3672000"/>
              <a:ext cx="655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66680" y="4067280"/>
              <a:ext cx="655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66680" y="4460760"/>
              <a:ext cx="6553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66680" y="4856040"/>
              <a:ext cx="6553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66680" y="5251320"/>
              <a:ext cx="6553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66680" y="5645160"/>
              <a:ext cx="655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0" y="4676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1600200"/>
            <a:ext cx="9144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774880" y="5180040"/>
            <a:ext cx="1111320" cy="1360440"/>
            <a:chOff x="2774880" y="5180040"/>
            <a:chExt cx="1111320" cy="1360440"/>
          </a:xfrm>
        </p:grpSpPr>
        <p:sp>
          <p:nvSpPr>
            <p:cNvPr id="438" name=""/>
            <p:cNvSpPr/>
            <p:nvPr/>
          </p:nvSpPr>
          <p:spPr>
            <a:xfrm>
              <a:off x="2774880" y="6172200"/>
              <a:ext cx="77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ll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3352680" y="5180040"/>
              <a:ext cx="533520" cy="99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5865480" y="5179680"/>
            <a:ext cx="1806840" cy="1321200"/>
            <a:chOff x="5865480" y="5179680"/>
            <a:chExt cx="1806840" cy="1321200"/>
          </a:xfrm>
        </p:grpSpPr>
        <p:sp>
          <p:nvSpPr>
            <p:cNvPr id="441" name=""/>
            <p:cNvSpPr/>
            <p:nvPr/>
          </p:nvSpPr>
          <p:spPr>
            <a:xfrm>
              <a:off x="6311880" y="6132600"/>
              <a:ext cx="13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escrib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5865480" y="5179680"/>
              <a:ext cx="841320" cy="91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are the needed performance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ide the System (benefit from claim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 Exams, Labs, Pharmacies, ED Visits/ad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System, but relatively in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portions of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completed outside, no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exclusion for measure, but not in “check bo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nked computerized systems;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ho lab – H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Ts – C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FTs – asth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, they don’t exis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1295280"/>
            <a:ext cx="91440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ing Thoughts: Measurement Challenges Using EMRs for P4P (before HIE…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better capture exclusions: eg terminal patient, refusal, relative C/I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better capture necessary ancillary data: e.g., echo’s, PFTs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simpler means to identify [necessary measures] obtained out-of-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red patients’ clai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Uninsured pati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e had friends who thought the same: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ews on Accuracy of Performance Measures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ealth Aff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7; 26: 492-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34915" b="13299"/>
          <a:stretch/>
        </p:blipFill>
        <p:spPr>
          <a:xfrm>
            <a:off x="1819440" y="1512720"/>
            <a:ext cx="5661000" cy="525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517520" y="3005280"/>
            <a:ext cx="63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8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8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36600" y="5364000"/>
            <a:ext cx="63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8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2666880"/>
            <a:ext cx="716292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3886200"/>
            <a:ext cx="716292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5562720"/>
            <a:ext cx="716292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re is evidence Re: unstable and untimely assignment of patients using cl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50% of patients change “assignments” over a 2-year period*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Care patterns in Medicare and their implications for Pay for Performance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nglJM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356:1130-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611600" y="1752480"/>
            <a:ext cx="4157640" cy="4267440"/>
            <a:chOff x="4611600" y="1752480"/>
            <a:chExt cx="4157640" cy="426744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4611600" y="1752480"/>
              <a:ext cx="4157640" cy="42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4611600" y="1752480"/>
              <a:ext cx="4157640" cy="426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1295280"/>
            <a:ext cx="2286000" cy="4191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Limitations of Claim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PM, PR, and 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/PR: Lack reliability of assignment of patient-physician links/related attrib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cy: Patient exclusions for specific measures/need for costly char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: Long intervals between audit &amp;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 claims  no performance measur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47,000,000 uninsured in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4648320"/>
            <a:ext cx="152280" cy="1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24120"/>
            <a:ext cx="82296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MRs can solve all of these problems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Diabetes Improvement Group – Intervention Trial (DIG-IT*):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 EMR-facilitate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ient assignment/PCP at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M: performance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: real-time clinical decision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: Nurse Cas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752480"/>
            <a:ext cx="91440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6960" y="6164280"/>
            <a:ext cx="4522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Funded, in part, by grant R01-HS0151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ncy for Healthcare Research and Qua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9374" t="14814" r="3599" b="10222"/>
          <a:stretch/>
        </p:blipFill>
        <p:spPr>
          <a:xfrm>
            <a:off x="46080" y="312840"/>
            <a:ext cx="9050400" cy="623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-380880" y="685800"/>
            <a:ext cx="712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477200" y="5530680"/>
            <a:ext cx="1550880" cy="1191240"/>
            <a:chOff x="7477200" y="5530680"/>
            <a:chExt cx="1550880" cy="1191240"/>
          </a:xfrm>
        </p:grpSpPr>
        <p:sp>
          <p:nvSpPr>
            <p:cNvPr id="84" name=""/>
            <p:cNvSpPr/>
            <p:nvPr/>
          </p:nvSpPr>
          <p:spPr>
            <a:xfrm>
              <a:off x="7504200" y="5545080"/>
              <a:ext cx="1441440" cy="11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77200" y="5530680"/>
              <a:ext cx="1550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ite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span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672400" y="5958000"/>
              <a:ext cx="8892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672400" y="568800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674200" y="6505560"/>
              <a:ext cx="88920" cy="889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674200" y="6235560"/>
              <a:ext cx="88920" cy="8892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5511960" y="1625760"/>
            <a:ext cx="228600" cy="21564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49760" y="2489040"/>
            <a:ext cx="228600" cy="2160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2921040"/>
            <a:ext cx="228600" cy="2160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2806560"/>
            <a:ext cx="228600" cy="2160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95560" y="5130720"/>
            <a:ext cx="228600" cy="2160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32040" y="3289320"/>
            <a:ext cx="228600" cy="2160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16120" y="2971800"/>
            <a:ext cx="228600" cy="2160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98800" y="2514600"/>
            <a:ext cx="228600" cy="2160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57560" y="2749680"/>
            <a:ext cx="228600" cy="21564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43440" y="2882880"/>
            <a:ext cx="228600" cy="2160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80880"/>
            <a:ext cx="495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dentifying/Locating Patients and Balancing Practic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~8,000 Diabetics, by 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~100 PCPs, 10 Group Practic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ro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dom Assignment of Balanced Pract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295280"/>
            <a:ext cx="91440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43000" y="3505320"/>
            <a:ext cx="6781680" cy="914400"/>
            <a:chOff x="1143000" y="3505320"/>
            <a:chExt cx="6781680" cy="914400"/>
          </a:xfrm>
        </p:grpSpPr>
        <p:grpSp>
          <p:nvGrpSpPr>
            <p:cNvPr id="104" name=""/>
            <p:cNvGrpSpPr/>
            <p:nvPr/>
          </p:nvGrpSpPr>
          <p:grpSpPr>
            <a:xfrm>
              <a:off x="1143000" y="3505320"/>
              <a:ext cx="1752480" cy="914400"/>
              <a:chOff x="1143000" y="3505320"/>
              <a:chExt cx="1752480" cy="9144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1143000" y="3505320"/>
                <a:ext cx="1371600" cy="914400"/>
                <a:chOff x="1143000" y="3505320"/>
                <a:chExt cx="1371600" cy="9144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143000" y="3505320"/>
                  <a:ext cx="1371600" cy="914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340280" y="3618000"/>
                  <a:ext cx="9946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Group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2514600" y="3962520"/>
                <a:ext cx="380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6170400" y="3505320"/>
              <a:ext cx="1754280" cy="914400"/>
              <a:chOff x="6170400" y="3505320"/>
              <a:chExt cx="1754280" cy="91440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6553080" y="3505320"/>
                <a:ext cx="1371600" cy="914400"/>
                <a:chOff x="6553080" y="3505320"/>
                <a:chExt cx="1371600" cy="9144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6553080" y="3505320"/>
                  <a:ext cx="1371600" cy="914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750360" y="3618000"/>
                  <a:ext cx="9946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Group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"/>
              <p:cNvSpPr/>
              <p:nvPr/>
            </p:nvSpPr>
            <p:spPr>
              <a:xfrm flipH="1">
                <a:off x="6170400" y="3962520"/>
                <a:ext cx="3841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0" y="3023280"/>
            <a:ext cx="9144000" cy="3630600"/>
            <a:chOff x="0" y="3023280"/>
            <a:chExt cx="9144000" cy="3630600"/>
          </a:xfrm>
        </p:grpSpPr>
        <p:sp>
          <p:nvSpPr>
            <p:cNvPr id="115" name=""/>
            <p:cNvSpPr/>
            <p:nvPr/>
          </p:nvSpPr>
          <p:spPr>
            <a:xfrm rot="7920000">
              <a:off x="3653640" y="3398400"/>
              <a:ext cx="1825560" cy="1832040"/>
            </a:xfrm>
            <a:custGeom>
              <a:avLst/>
              <a:gdLst>
                <a:gd name="textAreaLeft" fmla="*/ 669960 w 1825560"/>
                <a:gd name="textAreaRight" fmla="*/ 1825560 w 1825560"/>
                <a:gd name="textAreaTop" fmla="*/ 0 h 1832040"/>
                <a:gd name="textAreaBottom" fmla="*/ 1220760 h 183204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7948" y="383"/>
                  </a:moveTo>
                  <a:arcTo wR="10800" hR="10800" stAng="-6318693" swAng="7492516"/>
                  <a:lnTo>
                    <a:pt x="10800" y="10800"/>
                  </a:lnTo>
                  <a:close/>
                </a:path>
                <a:path fill="none" w="21600" h="21600">
                  <a:moveTo>
                    <a:pt x="7948" y="383"/>
                  </a:moveTo>
                  <a:arcTo wR="10800" hR="10800" stAng="-6318693" swAng="7492516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36920" y="3133800"/>
              <a:ext cx="2201760" cy="32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29000" y="3124080"/>
              <a:ext cx="1440" cy="457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38680" y="3139920"/>
              <a:ext cx="1800" cy="441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5105520" y="3505320"/>
              <a:ext cx="1066680" cy="1057320"/>
              <a:chOff x="5105520" y="3505320"/>
              <a:chExt cx="1066680" cy="1057320"/>
            </a:xfrm>
          </p:grpSpPr>
          <p:sp>
            <p:nvSpPr>
              <p:cNvPr id="120" name=""/>
              <p:cNvSpPr/>
              <p:nvPr/>
            </p:nvSpPr>
            <p:spPr>
              <a:xfrm>
                <a:off x="5105520" y="3505320"/>
                <a:ext cx="1066680" cy="105732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316480" y="3870360"/>
                <a:ext cx="61452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DM</a:t>
                </a:r>
                <a:r>
                  <a:rPr b="1" lang="en-US" sz="24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895480" y="3529080"/>
              <a:ext cx="1047960" cy="1119240"/>
              <a:chOff x="2895480" y="3529080"/>
              <a:chExt cx="1047960" cy="1119240"/>
            </a:xfrm>
          </p:grpSpPr>
          <p:sp>
            <p:nvSpPr>
              <p:cNvPr id="123" name=""/>
              <p:cNvSpPr/>
              <p:nvPr/>
            </p:nvSpPr>
            <p:spPr>
              <a:xfrm>
                <a:off x="2925720" y="3529080"/>
                <a:ext cx="1017720" cy="1119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95480" y="3911760"/>
                <a:ext cx="94464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Epi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nl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533520" y="5318280"/>
              <a:ext cx="815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 Practices, ~100 PCPs, ~8000 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5791320"/>
              <a:ext cx="9144000" cy="862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Primary Aim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Quality &amp; Utilization (including sub-groups by insurance etc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Secondary Aim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Adoption/Correlates; Unintended Con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038480" y="1143000"/>
            <a:ext cx="1033560" cy="16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0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le 1”. Pre-trial Characteristics of Practices after Bal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57200" y="1600200"/>
            <a:ext cx="8231040" cy="4789440"/>
            <a:chOff x="457200" y="1600200"/>
            <a:chExt cx="8231040" cy="4789440"/>
          </a:xfrm>
        </p:grpSpPr>
        <p:sp>
          <p:nvSpPr>
            <p:cNvPr id="130" name=""/>
            <p:cNvSpPr/>
            <p:nvPr/>
          </p:nvSpPr>
          <p:spPr>
            <a:xfrm>
              <a:off x="7040520" y="5884920"/>
              <a:ext cx="16462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2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15000" y="5884920"/>
              <a:ext cx="13255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&lt;0.0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62520" y="5884920"/>
              <a:ext cx="17524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0.5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62320" y="5884920"/>
              <a:ext cx="16002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0.6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5884920"/>
              <a:ext cx="1905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lope A1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40520" y="5381640"/>
              <a:ext cx="16462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39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15000" y="5381640"/>
              <a:ext cx="13255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&lt;0.0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62520" y="5381640"/>
              <a:ext cx="17524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62320" y="5381640"/>
              <a:ext cx="16002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8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" y="5381640"/>
              <a:ext cx="1905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% on Insul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40520" y="4879800"/>
              <a:ext cx="16462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13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15000" y="4879800"/>
              <a:ext cx="132552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0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62520" y="4879800"/>
              <a:ext cx="1752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6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62320" y="4879800"/>
              <a:ext cx="160020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8.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7200" y="4879800"/>
              <a:ext cx="190512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% A1c&gt;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40520" y="4376880"/>
              <a:ext cx="1646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85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15000" y="4376880"/>
              <a:ext cx="13255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&lt;0.0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4376880"/>
              <a:ext cx="17524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36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62320" y="4376880"/>
              <a:ext cx="16002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36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" y="4376880"/>
              <a:ext cx="190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ve Syst B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40520" y="3616200"/>
              <a:ext cx="164628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0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15000" y="3616200"/>
              <a:ext cx="132552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0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62520" y="3616200"/>
              <a:ext cx="175248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2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62320" y="3616200"/>
              <a:ext cx="16002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5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" y="3616200"/>
              <a:ext cx="190512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% Smok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40520" y="3112920"/>
              <a:ext cx="16462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8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15000" y="3112920"/>
              <a:ext cx="13255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&lt;0.0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62520" y="3112920"/>
              <a:ext cx="17524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9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62320" y="3112920"/>
              <a:ext cx="16002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8.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3112920"/>
              <a:ext cx="1905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% A-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40520" y="2611440"/>
              <a:ext cx="164628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15000" y="2611440"/>
              <a:ext cx="132552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62520" y="2611440"/>
              <a:ext cx="175248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62320" y="2611440"/>
              <a:ext cx="160020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2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" y="2611440"/>
              <a:ext cx="190512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# of P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40520" y="2093760"/>
              <a:ext cx="1646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5000" y="2093760"/>
              <a:ext cx="1325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62520" y="2093760"/>
              <a:ext cx="17524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62320" y="2093760"/>
              <a:ext cx="16002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093760"/>
              <a:ext cx="190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# of Pract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40520" y="1600200"/>
              <a:ext cx="164628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-Val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15000" y="1600200"/>
              <a:ext cx="132552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1600200"/>
              <a:ext cx="175248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oup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62320" y="1600200"/>
              <a:ext cx="16002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oup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1600200"/>
              <a:ext cx="190512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ari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" y="2093760"/>
              <a:ext cx="8229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7200" y="2611440"/>
              <a:ext cx="822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7200" y="3112920"/>
              <a:ext cx="8229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7200" y="3616200"/>
              <a:ext cx="8229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7200" y="4376880"/>
              <a:ext cx="822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" y="4879800"/>
              <a:ext cx="8229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7200" y="5381640"/>
              <a:ext cx="822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" y="5884920"/>
              <a:ext cx="822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" y="6388200"/>
              <a:ext cx="822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7200" y="1600200"/>
              <a:ext cx="1440" cy="478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62320" y="1600200"/>
              <a:ext cx="1440" cy="478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62520" y="1600200"/>
              <a:ext cx="1440" cy="478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15000" y="1600200"/>
              <a:ext cx="1440" cy="478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40520" y="1600200"/>
              <a:ext cx="1800" cy="478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686800" y="1600200"/>
              <a:ext cx="1440" cy="478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0" y="1463760"/>
            <a:ext cx="9144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D Cebul</dc:creator>
  <dc:description/>
  <dc:language>en-US</dc:language>
  <cp:lastModifiedBy>Your User Name</cp:lastModifiedBy>
  <cp:revision>0</cp:revision>
  <dc:subject/>
  <dc:title>HIT for Performance Measurement and Performance Improvement: Happening Now</dc:title>
</cp:coreProperties>
</file>