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"/>
          <p:cNvSpPr/>
          <p:nvPr/>
        </p:nvSpPr>
        <p:spPr>
          <a:xfrm>
            <a:off x="6858000" y="304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0" y="92160"/>
            <a:ext cx="2286000" cy="51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Measuring and Reporting Performance Data Through Health IT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AHRQ Annual Mee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Wednesday September 26, 200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. John Blair, III, M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esident, Taconic IPA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tructure Incentiv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"/>
          <p:cNvSpPr/>
          <p:nvPr/>
        </p:nvSpPr>
        <p:spPr>
          <a:xfrm>
            <a:off x="1193760" y="6194520"/>
            <a:ext cx="6912000" cy="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"/>
          <p:cNvSpPr/>
          <p:nvPr/>
        </p:nvSpPr>
        <p:spPr>
          <a:xfrm>
            <a:off x="1193760" y="5813280"/>
            <a:ext cx="0" cy="38124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"/>
          <p:cNvSpPr/>
          <p:nvPr/>
        </p:nvSpPr>
        <p:spPr>
          <a:xfrm>
            <a:off x="2614680" y="5829480"/>
            <a:ext cx="0" cy="38088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"/>
          <p:cNvSpPr/>
          <p:nvPr/>
        </p:nvSpPr>
        <p:spPr>
          <a:xfrm>
            <a:off x="3957480" y="5810400"/>
            <a:ext cx="0" cy="38088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"/>
          <p:cNvSpPr/>
          <p:nvPr/>
        </p:nvSpPr>
        <p:spPr>
          <a:xfrm>
            <a:off x="5380200" y="5829480"/>
            <a:ext cx="0" cy="38088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"/>
          <p:cNvSpPr/>
          <p:nvPr/>
        </p:nvSpPr>
        <p:spPr>
          <a:xfrm>
            <a:off x="6723000" y="5810400"/>
            <a:ext cx="0" cy="38088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8105760" y="5829480"/>
            <a:ext cx="0" cy="38088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"/>
          <p:cNvSpPr/>
          <p:nvPr/>
        </p:nvSpPr>
        <p:spPr>
          <a:xfrm>
            <a:off x="846000" y="627048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"/>
          <p:cNvSpPr/>
          <p:nvPr/>
        </p:nvSpPr>
        <p:spPr>
          <a:xfrm>
            <a:off x="3611520" y="627048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"/>
          <p:cNvSpPr/>
          <p:nvPr/>
        </p:nvSpPr>
        <p:spPr>
          <a:xfrm>
            <a:off x="6377040" y="6270480"/>
            <a:ext cx="6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"/>
          <p:cNvSpPr/>
          <p:nvPr/>
        </p:nvSpPr>
        <p:spPr>
          <a:xfrm>
            <a:off x="5032440" y="6270480"/>
            <a:ext cx="6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7758000" y="627048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2266920" y="627048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"/>
          <p:cNvSpPr/>
          <p:nvPr/>
        </p:nvSpPr>
        <p:spPr>
          <a:xfrm>
            <a:off x="5454720" y="3565440"/>
            <a:ext cx="2649600" cy="3636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NCQA/PPC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"/>
          <p:cNvSpPr/>
          <p:nvPr/>
        </p:nvSpPr>
        <p:spPr>
          <a:xfrm>
            <a:off x="5416560" y="4102200"/>
            <a:ext cx="1344600" cy="3636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eRx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"/>
          <p:cNvSpPr/>
          <p:nvPr/>
        </p:nvSpPr>
        <p:spPr>
          <a:xfrm>
            <a:off x="3919680" y="4657680"/>
            <a:ext cx="2841480" cy="3650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Community Viewer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"/>
          <p:cNvSpPr/>
          <p:nvPr/>
        </p:nvSpPr>
        <p:spPr>
          <a:xfrm>
            <a:off x="1960560" y="5234040"/>
            <a:ext cx="4800600" cy="3636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Clinical Messaging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"/>
          <p:cNvSpPr/>
          <p:nvPr/>
        </p:nvSpPr>
        <p:spPr>
          <a:xfrm>
            <a:off x="1123920" y="1892160"/>
            <a:ext cx="6981840" cy="365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Physician Feedback and Communicatio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"/>
          <p:cNvSpPr/>
          <p:nvPr/>
        </p:nvSpPr>
        <p:spPr>
          <a:xfrm>
            <a:off x="6761160" y="3006720"/>
            <a:ext cx="1344600" cy="3650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EHR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"/>
          <p:cNvSpPr/>
          <p:nvPr/>
        </p:nvSpPr>
        <p:spPr>
          <a:xfrm>
            <a:off x="4802040" y="2411280"/>
            <a:ext cx="3303720" cy="365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THINC RHIO, Quality Committe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8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NCQA Physician Practice Connection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ccess / Communi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tient tracking / Regis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re managemen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lf management suppor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ectronic prescrib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st track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erral track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formance reporting &amp; improvemen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9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INC RHIO, Quality Committe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termine performance measur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mote standar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I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easure metric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ordinate payment incentiv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ittee composi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alth pla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ality measures expe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aims vs. Clinical Reporting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insured not captur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rvices delivered, not health outc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-reimbursable services not captur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ccuracy due to income maximiz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 to risk adjust (severity, stag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ck of continuity with one health pl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agmented health care market (and claim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vider resista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Advantages of EHR-Based Measuremen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tter data than claims-bas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re detailed clinical data (e.g. BP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scalable than chart-review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ster, cheap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eater sample size allows better provider comparis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eater precision for encounter-level analys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adigm shif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D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Regist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easur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hallenges of EHR-Based Measuremen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815328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uctured data elements may not exist in EH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ata elements not standardized (e.g. lab cod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utside data not available (e.g. hospitalization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Decision Support Tool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cus on THINC RHIO measur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ssive &amp; active alerts and remind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ary of “alert fatigue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nimal se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ctionab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sonant with workflows, not disruptiv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t just ale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rder se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mpla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inical knowled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ata present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cess reengineer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Not Just Alerts”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actice workflow reorganiz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uctured data collec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gistries and panel manag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native visit typ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m-based ca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se manag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tient education and self-manag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. John Blair, III, M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esident, Taconic IPA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3808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266688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Georgia"/>
              </a:rPr>
              <a:t>Thanks for your time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ocess incentives/Claims data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ructure incentiv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adoption and us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CQA/P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utcomes incentives/Clinical data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cess Incentives/Claims Data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"/>
          <p:cNvSpPr/>
          <p:nvPr/>
        </p:nvSpPr>
        <p:spPr>
          <a:xfrm>
            <a:off x="1193760" y="6194520"/>
            <a:ext cx="6912000" cy="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/>
          <p:nvPr/>
        </p:nvSpPr>
        <p:spPr>
          <a:xfrm>
            <a:off x="1193760" y="5813280"/>
            <a:ext cx="0" cy="38124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"/>
          <p:cNvSpPr/>
          <p:nvPr/>
        </p:nvSpPr>
        <p:spPr>
          <a:xfrm>
            <a:off x="2614680" y="5829480"/>
            <a:ext cx="0" cy="38088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"/>
          <p:cNvSpPr/>
          <p:nvPr/>
        </p:nvSpPr>
        <p:spPr>
          <a:xfrm>
            <a:off x="3957480" y="5810400"/>
            <a:ext cx="0" cy="38088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5380200" y="5829480"/>
            <a:ext cx="0" cy="38088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"/>
          <p:cNvSpPr/>
          <p:nvPr/>
        </p:nvSpPr>
        <p:spPr>
          <a:xfrm>
            <a:off x="6723000" y="5810400"/>
            <a:ext cx="0" cy="38088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"/>
          <p:cNvSpPr/>
          <p:nvPr/>
        </p:nvSpPr>
        <p:spPr>
          <a:xfrm>
            <a:off x="8105760" y="5829480"/>
            <a:ext cx="0" cy="380880"/>
          </a:xfrm>
          <a:prstGeom prst="line">
            <a:avLst/>
          </a:prstGeom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"/>
          <p:cNvSpPr/>
          <p:nvPr/>
        </p:nvSpPr>
        <p:spPr>
          <a:xfrm>
            <a:off x="846000" y="627048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"/>
          <p:cNvSpPr/>
          <p:nvPr/>
        </p:nvSpPr>
        <p:spPr>
          <a:xfrm>
            <a:off x="3611520" y="627048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"/>
          <p:cNvSpPr/>
          <p:nvPr/>
        </p:nvSpPr>
        <p:spPr>
          <a:xfrm>
            <a:off x="6377040" y="6270480"/>
            <a:ext cx="6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5032440" y="6270480"/>
            <a:ext cx="6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"/>
          <p:cNvSpPr/>
          <p:nvPr/>
        </p:nvSpPr>
        <p:spPr>
          <a:xfrm>
            <a:off x="7758000" y="627048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"/>
          <p:cNvSpPr/>
          <p:nvPr/>
        </p:nvSpPr>
        <p:spPr>
          <a:xfrm>
            <a:off x="2266920" y="627048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"/>
          <p:cNvSpPr/>
          <p:nvPr/>
        </p:nvSpPr>
        <p:spPr>
          <a:xfrm>
            <a:off x="1154160" y="5041800"/>
            <a:ext cx="1458720" cy="55584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port Development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"/>
          <p:cNvSpPr/>
          <p:nvPr/>
        </p:nvSpPr>
        <p:spPr>
          <a:xfrm>
            <a:off x="6031080" y="3313080"/>
            <a:ext cx="2074680" cy="55548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"/>
          <p:cNvSpPr/>
          <p:nvPr/>
        </p:nvSpPr>
        <p:spPr>
          <a:xfrm>
            <a:off x="6031080" y="4235400"/>
            <a:ext cx="2074680" cy="55584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ulti-Payer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-4-P Project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"/>
          <p:cNvSpPr/>
          <p:nvPr/>
        </p:nvSpPr>
        <p:spPr>
          <a:xfrm>
            <a:off x="2651040" y="5041800"/>
            <a:ext cx="5454720" cy="55584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ngle Payer P-4-P Project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2430360"/>
            <a:ext cx="6981840" cy="55584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hysician Feedback and Communication Effort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hysician Repor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41568" t="18519" r="16347" b="11575"/>
          <a:stretch/>
        </p:blipFill>
        <p:spPr>
          <a:xfrm>
            <a:off x="2490840" y="1066680"/>
            <a:ext cx="4519440" cy="563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685800"/>
            <a:ext cx="31240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0" y="92160"/>
            <a:ext cx="228600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ingle Payer P-4-P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41915" t="19031" r="16872" b="11112"/>
          <a:stretch/>
        </p:blipFill>
        <p:spPr>
          <a:xfrm>
            <a:off x="2341440" y="914400"/>
            <a:ext cx="4440240" cy="5638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43600" y="685800"/>
            <a:ext cx="28954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0" y="92160"/>
            <a:ext cx="228600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333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"/>
          <p:cNvSpPr/>
          <p:nvPr/>
        </p:nvSpPr>
        <p:spPr>
          <a:xfrm>
            <a:off x="34434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"/>
          <p:cNvSpPr/>
          <p:nvPr/>
        </p:nvSpPr>
        <p:spPr>
          <a:xfrm>
            <a:off x="344340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"/>
          <p:cNvSpPr/>
          <p:nvPr/>
        </p:nvSpPr>
        <p:spPr>
          <a:xfrm>
            <a:off x="244800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2173" t="13888" r="10261" b="7406"/>
          <a:stretch/>
        </p:blipFill>
        <p:spPr>
          <a:xfrm>
            <a:off x="1066680" y="927000"/>
            <a:ext cx="7010640" cy="5343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11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685800"/>
            <a:ext cx="4572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0" y="92160"/>
            <a:ext cx="228600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ulti-Payer Repor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6800" y="1905120"/>
            <a:ext cx="83772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ulti-Payer Repor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12800" y="1828800"/>
            <a:ext cx="8278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hysician Feedback &amp; Communicat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dical Counc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C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ecial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inical leadershi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rong quality focu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itial report feedbac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nthly Newslett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hysician comment period prior to incentive pay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01:20:04Z</dcterms:created>
  <dc:creator>AshaUpadhyay</dc:creator>
  <dc:description/>
  <dc:language>en-US</dc:language>
  <cp:lastModifiedBy>ADMIN</cp:lastModifiedBy>
  <dcterms:modified xsi:type="dcterms:W3CDTF">2007-09-24T13:30:01Z</dcterms:modified>
  <cp:revision>307</cp:revision>
  <dc:subject/>
  <dc:title>THINC RHIO, Inc.</dc:title>
</cp:coreProperties>
</file>