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752480"/>
            <a:ext cx="77724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"/>
          <p:cNvSpPr/>
          <p:nvPr/>
        </p:nvSpPr>
        <p:spPr>
          <a:xfrm>
            <a:off x="6858000" y="3049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858000" y="92160"/>
            <a:ext cx="2286000" cy="51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Physician Adoption of HIT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Barriers &amp; Strateg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AHRQ Annual Meet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eorgia"/>
              </a:rPr>
              <a:t>Wednesday September 26, 2007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A. John Blair, III, MD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President, Taconic IPA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trategy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T support outsourcing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nectiv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althcare set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pplication familiar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w understanding of medical practice set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Now clinical area and workflow effected in addition to administrativ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reventive maintenanc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carce Resource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taffing constraint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Knowledge bas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Ideal Implementation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828800" y="2847960"/>
            <a:ext cx="2743200" cy="1190520"/>
            <a:chOff x="1828800" y="2847960"/>
            <a:chExt cx="2743200" cy="1190520"/>
          </a:xfrm>
        </p:grpSpPr>
        <p:sp>
          <p:nvSpPr>
            <p:cNvPr id="66" name=""/>
            <p:cNvSpPr/>
            <p:nvPr/>
          </p:nvSpPr>
          <p:spPr>
            <a:xfrm>
              <a:off x="1828800" y="284796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Vendor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28800" y="3429000"/>
              <a:ext cx="2743200" cy="609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572000" y="2819520"/>
            <a:ext cx="2743200" cy="1218960"/>
            <a:chOff x="4572000" y="2819520"/>
            <a:chExt cx="2743200" cy="1218960"/>
          </a:xfrm>
        </p:grpSpPr>
        <p:sp>
          <p:nvSpPr>
            <p:cNvPr id="69" name=""/>
            <p:cNvSpPr/>
            <p:nvPr/>
          </p:nvSpPr>
          <p:spPr>
            <a:xfrm>
              <a:off x="4572000" y="281952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eorgia"/>
                </a:rPr>
                <a:t>Practice</a:t>
              </a:r>
              <a:endParaRPr b="0" lang="en-US" sz="32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0" y="3429000"/>
              <a:ext cx="274320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Strategy: Typical Implementation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066680" y="2895480"/>
            <a:ext cx="2743200" cy="1143000"/>
            <a:chOff x="1066680" y="2895480"/>
            <a:chExt cx="2743200" cy="1143000"/>
          </a:xfrm>
        </p:grpSpPr>
        <p:sp>
          <p:nvSpPr>
            <p:cNvPr id="73" name=""/>
            <p:cNvSpPr/>
            <p:nvPr/>
          </p:nvSpPr>
          <p:spPr>
            <a:xfrm>
              <a:off x="1066680" y="3429000"/>
              <a:ext cx="2743200" cy="609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66680" y="28954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Vendor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1066680" y="40384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334120" y="2895480"/>
            <a:ext cx="2743200" cy="1143000"/>
            <a:chOff x="5334120" y="2895480"/>
            <a:chExt cx="2743200" cy="1143000"/>
          </a:xfrm>
        </p:grpSpPr>
        <p:sp>
          <p:nvSpPr>
            <p:cNvPr id="77" name=""/>
            <p:cNvSpPr/>
            <p:nvPr/>
          </p:nvSpPr>
          <p:spPr>
            <a:xfrm>
              <a:off x="5334120" y="3429000"/>
              <a:ext cx="274320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34120" y="28954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Practice</a:t>
              </a:r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5334120" y="403848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809880" y="3429000"/>
            <a:ext cx="1524240" cy="609480"/>
            <a:chOff x="3809880" y="3429000"/>
            <a:chExt cx="1524240" cy="609480"/>
          </a:xfrm>
        </p:grpSpPr>
        <p:sp>
          <p:nvSpPr>
            <p:cNvPr id="81" name=""/>
            <p:cNvSpPr/>
            <p:nvPr/>
          </p:nvSpPr>
          <p:spPr>
            <a:xfrm>
              <a:off x="3809880" y="3429000"/>
              <a:ext cx="1524240" cy="609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09880" y="350532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eorgia"/>
                </a:rPr>
                <a:t>Gap</a:t>
              </a:r>
              <a:endParaRPr b="0" lang="en-US" sz="20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809880" y="3429000"/>
            <a:ext cx="1523880" cy="609480"/>
            <a:chOff x="3809880" y="3429000"/>
            <a:chExt cx="1523880" cy="609480"/>
          </a:xfrm>
        </p:grpSpPr>
        <p:sp>
          <p:nvSpPr>
            <p:cNvPr id="84" name=""/>
            <p:cNvSpPr/>
            <p:nvPr/>
          </p:nvSpPr>
          <p:spPr>
            <a:xfrm>
              <a:off x="3809880" y="3429000"/>
              <a:ext cx="1523880" cy="609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09880" y="3444840"/>
              <a:ext cx="152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Implementation Services</a:t>
              </a:r>
              <a:endParaRPr b="0" lang="en-US" sz="1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Implementation Service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ordinate I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actice Consultan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GM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Front offic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Billing offic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oject managemen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ost Implement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MIO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Decision suppor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hronic disease managemen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nnectivit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HI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. John Blair, III, M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esident, Taconic IPA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3808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266688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Georgia"/>
              </a:rPr>
              <a:t>Thanks for your time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Barrier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dop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eorgia"/>
              </a:rPr>
              <a:t>Long Term Use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Barrier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rong driv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hibitive co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adequate IT experti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carce resourc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mited resolve/tenac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or integration of produc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nrealistic expect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Wrong 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Driver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rease reimburse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ve tim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ure for dysfunctional process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chie” promot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tern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spital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ealth pla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HIO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trategie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utomation after thoughtful redesig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 not pave cow path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Quality improve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proved safe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tient satisfa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mployee satisfa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actice desire not external promo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Prohibitive Cos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$20,000-30,000/provider up-fron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$500-1,000/provider/month on-going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trategy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ubscription mod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$5,000/provider up-fron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$500/provider/month on-going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Inadequate IT Expertise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Practice management system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gacy syste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lder technolog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ss network complex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wer availability require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wer response time require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nternet connectivit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S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Strategy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HR is a new world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sponse ti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01:20:04Z</dcterms:created>
  <dc:creator>AshaUpadhyay</dc:creator>
  <dc:description/>
  <dc:language>en-US</dc:language>
  <cp:lastModifiedBy>DHHS</cp:lastModifiedBy>
  <dcterms:modified xsi:type="dcterms:W3CDTF">2008-07-24T15:03:32Z</dcterms:modified>
  <cp:revision>304</cp:revision>
  <dc:subject/>
  <dc:title>THINC RHIO, Inc.</dc:title>
</cp:coreProperties>
</file>