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izability and Applicability of QI Resear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3962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d Atkins, MD, M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Outcomes and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izable Evide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id the field get the idea that evidence of an interventions efficacy from carefully controlled trials could be generalized as THE best practice for widely varied populations and sett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.W.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Decision Makers Need to Kno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t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orous, internally valid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it wor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applicable to my organization, clinical setting, and patient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worth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estimates of clinical benefits and costs of implementing, relative to local resource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1600" indent="-1666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an Haynes, BM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for AHRQ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support research that is both rigorous and relev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different study designs in informing us about how to improve qu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synthesize research findings while paying appropriate attention to issues that affect generalizability of our conclus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, mediators and moderators, generaliz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71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ternal validit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ition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ences about the extent to which a causal realtionship holds over variations in persons, settings, treatments and outco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dish et al.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at populations, treatment variables and measurement variables can this effect be gen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bell and Stanley, 19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bservations from Cas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ffects of simulation intervention on knowledge/attitude outcomes generalizable to clinical outcom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it work outside of Cincinnati  Children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EHR/HIE intervention from large group practices work in small solo practi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-AI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lasgow et al., 200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% reached, representa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impact of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op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Participation of clinicians/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Ability to deliver components of intervention, consis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intena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Much Do We Know?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ins vs. Team-Based Tra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ophys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epidem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ifferent sub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of intermediat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L vs. knowledge/att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structure of intervention/ receptor site in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ness and val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effect on clinical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avid Atkins</cp:lastModifiedBy>
  <cp:lastPrinted>2003-01-21T20:19:23Z</cp:lastPrinted>
  <dcterms:modified xsi:type="dcterms:W3CDTF">2007-09-26T14:32:09Z</dcterms:modified>
  <cp:revision>135</cp:revision>
  <dc:subject/>
  <dc:title>AHRQ Slide Template 2004</dc:title>
</cp:coreProperties>
</file>