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E984-5C20-4A46-8EFD-44B724146E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6DE8-63A4-42CD-A83E-7694C9A8673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A SLIGHTLY DIFFEREN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RELATIONAL ASPECTS OF MEASUEMENT IN ORGANIZ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T ON RECENT ADVANCES IN ANLAYTIC TECNIQAUES THAT PERMIT THE SIMLTANEOUS COSIDERATION OF ORGANIZATINAL MEASURES OPERATING AT DIFFERTN LEVELS OF THE ORGANIZATINAL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RECOGNITION THAT HEALTH CARE QUALITY CAN IMPROVE ONLY THROUGH INTERVENTIONS THAT ADDRESS THE SYSTEMIC NATURE OF DELIVERY (IOM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62E5-E4BF-4EAD-BC3E-B7BEF3BEBC8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85DF-7B8D-4675-85FC-BC70D0CB767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model must be very clear at the modeling stage in order to interpret the effects (particular slope effects) accurately.  But, also the intercepts at levels above the lowest level become tricky. Because these are layered models, they demand even greater use of theory (or strong models) when you get beyond a simple IC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3D3A-CC37-4CF4-9929-3D26782017C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can either facilitate or impede the adoption of best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3212-FA3D-492E-A64F-F39534571A3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D539-2FB1-42DF-A71E-2A4A50A4D8E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violation of the independence of observations assumption underlying traditional regression approaches ignores potentially meaningful individual level variance in the outcome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s potentially meaningful individual level variance in the outcome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s the substantive connections between the tw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706A-D792-4F1E-B00D-F03633DD615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E607-E33A-4B01-BCF2-D874E3F6841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THE TECHNIQUE ALOWS FOR CROSS LEVEL ANALYSIS.(HOSPITAL-PHYSICIAN, TEAM-PATIENT, PATIEN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O CERTAIN IT CHARACTERICS IN HOSPITALS MODERATE THE RELATIONSHIP BETWEEN PHYSICIAN PRACTICE PATTERNS AND QUALITY OF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EAM CULTURE AFFECT THE RELATIONSHIP BETWEEN PHYSICIAN JOB SATISFACTION AND TURNOV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43EB-7614-4C5F-8323-EE31303FEE1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s explained variance attributable to each level of the hierarchy (e.g. time, individual, organizational)</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1 intercept and coefficients become the dependent variables with the unit characteristics as predictors(level-2 model).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evel-2 model the overall intercept, β0j, IS allowed to randomly</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y across physician group practices (a so-called “means as outcomes” model),</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 the coefficients from the level-one model were fixed and not allowed to vary across unit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40F4-6B84-4AC4-B822-C938A493C8B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 name="PlaceHolder 1"/>
          <p:cNvSpPr>
            <a:spLocks noGrp="1"/>
          </p:cNvSpPr>
          <p:nvPr>
            <p:ph type="sldImg"/>
          </p:nvPr>
        </p:nvSpPr>
        <p:spPr>
          <a:xfrm>
            <a:off x="1144440" y="687240"/>
            <a:ext cx="4569120" cy="342612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F837-0A2E-4D16-A99C-4EB8EEE77E0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SLOPE DIFFERENCES- TEAM PROCESS MODERATING THE REALTIOSHIP BETWEEN TIME AND PATIENT FUNCTIO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lide allows us to explain that at entry there was a difference in the DV (ADL) between teams with high versus low participation and that MLA allowed us to control for that differe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AEC6C-27EF-4085-8CBC-911DB8100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39C2-8C82-4247-976D-483CFEA6F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788F1-30D7-4C77-9ADD-46B7C9496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55796-6933-44ED-A2CF-0E75ABB76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C201A-2BDA-4F17-BE04-15CDDC9A8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C5FAF-16AC-4C54-B798-BFE940AD9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7C28B-C0C5-4728-B4FD-608D74863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02C45-029F-49DA-B4DF-8D38F0AD1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5D03-92DF-40BF-905D-F91F8BC66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55EB6-F3C1-46B1-9461-4F7039F13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8A51E-E5C8-4E35-AF6E-7CC3D295B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B2162-60C4-47D9-BA37-39AD57EBC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8FE8-9C0B-4315-A803-ED1656A000CF}"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level and Multi-method Designs</a:t>
            </a:r>
            <a:endParaRPr b="0" lang="en-US" sz="4400" spc="-1" strike="noStrike">
              <a:solidFill>
                <a:srgbClr val="e5ffff"/>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uring the Effects of Organizational Context and Process in Implementation Research</a:t>
            </a:r>
            <a:endParaRPr b="0" lang="en-US" sz="1800" spc="-1" strike="noStrike">
              <a:solidFill>
                <a:srgbClr val="ffffff"/>
              </a:solidFill>
              <a:latin typeface="Tahoma"/>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HRQ 2007 Annual Conference: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mproving Healthcare, Improving Lives</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eptember 26, 2007</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Jeff Alexander, Ph.D.</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partment of Health Management and Policy</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ffffff"/>
                </a:solidFill>
                <a:latin typeface="Tahoma"/>
              </a:rPr>
              <a:t>University of Michigan School of Public Health</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applications of MLD</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of organizational infrastructure on implementation in micro team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of org. culture on individual provider attitudes and behavior (e.g. physician use of clinical guideline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lational researc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of micro-team structure and process on patient outcom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en-US" sz="4000" spc="-1" strike="noStrike">
                <a:solidFill>
                  <a:srgbClr val="e5ffff"/>
                </a:solidFill>
                <a:latin typeface="Tahoma"/>
              </a:rPr>
              <a:t>Issues with Multilevel Analysis</a:t>
            </a: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requireme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stical pow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sis and interpretation issu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method Designs</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ntitative-Qualitativ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CTs-case stud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studies-outcome studi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tainability- long term stud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ground</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provided in organizational contex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havior of clinicians influenced by the organizations in which they work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olicies (e.g. P4P) vary greatly in how they are implemented and what effects they have at the local level.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gnition of the interconnections among components of organizations (clinical teams function within hospitals, interact with other clinical teams,  - embeddedn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Oval 25"/>
          <p:cNvSpPr/>
          <p:nvPr/>
        </p:nvSpPr>
        <p:spPr>
          <a:xfrm>
            <a:off x="4038480" y="3733920"/>
            <a:ext cx="2057400" cy="2209680"/>
          </a:xfrm>
          <a:prstGeom prst="ellipse">
            <a:avLst/>
          </a:prstGeom>
          <a:noFill/>
          <a:ln w="324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Oval 24"/>
          <p:cNvSpPr/>
          <p:nvPr/>
        </p:nvSpPr>
        <p:spPr>
          <a:xfrm>
            <a:off x="2057400" y="3809880"/>
            <a:ext cx="1600200" cy="19814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Text Box 2"/>
          <p:cNvSpPr/>
          <p:nvPr/>
        </p:nvSpPr>
        <p:spPr>
          <a:xfrm>
            <a:off x="685800" y="76320"/>
            <a:ext cx="7162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lementation:  the influence of content, context, and process</a:t>
            </a:r>
            <a:endParaRPr b="0" lang="en-US" sz="2400" spc="-1" strike="noStrike">
              <a:solidFill>
                <a:srgbClr val="ffffff"/>
              </a:solidFill>
              <a:latin typeface="Tahoma"/>
            </a:endParaRPr>
          </a:p>
        </p:txBody>
      </p:sp>
      <p:sp>
        <p:nvSpPr>
          <p:cNvPr id="55" name="Text Box 3"/>
          <p:cNvSpPr/>
          <p:nvPr/>
        </p:nvSpPr>
        <p:spPr>
          <a:xfrm>
            <a:off x="380880" y="9907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mplementation</a:t>
            </a:r>
            <a:endParaRPr b="0" lang="en-US" sz="2400" spc="-1" strike="noStrike">
              <a:solidFill>
                <a:srgbClr val="ffffff"/>
              </a:solidFill>
              <a:latin typeface="Tahoma"/>
            </a:endParaRPr>
          </a:p>
        </p:txBody>
      </p:sp>
      <p:sp>
        <p:nvSpPr>
          <p:cNvPr id="56" name="Oval 4"/>
          <p:cNvSpPr/>
          <p:nvPr/>
        </p:nvSpPr>
        <p:spPr>
          <a:xfrm>
            <a:off x="0" y="1523880"/>
            <a:ext cx="2057400" cy="1752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Text Box 5"/>
          <p:cNvSpPr/>
          <p:nvPr/>
        </p:nvSpPr>
        <p:spPr>
          <a:xfrm>
            <a:off x="383040" y="16002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tent</a:t>
            </a:r>
            <a:endParaRPr b="0" lang="en-US" sz="2400" spc="-1" strike="noStrike">
              <a:solidFill>
                <a:srgbClr val="ffffff"/>
              </a:solidFill>
              <a:latin typeface="Tahoma"/>
            </a:endParaRPr>
          </a:p>
        </p:txBody>
      </p:sp>
      <p:sp>
        <p:nvSpPr>
          <p:cNvPr id="58" name="Oval 6"/>
          <p:cNvSpPr/>
          <p:nvPr/>
        </p:nvSpPr>
        <p:spPr>
          <a:xfrm>
            <a:off x="6172200" y="1676520"/>
            <a:ext cx="2819520" cy="2819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Text Box 9"/>
          <p:cNvSpPr/>
          <p:nvPr/>
        </p:nvSpPr>
        <p:spPr>
          <a:xfrm>
            <a:off x="6629400" y="1905120"/>
            <a:ext cx="2514600" cy="147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cess</a:t>
            </a:r>
            <a:endParaRPr b="0" lang="en-US" sz="24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inion leaders, change champion</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ic processes (e.g., supervisory practices, quality improvement)</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zational learning</a:t>
            </a:r>
            <a:endParaRPr b="0" lang="en-US" sz="1200" spc="-1" strike="noStrike">
              <a:solidFill>
                <a:srgbClr val="ffffff"/>
              </a:solidFill>
              <a:latin typeface="Tahoma"/>
            </a:endParaRPr>
          </a:p>
        </p:txBody>
      </p:sp>
      <p:sp>
        <p:nvSpPr>
          <p:cNvPr id="60" name="Text Box 13"/>
          <p:cNvSpPr/>
          <p:nvPr/>
        </p:nvSpPr>
        <p:spPr>
          <a:xfrm>
            <a:off x="152280" y="2057400"/>
            <a:ext cx="1981440" cy="101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bility</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novation type</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idence interpretation and packaging</a:t>
            </a:r>
            <a:endParaRPr b="0" lang="en-US" sz="1200" spc="-1" strike="noStrike">
              <a:solidFill>
                <a:srgbClr val="ffffff"/>
              </a:solidFill>
              <a:latin typeface="Tahoma"/>
            </a:endParaRPr>
          </a:p>
        </p:txBody>
      </p:sp>
      <p:sp>
        <p:nvSpPr>
          <p:cNvPr id="61" name="Line 15"/>
          <p:cNvSpPr/>
          <p:nvPr/>
        </p:nvSpPr>
        <p:spPr>
          <a:xfrm>
            <a:off x="2438280" y="2286000"/>
            <a:ext cx="3733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62" name="Line 17"/>
          <p:cNvSpPr/>
          <p:nvPr/>
        </p:nvSpPr>
        <p:spPr>
          <a:xfrm flipV="1">
            <a:off x="5638680" y="2514240"/>
            <a:ext cx="53352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63" name="Line 18"/>
          <p:cNvSpPr/>
          <p:nvPr/>
        </p:nvSpPr>
        <p:spPr>
          <a:xfrm>
            <a:off x="2133720" y="2286000"/>
            <a:ext cx="53316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64" name="AutoShape 19"/>
          <p:cNvSpPr/>
          <p:nvPr/>
        </p:nvSpPr>
        <p:spPr>
          <a:xfrm>
            <a:off x="3733920" y="1447920"/>
            <a:ext cx="1371600" cy="609480"/>
          </a:xfrm>
          <a:prstGeom prst="upArrow">
            <a:avLst>
              <a:gd name="adj1" fmla="val 50000"/>
              <a:gd name="adj2"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Rectangle 21"/>
          <p:cNvSpPr/>
          <p:nvPr/>
        </p:nvSpPr>
        <p:spPr>
          <a:xfrm>
            <a:off x="1981080" y="2819520"/>
            <a:ext cx="4114800" cy="3657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Text Box 12"/>
          <p:cNvSpPr/>
          <p:nvPr/>
        </p:nvSpPr>
        <p:spPr>
          <a:xfrm>
            <a:off x="4114800" y="3886200"/>
            <a:ext cx="2133720" cy="184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Internal:</a:t>
            </a:r>
            <a:r>
              <a:rPr b="0" lang="en-US" sz="1200" spc="-1" strike="noStrike">
                <a:solidFill>
                  <a:srgbClr val="ffffff"/>
                </a:solidFill>
                <a:latin typeface="Times New Roman"/>
              </a:rPr>
              <a:t>  </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zational culture  </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zational structure</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actice setting characteristics</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l stakeholders (e.g., attitudes and behaviors)</a:t>
            </a:r>
            <a:r>
              <a:rPr b="1" lang="en-US" sz="1200" spc="-1" strike="noStrike">
                <a:solidFill>
                  <a:srgbClr val="ffffff"/>
                </a:solidFill>
                <a:latin typeface="Times New Roman"/>
              </a:rPr>
              <a:t> </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ources</a:t>
            </a:r>
            <a:endParaRPr b="0" lang="en-US" sz="1200" spc="-1" strike="noStrike">
              <a:solidFill>
                <a:srgbClr val="ffffff"/>
              </a:solidFill>
              <a:latin typeface="Tahoma"/>
            </a:endParaRPr>
          </a:p>
        </p:txBody>
      </p:sp>
      <p:sp>
        <p:nvSpPr>
          <p:cNvPr id="67" name="Text Box 11"/>
          <p:cNvSpPr/>
          <p:nvPr/>
        </p:nvSpPr>
        <p:spPr>
          <a:xfrm>
            <a:off x="2209680" y="3962520"/>
            <a:ext cx="1752840" cy="160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1" lang="en-US" sz="1200" spc="-1" strike="noStrike">
                <a:solidFill>
                  <a:srgbClr val="ffffff"/>
                </a:solidFill>
                <a:latin typeface="Times New Roman"/>
              </a:rPr>
              <a:t>External:</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tworks</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gulation</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nomic (e.g., reimbursement)</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etition</a:t>
            </a:r>
            <a:endParaRPr b="0" lang="en-US" sz="1200" spc="-1" strike="noStrike">
              <a:solidFill>
                <a:srgbClr val="ffffff"/>
              </a:solidFill>
              <a:latin typeface="Tahoma"/>
            </a:endParaRPr>
          </a:p>
        </p:txBody>
      </p:sp>
      <p:sp>
        <p:nvSpPr>
          <p:cNvPr id="68" name="Text Box 10"/>
          <p:cNvSpPr/>
          <p:nvPr/>
        </p:nvSpPr>
        <p:spPr>
          <a:xfrm>
            <a:off x="3352680" y="2971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text</a:t>
            </a:r>
            <a:endParaRPr b="0" lang="en-US" sz="2400" spc="-1" strike="noStrike">
              <a:solidFill>
                <a:srgbClr val="ffffff"/>
              </a:solidFill>
              <a:latin typeface="Tahoma"/>
            </a:endParaRPr>
          </a:p>
        </p:txBody>
      </p:sp>
      <p:cxnSp>
        <p:nvCxnSpPr>
          <p:cNvPr id="69" name="Straight Arrow Connector 29"/>
          <p:cNvCxnSpPr/>
          <p:nvPr/>
        </p:nvCxnSpPr>
        <p:spPr>
          <a:xfrm flipH="1">
            <a:off x="4190760" y="2362320"/>
            <a:ext cx="2160" cy="381600"/>
          </a:xfrm>
          <a:prstGeom prst="straightConnector1">
            <a:avLst/>
          </a:prstGeom>
          <a:ln w="3240">
            <a:solidFill>
              <a:srgbClr val="ffffff"/>
            </a:solidFill>
            <a:miter/>
            <a:headEnd len="med" type="triangle" w="med"/>
            <a:tailEnd len="med" type="triangle" w="med"/>
          </a:ln>
        </p:spPr>
      </p:cxnSp>
      <p:cxnSp>
        <p:nvCxnSpPr>
          <p:cNvPr id="70" name="Straight Arrow Connector 32"/>
          <p:cNvCxnSpPr/>
          <p:nvPr/>
        </p:nvCxnSpPr>
        <p:spPr>
          <a:xfrm>
            <a:off x="3429000" y="4038120"/>
            <a:ext cx="838800" cy="2520"/>
          </a:xfrm>
          <a:prstGeom prst="straightConnector1">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blems with Implementation Context Measurement and Analyses</a:t>
            </a:r>
            <a:endParaRPr b="0" lang="en-US" sz="4000" spc="-1" strike="noStrike">
              <a:solidFill>
                <a:srgbClr val="e5ffff"/>
              </a:solidFill>
              <a:latin typeface="Tahoma"/>
            </a:endParaRPr>
          </a:p>
        </p:txBody>
      </p:sp>
      <p:sp>
        <p:nvSpPr>
          <p:cNvPr id="7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gning the same group value to all members of a group</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gregating individual outcomes to the group leve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e analyses of organizational and individual phenomen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dvantages of Multilevel Designs</a:t>
            </a: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stically efficient estimates of regression coefficient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clustering information provides correct standard errors, confidence intervals and significance test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for uneven assessments and different program tenures (for longitudinal studi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dvantages of MLD</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ment at any of the levels of a hierarchy enables examination of </a:t>
            </a:r>
            <a:r>
              <a:rPr b="0" i="1" lang="en-US" sz="3200" spc="-1" strike="noStrike">
                <a:solidFill>
                  <a:srgbClr val="ffffff"/>
                </a:solidFill>
                <a:latin typeface="Tahoma"/>
              </a:rPr>
              <a:t>whether differences in average outcomes between organizations are explained by factors such as organizational practices/structures</a:t>
            </a:r>
            <a:r>
              <a:rPr b="0" lang="en-US" sz="3200" spc="-1" strike="noStrike">
                <a:solidFill>
                  <a:srgbClr val="ffffff"/>
                </a:solidFill>
                <a:latin typeface="Tahoma"/>
              </a:rPr>
              <a:t>, or other characteristics of individual patients or provid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multilevel analysis, variance in the dependent variable is decomposed into within and between group components.  Two equations result;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within-unit mode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Yij=Boj +rij</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a between-unit model:</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j=Goo +Uoj</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6705720" y="2743200"/>
            <a:ext cx="1733400" cy="1143000"/>
          </a:xfrm>
          <a:prstGeom prst="rect">
            <a:avLst/>
          </a:prstGeom>
          <a:noFill/>
          <a:ln w="12600">
            <a:solidFill>
              <a:srgbClr val="ffffff"/>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otentially Avoidable</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verse Outcomes</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isk adjusted mortality</a:t>
            </a:r>
            <a:endParaRPr b="0" lang="en-US" sz="1200" spc="-1" strike="noStrike">
              <a:solidFill>
                <a:srgbClr val="ffffff"/>
              </a:solidFill>
              <a:latin typeface="Tahoma"/>
            </a:endParaRPr>
          </a:p>
        </p:txBody>
      </p:sp>
      <p:sp>
        <p:nvSpPr>
          <p:cNvPr id="80" name="Rectangle 3"/>
          <p:cNvSpPr/>
          <p:nvPr/>
        </p:nvSpPr>
        <p:spPr>
          <a:xfrm>
            <a:off x="914400" y="2362320"/>
            <a:ext cx="2419200" cy="2830320"/>
          </a:xfrm>
          <a:prstGeom prst="rect">
            <a:avLst/>
          </a:prstGeom>
          <a:noFill/>
          <a:ln w="12600">
            <a:solidFill>
              <a:srgbClr val="ffffff"/>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QI/TQM Implementation</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Scope</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umber of participating units </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hospital staff on QI Teams</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hospital managers on QI Teams</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MD/FTEs in QI teams</a:t>
            </a:r>
            <a:endParaRPr b="0" lang="en-US" sz="1200" spc="-1" strike="noStrike">
              <a:solidFill>
                <a:srgbClr val="ffffff"/>
              </a:solidFill>
              <a:latin typeface="Tahoma"/>
            </a:endParaRPr>
          </a:p>
          <a:p>
            <a:pPr>
              <a:lnSpc>
                <a:spcPct val="100000"/>
              </a:lnSpc>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ntensit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_# of statistical process tools</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_#guidelines in use</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_</a:t>
            </a:r>
            <a:r>
              <a:rPr b="0" lang="en-US" sz="1000" spc="-1" strike="noStrike">
                <a:solidFill>
                  <a:srgbClr val="ffffff"/>
                </a:solidFill>
                <a:latin typeface="Tahoma"/>
              </a:rPr>
              <a:t>Use of Quality of care data</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1" name="Rectangle 4"/>
          <p:cNvSpPr/>
          <p:nvPr/>
        </p:nvSpPr>
        <p:spPr>
          <a:xfrm>
            <a:off x="3657600" y="4343400"/>
            <a:ext cx="2556000" cy="1066680"/>
          </a:xfrm>
          <a:prstGeom prst="rect">
            <a:avLst/>
          </a:prstGeom>
          <a:noFill/>
          <a:ln w="12600">
            <a:solidFill>
              <a:srgbClr val="ffffff"/>
            </a:solidFill>
            <a:miter/>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Organizational Contex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sources / Infrastructure for QI</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nancial resources/support</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T</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Leadership support</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2" name="Rectangle 5"/>
          <p:cNvSpPr/>
          <p:nvPr/>
        </p:nvSpPr>
        <p:spPr>
          <a:xfrm>
            <a:off x="3733920" y="533520"/>
            <a:ext cx="2555640" cy="1447560"/>
          </a:xfrm>
          <a:prstGeom prst="rect">
            <a:avLst/>
          </a:prstGeom>
          <a:noFill/>
          <a:ln w="12600">
            <a:solidFill>
              <a:srgbClr val="ffffff"/>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Environmental Contex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Market Conditions</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naged care penetration</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ompetitors</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gulation</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3" name="Freeform 6"/>
          <p:cNvSpPr/>
          <p:nvPr/>
        </p:nvSpPr>
        <p:spPr>
          <a:xfrm>
            <a:off x="1812960" y="2884320"/>
            <a:ext cx="1440" cy="1800"/>
          </a:xfrm>
          <a:prstGeom prst="pie">
            <a:avLst/>
          </a:prstGeom>
          <a:noFill/>
          <a:ln cap="rnd" w="12600">
            <a:solidFill>
              <a:srgbClr val="ffffff"/>
            </a:solidFill>
            <a:round/>
            <a:tailEnd len="med" type="stealth" w="med"/>
          </a:ln>
        </p:spPr>
        <p:style>
          <a:lnRef idx="0"/>
          <a:fillRef idx="0"/>
          <a:effectRef idx="0"/>
          <a:fontRef idx="minor"/>
        </p:style>
        <p:txBody>
          <a:bodyPr lIns="90000" rIns="90000" tIns="-44640" bIns="-44640" anchor="t">
            <a:no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Line 7"/>
          <p:cNvSpPr/>
          <p:nvPr/>
        </p:nvSpPr>
        <p:spPr>
          <a:xfrm>
            <a:off x="3429000" y="3048120"/>
            <a:ext cx="33526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85" name="Line 8"/>
          <p:cNvSpPr/>
          <p:nvPr/>
        </p:nvSpPr>
        <p:spPr>
          <a:xfrm flipV="1">
            <a:off x="4952880" y="3200040"/>
            <a:ext cx="0" cy="10666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86" name="Line 9"/>
          <p:cNvSpPr/>
          <p:nvPr/>
        </p:nvSpPr>
        <p:spPr>
          <a:xfrm>
            <a:off x="4952880" y="2057400"/>
            <a:ext cx="0" cy="838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7" descr=""/>
          <p:cNvPicPr/>
          <p:nvPr/>
        </p:nvPicPr>
        <p:blipFill>
          <a:blip r:embed="rId2"/>
          <a:stretch/>
        </p:blipFill>
        <p:spPr>
          <a:xfrm>
            <a:off x="1295280" y="609480"/>
            <a:ext cx="6515280" cy="4419720"/>
          </a:xfrm>
          <a:prstGeom prst="rect">
            <a:avLst/>
          </a:prstGeom>
          <a:ln w="0">
            <a:noFill/>
          </a:ln>
        </p:spPr>
      </p:pic>
      <p:sp>
        <p:nvSpPr>
          <p:cNvPr id="88" name="Rectangle 8"/>
          <p:cNvSpPr/>
          <p:nvPr/>
        </p:nvSpPr>
        <p:spPr>
          <a:xfrm>
            <a:off x="114480" y="619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7T11:51:24Z</dcterms:created>
  <dc:creator>Jalexand</dc:creator>
  <dc:description/>
  <dc:language>en-US</dc:language>
  <cp:lastModifiedBy>School of Public Health</cp:lastModifiedBy>
  <dcterms:modified xsi:type="dcterms:W3CDTF">2007-09-25T12:50:47Z</dcterms:modified>
  <cp:revision>82</cp:revision>
  <dc:subject/>
  <dc:title>Multilevel Measurement and Analysis</dc:title>
</cp:coreProperties>
</file>